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7DF-2C14-47A6-8276-4D76C7BF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431-EB29-4EDF-8EC9-07351B25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E8B-B935-4CD2-9A34-29CCD54E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14F-906D-425C-83BF-69ABBC2D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B8A-D92D-45A7-8FAA-E3B05512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F4A-2E66-4448-B22E-588489C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512-0ED9-4226-89A9-9AF72DA1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83F-E5F7-4F53-891A-46CE99BB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CE9-6F53-4B14-99B7-6B90C19F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3E6-DF06-4DED-ACCD-317E8338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3BE-A0D2-4A98-8E50-B68332E2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34E-4825-4C88-99ED-B7A9A0D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AC21-2B9B-497E-AB95-6DBA7522C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ary for loading and saving video (audio)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rious libraries are used, depending on target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mon interface defined in a single bas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‘s inherited class per every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can i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200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36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/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ase clas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ample: copying video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Lukáš Polok</cp:lastModifiedBy>
  <dcterms:modified xsi:type="dcterms:W3CDTF">2009-12-15T19:59:17Z</dcterms:modified>
  <cp:revision>23</cp:revision>
  <dc:subject/>
  <dc:title>Snímek 1</dc:title>
</cp:coreProperties>
</file>