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369-BC6B-4838-BB41-B5FD7ABD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861-AA8F-40A5-8E5F-8E86FB49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6D9-E297-4AD6-86B2-854A26D4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048-897C-4B73-A1E6-6CDBE3E6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804-3A14-426B-AC6B-BA9C3462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60E-283A-44C6-A8B5-48CFABA7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4B9-42CF-42B3-8CBF-EFA7B8FC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AD3-55E0-469B-8839-6117D8FD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4F4-C42B-4FBD-BEE8-A3655044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41D-F121-47D1-95B0-FAE39B75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644-BE94-4DB6-81E0-0C5FD7E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D8F-7CE6-4A08-BBE1-5A4EC097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A6B8-5E3B-4464-8E1B-01A16C83C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co j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ovna pro načítání a ukládání video (audio) soubor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y různé knihovny dostupné v příslušném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ečné rozhraní definované v bázové tříd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každou knihovnu vytvořena odvozená tří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to um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164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y soub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hov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ení/Záp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kam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kv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ázová tří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 kopie video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Stanislav Sumec</cp:lastModifiedBy>
  <dcterms:modified xsi:type="dcterms:W3CDTF">2006-10-06T07:41:25Z</dcterms:modified>
  <cp:revision>22</cp:revision>
  <dc:subject/>
  <dc:title>Snímek 1</dc:title>
</cp:coreProperties>
</file>