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A14C-9CAE-46B0-95DF-36025686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350F-4A95-4084-876D-958EBCF3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539D-66FC-4350-8C07-E2DF6175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D6B6-73B5-4FF6-8DAB-EF067300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B7AB-AE4F-462C-9A47-DA67DA50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4913-4777-4B02-B19C-D14870AA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1894-D7B0-4C1B-A94B-895EDA1A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DBED-689B-4174-A818-C57D4A41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3EA4-41C1-4360-9BC1-F5FD99CB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CACA-DB6E-43F9-AA04-BADE94EC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F3C9-2A7B-44D1-B9AA-456FF48F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9315-D415-47A2-BD84-3AB5E258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F699-BED4-475B-B89E-F5C43D04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069E-C71B-447D-A23D-39FCF99F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2D4D-4744-469B-BF14-E7E5889D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C34F-3EC1-4F7D-802B-A4C75C9D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5CC8-F407-4198-96C4-03C18542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0E35-9C58-48A6-9390-97DF1808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7E77-1ABD-404C-A49D-E17B6EA9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4B83-CFD0-460A-89B8-6E91107E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8A59-9D70-4C14-A60F-0C5A437D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011-389C-48D7-8EDC-439F8B2D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092E-024A-4466-A69A-BE63B0D2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4D9C-70F7-4EA1-B22A-859EE5CC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3AB8-4093-476E-909B-80EDA6DE95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970F-9367-4126-AD35-CA11D0CD5A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CVT</cp:lastModifiedBy>
  <dcterms:modified xsi:type="dcterms:W3CDTF">2006-08-30T14:24:34Z</dcterms:modified>
  <cp:revision>196</cp:revision>
  <dc:subject/>
  <dc:title>Parallel communicating (PC) grammar systems</dc:title>
</cp:coreProperties>
</file>