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32600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5852-7257-4A74-A770-B739FCF57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5446-CCE4-43AE-A893-0F29FF96C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AC24-EC3A-4F9F-AEE7-1A1548486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7EFE-9A07-45BB-ADA3-FE90A3A06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D3E6-7698-4E9C-861A-28FD77EB8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8F7B-21B9-40C4-9104-D4E5A88C2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D36E-E751-4685-9FBE-839498256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07DC-1D1F-470F-A9DA-90A336210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1E6E-2CDE-46A5-BE6E-C56BA0876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3038-FA17-4AE0-8318-110304A3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518F-5039-449F-95A5-8561C585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8B85-30F0-4775-B189-D0205622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1F8A3-9499-4C92-AF63-4BFF7BDCB7DE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838080"/>
            <a:ext cx="8299440" cy="54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Regulated Pushdown Automa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039920" y="151200"/>
            <a:ext cx="7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3276720"/>
            <a:ext cx="76201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4876920"/>
            <a:ext cx="76201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371600"/>
            <a:ext cx="7772400" cy="5334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295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 pushdown automat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7-tu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7524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2209680"/>
            <a:ext cx="7543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ite set of sta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alphab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shdown alphab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et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63600" y="151200"/>
            <a:ext cx="8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3962520"/>
            <a:ext cx="7772400" cy="213336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3124080"/>
            <a:ext cx="7772400" cy="6858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371600"/>
            <a:ext cx="7772400" cy="1600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295280"/>
            <a:ext cx="792468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n alphabet of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ule label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Let ever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ul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q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ed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qu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32004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962520"/>
            <a:ext cx="8077320" cy="20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a move from configuratio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iguratio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q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cording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ritten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Apay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xwqy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63600" y="151200"/>
            <a:ext cx="8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371600"/>
            <a:ext cx="7772400" cy="16765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371600"/>
            <a:ext cx="784872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 any configuration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zer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ov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3200400"/>
            <a:ext cx="7772400" cy="24382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3200400"/>
            <a:ext cx="8153280" cy="25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there exist a sequence of configu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...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som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 such tha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,...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 mo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written 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3600" y="151200"/>
            <a:ext cx="8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1523880"/>
            <a:ext cx="7772400" cy="12193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1752480"/>
            <a:ext cx="815364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for som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we writ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3733920"/>
            <a:ext cx="7772400" cy="1600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3733920"/>
            <a:ext cx="7924680" cy="15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s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accepts its language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, a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anguage Famil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371600"/>
            <a:ext cx="8077320" cy="54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54080"/>
                <a:tab algn="l" pos="228600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LI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 the family of linear langua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54080"/>
                <a:tab algn="l" pos="228600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 the family of context-free langua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54080"/>
                <a:tab algn="l" pos="228600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 the family of recursively enumera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1054080"/>
                <a:tab algn="l" pos="228600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54080"/>
                <a:tab algn="l" pos="228600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REG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 the family of languages accept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054080"/>
                <a:tab algn="l" pos="228600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y PDAs regulated by regula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054080"/>
                <a:tab algn="l" pos="228600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54080"/>
                <a:tab algn="l" pos="228600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LIN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 the family of languages accept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1054080"/>
                <a:tab algn="l" pos="228600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y PDAs regulated by linear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63600" y="151200"/>
            <a:ext cx="8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1 and its Proof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1371600"/>
            <a:ext cx="7772400" cy="762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37160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RP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EG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1640" y="213300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2920" y="2666520"/>
            <a:ext cx="548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.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3333cc"/>
                </a:solidFill>
                <a:latin typeface="Symbol"/>
                <a:ea typeface="Symbol"/>
              </a:rPr>
              <a:t>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REG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clear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1840" y="3352320"/>
            <a:ext cx="427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REG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3333cc"/>
                </a:solidFill>
                <a:latin typeface="Symbol"/>
                <a:ea typeface="Symbol"/>
              </a:rPr>
              <a:t>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6280" y="3961440"/>
            <a:ext cx="320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26080" y="4742280"/>
            <a:ext cx="324864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egular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20000" y="4742280"/>
            <a:ext cx="101736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590920" y="4571640"/>
            <a:ext cx="38088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28720" y="5409360"/>
            <a:ext cx="715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regular grammar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rules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3505320" y="4571640"/>
            <a:ext cx="38088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63600" y="151200"/>
            <a:ext cx="8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1 and its Proof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219320"/>
            <a:ext cx="78487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Transform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regulated by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to a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236124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qb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38851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qb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54853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et of final states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final state i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5486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14600" y="4437720"/>
            <a:ext cx="229608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ew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4724280" y="4724280"/>
            <a:ext cx="1371600" cy="2286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63600" y="151200"/>
            <a:ext cx="8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1752480"/>
            <a:ext cx="7772400" cy="762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175248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RP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LI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11640" y="281880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3831120"/>
            <a:ext cx="7772400" cy="15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duna Alexander, Kolář Duša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Regulated Pushdown Automat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cta Cybernetica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,Vol. 2000, No. 4, p. 653-664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63600" y="151200"/>
            <a:ext cx="8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5800" y="4038480"/>
            <a:ext cx="7772400" cy="20574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implification of RPDAs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1371600"/>
            <a:ext cx="79246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nsider two consecutive moves made by a pushdown automaton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during the first move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oes not shorten its pushdown and during the second move it does, the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 tur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uring the second mo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 pushdown automaton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one-tur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it makes no more than one turn during any computation starting from an initial configu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63600" y="151200"/>
            <a:ext cx="8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-Turn PDA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447920" y="175248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1218960" y="5638680"/>
            <a:ext cx="6476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295280" y="1752120"/>
            <a:ext cx="0" cy="2514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477120" y="5791320"/>
            <a:ext cx="12189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553080" y="5715000"/>
            <a:ext cx="129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Mov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10800000">
            <a:off x="682560" y="1445760"/>
            <a:ext cx="637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Length of pushdow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47920" y="5257800"/>
            <a:ext cx="533160" cy="380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81080" y="4876920"/>
            <a:ext cx="533520" cy="7617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14600" y="4114800"/>
            <a:ext cx="533520" cy="1523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48120" y="3733920"/>
            <a:ext cx="533160" cy="19047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81280" y="2971800"/>
            <a:ext cx="533520" cy="266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114800" y="2590920"/>
            <a:ext cx="533520" cy="30477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48320" y="3352680"/>
            <a:ext cx="533160" cy="2286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81480" y="4114800"/>
            <a:ext cx="533520" cy="1523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15000" y="4495680"/>
            <a:ext cx="533520" cy="1143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4876920"/>
            <a:ext cx="533160" cy="7617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47920" y="525780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487692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47920" y="449568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447920" y="411480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47920" y="373392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447920" y="335268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447920" y="297180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447920" y="259092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47920" y="220968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00400" y="144792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One-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1752480" y="2362320"/>
            <a:ext cx="2210040" cy="259056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800600" y="2438280"/>
            <a:ext cx="1828800" cy="2286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spiration: Regulated Gramm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6758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1" i="1" lang="cs-CZ" sz="4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05320" y="2439000"/>
            <a:ext cx="2590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548568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1}{24}</a:t>
            </a:r>
            <a:r>
              <a:rPr b="1" lang="en-US" sz="40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35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39920" y="151200"/>
            <a:ext cx="7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implification of RPDA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1294200"/>
            <a:ext cx="8305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uring a  move, a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tomi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regulated PDA changes a state and, in addition, performs exactly one of the following a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pushes a symbol onto the push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pops a symbol from the push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reads an input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" y="1371600"/>
            <a:ext cx="7772400" cy="22096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1371600"/>
            <a:ext cx="7924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is accepted by an atomic one-turn PDA regulated by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LIN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1640" y="365724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963600" y="151200"/>
            <a:ext cx="8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4190400"/>
            <a:ext cx="777240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duna Alexander, Kolář Duša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ne-Turn Regulated Pushdown Automata and Their Reduction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Fundamenta Informatica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,Vol. 2002, No. 16, p. 399-40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" y="617220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ted Grammar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43000" y="1827720"/>
            <a:ext cx="2286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43426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{1}{24}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{35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1447920"/>
            <a:ext cx="0" cy="3504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1218240"/>
            <a:ext cx="411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Without </a:t>
            </a:r>
            <a:r>
              <a:rPr b="1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generate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00600" y="2361240"/>
            <a:ext cx="3962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35160" y="5504760"/>
            <a:ext cx="50310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21824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9920" y="151200"/>
            <a:ext cx="7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ted Grammar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9520" y="2818440"/>
            <a:ext cx="3962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86200" y="5942880"/>
            <a:ext cx="489744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1234440"/>
            <a:ext cx="83059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doe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4345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{1}{24}</a:t>
            </a:r>
            <a:r>
              <a:rPr b="1" lang="cs-CZ" sz="3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{35}</a:t>
            </a: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2284920"/>
            <a:ext cx="815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generates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50840" y="5256720"/>
            <a:ext cx="2907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435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039920" y="151200"/>
            <a:ext cx="7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DA: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33120" y="2609280"/>
            <a:ext cx="37026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ushdown symb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21896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A PDA is based on a finite set of rules of the form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3580200"/>
            <a:ext cx="518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7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7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7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7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7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1" i="1" lang="cs-CZ" sz="7200" spc="-1" strike="noStrike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83240" y="2609280"/>
            <a:ext cx="127332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71960" y="5428440"/>
            <a:ext cx="344808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ushdown st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36360" y="5428440"/>
            <a:ext cx="35928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nput symbol or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3581280" y="3048120"/>
            <a:ext cx="1981440" cy="9144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43600" y="3276720"/>
            <a:ext cx="304920" cy="6858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43200" y="3276720"/>
            <a:ext cx="38088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505320" y="4723920"/>
            <a:ext cx="457200" cy="685800"/>
          </a:xfrm>
          <a:prstGeom prst="line">
            <a:avLst/>
          </a:prstGeom>
          <a:ln w="57240">
            <a:solidFill>
              <a:srgbClr val="ff9933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5790960" y="4723920"/>
            <a:ext cx="75960" cy="68580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39920" y="151200"/>
            <a:ext cx="7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ew Concept: Regulated 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134440"/>
            <a:ext cx="3352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563796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12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34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6: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0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144720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1" i="1" lang="cs-CZ" sz="4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39920" y="151200"/>
            <a:ext cx="7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 PD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4799880"/>
            <a:ext cx="472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{12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34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0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48320" y="144792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24280" y="1325520"/>
            <a:ext cx="3810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952880" y="2210040"/>
            <a:ext cx="373392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bbcc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bbc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bc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cc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6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82520" y="5961960"/>
            <a:ext cx="510696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21824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1827720"/>
            <a:ext cx="2514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39920" y="151200"/>
            <a:ext cx="7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1218240"/>
            <a:ext cx="365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Without </a:t>
            </a:r>
            <a:r>
              <a:rPr b="1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ccept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 PD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59440" y="6038280"/>
            <a:ext cx="49734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1218240"/>
            <a:ext cx="815364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does not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ccept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34556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{12</a:t>
            </a:r>
            <a:r>
              <a:rPr b="1" i="1" lang="en-US" sz="34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34</a:t>
            </a:r>
            <a:r>
              <a:rPr b="1" i="1" lang="en-US" sz="34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34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6: </a:t>
            </a:r>
            <a:r>
              <a:rPr b="1" i="1" lang="en-US" sz="3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 0}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2208960"/>
            <a:ext cx="815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ccepts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07680" y="5409360"/>
            <a:ext cx="3124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3456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2666880"/>
            <a:ext cx="37339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bb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b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6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30600" y="2666160"/>
            <a:ext cx="1640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39920" y="151200"/>
            <a:ext cx="7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ist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 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1372320"/>
            <a:ext cx="8534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der a pushdown automaton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trol language,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ccepts a string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if and only if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tains a control string according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ch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akes a sequence of moves so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aches a final configuration after reading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39920" y="151200"/>
            <a:ext cx="7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</dc:creator>
  <dc:description/>
  <dc:language>en-US</dc:language>
  <cp:lastModifiedBy>Tomáš Masopust</cp:lastModifiedBy>
  <dcterms:modified xsi:type="dcterms:W3CDTF">2006-09-14T18:19:53Z</dcterms:modified>
  <cp:revision>115</cp:revision>
  <dc:subject/>
  <dc:title>Bez nadpisu</dc:title>
</cp:coreProperties>
</file>