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818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542D-516A-4C61-9829-D294BB29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E24-7DBC-4F42-8771-D5F1E2EF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47B-6B47-424B-9E6C-62A3914B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37F-2C19-4226-B60A-7D5D09C7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3EB-7BCB-4D0F-940E-009989C7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8D2-C015-47B5-9CD6-5ED0E276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122-63FD-46A5-911F-370A6E7D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14A7-5DB7-4CC7-A002-01768F17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590B-CB3D-470E-BB64-191C688B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2FF-4A94-4055-BCD6-F12268FC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0FCD-05ED-4501-B4BD-8C7FD9DD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BC0-70A1-49E2-959A-BA0D7F39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269D-61E4-47D0-A727-A88C5375572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Times New Roman"/>
              </a:rPr>
              <a:t>Deep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800600"/>
            <a:ext cx="8964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d o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Meduna, A.: Deep Pushdown Automa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Acta Informatica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, 2006 (in p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0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1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1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1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1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2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2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2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3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335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336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339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341" name=""/>
                <p:cNvCxnSpPr>
                  <a:stCxn id="339" idx="2"/>
                  <a:endCxn id="342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343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6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60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49528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377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379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382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386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387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390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393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396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399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403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404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407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409" name=""/>
                <p:cNvCxnSpPr>
                  <a:stCxn id="407" idx="2"/>
                  <a:endCxn id="410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411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4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28" name=""/>
          <p:cNvSpPr/>
          <p:nvPr/>
        </p:nvSpPr>
        <p:spPr>
          <a:xfrm>
            <a:off x="1663560" y="3378240"/>
            <a:ext cx="1384560" cy="2768400"/>
          </a:xfrm>
          <a:custGeom>
            <a:avLst/>
            <a:gdLst/>
            <a:ahLst/>
            <a:rect l="l" t="t" r="r" b="b"/>
            <a:pathLst>
              <a:path w="872" h="1744">
                <a:moveTo>
                  <a:pt x="872" y="1744"/>
                </a:moveTo>
                <a:lnTo>
                  <a:pt x="0" y="1744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ove  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43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44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44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448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449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452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455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458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461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3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191120" y="4572000"/>
            <a:ext cx="3124080" cy="16002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469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472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5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4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4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4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4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4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8120" y="5815800"/>
            <a:ext cx="114300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8043480" y="4834080"/>
            <a:ext cx="8316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848360" y="50292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0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0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0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509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7315200" y="4800600"/>
            <a:ext cx="534960" cy="459720"/>
            <a:chOff x="7315200" y="4800600"/>
            <a:chExt cx="534960" cy="459720"/>
          </a:xfrm>
        </p:grpSpPr>
        <p:sp>
          <p:nvSpPr>
            <p:cNvPr id="512" name=""/>
            <p:cNvSpPr/>
            <p:nvPr/>
          </p:nvSpPr>
          <p:spPr>
            <a:xfrm>
              <a:off x="7315200" y="48006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18800" y="48006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315200" y="5232240"/>
            <a:ext cx="534960" cy="459720"/>
            <a:chOff x="7315200" y="5232240"/>
            <a:chExt cx="534960" cy="459720"/>
          </a:xfrm>
        </p:grpSpPr>
        <p:sp>
          <p:nvSpPr>
            <p:cNvPr id="515" name=""/>
            <p:cNvSpPr/>
            <p:nvPr/>
          </p:nvSpPr>
          <p:spPr>
            <a:xfrm>
              <a:off x="7315200" y="5232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18440" y="5232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315200" y="5664240"/>
            <a:ext cx="534960" cy="459720"/>
            <a:chOff x="7315200" y="5664240"/>
            <a:chExt cx="534960" cy="459720"/>
          </a:xfrm>
        </p:grpSpPr>
        <p:sp>
          <p:nvSpPr>
            <p:cNvPr id="518" name=""/>
            <p:cNvSpPr/>
            <p:nvPr/>
          </p:nvSpPr>
          <p:spPr>
            <a:xfrm>
              <a:off x="7315200" y="56642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18800" y="56642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2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2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34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37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40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43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546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3657600" y="556272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55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55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56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56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56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57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57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57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58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58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59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59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59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0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1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1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2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2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2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3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3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63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64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64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65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65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65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66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38080" y="4800600"/>
            <a:ext cx="685800" cy="8380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676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68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68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68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691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694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697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00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04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8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12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15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18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21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24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24280" y="41900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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3581280" y="449568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581280" y="4495680"/>
            <a:ext cx="0" cy="8384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495680"/>
            <a:ext cx="68580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520" y="42670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391520" y="5181480"/>
            <a:ext cx="380880" cy="5335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539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743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749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751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754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7240680" y="5638680"/>
            <a:ext cx="607680" cy="459720"/>
            <a:chOff x="7240680" y="5638680"/>
            <a:chExt cx="607680" cy="459720"/>
          </a:xfrm>
        </p:grpSpPr>
        <p:sp>
          <p:nvSpPr>
            <p:cNvPr id="758" name=""/>
            <p:cNvSpPr/>
            <p:nvPr/>
          </p:nvSpPr>
          <p:spPr>
            <a:xfrm>
              <a:off x="7313400" y="56386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40680" y="56386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76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76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76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7315200" y="60958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77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77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78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78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78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79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5410080"/>
            <a:ext cx="2743200" cy="304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05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811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813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816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20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23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26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29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33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6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7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841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844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847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850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853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862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870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877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880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884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887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890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893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5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897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0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05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08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11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14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17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3200400"/>
            <a:ext cx="3048120" cy="251460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912"/>
                </a:moveTo>
                <a:lnTo>
                  <a:pt x="1440" y="912"/>
                </a:lnTo>
                <a:lnTo>
                  <a:pt x="1432" y="8"/>
                </a:lnTo>
                <a:lnTo>
                  <a:pt x="1968" y="0"/>
                </a:ln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87692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hang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26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Pushdown Automaton (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2120" y="4145040"/>
            <a:ext cx="2668320" cy="510120"/>
            <a:chOff x="762120" y="4145040"/>
            <a:chExt cx="2668320" cy="510120"/>
          </a:xfrm>
        </p:grpSpPr>
        <p:grpSp>
          <p:nvGrpSpPr>
            <p:cNvPr id="46" name=""/>
            <p:cNvGrpSpPr/>
            <p:nvPr/>
          </p:nvGrpSpPr>
          <p:grpSpPr>
            <a:xfrm>
              <a:off x="762120" y="4145040"/>
              <a:ext cx="545760" cy="510120"/>
              <a:chOff x="762120" y="4145040"/>
              <a:chExt cx="545760" cy="510120"/>
            </a:xfrm>
          </p:grpSpPr>
          <p:sp>
            <p:nvSpPr>
              <p:cNvPr id="47" name=""/>
              <p:cNvSpPr/>
              <p:nvPr/>
            </p:nvSpPr>
            <p:spPr>
              <a:xfrm>
                <a:off x="7621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76520" y="4145040"/>
                <a:ext cx="53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895480" y="4145040"/>
              <a:ext cx="534960" cy="510120"/>
              <a:chOff x="2895480" y="4145040"/>
              <a:chExt cx="534960" cy="510120"/>
            </a:xfrm>
          </p:grpSpPr>
          <p:sp>
            <p:nvSpPr>
              <p:cNvPr id="50" name=""/>
              <p:cNvSpPr/>
              <p:nvPr/>
            </p:nvSpPr>
            <p:spPr>
              <a:xfrm>
                <a:off x="289548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90556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362320" y="4145040"/>
              <a:ext cx="534960" cy="510120"/>
              <a:chOff x="2362320" y="4145040"/>
              <a:chExt cx="534960" cy="510120"/>
            </a:xfrm>
          </p:grpSpPr>
          <p:sp>
            <p:nvSpPr>
              <p:cNvPr id="53" name=""/>
              <p:cNvSpPr/>
              <p:nvPr/>
            </p:nvSpPr>
            <p:spPr>
              <a:xfrm>
                <a:off x="2362320" y="414504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372400" y="41450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r>
                  <a:rPr b="1" lang="en-GB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1295280" y="4145040"/>
              <a:ext cx="106704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5280" y="414504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494240" y="4114800"/>
            <a:ext cx="4268880" cy="510120"/>
            <a:chOff x="4494240" y="4114800"/>
            <a:chExt cx="4268880" cy="510120"/>
          </a:xfrm>
        </p:grpSpPr>
        <p:grpSp>
          <p:nvGrpSpPr>
            <p:cNvPr id="58" name=""/>
            <p:cNvGrpSpPr/>
            <p:nvPr/>
          </p:nvGrpSpPr>
          <p:grpSpPr>
            <a:xfrm>
              <a:off x="6627960" y="4114800"/>
              <a:ext cx="534960" cy="510120"/>
              <a:chOff x="6627960" y="4114800"/>
              <a:chExt cx="534960" cy="510120"/>
            </a:xfrm>
          </p:grpSpPr>
          <p:sp>
            <p:nvSpPr>
              <p:cNvPr id="59" name=""/>
              <p:cNvSpPr/>
              <p:nvPr/>
            </p:nvSpPr>
            <p:spPr>
              <a:xfrm>
                <a:off x="66279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721200" y="411480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28160" y="4114800"/>
              <a:ext cx="534960" cy="510120"/>
              <a:chOff x="8228160" y="4114800"/>
              <a:chExt cx="534960" cy="510120"/>
            </a:xfrm>
          </p:grpSpPr>
          <p:sp>
            <p:nvSpPr>
              <p:cNvPr id="62" name=""/>
              <p:cNvSpPr/>
              <p:nvPr/>
            </p:nvSpPr>
            <p:spPr>
              <a:xfrm>
                <a:off x="8228160" y="411480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229600" y="4114800"/>
                <a:ext cx="532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i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7161480" y="4114800"/>
              <a:ext cx="1066680" cy="459720"/>
              <a:chOff x="7161480" y="4114800"/>
              <a:chExt cx="106668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7161480" y="4114800"/>
                <a:ext cx="106668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1614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494240" y="4114800"/>
              <a:ext cx="534960" cy="510120"/>
              <a:chOff x="4494240" y="4114800"/>
              <a:chExt cx="534960" cy="510120"/>
            </a:xfrm>
          </p:grpSpPr>
          <p:sp>
            <p:nvSpPr>
              <p:cNvPr id="68" name=""/>
              <p:cNvSpPr/>
              <p:nvPr/>
            </p:nvSpPr>
            <p:spPr>
              <a:xfrm>
                <a:off x="449424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49604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5026320" y="4114800"/>
              <a:ext cx="534960" cy="510120"/>
              <a:chOff x="5026320" y="4114800"/>
              <a:chExt cx="534960" cy="510120"/>
            </a:xfrm>
          </p:grpSpPr>
          <p:sp>
            <p:nvSpPr>
              <p:cNvPr id="71" name=""/>
              <p:cNvSpPr/>
              <p:nvPr/>
            </p:nvSpPr>
            <p:spPr>
              <a:xfrm>
                <a:off x="5026320" y="4114800"/>
                <a:ext cx="53496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28120" y="4114800"/>
                <a:ext cx="531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8080"/>
                    </a:solidFill>
                    <a:latin typeface="Times New Roman"/>
                  </a:rPr>
                  <a:t>a</a:t>
                </a:r>
                <a:r>
                  <a:rPr b="1" lang="en-US" sz="2400" spc="-1" strike="noStrike" baseline="-25000">
                    <a:solidFill>
                      <a:srgbClr val="00808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561280" y="4114800"/>
              <a:ext cx="1066680" cy="459720"/>
              <a:chOff x="5561280" y="4114800"/>
              <a:chExt cx="1066680" cy="459720"/>
            </a:xfrm>
          </p:grpSpPr>
          <p:sp>
            <p:nvSpPr>
              <p:cNvPr id="74" name=""/>
              <p:cNvSpPr/>
              <p:nvPr/>
            </p:nvSpPr>
            <p:spPr>
              <a:xfrm>
                <a:off x="5561280" y="4114800"/>
                <a:ext cx="1066680" cy="4572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561280" y="4114800"/>
                <a:ext cx="106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6" name=""/>
          <p:cNvCxnSpPr>
            <a:endCxn id="51" idx="0"/>
          </p:cNvCxnSpPr>
          <p:nvPr/>
        </p:nvCxnSpPr>
        <p:spPr>
          <a:xfrm flipV="1" rot="10800000">
            <a:off x="3141000" y="2848320"/>
            <a:ext cx="497520" cy="1296360"/>
          </a:xfrm>
          <a:prstGeom prst="bentConnector2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endCxn id="60" idx="0"/>
          </p:cNvCxnSpPr>
          <p:nvPr/>
        </p:nvCxnSpPr>
        <p:spPr>
          <a:xfrm>
            <a:off x="5898960" y="2819520"/>
            <a:ext cx="1013400" cy="12960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838080" y="32306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-writ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35053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76380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197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51055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124080" y="460188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05720" y="472428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4724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2743200" cy="16765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057400"/>
            <a:ext cx="24386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i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33920" y="3048120"/>
            <a:ext cx="533160" cy="533160"/>
          </a:xfrm>
          <a:prstGeom prst="ellipse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3124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curren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152280" y="5486400"/>
            <a:ext cx="1524240" cy="762120"/>
          </a:xfrm>
          <a:prstGeom prst="ellipse">
            <a:avLst/>
          </a:prstGeom>
          <a:solidFill>
            <a:srgbClr val="ccffcc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pansion: Illu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66880" y="5358600"/>
            <a:ext cx="1905120" cy="703440"/>
          </a:xfrm>
          <a:prstGeom prst="rect">
            <a:avLst/>
          </a:prstGeom>
          <a:solidFill>
            <a:srgbClr val="ff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exp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4928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1600200" y="2895480"/>
            <a:ext cx="534960" cy="459720"/>
            <a:chOff x="1600200" y="2895480"/>
            <a:chExt cx="534960" cy="459720"/>
          </a:xfrm>
        </p:grpSpPr>
        <p:sp>
          <p:nvSpPr>
            <p:cNvPr id="934" name=""/>
            <p:cNvSpPr/>
            <p:nvPr/>
          </p:nvSpPr>
          <p:spPr>
            <a:xfrm>
              <a:off x="1600200" y="2895480"/>
              <a:ext cx="534960" cy="45720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0200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553080" y="1905120"/>
            <a:ext cx="2057400" cy="16761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7737480" y="2251080"/>
            <a:ext cx="560160" cy="487800"/>
            <a:chOff x="7737480" y="2251080"/>
            <a:chExt cx="560160" cy="487800"/>
          </a:xfrm>
        </p:grpSpPr>
        <p:sp>
          <p:nvSpPr>
            <p:cNvPr id="941" name=""/>
            <p:cNvSpPr/>
            <p:nvPr/>
          </p:nvSpPr>
          <p:spPr>
            <a:xfrm>
              <a:off x="7737480" y="225252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739280" y="225108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6864480" y="2251080"/>
            <a:ext cx="559800" cy="487800"/>
            <a:chOff x="6864480" y="2251080"/>
            <a:chExt cx="559800" cy="487800"/>
          </a:xfrm>
        </p:grpSpPr>
        <p:sp>
          <p:nvSpPr>
            <p:cNvPr id="944" name=""/>
            <p:cNvSpPr/>
            <p:nvPr/>
          </p:nvSpPr>
          <p:spPr>
            <a:xfrm>
              <a:off x="6864480" y="2252520"/>
              <a:ext cx="53604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866280" y="2251080"/>
              <a:ext cx="55800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 flipV="1">
            <a:off x="7725960" y="2763000"/>
            <a:ext cx="208800" cy="42264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7240680" y="6095880"/>
            <a:ext cx="607680" cy="459720"/>
            <a:chOff x="7240680" y="6095880"/>
            <a:chExt cx="607680" cy="459720"/>
          </a:xfrm>
        </p:grpSpPr>
        <p:sp>
          <p:nvSpPr>
            <p:cNvPr id="948" name=""/>
            <p:cNvSpPr/>
            <p:nvPr/>
          </p:nvSpPr>
          <p:spPr>
            <a:xfrm>
              <a:off x="7313400" y="6095880"/>
              <a:ext cx="534960" cy="43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240680" y="6095880"/>
              <a:ext cx="48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#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7315200" y="4343400"/>
            <a:ext cx="534960" cy="459720"/>
            <a:chOff x="7315200" y="4343400"/>
            <a:chExt cx="534960" cy="459720"/>
          </a:xfrm>
        </p:grpSpPr>
        <p:sp>
          <p:nvSpPr>
            <p:cNvPr id="951" name=""/>
            <p:cNvSpPr/>
            <p:nvPr/>
          </p:nvSpPr>
          <p:spPr>
            <a:xfrm>
              <a:off x="7315200" y="434340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318800" y="434340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7315200" y="4775040"/>
            <a:ext cx="534960" cy="459720"/>
            <a:chOff x="7315200" y="4775040"/>
            <a:chExt cx="534960" cy="459720"/>
          </a:xfrm>
        </p:grpSpPr>
        <p:sp>
          <p:nvSpPr>
            <p:cNvPr id="954" name=""/>
            <p:cNvSpPr/>
            <p:nvPr/>
          </p:nvSpPr>
          <p:spPr>
            <a:xfrm>
              <a:off x="7315200" y="4775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318440" y="4775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7315200" y="5207040"/>
            <a:ext cx="534960" cy="459720"/>
            <a:chOff x="7315200" y="5207040"/>
            <a:chExt cx="534960" cy="459720"/>
          </a:xfrm>
        </p:grpSpPr>
        <p:sp>
          <p:nvSpPr>
            <p:cNvPr id="957" name=""/>
            <p:cNvSpPr/>
            <p:nvPr/>
          </p:nvSpPr>
          <p:spPr>
            <a:xfrm>
              <a:off x="7315200" y="520704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318800" y="5207040"/>
              <a:ext cx="45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cs-CZ" sz="24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7315200" y="655308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3733920" y="2895480"/>
            <a:ext cx="534960" cy="459720"/>
            <a:chOff x="3733920" y="2895480"/>
            <a:chExt cx="534960" cy="459720"/>
          </a:xfrm>
        </p:grpSpPr>
        <p:sp>
          <p:nvSpPr>
            <p:cNvPr id="961" name=""/>
            <p:cNvSpPr/>
            <p:nvPr/>
          </p:nvSpPr>
          <p:spPr>
            <a:xfrm>
              <a:off x="373392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73536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1219320" y="20574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d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4" name=""/>
          <p:cNvCxnSpPr/>
          <p:nvPr/>
        </p:nvCxnSpPr>
        <p:spPr>
          <a:xfrm flipH="1" rot="16200000">
            <a:off x="2172600" y="2703960"/>
            <a:ext cx="381600" cy="2160"/>
          </a:xfrm>
          <a:prstGeom prst="bentConnector3">
            <a:avLst>
              <a:gd name="adj1" fmla="val 499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5" name=""/>
          <p:cNvSpPr/>
          <p:nvPr/>
        </p:nvSpPr>
        <p:spPr>
          <a:xfrm>
            <a:off x="0" y="2390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put tap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887560" y="2743200"/>
            <a:ext cx="1981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811600" y="2286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of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4259160" y="2895480"/>
            <a:ext cx="534960" cy="459720"/>
            <a:chOff x="4259160" y="2895480"/>
            <a:chExt cx="534960" cy="459720"/>
          </a:xfrm>
        </p:grpSpPr>
        <p:sp>
          <p:nvSpPr>
            <p:cNvPr id="969" name=""/>
            <p:cNvSpPr/>
            <p:nvPr/>
          </p:nvSpPr>
          <p:spPr>
            <a:xfrm>
              <a:off x="42591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606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2658960" y="2895480"/>
            <a:ext cx="534960" cy="459720"/>
            <a:chOff x="2658960" y="2895480"/>
            <a:chExt cx="534960" cy="459720"/>
          </a:xfrm>
        </p:grpSpPr>
        <p:sp>
          <p:nvSpPr>
            <p:cNvPr id="972" name=""/>
            <p:cNvSpPr/>
            <p:nvPr/>
          </p:nvSpPr>
          <p:spPr>
            <a:xfrm>
              <a:off x="265896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6040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3192480" y="2895480"/>
            <a:ext cx="534960" cy="459720"/>
            <a:chOff x="3192480" y="2895480"/>
            <a:chExt cx="534960" cy="459720"/>
          </a:xfrm>
        </p:grpSpPr>
        <p:sp>
          <p:nvSpPr>
            <p:cNvPr id="975" name=""/>
            <p:cNvSpPr/>
            <p:nvPr/>
          </p:nvSpPr>
          <p:spPr>
            <a:xfrm>
              <a:off x="31924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1939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1592280" y="2895480"/>
            <a:ext cx="534960" cy="459720"/>
            <a:chOff x="1592280" y="2895480"/>
            <a:chExt cx="534960" cy="459720"/>
          </a:xfrm>
        </p:grpSpPr>
        <p:sp>
          <p:nvSpPr>
            <p:cNvPr id="978" name=""/>
            <p:cNvSpPr/>
            <p:nvPr/>
          </p:nvSpPr>
          <p:spPr>
            <a:xfrm>
              <a:off x="159228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59372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0" name=""/>
          <p:cNvGrpSpPr/>
          <p:nvPr/>
        </p:nvGrpSpPr>
        <p:grpSpPr>
          <a:xfrm>
            <a:off x="2125800" y="2895480"/>
            <a:ext cx="534960" cy="459720"/>
            <a:chOff x="2125800" y="2895480"/>
            <a:chExt cx="534960" cy="459720"/>
          </a:xfrm>
        </p:grpSpPr>
        <p:sp>
          <p:nvSpPr>
            <p:cNvPr id="981" name=""/>
            <p:cNvSpPr/>
            <p:nvPr/>
          </p:nvSpPr>
          <p:spPr>
            <a:xfrm>
              <a:off x="2125800" y="2895480"/>
              <a:ext cx="53496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27240" y="289548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808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380880" y="55616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5800" y="1295280"/>
            <a:ext cx="815328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57200" y="4215240"/>
            <a:ext cx="2438280" cy="581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7315200" y="5638680"/>
            <a:ext cx="534960" cy="459720"/>
            <a:chOff x="7315200" y="5638680"/>
            <a:chExt cx="534960" cy="459720"/>
          </a:xfrm>
        </p:grpSpPr>
        <p:sp>
          <p:nvSpPr>
            <p:cNvPr id="988" name=""/>
            <p:cNvSpPr/>
            <p:nvPr/>
          </p:nvSpPr>
          <p:spPr>
            <a:xfrm>
              <a:off x="7315200" y="5638680"/>
              <a:ext cx="534960" cy="431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318080" y="5638680"/>
              <a:ext cx="3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i="1" lang="en-GB" sz="2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038480" y="5105520"/>
            <a:ext cx="15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914560" y="4476600"/>
            <a:ext cx="668520" cy="857520"/>
          </a:xfrm>
          <a:custGeom>
            <a:avLst/>
            <a:gdLst/>
            <a:ahLst/>
            <a:rect l="l" t="t" r="r" b="b"/>
            <a:pathLst>
              <a:path w="421" h="540">
                <a:moveTo>
                  <a:pt x="0" y="0"/>
                </a:moveTo>
                <a:lnTo>
                  <a:pt x="420" y="0"/>
                </a:lnTo>
                <a:lnTo>
                  <a:pt x="421" y="540"/>
                </a:lnTo>
              </a:path>
            </a:pathLst>
          </a:custGeom>
          <a:noFill/>
          <a:ln w="47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0920" y="529992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95640" y="148428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56000" y="1477080"/>
            <a:ext cx="410544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) 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a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#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656000" y="5924160"/>
            <a:ext cx="57621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4360" y="14119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Dee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11280" y="2070720"/>
            <a:ext cx="331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1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2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3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4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[5]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343400" y="12945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85800" y="1447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ee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85800" y="19051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62120" y="2362320"/>
            <a:ext cx="754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bottom symbo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finite set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w</a:t>
            </a:r>
            <a:r>
              <a:rPr b="0" i="1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or  </a:t>
            </a:r>
            <a:r>
              <a:rPr b="1" i="1" sz="36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1" i="1" sz="36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ushdown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685800" y="3657600"/>
            <a:ext cx="7772400" cy="2049840"/>
            <a:chOff x="685800" y="3657600"/>
            <a:chExt cx="7772400" cy="2049840"/>
          </a:xfrm>
        </p:grpSpPr>
        <p:sp>
          <p:nvSpPr>
            <p:cNvPr id="1010" name=""/>
            <p:cNvSpPr/>
            <p:nvPr/>
          </p:nvSpPr>
          <p:spPr>
            <a:xfrm>
              <a:off x="685800" y="365760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85800" y="3657600"/>
              <a:ext cx="7696080" cy="20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 non-input symbol is on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expand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1" i="1" lang="en-GB" sz="32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vz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mqA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pv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]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1" i="1" lang="en-GB" sz="32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contains </a:t>
              </a:r>
              <a:r>
                <a:rPr b="1" i="1" lang="en-GB" sz="3200" spc="-1" strike="noStrike">
                  <a:solidFill>
                    <a:srgbClr val="ff9933"/>
                  </a:solidFill>
                  <a:latin typeface="Times New Roman"/>
                </a:rPr>
                <a:t>m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 – 1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 non-input symb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685800" y="1676520"/>
            <a:ext cx="7924680" cy="1527840"/>
            <a:chOff x="685800" y="1676520"/>
            <a:chExt cx="7924680" cy="1527840"/>
          </a:xfrm>
        </p:grpSpPr>
        <p:sp>
          <p:nvSpPr>
            <p:cNvPr id="1014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5800" y="1676520"/>
              <a:ext cx="7924680" cy="152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f an input symbol is on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op, </a:t>
              </a:r>
              <a:r>
                <a:rPr b="1" i="1" lang="en-GB" sz="3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GB" sz="3000" spc="-1" strike="noStrike">
                  <a:solidFill>
                    <a:srgbClr val="ff0000"/>
                  </a:solidFill>
                  <a:latin typeface="Times New Roman"/>
                </a:rPr>
                <a:t> pops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the pd 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as</a:t>
              </a:r>
              <a:br>
                <a:rPr sz="30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9933"/>
                  </a:solidFill>
                  <a:latin typeface="Times New Roman"/>
                </a:rPr>
                <a:t>a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i="1" lang="en-GB" sz="3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1" i="1" lang="en-GB" sz="30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u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GB" sz="3000" spc="-1" strike="noStrike">
                  <a:solidFill>
                    <a:srgbClr val="ff66ff"/>
                  </a:solidFill>
                  <a:latin typeface="Times New Roman"/>
                </a:rPr>
                <a:t>z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o explicit rule needed in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85800" y="1676520"/>
            <a:ext cx="7772400" cy="1523880"/>
            <a:chOff x="685800" y="1676520"/>
            <a:chExt cx="7772400" cy="1523880"/>
          </a:xfrm>
        </p:grpSpPr>
        <p:sp>
          <p:nvSpPr>
            <p:cNvPr id="1018" name=""/>
            <p:cNvSpPr/>
            <p:nvPr/>
          </p:nvSpPr>
          <p:spPr>
            <a:xfrm>
              <a:off x="685800" y="1676520"/>
              <a:ext cx="7772400" cy="15238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85800" y="1676520"/>
              <a:ext cx="7696080" cy="14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of depth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denotated by </a:t>
              </a:r>
              <a:r>
                <a:rPr b="1" i="1" lang="en-BZ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en-BZ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BZ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is the minimal positive integer such that each of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cs-CZ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’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s rules is of depth </a:t>
              </a: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 or les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396504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685800" y="3657600"/>
            <a:ext cx="7924680" cy="1732680"/>
            <a:chOff x="685800" y="3657600"/>
            <a:chExt cx="7924680" cy="1732680"/>
          </a:xfrm>
        </p:grpSpPr>
        <p:sp>
          <p:nvSpPr>
            <p:cNvPr id="1022" name=""/>
            <p:cNvSpPr/>
            <p:nvPr/>
          </p:nvSpPr>
          <p:spPr>
            <a:xfrm>
              <a:off x="685800" y="3657600"/>
              <a:ext cx="7772400" cy="159984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5800" y="3657600"/>
              <a:ext cx="7924680" cy="173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Language accepted by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), is defined as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 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w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</a:t>
              </a:r>
              <a:r>
                <a:rPr b="1" i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in </a:t>
              </a:r>
              <a:r>
                <a:rPr b="0" i="1" lang="en-GB" sz="29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i="1" lang="en-US" sz="29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900"/>
              </a:b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GB" sz="29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r>
                <a:rPr b="0" i="1" lang="en-GB" sz="2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2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3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r>
                <a:rPr b="0" lang="cs-CZ" sz="3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in Result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 and its Pro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1680" y="2465280"/>
            <a:ext cx="732636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eorem: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 for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09480" y="1311480"/>
            <a:ext cx="78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IE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– the language family defined by </a:t>
            </a:r>
            <a:br>
              <a:rPr sz="2800"/>
            </a:b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eepPDAs of depth </a:t>
            </a:r>
            <a:r>
              <a:rPr b="0" i="1" lang="en-IE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09480" y="3384720"/>
            <a:ext cx="80661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of (Sket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(Kasai, 1970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re needed in the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e grammar is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 of CFG based on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ules of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1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" y="3429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85800" y="1371600"/>
            <a:ext cx="7772400" cy="1905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990720" y="1979280"/>
            <a:ext cx="754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otal alphab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te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erminal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et of rules of the for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tart symbo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5800" y="14914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ate grammar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3341520"/>
            <a:ext cx="7780320" cy="313992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(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9999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[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nd for every nonterminal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contains no rule with (</a:t>
            </a:r>
            <a:r>
              <a:rPr b="1" i="1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) on the left-hand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2/6: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imited Ste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85800" y="5638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5800" y="1499040"/>
            <a:ext cx="7780320" cy="24976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-limited derivation ste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each derivation step within the first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fewer no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5800" y="4089960"/>
            <a:ext cx="7772400" cy="14306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language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, 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838080" y="5761080"/>
            <a:ext cx="8305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ly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stat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3/6: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04920" y="184212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5800" y="44186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495680" y="1370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72000" y="2299320"/>
            <a:ext cx="419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42840" y="5466960"/>
            <a:ext cx="5610600" cy="718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cs-CZ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09480" y="134064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650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4/6: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PH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PH" sz="4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PH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3880" y="1751760"/>
            <a:ext cx="77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the application of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66680" y="2520000"/>
            <a:ext cx="74678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make a left-to-right scan of the pd until the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occurence of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non-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PH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PH" sz="2800" spc="-1" strike="noStrike" baseline="-25000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n replace </a:t>
            </a:r>
            <a:r>
              <a:rPr b="1" i="1" lang="en-PH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1" i="1" lang="en-PH" sz="2800" spc="-1" strike="noStrike">
                <a:solidFill>
                  <a:srgbClr val="ff66ff"/>
                </a:solidFill>
                <a:latin typeface="Times New Roman"/>
              </a:rPr>
              <a:t>y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and retur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th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beginning of the sententi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ightmost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ymbol is alwa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 a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special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, and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complet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he simulation by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anging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PH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In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1899000"/>
            <a:ext cx="853452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sion of CFG to PDA that acts as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general top-down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po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if pd top =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non-input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 symbol, </a:t>
            </a:r>
            <a:r>
              <a:rPr b="1" lang="en-GB" sz="3000" spc="-1" strike="noStrike">
                <a:solidFill>
                  <a:srgbClr val="3333cc"/>
                </a:solidFill>
                <a:latin typeface="Times New Roman"/>
              </a:rPr>
              <a:t>exp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5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5800" y="171792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mulate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limited derivations in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1066680" y="2659320"/>
            <a:ext cx="73152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cords the first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from curre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sentential form in its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er th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-terminals are extended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s the string, empties pd, enters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roof 6/6: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+</a:t>
            </a:r>
            <a:r>
              <a:rPr b="1" lang="en-AU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685800" y="4724280"/>
            <a:ext cx="7924680" cy="761760"/>
            <a:chOff x="685800" y="4724280"/>
            <a:chExt cx="7924680" cy="761760"/>
          </a:xfrm>
        </p:grpSpPr>
        <p:sp>
          <p:nvSpPr>
            <p:cNvPr id="1064" name=""/>
            <p:cNvSpPr/>
            <p:nvPr/>
          </p:nvSpPr>
          <p:spPr>
            <a:xfrm>
              <a:off x="685800" y="4724280"/>
              <a:ext cx="7924680" cy="76176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85800" y="4724280"/>
              <a:ext cx="7924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all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,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</a:t>
              </a:r>
              <a:r>
                <a:rPr b="0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cs-CZ" sz="36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101240" y="3424680"/>
            <a:ext cx="741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 Kasai (1970):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0" lang="en-GB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GB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i="1" lang="cs-CZ" sz="3200" spc="-1" strike="noStrike" baseline="-25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cs-CZ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190880" y="1684440"/>
            <a:ext cx="576684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ctr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for all </a:t>
            </a:r>
            <a:r>
              <a:rPr b="1" i="1" lang="en-A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1,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ST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en-AU" sz="3200" spc="-1" strike="noStrike">
                <a:solidFill>
                  <a:srgbClr val="3333cc"/>
                </a:solidFill>
                <a:latin typeface="Times New Roman"/>
              </a:rPr>
              <a:t>PD</a:t>
            </a:r>
            <a:r>
              <a:rPr b="1" i="1" lang="en-AU" sz="32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236000" y="57340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Q. E.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 PD</a:t>
            </a:r>
            <a:r>
              <a:rPr b="1" i="1" lang="en-AU" sz="4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2" name=""/>
          <p:cNvGrpSpPr/>
          <p:nvPr/>
        </p:nvGrpSpPr>
        <p:grpSpPr>
          <a:xfrm>
            <a:off x="685800" y="1828800"/>
            <a:ext cx="7924680" cy="1828080"/>
            <a:chOff x="685800" y="1828800"/>
            <a:chExt cx="7924680" cy="1828080"/>
          </a:xfrm>
        </p:grpSpPr>
        <p:sp>
          <p:nvSpPr>
            <p:cNvPr id="1073" name=""/>
            <p:cNvSpPr/>
            <p:nvPr/>
          </p:nvSpPr>
          <p:spPr>
            <a:xfrm>
              <a:off x="685800" y="1828800"/>
              <a:ext cx="7924680" cy="1828080"/>
            </a:xfrm>
            <a:prstGeom prst="rect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85800" y="1828800"/>
              <a:ext cx="7924680" cy="18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ctr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For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every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1" lang="en-GB" sz="3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, there exists a context-sensitive language </a:t>
              </a:r>
              <a:r>
                <a:rPr b="1" i="1" lang="cs-CZ" sz="36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not included in </a:t>
              </a:r>
              <a:r>
                <a:rPr b="1" i="1" lang="en-GB" sz="3600" spc="-1" strike="noStrike">
                  <a:solidFill>
                    <a:srgbClr val="000000"/>
                  </a:solidFill>
                  <a:latin typeface="Times New Roman"/>
                </a:rPr>
                <a:t>PD</a:t>
              </a:r>
              <a:r>
                <a:rPr b="1" i="1" lang="en-GB" sz="36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cs-CZ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n Problem Are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" y="1752480"/>
            <a:ext cx="79246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Determin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Rules of form 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mqA </a:t>
            </a:r>
            <a:r>
              <a:rPr b="1" sz="4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963240" y="151200"/>
            <a:ext cx="8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80880" y="4572000"/>
            <a:ext cx="8458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3333cc"/>
                </a:solidFill>
                <a:latin typeface="Times New Roman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DA as a general Top-Down Pars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4460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505520"/>
            <a:ext cx="815364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figur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tat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input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pd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op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a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xpansion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6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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y rule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ceptance: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008080"/>
                </a:solidFill>
                <a:latin typeface="Times New Roman"/>
              </a:rPr>
              <a:t>x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600" spc="-1" strike="noStrike">
                <a:solidFill>
                  <a:srgbClr val="ff0000"/>
                </a:solidFill>
                <a:latin typeface="Symbol"/>
                <a:ea typeface="Symbol"/>
              </a:rPr>
              <a:t>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5410080"/>
            <a:ext cx="160020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638320" y="5638680"/>
            <a:ext cx="11430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: Fundamental Mod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057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ansion may be performed </a:t>
            </a: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eeper in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743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andard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034800" y="416088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860200" y="440676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211480" y="4191120"/>
            <a:ext cx="609480" cy="2186640"/>
            <a:chOff x="2211480" y="4191120"/>
            <a:chExt cx="609480" cy="2186640"/>
          </a:xfrm>
        </p:grpSpPr>
        <p:grpSp>
          <p:nvGrpSpPr>
            <p:cNvPr id="105" name=""/>
            <p:cNvGrpSpPr/>
            <p:nvPr/>
          </p:nvGrpSpPr>
          <p:grpSpPr>
            <a:xfrm>
              <a:off x="2211480" y="5918040"/>
              <a:ext cx="607680" cy="459720"/>
              <a:chOff x="2211480" y="5918040"/>
              <a:chExt cx="607680" cy="459720"/>
            </a:xfrm>
          </p:grpSpPr>
          <p:sp>
            <p:nvSpPr>
              <p:cNvPr id="106" name=""/>
              <p:cNvSpPr/>
              <p:nvPr/>
            </p:nvSpPr>
            <p:spPr>
              <a:xfrm>
                <a:off x="2284200" y="591804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211480" y="591804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2286000" y="4191120"/>
              <a:ext cx="534960" cy="459720"/>
              <a:chOff x="2286000" y="4191120"/>
              <a:chExt cx="534960" cy="459720"/>
            </a:xfrm>
          </p:grpSpPr>
          <p:sp>
            <p:nvSpPr>
              <p:cNvPr id="109" name=""/>
              <p:cNvSpPr/>
              <p:nvPr/>
            </p:nvSpPr>
            <p:spPr>
              <a:xfrm>
                <a:off x="2286000" y="419112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89600" y="419112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2286000" y="4622760"/>
              <a:ext cx="534960" cy="459720"/>
              <a:chOff x="2286000" y="4622760"/>
              <a:chExt cx="534960" cy="459720"/>
            </a:xfrm>
          </p:grpSpPr>
          <p:sp>
            <p:nvSpPr>
              <p:cNvPr id="112" name=""/>
              <p:cNvSpPr/>
              <p:nvPr/>
            </p:nvSpPr>
            <p:spPr>
              <a:xfrm>
                <a:off x="2286000" y="46227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89600" y="462276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286000" y="5054400"/>
              <a:ext cx="534960" cy="459720"/>
              <a:chOff x="2286000" y="5054400"/>
              <a:chExt cx="534960" cy="459720"/>
            </a:xfrm>
          </p:grpSpPr>
          <p:sp>
            <p:nvSpPr>
              <p:cNvPr id="115" name=""/>
              <p:cNvSpPr/>
              <p:nvPr/>
            </p:nvSpPr>
            <p:spPr>
              <a:xfrm>
                <a:off x="2286000" y="5054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9240" y="505440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86000" y="5486400"/>
              <a:ext cx="534960" cy="459720"/>
              <a:chOff x="2286000" y="5486400"/>
              <a:chExt cx="534960" cy="459720"/>
            </a:xfrm>
          </p:grpSpPr>
          <p:sp>
            <p:nvSpPr>
              <p:cNvPr id="118" name=""/>
              <p:cNvSpPr/>
              <p:nvPr/>
            </p:nvSpPr>
            <p:spPr>
              <a:xfrm>
                <a:off x="2286000" y="54864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9600" y="54864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286000" y="637524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4724280" y="274284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2743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eep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3200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9933"/>
                </a:solidFill>
                <a:latin typeface="Times New Roman"/>
              </a:rPr>
              <a:t>3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5181480"/>
            <a:ext cx="2057400" cy="167652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917960" y="5527800"/>
            <a:ext cx="560160" cy="487800"/>
            <a:chOff x="4917960" y="5527800"/>
            <a:chExt cx="560160" cy="487800"/>
          </a:xfrm>
        </p:grpSpPr>
        <p:sp>
          <p:nvSpPr>
            <p:cNvPr id="127" name=""/>
            <p:cNvSpPr/>
            <p:nvPr/>
          </p:nvSpPr>
          <p:spPr>
            <a:xfrm>
              <a:off x="4917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19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044960" y="5527800"/>
            <a:ext cx="560160" cy="487800"/>
            <a:chOff x="4044960" y="5527800"/>
            <a:chExt cx="560160" cy="487800"/>
          </a:xfrm>
        </p:grpSpPr>
        <p:sp>
          <p:nvSpPr>
            <p:cNvPr id="130" name=""/>
            <p:cNvSpPr/>
            <p:nvPr/>
          </p:nvSpPr>
          <p:spPr>
            <a:xfrm>
              <a:off x="4044960" y="5529240"/>
              <a:ext cx="536400" cy="411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46760" y="5527800"/>
              <a:ext cx="558360" cy="487800"/>
            </a:xfrm>
            <a:prstGeom prst="rect">
              <a:avLst/>
            </a:prstGeom>
            <a:solidFill>
              <a:srgbClr val="ccccff"/>
            </a:soli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3200" spc="-1" strike="noStrike">
                  <a:solidFill>
                    <a:srgbClr val="3333cc"/>
                  </a:solidFill>
                  <a:latin typeface="Times New Roman"/>
                </a:rPr>
                <a:t>q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H="1" flipV="1">
            <a:off x="4360320" y="6010200"/>
            <a:ext cx="347040" cy="592560"/>
          </a:xfrm>
          <a:prstGeom prst="line">
            <a:avLst/>
          </a:prstGeom>
          <a:ln w="44280">
            <a:solidFill>
              <a:srgbClr val="808080"/>
            </a:solidFill>
            <a:prstDash val="sysDot"/>
            <a:miter/>
            <a:headEnd len="sm" type="oval" w="sm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03760" y="6038280"/>
            <a:ext cx="411120" cy="573480"/>
          </a:xfrm>
          <a:prstGeom prst="line">
            <a:avLst/>
          </a:prstGeom>
          <a:ln w="47520">
            <a:solidFill>
              <a:srgbClr val="000000"/>
            </a:solidFill>
            <a:miter/>
            <a:headEnd len="med" type="triangle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8043480" y="544356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868880" y="56894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240680" y="4114800"/>
            <a:ext cx="609480" cy="2186640"/>
            <a:chOff x="7240680" y="4114800"/>
            <a:chExt cx="609480" cy="2186640"/>
          </a:xfrm>
        </p:grpSpPr>
        <p:grpSp>
          <p:nvGrpSpPr>
            <p:cNvPr id="137" name=""/>
            <p:cNvGrpSpPr/>
            <p:nvPr/>
          </p:nvGrpSpPr>
          <p:grpSpPr>
            <a:xfrm>
              <a:off x="7240680" y="5841720"/>
              <a:ext cx="607680" cy="459720"/>
              <a:chOff x="7240680" y="5841720"/>
              <a:chExt cx="607680" cy="459720"/>
            </a:xfrm>
          </p:grpSpPr>
          <p:sp>
            <p:nvSpPr>
              <p:cNvPr id="138" name=""/>
              <p:cNvSpPr/>
              <p:nvPr/>
            </p:nvSpPr>
            <p:spPr>
              <a:xfrm>
                <a:off x="7313400" y="584172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240680" y="584172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7315200" y="4114800"/>
              <a:ext cx="534960" cy="459720"/>
              <a:chOff x="7315200" y="4114800"/>
              <a:chExt cx="534960" cy="459720"/>
            </a:xfrm>
          </p:grpSpPr>
          <p:sp>
            <p:nvSpPr>
              <p:cNvPr id="141" name=""/>
              <p:cNvSpPr/>
              <p:nvPr/>
            </p:nvSpPr>
            <p:spPr>
              <a:xfrm>
                <a:off x="7315200" y="41148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18800" y="41148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7315200" y="4546440"/>
              <a:ext cx="534960" cy="459720"/>
              <a:chOff x="7315200" y="4546440"/>
              <a:chExt cx="534960" cy="45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15200" y="45464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8800" y="45464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315200" y="4978080"/>
              <a:ext cx="534960" cy="459720"/>
              <a:chOff x="7315200" y="4978080"/>
              <a:chExt cx="534960" cy="459720"/>
            </a:xfrm>
          </p:grpSpPr>
          <p:sp>
            <p:nvSpPr>
              <p:cNvPr id="147" name=""/>
              <p:cNvSpPr/>
              <p:nvPr/>
            </p:nvSpPr>
            <p:spPr>
              <a:xfrm>
                <a:off x="7315200" y="4978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18440" y="497808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315200" y="5410080"/>
              <a:ext cx="534960" cy="459720"/>
              <a:chOff x="7315200" y="5410080"/>
              <a:chExt cx="534960" cy="459720"/>
            </a:xfrm>
          </p:grpSpPr>
          <p:sp>
            <p:nvSpPr>
              <p:cNvPr id="150" name=""/>
              <p:cNvSpPr/>
              <p:nvPr/>
            </p:nvSpPr>
            <p:spPr>
              <a:xfrm>
                <a:off x="7315200" y="541008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18800" y="541008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7315200" y="629892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1447920" y="419112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8120" y="4114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5410080"/>
            <a:ext cx="761760" cy="457200"/>
          </a:xfrm>
          <a:custGeom>
            <a:avLst/>
            <a:gdLst>
              <a:gd name="textAreaLeft" fmla="*/ 95040 w 761760"/>
              <a:gd name="textAreaRight" fmla="*/ 666720 w 7617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7320" y="5334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ep Pushdown Autom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37160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me as Top-Down Parser except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ep expa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28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 topmost non-input pd symbol is replaced with a string by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395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7880" y="3295080"/>
            <a:ext cx="38656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epth of expa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7560" y="41137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7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GB" sz="7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GB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7200" spc="-1" strike="noStrike">
                <a:solidFill>
                  <a:srgbClr val="ff66ff"/>
                </a:solidFill>
                <a:latin typeface="Times New Roman"/>
              </a:rPr>
              <a:t>x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3240" y="32950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71960" y="573336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6800" y="573336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87760" y="3733920"/>
            <a:ext cx="1974960" cy="7617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97440" y="3962520"/>
            <a:ext cx="69840" cy="5331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657600" y="5181480"/>
            <a:ext cx="15876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962520"/>
            <a:ext cx="235080" cy="53316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6330960" y="5257800"/>
            <a:ext cx="69840" cy="4572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xpansion of Depth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4136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057400"/>
            <a:ext cx="7772400" cy="2743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769608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Expansion of depth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008080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vz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rule of depth 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v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i="1" lang="en-GB" sz="3200" spc="-1" strike="noStrike">
                <a:solidFill>
                  <a:srgbClr val="ff66ff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contains </a:t>
            </a:r>
            <a:r>
              <a:rPr b="1" i="1" lang="en-GB" sz="32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on-input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180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182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189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190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193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196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199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06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07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10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12" name=""/>
                <p:cNvCxnSpPr>
                  <a:stCxn id="210" idx="2"/>
                  <a:endCxn id="213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14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31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p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50720" y="1512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3809880"/>
            <a:ext cx="17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shd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6200000">
            <a:off x="8064000" y="4338720"/>
            <a:ext cx="831960" cy="459720"/>
          </a:xfrm>
          <a:prstGeom prst="rect">
            <a:avLst/>
          </a:prstGeom>
          <a:solidFill>
            <a:srgbClr val="66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889400" y="45846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553080" y="1905120"/>
            <a:ext cx="2057400" cy="1676160"/>
            <a:chOff x="6553080" y="1905120"/>
            <a:chExt cx="2057400" cy="1676160"/>
          </a:xfrm>
        </p:grpSpPr>
        <p:sp>
          <p:nvSpPr>
            <p:cNvPr id="242" name=""/>
            <p:cNvSpPr/>
            <p:nvPr/>
          </p:nvSpPr>
          <p:spPr>
            <a:xfrm>
              <a:off x="6553080" y="1905120"/>
              <a:ext cx="2057400" cy="1676160"/>
            </a:xfrm>
            <a:prstGeom prst="ellipse">
              <a:avLst/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736760" y="2250360"/>
              <a:ext cx="560880" cy="487800"/>
              <a:chOff x="7736760" y="2250360"/>
              <a:chExt cx="560880" cy="487800"/>
            </a:xfrm>
          </p:grpSpPr>
          <p:sp>
            <p:nvSpPr>
              <p:cNvPr id="244" name=""/>
              <p:cNvSpPr/>
              <p:nvPr/>
            </p:nvSpPr>
            <p:spPr>
              <a:xfrm>
                <a:off x="7736760" y="2251800"/>
                <a:ext cx="53712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738560" y="2250360"/>
                <a:ext cx="55908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q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6863400" y="2250360"/>
              <a:ext cx="560520" cy="487800"/>
              <a:chOff x="6863400" y="2250360"/>
              <a:chExt cx="560520" cy="487800"/>
            </a:xfrm>
          </p:grpSpPr>
          <p:sp>
            <p:nvSpPr>
              <p:cNvPr id="247" name=""/>
              <p:cNvSpPr/>
              <p:nvPr/>
            </p:nvSpPr>
            <p:spPr>
              <a:xfrm>
                <a:off x="6863400" y="2251800"/>
                <a:ext cx="536760" cy="4118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65200" y="2250360"/>
                <a:ext cx="558720" cy="4878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3200" spc="-1" strike="noStrike">
                    <a:solidFill>
                      <a:srgbClr val="3333cc"/>
                    </a:solidFill>
                    <a:latin typeface="Times New Roman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 flipV="1">
              <a:off x="7376400" y="2705760"/>
              <a:ext cx="348840" cy="480600"/>
            </a:xfrm>
            <a:prstGeom prst="line">
              <a:avLst/>
            </a:prstGeom>
            <a:ln w="47520">
              <a:solidFill>
                <a:srgbClr val="000000"/>
              </a:solidFill>
              <a:miter/>
              <a:headEnd len="med" type="triangle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240680" y="4368960"/>
            <a:ext cx="609480" cy="2186640"/>
            <a:chOff x="7240680" y="4368960"/>
            <a:chExt cx="609480" cy="2186640"/>
          </a:xfrm>
        </p:grpSpPr>
        <p:grpSp>
          <p:nvGrpSpPr>
            <p:cNvPr id="251" name=""/>
            <p:cNvGrpSpPr/>
            <p:nvPr/>
          </p:nvGrpSpPr>
          <p:grpSpPr>
            <a:xfrm>
              <a:off x="7240680" y="6095880"/>
              <a:ext cx="607680" cy="459720"/>
              <a:chOff x="7240680" y="6095880"/>
              <a:chExt cx="607680" cy="459720"/>
            </a:xfrm>
          </p:grpSpPr>
          <p:sp>
            <p:nvSpPr>
              <p:cNvPr id="252" name=""/>
              <p:cNvSpPr/>
              <p:nvPr/>
            </p:nvSpPr>
            <p:spPr>
              <a:xfrm>
                <a:off x="7313400" y="6095880"/>
                <a:ext cx="534960" cy="43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240680" y="609588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#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7315200" y="4368960"/>
              <a:ext cx="534960" cy="459720"/>
              <a:chOff x="7315200" y="4368960"/>
              <a:chExt cx="534960" cy="459720"/>
            </a:xfrm>
          </p:grpSpPr>
          <p:sp>
            <p:nvSpPr>
              <p:cNvPr id="255" name=""/>
              <p:cNvSpPr/>
              <p:nvPr/>
            </p:nvSpPr>
            <p:spPr>
              <a:xfrm>
                <a:off x="7315200" y="436896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318440" y="436896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315200" y="4800600"/>
              <a:ext cx="534960" cy="459720"/>
              <a:chOff x="7315200" y="4800600"/>
              <a:chExt cx="534960" cy="459720"/>
            </a:xfrm>
          </p:grpSpPr>
          <p:sp>
            <p:nvSpPr>
              <p:cNvPr id="258" name=""/>
              <p:cNvSpPr/>
              <p:nvPr/>
            </p:nvSpPr>
            <p:spPr>
              <a:xfrm>
                <a:off x="7315200" y="480060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318800" y="480060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315200" y="5232240"/>
              <a:ext cx="534960" cy="459720"/>
              <a:chOff x="7315200" y="5232240"/>
              <a:chExt cx="534960" cy="459720"/>
            </a:xfrm>
          </p:grpSpPr>
          <p:sp>
            <p:nvSpPr>
              <p:cNvPr id="261" name=""/>
              <p:cNvSpPr/>
              <p:nvPr/>
            </p:nvSpPr>
            <p:spPr>
              <a:xfrm>
                <a:off x="7315200" y="5232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318440" y="5232240"/>
                <a:ext cx="40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7315200" y="5664240"/>
              <a:ext cx="534960" cy="459720"/>
              <a:chOff x="7315200" y="5664240"/>
              <a:chExt cx="534960" cy="459720"/>
            </a:xfrm>
          </p:grpSpPr>
          <p:sp>
            <p:nvSpPr>
              <p:cNvPr id="264" name=""/>
              <p:cNvSpPr/>
              <p:nvPr/>
            </p:nvSpPr>
            <p:spPr>
              <a:xfrm>
                <a:off x="7315200" y="5664240"/>
                <a:ext cx="534960" cy="431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318800" y="5664240"/>
                <a:ext cx="459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1" i="1" lang="cs-CZ" sz="2400" spc="-1" strike="noStrike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7315200" y="655308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0" y="2057400"/>
            <a:ext cx="5021280" cy="1297800"/>
            <a:chOff x="0" y="2057400"/>
            <a:chExt cx="5021280" cy="1297800"/>
          </a:xfrm>
        </p:grpSpPr>
        <p:grpSp>
          <p:nvGrpSpPr>
            <p:cNvPr id="268" name=""/>
            <p:cNvGrpSpPr/>
            <p:nvPr/>
          </p:nvGrpSpPr>
          <p:grpSpPr>
            <a:xfrm>
              <a:off x="3733920" y="2895480"/>
              <a:ext cx="534960" cy="459720"/>
              <a:chOff x="3733920" y="2895480"/>
              <a:chExt cx="534960" cy="459720"/>
            </a:xfrm>
          </p:grpSpPr>
          <p:sp>
            <p:nvSpPr>
              <p:cNvPr id="269" name=""/>
              <p:cNvSpPr/>
              <p:nvPr/>
            </p:nvSpPr>
            <p:spPr>
              <a:xfrm>
                <a:off x="3733920" y="2895480"/>
                <a:ext cx="534960" cy="457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735360" y="2895480"/>
                <a:ext cx="532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808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057400"/>
              <a:ext cx="5021280" cy="1297440"/>
              <a:chOff x="0" y="2057400"/>
              <a:chExt cx="5021280" cy="1297440"/>
            </a:xfrm>
          </p:grpSpPr>
          <p:sp>
            <p:nvSpPr>
              <p:cNvPr id="272" name=""/>
              <p:cNvSpPr/>
              <p:nvPr/>
            </p:nvSpPr>
            <p:spPr>
              <a:xfrm>
                <a:off x="906480" y="205740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ad he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0" y="2285640"/>
                <a:ext cx="5021280" cy="1069200"/>
                <a:chOff x="0" y="2285640"/>
                <a:chExt cx="5021280" cy="1069200"/>
              </a:xfrm>
            </p:grpSpPr>
            <p:cxnSp>
              <p:nvCxnSpPr>
                <p:cNvPr id="274" name=""/>
                <p:cNvCxnSpPr>
                  <a:stCxn id="272" idx="2"/>
                  <a:endCxn id="275" idx="0"/>
                </p:cNvCxnSpPr>
                <p:nvPr/>
              </p:nvCxnSpPr>
              <p:spPr>
                <a:xfrm flipH="1" rot="16200000">
                  <a:off x="1668600" y="2703240"/>
                  <a:ext cx="381600" cy="2520"/>
                </a:xfrm>
                <a:prstGeom prst="bentConnector3">
                  <a:avLst>
                    <a:gd name="adj1" fmla="val 49952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76" name=""/>
                <p:cNvSpPr/>
                <p:nvPr/>
              </p:nvSpPr>
              <p:spPr>
                <a:xfrm>
                  <a:off x="0" y="2390040"/>
                  <a:ext cx="205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put tape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87920" y="2742480"/>
                  <a:ext cx="1981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11600" y="2285640"/>
                  <a:ext cx="22096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move of hea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"/>
                <p:cNvGrpSpPr/>
                <p:nvPr/>
              </p:nvGrpSpPr>
              <p:grpSpPr>
                <a:xfrm>
                  <a:off x="4259520" y="2895120"/>
                  <a:ext cx="534960" cy="459720"/>
                  <a:chOff x="4259520" y="2895120"/>
                  <a:chExt cx="534960" cy="45972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2595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2609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2659320" y="2895120"/>
                  <a:ext cx="534960" cy="459720"/>
                  <a:chOff x="2659320" y="2895120"/>
                  <a:chExt cx="534960" cy="4597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265932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266076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3192480" y="2895120"/>
                  <a:ext cx="534960" cy="459720"/>
                  <a:chOff x="3192480" y="2895120"/>
                  <a:chExt cx="534960" cy="4597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31924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1939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" name=""/>
                <p:cNvGrpSpPr/>
                <p:nvPr/>
              </p:nvGrpSpPr>
              <p:grpSpPr>
                <a:xfrm>
                  <a:off x="1592280" y="2895120"/>
                  <a:ext cx="534960" cy="459720"/>
                  <a:chOff x="1592280" y="2895120"/>
                  <a:chExt cx="534960" cy="45972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159228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59372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2125800" y="2895120"/>
                  <a:ext cx="534960" cy="459720"/>
                  <a:chOff x="2125800" y="2895120"/>
                  <a:chExt cx="534960" cy="45972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2125800" y="2895120"/>
                    <a:ext cx="534960" cy="45684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127240" y="2895120"/>
                    <a:ext cx="532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808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93" name=""/>
          <p:cNvSpPr/>
          <p:nvPr/>
        </p:nvSpPr>
        <p:spPr>
          <a:xfrm rot="2849400">
            <a:off x="4787640" y="3898800"/>
            <a:ext cx="1257480" cy="1231920"/>
          </a:xfrm>
          <a:prstGeom prst="rect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426636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324480" y="4572000"/>
            <a:ext cx="9907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4114800"/>
            <a:ext cx="838080" cy="838080"/>
          </a:xfrm>
          <a:prstGeom prst="ellipse">
            <a:avLst/>
          </a:prstGeom>
          <a:solidFill>
            <a:srgbClr val="00cc99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4038480" y="4495680"/>
            <a:ext cx="533520" cy="0"/>
          </a:xfrm>
          <a:prstGeom prst="line">
            <a:avLst/>
          </a:prstGeom>
          <a:ln w="475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1828800" y="3351960"/>
            <a:ext cx="1371600" cy="121932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672" y="0"/>
                </a:moveTo>
                <a:lnTo>
                  <a:pt x="8" y="0"/>
                </a:lnTo>
                <a:lnTo>
                  <a:pt x="0" y="672"/>
                </a:lnTo>
              </a:path>
            </a:pathLst>
          </a:custGeom>
          <a:noFill/>
          <a:ln w="47520">
            <a:solidFill>
              <a:srgbClr val="00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4190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1295280"/>
            <a:ext cx="670572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v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GB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Zbyněk Křivka</cp:lastModifiedBy>
  <dcterms:modified xsi:type="dcterms:W3CDTF">2006-09-09T22:39:12Z</dcterms:modified>
  <cp:revision>155</cp:revision>
  <dc:subject/>
  <dc:title>Bez nadpisu</dc:title>
</cp:coreProperties>
</file>