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818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6AF-B905-463A-8AFF-3FCF0397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1BD-59CC-4462-9889-0CA8CD1C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AC4-9BF7-4635-A820-1C5BB421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993-2423-4F20-BF58-EFFB903B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D03-D372-443C-B066-5F87E5E8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A43-8A06-4AC1-9A18-F10135EF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C98-BCE3-407D-BE9D-CB8ADB66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F70-F6EF-4B24-A607-9C3584B0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793-1CA3-40C6-ABE8-D84DD3C2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E7B-7EE5-4E56-834B-A3FD948F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51A1-F50D-4D83-AE12-4AD54A35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70A-1B8B-44C3-8B13-ED7A4EDF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CBF8-607F-4922-BEBD-EA62DDFA959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Deep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800600"/>
            <a:ext cx="8964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d o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Meduna, A.: Deep Pushdown Automa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Acta Informatica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, 2006 (in p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0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1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1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1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1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2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2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2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335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336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339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341" name=""/>
                <p:cNvCxnSpPr>
                  <a:stCxn id="339" idx="2"/>
                  <a:endCxn id="342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43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60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9528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77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79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82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86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87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90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93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96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99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403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404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407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409" name=""/>
                <p:cNvCxnSpPr>
                  <a:stCxn id="407" idx="2"/>
                  <a:endCxn id="410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411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8" name=""/>
          <p:cNvSpPr/>
          <p:nvPr/>
        </p:nvSpPr>
        <p:spPr>
          <a:xfrm>
            <a:off x="1663560" y="3378240"/>
            <a:ext cx="1384560" cy="2768400"/>
          </a:xfrm>
          <a:custGeom>
            <a:avLst/>
            <a:gdLst/>
            <a:ahLst/>
            <a:rect l="l" t="t" r="r" b="b"/>
            <a:pathLst>
              <a:path w="872" h="1744">
                <a:moveTo>
                  <a:pt x="872" y="1744"/>
                </a:moveTo>
                <a:lnTo>
                  <a:pt x="0" y="1744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ove  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43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44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44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44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44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45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45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45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46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191120" y="4572000"/>
            <a:ext cx="3124080" cy="16002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469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472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4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4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4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4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4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8043480" y="4834080"/>
            <a:ext cx="8316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848360" y="5029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0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0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509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315200" y="4800600"/>
            <a:ext cx="534960" cy="459720"/>
            <a:chOff x="7315200" y="4800600"/>
            <a:chExt cx="534960" cy="459720"/>
          </a:xfrm>
        </p:grpSpPr>
        <p:sp>
          <p:nvSpPr>
            <p:cNvPr id="512" name=""/>
            <p:cNvSpPr/>
            <p:nvPr/>
          </p:nvSpPr>
          <p:spPr>
            <a:xfrm>
              <a:off x="7315200" y="48006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8800" y="48006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315200" y="5232240"/>
            <a:ext cx="534960" cy="459720"/>
            <a:chOff x="7315200" y="5232240"/>
            <a:chExt cx="534960" cy="459720"/>
          </a:xfrm>
        </p:grpSpPr>
        <p:sp>
          <p:nvSpPr>
            <p:cNvPr id="515" name=""/>
            <p:cNvSpPr/>
            <p:nvPr/>
          </p:nvSpPr>
          <p:spPr>
            <a:xfrm>
              <a:off x="7315200" y="5232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440" y="5232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315200" y="5664240"/>
            <a:ext cx="534960" cy="459720"/>
            <a:chOff x="7315200" y="5664240"/>
            <a:chExt cx="534960" cy="459720"/>
          </a:xfrm>
        </p:grpSpPr>
        <p:sp>
          <p:nvSpPr>
            <p:cNvPr id="518" name=""/>
            <p:cNvSpPr/>
            <p:nvPr/>
          </p:nvSpPr>
          <p:spPr>
            <a:xfrm>
              <a:off x="7315200" y="5664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18800" y="56642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2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2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34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37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40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43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546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3657600" y="5562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5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5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6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6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56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57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57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57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8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8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9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9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9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0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1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1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2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2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2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3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3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63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64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64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65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65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65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6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38080" y="4800600"/>
            <a:ext cx="685800" cy="8380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76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8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8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8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91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94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97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00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04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8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12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15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18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21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24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581280" y="449568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81280" y="44956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495680"/>
            <a:ext cx="68580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520" y="42670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391520" y="51814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539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74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74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75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75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75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76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76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6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7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5410080"/>
            <a:ext cx="2743200" cy="304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05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811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813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816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20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23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26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29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33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841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844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847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850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853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862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70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877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880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84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87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90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93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9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05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08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11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14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17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26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ushdown Automaton (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46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47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0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3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494240" y="4114800"/>
            <a:ext cx="4268880" cy="510120"/>
            <a:chOff x="4494240" y="4114800"/>
            <a:chExt cx="4268880" cy="510120"/>
          </a:xfrm>
        </p:grpSpPr>
        <p:grpSp>
          <p:nvGrpSpPr>
            <p:cNvPr id="58" name=""/>
            <p:cNvGrpSpPr/>
            <p:nvPr/>
          </p:nvGrpSpPr>
          <p:grpSpPr>
            <a:xfrm>
              <a:off x="6627960" y="4114800"/>
              <a:ext cx="534960" cy="510120"/>
              <a:chOff x="6627960" y="4114800"/>
              <a:chExt cx="534960" cy="510120"/>
            </a:xfrm>
          </p:grpSpPr>
          <p:sp>
            <p:nvSpPr>
              <p:cNvPr id="59" name=""/>
              <p:cNvSpPr/>
              <p:nvPr/>
            </p:nvSpPr>
            <p:spPr>
              <a:xfrm>
                <a:off x="66279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721200" y="411480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28160" y="4114800"/>
              <a:ext cx="534960" cy="510120"/>
              <a:chOff x="8228160" y="4114800"/>
              <a:chExt cx="534960" cy="510120"/>
            </a:xfrm>
          </p:grpSpPr>
          <p:sp>
            <p:nvSpPr>
              <p:cNvPr id="62" name=""/>
              <p:cNvSpPr/>
              <p:nvPr/>
            </p:nvSpPr>
            <p:spPr>
              <a:xfrm>
                <a:off x="82281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29600" y="411480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161480" y="4114800"/>
              <a:ext cx="1066680" cy="459720"/>
              <a:chOff x="7161480" y="4114800"/>
              <a:chExt cx="106668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7161480" y="411480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1614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494240" y="4114800"/>
              <a:ext cx="534960" cy="510120"/>
              <a:chOff x="4494240" y="4114800"/>
              <a:chExt cx="534960" cy="510120"/>
            </a:xfrm>
          </p:grpSpPr>
          <p:sp>
            <p:nvSpPr>
              <p:cNvPr id="68" name=""/>
              <p:cNvSpPr/>
              <p:nvPr/>
            </p:nvSpPr>
            <p:spPr>
              <a:xfrm>
                <a:off x="449424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9604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026320" y="4114800"/>
              <a:ext cx="534960" cy="510120"/>
              <a:chOff x="5026320" y="4114800"/>
              <a:chExt cx="534960" cy="510120"/>
            </a:xfrm>
          </p:grpSpPr>
          <p:sp>
            <p:nvSpPr>
              <p:cNvPr id="71" name=""/>
              <p:cNvSpPr/>
              <p:nvPr/>
            </p:nvSpPr>
            <p:spPr>
              <a:xfrm>
                <a:off x="502632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2812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561280" y="4114800"/>
              <a:ext cx="1066680" cy="459720"/>
              <a:chOff x="5561280" y="4114800"/>
              <a:chExt cx="1066680" cy="459720"/>
            </a:xfrm>
          </p:grpSpPr>
          <p:sp>
            <p:nvSpPr>
              <p:cNvPr id="74" name=""/>
              <p:cNvSpPr/>
              <p:nvPr/>
            </p:nvSpPr>
            <p:spPr>
              <a:xfrm>
                <a:off x="5561280" y="411480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612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6" name=""/>
          <p:cNvCxnSpPr>
            <a:endCxn id="51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endCxn id="60" idx="0"/>
          </p:cNvCxnSpPr>
          <p:nvPr/>
        </p:nvCxnSpPr>
        <p:spPr>
          <a:xfrm>
            <a:off x="5898960" y="2819520"/>
            <a:ext cx="1013400" cy="12960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3505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51055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47242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4724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057400"/>
            <a:ext cx="2438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048120"/>
            <a:ext cx="533160" cy="5331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124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93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941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944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948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95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95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95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96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6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7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7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7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8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88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038480" y="51055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0920" y="529992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95640" y="14842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56000" y="1477080"/>
            <a:ext cx="4105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656000" y="5924160"/>
            <a:ext cx="57621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4360" y="1411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Dee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11280" y="2070720"/>
            <a:ext cx="331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1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2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3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4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5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343400" y="12945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1447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580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2120" y="2362320"/>
            <a:ext cx="754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bottom symbo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finite set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w</a:t>
            </a:r>
            <a:r>
              <a:rPr b="0" i="1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685800" y="3657600"/>
            <a:ext cx="7772400" cy="2049840"/>
            <a:chOff x="685800" y="3657600"/>
            <a:chExt cx="7772400" cy="2049840"/>
          </a:xfrm>
        </p:grpSpPr>
        <p:sp>
          <p:nvSpPr>
            <p:cNvPr id="1010" name=""/>
            <p:cNvSpPr/>
            <p:nvPr/>
          </p:nvSpPr>
          <p:spPr>
            <a:xfrm>
              <a:off x="685800" y="365760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5800" y="3657600"/>
              <a:ext cx="7696080" cy="20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 non-input symbol is 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expand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1" i="1" lang="en-GB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v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qA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pv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]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m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– 1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non-input symb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685800" y="1676520"/>
            <a:ext cx="7924680" cy="1527840"/>
            <a:chOff x="685800" y="1676520"/>
            <a:chExt cx="7924680" cy="1527840"/>
          </a:xfrm>
        </p:grpSpPr>
        <p:sp>
          <p:nvSpPr>
            <p:cNvPr id="1014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5800" y="1676520"/>
              <a:ext cx="792468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n input symbol is on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pop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o explicit rule needed in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85800" y="1676520"/>
            <a:ext cx="7772400" cy="1523880"/>
            <a:chOff x="685800" y="1676520"/>
            <a:chExt cx="7772400" cy="1523880"/>
          </a:xfrm>
        </p:grpSpPr>
        <p:sp>
          <p:nvSpPr>
            <p:cNvPr id="1018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5800" y="1676520"/>
              <a:ext cx="7696080" cy="14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of depth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denotated by </a:t>
              </a:r>
              <a:r>
                <a:rPr b="1" i="1" lang="en-B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B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 the minimal positive integer such that each of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s rules is of dept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or les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96504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685800" y="3657600"/>
            <a:ext cx="7924680" cy="1732680"/>
            <a:chOff x="685800" y="3657600"/>
            <a:chExt cx="7924680" cy="1732680"/>
          </a:xfrm>
        </p:grpSpPr>
        <p:sp>
          <p:nvSpPr>
            <p:cNvPr id="1022" name=""/>
            <p:cNvSpPr/>
            <p:nvPr/>
          </p:nvSpPr>
          <p:spPr>
            <a:xfrm>
              <a:off x="685800" y="3657600"/>
              <a:ext cx="7772400" cy="15998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5800" y="3657600"/>
              <a:ext cx="7924680" cy="17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Language accepted by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), is defined a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900"/>
              </a:b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Resul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and its 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1680" y="2465280"/>
            <a:ext cx="73263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9480" y="131148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– the language family defined by 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eepPDAs of depth </a:t>
            </a:r>
            <a:r>
              <a:rPr b="0" i="1" lang="en-IE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9480" y="3384720"/>
            <a:ext cx="80661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 (Sket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(Kasai, 1970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needed in th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grammar is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 of CFG based on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1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85800" y="1371600"/>
            <a:ext cx="7772400" cy="1905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990720" y="1979280"/>
            <a:ext cx="75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tal alphab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ermin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et of rules of the for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rt symb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14914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3341520"/>
            <a:ext cx="7780320" cy="313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[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nd for every nonterminal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contains no rule with (</a:t>
            </a:r>
            <a:r>
              <a:rPr b="1" i="1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) on the left-hand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2/6: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mited St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1499040"/>
            <a:ext cx="7780320" cy="2497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-limited 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ach derivation step within the firs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fewer n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4089960"/>
            <a:ext cx="7772400" cy="1430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38080" y="576108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y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3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04920" y="184212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44186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95680" y="137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0" y="2299320"/>
            <a:ext cx="419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42840" y="5466960"/>
            <a:ext cx="561060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13406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4/6: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3880" y="1751760"/>
            <a:ext cx="77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the application of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2520000"/>
            <a:ext cx="74678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make a left-to-right scan of the pd until the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occurence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non-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PH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PH" sz="28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n replace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PH" sz="28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and retur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beginning of the sententi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ightmost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ymbol is alwa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pecial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complet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 simulation 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anging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899000"/>
            <a:ext cx="853452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 of CFG to PDA that acts as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general top-down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po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n-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exp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5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5800" y="171792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limited derivations i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2659320"/>
            <a:ext cx="7315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cords the firs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rom curr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sentential form in it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th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are extend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the string, empties pd, enter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6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AU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685800" y="4724280"/>
            <a:ext cx="7924680" cy="761760"/>
            <a:chOff x="685800" y="4724280"/>
            <a:chExt cx="7924680" cy="761760"/>
          </a:xfrm>
        </p:grpSpPr>
        <p:sp>
          <p:nvSpPr>
            <p:cNvPr id="1064" name=""/>
            <p:cNvSpPr/>
            <p:nvPr/>
          </p:nvSpPr>
          <p:spPr>
            <a:xfrm>
              <a:off x="685800" y="4724280"/>
              <a:ext cx="7924680" cy="7617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5800" y="4724280"/>
              <a:ext cx="7924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al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,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01240" y="3424680"/>
            <a:ext cx="741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Kasai (1970):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90880" y="1684440"/>
            <a:ext cx="57668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236000" y="57340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. E.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685800" y="1828800"/>
            <a:ext cx="7924680" cy="1828080"/>
            <a:chOff x="685800" y="1828800"/>
            <a:chExt cx="7924680" cy="1828080"/>
          </a:xfrm>
        </p:grpSpPr>
        <p:sp>
          <p:nvSpPr>
            <p:cNvPr id="1073" name=""/>
            <p:cNvSpPr/>
            <p:nvPr/>
          </p:nvSpPr>
          <p:spPr>
            <a:xfrm>
              <a:off x="685800" y="1828800"/>
              <a:ext cx="7924680" cy="18280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5800" y="1828800"/>
              <a:ext cx="79246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every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, there exists a context-sensitive language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not included in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 Problem Are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" y="1752480"/>
            <a:ext cx="79246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Determi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Rules of form 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mqA </a:t>
            </a:r>
            <a:r>
              <a:rPr b="1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0880" y="457200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3333cc"/>
                </a:solidFill>
                <a:latin typeface="Times New Roman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 as a general Top-Down Pars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505520"/>
            <a:ext cx="81536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ta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inpu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op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pansio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y rule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ceptance: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5410080"/>
            <a:ext cx="1600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638320" y="563868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Fundamental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057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ansion may be performed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eper in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ndar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034800" y="416088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60200" y="44067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11480" y="4191120"/>
            <a:ext cx="609480" cy="2186640"/>
            <a:chOff x="2211480" y="4191120"/>
            <a:chExt cx="609480" cy="2186640"/>
          </a:xfrm>
        </p:grpSpPr>
        <p:grpSp>
          <p:nvGrpSpPr>
            <p:cNvPr id="105" name=""/>
            <p:cNvGrpSpPr/>
            <p:nvPr/>
          </p:nvGrpSpPr>
          <p:grpSpPr>
            <a:xfrm>
              <a:off x="2211480" y="5918040"/>
              <a:ext cx="607680" cy="459720"/>
              <a:chOff x="2211480" y="5918040"/>
              <a:chExt cx="607680" cy="459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284200" y="591804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11480" y="591804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286000" y="4191120"/>
              <a:ext cx="534960" cy="459720"/>
              <a:chOff x="2286000" y="4191120"/>
              <a:chExt cx="534960" cy="459720"/>
            </a:xfrm>
          </p:grpSpPr>
          <p:sp>
            <p:nvSpPr>
              <p:cNvPr id="109" name=""/>
              <p:cNvSpPr/>
              <p:nvPr/>
            </p:nvSpPr>
            <p:spPr>
              <a:xfrm>
                <a:off x="2286000" y="419112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89600" y="419112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86000" y="4622760"/>
              <a:ext cx="534960" cy="459720"/>
              <a:chOff x="2286000" y="4622760"/>
              <a:chExt cx="534960" cy="459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286000" y="46227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89600" y="462276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86000" y="5054400"/>
              <a:ext cx="534960" cy="459720"/>
              <a:chOff x="2286000" y="5054400"/>
              <a:chExt cx="534960" cy="459720"/>
            </a:xfrm>
          </p:grpSpPr>
          <p:sp>
            <p:nvSpPr>
              <p:cNvPr id="115" name=""/>
              <p:cNvSpPr/>
              <p:nvPr/>
            </p:nvSpPr>
            <p:spPr>
              <a:xfrm>
                <a:off x="2286000" y="5054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9240" y="50544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86000" y="5486400"/>
              <a:ext cx="534960" cy="459720"/>
              <a:chOff x="2286000" y="5486400"/>
              <a:chExt cx="534960" cy="459720"/>
            </a:xfrm>
          </p:grpSpPr>
          <p:sp>
            <p:nvSpPr>
              <p:cNvPr id="118" name=""/>
              <p:cNvSpPr/>
              <p:nvPr/>
            </p:nvSpPr>
            <p:spPr>
              <a:xfrm>
                <a:off x="2286000" y="5486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9600" y="54864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86000" y="637524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4724280" y="27428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eep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200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5181480"/>
            <a:ext cx="2057400" cy="16765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17960" y="5527800"/>
            <a:ext cx="560160" cy="487800"/>
            <a:chOff x="4917960" y="5527800"/>
            <a:chExt cx="560160" cy="487800"/>
          </a:xfrm>
        </p:grpSpPr>
        <p:sp>
          <p:nvSpPr>
            <p:cNvPr id="127" name=""/>
            <p:cNvSpPr/>
            <p:nvPr/>
          </p:nvSpPr>
          <p:spPr>
            <a:xfrm>
              <a:off x="4917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19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044960" y="5527800"/>
            <a:ext cx="560160" cy="487800"/>
            <a:chOff x="4044960" y="5527800"/>
            <a:chExt cx="560160" cy="487800"/>
          </a:xfrm>
        </p:grpSpPr>
        <p:sp>
          <p:nvSpPr>
            <p:cNvPr id="130" name=""/>
            <p:cNvSpPr/>
            <p:nvPr/>
          </p:nvSpPr>
          <p:spPr>
            <a:xfrm>
              <a:off x="4044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6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 flipV="1">
            <a:off x="4360320" y="6010200"/>
            <a:ext cx="347040" cy="592560"/>
          </a:xfrm>
          <a:prstGeom prst="line">
            <a:avLst/>
          </a:prstGeom>
          <a:ln w="44280">
            <a:solidFill>
              <a:srgbClr val="808080"/>
            </a:solidFill>
            <a:prstDash val="sysDot"/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03760" y="6038280"/>
            <a:ext cx="411120" cy="5734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8043480" y="544356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868880" y="56894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240680" y="4114800"/>
            <a:ext cx="609480" cy="2186640"/>
            <a:chOff x="7240680" y="4114800"/>
            <a:chExt cx="609480" cy="2186640"/>
          </a:xfrm>
        </p:grpSpPr>
        <p:grpSp>
          <p:nvGrpSpPr>
            <p:cNvPr id="137" name=""/>
            <p:cNvGrpSpPr/>
            <p:nvPr/>
          </p:nvGrpSpPr>
          <p:grpSpPr>
            <a:xfrm>
              <a:off x="7240680" y="5841720"/>
              <a:ext cx="607680" cy="459720"/>
              <a:chOff x="7240680" y="5841720"/>
              <a:chExt cx="607680" cy="459720"/>
            </a:xfrm>
          </p:grpSpPr>
          <p:sp>
            <p:nvSpPr>
              <p:cNvPr id="138" name=""/>
              <p:cNvSpPr/>
              <p:nvPr/>
            </p:nvSpPr>
            <p:spPr>
              <a:xfrm>
                <a:off x="7313400" y="584172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40680" y="58417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315200" y="4114800"/>
              <a:ext cx="534960" cy="459720"/>
              <a:chOff x="7315200" y="4114800"/>
              <a:chExt cx="534960" cy="459720"/>
            </a:xfrm>
          </p:grpSpPr>
          <p:sp>
            <p:nvSpPr>
              <p:cNvPr id="141" name=""/>
              <p:cNvSpPr/>
              <p:nvPr/>
            </p:nvSpPr>
            <p:spPr>
              <a:xfrm>
                <a:off x="7315200" y="41148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18800" y="41148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315200" y="4546440"/>
              <a:ext cx="534960" cy="459720"/>
              <a:chOff x="7315200" y="4546440"/>
              <a:chExt cx="534960" cy="45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15200" y="45464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8800" y="45464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315200" y="4978080"/>
              <a:ext cx="534960" cy="459720"/>
              <a:chOff x="7315200" y="4978080"/>
              <a:chExt cx="534960" cy="459720"/>
            </a:xfrm>
          </p:grpSpPr>
          <p:sp>
            <p:nvSpPr>
              <p:cNvPr id="147" name=""/>
              <p:cNvSpPr/>
              <p:nvPr/>
            </p:nvSpPr>
            <p:spPr>
              <a:xfrm>
                <a:off x="7315200" y="4978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18440" y="49780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315200" y="5410080"/>
              <a:ext cx="534960" cy="459720"/>
              <a:chOff x="7315200" y="5410080"/>
              <a:chExt cx="534960" cy="459720"/>
            </a:xfrm>
          </p:grpSpPr>
          <p:sp>
            <p:nvSpPr>
              <p:cNvPr id="150" name=""/>
              <p:cNvSpPr/>
              <p:nvPr/>
            </p:nvSpPr>
            <p:spPr>
              <a:xfrm>
                <a:off x="7315200" y="5410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18800" y="541008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315200" y="629892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447920" y="419112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812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541008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7320" y="5334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3716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me as Top-Down Parser excep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ep expa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 topmost non-input pd symbol is replaced with a string by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7880" y="3295080"/>
            <a:ext cx="3865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pth of 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7560" y="41137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7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7200" spc="-1" strike="noStrike">
                <a:solidFill>
                  <a:srgbClr val="ff66ff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3240" y="32950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71960" y="573336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6800" y="573336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7760" y="3733920"/>
            <a:ext cx="1974960" cy="7617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97440" y="3962520"/>
            <a:ext cx="6984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657600" y="5181480"/>
            <a:ext cx="15876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962520"/>
            <a:ext cx="235080" cy="5331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330960" y="5257800"/>
            <a:ext cx="69840" cy="457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7772400" cy="2743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7696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Expansion of depth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v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ule of depth 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on-input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18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18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189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190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193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196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199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06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07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10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12" name=""/>
                <p:cNvCxnSpPr>
                  <a:stCxn id="210" idx="2"/>
                  <a:endCxn id="213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14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31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24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24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24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251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252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255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258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261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64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68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69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72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74" name=""/>
                <p:cNvCxnSpPr>
                  <a:stCxn id="272" idx="2"/>
                  <a:endCxn id="275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76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Zbyněk Křivka</cp:lastModifiedBy>
  <dcterms:modified xsi:type="dcterms:W3CDTF">2006-09-09T22:39:12Z</dcterms:modified>
  <cp:revision>155</cp:revision>
  <dc:subject/>
  <dc:title>Bez nadpisu</dc:title>
</cp:coreProperties>
</file>