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32600" cy="93916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8525-AD0D-4137-84A7-34097E04F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18FE-85EB-4903-8659-863230B52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5361-A192-4F4E-9FD1-D54341B9B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24AB-AE6B-45BD-B16C-CB5F06829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2B9F-7A62-4F4F-A80D-BA9D3A4D7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275D-332B-4385-BBFC-7D7114822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1EFF-A14A-4567-A280-A1486E43A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0826-0864-479A-B5D2-12838A1DE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11A0-CCBE-4BA5-8937-A72638D2D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4BA5-6E84-463E-AC28-80088637C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33A5-70E5-48D2-9B1C-ADD8BE9B1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4371-57D6-43D7-9F33-4BB012CA2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E1F52-15F1-4006-994F-999C3F5A472C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838080"/>
            <a:ext cx="8299440" cy="54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Regulated Pushdown Automat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039920" y="151200"/>
            <a:ext cx="72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3276720"/>
            <a:ext cx="76201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4876920"/>
            <a:ext cx="76201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1371600"/>
            <a:ext cx="7772400" cy="53341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gulated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PDA 1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12952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 pushdown automat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7-tu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17524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62120" y="2209680"/>
            <a:ext cx="75438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inite set of stat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put alphab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shdown alphab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i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of rul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the form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a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{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 symb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74760"/>
                <a:tab algn="l" pos="663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set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l st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963600" y="151200"/>
            <a:ext cx="87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685800" y="3962520"/>
            <a:ext cx="7772400" cy="213336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" y="3124080"/>
            <a:ext cx="7772400" cy="6858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1371600"/>
            <a:ext cx="7772400" cy="16002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gulated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PDA 2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1295280"/>
            <a:ext cx="7924680" cy="155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be an alphabet of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rule labels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. Let ever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rule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q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ed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que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cs-CZ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q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3200400"/>
            <a:ext cx="815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nfiguratio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f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n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trin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ro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3962520"/>
            <a:ext cx="8077320" cy="20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For every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a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q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makes a move from configuration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a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figuration </a:t>
            </a: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q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ccording to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written 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Apay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 xwqy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963600" y="151200"/>
            <a:ext cx="87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gulated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PDA 3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1371600"/>
            <a:ext cx="7772400" cy="16765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" y="1371600"/>
            <a:ext cx="7848720" cy="155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be any configuration o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makes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zer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ove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ccording to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writte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" y="3200400"/>
            <a:ext cx="7772400" cy="243828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3200400"/>
            <a:ext cx="8153280" cy="258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there exist a sequence of configu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...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som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1 such tha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,...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e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n mo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ccording t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, written 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3600" y="151200"/>
            <a:ext cx="87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gulated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PDA 3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09480" y="1523880"/>
            <a:ext cx="7772400" cy="12193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9480" y="1752480"/>
            <a:ext cx="815364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for som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0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, we write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96360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3733920"/>
            <a:ext cx="7772400" cy="16002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33520" y="3733920"/>
            <a:ext cx="7924680" cy="15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b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anguag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over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is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cs-CZ" sz="29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900" spc="-1" strike="noStrike">
                <a:solidFill>
                  <a:srgbClr val="000000"/>
                </a:solidFill>
                <a:latin typeface="Times New Roman"/>
              </a:rPr>
              <a:t>With </a:t>
            </a:r>
            <a:r>
              <a:rPr b="0" lang="cs-CZ" sz="29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accepts its language,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), a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anguage Famil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85800" y="1371600"/>
            <a:ext cx="8077320" cy="545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54080"/>
                <a:tab algn="l" pos="228600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LIN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- the family of linear languag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54080"/>
                <a:tab algn="l" pos="228600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C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- the family of context-free languag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54080"/>
                <a:tab algn="l" pos="228600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R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- the family of recursively enumerab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1054080"/>
                <a:tab algn="l" pos="228600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anguages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54080"/>
                <a:tab algn="l" pos="228600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RPD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REG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- the family of languages accepte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054080"/>
                <a:tab algn="l" pos="228600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y PDAs regulated by regula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054080"/>
                <a:tab algn="l" pos="228600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anguag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054080"/>
                <a:tab algn="l" pos="228600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RPD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i="1" lang="en-US" sz="3000" spc="-1" strike="noStrike">
                <a:solidFill>
                  <a:srgbClr val="3333cc"/>
                </a:solidFill>
                <a:latin typeface="Times New Roman"/>
              </a:rPr>
              <a:t>LIN</a:t>
            </a: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- the family of languages accepte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1054080"/>
                <a:tab algn="l" pos="228600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y PDAs regulated by linear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anguag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120" y="35812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963600" y="151200"/>
            <a:ext cx="87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orem 1 and its Proof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1371600"/>
            <a:ext cx="7772400" cy="7621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5800" y="1371600"/>
            <a:ext cx="7924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00"/>
                </a:solidFill>
                <a:latin typeface="Times New Roman"/>
              </a:rPr>
              <a:t>RPD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REG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C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2209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1640" y="2133000"/>
            <a:ext cx="142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92920" y="2666520"/>
            <a:ext cx="548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I.</a:t>
            </a: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CF</a:t>
            </a:r>
            <a:r>
              <a:rPr b="1" lang="cs-CZ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3333cc"/>
                </a:solidFill>
                <a:latin typeface="Symbol"/>
                <a:ea typeface="Symbol"/>
              </a:rPr>
              <a:t></a:t>
            </a:r>
            <a:r>
              <a:rPr b="1" lang="cs-CZ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RPD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REG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is clear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91840" y="3352320"/>
            <a:ext cx="427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II.</a:t>
            </a:r>
            <a:r>
              <a:rPr b="0" i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RPD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REG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1" lang="cs-CZ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3333cc"/>
                </a:solidFill>
                <a:latin typeface="Symbol"/>
                <a:ea typeface="Symbol"/>
              </a:rPr>
              <a:t></a:t>
            </a:r>
            <a:r>
              <a:rPr b="1" lang="cs-CZ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CF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36280" y="3961440"/>
            <a:ext cx="320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826080" y="4742280"/>
            <a:ext cx="3248640" cy="581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Regular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20000" y="4742280"/>
            <a:ext cx="1017360" cy="581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2590920" y="4571640"/>
            <a:ext cx="380880" cy="152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28720" y="5409360"/>
            <a:ext cx="7156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regular grammar b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rules: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 flipV="1">
            <a:off x="3505320" y="4571640"/>
            <a:ext cx="380880" cy="152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85800" y="33526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963600" y="151200"/>
            <a:ext cx="87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orem 1 and its Proof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1219320"/>
            <a:ext cx="784872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Transform </a:t>
            </a: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regulated by </a:t>
            </a:r>
            <a:r>
              <a:rPr b="1" lang="cs-CZ" sz="34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to a </a:t>
            </a: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PDA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as follows: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85800" y="236124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Cqb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x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every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a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" y="388512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or every </a:t>
            </a: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Cqb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x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every </a:t>
            </a:r>
            <a:r>
              <a:rPr b="1" i="1" lang="cs-CZ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cc99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from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f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85800" y="548532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et of final states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1" i="1" lang="cs-CZ" sz="3200" spc="-1" strike="noStrike">
                <a:solidFill>
                  <a:srgbClr val="ff66ff"/>
                </a:solidFill>
                <a:latin typeface="Times New Roman"/>
              </a:rPr>
              <a:t>f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s a final state in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85800" y="2362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85800" y="39625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85800" y="5486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114600" y="4437720"/>
            <a:ext cx="2296080" cy="581400"/>
          </a:xfrm>
          <a:prstGeom prst="rect">
            <a:avLst/>
          </a:prstGeom>
          <a:solidFill>
            <a:srgbClr val="ccffff"/>
          </a:solidFill>
          <a:ln w="381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New symb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4724280" y="4724280"/>
            <a:ext cx="1371600" cy="228600"/>
          </a:xfrm>
          <a:prstGeom prst="line">
            <a:avLst/>
          </a:prstGeom>
          <a:ln w="3816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963600" y="151200"/>
            <a:ext cx="87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orem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" y="1752480"/>
            <a:ext cx="7772400" cy="7621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" y="1752480"/>
            <a:ext cx="7924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00"/>
                </a:solidFill>
                <a:latin typeface="Times New Roman"/>
              </a:rPr>
              <a:t>RPD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LIN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28954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11640" y="2818800"/>
            <a:ext cx="142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85800" y="3831120"/>
            <a:ext cx="7772400" cy="15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Meduna Alexander, Kolář Duša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Regulated Pushdown Automata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3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Acta Cybernetica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,Vol. 2000, No. 4, p. 653-664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963600" y="151200"/>
            <a:ext cx="87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685800" y="4038480"/>
            <a:ext cx="7772400" cy="20574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implification of RPDAs 1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1371600"/>
            <a:ext cx="792468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consider two consecutive moves made by a pushdown automaton,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f during the first move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does not shorten its pushdown and during the second move it does, then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makes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 tur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during the second mo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 pushdown automaton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one-tur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f it makes no more than one turn during any computation starting from an initial configur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963600" y="151200"/>
            <a:ext cx="87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e-Turn PDA: Illust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96360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447920" y="1752480"/>
            <a:ext cx="0" cy="4114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1218960" y="5638680"/>
            <a:ext cx="6476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1295280" y="1752120"/>
            <a:ext cx="0" cy="2514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477120" y="5791320"/>
            <a:ext cx="12189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553080" y="5715000"/>
            <a:ext cx="1295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Mov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rot="10800000">
            <a:off x="682560" y="1445760"/>
            <a:ext cx="6372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Length of pushdow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447920" y="5257800"/>
            <a:ext cx="533160" cy="3808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981080" y="4876920"/>
            <a:ext cx="533520" cy="7617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514600" y="4114800"/>
            <a:ext cx="533520" cy="15238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048120" y="3733920"/>
            <a:ext cx="533160" cy="19047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581280" y="2971800"/>
            <a:ext cx="533520" cy="26668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114800" y="2590920"/>
            <a:ext cx="533520" cy="30477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648320" y="3352680"/>
            <a:ext cx="533160" cy="22860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181480" y="4114800"/>
            <a:ext cx="533520" cy="15238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715000" y="4495680"/>
            <a:ext cx="533520" cy="11430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248520" y="4876920"/>
            <a:ext cx="533160" cy="7617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447920" y="5257800"/>
            <a:ext cx="6248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447920" y="4876920"/>
            <a:ext cx="6248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447920" y="4495680"/>
            <a:ext cx="6248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447920" y="4114800"/>
            <a:ext cx="6248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447920" y="3733920"/>
            <a:ext cx="6248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447920" y="3352680"/>
            <a:ext cx="6248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447920" y="2971800"/>
            <a:ext cx="6248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447920" y="2590920"/>
            <a:ext cx="6248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447920" y="2209680"/>
            <a:ext cx="6248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200400" y="1447920"/>
            <a:ext cx="2438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One-tu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1752480" y="2362320"/>
            <a:ext cx="2210040" cy="259056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800600" y="2438280"/>
            <a:ext cx="1828800" cy="22860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nspiration: Regulated Gramma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675800"/>
            <a:ext cx="34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Grammar </a:t>
            </a:r>
            <a:r>
              <a:rPr b="1" i="1" lang="cs-CZ" sz="4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505320" y="2439000"/>
            <a:ext cx="25905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2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3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4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5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5485680"/>
            <a:ext cx="419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40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4000" spc="-1" strike="noStrike">
                <a:solidFill>
                  <a:srgbClr val="ff0000"/>
                </a:solidFill>
                <a:latin typeface="Times New Roman"/>
              </a:rPr>
              <a:t>=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{1}{24}</a:t>
            </a:r>
            <a:r>
              <a:rPr b="1" lang="en-US" sz="40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{35}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039920" y="151200"/>
            <a:ext cx="72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implification of RPDA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09480" y="1294200"/>
            <a:ext cx="83059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II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During a  move, an 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tomi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regulated PDA changes a state and, in addition, performs exactly one of the following ac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1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pushes a symbol onto the pushd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2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pops a symbol from the pushd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cc"/>
                </a:solidFill>
                <a:latin typeface="Times New Roman"/>
              </a:rPr>
              <a:t>3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reads an input symb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963600" y="151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orem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85800" y="1371600"/>
            <a:ext cx="7772400" cy="220968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85800" y="1371600"/>
            <a:ext cx="79246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Every </a:t>
            </a:r>
            <a:r>
              <a:rPr b="1" i="1" lang="cs-CZ" sz="4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4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4400" spc="-1" strike="noStrike">
                <a:solidFill>
                  <a:srgbClr val="000000"/>
                </a:solidFill>
                <a:latin typeface="Times New Roman"/>
              </a:rPr>
              <a:t>RE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is accepted by an atomic one-turn PDA regulated by </a:t>
            </a:r>
            <a:r>
              <a:rPr b="1" lang="cs-CZ" sz="44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1" lang="cs-CZ" sz="44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4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4400" spc="-1" strike="noStrike">
                <a:solidFill>
                  <a:srgbClr val="000000"/>
                </a:solidFill>
                <a:latin typeface="Times New Roman"/>
              </a:rPr>
              <a:t>LIN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85800" y="37339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11640" y="3657240"/>
            <a:ext cx="142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Proof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963600" y="151200"/>
            <a:ext cx="87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85800" y="4190400"/>
            <a:ext cx="777240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8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Meduna Alexander, Kolář Duša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One-Turn Regulated Pushdown Automata and Their Reduction,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Fundamenta Informatica</a:t>
            </a:r>
            <a:r>
              <a:rPr b="1" lang="cs-CZ" sz="3000" spc="-1" strike="noStrike">
                <a:solidFill>
                  <a:srgbClr val="3333cc"/>
                </a:solidFill>
                <a:latin typeface="Times New Roman"/>
              </a:rPr>
              <a:t>,Vol. 2002, No. 16, p. 399-40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85800" y="6172200"/>
            <a:ext cx="7772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gulated Grammars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143000" y="1827720"/>
            <a:ext cx="2286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C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2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3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4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5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434268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=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{1}{24}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{35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43400" y="1447920"/>
            <a:ext cx="0" cy="3504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95680" y="1218240"/>
            <a:ext cx="4114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Without </a:t>
            </a:r>
            <a:r>
              <a:rPr b="1" lang="cs-CZ" sz="32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generates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bcc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800600" y="2361240"/>
            <a:ext cx="39625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1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2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C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4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3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bCc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4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bcc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5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135160" y="5504760"/>
            <a:ext cx="503100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2120" y="121824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Grammar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9920" y="151200"/>
            <a:ext cx="72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gulated Grammars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9520" y="2818440"/>
            <a:ext cx="39621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1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2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C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4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3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[5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086200" y="5942880"/>
            <a:ext cx="489744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09480" y="1234440"/>
            <a:ext cx="83059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with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3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does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generate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aabbccc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becaus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ff0000"/>
                </a:solidFill>
                <a:latin typeface="Times New Roman"/>
              </a:rPr>
              <a:t>124345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34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{1}{24}</a:t>
            </a:r>
            <a:r>
              <a:rPr b="1" lang="cs-CZ" sz="3400" spc="-1" strike="noStrike" baseline="30000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{35}</a:t>
            </a: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9480" y="2284920"/>
            <a:ext cx="81536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with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generates </a:t>
            </a: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50840" y="5256720"/>
            <a:ext cx="29077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cs-CZ" sz="3400" spc="-1" strike="noStrike">
                <a:solidFill>
                  <a:srgbClr val="ff0000"/>
                </a:solidFill>
                <a:latin typeface="Times New Roman"/>
              </a:rPr>
              <a:t>12435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0" lang="cs-CZ" sz="3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236232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039920" y="151200"/>
            <a:ext cx="72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DA: No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33120" y="2609280"/>
            <a:ext cx="370260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pushdown symb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121896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A PDA is based on a finite set of rules of the form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81080" y="3580200"/>
            <a:ext cx="5181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7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cs-CZ" sz="7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72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1" i="1" lang="cs-CZ" sz="7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7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7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cs-CZ" sz="72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1" i="1" lang="cs-CZ" sz="7200" spc="-1" strike="noStrike">
                <a:solidFill>
                  <a:srgbClr val="3333cc"/>
                </a:solidFill>
                <a:latin typeface="Times New Roman"/>
              </a:rPr>
              <a:t>p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83240" y="2609280"/>
            <a:ext cx="127332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sta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71960" y="5428440"/>
            <a:ext cx="344808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pushdown str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36360" y="5428440"/>
            <a:ext cx="359280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input symbol or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3581280" y="3048120"/>
            <a:ext cx="1981440" cy="9144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943600" y="3276720"/>
            <a:ext cx="304920" cy="6858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743200" y="3276720"/>
            <a:ext cx="38088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505320" y="4723920"/>
            <a:ext cx="457200" cy="685800"/>
          </a:xfrm>
          <a:prstGeom prst="line">
            <a:avLst/>
          </a:prstGeom>
          <a:ln w="57240">
            <a:solidFill>
              <a:srgbClr val="ff9933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5790960" y="4723920"/>
            <a:ext cx="75960" cy="685800"/>
          </a:xfrm>
          <a:prstGeom prst="line">
            <a:avLst/>
          </a:prstGeom>
          <a:ln w="57240">
            <a:solidFill>
              <a:srgbClr val="00cc99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039920" y="151200"/>
            <a:ext cx="72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ew Concept: Regulated PD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134440"/>
            <a:ext cx="3352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2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3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4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5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0000"/>
                </a:solidFill>
                <a:latin typeface="Times New Roman"/>
              </a:rPr>
              <a:t>6.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600" spc="-1" strike="noStrike">
                <a:solidFill>
                  <a:srgbClr val="3333cc"/>
                </a:solidFill>
                <a:latin typeface="Times New Roman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520" y="5637960"/>
            <a:ext cx="617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40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4000" spc="-1" strike="noStrike">
                <a:solidFill>
                  <a:srgbClr val="ff0000"/>
                </a:solidFill>
                <a:latin typeface="Times New Roman"/>
              </a:rPr>
              <a:t>=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{12</a:t>
            </a:r>
            <a:r>
              <a:rPr b="1" i="1" lang="en-US" sz="4000" spc="-1" strike="noStrike" baseline="30000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34</a:t>
            </a:r>
            <a:r>
              <a:rPr b="1" i="1" lang="en-US" sz="40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i="1" lang="en-US" sz="40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6: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Symbol"/>
                <a:ea typeface="Symbol"/>
              </a:rPr>
              <a:t>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0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}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9480" y="1447200"/>
            <a:ext cx="281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PDA </a:t>
            </a:r>
            <a:r>
              <a:rPr b="1" i="1" lang="cs-CZ" sz="4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039920" y="151200"/>
            <a:ext cx="72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gulated PDA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1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4920" y="4799880"/>
            <a:ext cx="4724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ff0000"/>
                </a:solidFill>
                <a:latin typeface="Times New Roman"/>
              </a:rPr>
              <a:t>=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{12</a:t>
            </a:r>
            <a:r>
              <a:rPr b="1" i="1" lang="en-US" sz="3000" spc="-1" strike="noStrike" baseline="30000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34</a:t>
            </a:r>
            <a:r>
              <a:rPr b="1" i="1" lang="en-US" sz="30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i="1" lang="en-US" sz="30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6: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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0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48320" y="1447920"/>
            <a:ext cx="0" cy="3886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24280" y="1325520"/>
            <a:ext cx="3810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952880" y="2210040"/>
            <a:ext cx="373392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aabbccc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abbccc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[1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Sa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bbccc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[2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bccc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[3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ccc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[4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cc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[5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[5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[6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982520" y="5961960"/>
            <a:ext cx="510696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121824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DA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1827720"/>
            <a:ext cx="25146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2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3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4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5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Times New Roman"/>
              </a:rPr>
              <a:t>6.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039920" y="151200"/>
            <a:ext cx="72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1218240"/>
            <a:ext cx="3657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Without </a:t>
            </a:r>
            <a:r>
              <a:rPr b="1" lang="cs-CZ" sz="32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accepts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aabbcc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gulated PDA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2/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359440" y="6038280"/>
            <a:ext cx="497340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 = {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1}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1218240"/>
            <a:ext cx="815364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with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does not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accept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aabbccc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becaus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ff0000"/>
                </a:solidFill>
                <a:latin typeface="Times New Roman"/>
              </a:rPr>
              <a:t>1234556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0" lang="cs-CZ" sz="34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{12</a:t>
            </a:r>
            <a:r>
              <a:rPr b="1" i="1" lang="en-US" sz="3400" spc="-1" strike="noStrike" baseline="30000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34</a:t>
            </a:r>
            <a:r>
              <a:rPr b="1" i="1" lang="en-US" sz="34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i="1" lang="en-US" sz="34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6: </a:t>
            </a:r>
            <a:r>
              <a:rPr b="1" i="1" lang="en-US" sz="34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3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400" spc="-1" strike="noStrike">
                <a:solidFill>
                  <a:srgbClr val="ff0000"/>
                </a:solidFill>
                <a:latin typeface="Symbol"/>
                <a:ea typeface="Symbol"/>
              </a:rPr>
              <a:t>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 0}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480" y="2208960"/>
            <a:ext cx="81536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with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3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accepts </a:t>
            </a:r>
            <a:r>
              <a:rPr b="1" i="1" lang="cs-CZ" sz="34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307680" y="5409360"/>
            <a:ext cx="31244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ff0000"/>
                </a:solidFill>
                <a:latin typeface="Times New Roman"/>
              </a:rPr>
              <a:t>123456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cs-CZ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400" spc="-1" strike="noStrike">
                <a:solidFill>
                  <a:srgbClr val="ff0000"/>
                </a:solidFill>
                <a:latin typeface="Symbol"/>
                <a:ea typeface="Symbol"/>
              </a:rPr>
              <a:t></a:t>
            </a:r>
            <a:r>
              <a:rPr b="0" lang="cs-CZ" sz="3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22860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124080" y="2666880"/>
            <a:ext cx="373392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abbcc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[1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Sa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bbcc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[2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Sa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bcc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[3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cc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[4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[5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cs-CZ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[6]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830600" y="2666160"/>
            <a:ext cx="1640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30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1" i="1" lang="cs-CZ" sz="3000" spc="-1" strike="noStrike">
                <a:solidFill>
                  <a:srgbClr val="000000"/>
                </a:solidFill>
                <a:latin typeface="Times New Roman"/>
              </a:rPr>
              <a:t>aabbcc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039920" y="151200"/>
            <a:ext cx="72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Gist: 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Regulated PD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" y="1372320"/>
            <a:ext cx="8534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sider a pushdown automaton,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a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trol language,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accepts a string,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if and only if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tains a control string according 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ich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makes a sequence of moves so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aches a final configuration after reading</a:t>
            </a: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039920" y="151200"/>
            <a:ext cx="72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1:29:08Z</dcterms:created>
  <dc:creator>Roman</dc:creator>
  <dc:description/>
  <dc:language>en-US</dc:language>
  <cp:lastModifiedBy>Tomáš Masopust</cp:lastModifiedBy>
  <dcterms:modified xsi:type="dcterms:W3CDTF">2006-09-14T18:19:53Z</dcterms:modified>
  <cp:revision>115</cp:revision>
  <dc:subject/>
  <dc:title>Bez nadpisu</dc:title>
</cp:coreProperties>
</file>