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10D8C-1567-4804-BD45-5978F446F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69722-296A-48CD-AACF-C6920786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95149-5F17-462B-8E2F-1A608FA3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328A2-F0E7-414F-A981-DF7DE20F0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C162-8887-4E4D-8E1A-3CC708FE8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FA99-2C35-427C-9A8B-96174ED6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4587-CD6B-4CB7-962C-485259B2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99CF-1E49-4D3B-9C86-616687C6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A171-0AE9-4C94-A250-31632C2F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22AB-C601-4DCF-BEE1-B2D69B4A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0704-A70D-46B5-9B3B-4867C0B3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D5E5C-7C21-4902-AD2C-F4163CAB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D68C-6B5B-477A-A1A1-1F963AC6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3B49-0697-41D3-81BD-D18D0F29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C3DE-605F-468A-81B5-53BCC0C8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401A-1712-4A2D-BCE1-8A995102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5CED-93FE-474E-A597-66138881B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B4CEF-3B6A-42B0-904D-30B5CEF8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579C5-AF4A-4324-A663-603ACDDE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E447C-82E4-4C17-87C7-CC92EF40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5ED0B-DC38-4025-99E6-D5498CA7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4AA7E-E97C-4FB4-84ED-9DB8CB7F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37D10-8FB9-46AF-8EC6-F1DB6F15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569B5-7DD6-4EAA-A527-BC15BFF7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C7B8-2C85-4316-BF7C-1E239DDFE6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E3CA-8A08-4044-A2BB-058C68196A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ystolic Automata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5734080"/>
            <a:ext cx="597708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 = {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2800" spc="-1" strike="noStrike" baseline="48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≥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258920" y="981000"/>
            <a:ext cx="6192720" cy="4969080"/>
          </a:xfrm>
          <a:prstGeom prst="ellipse">
            <a:avLst/>
          </a:prstGeom>
          <a:solidFill>
            <a:srgbClr val="800000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3640" y="2924280"/>
            <a:ext cx="3456000" cy="2089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56000" y="1700280"/>
            <a:ext cx="2736720" cy="2952720"/>
          </a:xfrm>
          <a:prstGeom prst="ellipse">
            <a:avLst/>
          </a:prstGeom>
          <a:solidFill>
            <a:srgbClr val="ff66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5280" y="3284640"/>
            <a:ext cx="1152720" cy="1152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573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64000" y="378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B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205000"/>
            <a:ext cx="863640" cy="43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19640" y="198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08720" y="1916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0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BTA in hierarchy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 Systolic Binary Tree Automaton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(SBTA) is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=(Q,</a:t>
            </a:r>
            <a:r>
              <a:rPr b="1" lang="el-GR" sz="4400" spc="-1" strike="noStrike">
                <a:solidFill>
                  <a:srgbClr val="e5e5ff"/>
                </a:solidFill>
                <a:latin typeface="Garamond"/>
              </a:rPr>
              <a:t>Σ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,R,I,#,F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 is finite set of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n input alphab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is finite set of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q → r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,q,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is finite set of initial rules of the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 → 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# is end mark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 is a set of final sta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t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a string such th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,…,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Σ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= 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= … =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= #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 &gt; |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k+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|. Then def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►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f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1,2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…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-1,2</a:t>
            </a:r>
            <a:r>
              <a:rPr b="0" i="1" lang="en-US" sz="3200" spc="-1" strike="noStrike" baseline="1000">
                <a:solidFill>
                  <a:srgbClr val="ffffff"/>
                </a:solidFill>
                <a:latin typeface="Garamond"/>
              </a:rPr>
              <a:t>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+1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→ p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Garamond"/>
              </a:rPr>
              <a:t>i,i+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1≤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≤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is  accepted  by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 and only i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► </a:t>
            </a:r>
            <a:r>
              <a:rPr b="0" lang="el-GR" sz="3200" spc="-1" strike="noStrike">
                <a:solidFill>
                  <a:srgbClr val="ffffff"/>
                </a:solidFill>
                <a:latin typeface="Garamond"/>
              </a:rPr>
              <a:t>α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</a:t>
            </a:r>
            <a:r>
              <a:rPr b="0" lang="en-US" sz="3200" spc="-1" strike="noStrike" baseline="1000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={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|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ccepted b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* is reflexive and transitive closure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Example: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 = { </a:t>
            </a:r>
            <a:r>
              <a:rPr b="0" i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→ A, #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R = { AA → A, AB → B}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F = {A}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4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48320" y="2276280"/>
            <a:ext cx="40384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   A   A 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     a   a     #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L(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2492280"/>
            <a:ext cx="576360" cy="503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2205000"/>
            <a:ext cx="1152360" cy="28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192240" y="4976640"/>
            <a:ext cx="3024360" cy="3625920"/>
          </a:xfrm>
          <a:custGeom>
            <a:avLst/>
            <a:gdLst/>
            <a:ahLst/>
            <a:rect l="l" t="t" r="r" b="b"/>
            <a:pathLst>
              <a:path w="1905" h="2284">
                <a:moveTo>
                  <a:pt x="1051" y="204"/>
                </a:moveTo>
                <a:cubicBezTo>
                  <a:pt x="1428" y="102"/>
                  <a:pt x="1806" y="0"/>
                  <a:pt x="1640" y="340"/>
                </a:cubicBezTo>
                <a:cubicBezTo>
                  <a:pt x="1474" y="680"/>
                  <a:pt x="106" y="2208"/>
                  <a:pt x="53" y="2246"/>
                </a:cubicBezTo>
                <a:cubicBezTo>
                  <a:pt x="0" y="2284"/>
                  <a:pt x="1021" y="817"/>
                  <a:pt x="1323" y="567"/>
                </a:cubicBezTo>
                <a:cubicBezTo>
                  <a:pt x="1625" y="317"/>
                  <a:pt x="1905" y="809"/>
                  <a:pt x="1867" y="749"/>
                </a:cubicBezTo>
                <a:cubicBezTo>
                  <a:pt x="1829" y="689"/>
                  <a:pt x="1172" y="332"/>
                  <a:pt x="1096" y="20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6360" y="4941720"/>
            <a:ext cx="202392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4869000"/>
            <a:ext cx="2024280" cy="290520"/>
          </a:xfrm>
          <a:custGeom>
            <a:avLst/>
            <a:gdLst/>
            <a:ahLst/>
            <a:rect l="l" t="t" r="r" b="b"/>
            <a:pathLst>
              <a:path w="1275" h="183">
                <a:moveTo>
                  <a:pt x="0" y="20"/>
                </a:moveTo>
                <a:cubicBezTo>
                  <a:pt x="5" y="37"/>
                  <a:pt x="8" y="79"/>
                  <a:pt x="27" y="88"/>
                </a:cubicBezTo>
                <a:cubicBezTo>
                  <a:pt x="32" y="90"/>
                  <a:pt x="118" y="100"/>
                  <a:pt x="122" y="101"/>
                </a:cubicBezTo>
                <a:cubicBezTo>
                  <a:pt x="202" y="98"/>
                  <a:pt x="286" y="98"/>
                  <a:pt x="366" y="88"/>
                </a:cubicBezTo>
                <a:cubicBezTo>
                  <a:pt x="398" y="84"/>
                  <a:pt x="461" y="74"/>
                  <a:pt x="461" y="74"/>
                </a:cubicBezTo>
                <a:cubicBezTo>
                  <a:pt x="527" y="78"/>
                  <a:pt x="561" y="76"/>
                  <a:pt x="616" y="95"/>
                </a:cubicBezTo>
                <a:cubicBezTo>
                  <a:pt x="635" y="123"/>
                  <a:pt x="642" y="151"/>
                  <a:pt x="650" y="183"/>
                </a:cubicBezTo>
                <a:cubicBezTo>
                  <a:pt x="656" y="173"/>
                  <a:pt x="673" y="126"/>
                  <a:pt x="677" y="122"/>
                </a:cubicBezTo>
                <a:cubicBezTo>
                  <a:pt x="682" y="117"/>
                  <a:pt x="691" y="117"/>
                  <a:pt x="698" y="115"/>
                </a:cubicBezTo>
                <a:cubicBezTo>
                  <a:pt x="737" y="88"/>
                  <a:pt x="759" y="93"/>
                  <a:pt x="813" y="88"/>
                </a:cubicBezTo>
                <a:cubicBezTo>
                  <a:pt x="953" y="96"/>
                  <a:pt x="1124" y="126"/>
                  <a:pt x="1253" y="81"/>
                </a:cubicBezTo>
                <a:cubicBezTo>
                  <a:pt x="1275" y="38"/>
                  <a:pt x="1267" y="64"/>
                  <a:pt x="1267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280" y="3141720"/>
            <a:ext cx="215640" cy="2887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90764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3141720"/>
            <a:ext cx="215640" cy="28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716280"/>
            <a:ext cx="72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77128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16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68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372000" y="3068640"/>
            <a:ext cx="215640" cy="36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08436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59640" y="3068640"/>
            <a:ext cx="2887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3716280"/>
            <a:ext cx="7128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948000" y="3716280"/>
            <a:ext cx="71640" cy="217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3716280"/>
            <a:ext cx="142920" cy="2890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036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0872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5080" y="4292640"/>
            <a:ext cx="0" cy="360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18:03:59Z</dcterms:created>
  <dc:creator>Tomáš Masopust</dc:creator>
  <dc:description/>
  <dc:language>en-US</dc:language>
  <cp:lastModifiedBy>Tomáš Masopust</cp:lastModifiedBy>
  <dcterms:modified xsi:type="dcterms:W3CDTF">2005-10-21T13:25:46Z</dcterms:modified>
  <cp:revision>102</cp:revision>
  <dc:subject/>
  <dc:title>Systolic Automata</dc:title>
</cp:coreProperties>
</file>