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FF22-C0CD-406A-A744-42F7F59AD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7766-3FFD-417F-8586-40CE4A0D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9B71-7160-4C16-B537-A3BBFE82D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0C14-CBFE-4CBD-B726-7F25E79BA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3526-5137-4D33-8031-B1505875D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534F-6CF3-47ED-8621-D2627E67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8D87-64A4-4005-8211-D603F4F3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62AC-A79C-4F5D-94C7-970B0564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8395-5EC0-419E-8780-119817DD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BC1E-374B-4378-A407-08AE3AF9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E413-06DE-454F-86FF-05CB33D4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5F9F-49AD-443E-85FA-0F6FE98A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97A2-E334-4EF7-96B2-7F4835EE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F7A3-2BA5-49F9-BD5A-6299A1A4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797C-7CC6-49CD-9A8E-49AFF680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9426-DF78-42D6-AE63-FF80B13BD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9E64-4BDD-49F7-B5DF-48F9B2ABE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4FFE-46CF-41D6-BCC1-D6F2B89B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5EF9-3867-49AF-9FE3-187E7168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525C-83B7-4942-ADBC-AEF77B8B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6DB0-64E2-4888-93B9-59179251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6C0A-9BC0-4B99-BFAA-30D15AEE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2A3B-3104-458B-8EFE-F942A08F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39E7-DB6D-42E7-8B43-C02E200F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303B-930F-45BE-B454-9F2C043E7F2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0493-8CCB-49FC-8034-61E121080E5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7494840" cy="22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ertion and Deletion Operations in Formal Language Theory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35280" y="4941720"/>
                <a:ext cx="567216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sSub>
                          <m:e>
                            <m:r>
                              <m:t xml:space="preserve">←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90560" y="2565360"/>
                <a:ext cx="835344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←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2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abb},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cd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←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r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 = {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, a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, abb</a:t>
            </a:r>
            <a:r>
              <a:rPr b="0" lang="cs-CZ" sz="3200" spc="-1" strike="noStrike">
                <a:solidFill>
                  <a:srgbClr val="006666"/>
                </a:solidFill>
                <a:latin typeface="Verdana"/>
              </a:rPr>
              <a:t>cd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}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35280" y="1809720"/>
            <a:ext cx="6048360" cy="50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insertion</a:t>
            </a:r>
            <a:r>
              <a:rPr b="0" lang="cs-CZ" sz="3200" spc="-1" strike="noStrike">
                <a:solidFill>
                  <a:srgbClr val="006666"/>
                </a:solidFill>
                <a:latin typeface="Arial"/>
              </a:rPr>
              <a:t>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9850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Mapping epsil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408720" cy="4443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164360" y="3860640"/>
                <a:ext cx="154800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24" name=""/>
          <p:cNvGraphicFramePr/>
          <p:nvPr/>
        </p:nvGraphicFramePr>
        <p:xfrm>
          <a:off x="4356000" y="4724280"/>
          <a:ext cx="4540320" cy="2070360"/>
        </p:xfrm>
        <a:graphic>
          <a:graphicData uri="http://schemas.openxmlformats.org/drawingml/2006/table">
            <a:tbl>
              <a:tblPr/>
              <a:tblGrid>
                <a:gridCol w="2592360"/>
                <a:gridCol w="1947960"/>
              </a:tblGrid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te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rom 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7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, D, E,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5508720" y="2492280"/>
            <a:ext cx="194292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03280" y="5950080"/>
            <a:ext cx="194328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Automaton M</a:t>
            </a:r>
            <a:r>
              <a:rPr b="0" lang="cs-CZ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  <a:ea typeface="Arial"/>
              </a:rPr>
              <a:t>→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00000" y="2781360"/>
                <a:ext cx="7417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→</m:t>
                    </m:r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  <m:r>
                          <m:t xml:space="preserve">|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w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56000" y="3860640"/>
                <a:ext cx="396072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b, 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, aba}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→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aba, abba, ab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→ aba = {baba, abba, ab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 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a</a:t>
            </a:r>
            <a:r>
              <a:rPr b="0" lang="cs-CZ" sz="29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→ aba = 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 → aba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8317080" cy="489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443640" y="4941720"/>
          <a:ext cx="230364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deletion - </a:t>
            </a: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79640" y="1541520"/>
            <a:ext cx="6912000" cy="531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395280" y="3500280"/>
          <a:ext cx="2160360" cy="1462320"/>
        </p:xfrm>
        <a:graphic>
          <a:graphicData uri="http://schemas.openxmlformats.org/drawingml/2006/table">
            <a:tbl>
              <a:tblPr/>
              <a:tblGrid>
                <a:gridCol w="338040"/>
                <a:gridCol w="18223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3}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843280" y="5084640"/>
                <a:ext cx="374472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14280" y="3213000"/>
                <a:ext cx="8829720" cy="14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∃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uch that 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where 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∩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L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</m:d>
                                  </m:e>
                                </m:d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/>
                                </m:sSup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φ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Stringology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ew modern part of theoretical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als with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sertion and deletion operations on strings and langu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baba, aababa, abaaba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b, abba, aba, aab, 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b, abba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ab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aba, aa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baabaaba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{aba} = {ε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55640" y="1566720"/>
            <a:ext cx="7632720" cy="529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6724800" y="518796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8172360" cy="5167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443640" y="4941720"/>
          <a:ext cx="2303280" cy="1552680"/>
        </p:xfrm>
        <a:graphic>
          <a:graphicData uri="http://schemas.openxmlformats.org/drawingml/2006/table">
            <a:tbl>
              <a:tblPr/>
              <a:tblGrid>
                <a:gridCol w="360360"/>
                <a:gridCol w="194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silon (</a:t>
                      </a:r>
                      <a:r>
                        <a:rPr b="1" i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E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{C}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19320" y="1484280"/>
            <a:ext cx="5595840" cy="568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95640" y="1512720"/>
            <a:ext cx="6408720" cy="53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dele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32000" y="1496880"/>
            <a:ext cx="734364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cattered sequential dele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25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195640" y="5084640"/>
                <a:ext cx="44845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→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24000" y="2898720"/>
                <a:ext cx="882000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sSub>
                      <m:e>
                        <m:r>
                          <m:t xml:space="preserve">→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v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/>
                        </m:sSup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/>
                            </m:sSup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examp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1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→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| n ≥ 0}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195640" y="1541520"/>
            <a:ext cx="5400720" cy="531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cattered sequential deletion - automat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763640" y="1544760"/>
            <a:ext cx="5832720" cy="53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miliarize with new oper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udy their proper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sign algorithms constructing finite automata 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that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cept results of these operations if we have operands in the form of finite autom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U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 of the oper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computer sc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ord processing, searching in text, compilers,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ract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biology and medici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cription of mutations in genetics, simulation of reproducing cells, microorganisms ..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 insertion and deletion in formal language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U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iversity of Turku, Finland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99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la Kari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ower of Controlled Insertion and Deletion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NCS 812, Springer, Berlin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Alexander Meduna, Martin Vítek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ew language operations in formal language theor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Schedae Informaticae vol. 13, Kraków, Poland, 20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exander Meduna: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utomata and Languages: Theory and Application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pringer, London, 2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axime Crochemore, Wojciech Rytter: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Text algorithms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Oxford University Press, Oxford, 199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Arial"/>
              </a:rPr>
              <a:t>←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| u = 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56000" y="4292640"/>
                <a:ext cx="395928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v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←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2360" y="2657160"/>
            <a:ext cx="514980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trings u = cd, v = 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 ← v = {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d, c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, cd</a:t>
            </a:r>
            <a:r>
              <a:rPr b="0" lang="en-US" sz="2900" spc="-1" strike="noStrike">
                <a:solidFill>
                  <a:srgbClr val="006666"/>
                </a:solidFill>
                <a:latin typeface="Verdana"/>
              </a:rPr>
              <a:t>a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quentia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4595760" cy="5300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2843280" cy="14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31640" y="201780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perator: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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727200" y="3500280"/>
                <a:ext cx="841680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…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k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r>
                              <m:t xml:space="preserve">Σ</m:t>
                            </m:r>
                            <m:r>
                              <m:t xml:space="preserve">,</m:t>
                            </m:r>
                            <m:r>
                              <m:t xml:space="preserve">1</m:t>
                            </m:r>
                            <m:r>
                              <m:t xml:space="preserve">≤</m:t>
                            </m:r>
                            <m:r>
                              <m:t xml:space="preserve">j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i</m:t>
                            </m:r>
                            <m:r>
                              <m:t xml:space="preserve">≤</m:t>
                            </m:r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…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700360" y="5229360"/>
                <a:ext cx="345600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⇐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Low>
                      <m:e/>
                      <m:lim>
                        <m:r>
                          <m:t xml:space="preserve">u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lim>
                    </m:limLow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u</m:t>
                        </m:r>
                        <m:r>
                          <m:t xml:space="preserve">⇐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2449440"/>
            <a:ext cx="7313400" cy="34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cd},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, 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L</a:t>
            </a:r>
            <a:r>
              <a:rPr b="0" lang="cs-CZ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= {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a, 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c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cs-CZ" sz="2900" spc="-1" strike="noStrike">
                <a:solidFill>
                  <a:srgbClr val="006666"/>
                </a:solidFill>
                <a:latin typeface="Verdana"/>
              </a:rPr>
              <a:t>d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b}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arallel insertion - automat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76360" y="1460520"/>
            <a:ext cx="6480360" cy="5361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3T13:58:42Z</dcterms:created>
  <dc:creator>Ing. Martin Vítek</dc:creator>
  <dc:description/>
  <dc:language>en-US</dc:language>
  <cp:lastModifiedBy>Martin Vítek</cp:lastModifiedBy>
  <dcterms:modified xsi:type="dcterms:W3CDTF">2006-06-25T20:36:53Z</dcterms:modified>
  <cp:revision>26</cp:revision>
  <dc:subject/>
  <dc:title>New language operations in formal language theory</dc:title>
</cp:coreProperties>
</file>