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1EC-32C3-46C0-8A29-EA467FA2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55F-70B8-4DB8-B455-BE4E3BE3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2B2-D442-4BC3-B530-CFA6DF0C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201-833C-4EFA-8C56-BD235491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9F6C-7C6F-4E56-8CD1-41BBAE73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B986-232F-4285-AA1A-5EFD76E1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6FAA-1894-4504-80C0-2FBC17AE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C66-A4D1-4D69-89B7-439DC77E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9DCC-E623-46AF-B9B6-F5475415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3E02-BFC4-468F-B951-6E564B90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9F2D-088D-4CBC-8B32-7375A66B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7E3-F177-4157-B5B8-A389F482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B8A5-615F-4C23-B1EC-73260D8126E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838080"/>
            <a:ext cx="829944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2767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8769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4382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...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 mo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523880"/>
            <a:ext cx="7772400" cy="1219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752480"/>
            <a:ext cx="8153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we writ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73392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73392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371600"/>
            <a:ext cx="807732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inear 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context-free 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recursively enumer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anguage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PDAs regulated by regu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anguage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PDAs regulated by linear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920" y="2666520"/>
            <a:ext cx="54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final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831120"/>
            <a:ext cx="777240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cta Cybernetica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,Vol. 2000, No. 4, p. 653-66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Turn PDA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17524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218960" y="56386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95280" y="175212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579132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571500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682560" y="1445760"/>
            <a:ext cx="637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ength of pushdow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5257800"/>
            <a:ext cx="53316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876920"/>
            <a:ext cx="533520" cy="761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4114800"/>
            <a:ext cx="533520" cy="1523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3733920"/>
            <a:ext cx="533160" cy="1904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2971800"/>
            <a:ext cx="53352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2590920"/>
            <a:ext cx="53352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3352680"/>
            <a:ext cx="533160" cy="22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4114800"/>
            <a:ext cx="533520" cy="1523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4495680"/>
            <a:ext cx="5335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876920"/>
            <a:ext cx="533160" cy="761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5257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4876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495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4114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3733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3352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2971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2590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209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14479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ne-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52480" y="2362320"/>
            <a:ext cx="2210040" cy="25905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2438280"/>
            <a:ext cx="1828800" cy="2286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43900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4856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190400"/>
            <a:ext cx="77724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undamenta Informatica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,Vol. 2002, No. 16, p. 399-40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121824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enerat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3612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18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234440"/>
            <a:ext cx="8305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cs-CZ" sz="3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50840" y="5256720"/>
            <a:ext cx="2907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563796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210040"/>
            <a:ext cx="37339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218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121824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07680" y="540936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37232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ains a control string according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hes a final configuration after readin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Tomáš Masopust</cp:lastModifiedBy>
  <dcterms:modified xsi:type="dcterms:W3CDTF">2006-09-14T18:19:53Z</dcterms:modified>
  <cp:revision>115</cp:revision>
  <dc:subject/>
  <dc:title>Bez nadpisu</dc:title>
</cp:coreProperties>
</file>