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A9E3-85DB-43C0-A24E-5B2ED517D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6FBC-711A-4372-A837-EBEDE8E0A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D457-35E1-4D22-B9CC-0A7B4E0A6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5072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660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0448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5072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9660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B2BD-5316-4802-9F60-40EF9EA46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171440" y="177480"/>
            <a:ext cx="7793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3C2D-4957-4067-9CCC-73FCBA6E6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5072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9660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20448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15072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9660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16DB-E92E-4483-9EAA-6756D391B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8307-1FEC-4370-A12A-F7EC8E27D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E9CF-4697-4D43-B1C0-641923BA1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71440" y="177480"/>
            <a:ext cx="7793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E56C-24F5-480C-A59A-AF6E6FD15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6D02-5DC8-4CC1-89F9-8F943AA55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FAC8-2DCF-4EA7-9CD8-2D8C0EAF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9FB2-1104-485D-887D-55FBD026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38120" y="2239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0800" y="22392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61960" y="6462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32040" y="6462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7600" y="57312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82640" y="1159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63680" y="9064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188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2626920" y="6243480"/>
            <a:ext cx="392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28418-486E-4B16-B721-49B868FB17D8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100080" y="2438280"/>
            <a:ext cx="9009000" cy="1052640"/>
            <a:chOff x="10008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390600" y="2546280"/>
              <a:ext cx="711360" cy="474840"/>
              <a:chOff x="39060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39060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7364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514440" y="2968560"/>
              <a:ext cx="737640" cy="474840"/>
              <a:chOff x="51444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51444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8308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10008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3512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41616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2560" y="980640"/>
            <a:ext cx="772020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980640"/>
            <a:ext cx="769644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Tahoma"/>
              </a:rPr>
              <a:t>Scattered Context Grammars: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3600"/>
            </a:b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Generation of Languages in a Semi-Parallel Way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A) 1/2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Theorem 1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: 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Theorem 2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Sketch): 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1}.  Assume th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, {a}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is a SCG. In G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1.  Thus,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very 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.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|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Conside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,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 |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= 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&lt;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1, so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—a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adi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2F56-5C09-40AD-974F-A56CB2E1C0AE}" type="slidenum">
              <a:t>10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A) 2/2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1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3)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2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FCD7-7EE1-4E0D-A6E6-FAEBC73DEA4A}" type="slidenum">
              <a:t>11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duction of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 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B) reduction of the number of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non-context-free)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 reduction of (A) and (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BFEE-61C1-4D77-A729-043ABA2078DC}" type="slidenum">
              <a:t>12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1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Reduction of the Number of Context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ontext productio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a non-context-free 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with 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n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very language in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generated by a scattered context grammar with only these two context produc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0, 0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1, 1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5502-255A-41E2-BDDC-44F8068414BD}" type="slidenum">
              <a:t>13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2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. Left-Extended Queue Gramm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 -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ite set of productions of the form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  Every generation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has this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]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2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+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2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2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#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+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+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5ACB-F069-445C-8954-15B4BC28F310}" type="slidenum">
              <a:t>14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3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I. Sub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binary code of symbols fro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 binary code of states fro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II. Introduction of SC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F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ontex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ntex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0, 0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1, 1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}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V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F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used to gene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F1DC-6A37-4BBB-812F-153D83144D55}" type="slidenum">
              <a:t>15</a:t>
            </a:fld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4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.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ontex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used to verif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et 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each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0, 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using ($, 0, 0, $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1, 1, $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a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8E70-9F59-4B62-815D-1929CFACE797}" type="slidenum">
              <a:t>16</a:t>
            </a:fld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5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 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CG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two context productions characterize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What is the power of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CG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a single context produc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EA38-AA36-4C16-BF1F-15E477720198}" type="slidenum">
              <a:t>17</a:t>
            </a:fld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of SCG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duction of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 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 reduction of the number of context (non-context-free)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C) reduction of (A) and (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9293-BF62-4842-8763-99746506B7C5}" type="slidenum">
              <a:t>18</a:t>
            </a:fld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Simultaneous Reduction (A) &amp; (B)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imultaneous Reduction of the Number of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Nonterminals and the Number of Context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Next two theorems proved in cooperation with H. Fernau (Germany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very type-0 language is generated by a SCG with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even context productions a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ive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very type-0 language is generated by a SCG with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ix context productions a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ix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an we improve the above theorem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3EDB-DB0E-4334-814D-AE409D6302C5}" type="slidenum">
              <a:t>19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Based on these Paper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: Coincidental Extention of Scattered Context Languages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cta Informatic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9, 307-314,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 and Fernau, H.: On the Degree of Scattered Context-Sensitivity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eoretical Computer Scie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290, 2121-2124,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: Descriptional Complexity of Scattered Rewriting and Multirewriting: An Overview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ournal of Automata, Languages and Combinator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571-579, 20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 and Fernau, H.: A Simultaneous Reduction of Several Measures of Descriptional Complexity in Scattered Context Grammars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formation Processing Lett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214-219,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C321-8BEB-42A8-B0BE-D199CA768879}" type="slidenum">
              <a:t>2</a:t>
            </a:fld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New Operations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free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: each production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satisfi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 }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ctive: Increase of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to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y a simple language operation ove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5CE2-6136-4073-90E1-D69983C8FB2A}" type="slidenum">
              <a:t>20</a:t>
            </a:fld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1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incidental Exten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symbol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 a strin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y string of the for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he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, i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incidental #-exten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anguage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is a coincidental #-extension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string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represents a coincidental extension of a string i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 deletion of all #s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sults in L, symbolically written as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re are an infinitely many coincidental extensions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e writ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7873-8879-4CDB-BD50-15EFDD26C8D6}" type="slidenum">
              <a:t>21</a:t>
            </a:fld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2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ampl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5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,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o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a#b#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olds, bu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hol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5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is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incidental #-extension of any language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4EFB-1B8E-4288-A3F0-A62172030CFF}" type="slidenum">
              <a:t>22</a:t>
            </a:fld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3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, there exists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Sketch):  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re exists a SCG, G,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G). Construct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, P, S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#}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so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omomorphism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every nonterminal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every terminal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2863-0374-4565-9655-066100A505E0}" type="slidenum">
              <a:t>23</a:t>
            </a:fld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4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22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constructed by performing the next six step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$) 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I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very 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ad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$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, $)  to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II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, $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, $) 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V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$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add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 (#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#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#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#, §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9F84-37AF-4E3A-936A-B2A43ADD4262}" type="slidenum">
              <a:t>24</a:t>
            </a:fld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5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I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dd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#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#) to 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generates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in this wa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Y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$}. In addition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§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nd only if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G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1766-B771-4964-B717-0493FC244247}" type="slidenum">
              <a:t>25</a:t>
            </a:fld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6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reater detail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be expressed 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X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Then, there exists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BE04-ADD8-47DA-98B3-2CDBA519E7C0}" type="slidenum">
              <a:t>26</a:t>
            </a:fld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Use in Theoretical Computer Science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se in Theoretical Computer Sc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For every languag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there exists a homomorphis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a languag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uch that     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complex way, this result was proved on page 245 in [Greibach, S. A. and Hopcroft, J. E.: Scattered Context Grammars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. Comput. Syst. Sci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, 232-247 (1969)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3C84-CA06-4350-B9E7-91AC064570F6}" type="slidenum">
              <a:t>27</a:t>
            </a:fld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Future Investigation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ture Investig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k-limited coincidental exten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 a non-negative intege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symbol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 a strin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y string of the for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here 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, is a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imi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incidental #-exten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anguage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is a coincidental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imi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#-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ten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string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present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limited coincidental extension of a string i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 deletion of all #s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sults in L, symbolically written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amp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, 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42B8-CF45-454B-B766-8992CDAF8E17}" type="slidenum">
              <a:t>28</a:t>
            </a:fld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Very Important Open Problem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mportant 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there exist a non-negative intege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such that 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for so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o, I know how to prov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free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64E6-BFF8-4564-BBB3-8E78CA939B3F}" type="slidenum">
              <a:t>29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lassification of Parallel Grammar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. Totally parallel gramm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uch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ystems, rewrit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ymbols of the sentential form during a single derivation step (not discussed in this talk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I. Partially parallel gramm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writ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o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ymb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leaving the other symbols unrewritten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cattered Context Gramm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ork in a partially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allel way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se grammars ar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entral to this tal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037B-BF6C-4E00-A22E-846D7EF4D1D9}" type="slidenum">
              <a:t>3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Scattered Context Grammars (SCGs)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s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parallel gramma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of several context-free productions during a single derivation step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onger than CF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 Topics under Discu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tion of the grammatical siz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language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5B0B-8DC1-4033-A4A1-56E6EA36AE2A}" type="slidenum">
              <a:t>4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ncept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of context-free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ral nonterminals are rewritten in parallel while the rest of the sentential  form remains un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EA8C-2372-4822-B3CA-953DD7CD26C9}" type="slidenum">
              <a:t>5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Definition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attered context gramma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as in a CF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finite set of productions of the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 with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rect deri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...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...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nerated langua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06B9-83BE-43EA-9B7B-4AAA1D71BB09}" type="slidenum">
              <a:t>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Example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duc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A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ri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bA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AbbAc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bb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nerated Langua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30F8-6569-47EA-9905-3F442F9E3C03}" type="slidenum">
              <a:t>7</a:t>
            </a:fld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Language Familie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uage Famil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tex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itive Langu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cursivel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erable Langu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SCG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1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SCG  with no more tha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terminals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589D-BFB9-4D1D-9599-6DD637381F14}" type="slidenum">
              <a:t>8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Reduction of SCGs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duction of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A) 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 reduction of the number of context (non-context-free)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 simultaneous reduction of (A) and (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D426-C48F-44AD-A730-0B251543B1AB}" type="slidenum">
              <a:t>9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0T19:50:25Z</dcterms:created>
  <dc:creator>Jan Hrouzek</dc:creator>
  <dc:description/>
  <dc:language>en-US</dc:language>
  <cp:lastModifiedBy>CVT</cp:lastModifiedBy>
  <dcterms:modified xsi:type="dcterms:W3CDTF">2006-08-30T14:47:22Z</dcterms:modified>
  <cp:revision>27</cp:revision>
  <dc:subject/>
  <dc:title>Scattered Context Grammars:  Generation of Languages in a Semi-Parallel Wa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24619893</vt:r8>
  </property>
  <property fmtid="{D5CDD505-2E9C-101B-9397-08002B2CF9AE}" pid="3" name="_AuthorEmail">
    <vt:lpwstr>books@digibooks</vt:lpwstr>
  </property>
  <property fmtid="{D5CDD505-2E9C-101B-9397-08002B2CF9AE}" pid="4" name="_AuthorEmailDisplayName">
    <vt:lpwstr>books</vt:lpwstr>
  </property>
  <property fmtid="{D5CDD505-2E9C-101B-9397-08002B2CF9AE}" pid="5" name="_EmailSubject">
    <vt:lpwstr>Spain</vt:lpwstr>
  </property>
  <property fmtid="{D5CDD505-2E9C-101B-9397-08002B2CF9AE}" pid="6" name="_ReviewingToolsShownOnce">
    <vt:lpwstr/>
  </property>
</Properties>
</file>