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6BE8-6A96-4B92-88E8-7E4E4562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3352-07C7-4C2D-B416-1439D41C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63B-DD77-4DD4-AEC6-C4EB5BC7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C50-96D2-416A-80D9-B9FB6008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E50-B4F6-4E80-A4AF-9E04FC6E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5E3-30B8-42BC-8A02-0EA702A2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354-2A6B-4A09-8D2A-81FCE04C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1CF-42F1-4E74-8A4B-1E03F780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EFC-D988-4984-A173-39869B2A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31B-5C99-4D95-83D6-564C6464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E72-8385-453F-8956-35E48617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3A6-ED1A-4939-9A24-D938A893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9DC-3497-4E3C-8F1B-A8113E78423F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Regulated Gramma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5120" y="231948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297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3280" y="2854440"/>
            <a:ext cx="146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→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→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→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29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01080" y="2854440"/>
            <a:ext cx="49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9440" y="2854440"/>
            <a:ext cx="384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710520" y="3148200"/>
            <a:ext cx="574200" cy="1521720"/>
            <a:chOff x="3710520" y="3148200"/>
            <a:chExt cx="574200" cy="1521720"/>
          </a:xfrm>
        </p:grpSpPr>
        <p:sp>
          <p:nvSpPr>
            <p:cNvPr id="52" name=""/>
            <p:cNvSpPr/>
            <p:nvPr/>
          </p:nvSpPr>
          <p:spPr>
            <a:xfrm rot="5400000">
              <a:off x="3257280" y="3601080"/>
              <a:ext cx="148032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10520" y="3189240"/>
              <a:ext cx="573840" cy="148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64000" y="3607200"/>
            <a:ext cx="434520" cy="532800"/>
            <a:chOff x="3564000" y="3607200"/>
            <a:chExt cx="434520" cy="532800"/>
          </a:xfrm>
        </p:grpSpPr>
        <p:sp>
          <p:nvSpPr>
            <p:cNvPr id="55" name=""/>
            <p:cNvSpPr/>
            <p:nvPr/>
          </p:nvSpPr>
          <p:spPr>
            <a:xfrm rot="16200000">
              <a:off x="3521880" y="3663360"/>
              <a:ext cx="5187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800000">
              <a:off x="3564360" y="3607200"/>
              <a:ext cx="4341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924360" y="333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3765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427032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4773600"/>
            <a:ext cx="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4280" y="2852640"/>
            <a:ext cx="2494440" cy="39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abb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aabbbc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1200" y="5805360"/>
            <a:ext cx="41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08120" y="28544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19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ist: Only a selected subset of pro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n be applied during a 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34936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rix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language over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28464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200" y="3789360"/>
            <a:ext cx="2817360" cy="25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1, 23, 4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, A,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, b,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5200" y="38606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1640" y="3860640"/>
            <a:ext cx="209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86760" y="58514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rivation Step in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190520"/>
            <a:ext cx="7775280" cy="37753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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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there a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such tha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…p</a:t>
            </a:r>
            <a:r>
              <a:rPr b="0" i="1" lang="en-US" sz="32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479736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6520" y="5300640"/>
            <a:ext cx="7809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1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23]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45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3720" y="5877000"/>
            <a:ext cx="3977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ndom Context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andom context gramma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ai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from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denotes the set of all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ing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RC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41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400" y="2205000"/>
            <a:ext cx="255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2276640"/>
            <a:ext cx="777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292428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23241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108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108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1080" y="4365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33800" y="2708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221000"/>
            <a:ext cx="71280" cy="86544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5516640"/>
            <a:ext cx="71280" cy="8650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108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780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720" y="2205000"/>
            <a:ext cx="2708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AbbBc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419640" y="2469240"/>
            <a:ext cx="862920" cy="3576240"/>
            <a:chOff x="3419640" y="2469240"/>
            <a:chExt cx="862920" cy="3576240"/>
          </a:xfrm>
        </p:grpSpPr>
        <p:sp>
          <p:nvSpPr>
            <p:cNvPr id="111" name=""/>
            <p:cNvSpPr/>
            <p:nvPr/>
          </p:nvSpPr>
          <p:spPr>
            <a:xfrm rot="5400000">
              <a:off x="2111040" y="3777480"/>
              <a:ext cx="3479760" cy="86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0000" y="2565360"/>
              <a:ext cx="862560" cy="348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419640" y="3321000"/>
            <a:ext cx="720360" cy="1368360"/>
            <a:chOff x="3419640" y="3321000"/>
            <a:chExt cx="720360" cy="1368360"/>
          </a:xfrm>
        </p:grpSpPr>
        <p:sp>
          <p:nvSpPr>
            <p:cNvPr id="114" name=""/>
            <p:cNvSpPr/>
            <p:nvPr/>
          </p:nvSpPr>
          <p:spPr>
            <a:xfrm rot="5400000">
              <a:off x="3114000" y="3626280"/>
              <a:ext cx="1331280" cy="72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20000" y="3357720"/>
              <a:ext cx="720000" cy="13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5280" y="2708280"/>
            <a:ext cx="0" cy="433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50028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797360"/>
            <a:ext cx="0" cy="9367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2205000"/>
            <a:ext cx="53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03720" y="5950080"/>
            <a:ext cx="33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1905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grammed gramm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CF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inite relation on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357720"/>
            <a:ext cx="7775280" cy="204372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on step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5516640"/>
            <a:ext cx="7775280" cy="106884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ed languag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) for 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 of P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119700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e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9400" y="2421000"/>
            <a:ext cx="321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{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5440" y="2421000"/>
            <a:ext cx="9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17080" y="2421000"/>
            <a:ext cx="232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46240" y="5877000"/>
            <a:ext cx="34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887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93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98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1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652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09800" y="5877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76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6165720"/>
            <a:ext cx="2872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2360" y="6165720"/>
            <a:ext cx="2876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44920" y="6021720"/>
            <a:ext cx="2053800" cy="574200"/>
            <a:chOff x="844920" y="6021720"/>
            <a:chExt cx="2053800" cy="574200"/>
          </a:xfrm>
        </p:grpSpPr>
        <p:sp>
          <p:nvSpPr>
            <p:cNvPr id="151" name=""/>
            <p:cNvSpPr/>
            <p:nvPr/>
          </p:nvSpPr>
          <p:spPr>
            <a:xfrm rot="10800000">
              <a:off x="900720" y="6021720"/>
              <a:ext cx="1998000" cy="57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1557000" y="5309280"/>
              <a:ext cx="573840" cy="199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377000" y="5661000"/>
            <a:ext cx="989280" cy="577800"/>
            <a:chOff x="1377000" y="5661000"/>
            <a:chExt cx="989280" cy="577800"/>
          </a:xfrm>
        </p:grpSpPr>
        <p:sp>
          <p:nvSpPr>
            <p:cNvPr id="154" name=""/>
            <p:cNvSpPr/>
            <p:nvPr/>
          </p:nvSpPr>
          <p:spPr>
            <a:xfrm>
              <a:off x="1377000" y="5661000"/>
              <a:ext cx="9626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595880" y="5468040"/>
              <a:ext cx="577440" cy="9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835080" y="5860800"/>
            <a:ext cx="531360" cy="538560"/>
            <a:chOff x="3835080" y="5860800"/>
            <a:chExt cx="531360" cy="538560"/>
          </a:xfrm>
        </p:grpSpPr>
        <p:grpSp>
          <p:nvGrpSpPr>
            <p:cNvPr id="157" name=""/>
            <p:cNvGrpSpPr/>
            <p:nvPr/>
          </p:nvGrpSpPr>
          <p:grpSpPr>
            <a:xfrm>
              <a:off x="3835080" y="5860800"/>
              <a:ext cx="531000" cy="531360"/>
              <a:chOff x="3835080" y="5860800"/>
              <a:chExt cx="531000" cy="531360"/>
            </a:xfrm>
          </p:grpSpPr>
          <p:sp>
            <p:nvSpPr>
              <p:cNvPr id="158" name=""/>
              <p:cNvSpPr/>
              <p:nvPr/>
            </p:nvSpPr>
            <p:spPr>
              <a:xfrm rot="8106000">
                <a:off x="3918960" y="593712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706600">
                <a:off x="3911760" y="5944680"/>
                <a:ext cx="370080" cy="370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8906600">
              <a:off x="3919320" y="5952240"/>
              <a:ext cx="370080" cy="37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84360" y="2349360"/>
            <a:ext cx="77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enerative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43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1880" y="158580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1880" y="3673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83520" y="5689440"/>
            <a:ext cx="86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09600" y="3170160"/>
            <a:ext cx="35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55880" y="403380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,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45960" y="432108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G) = 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6240" y="5186520"/>
            <a:ext cx="15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635280" y="4581000"/>
            <a:ext cx="3241800" cy="863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132000" y="3789000"/>
            <a:ext cx="2232000" cy="576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71640" y="4868640"/>
            <a:ext cx="0" cy="3603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834920" y="4076280"/>
            <a:ext cx="649080" cy="2890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908000" y="5734080"/>
            <a:ext cx="576360" cy="216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58920" y="4221000"/>
            <a:ext cx="0" cy="144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258920" y="2133720"/>
            <a:ext cx="0" cy="1582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763280" y="1916280"/>
            <a:ext cx="5472360" cy="1225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380360" y="3644640"/>
            <a:ext cx="0" cy="4316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6000" y="573408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97600" y="537372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6237360"/>
            <a:ext cx="506160" cy="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97600" y="587700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 Lukáš</dc:creator>
  <dc:description/>
  <dc:language>en-US</dc:language>
  <cp:lastModifiedBy>Alexander Meduna</cp:lastModifiedBy>
  <dcterms:modified xsi:type="dcterms:W3CDTF">2005-10-23T18:07:19Z</dcterms:modified>
  <cp:revision>155</cp:revision>
  <dc:subject/>
  <dc:title>Part I. Alphabets, Strings, and Languages</dc:title>
</cp:coreProperties>
</file>