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357-92AB-4C58-A431-365863FD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8398-588D-487B-BF4D-7D25038A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2BE4-CFEE-4C58-811E-C38AC1BA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990-6945-415C-B264-6F9D0F87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C01-58CF-4092-B5FB-3585901E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5072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6600" y="12682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0448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5072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96600" y="3939480"/>
            <a:ext cx="28054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300-25C4-412A-88F0-482DE62C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927-A356-4260-B2D3-9FBBFC1A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D36-F235-4E5F-ABFF-5103F86F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71440" y="177480"/>
            <a:ext cx="7793280" cy="28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819-0C16-4B2E-A759-BBD61B11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A90A-AC6A-443A-B8C4-62C5D620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394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C19-D0A3-41B0-999D-9D28AE9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268280"/>
            <a:ext cx="42523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4480" y="3939480"/>
            <a:ext cx="871380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761-E384-484F-87E8-1F3A9BC3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223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0800" y="22392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61960" y="646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32040" y="646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7600" y="573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2640" y="1159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3680" y="906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1888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626920" y="6243480"/>
            <a:ext cx="392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E185-380D-43BE-B1CB-F725A3C7802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00080" y="2438280"/>
            <a:ext cx="9009000" cy="1052640"/>
            <a:chOff x="10008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390600" y="2546280"/>
              <a:ext cx="711360" cy="474840"/>
              <a:chOff x="39060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39060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7364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514440" y="2968560"/>
              <a:ext cx="737640" cy="474840"/>
              <a:chOff x="51444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51444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8308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0008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3512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1616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980640"/>
            <a:ext cx="77202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69644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99"/>
                </a:solidFill>
                <a:latin typeface="Tahoma"/>
              </a:rPr>
              <a:t>Scattered Context Grammars: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Generation of Languages in a Semi-Parallel Way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1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heorem 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}.  Assume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, {a}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s a SCG. In 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.  Thus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* 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.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Consid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 |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= 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lt;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—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di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D99-534A-479C-8761-67417C212020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A) 2/2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C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942-68D7-4418-9E10-21433E4F3930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B) reduction of the number of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E37-304E-469A-B32A-717F1CD5382C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1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uction of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 produc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a non-context-fre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language in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generated by a scattered context grammar with only these two context produ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0C2-85B2-483B-9B99-D13FCEDC8CBD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2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Left-Extended Queue Gramm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ite set of productions of the form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 Every genera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has thi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+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2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#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fr-FR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+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FE0-DDD4-46F0-BA75-1344F1945E0C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3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Sub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inary code of symbol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binary code of states fro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I. Introduction of SC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F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0, 0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used to gene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082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C8D-2585-4404-94B0-FF24EC3919E9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4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ex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used to ver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t 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0, 1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using ($, 0, 0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$, 1, 1, $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$, $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)2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A9A5-EFED-4AEA-B53F-A7499B468C1B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(B) 5/5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wo context productions characteriz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at is the power of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CG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a single context produc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AC5-132D-4CC9-B94A-EE3C23B07B0C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Reduction of SCG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C)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E92-06EB-4F12-AC2A-7BA97E1FEA6A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imultaneous Reduction (A) &amp; (B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multaneous Reduction of the Number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nterminals and the Number of Context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ext two theorems proved in cooperation with H. Fernau (Germany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ven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ve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very type-0 language is generated by a SCG with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context productions 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 more tha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x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n we improve the above theor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1AA7-B80B-4285-ABAA-818A61BF4670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ased on these Pape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Coincidental Extention of Scattered Context Language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ta Informat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9, 307-31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On the Degree of Scattered Context-Sensitivity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eoretical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90, 2121-2124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: Descriptional Complexity of Scattered Rewriting and Multirewriting: An Overview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ournal of Automata, Languages and Combinator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571-579, 20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una, A. and Fernau, H.: A Simultaneous Reduction of Several Measures of Descriptional Complexity in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Processing Lett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14-219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9091-3A02-4329-9075-36E422C921ED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New Operation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: each productio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satisfi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 }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ive: Increase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o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y a simple language operation ove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52A-89E4-45C6-9B65-B2454FDA4862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1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#-extens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represents a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re are an infinitely many coincidental extension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writ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F324-7818-4F79-93AB-1C0A7F2EA8D7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2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a#b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olds, bu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ho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5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i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incidental #-extension of any languag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05A-E225-452B-AEE3-B2315621B0FF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3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Sketch):  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re exists a SCG, G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. Construct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, P, 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#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so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momorphism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non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every termin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B37-91FC-4AA3-B957-810B002084C0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4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onstructed by performing the next six ste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 …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, $)  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$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$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dd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(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#, §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22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3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FB8-6D71-4138-BF22-05284120AB39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5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dd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§)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#) to 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enerates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n this wa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$}. In addition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§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d only if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G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D18-5775-4CF5-A448-3E600781CC0F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incidental Extension 6/6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reater detai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§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expressed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§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-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Then, there exists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th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4E9-22D2-4F30-900A-409B4AAFAAFA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Use in Theoretical Computer Scienc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n Theoretical 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oll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 every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here exists a homomorphis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languag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complex way, this result was proved on page 245 in [Greibach, S. A. and Hopcroft, J. E.: Scattered Context Grammar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J. Comput. Syst. Sci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, 232-247 (1969)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13F-84BC-45C7-B920-3D5F7E29E67D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Future Investiga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ture Investi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k-limited coincidental ex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 a non-negative intege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symbol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 a strin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y string of the for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is a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incidental #-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anguage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s a coincidental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-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tring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imited coincidental extension of a string i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deletion of all #s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in L, symbolically writte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5E1-E7ED-4355-927C-A3C8C155B62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Very Important Open Problem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rtant Open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f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re exist a non-negative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such that 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#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som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free SCG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o, I know how to prov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fre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DC8-65AB-4A2E-81B5-98E7C54AEE8A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assification of Parallel Grammar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Tot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ch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stems,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 of the sentential form during a single derivation step (not discussed in this tal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I. Partially parallel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leaving the other symbols unrewritte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attered Context Gramm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rk in a partiall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lle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grammars a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entral to this tal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70D9-71E2-449D-9897-AFE2182BB9E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cattered Context Grammars (SCGs)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parallel gramm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everal context-free productions during a single derivation ste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er than CF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Topics under Discu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of the grammatical si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language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569-F36B-497B-A98B-43DE15ECA199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oncep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of context-free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nonterminals are rewritten in parallel while the rest of the sentential  form remains un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E87-D838-40F3-AE35-F0B8C47DDEB3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Definition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attered context gramm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in a CF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finite set of productions of the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with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..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5DBC-9D25-4A34-B7DB-1AB2CAE8FF44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A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i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A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AbbAc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aabb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nerated 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D9F-4151-4C6C-86BA-3CEB29E83377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Language Families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tex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tiv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ursive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erable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S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=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SCG  with no more th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terminals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0672-7F8D-405F-81FB-1A5A8CECD8CD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17748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duction of SCGs</a:t>
            </a:r>
            <a:endParaRPr b="1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448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duction of SC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A) reduction of the number of non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 reduction of the number of context (non-context-free) pro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 simultaneous reduction of (A) and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ED47-3BE4-4CED-AABB-3CD1A6B7CE0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0:25Z</dcterms:created>
  <dc:creator>Jan Hrouzek</dc:creator>
  <dc:description/>
  <dc:language>en-US</dc:language>
  <cp:lastModifiedBy>CVT</cp:lastModifiedBy>
  <dcterms:modified xsi:type="dcterms:W3CDTF">2006-08-30T14:47:22Z</dcterms:modified>
  <cp:revision>27</cp:revision>
  <dc:subject/>
  <dc:title>Scattered Context Grammars:  Generation of Languages in a Semi-Parallel Wa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4619893</vt:r8>
  </property>
  <property fmtid="{D5CDD505-2E9C-101B-9397-08002B2CF9AE}" pid="3" name="_AuthorEmail">
    <vt:lpwstr>books@digibooks</vt:lpwstr>
  </property>
  <property fmtid="{D5CDD505-2E9C-101B-9397-08002B2CF9AE}" pid="4" name="_AuthorEmailDisplayName">
    <vt:lpwstr>books</vt:lpwstr>
  </property>
  <property fmtid="{D5CDD505-2E9C-101B-9397-08002B2CF9AE}" pid="5" name="_EmailSubject">
    <vt:lpwstr>Spain</vt:lpwstr>
  </property>
  <property fmtid="{D5CDD505-2E9C-101B-9397-08002B2CF9AE}" pid="6" name="_ReviewingToolsShownOnce">
    <vt:lpwstr/>
  </property>
</Properties>
</file>