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65C3-8670-4613-A65B-265755C01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BC9F-8720-48C5-A040-CB015B12D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BC4C-6CB5-46E8-8468-84FD57366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BF40-DF2A-4D3D-B2ED-5D0AB62EE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C4D00-EBEE-48C3-B074-E68C6049F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68C26-2746-45F1-BD64-64D47DF03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40DE7-A4B5-47CE-A071-E9D827138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A32C0-12DA-44E0-82E3-A86041ECB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C3A07-394B-4609-B049-970848E88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5F490-9E3F-4493-80C1-704B09CE1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7414C-B1B0-4D7C-9496-1CEA490E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143A-20B6-482E-A0A5-BA8404BA8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7DD39-29E5-428E-A3AC-734B442D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FED9A-4519-427D-8D3A-4014A204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BA00E-F17B-4171-BF7C-D21AD31A4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C189A-8DB7-4C2B-BACE-6202F3FAB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A0D2D-7176-4725-96E4-00F43A39A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CAEC-FCC5-477D-9D18-2A9D2F394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E577-0FC1-4170-8FB1-6DF0B00A4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3D2A-11E5-46A7-855C-183850747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59EA-CD6F-40F3-AD2F-B374F4D9A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72B6-F023-4585-82D5-6C1937A4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BB6A-649F-4C4D-B226-5458D4A4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4AA8-EA58-4ACA-B6DF-EB8632D4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D1921-D6F4-4DFC-8943-F691D2CF2E9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3E4F2-4426-4851-BCFF-56BCE0BBD47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1773000"/>
            <a:ext cx="8748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G</a:t>
            </a:r>
            <a:r>
              <a:rPr b="1" lang="cs-CZ" sz="5400" spc="-1" strike="noStrike">
                <a:solidFill>
                  <a:srgbClr val="333399"/>
                </a:solidFill>
                <a:latin typeface="Tahoma"/>
              </a:rPr>
              <a:t>rammar </a:t>
            </a: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S</a:t>
            </a:r>
            <a:r>
              <a:rPr b="1" lang="cs-CZ" sz="5400" spc="-1" strike="noStrike">
                <a:solidFill>
                  <a:srgbClr val="333399"/>
                </a:solidFill>
                <a:latin typeface="Tahoma"/>
              </a:rPr>
              <a:t>ystem</a:t>
            </a: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entralized PC 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an produce query symb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Γ=(N,K,T,(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,… ,(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), be a PC grammar syst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Γ is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entraliz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i = 2, …, n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→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n alph({A,x}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K =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Returning PC 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0920" y="2017800"/>
            <a:ext cx="752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Returning PC G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after communicating each component that has sent its string to another component returns to its axi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Non-Returning PC G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-----||------ continues to process the current string that is, remove (1) in the basic defini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enotation of PC GS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Language Famil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 – non-returning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– centralized PC 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, LIN, CF – specif. of the typ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 produ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: CP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, NP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, NCP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Hierarch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4411800" y="1882800"/>
            <a:ext cx="4539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33760" y="2565360"/>
            <a:ext cx="443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356000" y="3645000"/>
            <a:ext cx="5986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22600" y="4365720"/>
            <a:ext cx="4543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389480" y="5013360"/>
            <a:ext cx="4539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34040" y="5734080"/>
            <a:ext cx="587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627280" y="2862360"/>
            <a:ext cx="72072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08720" y="2862360"/>
            <a:ext cx="93636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3225960"/>
            <a:ext cx="8650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732720" y="3225960"/>
            <a:ext cx="115236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627280" y="4068720"/>
            <a:ext cx="8650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08720" y="4068720"/>
            <a:ext cx="10792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22560" y="4863960"/>
            <a:ext cx="10080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24360" y="4805280"/>
            <a:ext cx="122400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788000" y="5310000"/>
            <a:ext cx="151272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2626920" y="5310000"/>
            <a:ext cx="170676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572000" y="5310000"/>
            <a:ext cx="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572000" y="4662000"/>
            <a:ext cx="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572000" y="3941640"/>
            <a:ext cx="0" cy="42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572000" y="2862360"/>
            <a:ext cx="0" cy="78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572000" y="2179440"/>
            <a:ext cx="0" cy="38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268000" y="3429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33640" y="2179800"/>
            <a:ext cx="1400400" cy="68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348000" y="307800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3077640"/>
            <a:ext cx="720720" cy="14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933640" y="3225600"/>
            <a:ext cx="0" cy="84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130560" y="2862000"/>
            <a:ext cx="1203480" cy="12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3347640" y="3159000"/>
            <a:ext cx="986040" cy="4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940360" y="3225600"/>
            <a:ext cx="0" cy="84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4787640" y="2862000"/>
            <a:ext cx="936360" cy="12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88000" y="4365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492000" y="4365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1979280" y="3645000"/>
            <a:ext cx="2376360" cy="143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1763640" y="3644640"/>
            <a:ext cx="504720" cy="113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84360" y="4365720"/>
            <a:ext cx="432000" cy="49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771640" y="3941640"/>
            <a:ext cx="1662120" cy="9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6445080" y="3644640"/>
            <a:ext cx="790920" cy="113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5940000" y="4365360"/>
            <a:ext cx="360360" cy="41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6444720" y="3077640"/>
            <a:ext cx="790920" cy="14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C GS – Example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1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5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K, {a,b}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xx | x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a,b}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es nothing for a number of steps while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enerates a string, then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roduces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Hence the string produced by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sent to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duplicated (it must be a terminal, otherwise the system is block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centralized system with REG rules – CP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C GS – Example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2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K, {a,b}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n,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 returning and non-returning mode gene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 the same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centralized system with LIN rules – CP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C GS – Example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3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K, {a}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m+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m+1)(m+2)/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example shows the important differenc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ween the returning and the non-return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s of deriv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CD Grammar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A cooperating distributed grammar syst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degree n, n≥1, is a construct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=(N,K,T,S,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…,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- a finite set of productions, called components of Γ.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i-th grammar -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(N,T,S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   z: y does not directly derive 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90560" y="1467000"/>
            <a:ext cx="171360" cy="161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851120" y="2771640"/>
            <a:ext cx="318960" cy="2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derivation m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ach i = 1, …, 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erminating deriv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y the i-th component 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f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in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(N,T,S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y   z f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y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 is not requi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649600" y="4375080"/>
            <a:ext cx="318960" cy="2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83628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Based on this pa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ssow, J., Paun, G., Rozenberg, G.: Grammar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: slides in course TID –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n Theoretical Computer 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derivation m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K-step derivation in 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=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iff 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t most k-step derivation in 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≤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iff 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or some 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≤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t least k-step derivation in 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≥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iff 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or some 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≥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D={*,t}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{≤k, =k, ≥k: k=1,2,…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u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) = {v: 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v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here  j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{1,…,n}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 f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, u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= {w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: there are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ch that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v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ahoma"/>
              </a:rPr>
              <a:t>i-1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f)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 = 1,…,m, 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{1,…,n},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S,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w, for some m ≥ 1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):  w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S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v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v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…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v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m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 = w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, 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{1,…,n}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enotation of DC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Language Famil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– derivation m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  - nothing: no ε-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ε(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  <a:ea typeface="Tahoma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ε-productions a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 - n: degree at most n≥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: the number of componen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s not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=) – the union of all families 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=k) 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or k=1,2,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) – the union of all families 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≥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)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or k=1,2,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 GS –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923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,A,A’,B,B’}, {a,b,c}, S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, A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B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’b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’, 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n,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=1, ≥1, *, t}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≤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k ≥ 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=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≥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 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=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≥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Hybrid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It would be more realistic to consider systems consisting of components working in different mo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Hybrid CD GS is a CD GS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=(N,K,T,S,(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,…,(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)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her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,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,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the derivation mode in the i-th component of 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Grammar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arallel computing GS (P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Cooperating distributed GS (C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ybri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83628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PC Grammar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50560" y="2017800"/>
            <a:ext cx="7381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A parallel communicating grammar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 degree n, n≥1, is a construc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Γ=(N,K,T,(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,… ,(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={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… ,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,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e query symbol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a finite set of productions of the form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→x, 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, 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(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)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, K, T are parwaise disj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deriv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0920" y="2017440"/>
            <a:ext cx="7804080" cy="30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kinds of derivation step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g-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48504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in 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c-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for  i = 1, …,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i = 1, …, 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 alph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K ≠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ach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ph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K =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the string resulting from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c-ste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th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i = 1, …,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)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10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* - as usu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(Γ) = {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: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        (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…,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*(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α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…,α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,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(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)*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2≤i≤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2T08:04:53Z</dcterms:created>
  <dc:creator>seim</dc:creator>
  <dc:description/>
  <dc:language>en-US</dc:language>
  <cp:lastModifiedBy>CVT</cp:lastModifiedBy>
  <dcterms:modified xsi:type="dcterms:W3CDTF">2006-08-30T14:24:34Z</dcterms:modified>
  <cp:revision>196</cp:revision>
  <dc:subject/>
  <dc:title>Parallel communicating (PC) grammar systems</dc:title>
</cp:coreProperties>
</file>