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99300" cy="10234613"/>
</p:presentation>
</file>

<file path=ppt/commentAuthors.xml><?xml version="1.0" encoding="utf-8"?>
<p:cmAuthorLst xmlns:p="http://schemas.openxmlformats.org/presentationml/2006/main">
  <p:cmAuthor id="0" name="CVT" initials="C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<Relationship Id="rId27" Type="http://schemas.openxmlformats.org/officeDocument/2006/relationships/commentAuthors" Target="commentAuthors.xml"/>
</Relationships>
</file>

<file path=ppt/comments/comment21.xml><?xml version="1.0" encoding="utf-8"?>
<p:cmLst xmlns:p="http://schemas.openxmlformats.org/presentationml/2006/main">
  <p:cm authorId="0" dt="2005-11-03T14:39:31.656000000" idx="1">
    <p:pos x="10" y="10"/>
    <p:text>případně další příklad L(G) = {a^2^n b a^2^m : n, m &gt;= 0} pomocí pravidel E0L systému:
A -&gt; A, A-&gt; a, a -&gt; aa, b -&gt; b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F36-A6B4-409D-B29A-64B9C4B3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9B7-4CD9-47F9-8276-377F9C35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A59-8811-4E88-8C8A-24FA40FD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E8D-DEBB-4711-AEB7-24B81D2A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015-17D1-4110-80A5-A4D89569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DB9-A40B-41E3-8DF4-F83A4FAE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FD5-913F-40EB-AA7D-CAEA601A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E71-35C9-4507-B48C-81F7F669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EFC-66E2-4E1C-BA9B-C7F83159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D1B9-F5D2-47B7-9E3B-04B6160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325-C2FE-4A04-AE31-57F7D0BE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C5C-F4EC-40AA-9F1A-B6D4B69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79A8-0FB1-4D04-AFA5-A0B848DD9E5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Advanced 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ecture</a:t>
            </a:r>
            <a:r>
              <a:rPr b="1" lang="cs-CZ" sz="6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:</a:t>
            </a:r>
            <a:br>
              <a:rPr sz="6000"/>
            </a:b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L-system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3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4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5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6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7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8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3]8[1]7654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22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9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54]8[224]8[23]8[1]765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0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92436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2256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4036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356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8800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03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219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3564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5164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708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8000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5128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95640" y="285444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263844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14036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1164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286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3070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2000" y="371808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5080" y="350208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995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06728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40360" y="4797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212360" y="5013360"/>
            <a:ext cx="287640" cy="216000"/>
          </a:xfrm>
          <a:prstGeom prst="parallelogram">
            <a:avLst>
              <a:gd name="adj" fmla="val 332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356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427640" y="4365720"/>
            <a:ext cx="287280" cy="215640"/>
          </a:xfrm>
          <a:prstGeom prst="parallelogram">
            <a:avLst>
              <a:gd name="adj" fmla="val 33306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500720" y="458136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788000" y="4149720"/>
            <a:ext cx="287280" cy="216000"/>
          </a:xfrm>
          <a:prstGeom prst="parallelogram">
            <a:avLst>
              <a:gd name="adj" fmla="val 332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14479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8[227654]8[22654]8[2254]8[224]8[23]8[1]76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685800" y="1752480"/>
            <a:ext cx="7772400" cy="2971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00" y="167652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ot 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n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ersec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lementation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ncatenation of 0L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sitive closure (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Operations over 0L langu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roperties different from CF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5029200"/>
            <a:ext cx="7772400" cy="990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85800" y="4952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losed under opera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eversal of 0L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981080"/>
            <a:ext cx="7772400" cy="8384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232080"/>
            <a:ext cx="77724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Classical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Only a certain 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part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is rewritten at one mo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200" spc="-1" strike="noStrike">
                <a:solidFill>
                  <a:srgbClr val="000000"/>
                </a:solidFill>
                <a:latin typeface="Times New Roman"/>
              </a:rPr>
              <a:t>Lindenmayer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PH" sz="3200" spc="-1" strike="noStrike">
                <a:solidFill>
                  <a:srgbClr val="000000"/>
                </a:solidFill>
                <a:latin typeface="Times New Roman"/>
              </a:rPr>
              <a:t>All letters</a:t>
            </a:r>
            <a:r>
              <a:rPr b="0" lang="en-PH" sz="3200" spc="-1" strike="noStrike">
                <a:solidFill>
                  <a:srgbClr val="000000"/>
                </a:solidFill>
                <a:latin typeface="Times New Roman"/>
              </a:rPr>
              <a:t> of a word must be rewritten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9718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295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strid Lindenmayer, 19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spiration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the growth process in living org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1752480"/>
            <a:ext cx="7772400" cy="18288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" y="1676520"/>
            <a:ext cx="78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Extended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a quadr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, 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have the same meaning as in 0L syste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set of 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57340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in E0L system then it is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7240" y="5657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improved variant of 0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87240" y="4362480"/>
            <a:ext cx="7772400" cy="10666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240" y="42861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generated by E0L syste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 = {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4360" y="357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– by analogy with 0L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4360" y="4149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44067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2349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9933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{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}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0L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ystem –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1430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E0L are more powerful than 0L;</a:t>
            </a:r>
            <a:br>
              <a:rPr sz="3200"/>
            </a:b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starting string has not to be inluded in L(G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295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{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i="1" lang="cs-CZ" sz="3200" spc="-1" strike="noStrike">
                <a:solidFill>
                  <a:srgbClr val="339933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bb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36450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1" i="1" lang="cs-CZ" sz="32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cs-CZ" sz="3200" spc="-1" strike="noStrike" baseline="2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cc33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0320" y="234936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4572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L(E0L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0L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79640" y="1285920"/>
            <a:ext cx="5616720" cy="5572080"/>
          </a:xfrm>
          <a:prstGeom prst="ellipse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9641000">
            <a:off x="6075000" y="5204520"/>
            <a:ext cx="10083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1430280"/>
            <a:ext cx="4248000" cy="4275360"/>
          </a:xfrm>
          <a:prstGeom prst="ellipse">
            <a:avLst/>
          </a:prstGeom>
          <a:solidFill>
            <a:srgbClr val="00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87640" y="1717560"/>
            <a:ext cx="2952720" cy="2952720"/>
          </a:xfrm>
          <a:prstGeom prst="ellipse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1935000"/>
            <a:ext cx="2160720" cy="1438560"/>
          </a:xfrm>
          <a:prstGeom prst="ellipse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03640" y="2538360"/>
            <a:ext cx="1582560" cy="4032360"/>
          </a:xfrm>
          <a:prstGeom prst="ellipse">
            <a:avLst/>
          </a:prstGeom>
          <a:solidFill>
            <a:srgbClr val="cc3300">
              <a:alpha val="6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9092000">
            <a:off x="4632840" y="2369520"/>
            <a:ext cx="72072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9264200">
            <a:off x="4849560" y="3234600"/>
            <a:ext cx="92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9589400">
            <a:off x="5643000" y="4025160"/>
            <a:ext cx="10080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34920" y="2943360"/>
            <a:ext cx="208908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763640" y="3762360"/>
            <a:ext cx="1944720" cy="71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771280" y="5057640"/>
            <a:ext cx="1295640" cy="14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484360" y="6254640"/>
            <a:ext cx="1440000" cy="1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5219640" y="2249280"/>
            <a:ext cx="2089080" cy="64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5508720" y="3401640"/>
            <a:ext cx="1152360" cy="406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2000" y="4653000"/>
            <a:ext cx="1224000" cy="333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51640" y="6066000"/>
            <a:ext cx="1441440" cy="215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71640" y="2825640"/>
            <a:ext cx="863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4360" y="3762360"/>
            <a:ext cx="10810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a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4000" y="4986360"/>
            <a:ext cx="2482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i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6066000"/>
            <a:ext cx="2158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24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093080" y="5994360"/>
            <a:ext cx="1584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6000" y="4365720"/>
            <a:ext cx="17222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59640" y="3041640"/>
            <a:ext cx="23032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bbb}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8720" y="2033640"/>
            <a:ext cx="12542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64000" y="4194000"/>
            <a:ext cx="863640" cy="581400"/>
          </a:xfrm>
          <a:prstGeom prst="rect">
            <a:avLst/>
          </a:prstGeom>
          <a:solidFill>
            <a:srgbClr val="cc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962520" y="2438280"/>
            <a:ext cx="137160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T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 systems &amp; Chomsky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3505320"/>
            <a:ext cx="9907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E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4724280"/>
            <a:ext cx="7621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0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4724280"/>
            <a:ext cx="83808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38480" y="1371600"/>
            <a:ext cx="121932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91120" y="6019920"/>
            <a:ext cx="761760" cy="581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1981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572000" y="3048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9528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3581280" y="5333760"/>
            <a:ext cx="60984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5105520" y="4114440"/>
            <a:ext cx="30456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0320" y="2895480"/>
            <a:ext cx="7774200" cy="24685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03240" y="284328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0L syst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tripl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lphabe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a finite set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of the form: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where 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GB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tarting str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axio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0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133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no nonterminals, p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l derivation 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" y="990720"/>
            <a:ext cx="4114800" cy="914400"/>
            <a:chOff x="685800" y="990720"/>
            <a:chExt cx="4114800" cy="914400"/>
          </a:xfrm>
        </p:grpSpPr>
        <p:sp>
          <p:nvSpPr>
            <p:cNvPr id="58" name=""/>
            <p:cNvSpPr/>
            <p:nvPr/>
          </p:nvSpPr>
          <p:spPr>
            <a:xfrm>
              <a:off x="685800" y="1371600"/>
              <a:ext cx="396252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5800" y="1371600"/>
              <a:ext cx="411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Times New Roman"/>
                </a:rPr>
                <a:t>Zero-sided left-side hand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981080" y="990720"/>
              <a:ext cx="106704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657600" y="990720"/>
            <a:ext cx="4800600" cy="914400"/>
            <a:chOff x="3657600" y="990720"/>
            <a:chExt cx="4800600" cy="914400"/>
          </a:xfrm>
        </p:grpSpPr>
        <p:sp>
          <p:nvSpPr>
            <p:cNvPr id="62" name=""/>
            <p:cNvSpPr/>
            <p:nvPr/>
          </p:nvSpPr>
          <p:spPr>
            <a:xfrm>
              <a:off x="4800600" y="1371600"/>
              <a:ext cx="3657600" cy="53352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29200" y="13716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000000"/>
                  </a:solidFill>
                  <a:latin typeface="Times New Roman"/>
                </a:rPr>
                <a:t>Lindenmayer syste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657600" y="990720"/>
              <a:ext cx="175248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1784520"/>
            <a:ext cx="7772400" cy="2558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752480"/>
            <a:ext cx="769608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irect 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1, if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1,…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: reflexive and transitive closure of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41972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parallel rewriting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410080"/>
            <a:ext cx="784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  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2   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… 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60000" y="4952880"/>
            <a:ext cx="2258280" cy="533520"/>
            <a:chOff x="3960000" y="4952880"/>
            <a:chExt cx="2258280" cy="533520"/>
          </a:xfrm>
        </p:grpSpPr>
        <p:sp>
          <p:nvSpPr>
            <p:cNvPr id="73" name=""/>
            <p:cNvSpPr/>
            <p:nvPr/>
          </p:nvSpPr>
          <p:spPr>
            <a:xfrm rot="5400000">
              <a:off x="398376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4517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5660640" y="49287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09480" y="6019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d we write: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784520"/>
            <a:ext cx="7772400" cy="65376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524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anguage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2743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{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}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90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5867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 baseline="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cs-CZ" sz="3200" spc="-1" strike="noStrike" baseline="4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143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all reachable sentential forms in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1659960" y="36716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312920" y="4318560"/>
            <a:ext cx="1336320" cy="758880"/>
            <a:chOff x="1312920" y="4318560"/>
            <a:chExt cx="1336320" cy="758880"/>
          </a:xfrm>
        </p:grpSpPr>
        <p:sp>
          <p:nvSpPr>
            <p:cNvPr id="87" name=""/>
            <p:cNvSpPr/>
            <p:nvPr/>
          </p:nvSpPr>
          <p:spPr>
            <a:xfrm rot="3814800">
              <a:off x="2003400" y="43956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6690600">
              <a:off x="1414440" y="44316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657360" y="4982760"/>
            <a:ext cx="2539800" cy="853560"/>
            <a:chOff x="657360" y="4982760"/>
            <a:chExt cx="2539800" cy="853560"/>
          </a:xfrm>
        </p:grpSpPr>
        <p:sp>
          <p:nvSpPr>
            <p:cNvPr id="90" name=""/>
            <p:cNvSpPr/>
            <p:nvPr/>
          </p:nvSpPr>
          <p:spPr>
            <a:xfrm rot="7665000">
              <a:off x="783360" y="515664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6690600">
              <a:off x="1393920" y="515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3814800">
              <a:off x="2003400" y="508140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3083400">
              <a:off x="2536920" y="508176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3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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04920" y="5410080"/>
            <a:ext cx="5029200" cy="581400"/>
            <a:chOff x="304920" y="5410080"/>
            <a:chExt cx="5029200" cy="581400"/>
          </a:xfrm>
        </p:grpSpPr>
        <p:sp>
          <p:nvSpPr>
            <p:cNvPr id="95" name=""/>
            <p:cNvSpPr/>
            <p:nvPr/>
          </p:nvSpPr>
          <p:spPr>
            <a:xfrm>
              <a:off x="304920" y="541008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  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5320" y="54100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3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143000" y="4724280"/>
            <a:ext cx="4191120" cy="581400"/>
            <a:chOff x="1143000" y="4724280"/>
            <a:chExt cx="4191120" cy="581400"/>
          </a:xfrm>
        </p:grpSpPr>
        <p:sp>
          <p:nvSpPr>
            <p:cNvPr id="98" name=""/>
            <p:cNvSpPr/>
            <p:nvPr/>
          </p:nvSpPr>
          <p:spPr>
            <a:xfrm>
              <a:off x="1143000" y="472428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  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243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2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523880" y="4038480"/>
            <a:ext cx="3733920" cy="581400"/>
            <a:chOff x="1523880" y="4038480"/>
            <a:chExt cx="3733920" cy="581400"/>
          </a:xfrm>
        </p:grpSpPr>
        <p:sp>
          <p:nvSpPr>
            <p:cNvPr id="101" name=""/>
            <p:cNvSpPr/>
            <p:nvPr/>
          </p:nvSpPr>
          <p:spPr>
            <a:xfrm>
              <a:off x="1523880" y="403848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40384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1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676520" y="3276720"/>
            <a:ext cx="3581280" cy="581400"/>
            <a:chOff x="1676520" y="3276720"/>
            <a:chExt cx="3581280" cy="581400"/>
          </a:xfrm>
        </p:grpSpPr>
        <p:sp>
          <p:nvSpPr>
            <p:cNvPr id="104" name=""/>
            <p:cNvSpPr/>
            <p:nvPr/>
          </p:nvSpPr>
          <p:spPr>
            <a:xfrm>
              <a:off x="1676520" y="32767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3276720"/>
              <a:ext cx="3200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       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r>
                <a:rPr b="0" lang="cs-CZ" sz="3200" spc="-1" strike="noStrike" baseline="2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cs-CZ" sz="3200" spc="-1" strike="noStrike" baseline="4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cs-CZ" sz="32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i="1" lang="cs-CZ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10080" y="2666880"/>
            <a:ext cx="3124440" cy="3111480"/>
            <a:chOff x="5410080" y="2666880"/>
            <a:chExt cx="3124440" cy="3111480"/>
          </a:xfrm>
        </p:grpSpPr>
        <p:sp>
          <p:nvSpPr>
            <p:cNvPr id="107" name=""/>
            <p:cNvSpPr/>
            <p:nvPr/>
          </p:nvSpPr>
          <p:spPr>
            <a:xfrm>
              <a:off x="5410080" y="2666880"/>
              <a:ext cx="3124440" cy="2438640"/>
            </a:xfrm>
            <a:prstGeom prst="ellipse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010280" y="5257800"/>
              <a:ext cx="1503360" cy="52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L(</a:t>
              </a:r>
              <a:r>
                <a:rPr b="1" i="1" lang="cs-CZ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7924320" y="4800600"/>
              <a:ext cx="2286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2920" y="2781360"/>
              <a:ext cx="598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781680" y="2971800"/>
            <a:ext cx="4572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3352680"/>
            <a:ext cx="53316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365760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4191120"/>
            <a:ext cx="53352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911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1721160" y="5896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2057400"/>
            <a:ext cx="7772400" cy="152388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Deterministic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 syste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D0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here is exactly one rule </a:t>
            </a:r>
            <a:br>
              <a:rPr sz="3200"/>
            </a:b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886200"/>
            <a:ext cx="77724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ariants of L-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066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determinism and/or no eras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5238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 is a 0L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09480" y="4114800"/>
            <a:ext cx="7925040" cy="2197080"/>
            <a:chOff x="609480" y="4114800"/>
            <a:chExt cx="7925040" cy="2197080"/>
          </a:xfrm>
        </p:grpSpPr>
        <p:sp>
          <p:nvSpPr>
            <p:cNvPr id="125" name=""/>
            <p:cNvSpPr/>
            <p:nvPr/>
          </p:nvSpPr>
          <p:spPr>
            <a:xfrm>
              <a:off x="609480" y="525780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is a deterministic propagating 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4191120"/>
              <a:ext cx="7772400" cy="10666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5800" y="4114800"/>
              <a:ext cx="78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efinition: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ropagating 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L system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(P0L)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For each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2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holds </a:t>
              </a:r>
              <a:r>
                <a:rPr b="0" i="1" lang="cs-CZ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cs-CZ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480" y="5791320"/>
              <a:ext cx="792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Note 2: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The previous example is a</a:t>
              </a:r>
              <a:r>
                <a:rPr b="1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PD0L system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Model of red alga growth by PD0L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403848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Example – Red Alga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133720"/>
            <a:ext cx="1309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4343400"/>
            <a:ext cx="160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tarting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7339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733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1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d Alga Simulation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352680"/>
            <a:ext cx="130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ahoma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95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5029200"/>
            <a:ext cx="137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[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4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0920" y="3933720"/>
            <a:ext cx="21600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06920" y="3933720"/>
            <a:ext cx="215640" cy="216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1447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eriv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3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7772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CVT</cp:lastModifiedBy>
  <dcterms:modified xsi:type="dcterms:W3CDTF">2006-08-30T14:38:54Z</dcterms:modified>
  <cp:revision>167</cp:revision>
  <dc:subject/>
  <dc:title>Alphabets, Strings, and Languages</dc:title>
</cp:coreProperties>
</file>