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292-CDE6-45D1-8E05-2525D955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EA9-78EA-4EB7-B18A-185C19FE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11A3-CD37-4172-AAD6-9FE190E7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138-6F02-4281-A737-7A0E42C4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D16-A9F7-4EE2-B58E-B9194E87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699-16B9-4B57-8D68-0BC062EA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2E24-7565-4786-8E06-8416CB0B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0A5-3E3E-41C7-94DE-A942449E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274-9FD6-4836-8EEE-35620950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A1B-FE41-4C95-ADD7-2E1882E3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30F-EB12-4F7C-9026-2EBBEB94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B00-E22E-45BC-AA91-31B04EBA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9067-A5DC-4AE3-9E05-0B3787DF834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80720"/>
            <a:ext cx="784836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Multigenerative Grammar Systems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(MGS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5638680" y="4724280"/>
            <a:ext cx="2210040" cy="977760"/>
            <a:chOff x="5638680" y="4724280"/>
            <a:chExt cx="2210040" cy="977760"/>
          </a:xfrm>
        </p:grpSpPr>
        <p:sp>
          <p:nvSpPr>
            <p:cNvPr id="301" name=""/>
            <p:cNvSpPr/>
            <p:nvPr/>
          </p:nvSpPr>
          <p:spPr>
            <a:xfrm>
              <a:off x="739152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38680" y="4724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6095520" y="5181120"/>
              <a:ext cx="1296000" cy="520920"/>
              <a:chOff x="6095520" y="5181120"/>
              <a:chExt cx="1296000" cy="520920"/>
            </a:xfrm>
          </p:grpSpPr>
          <p:sp>
            <p:nvSpPr>
              <p:cNvPr id="304" name=""/>
              <p:cNvSpPr/>
              <p:nvPr/>
            </p:nvSpPr>
            <p:spPr>
              <a:xfrm>
                <a:off x="6324480" y="5181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flipV="1">
                <a:off x="60955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7162920" y="5181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5638680" y="3581280"/>
            <a:ext cx="2210040" cy="977760"/>
            <a:chOff x="5638680" y="3581280"/>
            <a:chExt cx="2210040" cy="977760"/>
          </a:xfrm>
        </p:grpSpPr>
        <p:sp>
          <p:nvSpPr>
            <p:cNvPr id="308" name="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8680" y="3581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6095520" y="4038120"/>
              <a:ext cx="1296000" cy="520920"/>
              <a:chOff x="6095520" y="4038120"/>
              <a:chExt cx="1296000" cy="520920"/>
            </a:xfrm>
          </p:grpSpPr>
          <p:sp>
            <p:nvSpPr>
              <p:cNvPr id="311" name=""/>
              <p:cNvSpPr/>
              <p:nvPr/>
            </p:nvSpPr>
            <p:spPr>
              <a:xfrm>
                <a:off x="6324480" y="4038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60955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162920" y="4038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5638680" y="2438280"/>
            <a:ext cx="2210040" cy="977760"/>
            <a:chOff x="5638680" y="2438280"/>
            <a:chExt cx="2210040" cy="977760"/>
          </a:xfrm>
        </p:grpSpPr>
        <p:sp>
          <p:nvSpPr>
            <p:cNvPr id="315" name=""/>
            <p:cNvSpPr/>
            <p:nvPr/>
          </p:nvSpPr>
          <p:spPr>
            <a:xfrm>
              <a:off x="739152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8680" y="2438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095520" y="2895120"/>
              <a:ext cx="1296000" cy="520920"/>
              <a:chOff x="6095520" y="2895120"/>
              <a:chExt cx="1296000" cy="520920"/>
            </a:xfrm>
          </p:grpSpPr>
          <p:sp>
            <p:nvSpPr>
              <p:cNvPr id="318" name=""/>
              <p:cNvSpPr/>
              <p:nvPr/>
            </p:nvSpPr>
            <p:spPr>
              <a:xfrm>
                <a:off x="6324480" y="2895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0955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7162920" y="2895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5638680" y="1295280"/>
            <a:ext cx="2210040" cy="977760"/>
            <a:chOff x="5638680" y="1295280"/>
            <a:chExt cx="2210040" cy="977760"/>
          </a:xfrm>
        </p:grpSpPr>
        <p:sp>
          <p:nvSpPr>
            <p:cNvPr id="322" name=""/>
            <p:cNvSpPr/>
            <p:nvPr/>
          </p:nvSpPr>
          <p:spPr>
            <a:xfrm>
              <a:off x="739152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38680" y="129528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6095520" y="1752120"/>
              <a:ext cx="1296000" cy="520920"/>
              <a:chOff x="6095520" y="1752120"/>
              <a:chExt cx="1296000" cy="520920"/>
            </a:xfrm>
          </p:grpSpPr>
          <p:sp>
            <p:nvSpPr>
              <p:cNvPr id="325" name=""/>
              <p:cNvSpPr/>
              <p:nvPr/>
            </p:nvSpPr>
            <p:spPr>
              <a:xfrm>
                <a:off x="6324480" y="175248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60955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7162920" y="175212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62720" y="1219320"/>
            <a:ext cx="251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34120" y="1828800"/>
            <a:ext cx="3200400" cy="1182240"/>
            <a:chOff x="5334120" y="1828800"/>
            <a:chExt cx="3200400" cy="1182240"/>
          </a:xfrm>
        </p:grpSpPr>
        <p:sp>
          <p:nvSpPr>
            <p:cNvPr id="336" name=""/>
            <p:cNvSpPr/>
            <p:nvPr/>
          </p:nvSpPr>
          <p:spPr>
            <a:xfrm rot="5400000">
              <a:off x="565416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74062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34120" y="2362320"/>
              <a:ext cx="32004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5105520" y="2971800"/>
            <a:ext cx="3504960" cy="1182240"/>
            <a:chOff x="5105520" y="2971800"/>
            <a:chExt cx="3504960" cy="1182240"/>
          </a:xfrm>
        </p:grpSpPr>
        <p:sp>
          <p:nvSpPr>
            <p:cNvPr id="340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4062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05520" y="3505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876920" y="4114800"/>
            <a:ext cx="3504960" cy="1182240"/>
            <a:chOff x="4876920" y="4114800"/>
            <a:chExt cx="3504960" cy="1182240"/>
          </a:xfrm>
        </p:grpSpPr>
        <p:sp>
          <p:nvSpPr>
            <p:cNvPr id="344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74062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76920" y="4648320"/>
              <a:ext cx="3504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 </a:t>
              </a:r>
              <a:r>
                <a:rPr b="1" i="1" lang="en-US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5257800"/>
            <a:ext cx="3505320" cy="1182240"/>
            <a:chOff x="5181480" y="5257800"/>
            <a:chExt cx="3505320" cy="1182240"/>
          </a:xfrm>
        </p:grpSpPr>
        <p:sp>
          <p:nvSpPr>
            <p:cNvPr id="348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5400000">
              <a:off x="74062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81480" y="579132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abbcc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	</a:t>
              </a:r>
              <a:r>
                <a:rPr b="1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   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d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403848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828800"/>
            <a:ext cx="4191120" cy="21337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N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143000"/>
            <a:ext cx="4419720" cy="62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n n-multigenerative rule-synchronized grammar system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4299120"/>
            <a:ext cx="830592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28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4191120"/>
            <a:ext cx="3962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397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105520" y="4191120"/>
            <a:ext cx="403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lang="en-US" sz="3200" spc="-1" strike="noStrike" baseline="-25000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p</a:t>
            </a:r>
            <a:r>
              <a:rPr b="1" i="1" lang="en-US" sz="3200" spc="-1" strike="noStrike" baseline="-25000">
                <a:solidFill>
                  <a:srgbClr val="ff66ff"/>
                </a:solidFill>
                <a:latin typeface="Times New Roman"/>
              </a:rPr>
              <a:t>n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25909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" y="121932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5800" y="1219320"/>
            <a:ext cx="80773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R is defined analogically as the 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anguage for n-MG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Multistrings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&amp; 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25909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anguage generated by n-MGR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e, 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is defined analogically as a language generated by n-MGN in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85800" y="2438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5943600" y="5257800"/>
            <a:ext cx="2057400" cy="977760"/>
            <a:chOff x="5943600" y="5257800"/>
            <a:chExt cx="2057400" cy="977760"/>
          </a:xfrm>
        </p:grpSpPr>
        <p:sp>
          <p:nvSpPr>
            <p:cNvPr id="461" name=""/>
            <p:cNvSpPr/>
            <p:nvPr/>
          </p:nvSpPr>
          <p:spPr>
            <a:xfrm>
              <a:off x="75438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943600" y="5257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6324120" y="5714640"/>
              <a:ext cx="1296000" cy="520920"/>
              <a:chOff x="6324120" y="5714640"/>
              <a:chExt cx="1296000" cy="520920"/>
            </a:xfrm>
          </p:grpSpPr>
          <p:sp>
            <p:nvSpPr>
              <p:cNvPr id="464" name=""/>
              <p:cNvSpPr/>
              <p:nvPr/>
            </p:nvSpPr>
            <p:spPr>
              <a:xfrm>
                <a:off x="6553080" y="5715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 flipV="1">
                <a:off x="63241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391520" y="5714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5943600" y="4114800"/>
            <a:ext cx="2057400" cy="977760"/>
            <a:chOff x="5943600" y="4114800"/>
            <a:chExt cx="2057400" cy="977760"/>
          </a:xfrm>
        </p:grpSpPr>
        <p:sp>
          <p:nvSpPr>
            <p:cNvPr id="468" name=""/>
            <p:cNvSpPr/>
            <p:nvPr/>
          </p:nvSpPr>
          <p:spPr>
            <a:xfrm>
              <a:off x="75438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3600" y="4114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6324120" y="4571640"/>
              <a:ext cx="1296000" cy="520920"/>
              <a:chOff x="6324120" y="4571640"/>
              <a:chExt cx="1296000" cy="520920"/>
            </a:xfrm>
          </p:grpSpPr>
          <p:sp>
            <p:nvSpPr>
              <p:cNvPr id="471" name=""/>
              <p:cNvSpPr/>
              <p:nvPr/>
            </p:nvSpPr>
            <p:spPr>
              <a:xfrm>
                <a:off x="6553080" y="4572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 flipV="1">
                <a:off x="63241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7391520" y="4571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5943600" y="1828800"/>
            <a:ext cx="2057400" cy="977760"/>
            <a:chOff x="5943600" y="1828800"/>
            <a:chExt cx="2057400" cy="977760"/>
          </a:xfrm>
        </p:grpSpPr>
        <p:sp>
          <p:nvSpPr>
            <p:cNvPr id="475" name=""/>
            <p:cNvSpPr/>
            <p:nvPr/>
          </p:nvSpPr>
          <p:spPr>
            <a:xfrm>
              <a:off x="75438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1828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324120" y="2285640"/>
              <a:ext cx="1296000" cy="520920"/>
              <a:chOff x="6324120" y="2285640"/>
              <a:chExt cx="1296000" cy="520920"/>
            </a:xfrm>
          </p:grpSpPr>
          <p:sp>
            <p:nvSpPr>
              <p:cNvPr id="478" name=""/>
              <p:cNvSpPr/>
              <p:nvPr/>
            </p:nvSpPr>
            <p:spPr>
              <a:xfrm>
                <a:off x="6553080" y="2286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flipV="1">
                <a:off x="63241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7391520" y="2285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5943600" y="2971800"/>
            <a:ext cx="2057400" cy="977760"/>
            <a:chOff x="5943600" y="2971800"/>
            <a:chExt cx="2057400" cy="977760"/>
          </a:xfrm>
        </p:grpSpPr>
        <p:sp>
          <p:nvSpPr>
            <p:cNvPr id="482" name=""/>
            <p:cNvSpPr/>
            <p:nvPr/>
          </p:nvSpPr>
          <p:spPr>
            <a:xfrm>
              <a:off x="59436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2971800"/>
              <a:ext cx="457200" cy="5335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6324120" y="3428640"/>
              <a:ext cx="1296000" cy="520920"/>
              <a:chOff x="6324120" y="3428640"/>
              <a:chExt cx="1296000" cy="520920"/>
            </a:xfrm>
          </p:grpSpPr>
          <p:sp>
            <p:nvSpPr>
              <p:cNvPr id="485" name=""/>
              <p:cNvSpPr/>
              <p:nvPr/>
            </p:nvSpPr>
            <p:spPr>
              <a:xfrm>
                <a:off x="6553080" y="3429000"/>
                <a:ext cx="838440" cy="5205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O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flipV="1">
                <a:off x="63241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7391520" y="3428640"/>
                <a:ext cx="22860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562720" y="1219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4120" y="23623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05520" y="35053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76920" y="4648320"/>
            <a:ext cx="3962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579132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560920" y="5257800"/>
            <a:ext cx="2928600" cy="609480"/>
            <a:chOff x="5560920" y="5257800"/>
            <a:chExt cx="2928600" cy="609480"/>
          </a:xfrm>
        </p:grpSpPr>
        <p:sp>
          <p:nvSpPr>
            <p:cNvPr id="500" name=""/>
            <p:cNvSpPr/>
            <p:nvPr/>
          </p:nvSpPr>
          <p:spPr>
            <a:xfrm rot="5400000">
              <a:off x="5577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7863480" y="5241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199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20120" y="5257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5560920" y="4114800"/>
            <a:ext cx="2928600" cy="609480"/>
            <a:chOff x="5560920" y="4114800"/>
            <a:chExt cx="2928600" cy="609480"/>
          </a:xfrm>
        </p:grpSpPr>
        <p:sp>
          <p:nvSpPr>
            <p:cNvPr id="505" name=""/>
            <p:cNvSpPr/>
            <p:nvPr/>
          </p:nvSpPr>
          <p:spPr>
            <a:xfrm rot="5400000">
              <a:off x="5577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5400000">
              <a:off x="7863480" y="4098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199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0120" y="4114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60920" y="1828800"/>
            <a:ext cx="2928600" cy="609480"/>
            <a:chOff x="5560920" y="1828800"/>
            <a:chExt cx="2928600" cy="609480"/>
          </a:xfrm>
        </p:grpSpPr>
        <p:sp>
          <p:nvSpPr>
            <p:cNvPr id="510" name=""/>
            <p:cNvSpPr/>
            <p:nvPr/>
          </p:nvSpPr>
          <p:spPr>
            <a:xfrm rot="5400000">
              <a:off x="5577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5400000">
              <a:off x="7863480" y="1812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99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1828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560920" y="2971800"/>
            <a:ext cx="2928600" cy="609480"/>
            <a:chOff x="5560920" y="2971800"/>
            <a:chExt cx="2928600" cy="609480"/>
          </a:xfrm>
        </p:grpSpPr>
        <p:sp>
          <p:nvSpPr>
            <p:cNvPr id="515" name=""/>
            <p:cNvSpPr/>
            <p:nvPr/>
          </p:nvSpPr>
          <p:spPr>
            <a:xfrm rot="5400000">
              <a:off x="5577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5400000">
              <a:off x="7863480" y="295524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01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29718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-MGR: Example 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2880" y="1143000"/>
            <a:ext cx="3733920" cy="57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GB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5715000"/>
            <a:ext cx="4191120" cy="457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3809880"/>
            <a:ext cx="4191120" cy="1828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1828800"/>
            <a:ext cx="4191120" cy="190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1219320"/>
            <a:ext cx="4191120" cy="53316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143000"/>
            <a:ext cx="441972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Conversions Between MG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N to equivalent n-MGR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5800" y="28954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here ex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lgorithm, which convets any n-MG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o equivalent n-MGN in th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42920" y="5257800"/>
            <a:ext cx="29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25780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n-MG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86200" y="54100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886200" y="5867280"/>
            <a:ext cx="1295280" cy="304920"/>
          </a:xfrm>
          <a:prstGeom prst="rightArrow">
            <a:avLst>
              <a:gd name="adj1" fmla="val 50000"/>
              <a:gd name="adj2" fmla="val 106198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" y="6019920"/>
            <a:ext cx="2209680" cy="489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962520" y="5562720"/>
            <a:ext cx="3312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59280" y="5805360"/>
            <a:ext cx="25146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96000" y="5805360"/>
            <a:ext cx="259092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981080" y="5410080"/>
            <a:ext cx="9144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" y="1143000"/>
            <a:ext cx="777240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1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N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(n-MGR</a:t>
            </a:r>
            <a:r>
              <a:rPr b="0" i="1" lang="en-US" sz="31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) denote the language families defined by n-MGN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and n-MGR in the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1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RE) =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R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-MGN</a:t>
            </a:r>
            <a:r>
              <a:rPr b="1" i="1" lang="en-US" sz="40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-MGNs and n-MG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11280" y="112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only the leftmost derivation in 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5120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84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415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9876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415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39876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36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4940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36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940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446880" y="220356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220356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4376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89480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376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9480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75280" y="220356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5324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989680" y="22035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5324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89680" y="2508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1569960" y="2736000"/>
            <a:ext cx="1295640" cy="838440"/>
          </a:xfrm>
          <a:custGeom>
            <a:avLst/>
            <a:gdLst>
              <a:gd name="textAreaLeft" fmla="*/ 325440 w 1295640"/>
              <a:gd name="textAreaRight" fmla="*/ 970200 w 129564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569960" y="3651120"/>
            <a:ext cx="137340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3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0292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0820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271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843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0271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4843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798560" y="2965320"/>
            <a:ext cx="83844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3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555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12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555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112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41560" y="36511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987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5596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3987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5596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5996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13410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892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24576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6066000" y="2736000"/>
            <a:ext cx="1295280" cy="838440"/>
          </a:xfrm>
          <a:custGeom>
            <a:avLst/>
            <a:gdLst>
              <a:gd name="textAreaLeft" fmla="*/ 325440 w 1295280"/>
              <a:gd name="textAreaRight" fmla="*/ 969840 w 1295280"/>
              <a:gd name="textAreaTop" fmla="*/ 210600 h 838440"/>
              <a:gd name="textAreaBottom" fmla="*/ 627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983" y="21600"/>
                </a:lnTo>
                <a:lnTo>
                  <a:pt x="6617" y="21600"/>
                </a:lnTo>
                <a:close/>
              </a:path>
            </a:pathLst>
          </a:cu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66000" y="3651120"/>
            <a:ext cx="1373040" cy="45720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94400" y="2736720"/>
            <a:ext cx="1676160" cy="838440"/>
          </a:xfrm>
          <a:prstGeom prst="parallelogram">
            <a:avLst>
              <a:gd name="adj" fmla="val 4637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499860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03880" y="2889360"/>
            <a:ext cx="60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5232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804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232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804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294600" y="2965320"/>
            <a:ext cx="838080" cy="533520"/>
          </a:xfrm>
          <a:prstGeom prst="downArrow">
            <a:avLst>
              <a:gd name="adj1" fmla="val 39583"/>
              <a:gd name="adj2" fmla="val 44444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944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1516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608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516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08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437600" y="36511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948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352000" y="3651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948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352000" y="39560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7055640" y="2736720"/>
            <a:ext cx="1676520" cy="838440"/>
          </a:xfrm>
          <a:prstGeom prst="parallelogram">
            <a:avLst>
              <a:gd name="adj" fmla="val 46388"/>
            </a:avLst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837400" y="2813040"/>
            <a:ext cx="3045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7742160" y="2889360"/>
            <a:ext cx="609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199360" y="281304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60880" y="273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111816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091240" y="1734120"/>
            <a:ext cx="216000" cy="576360"/>
          </a:xfrm>
          <a:custGeom>
            <a:avLst/>
            <a:gdLst>
              <a:gd name="textAreaLeft" fmla="*/ 0 w 216000"/>
              <a:gd name="textAreaRight" fmla="*/ 78120 w 21600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979640" y="14842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3062880" y="133884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87640" y="148428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616360" y="1447560"/>
            <a:ext cx="216000" cy="129564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6555600" y="1805400"/>
            <a:ext cx="215640" cy="576360"/>
          </a:xfrm>
          <a:custGeom>
            <a:avLst/>
            <a:gdLst>
              <a:gd name="textAreaLeft" fmla="*/ 0 w 215640"/>
              <a:gd name="textAreaRight" fmla="*/ 77760 w 21564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155592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7523640" y="141192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72360" y="155736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9560" y="558972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13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702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32748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702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32748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796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965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223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65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4223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75240" y="5589720"/>
            <a:ext cx="53532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77080" y="558972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659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82316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659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2316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03640" y="558972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608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18040" y="5589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608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918040" y="5894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16200000">
            <a:off x="104364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rot="16200000">
            <a:off x="29865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rot="16200000">
            <a:off x="5545080" y="4834080"/>
            <a:ext cx="216000" cy="12952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rot="16200000">
            <a:off x="7452360" y="4798080"/>
            <a:ext cx="216000" cy="136692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221000"/>
            <a:ext cx="763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71640" y="487044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27236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5640" y="4941720"/>
            <a:ext cx="187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54468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3528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300720" y="5869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11280" y="4221000"/>
            <a:ext cx="853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There is used 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general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derivation in </a:t>
            </a:r>
            <a:r>
              <a:rPr b="1" lang="en-US" sz="2300" spc="-1" strike="noStrike" u="sng">
                <a:solidFill>
                  <a:srgbClr val="3333cc"/>
                </a:solidFill>
                <a:uFillTx/>
                <a:latin typeface="Times New Roman"/>
              </a:rPr>
              <a:t>Genaral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n-MGNs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/n-MGRs</a:t>
            </a:r>
            <a:r>
              <a:rPr b="1" lang="cs-CZ" sz="23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Grammar To M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120" y="1066680"/>
            <a:ext cx="447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rammar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09680"/>
            <a:ext cx="800100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Grammar system: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… ,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a set of rules, which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generatio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6019920"/>
            <a:ext cx="7696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Generated multistring in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8098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26708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0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5257800"/>
            <a:ext cx="7239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en-US" sz="30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88620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4343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ralell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31840" y="5232240"/>
            <a:ext cx="330480" cy="254160"/>
          </a:xfrm>
          <a:custGeom>
            <a:avLst/>
            <a:gdLst/>
            <a:ahLst/>
            <a:rect l="l" t="t" r="r" b="b"/>
            <a:pathLst>
              <a:path w="208" h="160">
                <a:moveTo>
                  <a:pt x="0" y="160"/>
                </a:moveTo>
                <a:cubicBezTo>
                  <a:pt x="7" y="142"/>
                  <a:pt x="5" y="75"/>
                  <a:pt x="40" y="48"/>
                </a:cubicBezTo>
                <a:cubicBezTo>
                  <a:pt x="75" y="21"/>
                  <a:pt x="173" y="10"/>
                  <a:pt x="208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4723560"/>
            <a:ext cx="457200" cy="228600"/>
          </a:xfrm>
          <a:custGeom>
            <a:avLst/>
            <a:gdLst/>
            <a:ahLst/>
            <a:rect l="l" t="t" r="r" b="b"/>
            <a:pathLst>
              <a:path w="224" h="288">
                <a:moveTo>
                  <a:pt x="32" y="288"/>
                </a:moveTo>
                <a:cubicBezTo>
                  <a:pt x="16" y="216"/>
                  <a:pt x="0" y="144"/>
                  <a:pt x="32" y="96"/>
                </a:cubicBezTo>
                <a:cubicBezTo>
                  <a:pt x="64" y="48"/>
                  <a:pt x="192" y="16"/>
                  <a:pt x="22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30520" y="4267080"/>
            <a:ext cx="618840" cy="851040"/>
          </a:xfrm>
          <a:custGeom>
            <a:avLst/>
            <a:gdLst/>
            <a:ahLst/>
            <a:rect l="l" t="t" r="r" b="b"/>
            <a:pathLst>
              <a:path w="390" h="536">
                <a:moveTo>
                  <a:pt x="115" y="0"/>
                </a:moveTo>
                <a:cubicBezTo>
                  <a:pt x="104" y="72"/>
                  <a:pt x="0" y="343"/>
                  <a:pt x="46" y="432"/>
                </a:cubicBezTo>
                <a:cubicBezTo>
                  <a:pt x="92" y="521"/>
                  <a:pt x="318" y="514"/>
                  <a:pt x="390" y="5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876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ecking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8604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832200" y="4852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G)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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3213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4360" y="3716280"/>
            <a:ext cx="734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476360" y="4724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8436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trix Gramm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9640" y="1052640"/>
            <a:ext cx="73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{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0606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B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314172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378936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7840" y="3789360"/>
            <a:ext cx="698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2200" y="5516640"/>
            <a:ext cx="38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685800" y="29718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5800" y="121932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G and General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n-MGNs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n-MG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: Convers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1125360"/>
            <a:ext cx="798984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general 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 there exists an equivalent matrix gramma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r every matrix grammar there exists an equivalent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n-MGN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n-M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mode, wher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5800" y="2819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5800" y="4572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09480" y="4572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1280" y="5084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3528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1280" y="5516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n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0000" y="5084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580000" y="55166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neral 2-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67280" y="522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219640" y="5445000"/>
            <a:ext cx="432000" cy="304920"/>
          </a:xfrm>
          <a:prstGeom prst="rightArrow">
            <a:avLst>
              <a:gd name="adj1" fmla="val 50000"/>
              <a:gd name="adj2" fmla="val 354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Power of General MG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4572000"/>
            <a:ext cx="4800600" cy="99072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11280" y="5805360"/>
            <a:ext cx="338436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defined by matrix gramma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43280" y="5589720"/>
            <a:ext cx="33480" cy="242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356000" y="5805360"/>
            <a:ext cx="165744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N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732720" y="5805360"/>
            <a:ext cx="1654200" cy="885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GMGR langu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5943600" y="5410080"/>
            <a:ext cx="789120" cy="3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979640" y="5410080"/>
            <a:ext cx="915840" cy="3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800" y="1143000"/>
            <a:ext cx="7772400" cy="32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900" spc="-1" strike="noStrike">
                <a:solidFill>
                  <a:srgbClr val="000000"/>
                </a:solidFill>
                <a:latin typeface="Times New Roman"/>
              </a:rPr>
              <a:t>Theorem: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N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and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n-GMGR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denote the language families defined by general   n-MGN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and general n-MGR in the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mode resp.,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unio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con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}. Then,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MG) =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 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R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 = </a:t>
            </a:r>
            <a:r>
              <a:rPr b="1" i="1" lang="en-US" sz="35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n-GMGN</a:t>
            </a:r>
            <a:r>
              <a:rPr b="1" i="1" lang="en-US" sz="35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41911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4800600" y="2438280"/>
            <a:ext cx="4114800" cy="3979800"/>
            <a:chOff x="4800600" y="2438280"/>
            <a:chExt cx="4114800" cy="3979800"/>
          </a:xfrm>
        </p:grpSpPr>
        <p:sp>
          <p:nvSpPr>
            <p:cNvPr id="62" name=""/>
            <p:cNvSpPr/>
            <p:nvPr/>
          </p:nvSpPr>
          <p:spPr>
            <a:xfrm>
              <a:off x="4876920" y="49528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76920" y="37339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438280"/>
              <a:ext cx="3504960" cy="60984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0060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derivation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8686800" y="2743200"/>
              <a:ext cx="0" cy="3124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381520" y="27432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8381520" y="40384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8381520" y="525780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1828800"/>
            <a:ext cx="4114800" cy="4589280"/>
            <a:chOff x="533520" y="1828800"/>
            <a:chExt cx="4114800" cy="4589280"/>
          </a:xfrm>
        </p:grpSpPr>
        <p:sp>
          <p:nvSpPr>
            <p:cNvPr id="71" name=""/>
            <p:cNvSpPr/>
            <p:nvPr/>
          </p:nvSpPr>
          <p:spPr>
            <a:xfrm>
              <a:off x="990720" y="43434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90720" y="304812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1828800"/>
              <a:ext cx="3504960" cy="6094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3520" y="5867280"/>
              <a:ext cx="4114800" cy="5508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Checking of multiforms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85800" y="2133360"/>
              <a:ext cx="0" cy="3733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21337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5800" y="335268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" y="4648320"/>
              <a:ext cx="304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: Two Approach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066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ymbol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219320"/>
            <a:ext cx="0" cy="53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0666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ules Check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13104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20725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36090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13107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20728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36086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1310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20725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35964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752480"/>
            <a:ext cx="350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519660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5958720" y="24217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7495200" y="2420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519696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5959080" y="37173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7494840" y="371556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267080"/>
            <a:ext cx="3352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cs-CZ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196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595872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7482600" y="4936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657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1055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51814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terminal-synchronized 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19320"/>
            <a:ext cx="7772400" cy="2590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143000"/>
            <a:ext cx="80010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 n-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ultigenerative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nonterminal-synchronize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rammar syste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-M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u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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= (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… 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i="1" lang="en-US" sz="30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h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 a CFG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= is a finite set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tuples of the for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= 1 …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343400"/>
            <a:ext cx="830592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}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(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{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48320" y="3809880"/>
            <a:ext cx="53316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3809880"/>
            <a:ext cx="533520" cy="53352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Derivation St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143000"/>
            <a:ext cx="7848720" cy="20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a n-M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,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f (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91120"/>
            <a:ext cx="3657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4800600"/>
            <a:ext cx="534960" cy="4572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26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800600"/>
            <a:ext cx="137304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0100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4800600"/>
            <a:ext cx="137340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48006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5880" y="51055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04920" y="5334120"/>
            <a:ext cx="8611920" cy="1371600"/>
            <a:chOff x="304920" y="5334120"/>
            <a:chExt cx="8611920" cy="1371600"/>
          </a:xfrm>
        </p:grpSpPr>
        <p:sp>
          <p:nvSpPr>
            <p:cNvPr id="153" name=""/>
            <p:cNvSpPr/>
            <p:nvPr/>
          </p:nvSpPr>
          <p:spPr>
            <a:xfrm flipV="1">
              <a:off x="167652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7652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4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0912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44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337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909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512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49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9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812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053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252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6616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526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988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172200" y="5334120"/>
              <a:ext cx="1295280" cy="838080"/>
            </a:xfrm>
            <a:custGeom>
              <a:avLst/>
              <a:gdLst>
                <a:gd name="textAreaLeft" fmla="*/ 325440 w 1295280"/>
                <a:gd name="textAreaRight" fmla="*/ 969840 w 1295280"/>
                <a:gd name="textAreaTop" fmla="*/ 210600 h 838080"/>
                <a:gd name="textAreaBottom" fmla="*/ 627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4983" y="21600"/>
                  </a:lnTo>
                  <a:lnTo>
                    <a:pt x="6617" y="21600"/>
                  </a:lnTo>
                  <a:close/>
                </a:path>
              </a:pathLst>
            </a:cu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6248520"/>
              <a:ext cx="1373040" cy="45720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i="1" lang="en-US" sz="2600" spc="-1" strike="noStrike" baseline="-25000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00600" y="5334120"/>
              <a:ext cx="1676520" cy="838080"/>
            </a:xfrm>
            <a:prstGeom prst="parallelogram">
              <a:avLst>
                <a:gd name="adj" fmla="val 4640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5105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10080" y="5486400"/>
              <a:ext cx="609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294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866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00800" y="5562720"/>
              <a:ext cx="838080" cy="533160"/>
            </a:xfrm>
            <a:prstGeom prst="downArrow">
              <a:avLst>
                <a:gd name="adj1" fmla="val 39583"/>
                <a:gd name="adj2" fmla="val 44444"/>
              </a:avLst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06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578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15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15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43800" y="6248520"/>
              <a:ext cx="137304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010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458200" y="62485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010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8200" y="6553080"/>
              <a:ext cx="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162920" y="5334120"/>
              <a:ext cx="1676160" cy="838080"/>
            </a:xfrm>
            <a:prstGeom prst="parallelogram">
              <a:avLst>
                <a:gd name="adj" fmla="val 46398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943240" y="5410080"/>
              <a:ext cx="30492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915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848000" y="5486400"/>
              <a:ext cx="609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05920" y="5410080"/>
              <a:ext cx="30456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67080" y="5334120"/>
              <a:ext cx="6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105520" y="4191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ule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733920"/>
            <a:ext cx="3581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en-US" sz="3200" spc="-1" strike="noStrike" baseline="-25000">
                <a:solidFill>
                  <a:srgbClr val="3333cc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971800"/>
            <a:ext cx="78487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xive and transitive closur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36576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1219320"/>
            <a:ext cx="7772400" cy="17524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219320"/>
            <a:ext cx="83822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Let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… 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9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 be a n-MGN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5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i="1" lang="cs-CZ" sz="25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ll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 …, </a:t>
            </a:r>
            <a:r>
              <a:rPr b="0" i="1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4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-Languag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0481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2004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38862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4100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1789560" y="4913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37339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4197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51814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2120" y="5791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61866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426708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86600" y="3352680"/>
            <a:ext cx="1295280" cy="53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900" spc="-1" strike="noStrike">
                <a:solidFill>
                  <a:srgbClr val="000000"/>
                </a:solidFill>
                <a:latin typeface="Times New Roman"/>
              </a:rPr>
              <a:t>n-L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620120" y="388620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257800"/>
            <a:ext cx="28954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797800" y="59346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52578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rst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irst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9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cs-CZ" sz="3900" spc="-1" strike="noStrike">
                <a:solidFill>
                  <a:srgbClr val="000000"/>
                </a:solidFill>
                <a:latin typeface="Times New Roman"/>
              </a:rPr>
              <a:t>First</a:t>
            </a:r>
            <a:r>
              <a:rPr b="0" i="1" lang="en-GB" sz="3900" spc="-1" strike="noStrike">
                <a:solidFill>
                  <a:srgbClr val="000000"/>
                </a:solidFill>
                <a:latin typeface="Times New Roman"/>
              </a:rPr>
              <a:t> Mode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cs-CZ" sz="2900" spc="-1" strike="noStrike" baseline="-25000">
                <a:solidFill>
                  <a:srgbClr val="000000"/>
                </a:solidFill>
                <a:latin typeface="Times New Roman"/>
              </a:rPr>
              <a:t>first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5400000">
            <a:off x="53406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5400000">
            <a:off x="53406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51814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219320"/>
            <a:ext cx="7772400" cy="1904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1219320"/>
            <a:ext cx="800100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100" spc="-1" strike="noStrike">
                <a:solidFill>
                  <a:srgbClr val="000000"/>
                </a:solidFill>
                <a:latin typeface="Times New Roman"/>
              </a:rPr>
              <a:t>Union Mod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3124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335268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4038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556272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5400000">
            <a:off x="1789560" y="5065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38862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00200" y="457200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5334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94360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633888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343400"/>
            <a:ext cx="4267080" cy="236232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81680" y="350532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union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695720" y="4114800"/>
            <a:ext cx="2286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5797800" y="4486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5797800" y="60109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41008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5410080"/>
            <a:ext cx="76212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00800" y="5410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1219320"/>
            <a:ext cx="7772400" cy="14475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1219320"/>
            <a:ext cx="80010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 generated by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atenation mod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is defin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en-US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{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…,</a:t>
            </a:r>
            <a:r>
              <a:rPr b="0" i="1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</a:t>
            </a:r>
            <a:r>
              <a:rPr b="0" i="1" lang="cs-CZ" sz="31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cs-CZ" sz="31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L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Generated Language in </a:t>
            </a:r>
            <a:r>
              <a:rPr b="0" i="1" lang="en-GB" sz="4200" spc="-1" strike="noStrike">
                <a:solidFill>
                  <a:srgbClr val="000000"/>
                </a:solidFill>
                <a:latin typeface="Times New Roman"/>
              </a:rPr>
              <a:t>Conc. Mod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27432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2971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en-US" sz="3200" spc="-1" strike="noStrike" baseline="-25000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 baseline="-25000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…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i="1" lang="cs-CZ" sz="3200" spc="-1" strike="noStrike" baseline="-25000">
                <a:solidFill>
                  <a:srgbClr val="339933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365760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5181480"/>
            <a:ext cx="3353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1789560" y="4685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00200" y="35053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00200" y="4191120"/>
            <a:ext cx="914400" cy="38088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0200" y="4952880"/>
            <a:ext cx="914400" cy="381240"/>
          </a:xfrm>
          <a:prstGeom prst="downArrow">
            <a:avLst>
              <a:gd name="adj1" fmla="val 60620"/>
              <a:gd name="adj2" fmla="val 53819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55627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5958000"/>
            <a:ext cx="3124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191120"/>
            <a:ext cx="4267080" cy="236196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781680" y="3352680"/>
            <a:ext cx="1600200" cy="596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i="1" lang="en-GB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onc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9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1" lang="en-GB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695720" y="39625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5797800" y="4563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5797800" y="5782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5029200"/>
            <a:ext cx="68580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5181480"/>
            <a:ext cx="2209680" cy="648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i="1" lang="cs-CZ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Roman Lukáš</cp:lastModifiedBy>
  <dcterms:modified xsi:type="dcterms:W3CDTF">2006-06-26T22:50:05Z</dcterms:modified>
  <cp:revision>193</cp:revision>
  <dc:subject/>
  <dc:title>Formal Languages and Compilers</dc:title>
</cp:coreProperties>
</file>