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1ABC-01D5-45B8-8402-90ACFA50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BAB-8F16-4CA4-AF5A-CCC99DAB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DB1-4516-45A0-970D-5D52B6F8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E74-B69F-4A0B-8687-785D03A3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C8B6-9F1D-4555-9D4F-4D363B59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A2A2-05F8-40E0-91A0-F4493D8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BD5D-8EE2-4DE8-BBDF-3CB6B05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F93F-EAFE-4EB8-BBB4-7B4311B9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1F2E-F856-4DC6-BD6C-DFFBFD92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31AF-263F-41EF-8517-3067EB42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A395-D489-4E75-9531-A60DB571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144E-74A5-4D36-AA1C-77721781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95DF-9725-4012-8E93-C68A07EF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7CE9-FCA6-4C89-8062-67FD4E1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0E93-D33D-4C48-AEDC-C2AA2F7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24A77-D142-4021-AA86-47256E16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2815-BBDC-4B3D-9291-B4BC38327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6ED-07A8-4ABE-88ED-52802FED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2D1-FB2A-4661-88C2-2502F784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86C-E291-41FE-B101-4B465269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0C7-1D3B-4D60-A484-E9D872F3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394-3033-4BA6-BD7F-C8D8C0F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D51-4757-406A-9783-43346E3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42B-631B-420D-B672-D146DCF3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100E-D81A-427B-82C1-9BC690FE7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26B4-E14E-4DF8-929D-468D4C05D7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8748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G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rammar 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1" lang="cs-CZ" sz="5400" spc="-1" strike="noStrike">
                <a:solidFill>
                  <a:srgbClr val="333399"/>
                </a:solidFill>
                <a:latin typeface="Tahoma"/>
              </a:rPr>
              <a:t>ystem</a:t>
            </a:r>
            <a:r>
              <a:rPr b="1" lang="en-US" sz="5400" spc="-1" strike="noStrike">
                <a:solidFill>
                  <a:srgbClr val="333399"/>
                </a:solidFill>
                <a:latin typeface="Tahoma"/>
              </a:rPr>
              <a:t>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ntralized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produce query symb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Γ=(N,K,T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), be a PC grammar syst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Γ is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entraliz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2, …, n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→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alph({A,x}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turning PC 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0920" y="201780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after communicating each component that has sent its string to another component returns to its axi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n-Returning PC G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-----||------ continues to process the current string that is, remove (1) in the basic defini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PC G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– non-returning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– centralized PC 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LIN, CF – specif. of the typ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, N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, NCP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Hierarch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411800" y="188280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33760" y="2565360"/>
            <a:ext cx="443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3645000"/>
            <a:ext cx="59868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2600" y="4365720"/>
            <a:ext cx="454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89480" y="5013360"/>
            <a:ext cx="453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34040" y="5734080"/>
            <a:ext cx="5871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862360"/>
            <a:ext cx="720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862360"/>
            <a:ext cx="936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22596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32720" y="3225960"/>
            <a:ext cx="1152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27280" y="4068720"/>
            <a:ext cx="865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4068720"/>
            <a:ext cx="1079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2560" y="4863960"/>
            <a:ext cx="1008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24360" y="4805280"/>
            <a:ext cx="122400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CP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788000" y="5310000"/>
            <a:ext cx="151272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2626920" y="5310000"/>
            <a:ext cx="170676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2000" y="5310000"/>
            <a:ext cx="0" cy="42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572000" y="4662000"/>
            <a:ext cx="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394164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72000" y="2862360"/>
            <a:ext cx="0" cy="78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179440"/>
            <a:ext cx="0" cy="38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3429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33640" y="2179800"/>
            <a:ext cx="1400400" cy="6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348000" y="307800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3077640"/>
            <a:ext cx="7207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364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130560" y="2862000"/>
            <a:ext cx="12034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7640" y="3159000"/>
            <a:ext cx="98604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940360" y="3225600"/>
            <a:ext cx="0" cy="84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787640" y="2862000"/>
            <a:ext cx="93636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49200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1979280" y="3645000"/>
            <a:ext cx="2376360" cy="14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1763640" y="3644640"/>
            <a:ext cx="5047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84360" y="4365720"/>
            <a:ext cx="43200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771640" y="3941640"/>
            <a:ext cx="1662120" cy="9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5080" y="3644640"/>
            <a:ext cx="790920" cy="11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940000" y="4365360"/>
            <a:ext cx="36036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6444720" y="3077640"/>
            <a:ext cx="790920" cy="14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xx | x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a,b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es nothing for a number of steps whil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nerates a string, then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oduces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Hence the string produced by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sent to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uplicated (it must be a terminal, otherwise the system is blo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REG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,b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returning and non-returning mode gene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the same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entralized system with LIN rules – CP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PC GS – Example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, K, {a}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m+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m+1)(m+2)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xample shows the important differenc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returning and the non-return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s of der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CD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 cooperating distributed grammar syst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degree n, n≥1, is a constru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- a finite set of productions, called components of Γ.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i-th grammar -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 z: y does not directly derive 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90560" y="1467000"/>
            <a:ext cx="171360" cy="16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851120" y="277164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rminating deriv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y the i-th component x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f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in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(N,T,S,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y   z f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y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 is not requ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49600" y="4375080"/>
            <a:ext cx="3189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sed on this pa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ssow, J., Paun, G., Rozenberg, G.: Gramma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slides in course TID –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derivation m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=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mo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≤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≤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t least k-step derivation in G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iff  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 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some 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D={*,t}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≤k, =k, ≥k: k=1,2,…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) = {v: 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ere  j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{1,…,n}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u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= {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 there ar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ch that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f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= 1,…,m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S,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w, for some m ≥ 1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D GS -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:  w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1" lang="cs-CZ" sz="32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f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S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v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… 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1" lang="cs-CZ" sz="3200" spc="-1" strike="noStrike" baseline="-25000">
                <a:solidFill>
                  <a:srgbClr val="ff0000"/>
                </a:solidFill>
                <a:latin typeface="Tahoma"/>
              </a:rPr>
              <a:t>m</a:t>
            </a:r>
            <a:r>
              <a:rPr b="1" lang="cs-CZ" sz="3200" spc="-1" strike="noStrike">
                <a:solidFill>
                  <a:srgbClr val="ff0000"/>
                </a:solidFill>
                <a:latin typeface="Tahoma"/>
              </a:rPr>
              <a:t> = w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, j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{1,…,n}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enotation of DC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derivation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 - nothing: no ε-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ε(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Tahoma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ε-productions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- n: degree at most n≥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the number of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s not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=k) 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 – the union of all families C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≥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or k=1,2,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C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1" lang="cs-CZ" sz="4400" spc="-1" strike="noStrike">
                <a:solidFill>
                  <a:srgbClr val="333399"/>
                </a:solidFill>
                <a:latin typeface="Tahoma"/>
              </a:rPr>
              <a:t> GS –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,A,A’,B,B’}, {a,b,c}, 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 A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B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}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{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’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’,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,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=1, ≥1, *, t}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k ≥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{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| 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=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≥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≥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Hybrid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It would be more realistic to consider systems consisting of components working in different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Hybrid CD GS is a CD G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Γ=(N,K,T,S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…,(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),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,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,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the derivation mode in the i-th component of 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Gramm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arallel computing GS (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Cooperating distributed GS (C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bri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836280"/>
            <a:ext cx="77929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PC Grammar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50560" y="2017800"/>
            <a:ext cx="738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 parallel communicating gramm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degree n, n≥1, is a construc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Γ=(N,K,T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,… ,(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={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… ,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,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query symbol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 finite set of productions of the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→x,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x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K)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, K, T are parwaise disj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der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0920" y="2017440"/>
            <a:ext cx="780408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kinds of derivation step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g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485040" cy="36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n 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for 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 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≠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ph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K =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the string resulting fro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c-ste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i = 1, …,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C GS –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* - as usu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(Γ) = {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*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(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*(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,…,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(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K)*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2≤i≤n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08:04:53Z</dcterms:created>
  <dc:creator>seim</dc:creator>
  <dc:description/>
  <dc:language>en-US</dc:language>
  <cp:lastModifiedBy>CVT</cp:lastModifiedBy>
  <dcterms:modified xsi:type="dcterms:W3CDTF">2006-08-30T14:24:34Z</dcterms:modified>
  <cp:revision>196</cp:revision>
  <dc:subject/>
  <dc:title>Parallel communicating (PC) grammar systems</dc:title>
</cp:coreProperties>
</file>