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C19-E1E0-45FD-BCCB-02145046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722-7972-4FE1-ACB1-BD955231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F21-A324-48D5-A072-48B3A106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66A-CD81-4E0B-B8D2-4F193B9B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A51-0728-4D13-A7B2-11F2B709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DEA-8AAA-44F0-A76B-B4216D83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AFC-6910-4DFC-9FA2-A124C24B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D8B-07D1-403C-9472-BE7C5710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8E1-72E3-4382-85FD-B56C2153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255-199E-4E42-8A81-5143D51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704-AD3C-4B50-8BE4-02D588B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B93-2039-4584-87BB-770D10FF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DBCB-FE21-4B5F-AFAD-33EFA86F949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25:39Z</dcterms:modified>
  <cp:revision>125</cp:revision>
  <dc:subject/>
  <dc:title>Introduction to Compilers</dc:title>
</cp:coreProperties>
</file>