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EBC-EAF3-4FFF-BE93-5B29A72E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475-6468-4AA9-AB54-AFD608CF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5DA-7DE0-466A-B5D4-486AB9B1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4FA-2F43-410F-B07A-D44F4A48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CEF-4076-42E5-A78D-4187A238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C78-A6B4-4222-8AF9-0342635F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8FA-0248-4FAD-9337-BE57473B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D88-62ED-4173-9418-B5EC4A89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358-ED80-4BB9-8AD0-DB602B33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727-078B-4DB4-845A-CAA6F9F1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55D-40C4-440F-B221-880C644D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1BB-92FD-471B-B325-DD4A6B7C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EB0C-959C-4022-8CEA-8B21B060D52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7:02Z</dcterms:modified>
  <cp:revision>130</cp:revision>
  <dc:subject/>
  <dc:title>Variants of Finite Automata</dc:title>
</cp:coreProperties>
</file>