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E9C-6AE2-4286-978D-63EF5815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232-6054-4F62-B233-CF50D71B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064-1DA0-4D53-90B9-3B0D5DE7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05F-FECA-4A89-B922-C14E8B44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5EC-87CF-40B8-B180-65258066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AC7-7FCE-4EC6-8800-A0A90F85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239-25CC-4A48-8AB8-D45C226A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16D-15CF-42B2-8CC4-6B21FC9C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683-A8C8-4608-B543-A6FC50FA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2DE-D8FC-4B00-BD8E-C4A78A02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E17-E5AA-4C8B-8688-ED56960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F95-63EB-4722-A115-3F43EF26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CBD9-F521-4AB8-AD65-CB9804F1A14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18:05Z</dcterms:modified>
  <cp:revision>191</cp:revision>
  <dc:subject/>
  <dc:title>Normal Forms and Properties of CFLs</dc:title>
</cp:coreProperties>
</file>