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956-CD5A-4F94-94AB-BFF7B3D9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615-80D6-4876-8D1E-6FB79009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F20-E6B7-4844-874D-608C3D87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76E-2A8A-46DC-88C8-B05A434C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836-4E5B-4884-A1CC-EEA46D30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8C3-A257-49FE-A6E6-B35D8A86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C81-D012-4C42-A715-88B7AF54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9F2-C06E-470C-A2BC-96B50E90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4D6-46E6-4FF3-AE95-217ABFFA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49A-04E9-43F2-A1E8-4BBA166A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1FB-6F1B-43D0-9FB5-B55FA0AD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FD2-8B2E-4C42-8CE8-401E03DB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79FD-58DE-4C12-AEAC-26877C8ED17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7:02Z</dcterms:modified>
  <cp:revision>130</cp:revision>
  <dc:subject/>
  <dc:title>Variants of Finite Automata</dc:title>
</cp:coreProperties>
</file>