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F970-8E8C-458F-8C19-228995E9B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3E79-4D1C-4672-B72D-AA70978EC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5735-04B9-485E-9B94-0009DB93C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7C3B-FEA3-4541-AA8B-18D70840C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02C0-E78D-4CA0-A683-2E49D0485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5BD2-3FC6-4A99-B151-8F0615220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7221-2AD2-402F-881F-7E58A0452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A4D5-9F61-436B-9150-BBE19EE04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B93E-31D2-416E-BE39-A7591A6F0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8F6E-C65D-49E4-8D4B-22F9495F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1F70-8597-40E7-8CC5-29A075C7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F3B3-04F4-4BEC-B094-ED0318C0E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2B99E-3C0C-4DD8-85DA-41721F214A69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X.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Normal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 Forms 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and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Properties of C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FL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809880" y="3276720"/>
            <a:ext cx="1600200" cy="45720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GP Based on CNF: Example 3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5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9480" y="1143000"/>
            <a:ext cx="82296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acbb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33520" y="6019920"/>
            <a:ext cx="7772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39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59236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345200" y="59450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94540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697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8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21112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87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56416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315200" y="5181480"/>
            <a:ext cx="101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5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295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724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40080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153280" y="5181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96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4956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725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40224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133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8620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238880" y="4495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135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1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8764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564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971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724280" y="3809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400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838080" y="4191120"/>
            <a:ext cx="2971800" cy="1066680"/>
            <a:chOff x="838080" y="4191120"/>
            <a:chExt cx="2971800" cy="1066680"/>
          </a:xfrm>
        </p:grpSpPr>
        <p:sp>
          <p:nvSpPr>
            <p:cNvPr id="291" name=""/>
            <p:cNvSpPr/>
            <p:nvPr/>
          </p:nvSpPr>
          <p:spPr>
            <a:xfrm flipH="1" flipV="1">
              <a:off x="2895480" y="4191120"/>
              <a:ext cx="91440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38080" y="4191120"/>
              <a:ext cx="1676520" cy="1066680"/>
            </a:xfrm>
            <a:custGeom>
              <a:avLst/>
              <a:gdLst/>
              <a:ahLst/>
              <a:rect l="l" t="t" r="r" b="b"/>
              <a:pathLst>
                <a:path w="1056" h="672">
                  <a:moveTo>
                    <a:pt x="0" y="672"/>
                  </a:moveTo>
                  <a:cubicBezTo>
                    <a:pt x="65" y="595"/>
                    <a:pt x="216" y="320"/>
                    <a:pt x="392" y="208"/>
                  </a:cubicBezTo>
                  <a:cubicBezTo>
                    <a:pt x="568" y="96"/>
                    <a:pt x="918" y="43"/>
                    <a:pt x="1056" y="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1752480" y="4191120"/>
            <a:ext cx="2895840" cy="1066680"/>
            <a:chOff x="1752480" y="4191120"/>
            <a:chExt cx="2895840" cy="1066680"/>
          </a:xfrm>
        </p:grpSpPr>
        <p:sp>
          <p:nvSpPr>
            <p:cNvPr id="294" name=""/>
            <p:cNvSpPr/>
            <p:nvPr/>
          </p:nvSpPr>
          <p:spPr>
            <a:xfrm flipV="1">
              <a:off x="1752480" y="4266720"/>
              <a:ext cx="762120" cy="3049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971800" y="4191120"/>
              <a:ext cx="1676520" cy="1066680"/>
            </a:xfrm>
            <a:custGeom>
              <a:avLst/>
              <a:gdLst/>
              <a:ahLst/>
              <a:rect l="l" t="t" r="r" b="b"/>
              <a:pathLst>
                <a:path w="1056" h="672">
                  <a:moveTo>
                    <a:pt x="1056" y="672"/>
                  </a:moveTo>
                  <a:cubicBezTo>
                    <a:pt x="1023" y="595"/>
                    <a:pt x="1032" y="320"/>
                    <a:pt x="856" y="208"/>
                  </a:cubicBezTo>
                  <a:cubicBezTo>
                    <a:pt x="680" y="96"/>
                    <a:pt x="178" y="43"/>
                    <a:pt x="0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2590920" y="4191120"/>
            <a:ext cx="2971800" cy="1066680"/>
            <a:chOff x="2590920" y="4191120"/>
            <a:chExt cx="2971800" cy="1066680"/>
          </a:xfrm>
        </p:grpSpPr>
        <p:sp>
          <p:nvSpPr>
            <p:cNvPr id="297" name=""/>
            <p:cNvSpPr/>
            <p:nvPr/>
          </p:nvSpPr>
          <p:spPr>
            <a:xfrm flipH="1" flipV="1">
              <a:off x="4648320" y="4191120"/>
              <a:ext cx="914400" cy="3808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4191120"/>
              <a:ext cx="1676160" cy="1066680"/>
            </a:xfrm>
            <a:custGeom>
              <a:avLst/>
              <a:gdLst/>
              <a:ahLst/>
              <a:rect l="l" t="t" r="r" b="b"/>
              <a:pathLst>
                <a:path w="1056" h="672">
                  <a:moveTo>
                    <a:pt x="0" y="672"/>
                  </a:moveTo>
                  <a:cubicBezTo>
                    <a:pt x="65" y="595"/>
                    <a:pt x="216" y="320"/>
                    <a:pt x="392" y="208"/>
                  </a:cubicBezTo>
                  <a:cubicBezTo>
                    <a:pt x="568" y="96"/>
                    <a:pt x="918" y="43"/>
                    <a:pt x="1056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3505320" y="4191120"/>
            <a:ext cx="2965320" cy="1054080"/>
            <a:chOff x="3505320" y="4191120"/>
            <a:chExt cx="2965320" cy="1054080"/>
          </a:xfrm>
        </p:grpSpPr>
        <p:sp>
          <p:nvSpPr>
            <p:cNvPr id="300" name=""/>
            <p:cNvSpPr/>
            <p:nvPr/>
          </p:nvSpPr>
          <p:spPr>
            <a:xfrm flipV="1">
              <a:off x="3505320" y="4266720"/>
              <a:ext cx="76176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724280" y="4191120"/>
              <a:ext cx="1746360" cy="1054080"/>
            </a:xfrm>
            <a:custGeom>
              <a:avLst/>
              <a:gdLst/>
              <a:ahLst/>
              <a:rect l="l" t="t" r="r" b="b"/>
              <a:pathLst>
                <a:path w="1100" h="664">
                  <a:moveTo>
                    <a:pt x="1032" y="664"/>
                  </a:moveTo>
                  <a:cubicBezTo>
                    <a:pt x="1011" y="585"/>
                    <a:pt x="1100" y="311"/>
                    <a:pt x="928" y="200"/>
                  </a:cubicBezTo>
                  <a:cubicBezTo>
                    <a:pt x="756" y="89"/>
                    <a:pt x="193" y="42"/>
                    <a:pt x="0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4267080" y="4191120"/>
            <a:ext cx="2895480" cy="1066680"/>
            <a:chOff x="4267080" y="4191120"/>
            <a:chExt cx="2895480" cy="1066680"/>
          </a:xfrm>
        </p:grpSpPr>
        <p:sp>
          <p:nvSpPr>
            <p:cNvPr id="303" name=""/>
            <p:cNvSpPr/>
            <p:nvPr/>
          </p:nvSpPr>
          <p:spPr>
            <a:xfrm flipH="1" flipV="1">
              <a:off x="6324120" y="4191120"/>
              <a:ext cx="83844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267080" y="4191120"/>
              <a:ext cx="1676520" cy="1066680"/>
            </a:xfrm>
            <a:custGeom>
              <a:avLst/>
              <a:gdLst/>
              <a:ahLst/>
              <a:rect l="l" t="t" r="r" b="b"/>
              <a:pathLst>
                <a:path w="1056" h="672">
                  <a:moveTo>
                    <a:pt x="0" y="672"/>
                  </a:moveTo>
                  <a:cubicBezTo>
                    <a:pt x="65" y="595"/>
                    <a:pt x="216" y="320"/>
                    <a:pt x="392" y="208"/>
                  </a:cubicBezTo>
                  <a:cubicBezTo>
                    <a:pt x="568" y="96"/>
                    <a:pt x="918" y="43"/>
                    <a:pt x="1056" y="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5181480" y="4191120"/>
            <a:ext cx="2895840" cy="1066680"/>
            <a:chOff x="5181480" y="4191120"/>
            <a:chExt cx="2895840" cy="1066680"/>
          </a:xfrm>
        </p:grpSpPr>
        <p:sp>
          <p:nvSpPr>
            <p:cNvPr id="306" name=""/>
            <p:cNvSpPr/>
            <p:nvPr/>
          </p:nvSpPr>
          <p:spPr>
            <a:xfrm flipV="1">
              <a:off x="5181480" y="4266720"/>
              <a:ext cx="762120" cy="3049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400800" y="4191120"/>
              <a:ext cx="1676520" cy="1066680"/>
            </a:xfrm>
            <a:custGeom>
              <a:avLst/>
              <a:gdLst/>
              <a:ahLst/>
              <a:rect l="l" t="t" r="r" b="b"/>
              <a:pathLst>
                <a:path w="1056" h="672">
                  <a:moveTo>
                    <a:pt x="1056" y="672"/>
                  </a:moveTo>
                  <a:cubicBezTo>
                    <a:pt x="1023" y="595"/>
                    <a:pt x="1032" y="320"/>
                    <a:pt x="856" y="208"/>
                  </a:cubicBezTo>
                  <a:cubicBezTo>
                    <a:pt x="680" y="96"/>
                    <a:pt x="178" y="43"/>
                    <a:pt x="0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3962520" y="3276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4724280" y="2743200"/>
            <a:ext cx="1600200" cy="45720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GP Based on CNF: Example 4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5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09480" y="1143000"/>
            <a:ext cx="82296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acbb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33520" y="6019920"/>
            <a:ext cx="7772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39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59236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345200" y="59450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94540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697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8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1112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87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6416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316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5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295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04812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724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40080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153280" y="5181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296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04956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725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40224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33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8620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562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238880" y="4495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135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8764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564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971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724280" y="3809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400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838080" y="3580920"/>
            <a:ext cx="3810240" cy="1676880"/>
            <a:chOff x="838080" y="3580920"/>
            <a:chExt cx="3810240" cy="1676880"/>
          </a:xfrm>
        </p:grpSpPr>
        <p:sp>
          <p:nvSpPr>
            <p:cNvPr id="345" name=""/>
            <p:cNvSpPr/>
            <p:nvPr/>
          </p:nvSpPr>
          <p:spPr>
            <a:xfrm flipH="1" flipV="1">
              <a:off x="3733920" y="3580920"/>
              <a:ext cx="914400" cy="30492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38080" y="3594240"/>
              <a:ext cx="2629080" cy="1663560"/>
            </a:xfrm>
            <a:custGeom>
              <a:avLst/>
              <a:gdLst/>
              <a:ahLst/>
              <a:rect l="l" t="t" r="r" b="b"/>
              <a:pathLst>
                <a:path w="1656" h="1048">
                  <a:moveTo>
                    <a:pt x="0" y="1048"/>
                  </a:moveTo>
                  <a:cubicBezTo>
                    <a:pt x="71" y="909"/>
                    <a:pt x="148" y="391"/>
                    <a:pt x="424" y="216"/>
                  </a:cubicBezTo>
                  <a:cubicBezTo>
                    <a:pt x="700" y="41"/>
                    <a:pt x="1399" y="45"/>
                    <a:pt x="1656" y="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4952880" y="2743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049560" y="32004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1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802040" y="32004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886200" y="3200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638680" y="3200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1676520" y="3581280"/>
            <a:ext cx="3855960" cy="990720"/>
            <a:chOff x="1676520" y="3581280"/>
            <a:chExt cx="3855960" cy="990720"/>
          </a:xfrm>
        </p:grpSpPr>
        <p:sp>
          <p:nvSpPr>
            <p:cNvPr id="353" name=""/>
            <p:cNvSpPr/>
            <p:nvPr/>
          </p:nvSpPr>
          <p:spPr>
            <a:xfrm>
              <a:off x="3809880" y="3581280"/>
              <a:ext cx="1722600" cy="965160"/>
            </a:xfrm>
            <a:custGeom>
              <a:avLst/>
              <a:gdLst/>
              <a:ahLst/>
              <a:rect l="l" t="t" r="r" b="b"/>
              <a:pathLst>
                <a:path w="1085" h="608">
                  <a:moveTo>
                    <a:pt x="1064" y="608"/>
                  </a:moveTo>
                  <a:cubicBezTo>
                    <a:pt x="1056" y="536"/>
                    <a:pt x="1085" y="252"/>
                    <a:pt x="1016" y="176"/>
                  </a:cubicBezTo>
                  <a:cubicBezTo>
                    <a:pt x="947" y="100"/>
                    <a:pt x="817" y="181"/>
                    <a:pt x="648" y="152"/>
                  </a:cubicBezTo>
                  <a:cubicBezTo>
                    <a:pt x="479" y="123"/>
                    <a:pt x="135" y="32"/>
                    <a:pt x="0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676520" y="3619440"/>
              <a:ext cx="1752480" cy="952560"/>
            </a:xfrm>
            <a:custGeom>
              <a:avLst/>
              <a:gdLst/>
              <a:ahLst/>
              <a:rect l="l" t="t" r="r" b="b"/>
              <a:pathLst>
                <a:path w="1104" h="600">
                  <a:moveTo>
                    <a:pt x="0" y="600"/>
                  </a:moveTo>
                  <a:cubicBezTo>
                    <a:pt x="47" y="535"/>
                    <a:pt x="96" y="308"/>
                    <a:pt x="280" y="208"/>
                  </a:cubicBezTo>
                  <a:cubicBezTo>
                    <a:pt x="464" y="108"/>
                    <a:pt x="932" y="43"/>
                    <a:pt x="1104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2590920" y="3606840"/>
            <a:ext cx="3821040" cy="1638360"/>
            <a:chOff x="2590920" y="3606840"/>
            <a:chExt cx="3821040" cy="1638360"/>
          </a:xfrm>
        </p:grpSpPr>
        <p:sp>
          <p:nvSpPr>
            <p:cNvPr id="356" name=""/>
            <p:cNvSpPr/>
            <p:nvPr/>
          </p:nvSpPr>
          <p:spPr>
            <a:xfrm>
              <a:off x="4000680" y="3606840"/>
              <a:ext cx="2411280" cy="1638360"/>
            </a:xfrm>
            <a:custGeom>
              <a:avLst/>
              <a:gdLst/>
              <a:ahLst/>
              <a:rect l="l" t="t" r="r" b="b"/>
              <a:pathLst>
                <a:path w="1519" h="1032">
                  <a:moveTo>
                    <a:pt x="1488" y="1032"/>
                  </a:moveTo>
                  <a:cubicBezTo>
                    <a:pt x="1481" y="959"/>
                    <a:pt x="1519" y="688"/>
                    <a:pt x="1448" y="592"/>
                  </a:cubicBezTo>
                  <a:cubicBezTo>
                    <a:pt x="1377" y="496"/>
                    <a:pt x="1153" y="535"/>
                    <a:pt x="1064" y="456"/>
                  </a:cubicBezTo>
                  <a:cubicBezTo>
                    <a:pt x="975" y="377"/>
                    <a:pt x="985" y="179"/>
                    <a:pt x="912" y="120"/>
                  </a:cubicBezTo>
                  <a:cubicBezTo>
                    <a:pt x="839" y="61"/>
                    <a:pt x="776" y="124"/>
                    <a:pt x="624" y="104"/>
                  </a:cubicBezTo>
                  <a:cubicBezTo>
                    <a:pt x="472" y="84"/>
                    <a:pt x="130" y="22"/>
                    <a:pt x="0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2590920" y="3657240"/>
              <a:ext cx="76176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2654280" y="3556080"/>
            <a:ext cx="3669840" cy="1727280"/>
            <a:chOff x="2654280" y="3556080"/>
            <a:chExt cx="3669840" cy="1727280"/>
          </a:xfrm>
        </p:grpSpPr>
        <p:sp>
          <p:nvSpPr>
            <p:cNvPr id="359" name=""/>
            <p:cNvSpPr/>
            <p:nvPr/>
          </p:nvSpPr>
          <p:spPr>
            <a:xfrm flipH="1" flipV="1">
              <a:off x="5676480" y="3645000"/>
              <a:ext cx="647640" cy="241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654280" y="3556080"/>
              <a:ext cx="2451240" cy="1727280"/>
            </a:xfrm>
            <a:custGeom>
              <a:avLst/>
              <a:gdLst/>
              <a:ahLst/>
              <a:rect l="l" t="t" r="r" b="b"/>
              <a:pathLst>
                <a:path w="1544" h="1088">
                  <a:moveTo>
                    <a:pt x="0" y="1088"/>
                  </a:moveTo>
                  <a:cubicBezTo>
                    <a:pt x="12" y="1016"/>
                    <a:pt x="3" y="751"/>
                    <a:pt x="80" y="656"/>
                  </a:cubicBezTo>
                  <a:cubicBezTo>
                    <a:pt x="157" y="561"/>
                    <a:pt x="375" y="599"/>
                    <a:pt x="464" y="520"/>
                  </a:cubicBezTo>
                  <a:cubicBezTo>
                    <a:pt x="553" y="441"/>
                    <a:pt x="543" y="243"/>
                    <a:pt x="616" y="184"/>
                  </a:cubicBezTo>
                  <a:cubicBezTo>
                    <a:pt x="689" y="125"/>
                    <a:pt x="749" y="199"/>
                    <a:pt x="904" y="168"/>
                  </a:cubicBezTo>
                  <a:cubicBezTo>
                    <a:pt x="1059" y="137"/>
                    <a:pt x="1411" y="35"/>
                    <a:pt x="1544" y="0"/>
                  </a:cubicBezTo>
                </a:path>
              </a:pathLst>
            </a:custGeom>
            <a:noFill/>
            <a:ln w="3816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3540240" y="3556080"/>
            <a:ext cx="3681360" cy="990360"/>
            <a:chOff x="3540240" y="3556080"/>
            <a:chExt cx="3681360" cy="990360"/>
          </a:xfrm>
        </p:grpSpPr>
        <p:sp>
          <p:nvSpPr>
            <p:cNvPr id="362" name=""/>
            <p:cNvSpPr/>
            <p:nvPr/>
          </p:nvSpPr>
          <p:spPr>
            <a:xfrm>
              <a:off x="5600880" y="3606840"/>
              <a:ext cx="1620720" cy="939600"/>
            </a:xfrm>
            <a:custGeom>
              <a:avLst/>
              <a:gdLst/>
              <a:ahLst/>
              <a:rect l="l" t="t" r="r" b="b"/>
              <a:pathLst>
                <a:path w="1021" h="592">
                  <a:moveTo>
                    <a:pt x="992" y="592"/>
                  </a:moveTo>
                  <a:cubicBezTo>
                    <a:pt x="969" y="521"/>
                    <a:pt x="1021" y="267"/>
                    <a:pt x="856" y="168"/>
                  </a:cubicBezTo>
                  <a:cubicBezTo>
                    <a:pt x="691" y="69"/>
                    <a:pt x="178" y="35"/>
                    <a:pt x="0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540240" y="3556080"/>
              <a:ext cx="1654200" cy="990360"/>
            </a:xfrm>
            <a:custGeom>
              <a:avLst/>
              <a:gdLst/>
              <a:ahLst/>
              <a:rect l="l" t="t" r="r" b="b"/>
              <a:pathLst>
                <a:path w="1042" h="624">
                  <a:moveTo>
                    <a:pt x="0" y="624"/>
                  </a:moveTo>
                  <a:cubicBezTo>
                    <a:pt x="18" y="565"/>
                    <a:pt x="34" y="345"/>
                    <a:pt x="106" y="272"/>
                  </a:cubicBezTo>
                  <a:cubicBezTo>
                    <a:pt x="178" y="199"/>
                    <a:pt x="278" y="229"/>
                    <a:pt x="434" y="184"/>
                  </a:cubicBezTo>
                  <a:cubicBezTo>
                    <a:pt x="590" y="139"/>
                    <a:pt x="915" y="38"/>
                    <a:pt x="1042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4343400" y="3580920"/>
            <a:ext cx="3746520" cy="1638720"/>
            <a:chOff x="4343400" y="3580920"/>
            <a:chExt cx="3746520" cy="1638720"/>
          </a:xfrm>
        </p:grpSpPr>
        <p:sp>
          <p:nvSpPr>
            <p:cNvPr id="365" name=""/>
            <p:cNvSpPr/>
            <p:nvPr/>
          </p:nvSpPr>
          <p:spPr>
            <a:xfrm flipV="1">
              <a:off x="4343400" y="3580920"/>
              <a:ext cx="8380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562720" y="3581280"/>
              <a:ext cx="2527200" cy="1638360"/>
            </a:xfrm>
            <a:custGeom>
              <a:avLst/>
              <a:gdLst/>
              <a:ahLst/>
              <a:rect l="l" t="t" r="r" b="b"/>
              <a:pathLst>
                <a:path w="1592" h="1032">
                  <a:moveTo>
                    <a:pt x="1592" y="1032"/>
                  </a:moveTo>
                  <a:cubicBezTo>
                    <a:pt x="1532" y="896"/>
                    <a:pt x="1497" y="388"/>
                    <a:pt x="1232" y="216"/>
                  </a:cubicBezTo>
                  <a:cubicBezTo>
                    <a:pt x="967" y="44"/>
                    <a:pt x="257" y="45"/>
                    <a:pt x="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2286000" y="2438280"/>
            <a:ext cx="1600200" cy="45720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GP Based on CNF: Example 5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5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9480" y="1143000"/>
            <a:ext cx="82296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acbb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33520" y="6019920"/>
            <a:ext cx="7772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39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59236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345200" y="59450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94540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697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58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21112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887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6416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316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5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04812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724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40080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153280" y="5181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296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04956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725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40224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133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88620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562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238880" y="4495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5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88764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564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71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724280" y="3809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400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514600" y="2438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32004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802040" y="32004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886200" y="3200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638680" y="3200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811320" y="259092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1, 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724280" y="25909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3505320" y="2895480"/>
            <a:ext cx="4495320" cy="2360880"/>
            <a:chOff x="3505320" y="2895480"/>
            <a:chExt cx="4495320" cy="2360880"/>
          </a:xfrm>
        </p:grpSpPr>
        <p:sp>
          <p:nvSpPr>
            <p:cNvPr id="410" name=""/>
            <p:cNvSpPr/>
            <p:nvPr/>
          </p:nvSpPr>
          <p:spPr>
            <a:xfrm flipV="1">
              <a:off x="3505320" y="3047760"/>
              <a:ext cx="76176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4647600" y="2895480"/>
              <a:ext cx="3352680" cy="2360880"/>
            </a:xfrm>
            <a:custGeom>
              <a:avLst/>
              <a:gdLst/>
              <a:ahLst/>
              <a:rect l="l" t="t" r="r" b="b"/>
              <a:pathLst>
                <a:path w="2112" h="1487">
                  <a:moveTo>
                    <a:pt x="0" y="1487"/>
                  </a:moveTo>
                  <a:cubicBezTo>
                    <a:pt x="88" y="1279"/>
                    <a:pt x="176" y="478"/>
                    <a:pt x="528" y="239"/>
                  </a:cubicBezTo>
                  <a:cubicBezTo>
                    <a:pt x="880" y="0"/>
                    <a:pt x="1782" y="93"/>
                    <a:pt x="2112" y="55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914400" y="2884320"/>
            <a:ext cx="4572000" cy="2360880"/>
            <a:chOff x="914400" y="2884320"/>
            <a:chExt cx="4572000" cy="2360880"/>
          </a:xfrm>
        </p:grpSpPr>
        <p:sp>
          <p:nvSpPr>
            <p:cNvPr id="413" name=""/>
            <p:cNvSpPr/>
            <p:nvPr/>
          </p:nvSpPr>
          <p:spPr>
            <a:xfrm>
              <a:off x="914400" y="2884320"/>
              <a:ext cx="3352680" cy="2360880"/>
            </a:xfrm>
            <a:custGeom>
              <a:avLst/>
              <a:gdLst/>
              <a:ahLst/>
              <a:rect l="l" t="t" r="r" b="b"/>
              <a:pathLst>
                <a:path w="2112" h="1487">
                  <a:moveTo>
                    <a:pt x="0" y="1487"/>
                  </a:moveTo>
                  <a:cubicBezTo>
                    <a:pt x="88" y="1279"/>
                    <a:pt x="176" y="478"/>
                    <a:pt x="528" y="239"/>
                  </a:cubicBezTo>
                  <a:cubicBezTo>
                    <a:pt x="880" y="0"/>
                    <a:pt x="1782" y="93"/>
                    <a:pt x="2112" y="55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 flipV="1">
              <a:off x="4648320" y="3047760"/>
              <a:ext cx="838080" cy="22860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2532240" y="3009960"/>
            <a:ext cx="4724280" cy="1560600"/>
            <a:chOff x="2532240" y="3009960"/>
            <a:chExt cx="4724280" cy="1560600"/>
          </a:xfrm>
        </p:grpSpPr>
        <p:sp>
          <p:nvSpPr>
            <p:cNvPr id="416" name=""/>
            <p:cNvSpPr/>
            <p:nvPr/>
          </p:nvSpPr>
          <p:spPr>
            <a:xfrm>
              <a:off x="2532240" y="3009960"/>
              <a:ext cx="1684080" cy="825480"/>
            </a:xfrm>
            <a:custGeom>
              <a:avLst/>
              <a:gdLst/>
              <a:ahLst/>
              <a:rect l="l" t="t" r="r" b="b"/>
              <a:pathLst>
                <a:path w="1061" h="520">
                  <a:moveTo>
                    <a:pt x="0" y="520"/>
                  </a:moveTo>
                  <a:cubicBezTo>
                    <a:pt x="46" y="464"/>
                    <a:pt x="100" y="271"/>
                    <a:pt x="277" y="184"/>
                  </a:cubicBezTo>
                  <a:cubicBezTo>
                    <a:pt x="454" y="97"/>
                    <a:pt x="898" y="38"/>
                    <a:pt x="1061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624560" y="3021120"/>
              <a:ext cx="2631960" cy="1549440"/>
            </a:xfrm>
            <a:custGeom>
              <a:avLst/>
              <a:gdLst/>
              <a:ahLst/>
              <a:rect l="l" t="t" r="r" b="b"/>
              <a:pathLst>
                <a:path w="1658" h="976">
                  <a:moveTo>
                    <a:pt x="1600" y="976"/>
                  </a:moveTo>
                  <a:cubicBezTo>
                    <a:pt x="1565" y="842"/>
                    <a:pt x="1658" y="332"/>
                    <a:pt x="1391" y="169"/>
                  </a:cubicBezTo>
                  <a:cubicBezTo>
                    <a:pt x="1124" y="6"/>
                    <a:pt x="290" y="35"/>
                    <a:pt x="0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1735200" y="3009960"/>
            <a:ext cx="4857840" cy="1549440"/>
            <a:chOff x="1735200" y="3009960"/>
            <a:chExt cx="4857840" cy="1549440"/>
          </a:xfrm>
        </p:grpSpPr>
        <p:sp>
          <p:nvSpPr>
            <p:cNvPr id="419" name=""/>
            <p:cNvSpPr/>
            <p:nvPr/>
          </p:nvSpPr>
          <p:spPr>
            <a:xfrm>
              <a:off x="1735200" y="3009960"/>
              <a:ext cx="2557440" cy="1549440"/>
            </a:xfrm>
            <a:custGeom>
              <a:avLst/>
              <a:gdLst/>
              <a:ahLst/>
              <a:rect l="l" t="t" r="r" b="b"/>
              <a:pathLst>
                <a:path w="1611" h="976">
                  <a:moveTo>
                    <a:pt x="11" y="976"/>
                  </a:moveTo>
                  <a:cubicBezTo>
                    <a:pt x="54" y="851"/>
                    <a:pt x="0" y="387"/>
                    <a:pt x="267" y="224"/>
                  </a:cubicBezTo>
                  <a:cubicBezTo>
                    <a:pt x="534" y="61"/>
                    <a:pt x="1331" y="47"/>
                    <a:pt x="1611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700520" y="3021120"/>
              <a:ext cx="1892520" cy="825480"/>
            </a:xfrm>
            <a:custGeom>
              <a:avLst/>
              <a:gdLst/>
              <a:ahLst/>
              <a:rect l="l" t="t" r="r" b="b"/>
              <a:pathLst>
                <a:path w="1192" h="520">
                  <a:moveTo>
                    <a:pt x="1061" y="520"/>
                  </a:moveTo>
                  <a:cubicBezTo>
                    <a:pt x="1053" y="457"/>
                    <a:pt x="1192" y="232"/>
                    <a:pt x="1015" y="145"/>
                  </a:cubicBezTo>
                  <a:cubicBezTo>
                    <a:pt x="838" y="58"/>
                    <a:pt x="211" y="30"/>
                    <a:pt x="0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5715000" y="24382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7467480" y="2438280"/>
            <a:ext cx="1295640" cy="520560"/>
            <a:chOff x="7467480" y="2438280"/>
            <a:chExt cx="1295640" cy="520560"/>
          </a:xfrm>
        </p:grpSpPr>
        <p:sp>
          <p:nvSpPr>
            <p:cNvPr id="423" name=""/>
            <p:cNvSpPr/>
            <p:nvPr/>
          </p:nvSpPr>
          <p:spPr>
            <a:xfrm>
              <a:off x="7467480" y="2514600"/>
              <a:ext cx="381240" cy="380880"/>
            </a:xfrm>
            <a:prstGeom prst="righ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848720" y="24382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33cc"/>
                  </a:solidFill>
                  <a:latin typeface="Times New Roman"/>
                </a:rPr>
                <a:t>Y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685800" y="1219320"/>
            <a:ext cx="7775640" cy="2176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CFL.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Then, there exists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1 such that: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there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exist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w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, x, 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so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z = uvw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and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w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for each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 for CF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33520" y="3061440"/>
            <a:ext cx="822960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) generate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i="1" lang="en-US" sz="27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</a:t>
            </a:r>
            <a:r>
              <a:rPr b="0" i="1" lang="en-US" sz="27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},  so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CF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33520" y="4190400"/>
            <a:ext cx="632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l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15440" y="4571280"/>
            <a:ext cx="56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5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828800" y="5029200"/>
            <a:ext cx="0" cy="2286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057400" y="502920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260440" y="5029200"/>
            <a:ext cx="0" cy="2286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602000" y="5028480"/>
            <a:ext cx="126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819240" y="5027760"/>
            <a:ext cx="4772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860160" y="6018840"/>
            <a:ext cx="729000" cy="4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10560" y="5714280"/>
            <a:ext cx="2804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vw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| =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1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476440" y="502920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92440" y="5029200"/>
            <a:ext cx="0" cy="2286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25760" y="548532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v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373760" y="6422040"/>
            <a:ext cx="729000" cy="4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14360" y="6095160"/>
            <a:ext cx="606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5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09480" y="10666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any context-free languag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838080" y="2438280"/>
            <a:ext cx="6705720" cy="962640"/>
            <a:chOff x="838080" y="2438280"/>
            <a:chExt cx="6705720" cy="962640"/>
          </a:xfrm>
        </p:grpSpPr>
        <p:sp>
          <p:nvSpPr>
            <p:cNvPr id="448" name=""/>
            <p:cNvSpPr/>
            <p:nvPr/>
          </p:nvSpPr>
          <p:spPr>
            <a:xfrm>
              <a:off x="838080" y="2971800"/>
              <a:ext cx="5715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rot="16200000">
              <a:off x="2590560" y="1066320"/>
              <a:ext cx="152280" cy="3657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362320" y="24382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705720" y="28195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05320" y="2819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495680" y="2971800"/>
              <a:ext cx="0" cy="38088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685800" y="1523880"/>
            <a:ext cx="7772400" cy="990720"/>
            <a:chOff x="685800" y="1523880"/>
            <a:chExt cx="7772400" cy="990720"/>
          </a:xfrm>
        </p:grpSpPr>
        <p:sp>
          <p:nvSpPr>
            <p:cNvPr id="456" name=""/>
            <p:cNvSpPr/>
            <p:nvPr/>
          </p:nvSpPr>
          <p:spPr>
            <a:xfrm>
              <a:off x="838080" y="2057400"/>
              <a:ext cx="266724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rot="16200000">
              <a:off x="2590560" y="151920"/>
              <a:ext cx="152280" cy="3657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362320" y="15238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828800" y="19051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800600" y="1905120"/>
              <a:ext cx="685800" cy="380880"/>
            </a:xfrm>
            <a:prstGeom prst="rightArrow">
              <a:avLst>
                <a:gd name="adj1" fmla="val 50000"/>
                <a:gd name="adj2" fmla="val 4501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505320" y="19051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486400" y="1828800"/>
              <a:ext cx="2819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nothing interesting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85800" y="25146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3048120" y="3429000"/>
            <a:ext cx="1523880" cy="380880"/>
          </a:xfrm>
          <a:prstGeom prst="downArrow">
            <a:avLst>
              <a:gd name="adj1" fmla="val 45694"/>
              <a:gd name="adj2" fmla="val 5277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838080" y="3352680"/>
            <a:ext cx="6934320" cy="1145520"/>
            <a:chOff x="838080" y="3352680"/>
            <a:chExt cx="6934320" cy="1145520"/>
          </a:xfrm>
        </p:grpSpPr>
        <p:sp>
          <p:nvSpPr>
            <p:cNvPr id="466" name=""/>
            <p:cNvSpPr/>
            <p:nvPr/>
          </p:nvSpPr>
          <p:spPr>
            <a:xfrm>
              <a:off x="2362320" y="3962520"/>
              <a:ext cx="1218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38080" y="3962520"/>
              <a:ext cx="7621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600200" y="396252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666880" y="3809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914400" y="3809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16200000">
              <a:off x="2590560" y="2057400"/>
              <a:ext cx="152640" cy="3657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676520" y="3809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362320" y="33526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477120" y="3733920"/>
              <a:ext cx="1295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400" spc="-1" strike="noStrike">
                  <a:solidFill>
                    <a:srgbClr val="ff66ff"/>
                  </a:solidFill>
                  <a:latin typeface="Times New Roman"/>
                </a:rPr>
                <a:t>= </a:t>
              </a:r>
              <a:r>
                <a:rPr b="1" i="1" lang="cs-CZ" sz="40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343400" y="3962520"/>
              <a:ext cx="220968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581280" y="396252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181480" y="3809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657600" y="3809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457200" y="4267080"/>
            <a:ext cx="3962520" cy="612360"/>
            <a:chOff x="457200" y="4267080"/>
            <a:chExt cx="3962520" cy="612360"/>
          </a:xfrm>
        </p:grpSpPr>
        <p:sp>
          <p:nvSpPr>
            <p:cNvPr id="480" name=""/>
            <p:cNvSpPr/>
            <p:nvPr/>
          </p:nvSpPr>
          <p:spPr>
            <a:xfrm flipV="1" rot="5400000">
              <a:off x="1866960" y="4075560"/>
              <a:ext cx="228600" cy="76212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828800" y="441972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</a:t>
              </a: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57200" y="4267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 rot="5400000">
              <a:off x="3848040" y="4075560"/>
              <a:ext cx="228600" cy="76212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733920" y="44197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</a:t>
              </a: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666880" y="4343400"/>
              <a:ext cx="99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o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457200" y="4419720"/>
            <a:ext cx="3886200" cy="840600"/>
            <a:chOff x="457200" y="4419720"/>
            <a:chExt cx="3886200" cy="840600"/>
          </a:xfrm>
        </p:grpSpPr>
        <p:sp>
          <p:nvSpPr>
            <p:cNvPr id="487" name=""/>
            <p:cNvSpPr/>
            <p:nvPr/>
          </p:nvSpPr>
          <p:spPr>
            <a:xfrm flipV="1" rot="5400000">
              <a:off x="2819160" y="3503880"/>
              <a:ext cx="304920" cy="274320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71280 h 2743200"/>
                <a:gd name="textAreaBottom" fmla="*/ 2671920 h 274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343400" y="4419720"/>
              <a:ext cx="0" cy="304560"/>
            </a:xfrm>
            <a:prstGeom prst="line">
              <a:avLst/>
            </a:prstGeom>
            <a:ln w="38160">
              <a:solidFill>
                <a:srgbClr val="3399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971800" y="4800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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572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9933"/>
                  </a:solidFill>
                  <a:latin typeface="Times New Roman"/>
                </a:rPr>
                <a:t>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600200" y="4419720"/>
              <a:ext cx="0" cy="304560"/>
            </a:xfrm>
            <a:prstGeom prst="line">
              <a:avLst/>
            </a:prstGeom>
            <a:ln w="38160">
              <a:solidFill>
                <a:srgbClr val="3399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457200" y="5105520"/>
            <a:ext cx="8381880" cy="1753560"/>
            <a:chOff x="457200" y="5105520"/>
            <a:chExt cx="8381880" cy="1753560"/>
          </a:xfrm>
        </p:grpSpPr>
        <p:sp>
          <p:nvSpPr>
            <p:cNvPr id="493" name=""/>
            <p:cNvSpPr/>
            <p:nvPr/>
          </p:nvSpPr>
          <p:spPr>
            <a:xfrm>
              <a:off x="5105520" y="51055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57200" y="5181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553080" y="553068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001000" y="60199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038480" y="6216480"/>
              <a:ext cx="838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362320" y="5715000"/>
              <a:ext cx="1218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38080" y="5715000"/>
              <a:ext cx="7621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600200" y="571500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666880" y="556272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914400" y="55627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676520" y="55627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343400" y="5715000"/>
              <a:ext cx="220968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581280" y="571500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181480" y="556272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657600" y="55627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838080" y="5257800"/>
              <a:ext cx="7621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914400" y="5105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600200" y="5257800"/>
              <a:ext cx="1219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905120" y="5105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819520" y="5257800"/>
              <a:ext cx="220968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657600" y="5105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124080" y="6172200"/>
              <a:ext cx="1219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38080" y="6172200"/>
              <a:ext cx="7621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600200" y="617220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429000" y="6019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914400" y="6019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676520" y="6019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791320" y="6172200"/>
              <a:ext cx="220968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343400" y="617220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629400" y="6019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419720" y="6019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362320" y="6172200"/>
              <a:ext cx="76176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438280" y="601992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105520" y="6172200"/>
              <a:ext cx="76176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181480" y="601992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: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09480" y="1066680"/>
            <a:ext cx="8382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Based on the pumping lemma for CFL, we often make a proof by contradiction to demonstrate that a language is </a:t>
            </a:r>
            <a:r>
              <a:rPr b="1" lang="en-GB" sz="25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a CFL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590920" y="2151720"/>
            <a:ext cx="388620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ssu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F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829440" y="2666880"/>
            <a:ext cx="7323840" cy="1295640"/>
            <a:chOff x="829440" y="2666880"/>
            <a:chExt cx="7323840" cy="1295640"/>
          </a:xfrm>
        </p:grpSpPr>
        <p:sp>
          <p:nvSpPr>
            <p:cNvPr id="532" name=""/>
            <p:cNvSpPr/>
            <p:nvPr/>
          </p:nvSpPr>
          <p:spPr>
            <a:xfrm>
              <a:off x="1219320" y="3048120"/>
              <a:ext cx="6933960" cy="914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29440" y="3061800"/>
              <a:ext cx="7291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Consider the PL constant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and select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, whos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176480" y="3428640"/>
              <a:ext cx="60343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length depends on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so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|z|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is surely true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575240" y="2666880"/>
              <a:ext cx="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783720" y="3962520"/>
            <a:ext cx="7868880" cy="1547640"/>
            <a:chOff x="783720" y="3962520"/>
            <a:chExt cx="7868880" cy="1547640"/>
          </a:xfrm>
        </p:grpSpPr>
        <p:sp>
          <p:nvSpPr>
            <p:cNvPr id="537" name=""/>
            <p:cNvSpPr/>
            <p:nvPr/>
          </p:nvSpPr>
          <p:spPr>
            <a:xfrm>
              <a:off x="838080" y="4267080"/>
              <a:ext cx="7696440" cy="12193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83720" y="4298040"/>
              <a:ext cx="786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lang="en-GB" sz="2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all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 decompositions of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 into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</a:rPr>
                <a:t>uvwxy</a:t>
              </a:r>
              <a:r>
                <a:rPr b="0" lang="cs-CZ" sz="2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vx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ε</a:t>
              </a:r>
              <a:r>
                <a:rPr b="0" lang="cs-CZ" sz="2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cs-CZ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2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cs-CZ" sz="2200" spc="-1" strike="noStrike">
                  <a:solidFill>
                    <a:srgbClr val="000000"/>
                  </a:solidFill>
                  <a:latin typeface="Times New Roman"/>
                </a:rPr>
                <a:t>vwx</a:t>
              </a:r>
              <a:r>
                <a:rPr b="0" lang="cs-CZ" sz="22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0" lang="cs-CZ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cs-CZ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2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, show tha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823680" y="4669200"/>
              <a:ext cx="538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there exists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0 such that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1" i="1" lang="en-GB" sz="24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wx</a:t>
              </a:r>
              <a:r>
                <a:rPr b="1" i="1" lang="en-GB" sz="24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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855360" y="5050440"/>
              <a:ext cx="522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rom the pumping lemma,  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1" i="1" lang="en-GB" sz="24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wx</a:t>
              </a:r>
              <a:r>
                <a:rPr b="1" i="1" lang="en-GB" sz="24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172200" y="4800600"/>
              <a:ext cx="152280" cy="60948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323400" y="4799520"/>
              <a:ext cx="2291400" cy="5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900" spc="-1" strike="noStrike">
                  <a:solidFill>
                    <a:srgbClr val="ff0000"/>
                  </a:solidFill>
                  <a:latin typeface="Times New Roman"/>
                </a:rPr>
                <a:t>contradiction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572000" y="396252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676800" y="5486400"/>
            <a:ext cx="2779560" cy="843120"/>
            <a:chOff x="676800" y="5486400"/>
            <a:chExt cx="2779560" cy="843120"/>
          </a:xfrm>
        </p:grpSpPr>
        <p:sp>
          <p:nvSpPr>
            <p:cNvPr id="545" name=""/>
            <p:cNvSpPr/>
            <p:nvPr/>
          </p:nvSpPr>
          <p:spPr>
            <a:xfrm>
              <a:off x="676800" y="5808960"/>
              <a:ext cx="2779560" cy="520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false</a:t>
              </a: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assumption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941120" y="548640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685800" y="2361960"/>
            <a:ext cx="1904760" cy="3429000"/>
            <a:chOff x="685800" y="2361960"/>
            <a:chExt cx="1904760" cy="3429000"/>
          </a:xfrm>
        </p:grpSpPr>
        <p:sp>
          <p:nvSpPr>
            <p:cNvPr id="548" name=""/>
            <p:cNvSpPr/>
            <p:nvPr/>
          </p:nvSpPr>
          <p:spPr>
            <a:xfrm flipV="1">
              <a:off x="685800" y="2361960"/>
              <a:ext cx="0" cy="342900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85800" y="2362320"/>
              <a:ext cx="190476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0" name=""/>
          <p:cNvSpPr/>
          <p:nvPr/>
        </p:nvSpPr>
        <p:spPr>
          <a:xfrm>
            <a:off x="3809880" y="5791320"/>
            <a:ext cx="1676520" cy="457200"/>
          </a:xfrm>
          <a:prstGeom prst="rightArrow">
            <a:avLst>
              <a:gd name="adj1" fmla="val 50000"/>
              <a:gd name="adj2" fmla="val 91673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5638680" y="5562000"/>
            <a:ext cx="2895840" cy="931680"/>
            <a:chOff x="5638680" y="5562000"/>
            <a:chExt cx="2895840" cy="931680"/>
          </a:xfrm>
        </p:grpSpPr>
        <p:sp>
          <p:nvSpPr>
            <p:cNvPr id="552" name=""/>
            <p:cNvSpPr/>
            <p:nvPr/>
          </p:nvSpPr>
          <p:spPr>
            <a:xfrm>
              <a:off x="5638680" y="5653080"/>
              <a:ext cx="2895840" cy="8380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168960" y="5562000"/>
              <a:ext cx="1778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Therefore,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886360" y="5942880"/>
              <a:ext cx="2534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0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</a:rPr>
                <a:t> is not a CFL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: Example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09480" y="114300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ro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 is no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L.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57200" y="1676520"/>
            <a:ext cx="81532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ssume that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CFL. Let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1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e the pum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mma constant for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57200" y="25909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= 3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57200" y="304812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l decompositions of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nto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uvwx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w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219320" y="396144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aaa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c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rot="5400000">
            <a:off x="3314520" y="3619440"/>
            <a:ext cx="152640" cy="1905120"/>
          </a:xfrm>
          <a:custGeom>
            <a:avLst/>
            <a:gdLst>
              <a:gd name="textAreaLeft" fmla="*/ 0 w 152640"/>
              <a:gd name="textAreaRight" fmla="*/ 55080 w 15264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rot="5400000">
            <a:off x="5333760" y="3657600"/>
            <a:ext cx="152640" cy="1828800"/>
          </a:xfrm>
          <a:custGeom>
            <a:avLst/>
            <a:gdLst>
              <a:gd name="textAreaLeft" fmla="*/ 0 w 152640"/>
              <a:gd name="textAreaRight" fmla="*/ 55080 w 15264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V="1" rot="16200000">
            <a:off x="2492280" y="3145680"/>
            <a:ext cx="144360" cy="1776240"/>
          </a:xfrm>
          <a:custGeom>
            <a:avLst/>
            <a:gdLst>
              <a:gd name="textAreaLeft" fmla="*/ 0 w 144360"/>
              <a:gd name="textAreaRight" fmla="*/ 52200 w 144360"/>
              <a:gd name="textAreaTop" fmla="*/ 46080 h 1776240"/>
              <a:gd name="textAreaBottom" fmla="*/ 1730160 h 1776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362320" y="3428280"/>
            <a:ext cx="449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               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V="1" rot="16200000">
            <a:off x="4385160" y="3081600"/>
            <a:ext cx="144360" cy="1904760"/>
          </a:xfrm>
          <a:custGeom>
            <a:avLst/>
            <a:gdLst>
              <a:gd name="textAreaLeft" fmla="*/ 0 w 144360"/>
              <a:gd name="textAreaRight" fmla="*/ 52200 w 14436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3048120" y="4724280"/>
            <a:ext cx="30456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486400" y="4724280"/>
            <a:ext cx="30492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914400" y="5029200"/>
            <a:ext cx="3352680" cy="1007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vw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GB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V="1" rot="16200000">
            <a:off x="6225840" y="3145680"/>
            <a:ext cx="144360" cy="1776600"/>
          </a:xfrm>
          <a:custGeom>
            <a:avLst/>
            <a:gdLst>
              <a:gd name="textAreaLeft" fmla="*/ 0 w 144360"/>
              <a:gd name="textAreaRight" fmla="*/ 52200 w 144360"/>
              <a:gd name="textAreaTop" fmla="*/ 46080 h 1776600"/>
              <a:gd name="textAreaBottom" fmla="*/ 1730520 h 1776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911840" y="5029200"/>
            <a:ext cx="3081240" cy="1007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w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 rot="5400000">
            <a:off x="4381200" y="2019240"/>
            <a:ext cx="152280" cy="228600"/>
          </a:xfrm>
          <a:custGeom>
            <a:avLst/>
            <a:gdLst>
              <a:gd name="textAreaLeft" fmla="*/ 0 w 152280"/>
              <a:gd name="textAreaRight" fmla="*/ 55080 w 15228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rot="5400000">
            <a:off x="7543440" y="1371240"/>
            <a:ext cx="152280" cy="1523880"/>
          </a:xfrm>
          <a:custGeom>
            <a:avLst/>
            <a:gdLst>
              <a:gd name="textAreaLeft" fmla="*/ 0 w 152280"/>
              <a:gd name="textAreaRight" fmla="*/ 55080 w 15228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rot="5400000">
            <a:off x="5638680" y="1066680"/>
            <a:ext cx="152280" cy="2133360"/>
          </a:xfrm>
          <a:custGeom>
            <a:avLst/>
            <a:gdLst>
              <a:gd name="textAreaLeft" fmla="*/ 0 w 152280"/>
              <a:gd name="textAreaRight" fmla="*/ 55080 w 15228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269240" y="2056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257800" y="2056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w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7478280" y="20563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: Example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09480" y="1066680"/>
            <a:ext cx="365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vw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GB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25320" y="2361600"/>
            <a:ext cx="2917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w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990720" y="59580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0000"/>
                </a:solidFill>
                <a:latin typeface="Times New Roman"/>
              </a:rPr>
              <a:t>All these decompositions lead to a contradiction!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609480" y="6338160"/>
            <a:ext cx="7772400" cy="520560"/>
            <a:chOff x="609480" y="6338160"/>
            <a:chExt cx="7772400" cy="520560"/>
          </a:xfrm>
        </p:grpSpPr>
        <p:sp>
          <p:nvSpPr>
            <p:cNvPr id="585" name=""/>
            <p:cNvSpPr/>
            <p:nvPr/>
          </p:nvSpPr>
          <p:spPr>
            <a:xfrm>
              <a:off x="609480" y="64152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09480" y="6338160"/>
              <a:ext cx="555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4) 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Therefore,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is not a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L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7" name=""/>
          <p:cNvSpPr/>
          <p:nvPr/>
        </p:nvSpPr>
        <p:spPr>
          <a:xfrm flipV="1">
            <a:off x="4343400" y="1600200"/>
            <a:ext cx="228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648320" y="1600200"/>
            <a:ext cx="2133360" cy="4572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858000" y="1600200"/>
            <a:ext cx="152388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267080" y="152316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 a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 rot="16200000">
            <a:off x="4952880" y="83736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876920" y="10656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k 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    k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V="1" rot="16200000">
            <a:off x="6324480" y="83736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 rot="16200000">
            <a:off x="7657920" y="875520"/>
            <a:ext cx="152280" cy="1295280"/>
          </a:xfrm>
          <a:custGeom>
            <a:avLst/>
            <a:gdLst>
              <a:gd name="textAreaLeft" fmla="*/ 0 w 152280"/>
              <a:gd name="textAreaRight" fmla="*/ 5508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09480" y="1523880"/>
            <a:ext cx="30481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Pumping lemma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rot="5400000">
            <a:off x="3542760" y="2857320"/>
            <a:ext cx="152640" cy="228600"/>
          </a:xfrm>
          <a:custGeom>
            <a:avLst/>
            <a:gdLst>
              <a:gd name="textAreaLeft" fmla="*/ 0 w 152640"/>
              <a:gd name="textAreaRight" fmla="*/ 55080 w 15264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rot="5400000">
            <a:off x="6705000" y="2209680"/>
            <a:ext cx="152640" cy="1523880"/>
          </a:xfrm>
          <a:custGeom>
            <a:avLst/>
            <a:gdLst>
              <a:gd name="textAreaLeft" fmla="*/ 0 w 152640"/>
              <a:gd name="textAreaRight" fmla="*/ 55080 w 1526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rot="5400000">
            <a:off x="4799880" y="2133360"/>
            <a:ext cx="152640" cy="1676520"/>
          </a:xfrm>
          <a:custGeom>
            <a:avLst/>
            <a:gdLst>
              <a:gd name="textAreaLeft" fmla="*/ 0 w 152640"/>
              <a:gd name="textAreaRight" fmla="*/ 55080 w 15264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421440" y="2894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410000" y="28944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630480" y="28944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3505320" y="2438280"/>
            <a:ext cx="228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038480" y="2438280"/>
            <a:ext cx="1676520" cy="4572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019920" y="2438280"/>
            <a:ext cx="152388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429000" y="236124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 a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33520" y="3200400"/>
            <a:ext cx="8076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uwy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contains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but fewer than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09480" y="3657600"/>
            <a:ext cx="8001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rot="5400000">
            <a:off x="8115120" y="4533840"/>
            <a:ext cx="152280" cy="228600"/>
          </a:xfrm>
          <a:custGeom>
            <a:avLst/>
            <a:gdLst>
              <a:gd name="textAreaLeft" fmla="*/ 0 w 152280"/>
              <a:gd name="textAreaRight" fmla="*/ 55080 w 15228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rot="5400000">
            <a:off x="4914720" y="3924000"/>
            <a:ext cx="152280" cy="1447920"/>
          </a:xfrm>
          <a:custGeom>
            <a:avLst/>
            <a:gdLst>
              <a:gd name="textAreaLeft" fmla="*/ 0 w 152280"/>
              <a:gd name="textAreaRight" fmla="*/ 55080 w 15228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rot="5400000">
            <a:off x="6819840" y="3543120"/>
            <a:ext cx="152280" cy="2209680"/>
          </a:xfrm>
          <a:custGeom>
            <a:avLst/>
            <a:gdLst>
              <a:gd name="textAreaLeft" fmla="*/ 0 w 152280"/>
              <a:gd name="textAreaRight" fmla="*/ 55080 w 15228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802400" y="4570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400800" y="4570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w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8078400" y="4570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33520" y="3581280"/>
            <a:ext cx="365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w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49360" y="4876200"/>
            <a:ext cx="2917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w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8077320" y="4114800"/>
            <a:ext cx="228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791320" y="4114800"/>
            <a:ext cx="2209680" cy="4572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267080" y="4114800"/>
            <a:ext cx="14479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191120" y="4037760"/>
            <a:ext cx="41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V="1" rot="16200000">
            <a:off x="4876560" y="335196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800600" y="35802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k 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    k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V="1" rot="16200000">
            <a:off x="6248160" y="335196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 rot="16200000">
            <a:off x="7581600" y="3390120"/>
            <a:ext cx="152280" cy="1295640"/>
          </a:xfrm>
          <a:custGeom>
            <a:avLst/>
            <a:gdLst>
              <a:gd name="textAreaLeft" fmla="*/ 0 w 152280"/>
              <a:gd name="textAreaRight" fmla="*/ 55080 w 15228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rot="5400000">
            <a:off x="7200360" y="5371920"/>
            <a:ext cx="152640" cy="228600"/>
          </a:xfrm>
          <a:custGeom>
            <a:avLst/>
            <a:gdLst>
              <a:gd name="textAreaLeft" fmla="*/ 0 w 152640"/>
              <a:gd name="textAreaRight" fmla="*/ 55080 w 15264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rot="5400000">
            <a:off x="4114080" y="4724280"/>
            <a:ext cx="152640" cy="1523880"/>
          </a:xfrm>
          <a:custGeom>
            <a:avLst/>
            <a:gdLst>
              <a:gd name="textAreaLeft" fmla="*/ 0 w 152640"/>
              <a:gd name="textAreaRight" fmla="*/ 55080 w 1526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rot="5400000">
            <a:off x="6019200" y="4647960"/>
            <a:ext cx="152640" cy="1676520"/>
          </a:xfrm>
          <a:custGeom>
            <a:avLst/>
            <a:gdLst>
              <a:gd name="textAreaLeft" fmla="*/ 0 w 152640"/>
              <a:gd name="textAreaRight" fmla="*/ 55080 w 15264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105320" y="5409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638680" y="5409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032720" y="540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7162920" y="4952880"/>
            <a:ext cx="228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257800" y="4952880"/>
            <a:ext cx="1676520" cy="4572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429000" y="4952880"/>
            <a:ext cx="152388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352680" y="487584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cs-CZ" sz="20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33520" y="5638680"/>
            <a:ext cx="8076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uwy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contains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but fewer than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09480" y="4038480"/>
            <a:ext cx="30481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Pumping lemma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osure properties of CF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609480" y="3123360"/>
            <a:ext cx="8305920" cy="2363040"/>
            <a:chOff x="609480" y="3123360"/>
            <a:chExt cx="8305920" cy="2363040"/>
          </a:xfrm>
        </p:grpSpPr>
        <p:sp>
          <p:nvSpPr>
            <p:cNvPr id="639" name=""/>
            <p:cNvSpPr/>
            <p:nvPr/>
          </p:nvSpPr>
          <p:spPr>
            <a:xfrm>
              <a:off x="2438280" y="4419720"/>
              <a:ext cx="2743200" cy="10666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629320" y="4267080"/>
              <a:ext cx="2981160" cy="10076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The family of CF language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09480" y="312336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Illustration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09480" y="3505320"/>
              <a:ext cx="8305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The family of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F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languages is closed unde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union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915480" y="3885480"/>
              <a:ext cx="149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It means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5105520" y="4571640"/>
              <a:ext cx="5238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85800" y="1143000"/>
            <a:ext cx="7696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family o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s is closed under 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peration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language resulting from the application of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n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 as wel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1523880" y="4952880"/>
            <a:ext cx="1660320" cy="1334520"/>
            <a:chOff x="1523880" y="4952880"/>
            <a:chExt cx="1660320" cy="1334520"/>
          </a:xfrm>
        </p:grpSpPr>
        <p:sp>
          <p:nvSpPr>
            <p:cNvPr id="649" name=""/>
            <p:cNvSpPr/>
            <p:nvPr/>
          </p:nvSpPr>
          <p:spPr>
            <a:xfrm>
              <a:off x="152388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H="1">
              <a:off x="1980720" y="4952880"/>
              <a:ext cx="120348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1" name=""/>
          <p:cNvGrpSpPr/>
          <p:nvPr/>
        </p:nvGrpSpPr>
        <p:grpSpPr>
          <a:xfrm>
            <a:off x="3276720" y="4724280"/>
            <a:ext cx="914400" cy="1563120"/>
            <a:chOff x="3276720" y="4724280"/>
            <a:chExt cx="914400" cy="1563120"/>
          </a:xfrm>
        </p:grpSpPr>
        <p:sp>
          <p:nvSpPr>
            <p:cNvPr id="652" name=""/>
            <p:cNvSpPr/>
            <p:nvPr/>
          </p:nvSpPr>
          <p:spPr>
            <a:xfrm>
              <a:off x="327672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733920" y="472428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2590920" y="5638680"/>
            <a:ext cx="2286000" cy="581400"/>
            <a:chOff x="2590920" y="5638680"/>
            <a:chExt cx="2286000" cy="581400"/>
          </a:xfrm>
        </p:grpSpPr>
        <p:sp>
          <p:nvSpPr>
            <p:cNvPr id="655" name=""/>
            <p:cNvSpPr/>
            <p:nvPr/>
          </p:nvSpPr>
          <p:spPr>
            <a:xfrm>
              <a:off x="2590920" y="5638680"/>
              <a:ext cx="53316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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343400" y="5638680"/>
              <a:ext cx="53352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4267080" y="4952880"/>
            <a:ext cx="1676520" cy="1334520"/>
            <a:chOff x="4267080" y="4952880"/>
            <a:chExt cx="1676520" cy="1334520"/>
          </a:xfrm>
        </p:grpSpPr>
        <p:sp>
          <p:nvSpPr>
            <p:cNvPr id="658" name=""/>
            <p:cNvSpPr/>
            <p:nvPr/>
          </p:nvSpPr>
          <p:spPr>
            <a:xfrm>
              <a:off x="502920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267080" y="4952880"/>
              <a:ext cx="120348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76212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09480" y="1066680"/>
            <a:ext cx="8077320" cy="22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mmar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mmar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09480" y="3124080"/>
            <a:ext cx="655344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let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lgorithm: CFG for Un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homsky Normal Form (CNF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219320"/>
            <a:ext cx="7788240" cy="253116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homsky normal for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ve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ule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e of these form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38098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4267080"/>
            <a:ext cx="8229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 in Chomsky normal form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5638680"/>
            <a:ext cx="44960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5715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76212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09480" y="1066680"/>
            <a:ext cx="8077320" cy="22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.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09480" y="3124080"/>
            <a:ext cx="655344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let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Algorithm: CFG for Concatena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09480" y="1066680"/>
            <a:ext cx="8534520" cy="11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09480" y="2133720"/>
            <a:ext cx="655344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lgorithm: CFG for It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609480" y="220896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85800" y="1143000"/>
            <a:ext cx="792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CFLs 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losed unde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concatenat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ter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proper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09480" y="2666880"/>
            <a:ext cx="8153640" cy="43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be two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CF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n, there exist two CFGs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struct gramm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y using the previous three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very CFG denotes CFL, 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CF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sectio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: Not Clos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9480" y="236124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85800" y="1219320"/>
            <a:ext cx="7772400" cy="10688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Ls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losed under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intersect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09480" y="28195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tersection of some CFLs is not a CF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09480" y="3505320"/>
            <a:ext cx="58676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}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CF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09480" y="3962520"/>
            <a:ext cx="58676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}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CF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09480" y="4419720"/>
            <a:ext cx="7772400" cy="10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is not a CFL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proof based on the pumping lemma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7162920" y="49528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men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: Not Clos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09480" y="2361240"/>
            <a:ext cx="432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 by contradi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85800" y="1219320"/>
            <a:ext cx="7772400" cy="10688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L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losed under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complemen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09480" y="2760840"/>
            <a:ext cx="8686800" cy="44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that family of CFLs is closed u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1}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F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1}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F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are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F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FL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the family of CFLs is closed under un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F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assump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Morg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 law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plies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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1}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CF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1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not a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F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ntradict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663560" y="4826160"/>
            <a:ext cx="38124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434960" y="4406760"/>
            <a:ext cx="38124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901800" y="4826160"/>
            <a:ext cx="38088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901800" y="4406760"/>
            <a:ext cx="38088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888840" y="5295960"/>
            <a:ext cx="38124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650960" y="5295960"/>
            <a:ext cx="38088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888840" y="5232240"/>
            <a:ext cx="114300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685800" y="38098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85800" y="25909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85800" y="13716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in Decidable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685800" y="1295280"/>
            <a:ext cx="82296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1. Membership probl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CFG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2. Emptiness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CFG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3. Finiteness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CFG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 finite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Member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09480" y="1066680"/>
            <a:ext cx="815364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Chomsk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normal form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09480" y="2819520"/>
            <a:ext cx="81536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GB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where 1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write (’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 I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ee: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 general parsing method based on CN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685800" y="5105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85800" y="5728320"/>
            <a:ext cx="7772400" cy="550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 membership problem for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FL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85800" y="510444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685800" y="1981080"/>
            <a:ext cx="7772400" cy="12956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85800" y="190512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be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FG. A symbol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ccessibl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X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otherwi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inaccessible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09480" y="36576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09480" y="3200400"/>
            <a:ext cx="8305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Each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naccessible 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can be removed from CF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ccessible S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676520" y="1066680"/>
            <a:ext cx="7086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ymbol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s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ccessible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f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* …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…, where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is the start nonterminal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09480" y="46483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accessib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v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09480" y="4114800"/>
            <a:ext cx="8534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{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09480" y="5105520"/>
            <a:ext cx="83822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accessib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n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09480" y="54864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accessib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 = S, v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09480" y="58672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accessib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 =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v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09480" y="6248520"/>
            <a:ext cx="83822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accessib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n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/>
          <p:nvPr/>
        </p:nvSpPr>
        <p:spPr>
          <a:xfrm>
            <a:off x="685800" y="1600200"/>
            <a:ext cx="7772400" cy="12952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85800" y="152388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be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FG. A symbol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is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otherwi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nterminatin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09480" y="36576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09480" y="2895480"/>
            <a:ext cx="7848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Eac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 nonterminating symbo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can be removed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y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erminating S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33520" y="1066680"/>
            <a:ext cx="883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ist: S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ymbol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is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terminating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if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erives a terminal str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09480" y="45720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09480" y="4038480"/>
            <a:ext cx="8534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{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09480" y="4952880"/>
            <a:ext cx="83822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09480" y="5334120"/>
            <a:ext cx="8382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nterminat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re is n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09480" y="57150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09480" y="60958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Empti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09480" y="106668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09480" y="2666880"/>
            <a:ext cx="800100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s nonterminating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85800" y="4343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85800" y="4966200"/>
            <a:ext cx="7772400" cy="581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emptiness problem fo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L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09480" y="434268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Greibach Normal Form (GNF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1219320"/>
            <a:ext cx="7788240" cy="204372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i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reibach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ormal for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ve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ule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o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is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33526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3809880"/>
            <a:ext cx="8229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 in Greibach normal form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5181480"/>
            <a:ext cx="44960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5257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Finite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09480" y="106668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is finite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is infin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09480" y="2514600"/>
            <a:ext cx="8382240" cy="19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900" spc="-1" strike="noStrike" baseline="30000">
                <a:solidFill>
                  <a:srgbClr val="000000"/>
                </a:solidFill>
                <a:latin typeface="Times New Roman"/>
              </a:rPr>
              <a:t>card(</a:t>
            </a:r>
            <a:r>
              <a:rPr b="0" i="1" lang="en-US" sz="29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900" spc="-1" strike="noStrike" baseline="30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| &lt;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write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’</a:t>
            </a:r>
            <a:r>
              <a:rPr b="1" lang="en-GB" sz="29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29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76212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62120" y="4966200"/>
            <a:ext cx="7772400" cy="581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finiteness problem fo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L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85800" y="441864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in Undecidable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85800" y="24382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85800" y="12952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85800" y="1295280"/>
            <a:ext cx="822960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ff0000"/>
                </a:solidFill>
                <a:latin typeface="Times New Roman"/>
              </a:rPr>
              <a:t>1. Equivalence problem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CFGs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85800" y="2438280"/>
            <a:ext cx="79246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ff0000"/>
                </a:solidFill>
                <a:latin typeface="Times New Roman"/>
              </a:rPr>
              <a:t>2. Ambiguity problem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ambiguous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85800" y="3505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85800" y="3505320"/>
            <a:ext cx="7772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It is mathematically proved that there exists no algorithm, which solve these problems in finite time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Genera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tive Power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 of Nor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mal Form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143000"/>
            <a:ext cx="792468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there is an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equivalent grammar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’ 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omsky normal for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259092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348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32767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200400"/>
            <a:ext cx="792468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there is an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equivalent grammar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’ 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eibach normal for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5181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464832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376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5181480"/>
            <a:ext cx="708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Main propert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CNF and GN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563868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CNF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8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|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GNF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8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|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eneral Parsing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2286000"/>
            <a:ext cx="6476760" cy="1905120"/>
          </a:xfrm>
          <a:prstGeom prst="ellipse">
            <a:avLst/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2438280"/>
            <a:ext cx="5029200" cy="153684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52480" y="2743200"/>
            <a:ext cx="2971800" cy="1044720"/>
          </a:xfrm>
          <a:prstGeom prst="ellipse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4267080"/>
            <a:ext cx="2362320" cy="727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family of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L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294920" y="3581280"/>
            <a:ext cx="762120" cy="685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09680" y="32767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666880" y="30481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8120" y="32767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867280" y="31240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657600" y="31240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81480" y="29718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029200" y="34290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10280" y="32004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00800" y="4267080"/>
            <a:ext cx="1905120" cy="727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family of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CF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81280" y="4267080"/>
            <a:ext cx="2286000" cy="727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family of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L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5562360" y="3733920"/>
            <a:ext cx="152280" cy="5331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467480" y="3581280"/>
            <a:ext cx="152640" cy="685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629400" y="29718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553080" y="35053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5715000"/>
            <a:ext cx="76201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 family of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L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anguages 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family of a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deterministic CF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1905120"/>
            <a:ext cx="2666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143000"/>
            <a:ext cx="80010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neral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rsing method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GP) are applicable to all context-free languages (CFL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5029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L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733920" y="5029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R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19920" y="5029200"/>
            <a:ext cx="2666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Genera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286000" y="6095880"/>
            <a:ext cx="5943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GP Based on C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homsky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ormal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or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95360" y="5943600"/>
            <a:ext cx="4824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71520" y="594360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24000" y="594360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781760" y="5943600"/>
            <a:ext cx="515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933960" y="5970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02320" y="5562720"/>
            <a:ext cx="102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02520" y="5562720"/>
            <a:ext cx="102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31320" y="5562720"/>
            <a:ext cx="102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982520" y="4952880"/>
            <a:ext cx="6532200" cy="459720"/>
            <a:chOff x="1982520" y="4952880"/>
            <a:chExt cx="6532200" cy="459720"/>
          </a:xfrm>
        </p:grpSpPr>
        <p:sp>
          <p:nvSpPr>
            <p:cNvPr id="111" name=""/>
            <p:cNvSpPr/>
            <p:nvPr/>
          </p:nvSpPr>
          <p:spPr>
            <a:xfrm>
              <a:off x="1982520" y="495288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1, 1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659040" y="495288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2, 2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411520" y="495288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3, 3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69640" y="4952880"/>
              <a:ext cx="104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,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2514600" y="5334120"/>
            <a:ext cx="5486400" cy="761760"/>
            <a:chOff x="2514600" y="5334120"/>
            <a:chExt cx="5486400" cy="761760"/>
          </a:xfrm>
        </p:grpSpPr>
        <p:sp>
          <p:nvSpPr>
            <p:cNvPr id="116" name=""/>
            <p:cNvSpPr/>
            <p:nvPr/>
          </p:nvSpPr>
          <p:spPr>
            <a:xfrm flipV="1">
              <a:off x="2514600" y="54097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4191120" y="54097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5943600" y="54097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8001000" y="533412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687120" y="3352680"/>
            <a:ext cx="11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696400" y="1981080"/>
            <a:ext cx="11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8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1" i="1" lang="cs-CZ" sz="2400" spc="-1" strike="noStrike">
                <a:solidFill>
                  <a:srgbClr val="008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50120" y="121932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[1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1219320"/>
            <a:ext cx="3047760" cy="823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[1,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]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…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578480" y="1749240"/>
            <a:ext cx="36036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5562720" y="1752120"/>
            <a:ext cx="35856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8906600">
            <a:off x="4148640" y="1964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2758800">
            <a:off x="5871240" y="1955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21337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de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6360" y="60688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438280" y="4217760"/>
            <a:ext cx="1981440" cy="811080"/>
            <a:chOff x="2438280" y="4217760"/>
            <a:chExt cx="1981440" cy="811080"/>
          </a:xfrm>
        </p:grpSpPr>
        <p:sp>
          <p:nvSpPr>
            <p:cNvPr id="131" name=""/>
            <p:cNvSpPr/>
            <p:nvPr/>
          </p:nvSpPr>
          <p:spPr>
            <a:xfrm flipV="1">
              <a:off x="2438280" y="4217760"/>
              <a:ext cx="582840" cy="73476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 flipV="1">
              <a:off x="3351240" y="4217760"/>
              <a:ext cx="1068480" cy="8110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114800" y="4294080"/>
            <a:ext cx="2057040" cy="735120"/>
            <a:chOff x="4114800" y="4294080"/>
            <a:chExt cx="2057040" cy="735120"/>
          </a:xfrm>
        </p:grpSpPr>
        <p:sp>
          <p:nvSpPr>
            <p:cNvPr id="134" name=""/>
            <p:cNvSpPr/>
            <p:nvPr/>
          </p:nvSpPr>
          <p:spPr>
            <a:xfrm flipV="1">
              <a:off x="4114800" y="4294080"/>
              <a:ext cx="988920" cy="7351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 flipV="1">
              <a:off x="5331960" y="4294080"/>
              <a:ext cx="839880" cy="7351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2625480" y="3859200"/>
            <a:ext cx="5305320" cy="486720"/>
            <a:chOff x="2625480" y="3859200"/>
            <a:chExt cx="5305320" cy="486720"/>
          </a:xfrm>
        </p:grpSpPr>
        <p:sp>
          <p:nvSpPr>
            <p:cNvPr id="137" name=""/>
            <p:cNvSpPr/>
            <p:nvPr/>
          </p:nvSpPr>
          <p:spPr>
            <a:xfrm>
              <a:off x="6172200" y="38862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625480" y="385920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1, 2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49760" y="388620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2, 3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630840" y="3886200"/>
              <a:ext cx="1299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3506760" y="2819520"/>
            <a:ext cx="3738240" cy="459720"/>
            <a:chOff x="3506760" y="2819520"/>
            <a:chExt cx="3738240" cy="459720"/>
          </a:xfrm>
        </p:grpSpPr>
        <p:sp>
          <p:nvSpPr>
            <p:cNvPr id="142" name=""/>
            <p:cNvSpPr/>
            <p:nvPr/>
          </p:nvSpPr>
          <p:spPr>
            <a:xfrm>
              <a:off x="3506760" y="281952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1, 3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486400" y="2819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945400" y="2819520"/>
              <a:ext cx="129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-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371600" y="4952880"/>
            <a:ext cx="762120" cy="685800"/>
            <a:chOff x="1371600" y="4952880"/>
            <a:chExt cx="762120" cy="685800"/>
          </a:xfrm>
        </p:grpSpPr>
        <p:sp>
          <p:nvSpPr>
            <p:cNvPr id="146" name=""/>
            <p:cNvSpPr/>
            <p:nvPr/>
          </p:nvSpPr>
          <p:spPr>
            <a:xfrm>
              <a:off x="1371600" y="49528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371600" y="5410080"/>
              <a:ext cx="30492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3048120" y="4952880"/>
            <a:ext cx="761760" cy="685800"/>
            <a:chOff x="3048120" y="4952880"/>
            <a:chExt cx="761760" cy="685800"/>
          </a:xfrm>
        </p:grpSpPr>
        <p:sp>
          <p:nvSpPr>
            <p:cNvPr id="149" name=""/>
            <p:cNvSpPr/>
            <p:nvPr/>
          </p:nvSpPr>
          <p:spPr>
            <a:xfrm>
              <a:off x="3048120" y="49528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048120" y="5410080"/>
              <a:ext cx="30456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4800600" y="4952880"/>
            <a:ext cx="762120" cy="685800"/>
            <a:chOff x="4800600" y="4952880"/>
            <a:chExt cx="762120" cy="685800"/>
          </a:xfrm>
        </p:grpSpPr>
        <p:sp>
          <p:nvSpPr>
            <p:cNvPr id="152" name=""/>
            <p:cNvSpPr/>
            <p:nvPr/>
          </p:nvSpPr>
          <p:spPr>
            <a:xfrm>
              <a:off x="4800600" y="49528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800600" y="5410080"/>
              <a:ext cx="30492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4038480" y="3733560"/>
            <a:ext cx="762120" cy="612360"/>
            <a:chOff x="4038480" y="3733560"/>
            <a:chExt cx="762120" cy="612360"/>
          </a:xfrm>
        </p:grpSpPr>
        <p:sp>
          <p:nvSpPr>
            <p:cNvPr id="155" name=""/>
            <p:cNvSpPr/>
            <p:nvPr/>
          </p:nvSpPr>
          <p:spPr>
            <a:xfrm>
              <a:off x="4038480" y="38862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4114800" y="3733200"/>
              <a:ext cx="30492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2590920" y="2666520"/>
            <a:ext cx="1143000" cy="612720"/>
            <a:chOff x="2590920" y="2666520"/>
            <a:chExt cx="1143000" cy="612720"/>
          </a:xfrm>
        </p:grpSpPr>
        <p:sp>
          <p:nvSpPr>
            <p:cNvPr id="158" name=""/>
            <p:cNvSpPr/>
            <p:nvPr/>
          </p:nvSpPr>
          <p:spPr>
            <a:xfrm>
              <a:off x="2590920" y="28195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F, G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2971800" y="2666160"/>
              <a:ext cx="30492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1858680" y="3276720"/>
            <a:ext cx="120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66ff"/>
                </a:solidFill>
                <a:latin typeface="Times New Roman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057400" y="3657240"/>
            <a:ext cx="762120" cy="612360"/>
            <a:chOff x="2057400" y="3657240"/>
            <a:chExt cx="762120" cy="612360"/>
          </a:xfrm>
        </p:grpSpPr>
        <p:sp>
          <p:nvSpPr>
            <p:cNvPr id="162" name=""/>
            <p:cNvSpPr/>
            <p:nvPr/>
          </p:nvSpPr>
          <p:spPr>
            <a:xfrm>
              <a:off x="2057400" y="38098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2133720" y="3656880"/>
              <a:ext cx="30492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697120" y="2286000"/>
            <a:ext cx="12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3048120" y="3124080"/>
            <a:ext cx="3108240" cy="1916280"/>
            <a:chOff x="3048120" y="3124080"/>
            <a:chExt cx="3108240" cy="1916280"/>
          </a:xfrm>
        </p:grpSpPr>
        <p:sp>
          <p:nvSpPr>
            <p:cNvPr id="166" name=""/>
            <p:cNvSpPr/>
            <p:nvPr/>
          </p:nvSpPr>
          <p:spPr>
            <a:xfrm>
              <a:off x="4330800" y="3124080"/>
              <a:ext cx="1825560" cy="1916280"/>
            </a:xfrm>
            <a:custGeom>
              <a:avLst/>
              <a:gdLst/>
              <a:ahLst/>
              <a:rect l="l" t="t" r="r" b="b"/>
              <a:pathLst>
                <a:path w="1150" h="1207">
                  <a:moveTo>
                    <a:pt x="1150" y="1207"/>
                  </a:moveTo>
                  <a:cubicBezTo>
                    <a:pt x="1102" y="1077"/>
                    <a:pt x="1054" y="625"/>
                    <a:pt x="862" y="424"/>
                  </a:cubicBezTo>
                  <a:cubicBezTo>
                    <a:pt x="670" y="223"/>
                    <a:pt x="180" y="88"/>
                    <a:pt x="0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048120" y="3213000"/>
              <a:ext cx="838080" cy="736560"/>
            </a:xfrm>
            <a:custGeom>
              <a:avLst/>
              <a:gdLst/>
              <a:ahLst/>
              <a:rect l="l" t="t" r="r" b="b"/>
              <a:pathLst>
                <a:path w="528" h="464">
                  <a:moveTo>
                    <a:pt x="0" y="464"/>
                  </a:moveTo>
                  <a:cubicBezTo>
                    <a:pt x="25" y="428"/>
                    <a:pt x="62" y="321"/>
                    <a:pt x="150" y="244"/>
                  </a:cubicBezTo>
                  <a:cubicBezTo>
                    <a:pt x="238" y="167"/>
                    <a:pt x="449" y="51"/>
                    <a:pt x="528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2374920" y="3124080"/>
            <a:ext cx="2959200" cy="1916280"/>
            <a:chOff x="2374920" y="3124080"/>
            <a:chExt cx="2959200" cy="1916280"/>
          </a:xfrm>
        </p:grpSpPr>
        <p:sp>
          <p:nvSpPr>
            <p:cNvPr id="169" name=""/>
            <p:cNvSpPr/>
            <p:nvPr/>
          </p:nvSpPr>
          <p:spPr>
            <a:xfrm>
              <a:off x="4241880" y="3213000"/>
              <a:ext cx="1092240" cy="749520"/>
            </a:xfrm>
            <a:custGeom>
              <a:avLst/>
              <a:gdLst/>
              <a:ahLst/>
              <a:rect l="l" t="t" r="r" b="b"/>
              <a:pathLst>
                <a:path w="688" h="472">
                  <a:moveTo>
                    <a:pt x="688" y="472"/>
                  </a:moveTo>
                  <a:cubicBezTo>
                    <a:pt x="651" y="428"/>
                    <a:pt x="579" y="287"/>
                    <a:pt x="464" y="208"/>
                  </a:cubicBezTo>
                  <a:cubicBezTo>
                    <a:pt x="349" y="129"/>
                    <a:pt x="97" y="43"/>
                    <a:pt x="0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374920" y="3124080"/>
              <a:ext cx="1511280" cy="1916280"/>
            </a:xfrm>
            <a:custGeom>
              <a:avLst/>
              <a:gdLst/>
              <a:ahLst/>
              <a:rect l="l" t="t" r="r" b="b"/>
              <a:pathLst>
                <a:path w="997" h="1111">
                  <a:moveTo>
                    <a:pt x="0" y="1111"/>
                  </a:moveTo>
                  <a:cubicBezTo>
                    <a:pt x="48" y="986"/>
                    <a:pt x="122" y="545"/>
                    <a:pt x="288" y="360"/>
                  </a:cubicBezTo>
                  <a:cubicBezTo>
                    <a:pt x="454" y="175"/>
                    <a:pt x="849" y="75"/>
                    <a:pt x="997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GP Based on CN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9480" y="1066680"/>
            <a:ext cx="82296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CNF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51814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2362320"/>
            <a:ext cx="7696080" cy="43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ac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,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 :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pply the following rule until n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] ca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e change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C</a:t>
            </a: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1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dd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1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GP Based on CNF: Example 1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5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1143000"/>
            <a:ext cx="82296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acbb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520" y="6019920"/>
            <a:ext cx="7772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9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59236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345200" y="59450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4540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97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8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1,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1112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87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56416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316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5, 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95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4812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24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0080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153280" y="5181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95840" y="556272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066680" y="55623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819520" y="55623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848680" y="556272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24480" y="5562720"/>
            <a:ext cx="8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4495680" y="55623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6248520" y="55623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277680" y="556272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8001000" y="55623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030160" y="556272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800600" y="4038480"/>
            <a:ext cx="1600200" cy="45720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GP Based on CNF: Example 2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5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1143000"/>
            <a:ext cx="82296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acbb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3520" y="6019920"/>
            <a:ext cx="7772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39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59236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345200" y="59450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94540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97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8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1112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87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56416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316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5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95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4812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24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40080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153280" y="5181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96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1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04956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725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40224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133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8620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238880" y="4495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914400" y="4876920"/>
            <a:ext cx="1981080" cy="380880"/>
            <a:chOff x="914400" y="4876920"/>
            <a:chExt cx="1981080" cy="380880"/>
          </a:xfrm>
        </p:grpSpPr>
        <p:sp>
          <p:nvSpPr>
            <p:cNvPr id="237" name=""/>
            <p:cNvSpPr/>
            <p:nvPr/>
          </p:nvSpPr>
          <p:spPr>
            <a:xfrm flipV="1">
              <a:off x="914400" y="4876920"/>
              <a:ext cx="83808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 flipV="1">
              <a:off x="1981080" y="4876920"/>
              <a:ext cx="91440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2590920" y="4876920"/>
            <a:ext cx="1981080" cy="380880"/>
            <a:chOff x="2590920" y="4876920"/>
            <a:chExt cx="1981080" cy="380880"/>
          </a:xfrm>
        </p:grpSpPr>
        <p:sp>
          <p:nvSpPr>
            <p:cNvPr id="240" name=""/>
            <p:cNvSpPr/>
            <p:nvPr/>
          </p:nvSpPr>
          <p:spPr>
            <a:xfrm flipV="1">
              <a:off x="2590920" y="4876920"/>
              <a:ext cx="914400" cy="38088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 flipV="1">
              <a:off x="3733920" y="4876920"/>
              <a:ext cx="838080" cy="38088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4267080" y="4876920"/>
            <a:ext cx="2057400" cy="380880"/>
            <a:chOff x="4267080" y="4876920"/>
            <a:chExt cx="2057400" cy="380880"/>
          </a:xfrm>
        </p:grpSpPr>
        <p:sp>
          <p:nvSpPr>
            <p:cNvPr id="243" name=""/>
            <p:cNvSpPr/>
            <p:nvPr/>
          </p:nvSpPr>
          <p:spPr>
            <a:xfrm flipV="1">
              <a:off x="4267080" y="4876920"/>
              <a:ext cx="91440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 flipV="1">
              <a:off x="5410080" y="4876920"/>
              <a:ext cx="91440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6019920" y="4876920"/>
            <a:ext cx="2057400" cy="380880"/>
            <a:chOff x="6019920" y="4876920"/>
            <a:chExt cx="2057400" cy="380880"/>
          </a:xfrm>
        </p:grpSpPr>
        <p:sp>
          <p:nvSpPr>
            <p:cNvPr id="246" name=""/>
            <p:cNvSpPr/>
            <p:nvPr/>
          </p:nvSpPr>
          <p:spPr>
            <a:xfrm flipV="1">
              <a:off x="6019920" y="4876920"/>
              <a:ext cx="838080" cy="38088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 flipV="1">
              <a:off x="7086600" y="4876920"/>
              <a:ext cx="990720" cy="38088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1447920" y="4038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? </a:t>
            </a:r>
            <a:r>
              <a:rPr b="1" lang="en-US" sz="2400" spc="-1" strike="noStrike">
                <a:solidFill>
                  <a:srgbClr val="ff66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276720" y="4038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? </a:t>
            </a:r>
            <a:r>
              <a:rPr b="1" lang="en-US" sz="24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952880" y="4038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S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629400" y="4038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? </a:t>
            </a:r>
            <a:r>
              <a:rPr b="1" lang="en-US" sz="24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B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1676520" y="41907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3581280" y="41907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6858000" y="41907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13T21:18:05Z</dcterms:modified>
  <cp:revision>191</cp:revision>
  <dc:subject/>
  <dc:title>Normal Forms and Properties of CFLs</dc:title>
</cp:coreProperties>
</file>