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2C1-5FFE-422F-A6F2-BC6264FC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F60-6275-4A0F-B5B9-8F662650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484-E6D2-488E-8CBD-864CA927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8B4-CC8B-4BB6-B893-36FF6877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196-6510-4FFA-9AF9-802F7A55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59A-CE97-4E2B-928D-95EEB481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52D-51DD-49F1-8B14-6C3E78A9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532-CB28-435E-9B26-F3F189D9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41F-95FC-4870-9D96-AAF4FB47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870-4BC0-468A-8462-01C6E4E3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3CC-6B79-461E-87E4-76AE239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C37-FA65-48BB-8392-BE4690EC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7D69-A859-4397-91DC-584F1A6B1ED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2:42Z</dcterms:modified>
  <cp:revision>139</cp:revision>
  <dc:subject/>
  <dc:title>Models for Regular Languages</dc:title>
</cp:coreProperties>
</file>