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071-4FB6-4CD5-92D0-8C09081E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8CD8-AC51-4E94-A21F-97435CDE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7F82-1053-48CC-A6E9-C21BF06B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6763-0BA2-4B9C-8BFE-DFAB3A81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B81-413C-4480-B489-818E217C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07F7-194A-44E4-B851-F608712D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F50-261D-4979-95D8-B4177576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D97-FBAE-495A-B15E-1F5F5DF8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F508-ACE6-4ADE-882F-B3518002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C019-F7CC-4EC5-ACC8-7C7D5C3F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0F52-4BFA-4B06-A893-F1A2C544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BF5A-F12E-43F9-A423-0A04252B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CC47-E11F-4C76-911F-9564A922B93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Forms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C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9880" y="327672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181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4191120"/>
            <a:ext cx="2971800" cy="1066680"/>
            <a:chOff x="838080" y="4191120"/>
            <a:chExt cx="2971800" cy="1066680"/>
          </a:xfrm>
        </p:grpSpPr>
        <p:sp>
          <p:nvSpPr>
            <p:cNvPr id="291" name=""/>
            <p:cNvSpPr/>
            <p:nvPr/>
          </p:nvSpPr>
          <p:spPr>
            <a:xfrm flipH="1" flipV="1">
              <a:off x="2895480" y="41911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52480" y="4191120"/>
            <a:ext cx="2895840" cy="1066680"/>
            <a:chOff x="1752480" y="4191120"/>
            <a:chExt cx="2895840" cy="1066680"/>
          </a:xfrm>
        </p:grpSpPr>
        <p:sp>
          <p:nvSpPr>
            <p:cNvPr id="294" name=""/>
            <p:cNvSpPr/>
            <p:nvPr/>
          </p:nvSpPr>
          <p:spPr>
            <a:xfrm flipV="1">
              <a:off x="1752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90920" y="4191120"/>
            <a:ext cx="2971800" cy="1066680"/>
            <a:chOff x="2590920" y="4191120"/>
            <a:chExt cx="2971800" cy="1066680"/>
          </a:xfrm>
        </p:grpSpPr>
        <p:sp>
          <p:nvSpPr>
            <p:cNvPr id="297" name=""/>
            <p:cNvSpPr/>
            <p:nvPr/>
          </p:nvSpPr>
          <p:spPr>
            <a:xfrm flipH="1" flipV="1">
              <a:off x="4648320" y="4191120"/>
              <a:ext cx="9144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41911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05320" y="4191120"/>
            <a:ext cx="2965320" cy="1054080"/>
            <a:chOff x="3505320" y="4191120"/>
            <a:chExt cx="2965320" cy="1054080"/>
          </a:xfrm>
        </p:grpSpPr>
        <p:sp>
          <p:nvSpPr>
            <p:cNvPr id="300" name=""/>
            <p:cNvSpPr/>
            <p:nvPr/>
          </p:nvSpPr>
          <p:spPr>
            <a:xfrm flipV="1">
              <a:off x="3505320" y="4266720"/>
              <a:ext cx="7617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191120"/>
              <a:ext cx="1746360" cy="1054080"/>
            </a:xfrm>
            <a:custGeom>
              <a:avLst/>
              <a:gdLst/>
              <a:ahLst/>
              <a:rect l="l" t="t" r="r" b="b"/>
              <a:pathLst>
                <a:path w="1100" h="664">
                  <a:moveTo>
                    <a:pt x="1032" y="664"/>
                  </a:moveTo>
                  <a:cubicBezTo>
                    <a:pt x="1011" y="585"/>
                    <a:pt x="1100" y="311"/>
                    <a:pt x="928" y="200"/>
                  </a:cubicBezTo>
                  <a:cubicBezTo>
                    <a:pt x="756" y="89"/>
                    <a:pt x="193" y="4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4191120"/>
            <a:ext cx="2895480" cy="1066680"/>
            <a:chOff x="4267080" y="4191120"/>
            <a:chExt cx="2895480" cy="1066680"/>
          </a:xfrm>
        </p:grpSpPr>
        <p:sp>
          <p:nvSpPr>
            <p:cNvPr id="303" name=""/>
            <p:cNvSpPr/>
            <p:nvPr/>
          </p:nvSpPr>
          <p:spPr>
            <a:xfrm flipH="1" flipV="1">
              <a:off x="6324120" y="4191120"/>
              <a:ext cx="83844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81480" y="4191120"/>
            <a:ext cx="2895840" cy="1066680"/>
            <a:chOff x="5181480" y="4191120"/>
            <a:chExt cx="2895840" cy="1066680"/>
          </a:xfrm>
        </p:grpSpPr>
        <p:sp>
          <p:nvSpPr>
            <p:cNvPr id="306" name=""/>
            <p:cNvSpPr/>
            <p:nvPr/>
          </p:nvSpPr>
          <p:spPr>
            <a:xfrm flipV="1">
              <a:off x="5181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274320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4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38080" y="3580920"/>
            <a:ext cx="3810240" cy="1676880"/>
            <a:chOff x="838080" y="3580920"/>
            <a:chExt cx="3810240" cy="1676880"/>
          </a:xfrm>
        </p:grpSpPr>
        <p:sp>
          <p:nvSpPr>
            <p:cNvPr id="345" name=""/>
            <p:cNvSpPr/>
            <p:nvPr/>
          </p:nvSpPr>
          <p:spPr>
            <a:xfrm flipH="1" flipV="1">
              <a:off x="3733920" y="3580920"/>
              <a:ext cx="914400" cy="304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3594240"/>
              <a:ext cx="2629080" cy="1663560"/>
            </a:xfrm>
            <a:custGeom>
              <a:avLst/>
              <a:gdLst/>
              <a:ahLst/>
              <a:rect l="l" t="t" r="r" b="b"/>
              <a:pathLst>
                <a:path w="1656" h="1048">
                  <a:moveTo>
                    <a:pt x="0" y="1048"/>
                  </a:moveTo>
                  <a:cubicBezTo>
                    <a:pt x="71" y="909"/>
                    <a:pt x="148" y="391"/>
                    <a:pt x="424" y="216"/>
                  </a:cubicBezTo>
                  <a:cubicBezTo>
                    <a:pt x="700" y="41"/>
                    <a:pt x="1399" y="45"/>
                    <a:pt x="16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76520" y="3581280"/>
            <a:ext cx="3855960" cy="990720"/>
            <a:chOff x="1676520" y="3581280"/>
            <a:chExt cx="3855960" cy="990720"/>
          </a:xfrm>
        </p:grpSpPr>
        <p:sp>
          <p:nvSpPr>
            <p:cNvPr id="353" name=""/>
            <p:cNvSpPr/>
            <p:nvPr/>
          </p:nvSpPr>
          <p:spPr>
            <a:xfrm>
              <a:off x="3809880" y="3581280"/>
              <a:ext cx="1722600" cy="965160"/>
            </a:xfrm>
            <a:custGeom>
              <a:avLst/>
              <a:gdLst/>
              <a:ahLst/>
              <a:rect l="l" t="t" r="r" b="b"/>
              <a:pathLst>
                <a:path w="1085" h="608">
                  <a:moveTo>
                    <a:pt x="1064" y="608"/>
                  </a:moveTo>
                  <a:cubicBezTo>
                    <a:pt x="1056" y="536"/>
                    <a:pt x="1085" y="252"/>
                    <a:pt x="1016" y="176"/>
                  </a:cubicBezTo>
                  <a:cubicBezTo>
                    <a:pt x="947" y="100"/>
                    <a:pt x="817" y="181"/>
                    <a:pt x="648" y="152"/>
                  </a:cubicBezTo>
                  <a:cubicBezTo>
                    <a:pt x="479" y="123"/>
                    <a:pt x="135" y="32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3619440"/>
              <a:ext cx="1752480" cy="952560"/>
            </a:xfrm>
            <a:custGeom>
              <a:avLst/>
              <a:gdLst/>
              <a:ahLst/>
              <a:rect l="l" t="t" r="r" b="b"/>
              <a:pathLst>
                <a:path w="1104" h="600">
                  <a:moveTo>
                    <a:pt x="0" y="600"/>
                  </a:moveTo>
                  <a:cubicBezTo>
                    <a:pt x="47" y="535"/>
                    <a:pt x="96" y="308"/>
                    <a:pt x="280" y="208"/>
                  </a:cubicBezTo>
                  <a:cubicBezTo>
                    <a:pt x="464" y="108"/>
                    <a:pt x="932" y="43"/>
                    <a:pt x="1104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90920" y="3606840"/>
            <a:ext cx="3821040" cy="1638360"/>
            <a:chOff x="2590920" y="3606840"/>
            <a:chExt cx="3821040" cy="1638360"/>
          </a:xfrm>
        </p:grpSpPr>
        <p:sp>
          <p:nvSpPr>
            <p:cNvPr id="356" name=""/>
            <p:cNvSpPr/>
            <p:nvPr/>
          </p:nvSpPr>
          <p:spPr>
            <a:xfrm>
              <a:off x="4000680" y="3606840"/>
              <a:ext cx="2411280" cy="1638360"/>
            </a:xfrm>
            <a:custGeom>
              <a:avLst/>
              <a:gdLst/>
              <a:ahLst/>
              <a:rect l="l" t="t" r="r" b="b"/>
              <a:pathLst>
                <a:path w="1519" h="1032">
                  <a:moveTo>
                    <a:pt x="1488" y="1032"/>
                  </a:moveTo>
                  <a:cubicBezTo>
                    <a:pt x="1481" y="959"/>
                    <a:pt x="1519" y="688"/>
                    <a:pt x="1448" y="592"/>
                  </a:cubicBezTo>
                  <a:cubicBezTo>
                    <a:pt x="1377" y="496"/>
                    <a:pt x="1153" y="535"/>
                    <a:pt x="1064" y="456"/>
                  </a:cubicBezTo>
                  <a:cubicBezTo>
                    <a:pt x="975" y="377"/>
                    <a:pt x="985" y="179"/>
                    <a:pt x="912" y="120"/>
                  </a:cubicBezTo>
                  <a:cubicBezTo>
                    <a:pt x="839" y="61"/>
                    <a:pt x="776" y="124"/>
                    <a:pt x="624" y="104"/>
                  </a:cubicBezTo>
                  <a:cubicBezTo>
                    <a:pt x="472" y="84"/>
                    <a:pt x="130" y="2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90920" y="3657240"/>
              <a:ext cx="7617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54280" y="3556080"/>
            <a:ext cx="3669840" cy="1727280"/>
            <a:chOff x="2654280" y="3556080"/>
            <a:chExt cx="3669840" cy="1727280"/>
          </a:xfrm>
        </p:grpSpPr>
        <p:sp>
          <p:nvSpPr>
            <p:cNvPr id="359" name=""/>
            <p:cNvSpPr/>
            <p:nvPr/>
          </p:nvSpPr>
          <p:spPr>
            <a:xfrm flipH="1" flipV="1">
              <a:off x="5676480" y="3645000"/>
              <a:ext cx="647640" cy="241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4280" y="3556080"/>
              <a:ext cx="2451240" cy="1727280"/>
            </a:xfrm>
            <a:custGeom>
              <a:avLst/>
              <a:gdLst/>
              <a:ahLst/>
              <a:rect l="l" t="t" r="r" b="b"/>
              <a:pathLst>
                <a:path w="1544" h="1088">
                  <a:moveTo>
                    <a:pt x="0" y="1088"/>
                  </a:moveTo>
                  <a:cubicBezTo>
                    <a:pt x="12" y="1016"/>
                    <a:pt x="3" y="751"/>
                    <a:pt x="80" y="656"/>
                  </a:cubicBezTo>
                  <a:cubicBezTo>
                    <a:pt x="157" y="561"/>
                    <a:pt x="375" y="599"/>
                    <a:pt x="464" y="520"/>
                  </a:cubicBezTo>
                  <a:cubicBezTo>
                    <a:pt x="553" y="441"/>
                    <a:pt x="543" y="243"/>
                    <a:pt x="616" y="184"/>
                  </a:cubicBezTo>
                  <a:cubicBezTo>
                    <a:pt x="689" y="125"/>
                    <a:pt x="749" y="199"/>
                    <a:pt x="904" y="168"/>
                  </a:cubicBezTo>
                  <a:cubicBezTo>
                    <a:pt x="1059" y="137"/>
                    <a:pt x="1411" y="35"/>
                    <a:pt x="154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40240" y="3556080"/>
            <a:ext cx="3681360" cy="990360"/>
            <a:chOff x="3540240" y="3556080"/>
            <a:chExt cx="3681360" cy="990360"/>
          </a:xfrm>
        </p:grpSpPr>
        <p:sp>
          <p:nvSpPr>
            <p:cNvPr id="362" name=""/>
            <p:cNvSpPr/>
            <p:nvPr/>
          </p:nvSpPr>
          <p:spPr>
            <a:xfrm>
              <a:off x="5600880" y="3606840"/>
              <a:ext cx="1620720" cy="939600"/>
            </a:xfrm>
            <a:custGeom>
              <a:avLst/>
              <a:gdLst/>
              <a:ahLst/>
              <a:rect l="l" t="t" r="r" b="b"/>
              <a:pathLst>
                <a:path w="1021" h="592">
                  <a:moveTo>
                    <a:pt x="992" y="592"/>
                  </a:moveTo>
                  <a:cubicBezTo>
                    <a:pt x="969" y="521"/>
                    <a:pt x="1021" y="267"/>
                    <a:pt x="856" y="168"/>
                  </a:cubicBezTo>
                  <a:cubicBezTo>
                    <a:pt x="691" y="69"/>
                    <a:pt x="178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3556080"/>
              <a:ext cx="1654200" cy="990360"/>
            </a:xfrm>
            <a:custGeom>
              <a:avLst/>
              <a:gdLst/>
              <a:ahLst/>
              <a:rect l="l" t="t" r="r" b="b"/>
              <a:pathLst>
                <a:path w="1042" h="624">
                  <a:moveTo>
                    <a:pt x="0" y="624"/>
                  </a:moveTo>
                  <a:cubicBezTo>
                    <a:pt x="18" y="565"/>
                    <a:pt x="34" y="345"/>
                    <a:pt x="106" y="272"/>
                  </a:cubicBezTo>
                  <a:cubicBezTo>
                    <a:pt x="178" y="199"/>
                    <a:pt x="278" y="229"/>
                    <a:pt x="434" y="184"/>
                  </a:cubicBezTo>
                  <a:cubicBezTo>
                    <a:pt x="590" y="139"/>
                    <a:pt x="915" y="38"/>
                    <a:pt x="104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43400" y="3580920"/>
            <a:ext cx="3746520" cy="1638720"/>
            <a:chOff x="4343400" y="3580920"/>
            <a:chExt cx="3746520" cy="1638720"/>
          </a:xfrm>
        </p:grpSpPr>
        <p:sp>
          <p:nvSpPr>
            <p:cNvPr id="365" name=""/>
            <p:cNvSpPr/>
            <p:nvPr/>
          </p:nvSpPr>
          <p:spPr>
            <a:xfrm flipV="1">
              <a:off x="4343400" y="358092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3581280"/>
              <a:ext cx="2527200" cy="1638360"/>
            </a:xfrm>
            <a:custGeom>
              <a:avLst/>
              <a:gdLst/>
              <a:ahLst/>
              <a:rect l="l" t="t" r="r" b="b"/>
              <a:pathLst>
                <a:path w="1592" h="1032">
                  <a:moveTo>
                    <a:pt x="1592" y="1032"/>
                  </a:moveTo>
                  <a:cubicBezTo>
                    <a:pt x="1532" y="896"/>
                    <a:pt x="1497" y="388"/>
                    <a:pt x="1232" y="216"/>
                  </a:cubicBezTo>
                  <a:cubicBezTo>
                    <a:pt x="967" y="44"/>
                    <a:pt x="257" y="45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24382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5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11320" y="2590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05320" y="2895480"/>
            <a:ext cx="4495320" cy="2360880"/>
            <a:chOff x="3505320" y="2895480"/>
            <a:chExt cx="4495320" cy="2360880"/>
          </a:xfrm>
        </p:grpSpPr>
        <p:sp>
          <p:nvSpPr>
            <p:cNvPr id="410" name=""/>
            <p:cNvSpPr/>
            <p:nvPr/>
          </p:nvSpPr>
          <p:spPr>
            <a:xfrm flipV="1">
              <a:off x="3505320" y="3047760"/>
              <a:ext cx="761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7600" y="289548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2884320"/>
            <a:ext cx="4572000" cy="2360880"/>
            <a:chOff x="914400" y="2884320"/>
            <a:chExt cx="4572000" cy="2360880"/>
          </a:xfrm>
        </p:grpSpPr>
        <p:sp>
          <p:nvSpPr>
            <p:cNvPr id="413" name=""/>
            <p:cNvSpPr/>
            <p:nvPr/>
          </p:nvSpPr>
          <p:spPr>
            <a:xfrm>
              <a:off x="914400" y="288432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8320" y="3047760"/>
              <a:ext cx="838080" cy="2286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32240" y="3009960"/>
            <a:ext cx="4724280" cy="1560600"/>
            <a:chOff x="2532240" y="3009960"/>
            <a:chExt cx="4724280" cy="1560600"/>
          </a:xfrm>
        </p:grpSpPr>
        <p:sp>
          <p:nvSpPr>
            <p:cNvPr id="416" name=""/>
            <p:cNvSpPr/>
            <p:nvPr/>
          </p:nvSpPr>
          <p:spPr>
            <a:xfrm>
              <a:off x="2532240" y="3009960"/>
              <a:ext cx="1684080" cy="825480"/>
            </a:xfrm>
            <a:custGeom>
              <a:avLst/>
              <a:gdLst/>
              <a:ahLst/>
              <a:rect l="l" t="t" r="r" b="b"/>
              <a:pathLst>
                <a:path w="1061" h="520">
                  <a:moveTo>
                    <a:pt x="0" y="520"/>
                  </a:moveTo>
                  <a:cubicBezTo>
                    <a:pt x="46" y="464"/>
                    <a:pt x="100" y="271"/>
                    <a:pt x="277" y="184"/>
                  </a:cubicBezTo>
                  <a:cubicBezTo>
                    <a:pt x="454" y="97"/>
                    <a:pt x="898" y="38"/>
                    <a:pt x="106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3021120"/>
              <a:ext cx="2631960" cy="1549440"/>
            </a:xfrm>
            <a:custGeom>
              <a:avLst/>
              <a:gdLst/>
              <a:ahLst/>
              <a:rect l="l" t="t" r="r" b="b"/>
              <a:pathLst>
                <a:path w="1658" h="976">
                  <a:moveTo>
                    <a:pt x="1600" y="976"/>
                  </a:moveTo>
                  <a:cubicBezTo>
                    <a:pt x="1565" y="842"/>
                    <a:pt x="1658" y="332"/>
                    <a:pt x="1391" y="169"/>
                  </a:cubicBezTo>
                  <a:cubicBezTo>
                    <a:pt x="1124" y="6"/>
                    <a:pt x="290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35200" y="3009960"/>
            <a:ext cx="4857840" cy="1549440"/>
            <a:chOff x="1735200" y="3009960"/>
            <a:chExt cx="4857840" cy="1549440"/>
          </a:xfrm>
        </p:grpSpPr>
        <p:sp>
          <p:nvSpPr>
            <p:cNvPr id="419" name=""/>
            <p:cNvSpPr/>
            <p:nvPr/>
          </p:nvSpPr>
          <p:spPr>
            <a:xfrm>
              <a:off x="1735200" y="3009960"/>
              <a:ext cx="2557440" cy="1549440"/>
            </a:xfrm>
            <a:custGeom>
              <a:avLst/>
              <a:gdLst/>
              <a:ahLst/>
              <a:rect l="l" t="t" r="r" b="b"/>
              <a:pathLst>
                <a:path w="1611" h="976">
                  <a:moveTo>
                    <a:pt x="11" y="976"/>
                  </a:moveTo>
                  <a:cubicBezTo>
                    <a:pt x="54" y="851"/>
                    <a:pt x="0" y="387"/>
                    <a:pt x="267" y="224"/>
                  </a:cubicBezTo>
                  <a:cubicBezTo>
                    <a:pt x="534" y="61"/>
                    <a:pt x="1331" y="47"/>
                    <a:pt x="1611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0520" y="3021120"/>
              <a:ext cx="1892520" cy="825480"/>
            </a:xfrm>
            <a:custGeom>
              <a:avLst/>
              <a:gdLst/>
              <a:ahLst/>
              <a:rect l="l" t="t" r="r" b="b"/>
              <a:pathLst>
                <a:path w="1192" h="520">
                  <a:moveTo>
                    <a:pt x="1061" y="520"/>
                  </a:moveTo>
                  <a:cubicBezTo>
                    <a:pt x="1053" y="457"/>
                    <a:pt x="1192" y="232"/>
                    <a:pt x="1015" y="145"/>
                  </a:cubicBezTo>
                  <a:cubicBezTo>
                    <a:pt x="838" y="58"/>
                    <a:pt x="211" y="30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15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467480" y="2438280"/>
            <a:ext cx="1295640" cy="520560"/>
            <a:chOff x="7467480" y="2438280"/>
            <a:chExt cx="1295640" cy="520560"/>
          </a:xfrm>
        </p:grpSpPr>
        <p:sp>
          <p:nvSpPr>
            <p:cNvPr id="423" name=""/>
            <p:cNvSpPr/>
            <p:nvPr/>
          </p:nvSpPr>
          <p:spPr>
            <a:xfrm>
              <a:off x="7467480" y="251460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87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1219320"/>
            <a:ext cx="7775640" cy="2176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CFL.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n, there exist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1 such that: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, x, 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061440"/>
            <a:ext cx="82296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generate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},  so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F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4190400"/>
            <a:ext cx="63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5440" y="4571280"/>
            <a:ext cx="56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60440" y="5029200"/>
            <a:ext cx="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2000" y="5028480"/>
            <a:ext cx="12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9240" y="5027760"/>
            <a:ext cx="477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0160" y="60188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560" y="5714280"/>
            <a:ext cx="28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7644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9244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5760" y="54853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3760" y="64220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60" y="6095160"/>
            <a:ext cx="60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context-free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448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456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466" name=""/>
            <p:cNvSpPr/>
            <p:nvPr/>
          </p:nvSpPr>
          <p:spPr>
            <a:xfrm>
              <a:off x="2362320" y="396252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96252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396252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14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576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4267080"/>
            <a:ext cx="3962520" cy="612360"/>
            <a:chOff x="457200" y="4267080"/>
            <a:chExt cx="3962520" cy="612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86696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5400000">
              <a:off x="384804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43434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57200" y="4419720"/>
            <a:ext cx="3886200" cy="840600"/>
            <a:chOff x="457200" y="4419720"/>
            <a:chExt cx="3886200" cy="840600"/>
          </a:xfrm>
        </p:grpSpPr>
        <p:sp>
          <p:nvSpPr>
            <p:cNvPr id="487" name=""/>
            <p:cNvSpPr/>
            <p:nvPr/>
          </p:nvSpPr>
          <p:spPr>
            <a:xfrm flipV="1" rot="5400000">
              <a:off x="2819160" y="3503880"/>
              <a:ext cx="304920" cy="2743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7200" y="5105520"/>
            <a:ext cx="8381880" cy="1753560"/>
            <a:chOff x="457200" y="5105520"/>
            <a:chExt cx="8381880" cy="1753560"/>
          </a:xfrm>
        </p:grpSpPr>
        <p:sp>
          <p:nvSpPr>
            <p:cNvPr id="493" name=""/>
            <p:cNvSpPr/>
            <p:nvPr/>
          </p:nvSpPr>
          <p:spPr>
            <a:xfrm>
              <a:off x="5105520" y="5105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571500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57150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144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3400" y="57150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8128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14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76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2578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0200" y="52578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512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9520" y="52578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24080" y="61722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61722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61722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4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29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55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814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0666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ased on the pumping lemma for CFL, we often make a proof by contradiction to demonstrate that a language is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a CF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532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83720" y="3962520"/>
            <a:ext cx="7868880" cy="1547640"/>
            <a:chOff x="783720" y="3962520"/>
            <a:chExt cx="7868880" cy="1547640"/>
          </a:xfrm>
        </p:grpSpPr>
        <p:sp>
          <p:nvSpPr>
            <p:cNvPr id="537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298040"/>
              <a:ext cx="78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uvwxy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ε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vwx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cs-CZ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, show tha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3680" y="4669200"/>
              <a:ext cx="53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5360" y="5050440"/>
              <a:ext cx="52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545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548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552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86360" y="5942880"/>
              <a:ext cx="253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a CF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 is 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76520"/>
            <a:ext cx="8153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CFL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3048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9614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a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4520" y="361944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5333760" y="365760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2492280" y="3145680"/>
            <a:ext cx="144360" cy="177624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240"/>
              <a:gd name="textAreaBottom" fmla="*/ 173016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34282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4385160" y="3081600"/>
            <a:ext cx="144360" cy="1904760"/>
          </a:xfrm>
          <a:custGeom>
            <a:avLst/>
            <a:gdLst>
              <a:gd name="textAreaLeft" fmla="*/ 0 w 144360"/>
              <a:gd name="textAreaRight" fmla="*/ 52200 w 1443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81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029200"/>
            <a:ext cx="335268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 rot="16200000">
            <a:off x="6225840" y="3145680"/>
            <a:ext cx="144360" cy="177660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600"/>
              <a:gd name="textAreaBottom" fmla="*/ 1730520 h 17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11840" y="5029200"/>
            <a:ext cx="308124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rot="5400000">
            <a:off x="4381200" y="20192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7543440" y="137124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5638680" y="106668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924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78280" y="205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0666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320" y="23616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958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All these decompositions lead to a contradiction!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9480" y="6338160"/>
            <a:ext cx="7772400" cy="520560"/>
            <a:chOff x="609480" y="6338160"/>
            <a:chExt cx="7772400" cy="520560"/>
          </a:xfrm>
        </p:grpSpPr>
        <p:sp>
          <p:nvSpPr>
            <p:cNvPr id="585" name=""/>
            <p:cNvSpPr/>
            <p:nvPr/>
          </p:nvSpPr>
          <p:spPr>
            <a:xfrm>
              <a:off x="609480" y="6415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80" y="63381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refore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4343400" y="16002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1600200"/>
            <a:ext cx="213336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60020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15231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 rot="16200000">
            <a:off x="49528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1065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 rot="16200000">
            <a:off x="63244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7657920" y="875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5238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3542760" y="2857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6705000" y="22096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4799880" y="21333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1440" y="28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0000" y="289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30480" y="289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505320" y="24382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24382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4382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361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320040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36576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8115120" y="45338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914720" y="39240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819840" y="354312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2400" y="457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457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78400" y="457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581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9360" y="48762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077320" y="41148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4114800"/>
            <a:ext cx="220968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14800"/>
            <a:ext cx="14479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037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16200000">
            <a:off x="48765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358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6200000">
            <a:off x="62481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7581600" y="339012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7200360" y="53719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4114080" y="47242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019200" y="46479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05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40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2720" y="540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49528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49528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49528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4875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cs-CZ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563868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0384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propertie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639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CF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s wel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649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652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655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658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omsky Normal Form (C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88240" cy="25311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msky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se fo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2670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Chomsky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Algorithm: CFG for Concaten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066680"/>
            <a:ext cx="8534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213372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It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CFL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CFG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using the previous thre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CFG denotes CF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36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section of some CFLs is not a CF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5053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9625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419720"/>
            <a:ext cx="77724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is not a CF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roof based on the pumping lemm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29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3612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 by contrad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2760840"/>
            <a:ext cx="86868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family of CFLs is closed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family of CFLs is closed under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F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di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63560" y="48261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34960" y="4406760"/>
            <a:ext cx="38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01800" y="48261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800" y="4406760"/>
            <a:ext cx="380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88840" y="52959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50960" y="52959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8840" y="5232240"/>
            <a:ext cx="11430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295280"/>
            <a:ext cx="82296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815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homsk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ormal form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2819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ere 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general parsing method based on 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72832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5104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1981080"/>
            <a:ext cx="7772400" cy="1295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480" y="3200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accessible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from CF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 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, 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s the start nonterm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411480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5105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S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6248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8954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 nonterminating symbo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1066680"/>
            <a:ext cx="883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rives a terminal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403848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495288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480" y="53341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5715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eibach Normal Form (G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88240" cy="204372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reiba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352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Greibach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1814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44186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Un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438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295280"/>
            <a:ext cx="8229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1. Equivalence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FG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438280"/>
            <a:ext cx="7924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2. Ambiguity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mbiguous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505320"/>
            <a:ext cx="7772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 is mathematically proved that there exists no algorithm, which solve these problems in finite tim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ve Pow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of N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l For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msky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90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48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767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ibach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6483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7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181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in proper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NF and G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C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G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ars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0"/>
            <a:ext cx="6476760" cy="190512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438280"/>
            <a:ext cx="5029200" cy="15368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743200"/>
            <a:ext cx="2971800" cy="1044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23623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94920" y="35812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267080"/>
            <a:ext cx="19051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F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267080"/>
            <a:ext cx="228600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360" y="373392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358128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505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715000"/>
            <a:ext cx="7620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anguages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amily of a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sing 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GP) are applicable to all context-free languages (CF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02920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6095880"/>
            <a:ext cx="5943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P Based on C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msky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5943600"/>
            <a:ext cx="48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52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0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1760" y="5943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9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2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25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1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2520" y="4952880"/>
            <a:ext cx="6532200" cy="459720"/>
            <a:chOff x="1982520" y="4952880"/>
            <a:chExt cx="6532200" cy="459720"/>
          </a:xfrm>
        </p:grpSpPr>
        <p:sp>
          <p:nvSpPr>
            <p:cNvPr id="111" name=""/>
            <p:cNvSpPr/>
            <p:nvPr/>
          </p:nvSpPr>
          <p:spPr>
            <a:xfrm>
              <a:off x="1982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1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3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9640" y="4952880"/>
              <a:ext cx="10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5334120"/>
            <a:ext cx="5486400" cy="761760"/>
            <a:chOff x="2514600" y="5334120"/>
            <a:chExt cx="5486400" cy="761760"/>
          </a:xfrm>
        </p:grpSpPr>
        <p:sp>
          <p:nvSpPr>
            <p:cNvPr id="116" name=""/>
            <p:cNvSpPr/>
            <p:nvPr/>
          </p:nvSpPr>
          <p:spPr>
            <a:xfrm flipV="1">
              <a:off x="2514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943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01000" y="5334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687120" y="33526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6400" y="19810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120" y="1219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1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047760" cy="823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1,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8480" y="17492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562720" y="175212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6600">
            <a:off x="4148640" y="196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758800">
            <a:off x="5871240" y="195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60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4217760"/>
            <a:ext cx="1981440" cy="811080"/>
            <a:chOff x="2438280" y="4217760"/>
            <a:chExt cx="1981440" cy="811080"/>
          </a:xfrm>
        </p:grpSpPr>
        <p:sp>
          <p:nvSpPr>
            <p:cNvPr id="131" name=""/>
            <p:cNvSpPr/>
            <p:nvPr/>
          </p:nvSpPr>
          <p:spPr>
            <a:xfrm flipV="1">
              <a:off x="2438280" y="4217760"/>
              <a:ext cx="582840" cy="7347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51240" y="4217760"/>
              <a:ext cx="1068480" cy="81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4294080"/>
            <a:ext cx="2057040" cy="735120"/>
            <a:chOff x="4114800" y="4294080"/>
            <a:chExt cx="2057040" cy="735120"/>
          </a:xfrm>
        </p:grpSpPr>
        <p:sp>
          <p:nvSpPr>
            <p:cNvPr id="134" name=""/>
            <p:cNvSpPr/>
            <p:nvPr/>
          </p:nvSpPr>
          <p:spPr>
            <a:xfrm flipV="1">
              <a:off x="4114800" y="4294080"/>
              <a:ext cx="98892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331960" y="4294080"/>
              <a:ext cx="83988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25480" y="3859200"/>
            <a:ext cx="5305320" cy="486720"/>
            <a:chOff x="2625480" y="3859200"/>
            <a:chExt cx="5305320" cy="486720"/>
          </a:xfrm>
        </p:grpSpPr>
        <p:sp>
          <p:nvSpPr>
            <p:cNvPr id="137" name=""/>
            <p:cNvSpPr/>
            <p:nvPr/>
          </p:nvSpPr>
          <p:spPr>
            <a:xfrm>
              <a:off x="61722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5480" y="3859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760" y="3886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30840" y="3886200"/>
              <a:ext cx="12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6760" y="2819520"/>
            <a:ext cx="3738240" cy="459720"/>
            <a:chOff x="3506760" y="2819520"/>
            <a:chExt cx="3738240" cy="459720"/>
          </a:xfrm>
        </p:grpSpPr>
        <p:sp>
          <p:nvSpPr>
            <p:cNvPr id="142" name=""/>
            <p:cNvSpPr/>
            <p:nvPr/>
          </p:nvSpPr>
          <p:spPr>
            <a:xfrm>
              <a:off x="3506760" y="2819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2819520"/>
              <a:ext cx="12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71600" y="4952880"/>
            <a:ext cx="762120" cy="685800"/>
            <a:chOff x="1371600" y="4952880"/>
            <a:chExt cx="762120" cy="685800"/>
          </a:xfrm>
        </p:grpSpPr>
        <p:sp>
          <p:nvSpPr>
            <p:cNvPr id="146" name=""/>
            <p:cNvSpPr/>
            <p:nvPr/>
          </p:nvSpPr>
          <p:spPr>
            <a:xfrm>
              <a:off x="1371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4952880"/>
            <a:ext cx="761760" cy="685800"/>
            <a:chOff x="3048120" y="4952880"/>
            <a:chExt cx="761760" cy="685800"/>
          </a:xfrm>
        </p:grpSpPr>
        <p:sp>
          <p:nvSpPr>
            <p:cNvPr id="149" name="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5410080"/>
              <a:ext cx="3045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4952880"/>
            <a:ext cx="762120" cy="685800"/>
            <a:chOff x="4800600" y="4952880"/>
            <a:chExt cx="762120" cy="685800"/>
          </a:xfrm>
        </p:grpSpPr>
        <p:sp>
          <p:nvSpPr>
            <p:cNvPr id="152" name=""/>
            <p:cNvSpPr/>
            <p:nvPr/>
          </p:nvSpPr>
          <p:spPr>
            <a:xfrm>
              <a:off x="4800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3733560"/>
            <a:ext cx="762120" cy="612360"/>
            <a:chOff x="4038480" y="3733560"/>
            <a:chExt cx="762120" cy="612360"/>
          </a:xfrm>
        </p:grpSpPr>
        <p:sp>
          <p:nvSpPr>
            <p:cNvPr id="155" name=""/>
            <p:cNvSpPr/>
            <p:nvPr/>
          </p:nvSpPr>
          <p:spPr>
            <a:xfrm>
              <a:off x="403848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14800" y="373320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666520"/>
            <a:ext cx="1143000" cy="612720"/>
            <a:chOff x="2590920" y="2666520"/>
            <a:chExt cx="1143000" cy="612720"/>
          </a:xfrm>
        </p:grpSpPr>
        <p:sp>
          <p:nvSpPr>
            <p:cNvPr id="158" name="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, G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71800" y="266616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58680" y="327672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57400" y="3657240"/>
            <a:ext cx="762120" cy="612360"/>
            <a:chOff x="2057400" y="3657240"/>
            <a:chExt cx="762120" cy="612360"/>
          </a:xfrm>
        </p:grpSpPr>
        <p:sp>
          <p:nvSpPr>
            <p:cNvPr id="162" name=""/>
            <p:cNvSpPr/>
            <p:nvPr/>
          </p:nvSpPr>
          <p:spPr>
            <a:xfrm>
              <a:off x="2057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3720" y="36568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97120" y="2286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8120" y="3124080"/>
            <a:ext cx="3108240" cy="1916280"/>
            <a:chOff x="3048120" y="3124080"/>
            <a:chExt cx="3108240" cy="1916280"/>
          </a:xfrm>
        </p:grpSpPr>
        <p:sp>
          <p:nvSpPr>
            <p:cNvPr id="166" name=""/>
            <p:cNvSpPr/>
            <p:nvPr/>
          </p:nvSpPr>
          <p:spPr>
            <a:xfrm>
              <a:off x="4330800" y="3124080"/>
              <a:ext cx="1825560" cy="1916280"/>
            </a:xfrm>
            <a:custGeom>
              <a:avLst/>
              <a:gdLst/>
              <a:ahLst/>
              <a:rect l="l" t="t" r="r" b="b"/>
              <a:pathLst>
                <a:path w="1150" h="1207">
                  <a:moveTo>
                    <a:pt x="1150" y="1207"/>
                  </a:moveTo>
                  <a:cubicBezTo>
                    <a:pt x="1102" y="1077"/>
                    <a:pt x="1054" y="625"/>
                    <a:pt x="862" y="424"/>
                  </a:cubicBezTo>
                  <a:cubicBezTo>
                    <a:pt x="670" y="223"/>
                    <a:pt x="180" y="88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213000"/>
              <a:ext cx="838080" cy="736560"/>
            </a:xfrm>
            <a:custGeom>
              <a:avLst/>
              <a:gdLst/>
              <a:ahLst/>
              <a:rect l="l" t="t" r="r" b="b"/>
              <a:pathLst>
                <a:path w="528" h="464">
                  <a:moveTo>
                    <a:pt x="0" y="464"/>
                  </a:moveTo>
                  <a:cubicBezTo>
                    <a:pt x="25" y="428"/>
                    <a:pt x="62" y="321"/>
                    <a:pt x="150" y="244"/>
                  </a:cubicBezTo>
                  <a:cubicBezTo>
                    <a:pt x="238" y="167"/>
                    <a:pt x="449" y="51"/>
                    <a:pt x="52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4920" y="3124080"/>
            <a:ext cx="2959200" cy="1916280"/>
            <a:chOff x="2374920" y="3124080"/>
            <a:chExt cx="2959200" cy="1916280"/>
          </a:xfrm>
        </p:grpSpPr>
        <p:sp>
          <p:nvSpPr>
            <p:cNvPr id="169" name=""/>
            <p:cNvSpPr/>
            <p:nvPr/>
          </p:nvSpPr>
          <p:spPr>
            <a:xfrm>
              <a:off x="4241880" y="3213000"/>
              <a:ext cx="1092240" cy="749520"/>
            </a:xfrm>
            <a:custGeom>
              <a:avLst/>
              <a:gdLst/>
              <a:ahLst/>
              <a:rect l="l" t="t" r="r" b="b"/>
              <a:pathLst>
                <a:path w="688" h="472">
                  <a:moveTo>
                    <a:pt x="688" y="472"/>
                  </a:moveTo>
                  <a:cubicBezTo>
                    <a:pt x="651" y="428"/>
                    <a:pt x="579" y="287"/>
                    <a:pt x="464" y="208"/>
                  </a:cubicBezTo>
                  <a:cubicBezTo>
                    <a:pt x="349" y="129"/>
                    <a:pt x="97" y="43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4920" y="3124080"/>
              <a:ext cx="1511280" cy="1916280"/>
            </a:xfrm>
            <a:custGeom>
              <a:avLst/>
              <a:gdLst/>
              <a:ahLst/>
              <a:rect l="l" t="t" r="r" b="b"/>
              <a:pathLst>
                <a:path w="997" h="1111">
                  <a:moveTo>
                    <a:pt x="0" y="1111"/>
                  </a:moveTo>
                  <a:cubicBezTo>
                    <a:pt x="48" y="986"/>
                    <a:pt x="122" y="545"/>
                    <a:pt x="288" y="360"/>
                  </a:cubicBezTo>
                  <a:cubicBezTo>
                    <a:pt x="454" y="175"/>
                    <a:pt x="849" y="75"/>
                    <a:pt x="99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GP Based on 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CNF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62320"/>
            <a:ext cx="76960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: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 c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584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19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8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4480" y="556272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48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7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3016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800600" y="40384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2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4876920"/>
            <a:ext cx="1981080" cy="380880"/>
            <a:chOff x="914400" y="4876920"/>
            <a:chExt cx="1981080" cy="380880"/>
          </a:xfrm>
        </p:grpSpPr>
        <p:sp>
          <p:nvSpPr>
            <p:cNvPr id="237" name=""/>
            <p:cNvSpPr/>
            <p:nvPr/>
          </p:nvSpPr>
          <p:spPr>
            <a:xfrm flipV="1">
              <a:off x="914400" y="4876920"/>
              <a:ext cx="83808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81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876920"/>
            <a:ext cx="1981080" cy="380880"/>
            <a:chOff x="2590920" y="4876920"/>
            <a:chExt cx="1981080" cy="380880"/>
          </a:xfrm>
        </p:grpSpPr>
        <p:sp>
          <p:nvSpPr>
            <p:cNvPr id="240" name=""/>
            <p:cNvSpPr/>
            <p:nvPr/>
          </p:nvSpPr>
          <p:spPr>
            <a:xfrm flipV="1">
              <a:off x="2590920" y="4876920"/>
              <a:ext cx="91440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733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67080" y="4876920"/>
            <a:ext cx="2057400" cy="380880"/>
            <a:chOff x="4267080" y="4876920"/>
            <a:chExt cx="2057400" cy="380880"/>
          </a:xfrm>
        </p:grpSpPr>
        <p:sp>
          <p:nvSpPr>
            <p:cNvPr id="243" name=""/>
            <p:cNvSpPr/>
            <p:nvPr/>
          </p:nvSpPr>
          <p:spPr>
            <a:xfrm flipV="1">
              <a:off x="4267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10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4876920"/>
            <a:ext cx="2057400" cy="380880"/>
            <a:chOff x="6019920" y="4876920"/>
            <a:chExt cx="2057400" cy="380880"/>
          </a:xfrm>
        </p:grpSpPr>
        <p:sp>
          <p:nvSpPr>
            <p:cNvPr id="246" name=""/>
            <p:cNvSpPr/>
            <p:nvPr/>
          </p:nvSpPr>
          <p:spPr>
            <a:xfrm flipV="1">
              <a:off x="6019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086600" y="4876920"/>
              <a:ext cx="99072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4479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8128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18:05Z</dcterms:modified>
  <cp:revision>191</cp:revision>
  <dc:subject/>
  <dc:title>Normal Forms and Properties of CFLs</dc:title>
</cp:coreProperties>
</file>