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13A-9542-435A-AC99-BD325D3C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004-AB3A-48FE-B1B9-693DED10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BFB-9756-4E2D-8470-881BD8E8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DCF-72C8-4768-A917-9B99057D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227-C092-479B-861E-5BD0DAC7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C53-426D-4B02-B643-AFD8BA25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701-863A-49DA-B45C-8176CA13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5D8-A897-4596-B758-59F9886A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79E-BDE6-4A1C-A681-9390553E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AE8-1679-4A83-8362-7B836C96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5B9-BD1A-48B4-A436-8B18AD5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E1B-DFD8-46C0-8240-E1231284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A9D1-D308-4915-8700-9FEBB8412C6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343400"/>
            <a:ext cx="632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Alexander Meduna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8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219320"/>
            <a:ext cx="80773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R is defined analogically as the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2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5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9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6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9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3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1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6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1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6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N to equivalent 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57800" y="52578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5562720"/>
            <a:ext cx="7596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6019920"/>
            <a:ext cx="251460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1320" y="6019920"/>
            <a:ext cx="259056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943240" y="541008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143000"/>
            <a:ext cx="777240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 the language families defined by MGN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and MGR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1480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4360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53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3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2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4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ftmo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10-23T18:01:41Z</dcterms:modified>
  <cp:revision>192</cp:revision>
  <dc:subject/>
  <dc:title>Formal Languages and Compilers</dc:title>
</cp:coreProperties>
</file>