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FA5-3A54-4CE2-A3E4-36281BB8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F0F-DBD7-45A9-8D8E-11234311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41E-D3BE-4AE7-83D3-07FE1594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6DF-6909-452B-B61D-49D16AA4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5F4-1902-4CF7-9DA8-8598A5B2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5C0-582C-40B8-BDAB-54B7DA83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762-C5F8-4324-AD94-9010F5D8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A87-7AE8-4CFB-B8CF-E3950011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4A4-22C2-4383-B9B3-79CFB41E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B85-B4D0-4568-99B5-604B0A7D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F88-9965-4B35-B8EE-4725D1B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C56-E893-4811-9406-F8E99A6E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BEDB-89AD-4D62-B76E-4DA4FFD4FAF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2T10:07:47Z</dcterms:modified>
  <cp:revision>154</cp:revision>
  <dc:subject/>
  <dc:title>Part I. Alphabets, Strings, and Languages</dc:title>
</cp:coreProperties>
</file>