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977-60A3-49DC-8FDB-F5A7A6C0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36F-F195-4082-8D51-85718AC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7CE-E941-4B90-9E56-11334E8F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A14-5094-4466-B533-0195CE55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71B-7D3C-4758-9FBA-A2396CEE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3A9-92E7-4569-9264-0D484D95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0B8-1A5A-46C5-B752-317FC1C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890-0688-4D83-AC26-8FFF9561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5A6-9D3D-4955-938B-BB3313C9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6C5-27F7-48F9-8F93-D86D169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3F3-39F8-48CF-AFC2-5084957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ABD-4A62-46CE-A31D-2686A9E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E1F6-A4F8-4289-9CF5-B33A038AD94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343400"/>
            <a:ext cx="632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Alexander Meduna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Roman Luká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2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9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2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6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3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7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1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9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8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219320"/>
            <a:ext cx="80773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R is defined analogically as the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MG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2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5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9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6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9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3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1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6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1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6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N to equivalent 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M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57800" y="52578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62520" y="5562720"/>
            <a:ext cx="7596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6019920"/>
            <a:ext cx="251460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91320" y="6019920"/>
            <a:ext cx="259056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943240" y="541008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1143000"/>
            <a:ext cx="7772400" cy="31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 the language families defined by MGN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and MGR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R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MGN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4360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53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51814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1055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4800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3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2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4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ftmo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10-23T18:01:41Z</dcterms:modified>
  <cp:revision>192</cp:revision>
  <dc:subject/>
  <dc:title>Formal Languages and Compilers</dc:title>
</cp:coreProperties>
</file>