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D5D-2C19-4F9E-B30C-C04D3DA7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E8C-77AF-42DD-97F8-6D5B3BF2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52D-DCB5-481C-AC8A-78A50D46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E7E-244D-4692-A20E-EBA45E4C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61C-23C7-443C-BF79-A62FFB13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820-E6C1-4B4A-B5E7-23F31310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79A-B1C2-40A1-AE86-7C4DA976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13C-0565-4FD7-A5AB-4DCDB16C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DD1-0A4D-4761-BB71-D7AC35C0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8AC-6178-44C7-86AD-9D775D02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4C2-CF3A-4DAF-9CD5-67D80526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765-26BC-4E50-8F13-D72EB5F3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E115-5838-460B-83C2-0FB2DCF4EB6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rezentace k disertačním tezí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8006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avidlově synchronizovan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143000"/>
            <a:ext cx="800100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ravid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239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242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246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249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253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256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260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263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27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283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288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293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lavní vý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1532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Generativní síla těchto systémů (už 2-MGR, 2-MGN) je rovna síle Turingova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íle disertační práce, 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219320"/>
            <a:ext cx="777240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1) Prostudování stávajících typů gramatických systém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2) Zavedení nových gramatických systémů simulující multigenerován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3) Určení generativní síly těchto nových gramatických systémů a vztahu mezi s sebou navzáj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) Vhodné omezení těchto gramatických systémů, aby byly použitelné v praxi + aplik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50292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9600" y="1219320"/>
            <a:ext cx="152280" cy="3733560"/>
          </a:xfrm>
          <a:custGeom>
            <a:avLst/>
            <a:gdLst>
              <a:gd name="textAreaLeft" fmla="*/ 0 w 152280"/>
              <a:gd name="textAreaRight" fmla="*/ 55080 w 15228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7579800" y="3009240"/>
            <a:ext cx="22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távajíc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snova prezen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1932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) Úvod do dané problematik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Přechod od gramatiky ke gramatickému systém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) Samotný výzk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Zavedení 2 typů multigenerativních gramatických systému (MG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ivní síla těchto M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) Cíle disertační prá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gramatických systé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120" y="1066680"/>
            <a:ext cx="462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atika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209680"/>
            <a:ext cx="800100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atický systé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zkontextová gramatik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pro všech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množina „pravidel“ pro „řízení generování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95880"/>
            <a:ext cx="807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ovaný multiřetězec v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0687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259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51664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1148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5720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Paralelní gener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31840" y="549108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05120" y="498240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0520" y="452592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5135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kontr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8604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8322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19320"/>
            <a:ext cx="80010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ech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 G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jazyk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generovaný pomocí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vá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pro všechna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</a:t>
            </a: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-jazyku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048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ustr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jazyků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Standardní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600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tvoří řetězce generované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rvní gramatik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vý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429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je tvořen pomocí řetězců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všech gramati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a operací nad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říklady takovýchto opera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572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Operace „sjednocení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49528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952880"/>
            <a:ext cx="76176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4952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9528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562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Operace „konkatenac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94360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943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943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133720"/>
            <a:ext cx="3352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213372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133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110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rola derivac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119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ora multifor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nových dvou typů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symbol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066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prav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Nonterminálově synchronizovaný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0010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á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kl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17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17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18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18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18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19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19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20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21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21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21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6-06T07:01:58Z</dcterms:modified>
  <cp:revision>193</cp:revision>
  <dc:subject/>
  <dc:title>Formal Languages and Compilers</dc:title>
</cp:coreProperties>
</file>