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473-0079-492D-9312-7E73A56A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18E-8EAA-4D0C-A912-D73C661B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F6E-96B7-4DEA-B633-DA05C920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CC8-8AE2-4B01-A5AA-7D6B70EF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76C-3F7F-44DB-AAB9-57540C97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8AE-11D9-4D14-8289-81A8ED5A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8DE0-3DFF-4AA5-AAD9-C06CAF79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9254-18A0-4B55-8AE0-4BAD80F8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3AEF-6138-459C-AE87-FD6D0007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0172-4718-48B1-8EF8-5F552FDD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CD5-A096-44D6-9D58-5ADF9296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8F8-8972-4AB1-9D40-33C010AE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8C15-8277-415C-A310-3821989BACE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3:26Z</dcterms:modified>
  <cp:revision>184</cp:revision>
  <dc:subject/>
  <dc:title>Models for Context-Free Languages</dc:title>
</cp:coreProperties>
</file>