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6ED2-FA89-4117-8E76-2AD3675CC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7A9F-A604-4BD2-9A1A-23BE8BCFF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C90D-117D-4A07-8DD5-7404CFB3F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771A-A9C1-4FDB-9D0B-194C21FCC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F811-7540-440B-B29F-CC1659FD7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0195-49D7-4906-AA02-BE0E2557E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C2D8-8D35-46FD-970C-3FD6AEFC5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81EF-80BE-4949-A581-00A2697BD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EF7A-DADD-43C7-AC57-E521F7D8C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C4B1-8083-4543-ADD4-0241D4C9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5065-CD80-4011-93BC-C8717EFBC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9BE8-BC19-48BA-A1E6-DF2A0729C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464A0-D1B0-436E-A273-3CCB68977C54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78483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VI.</a:t>
            </a:r>
            <a:br>
              <a:rPr sz="6000"/>
            </a:b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Lexical Analysi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1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33520" y="1219320"/>
            <a:ext cx="8431200" cy="44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procedur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get_Next_Toke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(var TOKEN: ....)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declaration, ...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r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:= ''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read string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:= S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actual state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repeat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ymbol = getchar()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read next character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rt 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in [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a'..'z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]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f1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identifier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:= symbol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231720" y="5401440"/>
            <a:ext cx="118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H="1">
            <a:off x="5159520" y="5448240"/>
            <a:ext cx="676080" cy="717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H="1">
            <a:off x="5230800" y="5529240"/>
            <a:ext cx="527040" cy="5572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H="1" rot="14620200">
            <a:off x="4726800" y="5782680"/>
            <a:ext cx="452160" cy="641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H="1">
            <a:off x="6266160" y="5258880"/>
            <a:ext cx="639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H="1">
            <a:off x="3213360" y="5906880"/>
            <a:ext cx="1218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,0..9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476600" y="5442120"/>
            <a:ext cx="376560" cy="398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H="1">
            <a:off x="7680240" y="5157720"/>
            <a:ext cx="276480" cy="311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236000" y="54468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H="1">
            <a:off x="5844960" y="5805360"/>
            <a:ext cx="1368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33520" y="1219320"/>
            <a:ext cx="8431200" cy="30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rt 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in [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0'..'9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]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f2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integer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:= symbol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H="1">
            <a:off x="6411600" y="4808520"/>
            <a:ext cx="276120" cy="311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5967360" y="50976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268720" y="527436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H="1">
            <a:off x="3866400" y="51228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H="1">
            <a:off x="3942720" y="519912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flipH="1" flipV="1">
            <a:off x="4552920" y="5438520"/>
            <a:ext cx="1387440" cy="6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H="1">
            <a:off x="3942720" y="458964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flipH="1">
            <a:off x="4896360" y="474120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H="1">
            <a:off x="3264120" y="443628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402000" y="5351400"/>
            <a:ext cx="380880" cy="3812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3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33520" y="1219320"/>
            <a:ext cx="843120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rt 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: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q3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assignment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H="1">
            <a:off x="5736960" y="3645000"/>
            <a:ext cx="276120" cy="311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5292720" y="39337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H="1">
            <a:off x="2613960" y="51912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2690640" y="526716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4062240" y="4437000"/>
            <a:ext cx="1230480" cy="906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H="1">
            <a:off x="4368600" y="4352040"/>
            <a:ext cx="30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H="1">
            <a:off x="3681360" y="526716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H="1">
            <a:off x="3300480" y="55720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H="1">
            <a:off x="3378240" y="503784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550160" y="5190480"/>
            <a:ext cx="523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081160" y="534348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4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533520" y="1219320"/>
            <a:ext cx="8431200" cy="41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rt 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+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ADDITIO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*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MULTIPLICATIO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V="1">
            <a:off x="4716360" y="5625720"/>
            <a:ext cx="432000" cy="28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148360" y="530064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1" name=""/>
          <p:cNvGrpSpPr/>
          <p:nvPr/>
        </p:nvGrpSpPr>
        <p:grpSpPr>
          <a:xfrm>
            <a:off x="5745240" y="3859920"/>
            <a:ext cx="2989800" cy="1524960"/>
            <a:chOff x="5745240" y="3859920"/>
            <a:chExt cx="2989800" cy="1524960"/>
          </a:xfrm>
        </p:grpSpPr>
        <p:sp>
          <p:nvSpPr>
            <p:cNvPr id="822" name=""/>
            <p:cNvSpPr/>
            <p:nvPr/>
          </p:nvSpPr>
          <p:spPr>
            <a:xfrm>
              <a:off x="7040520" y="386064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116840" y="393696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V="1">
              <a:off x="5745240" y="4394160"/>
              <a:ext cx="1371600" cy="990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356880" y="43171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>
              <a:off x="7877880" y="4013280"/>
              <a:ext cx="381240" cy="380880"/>
            </a:xfrm>
            <a:prstGeom prst="lef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8337960" y="38599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8" name=""/>
          <p:cNvGrpSpPr/>
          <p:nvPr/>
        </p:nvGrpSpPr>
        <p:grpSpPr>
          <a:xfrm>
            <a:off x="5821200" y="4622400"/>
            <a:ext cx="2925720" cy="914760"/>
            <a:chOff x="5821200" y="4622400"/>
            <a:chExt cx="2925720" cy="914760"/>
          </a:xfrm>
        </p:grpSpPr>
        <p:sp>
          <p:nvSpPr>
            <p:cNvPr id="829" name=""/>
            <p:cNvSpPr/>
            <p:nvPr/>
          </p:nvSpPr>
          <p:spPr>
            <a:xfrm>
              <a:off x="6964200" y="46990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040520" y="47750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V="1">
              <a:off x="5821200" y="5156280"/>
              <a:ext cx="114300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508800" y="46983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7877880" y="4775040"/>
              <a:ext cx="38124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8337600" y="46224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5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33520" y="1219320"/>
            <a:ext cx="8431200" cy="30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rt 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&lt;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f6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{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p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s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>
            <a:off x="5651280" y="3573360"/>
            <a:ext cx="253800" cy="433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110200" y="39337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5796000" y="3693240"/>
            <a:ext cx="3027960" cy="762840"/>
            <a:chOff x="5796000" y="3693240"/>
            <a:chExt cx="3027960" cy="762840"/>
          </a:xfrm>
        </p:grpSpPr>
        <p:sp>
          <p:nvSpPr>
            <p:cNvPr id="841" name=""/>
            <p:cNvSpPr/>
            <p:nvPr/>
          </p:nvSpPr>
          <p:spPr>
            <a:xfrm>
              <a:off x="5796000" y="4149720"/>
              <a:ext cx="148572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260040" y="369324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281720" y="37702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358040" y="38466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8043840" y="3922560"/>
              <a:ext cx="38088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8426880" y="384588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6291360" y="4226760"/>
            <a:ext cx="1066320" cy="2227320"/>
            <a:chOff x="6291360" y="4226760"/>
            <a:chExt cx="1066320" cy="2227320"/>
          </a:xfrm>
        </p:grpSpPr>
        <p:sp>
          <p:nvSpPr>
            <p:cNvPr id="848" name=""/>
            <p:cNvSpPr/>
            <p:nvPr/>
          </p:nvSpPr>
          <p:spPr>
            <a:xfrm>
              <a:off x="6750720" y="42267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291360" y="48369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367680" y="49132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 rot="5400000">
              <a:off x="6442920" y="5598720"/>
              <a:ext cx="38088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294240" y="5903280"/>
              <a:ext cx="613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6824520" y="4303800"/>
              <a:ext cx="53316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7281720" y="4379040"/>
            <a:ext cx="780120" cy="2075040"/>
            <a:chOff x="7281720" y="4379040"/>
            <a:chExt cx="780120" cy="2075040"/>
          </a:xfrm>
        </p:grpSpPr>
        <p:sp>
          <p:nvSpPr>
            <p:cNvPr id="855" name=""/>
            <p:cNvSpPr/>
            <p:nvPr/>
          </p:nvSpPr>
          <p:spPr>
            <a:xfrm>
              <a:off x="7662600" y="445608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664760" y="437904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281720" y="48369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357680" y="49132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283880" y="5903280"/>
              <a:ext cx="709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 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 rot="5400000">
              <a:off x="7434000" y="559908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1" name=""/>
          <p:cNvSpPr/>
          <p:nvPr/>
        </p:nvSpPr>
        <p:spPr>
          <a:xfrm flipV="1">
            <a:off x="4276800" y="5682240"/>
            <a:ext cx="38052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981600" y="436464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5294520" y="515664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653360" y="5707440"/>
            <a:ext cx="8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  –</a:t>
            </a:r>
            <a:r>
              <a:rPr b="1" i="1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124160" y="50227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80808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6" name=""/>
          <p:cNvCxnSpPr>
            <a:stCxn id="865" idx="6"/>
            <a:endCxn id="839" idx="4"/>
          </p:cNvCxnSpPr>
          <p:nvPr/>
        </p:nvCxnSpPr>
        <p:spPr>
          <a:xfrm flipV="1">
            <a:off x="4828680" y="4638600"/>
            <a:ext cx="624600" cy="727560"/>
          </a:xfrm>
          <a:prstGeom prst="curvedConnector2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867" name=""/>
          <p:cNvCxnSpPr>
            <a:stCxn id="865" idx="0"/>
            <a:endCxn id="839" idx="2"/>
          </p:cNvCxnSpPr>
          <p:nvPr/>
        </p:nvCxnSpPr>
        <p:spPr>
          <a:xfrm flipH="1" flipV="1" rot="5400000">
            <a:off x="4415400" y="4327560"/>
            <a:ext cx="727560" cy="624600"/>
          </a:xfrm>
          <a:prstGeom prst="curvedConnector2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6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33520" y="1219320"/>
            <a:ext cx="8431200" cy="47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f1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identifie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in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['a'..'z', '0'..'9']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:= str + symbol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ungetchar(symbol)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return symbol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is_keyword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(str) the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keyword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get_keyword(str)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IDENTIFIE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f1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663720" y="5387040"/>
            <a:ext cx="118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flipH="1">
            <a:off x="5590440" y="5433840"/>
            <a:ext cx="676440" cy="7178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flipH="1">
            <a:off x="5661720" y="5514840"/>
            <a:ext cx="527400" cy="5572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 flipH="1" rot="14620200">
            <a:off x="5159880" y="5769000"/>
            <a:ext cx="451800" cy="641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 flipH="1">
            <a:off x="6697800" y="5244840"/>
            <a:ext cx="639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 flipH="1">
            <a:off x="3645360" y="5892480"/>
            <a:ext cx="1218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,0..9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908600" y="5427720"/>
            <a:ext cx="376200" cy="398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flipH="1">
            <a:off x="8111880" y="5143680"/>
            <a:ext cx="276120" cy="311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7667640" y="54324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6276600" y="5791320"/>
            <a:ext cx="13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7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33520" y="1219320"/>
            <a:ext cx="8431200" cy="41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f2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intege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in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['0'..'9']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:= str + symbol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ungetchar(symbol)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return symbol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INTEGE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conversion value of str to integer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f2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flipH="1">
            <a:off x="7895880" y="4950000"/>
            <a:ext cx="276120" cy="311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7451640" y="52387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753000" y="541548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 flipH="1">
            <a:off x="5350680" y="52642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 flipH="1">
            <a:off x="5427720" y="534024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 flipH="1" flipV="1">
            <a:off x="6037200" y="5580000"/>
            <a:ext cx="1387440" cy="6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H="1">
            <a:off x="5427000" y="473076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 flipH="1">
            <a:off x="6380640" y="488232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 flipH="1">
            <a:off x="4749120" y="457776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886280" y="549288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8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33520" y="1219320"/>
            <a:ext cx="8431200" cy="28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q3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assignment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=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ASSIGNMENT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q3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flipH="1">
            <a:off x="6743520" y="3573360"/>
            <a:ext cx="276120" cy="311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299280" y="386244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H="1">
            <a:off x="3620520" y="511956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H="1">
            <a:off x="3697200" y="5195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H="1">
            <a:off x="5068800" y="4365720"/>
            <a:ext cx="1230480" cy="906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H="1">
            <a:off x="5375160" y="4280760"/>
            <a:ext cx="30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H="1">
            <a:off x="4687920" y="5195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H="1">
            <a:off x="4307040" y="5500800"/>
            <a:ext cx="3808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H="1">
            <a:off x="4384800" y="496656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2556720" y="5118840"/>
            <a:ext cx="523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087720" y="527220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9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533520" y="1219320"/>
            <a:ext cx="8431200" cy="55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f6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=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LEQ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&lt;=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&gt;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NEQ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&lt;&gt;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ungetchar(symbol); {return symbol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LT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&lt;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f6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7273800" y="1268280"/>
            <a:ext cx="46692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7740720" y="1268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3" name=""/>
          <p:cNvGrpSpPr/>
          <p:nvPr/>
        </p:nvGrpSpPr>
        <p:grpSpPr>
          <a:xfrm>
            <a:off x="7059600" y="1627920"/>
            <a:ext cx="1542240" cy="1243800"/>
            <a:chOff x="7059600" y="1627920"/>
            <a:chExt cx="1542240" cy="1243800"/>
          </a:xfrm>
        </p:grpSpPr>
        <p:sp>
          <p:nvSpPr>
            <p:cNvPr id="914" name=""/>
            <p:cNvSpPr/>
            <p:nvPr/>
          </p:nvSpPr>
          <p:spPr>
            <a:xfrm flipH="1">
              <a:off x="7596360" y="1916280"/>
              <a:ext cx="288720" cy="36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310880" y="16279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059600" y="218592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135920" y="22622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>
              <a:off x="7821720" y="233856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204760" y="22615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0" name=""/>
          <p:cNvGrpSpPr/>
          <p:nvPr/>
        </p:nvGrpSpPr>
        <p:grpSpPr>
          <a:xfrm>
            <a:off x="6068880" y="2642400"/>
            <a:ext cx="1067040" cy="2227320"/>
            <a:chOff x="6068880" y="2642400"/>
            <a:chExt cx="1067040" cy="2227320"/>
          </a:xfrm>
        </p:grpSpPr>
        <p:sp>
          <p:nvSpPr>
            <p:cNvPr id="921" name=""/>
            <p:cNvSpPr/>
            <p:nvPr/>
          </p:nvSpPr>
          <p:spPr>
            <a:xfrm>
              <a:off x="6528240" y="264240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068880" y="32529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145200" y="3328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 rot="5400000">
              <a:off x="6221160" y="4014360"/>
              <a:ext cx="381240" cy="380880"/>
            </a:xfrm>
            <a:prstGeom prst="lef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071760" y="4318920"/>
              <a:ext cx="613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>
              <a:off x="6602400" y="2719440"/>
              <a:ext cx="53352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7" name=""/>
          <p:cNvGrpSpPr/>
          <p:nvPr/>
        </p:nvGrpSpPr>
        <p:grpSpPr>
          <a:xfrm>
            <a:off x="7059600" y="2795040"/>
            <a:ext cx="780120" cy="2074680"/>
            <a:chOff x="7059600" y="2795040"/>
            <a:chExt cx="780120" cy="2074680"/>
          </a:xfrm>
        </p:grpSpPr>
        <p:sp>
          <p:nvSpPr>
            <p:cNvPr id="928" name=""/>
            <p:cNvSpPr/>
            <p:nvPr/>
          </p:nvSpPr>
          <p:spPr>
            <a:xfrm>
              <a:off x="7440480" y="2871720"/>
              <a:ext cx="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7442640" y="279504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059600" y="32529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135920" y="332892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7061760" y="4318920"/>
              <a:ext cx="709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 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flipH="1" rot="5400000">
              <a:off x="7211160" y="4014360"/>
              <a:ext cx="38124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10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533520" y="1219320"/>
            <a:ext cx="8431200" cy="33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p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comment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}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 := s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start state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p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until </a:t>
            </a:r>
            <a:r>
              <a:rPr b="1" lang="cs-CZ" sz="2100" spc="-1" strike="noStrike">
                <a:solidFill>
                  <a:srgbClr val="000000"/>
                </a:solidFill>
                <a:latin typeface="Courier New"/>
              </a:rPr>
              <a:t>EOF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 flipH="1">
            <a:off x="5973480" y="3068640"/>
            <a:ext cx="253800" cy="433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432400" y="34290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 flipV="1">
            <a:off x="4599000" y="5177880"/>
            <a:ext cx="38052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4303800" y="385956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616720" y="465192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4974120" y="5202720"/>
            <a:ext cx="8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  –</a:t>
            </a:r>
            <a:r>
              <a:rPr b="1" i="1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4446720" y="45180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80808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4" name=""/>
          <p:cNvCxnSpPr>
            <a:stCxn id="943" idx="6"/>
            <a:endCxn id="938" idx="4"/>
          </p:cNvCxnSpPr>
          <p:nvPr/>
        </p:nvCxnSpPr>
        <p:spPr>
          <a:xfrm flipV="1">
            <a:off x="5151240" y="4133880"/>
            <a:ext cx="624600" cy="727560"/>
          </a:xfrm>
          <a:prstGeom prst="curvedConnector2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945" name=""/>
          <p:cNvCxnSpPr>
            <a:stCxn id="943" idx="0"/>
            <a:endCxn id="938" idx="2"/>
          </p:cNvCxnSpPr>
          <p:nvPr/>
        </p:nvCxnSpPr>
        <p:spPr>
          <a:xfrm flipH="1" flipV="1" rot="5400000">
            <a:off x="4737600" y="3822840"/>
            <a:ext cx="727560" cy="624600"/>
          </a:xfrm>
          <a:prstGeom prst="curvedConnector2">
            <a:avLst/>
          </a:prstGeom>
          <a:ln w="38160">
            <a:solidFill>
              <a:srgbClr val="808080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2819520" y="4267080"/>
            <a:ext cx="2666880" cy="1143000"/>
            <a:chOff x="2819520" y="4267080"/>
            <a:chExt cx="2666880" cy="1143000"/>
          </a:xfrm>
        </p:grpSpPr>
        <p:sp>
          <p:nvSpPr>
            <p:cNvPr id="44" name=""/>
            <p:cNvSpPr/>
            <p:nvPr/>
          </p:nvSpPr>
          <p:spPr>
            <a:xfrm>
              <a:off x="2971800" y="4267080"/>
              <a:ext cx="2286000" cy="1143000"/>
            </a:xfrm>
            <a:prstGeom prst="leftArrow">
              <a:avLst>
                <a:gd name="adj1" fmla="val 42130"/>
                <a:gd name="adj2" fmla="val 62222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819520" y="4571280"/>
              <a:ext cx="266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971800" y="4191120"/>
            <a:ext cx="25146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819520" y="4267080"/>
            <a:ext cx="2666880" cy="1143000"/>
            <a:chOff x="2819520" y="4267080"/>
            <a:chExt cx="2666880" cy="1143000"/>
          </a:xfrm>
        </p:grpSpPr>
        <p:sp>
          <p:nvSpPr>
            <p:cNvPr id="48" name=""/>
            <p:cNvSpPr/>
            <p:nvPr/>
          </p:nvSpPr>
          <p:spPr>
            <a:xfrm>
              <a:off x="2971800" y="4267080"/>
              <a:ext cx="2286000" cy="1143000"/>
            </a:xfrm>
            <a:prstGeom prst="leftArrow">
              <a:avLst>
                <a:gd name="adj1" fmla="val 42130"/>
                <a:gd name="adj2" fmla="val 62222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19520" y="4571280"/>
              <a:ext cx="266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895480" y="4191120"/>
            <a:ext cx="25146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2819520" y="4267080"/>
            <a:ext cx="2666880" cy="1143000"/>
            <a:chOff x="2819520" y="4267080"/>
            <a:chExt cx="2666880" cy="1143000"/>
          </a:xfrm>
        </p:grpSpPr>
        <p:sp>
          <p:nvSpPr>
            <p:cNvPr id="52" name=""/>
            <p:cNvSpPr/>
            <p:nvPr/>
          </p:nvSpPr>
          <p:spPr>
            <a:xfrm>
              <a:off x="2971800" y="4267080"/>
              <a:ext cx="2286000" cy="1143000"/>
            </a:xfrm>
            <a:prstGeom prst="leftArrow">
              <a:avLst>
                <a:gd name="adj1" fmla="val 42130"/>
                <a:gd name="adj2" fmla="val 62222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819520" y="4571280"/>
              <a:ext cx="266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2819520" y="4191120"/>
            <a:ext cx="25146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819520" y="4267080"/>
            <a:ext cx="2666880" cy="1143000"/>
            <a:chOff x="2819520" y="4267080"/>
            <a:chExt cx="2666880" cy="1143000"/>
          </a:xfrm>
        </p:grpSpPr>
        <p:sp>
          <p:nvSpPr>
            <p:cNvPr id="56" name=""/>
            <p:cNvSpPr/>
            <p:nvPr/>
          </p:nvSpPr>
          <p:spPr>
            <a:xfrm>
              <a:off x="2971800" y="4267080"/>
              <a:ext cx="2286000" cy="1143000"/>
            </a:xfrm>
            <a:prstGeom prst="leftArrow">
              <a:avLst>
                <a:gd name="adj1" fmla="val 42130"/>
                <a:gd name="adj2" fmla="val 62222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819520" y="4571280"/>
              <a:ext cx="266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2895480" y="4191120"/>
            <a:ext cx="25146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819520" y="4267080"/>
            <a:ext cx="2666880" cy="1143000"/>
            <a:chOff x="2819520" y="4267080"/>
            <a:chExt cx="2666880" cy="1143000"/>
          </a:xfrm>
        </p:grpSpPr>
        <p:sp>
          <p:nvSpPr>
            <p:cNvPr id="60" name=""/>
            <p:cNvSpPr/>
            <p:nvPr/>
          </p:nvSpPr>
          <p:spPr>
            <a:xfrm>
              <a:off x="2971800" y="4267080"/>
              <a:ext cx="2286000" cy="1143000"/>
            </a:xfrm>
            <a:prstGeom prst="leftArrow">
              <a:avLst>
                <a:gd name="adj1" fmla="val 42130"/>
                <a:gd name="adj2" fmla="val 62222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19520" y="4571280"/>
              <a:ext cx="266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2895480" y="4191120"/>
            <a:ext cx="25146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57800" y="3048120"/>
            <a:ext cx="3276720" cy="3200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638680" y="51055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324480" y="51055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0120" y="51055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51055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077320" y="51055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5411880" y="3580200"/>
            <a:ext cx="2593440" cy="1602720"/>
            <a:chOff x="5411880" y="3580200"/>
            <a:chExt cx="2593440" cy="1602720"/>
          </a:xfrm>
        </p:grpSpPr>
        <p:sp>
          <p:nvSpPr>
            <p:cNvPr id="70" name=""/>
            <p:cNvSpPr/>
            <p:nvPr/>
          </p:nvSpPr>
          <p:spPr>
            <a:xfrm>
              <a:off x="6324480" y="403848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487840" y="47232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096960" y="4723200"/>
              <a:ext cx="45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553080" y="4038480"/>
              <a:ext cx="6858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411880" y="3580200"/>
              <a:ext cx="170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Assign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164720" y="4037400"/>
              <a:ext cx="8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5638680" y="4038480"/>
              <a:ext cx="45720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6631200" y="4342320"/>
            <a:ext cx="1983600" cy="916920"/>
            <a:chOff x="6631200" y="4342320"/>
            <a:chExt cx="1983600" cy="916920"/>
          </a:xfrm>
        </p:grpSpPr>
        <p:sp>
          <p:nvSpPr>
            <p:cNvPr id="78" name=""/>
            <p:cNvSpPr/>
            <p:nvPr/>
          </p:nvSpPr>
          <p:spPr>
            <a:xfrm>
              <a:off x="7469280" y="4799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631200" y="4342320"/>
              <a:ext cx="8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74200" y="4342320"/>
              <a:ext cx="8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7391160" y="4496040"/>
              <a:ext cx="15228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20120" y="44960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696080" y="4496040"/>
              <a:ext cx="1526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7774560" y="4723200"/>
            <a:ext cx="773640" cy="459720"/>
            <a:chOff x="7774560" y="4723200"/>
            <a:chExt cx="773640" cy="459720"/>
          </a:xfrm>
        </p:grpSpPr>
        <p:sp>
          <p:nvSpPr>
            <p:cNvPr id="85" name=""/>
            <p:cNvSpPr/>
            <p:nvPr/>
          </p:nvSpPr>
          <p:spPr>
            <a:xfrm>
              <a:off x="7774560" y="47232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nu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77320" y="4724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6783120" y="4723200"/>
            <a:ext cx="435240" cy="459720"/>
            <a:chOff x="6783120" y="4723200"/>
            <a:chExt cx="435240" cy="459720"/>
          </a:xfrm>
        </p:grpSpPr>
        <p:sp>
          <p:nvSpPr>
            <p:cNvPr id="88" name=""/>
            <p:cNvSpPr/>
            <p:nvPr/>
          </p:nvSpPr>
          <p:spPr>
            <a:xfrm>
              <a:off x="6783120" y="47232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010280" y="4724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685800" y="4572000"/>
            <a:ext cx="2286000" cy="1676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5410080"/>
            <a:ext cx="1447920" cy="7621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43000" y="5791320"/>
            <a:ext cx="12952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7268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0128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988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89040" y="53334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45720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971800" y="5486400"/>
            <a:ext cx="3048120" cy="685800"/>
            <a:chOff x="2971800" y="5486400"/>
            <a:chExt cx="3048120" cy="685800"/>
          </a:xfrm>
        </p:grpSpPr>
        <p:grpSp>
          <p:nvGrpSpPr>
            <p:cNvPr id="99" name=""/>
            <p:cNvGrpSpPr/>
            <p:nvPr/>
          </p:nvGrpSpPr>
          <p:grpSpPr>
            <a:xfrm>
              <a:off x="5334120" y="5486400"/>
              <a:ext cx="685800" cy="685800"/>
              <a:chOff x="5334120" y="5486400"/>
              <a:chExt cx="685800" cy="685800"/>
            </a:xfrm>
          </p:grpSpPr>
          <p:sp>
            <p:nvSpPr>
              <p:cNvPr id="100" name=""/>
              <p:cNvSpPr/>
              <p:nvPr/>
            </p:nvSpPr>
            <p:spPr>
              <a:xfrm>
                <a:off x="5334120" y="5486400"/>
                <a:ext cx="685800" cy="6858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Pos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410080" y="5867640"/>
                <a:ext cx="53352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2971800" y="563904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 rot="5400000">
            <a:off x="2476080" y="5676840"/>
            <a:ext cx="1219320" cy="228600"/>
          </a:xfrm>
          <a:custGeom>
            <a:avLst/>
            <a:gdLst>
              <a:gd name="textAreaLeft" fmla="*/ 186840 w 1219320"/>
              <a:gd name="textAreaRight" fmla="*/ 1032480 w 1219320"/>
              <a:gd name="textAreaTop" fmla="*/ 34920 h 228600"/>
              <a:gd name="textAreaBottom" fmla="*/ 1936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793" y="21600"/>
                </a:lnTo>
                <a:lnTo>
                  <a:pt x="2807" y="21600"/>
                </a:lnTo>
                <a:close/>
              </a:path>
            </a:pathLst>
          </a:cu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5486400"/>
            <a:ext cx="990720" cy="6094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4900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760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6040" y="5333400"/>
            <a:ext cx="5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47920" y="5867280"/>
            <a:ext cx="685800" cy="2667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971800" y="5486400"/>
            <a:ext cx="3505320" cy="685800"/>
            <a:chOff x="2971800" y="5486400"/>
            <a:chExt cx="3505320" cy="685800"/>
          </a:xfrm>
        </p:grpSpPr>
        <p:sp>
          <p:nvSpPr>
            <p:cNvPr id="110" name=""/>
            <p:cNvSpPr/>
            <p:nvPr/>
          </p:nvSpPr>
          <p:spPr>
            <a:xfrm>
              <a:off x="6095880" y="5486400"/>
              <a:ext cx="38124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172200" y="5867640"/>
              <a:ext cx="2286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71800" y="5715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1447920" y="5486400"/>
            <a:ext cx="685800" cy="2667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967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253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539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825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01640" y="53334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971800" y="5486400"/>
            <a:ext cx="4419720" cy="685800"/>
            <a:chOff x="2971800" y="5486400"/>
            <a:chExt cx="4419720" cy="685800"/>
          </a:xfrm>
        </p:grpSpPr>
        <p:sp>
          <p:nvSpPr>
            <p:cNvPr id="120" name=""/>
            <p:cNvSpPr/>
            <p:nvPr/>
          </p:nvSpPr>
          <p:spPr>
            <a:xfrm>
              <a:off x="6553080" y="5486400"/>
              <a:ext cx="83844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Rat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629400" y="5867640"/>
              <a:ext cx="6858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971800" y="5715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1219320" y="5486400"/>
            <a:ext cx="1143000" cy="6094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5791320"/>
            <a:ext cx="12952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0128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01640" y="5333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971800" y="5486400"/>
            <a:ext cx="4724280" cy="685800"/>
            <a:chOff x="2971800" y="5486400"/>
            <a:chExt cx="4724280" cy="685800"/>
          </a:xfrm>
        </p:grpSpPr>
        <p:sp>
          <p:nvSpPr>
            <p:cNvPr id="128" name=""/>
            <p:cNvSpPr/>
            <p:nvPr/>
          </p:nvSpPr>
          <p:spPr>
            <a:xfrm>
              <a:off x="7467480" y="5486400"/>
              <a:ext cx="22860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543800" y="5867640"/>
              <a:ext cx="763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971800" y="5715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1447920" y="5842080"/>
            <a:ext cx="685800" cy="2919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3880" y="5486400"/>
            <a:ext cx="685800" cy="2667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253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539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42960" y="533340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971800" y="5486400"/>
            <a:ext cx="5410080" cy="685800"/>
            <a:chOff x="2971800" y="5486400"/>
            <a:chExt cx="5410080" cy="685800"/>
          </a:xfrm>
        </p:grpSpPr>
        <p:sp>
          <p:nvSpPr>
            <p:cNvPr id="137" name=""/>
            <p:cNvSpPr/>
            <p:nvPr/>
          </p:nvSpPr>
          <p:spPr>
            <a:xfrm>
              <a:off x="7772400" y="5486400"/>
              <a:ext cx="60948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848720" y="5867640"/>
              <a:ext cx="4572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971800" y="5791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609480" y="0"/>
            <a:ext cx="3353040" cy="38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429000" y="37339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290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576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71600" y="37339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57400" y="37339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3716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0574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146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00400" y="37339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7432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9718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004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3276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ource pro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2000" y="2818800"/>
            <a:ext cx="174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562720" y="3048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Syntax analyz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11280" y="3656880"/>
            <a:ext cx="3381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ourier New"/>
              </a:rPr>
              <a:t>Pos := Rate*6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xical Analyzer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95280" y="1523880"/>
            <a:ext cx="1800" cy="38124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60240" y="1905120"/>
            <a:ext cx="221004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0880" y="10666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ource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19051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65160" y="2362320"/>
            <a:ext cx="1568520" cy="3794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248520" y="1905120"/>
            <a:ext cx="22096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248520" y="19051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yntax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553080" y="2362320"/>
            <a:ext cx="1568520" cy="3794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2895480" y="2057400"/>
            <a:ext cx="33530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81280" y="1600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Get next t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86200" y="2286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T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73400" y="1446840"/>
            <a:ext cx="21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d next ch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33520" y="2818800"/>
            <a:ext cx="8229600" cy="3733920"/>
            <a:chOff x="533520" y="2818800"/>
            <a:chExt cx="8229600" cy="3733920"/>
          </a:xfrm>
        </p:grpSpPr>
        <p:sp>
          <p:nvSpPr>
            <p:cNvPr id="177" name=""/>
            <p:cNvSpPr/>
            <p:nvPr/>
          </p:nvSpPr>
          <p:spPr>
            <a:xfrm>
              <a:off x="533520" y="2895480"/>
              <a:ext cx="8229600" cy="365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200400" y="3733560"/>
              <a:ext cx="228600" cy="38052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257800" y="3047760"/>
              <a:ext cx="3276720" cy="3200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638680" y="48002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324480" y="48002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324480" y="4038480"/>
              <a:ext cx="0" cy="45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87840" y="441792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96960" y="4417920"/>
              <a:ext cx="45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553080" y="4038480"/>
              <a:ext cx="45720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411880" y="3579840"/>
              <a:ext cx="170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Assign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936120" y="4189320"/>
              <a:ext cx="8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5638680" y="4038480"/>
              <a:ext cx="457200" cy="45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371600" y="4571640"/>
              <a:ext cx="2286000" cy="1676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828800" y="5333760"/>
              <a:ext cx="1447920" cy="7617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371600" y="4571640"/>
              <a:ext cx="21337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Lexical analyz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334120" y="5181480"/>
              <a:ext cx="685800" cy="6854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P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410080" y="5562360"/>
              <a:ext cx="5335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657600" y="563868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95880" y="5181480"/>
              <a:ext cx="381240" cy="6854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172200" y="5562360"/>
              <a:ext cx="2286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57600" y="57146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363760" y="525672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657600" y="57146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905120" y="5714640"/>
              <a:ext cx="12952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657600" y="57146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657600" y="5790960"/>
              <a:ext cx="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858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9144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430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3716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6002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8288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0574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86000" y="3733560"/>
              <a:ext cx="228600" cy="3805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514600" y="3733560"/>
              <a:ext cx="228600" cy="3805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743200" y="3733560"/>
              <a:ext cx="228600" cy="3805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71800" y="3733560"/>
              <a:ext cx="228600" cy="3805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33520" y="327636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Source program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12000" y="2818800"/>
              <a:ext cx="1746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562720" y="3047760"/>
              <a:ext cx="28954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Syntax analyzer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11280" y="3656520"/>
              <a:ext cx="3381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Courier New"/>
                </a:rPr>
                <a:t>Pos := Rate*6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42560" y="5637600"/>
              <a:ext cx="1329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3000" spc="-1" strike="noStrike">
                  <a:solidFill>
                    <a:srgbClr val="000000"/>
                  </a:solidFill>
                  <a:latin typeface="Courier New"/>
                </a:rPr>
                <a:t>Rat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362320" y="4114440"/>
              <a:ext cx="0" cy="45684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590920" y="4114440"/>
              <a:ext cx="0" cy="45684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819520" y="4114440"/>
              <a:ext cx="0" cy="45684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048120" y="4114440"/>
              <a:ext cx="0" cy="45684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314880" y="5638680"/>
              <a:ext cx="3670200" cy="474120"/>
            </a:xfrm>
            <a:custGeom>
              <a:avLst/>
              <a:gdLst/>
              <a:ahLst/>
              <a:rect l="l" t="t" r="r" b="b"/>
              <a:pathLst>
                <a:path w="2312" h="299">
                  <a:moveTo>
                    <a:pt x="2312" y="0"/>
                  </a:moveTo>
                  <a:cubicBezTo>
                    <a:pt x="2273" y="43"/>
                    <a:pt x="2292" y="213"/>
                    <a:pt x="2080" y="256"/>
                  </a:cubicBezTo>
                  <a:cubicBezTo>
                    <a:pt x="1868" y="299"/>
                    <a:pt x="1387" y="269"/>
                    <a:pt x="1040" y="256"/>
                  </a:cubicBezTo>
                  <a:cubicBezTo>
                    <a:pt x="693" y="243"/>
                    <a:pt x="217" y="193"/>
                    <a:pt x="0" y="176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553080" y="5181480"/>
              <a:ext cx="990720" cy="6854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95760" y="4228920"/>
              <a:ext cx="1549440" cy="990360"/>
            </a:xfrm>
            <a:custGeom>
              <a:avLst/>
              <a:gdLst/>
              <a:ahLst/>
              <a:rect l="l" t="t" r="r" b="b"/>
              <a:pathLst>
                <a:path w="976" h="624">
                  <a:moveTo>
                    <a:pt x="0" y="624"/>
                  </a:moveTo>
                  <a:cubicBezTo>
                    <a:pt x="109" y="607"/>
                    <a:pt x="517" y="601"/>
                    <a:pt x="656" y="520"/>
                  </a:cubicBezTo>
                  <a:cubicBezTo>
                    <a:pt x="795" y="439"/>
                    <a:pt x="779" y="223"/>
                    <a:pt x="832" y="136"/>
                  </a:cubicBezTo>
                  <a:cubicBezTo>
                    <a:pt x="885" y="49"/>
                    <a:pt x="946" y="28"/>
                    <a:pt x="976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81280" y="4265280"/>
              <a:ext cx="1524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115520" y="388476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753560" y="403740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9933"/>
                  </a:solidFill>
                  <a:latin typeface="Times New Roman"/>
                </a:rPr>
                <a:t>2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496760" y="548496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3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895480" y="2743200"/>
            <a:ext cx="335304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"/>
          <p:cNvSpPr/>
          <p:nvPr/>
        </p:nvSpPr>
        <p:spPr>
          <a:xfrm>
            <a:off x="609480" y="2895480"/>
            <a:ext cx="784872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oken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ttribute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y var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d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Po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n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60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okens in Pract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2058120" y="3885840"/>
            <a:ext cx="120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oint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649040" y="3885840"/>
            <a:ext cx="1171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5400000">
            <a:off x="2361600" y="3733560"/>
            <a:ext cx="152640" cy="304920"/>
          </a:xfrm>
          <a:custGeom>
            <a:avLst/>
            <a:gdLst>
              <a:gd name="textAreaLeft" fmla="*/ 0 w 152640"/>
              <a:gd name="textAreaRight" fmla="*/ 55080 w 15264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5400000">
            <a:off x="5143320" y="3695760"/>
            <a:ext cx="152640" cy="380880"/>
          </a:xfrm>
          <a:custGeom>
            <a:avLst/>
            <a:gdLst>
              <a:gd name="textAreaLeft" fmla="*/ 0 w 152640"/>
              <a:gd name="textAreaRight" fmla="*/ 55080 w 15264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6553800" y="3885840"/>
            <a:ext cx="1267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h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 rot="5400000">
            <a:off x="6972120" y="3695760"/>
            <a:ext cx="152640" cy="380880"/>
          </a:xfrm>
          <a:custGeom>
            <a:avLst/>
            <a:gdLst>
              <a:gd name="textAreaLeft" fmla="*/ 0 w 152640"/>
              <a:gd name="textAreaRight" fmla="*/ 55080 w 15264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609480" y="1143000"/>
            <a:ext cx="830592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okens represent every SP lexeme in a uniform wa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n general, their form i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800" spc="-1" strike="noStrike">
                <a:solidFill>
                  <a:srgbClr val="ff9933"/>
                </a:solidFill>
                <a:latin typeface="Times New Roman"/>
              </a:rPr>
              <a:t>type</a:t>
            </a:r>
            <a:r>
              <a:rPr b="1" lang="cs-CZ" sz="3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800" spc="-1" strike="noStrike">
                <a:solidFill>
                  <a:srgbClr val="3333cc"/>
                </a:solidFill>
                <a:latin typeface="Times New Roman"/>
              </a:rPr>
              <a:t>attribute</a:t>
            </a:r>
            <a:r>
              <a:rPr b="1" lang="cs-CZ" sz="3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609480" y="5638680"/>
            <a:ext cx="8534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 practice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ten use tokens whose attributes vary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09480" y="4419720"/>
            <a:ext cx="624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same form of toke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8580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2438280" y="4952880"/>
            <a:ext cx="51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85800" y="5638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/>
          <p:nvPr/>
        </p:nvSpPr>
        <p:spPr>
          <a:xfrm>
            <a:off x="609480" y="10666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d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Po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n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60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        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Same Form of Toke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914400" y="2743200"/>
            <a:ext cx="1905120" cy="947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able of 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d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914400" y="36576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I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914400" y="41148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676520" y="2819520"/>
            <a:ext cx="457200" cy="4572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3657600" y="2743200"/>
            <a:ext cx="1905120" cy="947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able of 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nt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3657600" y="36576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657600" y="41148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1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657600" y="45720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419720" y="2819520"/>
            <a:ext cx="457200" cy="4572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6400800" y="2743200"/>
            <a:ext cx="1905120" cy="947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able of 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op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6400800" y="36576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400800" y="41148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6400800" y="45720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7238880" y="2819520"/>
            <a:ext cx="457200" cy="4572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400800" y="50292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141560" y="1828080"/>
            <a:ext cx="137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    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rot="5400000">
            <a:off x="1676520" y="1676520"/>
            <a:ext cx="304560" cy="30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rot="5400000">
            <a:off x="4419720" y="1676520"/>
            <a:ext cx="304560" cy="30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rot="5400000">
            <a:off x="7238520" y="1676160"/>
            <a:ext cx="30456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3" name=""/>
          <p:cNvGrpSpPr/>
          <p:nvPr/>
        </p:nvGrpSpPr>
        <p:grpSpPr>
          <a:xfrm>
            <a:off x="1905120" y="2286000"/>
            <a:ext cx="1143000" cy="2057400"/>
            <a:chOff x="1905120" y="2286000"/>
            <a:chExt cx="1143000" cy="2057400"/>
          </a:xfrm>
        </p:grpSpPr>
        <p:sp>
          <p:nvSpPr>
            <p:cNvPr id="984" name=""/>
            <p:cNvSpPr/>
            <p:nvPr/>
          </p:nvSpPr>
          <p:spPr>
            <a:xfrm rot="5400000">
              <a:off x="1981080" y="2209680"/>
              <a:ext cx="152280" cy="3045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048120" y="2590560"/>
              <a:ext cx="0" cy="17528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H="1">
              <a:off x="2590920" y="434340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057400" y="2590560"/>
              <a:ext cx="99072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flipV="1">
              <a:off x="2057400" y="2514240"/>
              <a:ext cx="0" cy="7596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"/>
          <p:cNvGrpSpPr/>
          <p:nvPr/>
        </p:nvGrpSpPr>
        <p:grpSpPr>
          <a:xfrm>
            <a:off x="1371240" y="2286000"/>
            <a:ext cx="381240" cy="761760"/>
            <a:chOff x="1371240" y="2286000"/>
            <a:chExt cx="381240" cy="761760"/>
          </a:xfrm>
        </p:grpSpPr>
        <p:sp>
          <p:nvSpPr>
            <p:cNvPr id="990" name=""/>
            <p:cNvSpPr/>
            <p:nvPr/>
          </p:nvSpPr>
          <p:spPr>
            <a:xfrm rot="5400000">
              <a:off x="1447560" y="2209680"/>
              <a:ext cx="152280" cy="3049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523880" y="304776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1523880" y="2514600"/>
              <a:ext cx="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3" name=""/>
          <p:cNvSpPr/>
          <p:nvPr/>
        </p:nvSpPr>
        <p:spPr>
          <a:xfrm>
            <a:off x="3884760" y="18280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  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4" name=""/>
          <p:cNvGrpSpPr/>
          <p:nvPr/>
        </p:nvGrpSpPr>
        <p:grpSpPr>
          <a:xfrm>
            <a:off x="4648320" y="2286000"/>
            <a:ext cx="1143000" cy="2514600"/>
            <a:chOff x="4648320" y="2286000"/>
            <a:chExt cx="1143000" cy="2514600"/>
          </a:xfrm>
        </p:grpSpPr>
        <p:sp>
          <p:nvSpPr>
            <p:cNvPr id="995" name=""/>
            <p:cNvSpPr/>
            <p:nvPr/>
          </p:nvSpPr>
          <p:spPr>
            <a:xfrm rot="5400000">
              <a:off x="4724280" y="2209680"/>
              <a:ext cx="152280" cy="3045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791320" y="2590560"/>
              <a:ext cx="0" cy="22100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H="1">
              <a:off x="5334120" y="480060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800600" y="2590560"/>
              <a:ext cx="99072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 flipV="1">
              <a:off x="4800600" y="2514240"/>
              <a:ext cx="0" cy="7596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0" name=""/>
          <p:cNvGrpSpPr/>
          <p:nvPr/>
        </p:nvGrpSpPr>
        <p:grpSpPr>
          <a:xfrm>
            <a:off x="4114440" y="2286000"/>
            <a:ext cx="381240" cy="761760"/>
            <a:chOff x="4114440" y="2286000"/>
            <a:chExt cx="381240" cy="761760"/>
          </a:xfrm>
        </p:grpSpPr>
        <p:sp>
          <p:nvSpPr>
            <p:cNvPr id="1001" name=""/>
            <p:cNvSpPr/>
            <p:nvPr/>
          </p:nvSpPr>
          <p:spPr>
            <a:xfrm rot="5400000">
              <a:off x="4190760" y="2209680"/>
              <a:ext cx="152280" cy="3049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267080" y="304776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267080" y="2514600"/>
              <a:ext cx="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4" name=""/>
          <p:cNvSpPr/>
          <p:nvPr/>
        </p:nvSpPr>
        <p:spPr>
          <a:xfrm>
            <a:off x="6704280" y="18280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7467120" y="2286000"/>
            <a:ext cx="991080" cy="1600200"/>
            <a:chOff x="7467120" y="2286000"/>
            <a:chExt cx="991080" cy="1600200"/>
          </a:xfrm>
        </p:grpSpPr>
        <p:sp>
          <p:nvSpPr>
            <p:cNvPr id="1006" name=""/>
            <p:cNvSpPr/>
            <p:nvPr/>
          </p:nvSpPr>
          <p:spPr>
            <a:xfrm rot="5400000">
              <a:off x="7543440" y="2209680"/>
              <a:ext cx="152280" cy="3049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8458200" y="2590560"/>
              <a:ext cx="0" cy="12956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H="1">
              <a:off x="8001000" y="388620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620120" y="2590560"/>
              <a:ext cx="83808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V="1">
              <a:off x="7620120" y="2514240"/>
              <a:ext cx="0" cy="7596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1" name=""/>
          <p:cNvGrpSpPr/>
          <p:nvPr/>
        </p:nvGrpSpPr>
        <p:grpSpPr>
          <a:xfrm>
            <a:off x="6934320" y="2286000"/>
            <a:ext cx="380880" cy="761760"/>
            <a:chOff x="6934320" y="2286000"/>
            <a:chExt cx="380880" cy="761760"/>
          </a:xfrm>
        </p:grpSpPr>
        <p:sp>
          <p:nvSpPr>
            <p:cNvPr id="1012" name=""/>
            <p:cNvSpPr/>
            <p:nvPr/>
          </p:nvSpPr>
          <p:spPr>
            <a:xfrm rot="5400000">
              <a:off x="7010280" y="2209680"/>
              <a:ext cx="152280" cy="3045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086600" y="304776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086600" y="2514600"/>
              <a:ext cx="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5" name=""/>
          <p:cNvSpPr/>
          <p:nvPr/>
        </p:nvSpPr>
        <p:spPr>
          <a:xfrm>
            <a:off x="685440" y="5562000"/>
            <a:ext cx="766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rm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of tokens: [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];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90620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137268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64940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411588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746856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693540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2" name=""/>
          <p:cNvGrpSpPr/>
          <p:nvPr/>
        </p:nvGrpSpPr>
        <p:grpSpPr>
          <a:xfrm>
            <a:off x="5104080" y="6019920"/>
            <a:ext cx="3155400" cy="534240"/>
            <a:chOff x="5104080" y="6019920"/>
            <a:chExt cx="3155400" cy="534240"/>
          </a:xfrm>
        </p:grpSpPr>
        <p:sp>
          <p:nvSpPr>
            <p:cNvPr id="1023" name=""/>
            <p:cNvSpPr/>
            <p:nvPr/>
          </p:nvSpPr>
          <p:spPr>
            <a:xfrm>
              <a:off x="5104080" y="6094440"/>
              <a:ext cx="315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Homogenous struct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rot="5400000">
              <a:off x="6665760" y="4609800"/>
              <a:ext cx="151920" cy="2971800"/>
            </a:xfrm>
            <a:custGeom>
              <a:avLst/>
              <a:gdLst>
                <a:gd name="textAreaLeft" fmla="*/ 0 w 151920"/>
                <a:gd name="textAreaRight" fmla="*/ 54720 w 151920"/>
                <a:gd name="textAreaTop" fmla="*/ 77400 h 2971800"/>
                <a:gd name="textAreaBottom" fmla="*/ 2894400 h 297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11"/>
                  </a:lnTo>
                  <a:cubicBezTo>
                    <a:pt x="10800" y="9911"/>
                    <a:pt x="16200" y="10811"/>
                    <a:pt x="21600" y="10811"/>
                  </a:cubicBezTo>
                  <a:cubicBezTo>
                    <a:pt x="16200" y="10811"/>
                    <a:pt x="10800" y="11711"/>
                    <a:pt x="10800" y="12611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"/>
          <p:cNvSpPr/>
          <p:nvPr/>
        </p:nvSpPr>
        <p:spPr>
          <a:xfrm>
            <a:off x="4876920" y="5715000"/>
            <a:ext cx="144756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2133720" y="2895480"/>
            <a:ext cx="4876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okens have th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am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ntifiers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Key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609480" y="1143000"/>
            <a:ext cx="8534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o distinguish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dentifi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keywor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4876920" y="3733920"/>
            <a:ext cx="1447560" cy="11912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abl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4876920" y="4800600"/>
            <a:ext cx="144756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4876920" y="5257800"/>
            <a:ext cx="144756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5410080" y="3809880"/>
            <a:ext cx="381240" cy="3812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4876920" y="4342320"/>
            <a:ext cx="15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9933"/>
                </a:solidFill>
                <a:latin typeface="Times New Roman"/>
              </a:rPr>
              <a:t>keyword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 flipH="1">
            <a:off x="7084800" y="5256720"/>
            <a:ext cx="13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2209680" y="464832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2286000" y="47242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1676520" y="49528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2286000" y="4038480"/>
            <a:ext cx="533160" cy="694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1600920" y="4419000"/>
            <a:ext cx="71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1676520" y="3504600"/>
            <a:ext cx="137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 flipH="1">
            <a:off x="3048120" y="4724280"/>
            <a:ext cx="1752480" cy="533520"/>
          </a:xfrm>
          <a:prstGeom prst="leftArrow">
            <a:avLst>
              <a:gd name="adj1" fmla="val 50000"/>
              <a:gd name="adj2" fmla="val 821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762120" y="4952880"/>
            <a:ext cx="3808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114300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H="1">
            <a:off x="7088760" y="396144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key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flipH="1">
            <a:off x="6400080" y="4114800"/>
            <a:ext cx="685800" cy="457200"/>
          </a:xfrm>
          <a:prstGeom prst="leftArrow">
            <a:avLst>
              <a:gd name="adj1" fmla="val 50000"/>
              <a:gd name="adj2" fmla="val 375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1297440" y="5256720"/>
            <a:ext cx="729000" cy="4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1297440" y="4113720"/>
            <a:ext cx="729000" cy="4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2743200" y="3885480"/>
            <a:ext cx="2222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Times New Roman"/>
              </a:rPr>
              <a:t>Is this lexeme in the table?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325200" y="3657240"/>
            <a:ext cx="825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flipH="1">
            <a:off x="6400080" y="5334120"/>
            <a:ext cx="685800" cy="457200"/>
          </a:xfrm>
          <a:prstGeom prst="leftArrow">
            <a:avLst>
              <a:gd name="adj1" fmla="val 50000"/>
              <a:gd name="adj2" fmla="val 375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401520" y="4876560"/>
            <a:ext cx="677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603720" y="2437560"/>
            <a:ext cx="563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 table of keywo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411880" y="6246720"/>
            <a:ext cx="6678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1068840" y="1751760"/>
            <a:ext cx="74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Courier New"/>
              </a:rPr>
              <a:t>if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1797120" y="1905120"/>
            <a:ext cx="609480" cy="30456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2406600" y="1751760"/>
            <a:ext cx="169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keyw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4174920" y="1675800"/>
            <a:ext cx="58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4803120" y="1751760"/>
            <a:ext cx="98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Courier New"/>
              </a:rPr>
              <a:t>if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5729400" y="1905120"/>
            <a:ext cx="609480" cy="30456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6400800" y="175176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"/>
          <p:cNvSpPr/>
          <p:nvPr/>
        </p:nvSpPr>
        <p:spPr>
          <a:xfrm>
            <a:off x="5715000" y="1295280"/>
            <a:ext cx="2743200" cy="2362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mbol Table (Identifier Tab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5638680" y="198108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Courier New"/>
              </a:rPr>
              <a:t>Id1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--   -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5638680" y="236232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Courier New"/>
              </a:rPr>
              <a:t>Pos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--   -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685800" y="114300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actical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62485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64771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67057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9343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71629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80773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62485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64771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67057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69343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71629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80773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7467480" y="1981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7467480" y="23623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172200" y="16765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.2.3.4.5.       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5943600" y="129528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ymbol t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b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5638680" y="2743200"/>
            <a:ext cx="289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X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----   -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62485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64771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67057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69343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71629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80773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7467480" y="2743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685800" y="1676520"/>
            <a:ext cx="48769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Short identifier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mpty spaces in memory (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Long identifier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ngth(Id)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6557400" y="3200400"/>
            <a:ext cx="637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8005320" y="3200400"/>
            <a:ext cx="637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7" name=""/>
          <p:cNvGrpSpPr/>
          <p:nvPr/>
        </p:nvGrpSpPr>
        <p:grpSpPr>
          <a:xfrm>
            <a:off x="685800" y="3733920"/>
            <a:ext cx="7696080" cy="2867400"/>
            <a:chOff x="685800" y="3733920"/>
            <a:chExt cx="7696080" cy="2867400"/>
          </a:xfrm>
        </p:grpSpPr>
        <p:sp>
          <p:nvSpPr>
            <p:cNvPr id="1098" name=""/>
            <p:cNvSpPr/>
            <p:nvPr/>
          </p:nvSpPr>
          <p:spPr>
            <a:xfrm>
              <a:off x="685800" y="3733920"/>
              <a:ext cx="4191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Solution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4100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56386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8672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60958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63244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65530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67816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70102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2388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4674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76960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334120" y="6019920"/>
              <a:ext cx="2971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Courier New"/>
                </a:rPr>
                <a:t>Id1</a:t>
              </a:r>
              <a:r>
                <a:rPr b="1" lang="en-US" sz="3000" spc="-1" strike="noStrike">
                  <a:solidFill>
                    <a:srgbClr val="ff0000"/>
                  </a:solidFill>
                  <a:latin typeface="Courier New"/>
                </a:rPr>
                <a:t>#</a:t>
              </a:r>
              <a:r>
                <a:rPr b="1" lang="en-US" sz="3000" spc="-1" strike="noStrike">
                  <a:solidFill>
                    <a:srgbClr val="3333cc"/>
                  </a:solidFill>
                  <a:latin typeface="Courier New"/>
                </a:rPr>
                <a:t>Pos</a:t>
              </a:r>
              <a:r>
                <a:rPr b="1" lang="en-US" sz="3000" spc="-1" strike="noStrike">
                  <a:solidFill>
                    <a:srgbClr val="ff0000"/>
                  </a:solidFill>
                  <a:latin typeface="Courier New"/>
                </a:rPr>
                <a:t>#</a:t>
              </a:r>
              <a:r>
                <a:rPr b="1" lang="en-US" sz="3000" spc="-1" strike="noStrike">
                  <a:solidFill>
                    <a:srgbClr val="3333cc"/>
                  </a:solidFill>
                  <a:latin typeface="Courier New"/>
                </a:rPr>
                <a:t>X</a:t>
              </a:r>
              <a:r>
                <a:rPr b="1" lang="en-US" sz="3000" spc="-1" strike="noStrike">
                  <a:solidFill>
                    <a:srgbClr val="ff0000"/>
                  </a:solidFill>
                  <a:latin typeface="Courier New"/>
                </a:rPr>
                <a:t>#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7848720" y="601992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590920" y="3886200"/>
              <a:ext cx="2286000" cy="22860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124080" y="4495680"/>
              <a:ext cx="137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124080" y="4876920"/>
              <a:ext cx="9907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733920" y="4572000"/>
              <a:ext cx="380880" cy="380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733920" y="4952880"/>
              <a:ext cx="380880" cy="3812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514600" y="3886200"/>
              <a:ext cx="243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ymbol t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ab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124080" y="5257800"/>
              <a:ext cx="838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733920" y="5334120"/>
              <a:ext cx="380880" cy="380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886200" y="4724280"/>
              <a:ext cx="1600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486400" y="4724280"/>
              <a:ext cx="0" cy="1371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886200" y="5105520"/>
              <a:ext cx="2514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6400800" y="5105520"/>
              <a:ext cx="0" cy="990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886200" y="5486400"/>
              <a:ext cx="3429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7315200" y="548640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661920" y="5715000"/>
              <a:ext cx="6372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mbol Table: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609480" y="10666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need many pieces of information ab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iers in 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762120" y="2057400"/>
            <a:ext cx="79246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Variabl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name, type, length, 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Constan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ype and value of consta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Procedur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 number and type of paramete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1451880" y="3429000"/>
            <a:ext cx="637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3" name=""/>
          <p:cNvGrpSpPr/>
          <p:nvPr/>
        </p:nvGrpSpPr>
        <p:grpSpPr>
          <a:xfrm>
            <a:off x="685800" y="3886200"/>
            <a:ext cx="7467480" cy="2593440"/>
            <a:chOff x="685800" y="3886200"/>
            <a:chExt cx="7467480" cy="2593440"/>
          </a:xfrm>
        </p:grpSpPr>
        <p:sp>
          <p:nvSpPr>
            <p:cNvPr id="1134" name=""/>
            <p:cNvSpPr/>
            <p:nvPr/>
          </p:nvSpPr>
          <p:spPr>
            <a:xfrm>
              <a:off x="685800" y="3886200"/>
              <a:ext cx="7162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inal structure of the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ymbol tab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1447920" y="6019920"/>
              <a:ext cx="12952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P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2743200" y="6019920"/>
              <a:ext cx="54100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onstan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ype: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rea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Value: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3.141592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447920" y="5562720"/>
              <a:ext cx="12952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I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743200" y="5562720"/>
              <a:ext cx="54100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Variabl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ype: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integ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1447920" y="5029200"/>
              <a:ext cx="1295280" cy="520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Nam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743200" y="5029200"/>
              <a:ext cx="5410080" cy="520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Inf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838080" y="601992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838080" y="556272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838080" y="5029200"/>
              <a:ext cx="596880" cy="557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838080" y="4495680"/>
              <a:ext cx="7315200" cy="5508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Symbol t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abl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"/>
          <p:cNvSpPr/>
          <p:nvPr/>
        </p:nvSpPr>
        <p:spPr>
          <a:xfrm>
            <a:off x="685800" y="1828800"/>
            <a:ext cx="3581280" cy="4038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ope of Identifi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685800" y="11430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486400" y="1905120"/>
            <a:ext cx="2133720" cy="4899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ymbol t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762120" y="1905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gram P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762120" y="22096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r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x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cs-CZ" sz="2400" spc="-1" strike="noStrike">
                <a:solidFill>
                  <a:srgbClr val="ff0000"/>
                </a:solidFill>
                <a:latin typeface="Courier New"/>
              </a:rPr>
              <a:t> 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762120" y="26668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cedure Proc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762120" y="29718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r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x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cs-CZ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Courier New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762120" y="327672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:= 1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762120" y="45720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:= 2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6" name=""/>
          <p:cNvGrpSpPr/>
          <p:nvPr/>
        </p:nvGrpSpPr>
        <p:grpSpPr>
          <a:xfrm>
            <a:off x="1608120" y="2496960"/>
            <a:ext cx="3865680" cy="1577880"/>
            <a:chOff x="1608120" y="2496960"/>
            <a:chExt cx="3865680" cy="1577880"/>
          </a:xfrm>
        </p:grpSpPr>
        <p:sp>
          <p:nvSpPr>
            <p:cNvPr id="1157" name=""/>
            <p:cNvSpPr/>
            <p:nvPr/>
          </p:nvSpPr>
          <p:spPr>
            <a:xfrm>
              <a:off x="1608120" y="2496960"/>
              <a:ext cx="3840120" cy="1262160"/>
            </a:xfrm>
            <a:custGeom>
              <a:avLst/>
              <a:gdLst/>
              <a:ahLst/>
              <a:rect l="l" t="t" r="r" b="b"/>
              <a:pathLst>
                <a:path w="2419" h="795">
                  <a:moveTo>
                    <a:pt x="75" y="795"/>
                  </a:moveTo>
                  <a:cubicBezTo>
                    <a:pt x="101" y="779"/>
                    <a:pt x="0" y="726"/>
                    <a:pt x="243" y="699"/>
                  </a:cubicBezTo>
                  <a:cubicBezTo>
                    <a:pt x="486" y="672"/>
                    <a:pt x="1260" y="735"/>
                    <a:pt x="1531" y="635"/>
                  </a:cubicBezTo>
                  <a:cubicBezTo>
                    <a:pt x="1802" y="535"/>
                    <a:pt x="1719" y="198"/>
                    <a:pt x="1867" y="99"/>
                  </a:cubicBezTo>
                  <a:cubicBezTo>
                    <a:pt x="2015" y="0"/>
                    <a:pt x="2304" y="55"/>
                    <a:pt x="2419" y="43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556080" y="3593880"/>
              <a:ext cx="1917720" cy="480960"/>
            </a:xfrm>
            <a:custGeom>
              <a:avLst/>
              <a:gdLst/>
              <a:ahLst/>
              <a:rect l="l" t="t" r="r" b="b"/>
              <a:pathLst>
                <a:path w="1208" h="303">
                  <a:moveTo>
                    <a:pt x="0" y="0"/>
                  </a:moveTo>
                  <a:cubicBezTo>
                    <a:pt x="81" y="16"/>
                    <a:pt x="351" y="43"/>
                    <a:pt x="480" y="88"/>
                  </a:cubicBezTo>
                  <a:cubicBezTo>
                    <a:pt x="609" y="133"/>
                    <a:pt x="655" y="241"/>
                    <a:pt x="776" y="272"/>
                  </a:cubicBezTo>
                  <a:cubicBezTo>
                    <a:pt x="897" y="303"/>
                    <a:pt x="1118" y="272"/>
                    <a:pt x="1208" y="27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352680" y="3352680"/>
              <a:ext cx="533520" cy="53316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0" name=""/>
          <p:cNvGrpSpPr/>
          <p:nvPr/>
        </p:nvGrpSpPr>
        <p:grpSpPr>
          <a:xfrm>
            <a:off x="1603440" y="2633760"/>
            <a:ext cx="3870360" cy="2400120"/>
            <a:chOff x="1603440" y="2633760"/>
            <a:chExt cx="3870360" cy="2400120"/>
          </a:xfrm>
        </p:grpSpPr>
        <p:sp>
          <p:nvSpPr>
            <p:cNvPr id="1161" name=""/>
            <p:cNvSpPr/>
            <p:nvPr/>
          </p:nvSpPr>
          <p:spPr>
            <a:xfrm>
              <a:off x="1603440" y="2633760"/>
              <a:ext cx="3844800" cy="2400120"/>
            </a:xfrm>
            <a:custGeom>
              <a:avLst/>
              <a:gdLst/>
              <a:ahLst/>
              <a:rect l="l" t="t" r="r" b="b"/>
              <a:pathLst>
                <a:path w="2422" h="1512">
                  <a:moveTo>
                    <a:pt x="79" y="1512"/>
                  </a:moveTo>
                  <a:cubicBezTo>
                    <a:pt x="103" y="1496"/>
                    <a:pt x="0" y="1460"/>
                    <a:pt x="223" y="1413"/>
                  </a:cubicBezTo>
                  <a:cubicBezTo>
                    <a:pt x="446" y="1366"/>
                    <a:pt x="1101" y="1433"/>
                    <a:pt x="1414" y="1229"/>
                  </a:cubicBezTo>
                  <a:cubicBezTo>
                    <a:pt x="1727" y="1025"/>
                    <a:pt x="1934" y="378"/>
                    <a:pt x="2102" y="189"/>
                  </a:cubicBezTo>
                  <a:cubicBezTo>
                    <a:pt x="2270" y="0"/>
                    <a:pt x="2355" y="113"/>
                    <a:pt x="2422" y="93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772080" y="4179600"/>
              <a:ext cx="1701720" cy="672840"/>
            </a:xfrm>
            <a:custGeom>
              <a:avLst/>
              <a:gdLst/>
              <a:ahLst/>
              <a:rect l="l" t="t" r="r" b="b"/>
              <a:pathLst>
                <a:path w="1072" h="424">
                  <a:moveTo>
                    <a:pt x="0" y="311"/>
                  </a:moveTo>
                  <a:cubicBezTo>
                    <a:pt x="75" y="323"/>
                    <a:pt x="331" y="424"/>
                    <a:pt x="448" y="383"/>
                  </a:cubicBezTo>
                  <a:cubicBezTo>
                    <a:pt x="565" y="342"/>
                    <a:pt x="600" y="126"/>
                    <a:pt x="704" y="63"/>
                  </a:cubicBezTo>
                  <a:cubicBezTo>
                    <a:pt x="808" y="0"/>
                    <a:pt x="995" y="19"/>
                    <a:pt x="1072" y="7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505320" y="4343040"/>
              <a:ext cx="533160" cy="53316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4" name=""/>
          <p:cNvGrpSpPr/>
          <p:nvPr/>
        </p:nvGrpSpPr>
        <p:grpSpPr>
          <a:xfrm>
            <a:off x="5486400" y="4267080"/>
            <a:ext cx="2133720" cy="459720"/>
            <a:chOff x="5486400" y="4267080"/>
            <a:chExt cx="2133720" cy="459720"/>
          </a:xfrm>
        </p:grpSpPr>
        <p:sp>
          <p:nvSpPr>
            <p:cNvPr id="1165" name=""/>
            <p:cNvSpPr/>
            <p:nvPr/>
          </p:nvSpPr>
          <p:spPr>
            <a:xfrm>
              <a:off x="6095880" y="42670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7162920" y="4267080"/>
              <a:ext cx="4572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486400" y="426708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8" name=""/>
          <p:cNvGrpSpPr/>
          <p:nvPr/>
        </p:nvGrpSpPr>
        <p:grpSpPr>
          <a:xfrm>
            <a:off x="5486400" y="3809880"/>
            <a:ext cx="2133720" cy="459720"/>
            <a:chOff x="5486400" y="3809880"/>
            <a:chExt cx="2133720" cy="459720"/>
          </a:xfrm>
        </p:grpSpPr>
        <p:sp>
          <p:nvSpPr>
            <p:cNvPr id="1169" name=""/>
            <p:cNvSpPr/>
            <p:nvPr/>
          </p:nvSpPr>
          <p:spPr>
            <a:xfrm>
              <a:off x="6095880" y="38098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7162920" y="3809880"/>
              <a:ext cx="4572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486400" y="380988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2" name=""/>
          <p:cNvGrpSpPr/>
          <p:nvPr/>
        </p:nvGrpSpPr>
        <p:grpSpPr>
          <a:xfrm>
            <a:off x="5486400" y="3352680"/>
            <a:ext cx="2133720" cy="459720"/>
            <a:chOff x="5486400" y="3352680"/>
            <a:chExt cx="2133720" cy="459720"/>
          </a:xfrm>
        </p:grpSpPr>
        <p:sp>
          <p:nvSpPr>
            <p:cNvPr id="1173" name=""/>
            <p:cNvSpPr/>
            <p:nvPr/>
          </p:nvSpPr>
          <p:spPr>
            <a:xfrm>
              <a:off x="6095880" y="33526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oc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7162920" y="3352680"/>
              <a:ext cx="4572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486400" y="335268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6" name=""/>
          <p:cNvGrpSpPr/>
          <p:nvPr/>
        </p:nvGrpSpPr>
        <p:grpSpPr>
          <a:xfrm>
            <a:off x="5486400" y="2895480"/>
            <a:ext cx="2133720" cy="459720"/>
            <a:chOff x="5486400" y="2895480"/>
            <a:chExt cx="2133720" cy="459720"/>
          </a:xfrm>
        </p:grpSpPr>
        <p:sp>
          <p:nvSpPr>
            <p:cNvPr id="1177" name=""/>
            <p:cNvSpPr/>
            <p:nvPr/>
          </p:nvSpPr>
          <p:spPr>
            <a:xfrm>
              <a:off x="6095880" y="28954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7162920" y="2895480"/>
              <a:ext cx="4572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486400" y="289548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0" name=""/>
          <p:cNvGrpSpPr/>
          <p:nvPr/>
        </p:nvGrpSpPr>
        <p:grpSpPr>
          <a:xfrm>
            <a:off x="5486400" y="2438280"/>
            <a:ext cx="2133720" cy="459720"/>
            <a:chOff x="5486400" y="2438280"/>
            <a:chExt cx="2133720" cy="459720"/>
          </a:xfrm>
        </p:grpSpPr>
        <p:sp>
          <p:nvSpPr>
            <p:cNvPr id="1181" name=""/>
            <p:cNvSpPr/>
            <p:nvPr/>
          </p:nvSpPr>
          <p:spPr>
            <a:xfrm>
              <a:off x="6095880" y="24382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162920" y="2438280"/>
              <a:ext cx="4572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5486400" y="243828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4" name=""/>
          <p:cNvSpPr/>
          <p:nvPr/>
        </p:nvSpPr>
        <p:spPr>
          <a:xfrm>
            <a:off x="685800" y="59436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lution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Scope Rul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tack structure of ST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6" name=""/>
          <p:cNvGrpSpPr/>
          <p:nvPr/>
        </p:nvGrpSpPr>
        <p:grpSpPr>
          <a:xfrm>
            <a:off x="685800" y="1219320"/>
            <a:ext cx="3276720" cy="2819160"/>
            <a:chOff x="685800" y="1219320"/>
            <a:chExt cx="3276720" cy="2819160"/>
          </a:xfrm>
        </p:grpSpPr>
        <p:sp>
          <p:nvSpPr>
            <p:cNvPr id="1187" name=""/>
            <p:cNvSpPr/>
            <p:nvPr/>
          </p:nvSpPr>
          <p:spPr>
            <a:xfrm>
              <a:off x="685800" y="1219320"/>
              <a:ext cx="3124080" cy="2819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85800" y="1219320"/>
              <a:ext cx="32767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Main Block (B0)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cope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0" name=""/>
          <p:cNvGrpSpPr/>
          <p:nvPr/>
        </p:nvGrpSpPr>
        <p:grpSpPr>
          <a:xfrm>
            <a:off x="838080" y="1752480"/>
            <a:ext cx="2819520" cy="2133720"/>
            <a:chOff x="838080" y="1752480"/>
            <a:chExt cx="2819520" cy="2133720"/>
          </a:xfrm>
        </p:grpSpPr>
        <p:sp>
          <p:nvSpPr>
            <p:cNvPr id="1191" name=""/>
            <p:cNvSpPr/>
            <p:nvPr/>
          </p:nvSpPr>
          <p:spPr>
            <a:xfrm>
              <a:off x="838080" y="1752480"/>
              <a:ext cx="2819520" cy="2133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838080" y="1752480"/>
              <a:ext cx="2438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Block 1 (B1)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3" name=""/>
          <p:cNvGrpSpPr/>
          <p:nvPr/>
        </p:nvGrpSpPr>
        <p:grpSpPr>
          <a:xfrm>
            <a:off x="990720" y="2362320"/>
            <a:ext cx="2514600" cy="990360"/>
            <a:chOff x="990720" y="2362320"/>
            <a:chExt cx="2514600" cy="990360"/>
          </a:xfrm>
        </p:grpSpPr>
        <p:sp>
          <p:nvSpPr>
            <p:cNvPr id="1194" name=""/>
            <p:cNvSpPr/>
            <p:nvPr/>
          </p:nvSpPr>
          <p:spPr>
            <a:xfrm>
              <a:off x="990720" y="2362320"/>
              <a:ext cx="2514600" cy="99036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990720" y="2362320"/>
              <a:ext cx="2438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Block 2 (B2)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6" name=""/>
          <p:cNvGrpSpPr/>
          <p:nvPr/>
        </p:nvGrpSpPr>
        <p:grpSpPr>
          <a:xfrm>
            <a:off x="533520" y="3916440"/>
            <a:ext cx="8381880" cy="2821320"/>
            <a:chOff x="533520" y="3916440"/>
            <a:chExt cx="8381880" cy="2821320"/>
          </a:xfrm>
        </p:grpSpPr>
        <p:sp>
          <p:nvSpPr>
            <p:cNvPr id="1197" name=""/>
            <p:cNvSpPr/>
            <p:nvPr/>
          </p:nvSpPr>
          <p:spPr>
            <a:xfrm>
              <a:off x="533520" y="3916440"/>
              <a:ext cx="7924680" cy="9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Ent</a:t>
              </a: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rance of B2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Push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pointer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o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the ST-stack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top onto AT-stack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33520" y="4678200"/>
              <a:ext cx="8381880" cy="128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Exit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from B2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 top of B1 Info becomes the ST-stack to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move the B2 pointer from the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AT-stack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to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33520" y="5821200"/>
              <a:ext cx="7924680" cy="9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Search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 in ST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rom the top towards the botto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0" name=""/>
          <p:cNvSpPr/>
          <p:nvPr/>
        </p:nvSpPr>
        <p:spPr>
          <a:xfrm>
            <a:off x="4648320" y="1380960"/>
            <a:ext cx="1600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ST-stack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4038480" y="4141800"/>
            <a:ext cx="4572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2" name=""/>
          <p:cNvGrpSpPr/>
          <p:nvPr/>
        </p:nvGrpSpPr>
        <p:grpSpPr>
          <a:xfrm>
            <a:off x="7467480" y="2514600"/>
            <a:ext cx="1067040" cy="459720"/>
            <a:chOff x="7467480" y="2514600"/>
            <a:chExt cx="1067040" cy="459720"/>
          </a:xfrm>
        </p:grpSpPr>
        <p:sp>
          <p:nvSpPr>
            <p:cNvPr id="1203" name=""/>
            <p:cNvSpPr/>
            <p:nvPr/>
          </p:nvSpPr>
          <p:spPr>
            <a:xfrm>
              <a:off x="7467480" y="2514600"/>
              <a:ext cx="1067040" cy="4597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B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620120" y="2590920"/>
              <a:ext cx="304560" cy="304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5" name=""/>
          <p:cNvGrpSpPr/>
          <p:nvPr/>
        </p:nvGrpSpPr>
        <p:grpSpPr>
          <a:xfrm>
            <a:off x="7467480" y="3048120"/>
            <a:ext cx="1067040" cy="459720"/>
            <a:chOff x="7467480" y="3048120"/>
            <a:chExt cx="1067040" cy="459720"/>
          </a:xfrm>
        </p:grpSpPr>
        <p:sp>
          <p:nvSpPr>
            <p:cNvPr id="1206" name=""/>
            <p:cNvSpPr/>
            <p:nvPr/>
          </p:nvSpPr>
          <p:spPr>
            <a:xfrm>
              <a:off x="7467480" y="3048120"/>
              <a:ext cx="10670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B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7620120" y="3124080"/>
              <a:ext cx="304560" cy="3049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8" name=""/>
          <p:cNvGrpSpPr/>
          <p:nvPr/>
        </p:nvGrpSpPr>
        <p:grpSpPr>
          <a:xfrm>
            <a:off x="7467480" y="3581280"/>
            <a:ext cx="1067040" cy="459720"/>
            <a:chOff x="7467480" y="3581280"/>
            <a:chExt cx="1067040" cy="459720"/>
          </a:xfrm>
        </p:grpSpPr>
        <p:sp>
          <p:nvSpPr>
            <p:cNvPr id="1209" name=""/>
            <p:cNvSpPr/>
            <p:nvPr/>
          </p:nvSpPr>
          <p:spPr>
            <a:xfrm>
              <a:off x="7467480" y="35812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B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7620120" y="3657600"/>
              <a:ext cx="304560" cy="3049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1" name=""/>
          <p:cNvSpPr/>
          <p:nvPr/>
        </p:nvSpPr>
        <p:spPr>
          <a:xfrm flipH="1">
            <a:off x="6324480" y="3809880"/>
            <a:ext cx="1447920" cy="2286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4343400" y="1076400"/>
            <a:ext cx="2590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Symbol Table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7238880" y="1295280"/>
            <a:ext cx="1524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Auxiliary Table 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4" name=""/>
          <p:cNvGrpSpPr/>
          <p:nvPr/>
        </p:nvGrpSpPr>
        <p:grpSpPr>
          <a:xfrm>
            <a:off x="4495680" y="2209680"/>
            <a:ext cx="2914560" cy="758520"/>
            <a:chOff x="4495680" y="2209680"/>
            <a:chExt cx="2914560" cy="758520"/>
          </a:xfrm>
        </p:grpSpPr>
        <p:sp>
          <p:nvSpPr>
            <p:cNvPr id="1215" name=""/>
            <p:cNvSpPr/>
            <p:nvPr/>
          </p:nvSpPr>
          <p:spPr>
            <a:xfrm>
              <a:off x="4495680" y="2447640"/>
              <a:ext cx="1828800" cy="520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I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f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6" name=""/>
            <p:cNvGrpSpPr/>
            <p:nvPr/>
          </p:nvGrpSpPr>
          <p:grpSpPr>
            <a:xfrm>
              <a:off x="6343560" y="2209680"/>
              <a:ext cx="1066680" cy="459720"/>
              <a:chOff x="6343560" y="2209680"/>
              <a:chExt cx="1066680" cy="459720"/>
            </a:xfrm>
          </p:grpSpPr>
          <p:sp>
            <p:nvSpPr>
              <p:cNvPr id="1217" name=""/>
              <p:cNvSpPr/>
              <p:nvPr/>
            </p:nvSpPr>
            <p:spPr>
              <a:xfrm flipH="1">
                <a:off x="6343560" y="2438280"/>
                <a:ext cx="3808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6648480" y="220968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To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19" name=""/>
          <p:cNvGrpSpPr/>
          <p:nvPr/>
        </p:nvGrpSpPr>
        <p:grpSpPr>
          <a:xfrm>
            <a:off x="4495680" y="1609560"/>
            <a:ext cx="2914560" cy="749160"/>
            <a:chOff x="4495680" y="1609560"/>
            <a:chExt cx="2914560" cy="749160"/>
          </a:xfrm>
        </p:grpSpPr>
        <p:sp>
          <p:nvSpPr>
            <p:cNvPr id="1220" name=""/>
            <p:cNvSpPr/>
            <p:nvPr/>
          </p:nvSpPr>
          <p:spPr>
            <a:xfrm>
              <a:off x="4495680" y="1838160"/>
              <a:ext cx="1828800" cy="52056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B2 I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f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1" name=""/>
            <p:cNvGrpSpPr/>
            <p:nvPr/>
          </p:nvGrpSpPr>
          <p:grpSpPr>
            <a:xfrm>
              <a:off x="6343560" y="1609560"/>
              <a:ext cx="1066680" cy="459720"/>
              <a:chOff x="6343560" y="1609560"/>
              <a:chExt cx="1066680" cy="459720"/>
            </a:xfrm>
          </p:grpSpPr>
          <p:sp>
            <p:nvSpPr>
              <p:cNvPr id="1222" name=""/>
              <p:cNvSpPr/>
              <p:nvPr/>
            </p:nvSpPr>
            <p:spPr>
              <a:xfrm flipH="1">
                <a:off x="6343560" y="1838160"/>
                <a:ext cx="3808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648480" y="160956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To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24" name=""/>
          <p:cNvSpPr/>
          <p:nvPr/>
        </p:nvSpPr>
        <p:spPr>
          <a:xfrm>
            <a:off x="6353280" y="2181240"/>
            <a:ext cx="981000" cy="46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5" name=""/>
          <p:cNvGrpSpPr/>
          <p:nvPr/>
        </p:nvGrpSpPr>
        <p:grpSpPr>
          <a:xfrm>
            <a:off x="4495680" y="2828880"/>
            <a:ext cx="2923920" cy="1175760"/>
            <a:chOff x="4495680" y="2828880"/>
            <a:chExt cx="2923920" cy="1175760"/>
          </a:xfrm>
        </p:grpSpPr>
        <p:sp>
          <p:nvSpPr>
            <p:cNvPr id="1226" name=""/>
            <p:cNvSpPr/>
            <p:nvPr/>
          </p:nvSpPr>
          <p:spPr>
            <a:xfrm>
              <a:off x="4495680" y="3057480"/>
              <a:ext cx="1828800" cy="947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I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f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7" name=""/>
            <p:cNvGrpSpPr/>
            <p:nvPr/>
          </p:nvGrpSpPr>
          <p:grpSpPr>
            <a:xfrm>
              <a:off x="6352920" y="2828880"/>
              <a:ext cx="1066680" cy="459720"/>
              <a:chOff x="6352920" y="2828880"/>
              <a:chExt cx="1066680" cy="459720"/>
            </a:xfrm>
          </p:grpSpPr>
          <p:sp>
            <p:nvSpPr>
              <p:cNvPr id="1228" name=""/>
              <p:cNvSpPr/>
              <p:nvPr/>
            </p:nvSpPr>
            <p:spPr>
              <a:xfrm flipH="1">
                <a:off x="6352920" y="3057480"/>
                <a:ext cx="3808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657840" y="282888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To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30" name=""/>
          <p:cNvSpPr/>
          <p:nvPr/>
        </p:nvSpPr>
        <p:spPr>
          <a:xfrm>
            <a:off x="6353280" y="2838600"/>
            <a:ext cx="981000" cy="46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 flipH="1" flipV="1">
            <a:off x="6324480" y="2971440"/>
            <a:ext cx="1438560" cy="3049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 flipH="1" flipV="1">
            <a:off x="6324480" y="2362320"/>
            <a:ext cx="1447920" cy="3808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7162920" y="2057400"/>
            <a:ext cx="1600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AT-stack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4" name=""/>
          <p:cNvGrpSpPr/>
          <p:nvPr/>
        </p:nvGrpSpPr>
        <p:grpSpPr>
          <a:xfrm>
            <a:off x="3636000" y="1828800"/>
            <a:ext cx="972360" cy="2247840"/>
            <a:chOff x="3636000" y="1828800"/>
            <a:chExt cx="972360" cy="2247840"/>
          </a:xfrm>
        </p:grpSpPr>
        <p:sp>
          <p:nvSpPr>
            <p:cNvPr id="1235" name=""/>
            <p:cNvSpPr/>
            <p:nvPr/>
          </p:nvSpPr>
          <p:spPr>
            <a:xfrm>
              <a:off x="3960720" y="1828800"/>
              <a:ext cx="622440" cy="2247840"/>
            </a:xfrm>
            <a:prstGeom prst="downArrow">
              <a:avLst>
                <a:gd name="adj1" fmla="val 54083"/>
                <a:gd name="adj2" fmla="val 94363"/>
              </a:avLst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3636000" y="2247840"/>
              <a:ext cx="97236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Search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"/>
          <p:cNvSpPr/>
          <p:nvPr/>
        </p:nvSpPr>
        <p:spPr>
          <a:xfrm>
            <a:off x="685800" y="1295280"/>
            <a:ext cx="3962520" cy="4038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914400" y="2514600"/>
            <a:ext cx="3505320" cy="1371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ope Rules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990720" y="13716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gram P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990720" y="16765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r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x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cs-CZ" sz="2400" spc="-1" strike="noStrike">
                <a:solidFill>
                  <a:srgbClr val="ff0000"/>
                </a:solidFill>
                <a:latin typeface="Courier New"/>
              </a:rPr>
              <a:t> 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990720" y="21337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cedure Proc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990720" y="24382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r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x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cs-CZ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Courier New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990720" y="274320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:= 1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990720" y="40384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:= 2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965240" y="2982960"/>
            <a:ext cx="2924280" cy="183960"/>
          </a:xfrm>
          <a:custGeom>
            <a:avLst/>
            <a:gdLst/>
            <a:ahLst/>
            <a:rect l="l" t="t" r="r" b="b"/>
            <a:pathLst>
              <a:path w="1842" h="116">
                <a:moveTo>
                  <a:pt x="37" y="116"/>
                </a:moveTo>
                <a:cubicBezTo>
                  <a:pt x="52" y="101"/>
                  <a:pt x="0" y="44"/>
                  <a:pt x="130" y="25"/>
                </a:cubicBezTo>
                <a:cubicBezTo>
                  <a:pt x="260" y="6"/>
                  <a:pt x="627" y="0"/>
                  <a:pt x="818" y="1"/>
                </a:cubicBezTo>
                <a:cubicBezTo>
                  <a:pt x="1009" y="2"/>
                  <a:pt x="1103" y="18"/>
                  <a:pt x="1274" y="33"/>
                </a:cubicBezTo>
                <a:cubicBezTo>
                  <a:pt x="1445" y="48"/>
                  <a:pt x="1724" y="77"/>
                  <a:pt x="1842" y="8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2008080" y="4227480"/>
            <a:ext cx="2868840" cy="255600"/>
          </a:xfrm>
          <a:custGeom>
            <a:avLst/>
            <a:gdLst/>
            <a:ahLst/>
            <a:rect l="l" t="t" r="r" b="b"/>
            <a:pathLst>
              <a:path w="1807" h="161">
                <a:moveTo>
                  <a:pt x="14" y="145"/>
                </a:moveTo>
                <a:cubicBezTo>
                  <a:pt x="30" y="128"/>
                  <a:pt x="0" y="65"/>
                  <a:pt x="111" y="41"/>
                </a:cubicBezTo>
                <a:cubicBezTo>
                  <a:pt x="222" y="17"/>
                  <a:pt x="492" y="2"/>
                  <a:pt x="679" y="1"/>
                </a:cubicBezTo>
                <a:cubicBezTo>
                  <a:pt x="866" y="0"/>
                  <a:pt x="1043" y="6"/>
                  <a:pt x="1231" y="33"/>
                </a:cubicBezTo>
                <a:cubicBezTo>
                  <a:pt x="1419" y="60"/>
                  <a:pt x="1687" y="134"/>
                  <a:pt x="1807" y="16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4800600" y="5334120"/>
            <a:ext cx="3733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0" name=""/>
          <p:cNvGrpSpPr/>
          <p:nvPr/>
        </p:nvGrpSpPr>
        <p:grpSpPr>
          <a:xfrm>
            <a:off x="7467480" y="4191120"/>
            <a:ext cx="1067040" cy="459720"/>
            <a:chOff x="7467480" y="4191120"/>
            <a:chExt cx="1067040" cy="459720"/>
          </a:xfrm>
        </p:grpSpPr>
        <p:sp>
          <p:nvSpPr>
            <p:cNvPr id="1251" name=""/>
            <p:cNvSpPr/>
            <p:nvPr/>
          </p:nvSpPr>
          <p:spPr>
            <a:xfrm>
              <a:off x="7467480" y="4191120"/>
              <a:ext cx="10670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B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7620120" y="4267080"/>
              <a:ext cx="304560" cy="3049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3" name=""/>
          <p:cNvGrpSpPr/>
          <p:nvPr/>
        </p:nvGrpSpPr>
        <p:grpSpPr>
          <a:xfrm>
            <a:off x="7467480" y="4724280"/>
            <a:ext cx="1067040" cy="459720"/>
            <a:chOff x="7467480" y="4724280"/>
            <a:chExt cx="1067040" cy="459720"/>
          </a:xfrm>
        </p:grpSpPr>
        <p:sp>
          <p:nvSpPr>
            <p:cNvPr id="1254" name=""/>
            <p:cNvSpPr/>
            <p:nvPr/>
          </p:nvSpPr>
          <p:spPr>
            <a:xfrm>
              <a:off x="7467480" y="47242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B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7620120" y="4800600"/>
              <a:ext cx="304560" cy="3049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6" name=""/>
          <p:cNvGrpSpPr/>
          <p:nvPr/>
        </p:nvGrpSpPr>
        <p:grpSpPr>
          <a:xfrm>
            <a:off x="7086600" y="2057400"/>
            <a:ext cx="1752480" cy="1557000"/>
            <a:chOff x="7086600" y="2057400"/>
            <a:chExt cx="1752480" cy="1557000"/>
          </a:xfrm>
        </p:grpSpPr>
        <p:sp>
          <p:nvSpPr>
            <p:cNvPr id="1257" name=""/>
            <p:cNvSpPr/>
            <p:nvPr/>
          </p:nvSpPr>
          <p:spPr>
            <a:xfrm>
              <a:off x="7086600" y="2438280"/>
              <a:ext cx="152280" cy="9144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7086600" y="2057400"/>
              <a:ext cx="17524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This part is removed to permanent mem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9" name=""/>
          <p:cNvGrpSpPr/>
          <p:nvPr/>
        </p:nvGrpSpPr>
        <p:grpSpPr>
          <a:xfrm>
            <a:off x="4876920" y="2438280"/>
            <a:ext cx="2133000" cy="459720"/>
            <a:chOff x="4876920" y="2438280"/>
            <a:chExt cx="2133000" cy="459720"/>
          </a:xfrm>
        </p:grpSpPr>
        <p:sp>
          <p:nvSpPr>
            <p:cNvPr id="1260" name=""/>
            <p:cNvSpPr/>
            <p:nvPr/>
          </p:nvSpPr>
          <p:spPr>
            <a:xfrm>
              <a:off x="5486040" y="2438280"/>
              <a:ext cx="10666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553080" y="2438280"/>
              <a:ext cx="4568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876920" y="2438280"/>
              <a:ext cx="59652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5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3" name=""/>
          <p:cNvGrpSpPr/>
          <p:nvPr/>
        </p:nvGrpSpPr>
        <p:grpSpPr>
          <a:xfrm>
            <a:off x="4876920" y="2895480"/>
            <a:ext cx="2133000" cy="459720"/>
            <a:chOff x="4876920" y="2895480"/>
            <a:chExt cx="2133000" cy="459720"/>
          </a:xfrm>
        </p:grpSpPr>
        <p:sp>
          <p:nvSpPr>
            <p:cNvPr id="1264" name=""/>
            <p:cNvSpPr/>
            <p:nvPr/>
          </p:nvSpPr>
          <p:spPr>
            <a:xfrm>
              <a:off x="5486040" y="2895480"/>
              <a:ext cx="10666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553080" y="2895480"/>
              <a:ext cx="4568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876920" y="2895480"/>
              <a:ext cx="59652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7" name=""/>
          <p:cNvGrpSpPr/>
          <p:nvPr/>
        </p:nvGrpSpPr>
        <p:grpSpPr>
          <a:xfrm>
            <a:off x="4952880" y="2514240"/>
            <a:ext cx="2057400" cy="762480"/>
            <a:chOff x="4952880" y="2514240"/>
            <a:chExt cx="2057400" cy="762480"/>
          </a:xfrm>
        </p:grpSpPr>
        <p:sp>
          <p:nvSpPr>
            <p:cNvPr id="1268" name=""/>
            <p:cNvSpPr/>
            <p:nvPr/>
          </p:nvSpPr>
          <p:spPr>
            <a:xfrm flipV="1">
              <a:off x="4952880" y="2514240"/>
              <a:ext cx="205740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952880" y="2514600"/>
              <a:ext cx="198144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0" name=""/>
          <p:cNvGrpSpPr/>
          <p:nvPr/>
        </p:nvGrpSpPr>
        <p:grpSpPr>
          <a:xfrm>
            <a:off x="4724280" y="1828800"/>
            <a:ext cx="4114800" cy="2133720"/>
            <a:chOff x="4724280" y="1828800"/>
            <a:chExt cx="4114800" cy="2133720"/>
          </a:xfrm>
        </p:grpSpPr>
        <p:sp>
          <p:nvSpPr>
            <p:cNvPr id="1271" name=""/>
            <p:cNvSpPr/>
            <p:nvPr/>
          </p:nvSpPr>
          <p:spPr>
            <a:xfrm>
              <a:off x="6858000" y="1905120"/>
              <a:ext cx="1981080" cy="2057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2" name=""/>
            <p:cNvGrpSpPr/>
            <p:nvPr/>
          </p:nvGrpSpPr>
          <p:grpSpPr>
            <a:xfrm>
              <a:off x="4876920" y="2438280"/>
              <a:ext cx="2133000" cy="916920"/>
              <a:chOff x="4876920" y="2438280"/>
              <a:chExt cx="2133000" cy="916920"/>
            </a:xfrm>
          </p:grpSpPr>
          <p:grpSp>
            <p:nvGrpSpPr>
              <p:cNvPr id="1273" name=""/>
              <p:cNvGrpSpPr/>
              <p:nvPr/>
            </p:nvGrpSpPr>
            <p:grpSpPr>
              <a:xfrm>
                <a:off x="4876920" y="2438280"/>
                <a:ext cx="2133000" cy="459720"/>
                <a:chOff x="4876920" y="2438280"/>
                <a:chExt cx="2133000" cy="459720"/>
              </a:xfrm>
            </p:grpSpPr>
            <p:sp>
              <p:nvSpPr>
                <p:cNvPr id="1274" name=""/>
                <p:cNvSpPr/>
                <p:nvPr/>
              </p:nvSpPr>
              <p:spPr>
                <a:xfrm>
                  <a:off x="5486040" y="2438280"/>
                  <a:ext cx="106668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cc"/>
                      </a:solidFill>
                      <a:latin typeface="Times New Roman"/>
                    </a:rPr>
                    <a:t>y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6553080" y="2438280"/>
                  <a:ext cx="45684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…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4876920" y="2438280"/>
                  <a:ext cx="59652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66ff"/>
                      </a:solidFill>
                      <a:latin typeface="Times New Roman"/>
                    </a:rPr>
                    <a:t>5: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7" name=""/>
              <p:cNvGrpSpPr/>
              <p:nvPr/>
            </p:nvGrpSpPr>
            <p:grpSpPr>
              <a:xfrm>
                <a:off x="4876920" y="2895480"/>
                <a:ext cx="2133000" cy="459720"/>
                <a:chOff x="4876920" y="2895480"/>
                <a:chExt cx="2133000" cy="459720"/>
              </a:xfrm>
            </p:grpSpPr>
            <p:sp>
              <p:nvSpPr>
                <p:cNvPr id="1278" name=""/>
                <p:cNvSpPr/>
                <p:nvPr/>
              </p:nvSpPr>
              <p:spPr>
                <a:xfrm>
                  <a:off x="5486040" y="2895480"/>
                  <a:ext cx="106668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cc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6553080" y="2895480"/>
                  <a:ext cx="45684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…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4876920" y="2895480"/>
                  <a:ext cx="59652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66ff"/>
                      </a:solidFill>
                      <a:latin typeface="Times New Roman"/>
                    </a:rPr>
                    <a:t>4: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81" name=""/>
            <p:cNvSpPr/>
            <p:nvPr/>
          </p:nvSpPr>
          <p:spPr>
            <a:xfrm>
              <a:off x="4724280" y="182880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ymbol tabl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2" name=""/>
          <p:cNvGrpSpPr/>
          <p:nvPr/>
        </p:nvGrpSpPr>
        <p:grpSpPr>
          <a:xfrm>
            <a:off x="4876920" y="3352680"/>
            <a:ext cx="2133000" cy="459720"/>
            <a:chOff x="4876920" y="3352680"/>
            <a:chExt cx="2133000" cy="459720"/>
          </a:xfrm>
        </p:grpSpPr>
        <p:sp>
          <p:nvSpPr>
            <p:cNvPr id="1283" name=""/>
            <p:cNvSpPr/>
            <p:nvPr/>
          </p:nvSpPr>
          <p:spPr>
            <a:xfrm>
              <a:off x="5486040" y="3352680"/>
              <a:ext cx="10666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oc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6553080" y="3352680"/>
              <a:ext cx="4568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876920" y="3352680"/>
              <a:ext cx="59652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6" name=""/>
          <p:cNvGrpSpPr/>
          <p:nvPr/>
        </p:nvGrpSpPr>
        <p:grpSpPr>
          <a:xfrm>
            <a:off x="4876920" y="3809880"/>
            <a:ext cx="2133000" cy="459720"/>
            <a:chOff x="4876920" y="3809880"/>
            <a:chExt cx="2133000" cy="459720"/>
          </a:xfrm>
        </p:grpSpPr>
        <p:sp>
          <p:nvSpPr>
            <p:cNvPr id="1287" name=""/>
            <p:cNvSpPr/>
            <p:nvPr/>
          </p:nvSpPr>
          <p:spPr>
            <a:xfrm>
              <a:off x="5486040" y="3809880"/>
              <a:ext cx="10666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553080" y="3809880"/>
              <a:ext cx="4568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876920" y="3809880"/>
              <a:ext cx="59652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0" name=""/>
          <p:cNvGrpSpPr/>
          <p:nvPr/>
        </p:nvGrpSpPr>
        <p:grpSpPr>
          <a:xfrm>
            <a:off x="4876920" y="4267080"/>
            <a:ext cx="2133000" cy="459720"/>
            <a:chOff x="4876920" y="4267080"/>
            <a:chExt cx="2133000" cy="459720"/>
          </a:xfrm>
        </p:grpSpPr>
        <p:sp>
          <p:nvSpPr>
            <p:cNvPr id="1291" name=""/>
            <p:cNvSpPr/>
            <p:nvPr/>
          </p:nvSpPr>
          <p:spPr>
            <a:xfrm>
              <a:off x="5486040" y="4267080"/>
              <a:ext cx="10666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553080" y="4267080"/>
              <a:ext cx="4568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876920" y="4267080"/>
              <a:ext cx="59652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4" name=""/>
          <p:cNvSpPr/>
          <p:nvPr/>
        </p:nvSpPr>
        <p:spPr>
          <a:xfrm>
            <a:off x="4876920" y="4724280"/>
            <a:ext cx="2133360" cy="48996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ymbol t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 flipH="1" flipV="1">
            <a:off x="6934320" y="3123720"/>
            <a:ext cx="838080" cy="12956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 flipH="1" flipV="1">
            <a:off x="6934320" y="4495680"/>
            <a:ext cx="83808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ex: Basic Id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609480" y="11430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matic construction of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x compiler and Lex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362320" y="4038480"/>
            <a:ext cx="4724280" cy="1312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LEX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4191120" y="3352680"/>
            <a:ext cx="990360" cy="609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4267080" y="548640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2590920" y="27432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gular expr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2514600" y="601992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xical analyzer (scann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685800" y="22096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e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Phases of Compi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523880" y="213372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1523880" y="365760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762120" y="2895480"/>
            <a:ext cx="259056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x c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533520" y="1143000"/>
            <a:ext cx="30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ex.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Lex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533520" y="525780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ular representation of a DFA constructed from REs in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ex.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365760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7162920" y="2133720"/>
            <a:ext cx="9903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7162920" y="3657600"/>
            <a:ext cx="9903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962520" y="2895480"/>
            <a:ext cx="243828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 c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662940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457200" y="42670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ex.yy.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3733920" y="1143000"/>
            <a:ext cx="281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ex.yy.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4572000" y="213372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572000" y="365760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3733920" y="4267080"/>
            <a:ext cx="281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.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unit of scann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6858000" y="2895480"/>
            <a:ext cx="160020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.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6858000" y="1143000"/>
            <a:ext cx="16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ourc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781680" y="434340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ok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2768760" y="1473120"/>
            <a:ext cx="1625400" cy="3251160"/>
          </a:xfrm>
          <a:custGeom>
            <a:avLst/>
            <a:gdLst/>
            <a:ahLst/>
            <a:rect l="l" t="t" r="r" b="b"/>
            <a:pathLst>
              <a:path w="1024" h="2048">
                <a:moveTo>
                  <a:pt x="0" y="1992"/>
                </a:moveTo>
                <a:cubicBezTo>
                  <a:pt x="69" y="1969"/>
                  <a:pt x="336" y="2048"/>
                  <a:pt x="416" y="1856"/>
                </a:cubicBezTo>
                <a:cubicBezTo>
                  <a:pt x="496" y="1664"/>
                  <a:pt x="463" y="1103"/>
                  <a:pt x="480" y="840"/>
                </a:cubicBezTo>
                <a:cubicBezTo>
                  <a:pt x="497" y="577"/>
                  <a:pt x="508" y="401"/>
                  <a:pt x="520" y="280"/>
                </a:cubicBezTo>
                <a:cubicBezTo>
                  <a:pt x="532" y="159"/>
                  <a:pt x="524" y="153"/>
                  <a:pt x="552" y="112"/>
                </a:cubicBezTo>
                <a:cubicBezTo>
                  <a:pt x="580" y="71"/>
                  <a:pt x="609" y="51"/>
                  <a:pt x="688" y="32"/>
                </a:cubicBezTo>
                <a:cubicBezTo>
                  <a:pt x="767" y="13"/>
                  <a:pt x="954" y="7"/>
                  <a:pt x="102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5702400" y="3211560"/>
            <a:ext cx="1434960" cy="1411200"/>
          </a:xfrm>
          <a:custGeom>
            <a:avLst/>
            <a:gdLst/>
            <a:ahLst/>
            <a:rect l="l" t="t" r="r" b="b"/>
            <a:pathLst>
              <a:path w="904" h="889">
                <a:moveTo>
                  <a:pt x="0" y="889"/>
                </a:moveTo>
                <a:cubicBezTo>
                  <a:pt x="61" y="865"/>
                  <a:pt x="283" y="878"/>
                  <a:pt x="368" y="753"/>
                </a:cubicBezTo>
                <a:cubicBezTo>
                  <a:pt x="453" y="628"/>
                  <a:pt x="467" y="260"/>
                  <a:pt x="512" y="137"/>
                </a:cubicBezTo>
                <a:cubicBezTo>
                  <a:pt x="557" y="14"/>
                  <a:pt x="575" y="34"/>
                  <a:pt x="640" y="17"/>
                </a:cubicBezTo>
                <a:cubicBezTo>
                  <a:pt x="705" y="0"/>
                  <a:pt x="849" y="30"/>
                  <a:pt x="904" y="3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Tas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2665800"/>
            <a:ext cx="813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ther tas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al of 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mm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hitesp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cation with symbol t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1065600"/>
            <a:ext cx="813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Main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a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cognition and classification of lex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presenting lexemes by their to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" y="438840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elation to Models for 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5047920"/>
            <a:ext cx="7772400" cy="11912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gular expression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specify lexe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FAs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derlie scann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of Lex Source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609480" y="1143000"/>
            <a:ext cx="8077320" cy="47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Declaration 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%%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* End of Section I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Translation rules 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j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%%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* End of Section II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I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Auxiliary procedures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k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Regular Expressions in L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2286000" y="586728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[0-9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3733920" y="586728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0 + 1 + 2 + …+ 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2286000" y="533412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[a-z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3733920" y="533412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a + b + c + …+ z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2286000" y="480060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r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3733920" y="480060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r +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2286000" y="426708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r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3733920" y="426708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3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2286000" y="373392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r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3733920" y="373392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2286000" y="320040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r|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3733920" y="320040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r + 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2286000" y="266688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3733920" y="266688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r.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2286000" y="213372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3733920" y="213372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2286000" y="1295280"/>
            <a:ext cx="1447920" cy="8254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E in 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3733920" y="1295280"/>
            <a:ext cx="3429000" cy="8254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quivalent RE in theory of formal 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"/>
          <p:cNvSpPr/>
          <p:nvPr/>
        </p:nvSpPr>
        <p:spPr>
          <a:xfrm>
            <a:off x="1981080" y="1981080"/>
            <a:ext cx="533412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09480" y="1066680"/>
            <a:ext cx="7925040" cy="26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Definitions of manifest constants = token typ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Definitions based on REs are in the form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Name_of_RE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Name_of_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re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s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R</a:t>
            </a:r>
            <a:r>
              <a:rPr b="1" lang="cs-CZ" sz="2800" spc="-1" strike="noStrike">
                <a:solidFill>
                  <a:srgbClr val="3333cc"/>
                </a:solidFill>
                <a:latin typeface="Courier New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Name_of_R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reference to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Name_of_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in other 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: Decla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762120" y="358128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9" name=""/>
          <p:cNvGrpSpPr/>
          <p:nvPr/>
        </p:nvGrpSpPr>
        <p:grpSpPr>
          <a:xfrm>
            <a:off x="762120" y="3505320"/>
            <a:ext cx="7696080" cy="3112560"/>
            <a:chOff x="762120" y="3505320"/>
            <a:chExt cx="7696080" cy="3112560"/>
          </a:xfrm>
        </p:grpSpPr>
        <p:sp>
          <p:nvSpPr>
            <p:cNvPr id="1360" name=""/>
            <p:cNvSpPr/>
            <p:nvPr/>
          </p:nvSpPr>
          <p:spPr>
            <a:xfrm>
              <a:off x="762120" y="3505320"/>
              <a:ext cx="205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762120" y="4038480"/>
              <a:ext cx="7696080" cy="2579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#define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IF   256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* constant for IF *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#define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THEN 257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* constant for THEN *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#define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ID   258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* constant for ID *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#define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	</a:t>
              </a:r>
              <a:r>
                <a:rPr b="1" lang="cs-CZ" sz="2400" spc="-1" strike="noStrike">
                  <a:solidFill>
                    <a:srgbClr val="339933"/>
                  </a:solidFill>
                  <a:latin typeface="Courier New"/>
                </a:rPr>
                <a:t>INT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  259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* constant for NUM *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letter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[a-z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digit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[0-9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id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{letter}({letter}|{digit})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integer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{digit}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"/>
          <p:cNvSpPr/>
          <p:nvPr/>
        </p:nvSpPr>
        <p:spPr>
          <a:xfrm>
            <a:off x="1981080" y="1600200"/>
            <a:ext cx="533412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685800" y="1143000"/>
            <a:ext cx="79246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ranslation rules are in the form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</a:t>
            </a:r>
            <a:r>
              <a:rPr b="1" lang="cs-CZ" sz="3000" spc="-1" strike="noStrike">
                <a:solidFill>
                  <a:srgbClr val="3333cc"/>
                </a:solidFill>
                <a:latin typeface="Courier New"/>
              </a:rPr>
              <a:t>E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Ac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Action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program routine that specifies wh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o do when a lexeme is specified by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</a:t>
            </a:r>
            <a:r>
              <a:rPr b="1" lang="cs-CZ" sz="3000" spc="-1" strike="noStrike">
                <a:solidFill>
                  <a:srgbClr val="3333cc"/>
                </a:solidFill>
                <a:latin typeface="Courier New"/>
              </a:rPr>
              <a:t>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I: Translation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762120" y="30481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7" name=""/>
          <p:cNvGrpSpPr/>
          <p:nvPr/>
        </p:nvGrpSpPr>
        <p:grpSpPr>
          <a:xfrm>
            <a:off x="685800" y="3048120"/>
            <a:ext cx="8001000" cy="3309120"/>
            <a:chOff x="685800" y="3048120"/>
            <a:chExt cx="8001000" cy="3309120"/>
          </a:xfrm>
        </p:grpSpPr>
        <p:sp>
          <p:nvSpPr>
            <p:cNvPr id="1368" name=""/>
            <p:cNvSpPr/>
            <p:nvPr/>
          </p:nvSpPr>
          <p:spPr>
            <a:xfrm>
              <a:off x="762120" y="3048120"/>
              <a:ext cx="205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762120" y="3581280"/>
              <a:ext cx="7696080" cy="2288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if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return(IF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the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return(THEN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{id}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{ yylval = install_id(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  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return(ID);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{integer}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{ yylval = install_int(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  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return(INT);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685800" y="5867280"/>
              <a:ext cx="8001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yylval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: value returned by install_id() = attribute of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"/>
          <p:cNvSpPr/>
          <p:nvPr/>
        </p:nvSpPr>
        <p:spPr>
          <a:xfrm>
            <a:off x="685800" y="1143000"/>
            <a:ext cx="792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xiliary procedures are needed by translation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II: Auxiliary Proced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762120" y="16765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5" name=""/>
          <p:cNvGrpSpPr/>
          <p:nvPr/>
        </p:nvGrpSpPr>
        <p:grpSpPr>
          <a:xfrm>
            <a:off x="762120" y="1600200"/>
            <a:ext cx="7696080" cy="4650840"/>
            <a:chOff x="762120" y="1600200"/>
            <a:chExt cx="7696080" cy="4650840"/>
          </a:xfrm>
        </p:grpSpPr>
        <p:sp>
          <p:nvSpPr>
            <p:cNvPr id="1376" name=""/>
            <p:cNvSpPr/>
            <p:nvPr/>
          </p:nvSpPr>
          <p:spPr>
            <a:xfrm>
              <a:off x="762120" y="1600200"/>
              <a:ext cx="205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762120" y="2133720"/>
              <a:ext cx="7696080" cy="41173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{id}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{ yylval = 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install_id()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return(ID);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%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cs-CZ" sz="2400" spc="-1" strike="noStrike">
                  <a:solidFill>
                    <a:srgbClr val="000000"/>
                  </a:solidFill>
                  <a:latin typeface="Courier New"/>
                </a:rPr>
                <a:t>nt </a:t>
              </a:r>
              <a:r>
                <a:rPr b="1" lang="cs-CZ" sz="2400" spc="-1" strike="noStrike">
                  <a:solidFill>
                    <a:srgbClr val="ff0000"/>
                  </a:solidFill>
                  <a:latin typeface="Courier New"/>
                </a:rPr>
                <a:t>install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_id()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{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* Procedure to install the lexeme into the symbol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table and return a pointer thereto *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3009960" y="2908440"/>
              <a:ext cx="2639880" cy="1473120"/>
            </a:xfrm>
            <a:custGeom>
              <a:avLst/>
              <a:gdLst/>
              <a:ahLst/>
              <a:rect l="l" t="t" r="r" b="b"/>
              <a:pathLst>
                <a:path w="1663" h="928">
                  <a:moveTo>
                    <a:pt x="1648" y="0"/>
                  </a:moveTo>
                  <a:cubicBezTo>
                    <a:pt x="1612" y="68"/>
                    <a:pt x="1663" y="313"/>
                    <a:pt x="1432" y="408"/>
                  </a:cubicBezTo>
                  <a:cubicBezTo>
                    <a:pt x="1201" y="503"/>
                    <a:pt x="503" y="481"/>
                    <a:pt x="264" y="568"/>
                  </a:cubicBezTo>
                  <a:cubicBezTo>
                    <a:pt x="25" y="655"/>
                    <a:pt x="55" y="853"/>
                    <a:pt x="0" y="92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te Source Program in L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533520" y="1219320"/>
            <a:ext cx="8610480" cy="51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#define   IF   256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/* constant for IF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#define   THEN 257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/* constant for THEN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#define   ID   258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/* constant for ID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#define   </a:t>
            </a:r>
            <a:r>
              <a:rPr b="1" lang="cs-CZ" sz="2300" spc="-1" strike="noStrike">
                <a:solidFill>
                  <a:srgbClr val="339933"/>
                </a:solidFill>
                <a:latin typeface="Courier New"/>
              </a:rPr>
              <a:t>INT</a:t>
            </a: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  259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/* constant for NUM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cc"/>
                </a:solidFill>
                <a:latin typeface="Courier New"/>
              </a:rPr>
              <a:t>int yylval;         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/* yylval is visible for parser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letter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[a-z]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digit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[0-9]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ff0000"/>
                </a:solidFill>
                <a:latin typeface="Courier New"/>
              </a:rPr>
              <a:t>i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d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letter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(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letter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|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digit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)*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ff0000"/>
                </a:solidFill>
                <a:latin typeface="Courier New"/>
              </a:rPr>
              <a:t>i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nteger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digit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+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%%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if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      return(</a:t>
            </a: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IF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then    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return(</a:t>
            </a: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THEN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id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      {</a:t>
            </a:r>
            <a:r>
              <a:rPr b="1" lang="en-US" sz="2300" spc="-1" strike="noStrike">
                <a:solidFill>
                  <a:srgbClr val="3333cc"/>
                </a:solidFill>
                <a:latin typeface="Courier New"/>
              </a:rPr>
              <a:t>yylval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300" spc="-1" strike="noStrike">
                <a:solidFill>
                  <a:srgbClr val="ff66ff"/>
                </a:solidFill>
                <a:latin typeface="Courier New"/>
              </a:rPr>
              <a:t>install_id()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;return(</a:t>
            </a: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ID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) ;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integer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 {</a:t>
            </a:r>
            <a:r>
              <a:rPr b="1" lang="en-US" sz="2300" spc="-1" strike="noStrike">
                <a:solidFill>
                  <a:srgbClr val="3333cc"/>
                </a:solidFill>
                <a:latin typeface="Courier New"/>
              </a:rPr>
              <a:t>yylval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300" spc="-1" strike="noStrike">
                <a:solidFill>
                  <a:srgbClr val="ff66ff"/>
                </a:solidFill>
                <a:latin typeface="Courier New"/>
              </a:rPr>
              <a:t>install_int()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;return(</a:t>
            </a: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INT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);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%%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nt </a:t>
            </a:r>
            <a:r>
              <a:rPr b="1" lang="cs-CZ" sz="2300" spc="-1" strike="noStrike">
                <a:solidFill>
                  <a:srgbClr val="ff66ff"/>
                </a:solidFill>
                <a:latin typeface="Courier New"/>
              </a:rPr>
              <a:t>install</a:t>
            </a:r>
            <a:r>
              <a:rPr b="1" lang="en-US" sz="2300" spc="-1" strike="noStrike">
                <a:solidFill>
                  <a:srgbClr val="ff66ff"/>
                </a:solidFill>
                <a:latin typeface="Courier New"/>
              </a:rPr>
              <a:t>_id()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3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nt </a:t>
            </a:r>
            <a:r>
              <a:rPr b="1" lang="cs-CZ" sz="2300" spc="-1" strike="noStrike">
                <a:solidFill>
                  <a:srgbClr val="ff66ff"/>
                </a:solidFill>
                <a:latin typeface="Courier New"/>
              </a:rPr>
              <a:t>install</a:t>
            </a:r>
            <a:r>
              <a:rPr b="1" lang="en-US" sz="2300" spc="-1" strike="noStrike">
                <a:solidFill>
                  <a:srgbClr val="ff66ff"/>
                </a:solidFill>
                <a:latin typeface="Courier New"/>
              </a:rPr>
              <a:t>_i</a:t>
            </a:r>
            <a:r>
              <a:rPr b="1" lang="cs-CZ" sz="2300" spc="-1" strike="noStrike">
                <a:solidFill>
                  <a:srgbClr val="ff66ff"/>
                </a:solidFill>
                <a:latin typeface="Courier New"/>
              </a:rPr>
              <a:t>nt</a:t>
            </a:r>
            <a:r>
              <a:rPr b="1" lang="en-US" sz="2300" spc="-1" strike="noStrike">
                <a:solidFill>
                  <a:srgbClr val="ff66ff"/>
                </a:solidFill>
                <a:latin typeface="Courier New"/>
              </a:rPr>
              <a:t>()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3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Lexemes Recognized by DFAs 1/2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9480" y="1158120"/>
            <a:ext cx="7467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cognition o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lexeme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using DF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31240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9480" y="159948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4320" y="2133000"/>
            <a:ext cx="1849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Identifier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6668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362320" y="32004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600200" y="35053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2743200"/>
            <a:ext cx="456840" cy="45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5800" y="3505320"/>
            <a:ext cx="3808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69240" y="2971080"/>
            <a:ext cx="71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143000" y="2513880"/>
            <a:ext cx="137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724280" y="31240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668040" y="2133000"/>
            <a:ext cx="1491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Integer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63996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80060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91120" y="35053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6920" y="2743200"/>
            <a:ext cx="456840" cy="45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59080" y="3505320"/>
            <a:ext cx="3808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083840" y="297108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191840" y="251388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924680" y="31240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174000" y="2133000"/>
            <a:ext cx="2210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Assignment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588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00100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629400" y="35053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715000" y="3505320"/>
            <a:ext cx="3808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7520" y="2894760"/>
            <a:ext cx="30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918000" y="4037760"/>
            <a:ext cx="214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Operator +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01028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543800" y="35053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545960" y="289476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508200" y="4037760"/>
            <a:ext cx="2116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Operator *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022080" y="4037760"/>
            <a:ext cx="2651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Comparator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145880" y="5409360"/>
            <a:ext cx="286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Comparator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=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717880" y="5409360"/>
            <a:ext cx="286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Comparator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&gt;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09680" y="45720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8600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914400" y="4952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29528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828800" y="4952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830960" y="44190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724280" y="45720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80060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429000" y="4952880"/>
            <a:ext cx="3808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0988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343400" y="4952880"/>
            <a:ext cx="3808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345200" y="449496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543800" y="45720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620120" y="46483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248520" y="4952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162920" y="4952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165080" y="44190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56120" y="59436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327320" y="60199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32080" y="6019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860480" y="632448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46080" y="6324480"/>
            <a:ext cx="38124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94320" y="57906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41720" y="60199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774880" y="632448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777040" y="57906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772400" y="59436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943600" y="6019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848720" y="60199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477120" y="63244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562720" y="6324480"/>
            <a:ext cx="3808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510960" y="57906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0" y="6019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391520" y="63244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393680" y="57906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"/>
          <p:cNvGrpSpPr/>
          <p:nvPr/>
        </p:nvGrpSpPr>
        <p:grpSpPr>
          <a:xfrm>
            <a:off x="990720" y="1625760"/>
            <a:ext cx="6438960" cy="2259000"/>
            <a:chOff x="990720" y="1625760"/>
            <a:chExt cx="6438960" cy="2259000"/>
          </a:xfrm>
        </p:grpSpPr>
        <p:sp>
          <p:nvSpPr>
            <p:cNvPr id="315" name=""/>
            <p:cNvSpPr/>
            <p:nvPr/>
          </p:nvSpPr>
          <p:spPr>
            <a:xfrm>
              <a:off x="990720" y="1625760"/>
              <a:ext cx="6438960" cy="2259000"/>
            </a:xfrm>
            <a:custGeom>
              <a:avLst/>
              <a:gdLst/>
              <a:ahLst/>
              <a:rect l="l" t="t" r="r" b="b"/>
              <a:pathLst>
                <a:path w="4056" h="1423">
                  <a:moveTo>
                    <a:pt x="1088" y="80"/>
                  </a:moveTo>
                  <a:cubicBezTo>
                    <a:pt x="1245" y="80"/>
                    <a:pt x="1460" y="107"/>
                    <a:pt x="1904" y="112"/>
                  </a:cubicBezTo>
                  <a:cubicBezTo>
                    <a:pt x="2348" y="117"/>
                    <a:pt x="3448" y="0"/>
                    <a:pt x="3752" y="112"/>
                  </a:cubicBezTo>
                  <a:cubicBezTo>
                    <a:pt x="4056" y="224"/>
                    <a:pt x="3855" y="685"/>
                    <a:pt x="3728" y="784"/>
                  </a:cubicBezTo>
                  <a:cubicBezTo>
                    <a:pt x="3601" y="883"/>
                    <a:pt x="3233" y="707"/>
                    <a:pt x="2992" y="704"/>
                  </a:cubicBezTo>
                  <a:cubicBezTo>
                    <a:pt x="2751" y="701"/>
                    <a:pt x="2621" y="755"/>
                    <a:pt x="2280" y="768"/>
                  </a:cubicBezTo>
                  <a:cubicBezTo>
                    <a:pt x="1939" y="781"/>
                    <a:pt x="1257" y="688"/>
                    <a:pt x="944" y="784"/>
                  </a:cubicBezTo>
                  <a:cubicBezTo>
                    <a:pt x="631" y="880"/>
                    <a:pt x="548" y="1263"/>
                    <a:pt x="400" y="1343"/>
                  </a:cubicBezTo>
                  <a:cubicBezTo>
                    <a:pt x="252" y="1423"/>
                    <a:pt x="112" y="1330"/>
                    <a:pt x="56" y="1263"/>
                  </a:cubicBezTo>
                  <a:cubicBezTo>
                    <a:pt x="0" y="1196"/>
                    <a:pt x="9" y="1015"/>
                    <a:pt x="64" y="943"/>
                  </a:cubicBezTo>
                  <a:cubicBezTo>
                    <a:pt x="119" y="871"/>
                    <a:pt x="277" y="870"/>
                    <a:pt x="384" y="832"/>
                  </a:cubicBezTo>
                  <a:cubicBezTo>
                    <a:pt x="491" y="794"/>
                    <a:pt x="628" y="816"/>
                    <a:pt x="704" y="712"/>
                  </a:cubicBezTo>
                  <a:lnTo>
                    <a:pt x="840" y="208"/>
                  </a:lnTo>
                  <a:lnTo>
                    <a:pt x="952" y="104"/>
                  </a:lnTo>
                  <a:lnTo>
                    <a:pt x="1088" y="80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b2b2b2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514600" y="1689840"/>
              <a:ext cx="4572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DFA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at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accept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type 1 lexem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1022400" y="2949480"/>
            <a:ext cx="6178680" cy="1277640"/>
            <a:chOff x="1022400" y="2949480"/>
            <a:chExt cx="6178680" cy="1277640"/>
          </a:xfrm>
        </p:grpSpPr>
        <p:sp>
          <p:nvSpPr>
            <p:cNvPr id="318" name=""/>
            <p:cNvSpPr/>
            <p:nvPr/>
          </p:nvSpPr>
          <p:spPr>
            <a:xfrm>
              <a:off x="1022400" y="2949480"/>
              <a:ext cx="6178680" cy="1277640"/>
            </a:xfrm>
            <a:custGeom>
              <a:avLst/>
              <a:gdLst/>
              <a:ahLst/>
              <a:rect l="l" t="t" r="r" b="b"/>
              <a:pathLst>
                <a:path w="3892" h="805">
                  <a:moveTo>
                    <a:pt x="1060" y="70"/>
                  </a:moveTo>
                  <a:cubicBezTo>
                    <a:pt x="1183" y="25"/>
                    <a:pt x="1939" y="75"/>
                    <a:pt x="2284" y="78"/>
                  </a:cubicBezTo>
                  <a:cubicBezTo>
                    <a:pt x="2629" y="81"/>
                    <a:pt x="2881" y="82"/>
                    <a:pt x="3132" y="86"/>
                  </a:cubicBezTo>
                  <a:cubicBezTo>
                    <a:pt x="3383" y="90"/>
                    <a:pt x="3684" y="0"/>
                    <a:pt x="3788" y="102"/>
                  </a:cubicBezTo>
                  <a:cubicBezTo>
                    <a:pt x="3892" y="204"/>
                    <a:pt x="3887" y="597"/>
                    <a:pt x="3755" y="701"/>
                  </a:cubicBezTo>
                  <a:cubicBezTo>
                    <a:pt x="3623" y="805"/>
                    <a:pt x="3229" y="718"/>
                    <a:pt x="2995" y="725"/>
                  </a:cubicBezTo>
                  <a:cubicBezTo>
                    <a:pt x="2761" y="732"/>
                    <a:pt x="2570" y="743"/>
                    <a:pt x="2348" y="742"/>
                  </a:cubicBezTo>
                  <a:cubicBezTo>
                    <a:pt x="2126" y="741"/>
                    <a:pt x="1856" y="747"/>
                    <a:pt x="1660" y="718"/>
                  </a:cubicBezTo>
                  <a:cubicBezTo>
                    <a:pt x="1464" y="689"/>
                    <a:pt x="1415" y="597"/>
                    <a:pt x="1172" y="566"/>
                  </a:cubicBezTo>
                  <a:cubicBezTo>
                    <a:pt x="929" y="535"/>
                    <a:pt x="397" y="598"/>
                    <a:pt x="204" y="534"/>
                  </a:cubicBezTo>
                  <a:cubicBezTo>
                    <a:pt x="11" y="470"/>
                    <a:pt x="0" y="266"/>
                    <a:pt x="12" y="182"/>
                  </a:cubicBezTo>
                  <a:cubicBezTo>
                    <a:pt x="24" y="98"/>
                    <a:pt x="159" y="31"/>
                    <a:pt x="276" y="30"/>
                  </a:cubicBezTo>
                  <a:cubicBezTo>
                    <a:pt x="393" y="29"/>
                    <a:pt x="585" y="167"/>
                    <a:pt x="716" y="174"/>
                  </a:cubicBezTo>
                  <a:lnTo>
                    <a:pt x="1060" y="70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b2b2b2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514600" y="2984760"/>
              <a:ext cx="46483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DFA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at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accept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type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lexem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944640" y="2922480"/>
            <a:ext cx="6383160" cy="2936880"/>
            <a:chOff x="944640" y="2922480"/>
            <a:chExt cx="6383160" cy="2936880"/>
          </a:xfrm>
        </p:grpSpPr>
        <p:sp>
          <p:nvSpPr>
            <p:cNvPr id="321" name=""/>
            <p:cNvSpPr/>
            <p:nvPr/>
          </p:nvSpPr>
          <p:spPr>
            <a:xfrm>
              <a:off x="944640" y="2922480"/>
              <a:ext cx="6383160" cy="2936880"/>
            </a:xfrm>
            <a:custGeom>
              <a:avLst/>
              <a:gdLst/>
              <a:ahLst/>
              <a:rect l="l" t="t" r="r" b="b"/>
              <a:pathLst>
                <a:path w="4021" h="1850">
                  <a:moveTo>
                    <a:pt x="1653" y="951"/>
                  </a:moveTo>
                  <a:cubicBezTo>
                    <a:pt x="1932" y="988"/>
                    <a:pt x="2262" y="982"/>
                    <a:pt x="2565" y="991"/>
                  </a:cubicBezTo>
                  <a:cubicBezTo>
                    <a:pt x="2868" y="1000"/>
                    <a:pt x="3245" y="990"/>
                    <a:pt x="3469" y="1007"/>
                  </a:cubicBezTo>
                  <a:cubicBezTo>
                    <a:pt x="3693" y="1024"/>
                    <a:pt x="3839" y="983"/>
                    <a:pt x="3909" y="1095"/>
                  </a:cubicBezTo>
                  <a:cubicBezTo>
                    <a:pt x="3979" y="1207"/>
                    <a:pt x="4021" y="1578"/>
                    <a:pt x="3891" y="1679"/>
                  </a:cubicBezTo>
                  <a:cubicBezTo>
                    <a:pt x="3761" y="1780"/>
                    <a:pt x="3480" y="1690"/>
                    <a:pt x="3131" y="1703"/>
                  </a:cubicBezTo>
                  <a:cubicBezTo>
                    <a:pt x="2782" y="1716"/>
                    <a:pt x="2163" y="1850"/>
                    <a:pt x="1797" y="1759"/>
                  </a:cubicBezTo>
                  <a:cubicBezTo>
                    <a:pt x="1431" y="1668"/>
                    <a:pt x="1137" y="1346"/>
                    <a:pt x="933" y="1159"/>
                  </a:cubicBezTo>
                  <a:cubicBezTo>
                    <a:pt x="729" y="972"/>
                    <a:pt x="701" y="740"/>
                    <a:pt x="573" y="639"/>
                  </a:cubicBezTo>
                  <a:cubicBezTo>
                    <a:pt x="445" y="538"/>
                    <a:pt x="257" y="622"/>
                    <a:pt x="165" y="551"/>
                  </a:cubicBezTo>
                  <a:cubicBezTo>
                    <a:pt x="73" y="480"/>
                    <a:pt x="0" y="304"/>
                    <a:pt x="21" y="215"/>
                  </a:cubicBezTo>
                  <a:cubicBezTo>
                    <a:pt x="42" y="126"/>
                    <a:pt x="186" y="0"/>
                    <a:pt x="293" y="15"/>
                  </a:cubicBezTo>
                  <a:cubicBezTo>
                    <a:pt x="400" y="30"/>
                    <a:pt x="561" y="178"/>
                    <a:pt x="661" y="303"/>
                  </a:cubicBezTo>
                  <a:cubicBezTo>
                    <a:pt x="761" y="428"/>
                    <a:pt x="728" y="659"/>
                    <a:pt x="893" y="767"/>
                  </a:cubicBezTo>
                  <a:lnTo>
                    <a:pt x="1653" y="951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b2b2b2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514600" y="4432680"/>
              <a:ext cx="4572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DFA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at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accept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type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lexem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Lexemes Recognized by DFAs 2/2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" y="114228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nstr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on of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ccepts all lexem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609480" y="1675440"/>
            <a:ext cx="1848600" cy="3583800"/>
            <a:chOff x="609480" y="1675440"/>
            <a:chExt cx="1848600" cy="3583800"/>
          </a:xfrm>
        </p:grpSpPr>
        <p:sp>
          <p:nvSpPr>
            <p:cNvPr id="327" name=""/>
            <p:cNvSpPr/>
            <p:nvPr/>
          </p:nvSpPr>
          <p:spPr>
            <a:xfrm>
              <a:off x="685800" y="342900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43000" y="2514600"/>
              <a:ext cx="53316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09480" y="1675440"/>
              <a:ext cx="1600200" cy="9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808080"/>
                  </a:solidFill>
                  <a:latin typeface="Times New Roman"/>
                </a:rPr>
                <a:t>Space</a:t>
              </a:r>
              <a:r>
                <a:rPr b="0" lang="cs-CZ" sz="2400" spc="-1" strike="noStrike">
                  <a:solidFill>
                    <a:srgbClr val="808080"/>
                  </a:solidFill>
                  <a:latin typeface="Times New Roman"/>
                </a:rPr>
                <a:t>,</a:t>
              </a:r>
              <a:r>
                <a:rPr b="1" i="1" lang="cs-CZ" sz="2400" spc="-1" strike="noStrike">
                  <a:solidFill>
                    <a:srgbClr val="808080"/>
                  </a:solidFill>
                  <a:latin typeface="Times New Roman"/>
                </a:rPr>
                <a:t>Tab</a:t>
              </a:r>
              <a:r>
                <a:rPr b="0" lang="cs-CZ" sz="2400" spc="-1" strike="noStrike">
                  <a:solidFill>
                    <a:srgbClr val="808080"/>
                  </a:solidFill>
                  <a:latin typeface="Times New Roman"/>
                </a:rPr>
                <a:t>,</a:t>
              </a:r>
              <a:r>
                <a:rPr b="1" lang="cs-CZ" sz="24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808080"/>
                  </a:solidFill>
                  <a:latin typeface="Times New Roman"/>
                </a:rPr>
                <a:t>EoLn</a:t>
              </a:r>
              <a:r>
                <a:rPr b="0" lang="cs-CZ" sz="2400" spc="-1" strike="noStrike">
                  <a:solidFill>
                    <a:srgbClr val="808080"/>
                  </a:solidFill>
                  <a:latin typeface="Times New Roman"/>
                </a:rPr>
                <a:t>, </a:t>
              </a:r>
              <a:r>
                <a:rPr b="1" lang="cs-CZ" sz="3000" spc="-1" strike="noStrike">
                  <a:solidFill>
                    <a:srgbClr val="808080"/>
                  </a:solidFill>
                  <a:latin typeface="Times New Roman"/>
                </a:rPr>
                <a:t>...</a:t>
              </a:r>
              <a:r>
                <a:rPr b="0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1219320" y="4774680"/>
              <a:ext cx="38052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rot="16200000">
              <a:off x="954360" y="3769560"/>
              <a:ext cx="533160" cy="31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" y="11282"/>
                  </a:moveTo>
                  <a:arcTo wR="10800" hR="10800" stAng="10646603" swAng="116968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" y="11282"/>
                  </a:moveTo>
                  <a:arcTo wR="10800" hR="10800" stAng="10646603" swAng="11696882"/>
                </a:path>
              </a:pathLst>
            </a:custGeom>
            <a:noFill/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 rot="16200000">
              <a:off x="1360080" y="3799080"/>
              <a:ext cx="533160" cy="25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" y="11282"/>
                  </a:moveTo>
                  <a:arcTo wR="10800" hR="10800" stAng="10646603" swAng="116968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" y="11282"/>
                  </a:moveTo>
                  <a:arcTo wR="10800" hR="10800" stAng="10646603" swAng="11696882"/>
                </a:path>
              </a:pathLst>
            </a:custGeom>
            <a:noFill/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57440" y="3580200"/>
              <a:ext cx="30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{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748160" y="3885120"/>
              <a:ext cx="30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595880" y="4799520"/>
              <a:ext cx="86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Symbol"/>
                  <a:ea typeface="Symbol"/>
                </a:rPr>
                <a:t></a:t>
              </a: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  –</a:t>
              </a:r>
              <a:r>
                <a:rPr b="1" i="1" lang="en-US" sz="24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066680" y="30481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066680" y="41148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808080"/>
                  </a:solidFill>
                  <a:latin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1752480" y="3275640"/>
            <a:ext cx="5257800" cy="762480"/>
            <a:chOff x="1752480" y="3275640"/>
            <a:chExt cx="5257800" cy="762480"/>
          </a:xfrm>
        </p:grpSpPr>
        <p:sp>
          <p:nvSpPr>
            <p:cNvPr id="339" name=""/>
            <p:cNvSpPr/>
            <p:nvPr/>
          </p:nvSpPr>
          <p:spPr>
            <a:xfrm>
              <a:off x="1752480" y="3428640"/>
              <a:ext cx="167652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324480" y="33526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6095880" y="3885480"/>
              <a:ext cx="30492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95880" y="342864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019920" y="373356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400800" y="3428640"/>
              <a:ext cx="53352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4114800" y="3504600"/>
              <a:ext cx="30492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038480" y="388584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114800" y="373356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955400" y="3275640"/>
              <a:ext cx="56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429000" y="33526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304920" y="5181480"/>
            <a:ext cx="3352680" cy="1265760"/>
            <a:chOff x="304920" y="5181480"/>
            <a:chExt cx="3352680" cy="1265760"/>
          </a:xfrm>
        </p:grpSpPr>
        <p:sp>
          <p:nvSpPr>
            <p:cNvPr id="351" name=""/>
            <p:cNvSpPr/>
            <p:nvPr/>
          </p:nvSpPr>
          <p:spPr>
            <a:xfrm>
              <a:off x="304920" y="5256000"/>
              <a:ext cx="3352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omments and whitespaces are skipped before a new lexem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rot="5400000">
              <a:off x="1402560" y="4312440"/>
              <a:ext cx="152640" cy="18907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48960 h 1890720"/>
                <a:gd name="textAreaBottom" fmla="*/ 1841760 h 18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5336280" y="4113720"/>
            <a:ext cx="3243600" cy="437400"/>
            <a:chOff x="5336280" y="4113720"/>
            <a:chExt cx="3243600" cy="437400"/>
          </a:xfrm>
        </p:grpSpPr>
        <p:sp>
          <p:nvSpPr>
            <p:cNvPr id="354" name=""/>
            <p:cNvSpPr/>
            <p:nvPr/>
          </p:nvSpPr>
          <p:spPr>
            <a:xfrm>
              <a:off x="5336280" y="4113720"/>
              <a:ext cx="729000" cy="4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850880" y="4113720"/>
              <a:ext cx="729000" cy="4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7086600" y="2055960"/>
            <a:ext cx="1828800" cy="825480"/>
            <a:chOff x="7086600" y="2055960"/>
            <a:chExt cx="1828800" cy="825480"/>
          </a:xfrm>
        </p:grpSpPr>
        <p:sp>
          <p:nvSpPr>
            <p:cNvPr id="357" name=""/>
            <p:cNvSpPr/>
            <p:nvPr/>
          </p:nvSpPr>
          <p:spPr>
            <a:xfrm>
              <a:off x="7391520" y="205596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Lexeme of type 1</a:t>
              </a:r>
              <a:r>
                <a:rPr b="0" lang="cs-CZ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086600" y="2285640"/>
              <a:ext cx="380880" cy="4568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7086600" y="3275280"/>
            <a:ext cx="1828800" cy="825480"/>
            <a:chOff x="7086600" y="3275280"/>
            <a:chExt cx="1828800" cy="825480"/>
          </a:xfrm>
        </p:grpSpPr>
        <p:sp>
          <p:nvSpPr>
            <p:cNvPr id="360" name=""/>
            <p:cNvSpPr/>
            <p:nvPr/>
          </p:nvSpPr>
          <p:spPr>
            <a:xfrm>
              <a:off x="7391520" y="327528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Lexeme of type 2</a:t>
              </a:r>
              <a:r>
                <a:rPr b="0" lang="cs-CZ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086600" y="3505320"/>
              <a:ext cx="380880" cy="4572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7086600" y="4722840"/>
            <a:ext cx="1828800" cy="825480"/>
            <a:chOff x="7086600" y="4722840"/>
            <a:chExt cx="1828800" cy="825480"/>
          </a:xfrm>
        </p:grpSpPr>
        <p:sp>
          <p:nvSpPr>
            <p:cNvPr id="363" name=""/>
            <p:cNvSpPr/>
            <p:nvPr/>
          </p:nvSpPr>
          <p:spPr>
            <a:xfrm>
              <a:off x="7391520" y="472284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Lexeme of type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0" lang="cs-CZ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86600" y="4952880"/>
              <a:ext cx="380880" cy="4572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1701720" y="3543480"/>
            <a:ext cx="5308560" cy="2019240"/>
            <a:chOff x="1701720" y="3543480"/>
            <a:chExt cx="5308560" cy="2019240"/>
          </a:xfrm>
        </p:grpSpPr>
        <p:sp>
          <p:nvSpPr>
            <p:cNvPr id="366" name=""/>
            <p:cNvSpPr/>
            <p:nvPr/>
          </p:nvSpPr>
          <p:spPr>
            <a:xfrm>
              <a:off x="6324480" y="48769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6095880" y="5410080"/>
              <a:ext cx="30492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095880" y="495324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019920" y="525780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400800" y="4953240"/>
              <a:ext cx="53352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114800" y="502920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038480" y="541044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14800" y="525780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955400" y="4723920"/>
              <a:ext cx="56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429000" y="48769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701720" y="3543480"/>
              <a:ext cx="1714680" cy="1587600"/>
            </a:xfrm>
            <a:custGeom>
              <a:avLst/>
              <a:gdLst/>
              <a:ahLst/>
              <a:rect l="l" t="t" r="r" b="b"/>
              <a:pathLst>
                <a:path w="1080" h="1000">
                  <a:moveTo>
                    <a:pt x="1080" y="1000"/>
                  </a:moveTo>
                  <a:cubicBezTo>
                    <a:pt x="999" y="968"/>
                    <a:pt x="772" y="975"/>
                    <a:pt x="592" y="808"/>
                  </a:cubicBezTo>
                  <a:cubicBezTo>
                    <a:pt x="412" y="641"/>
                    <a:pt x="123" y="168"/>
                    <a:pt x="0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1752480" y="1980360"/>
            <a:ext cx="5257800" cy="1296000"/>
            <a:chOff x="1752480" y="1980360"/>
            <a:chExt cx="5257800" cy="1296000"/>
          </a:xfrm>
        </p:grpSpPr>
        <p:sp>
          <p:nvSpPr>
            <p:cNvPr id="378" name=""/>
            <p:cNvSpPr/>
            <p:nvPr/>
          </p:nvSpPr>
          <p:spPr>
            <a:xfrm>
              <a:off x="6324480" y="21333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6095880" y="2666520"/>
              <a:ext cx="30492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095880" y="220968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019920" y="251424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400800" y="2209680"/>
              <a:ext cx="53352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4114800" y="228564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038480" y="266688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114800" y="251424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955400" y="1980360"/>
              <a:ext cx="56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429000" y="21333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752480" y="2230200"/>
              <a:ext cx="1689120" cy="1046160"/>
            </a:xfrm>
            <a:custGeom>
              <a:avLst/>
              <a:gdLst/>
              <a:ahLst/>
              <a:rect l="l" t="t" r="r" b="b"/>
              <a:pathLst>
                <a:path w="1064" h="659">
                  <a:moveTo>
                    <a:pt x="1064" y="67"/>
                  </a:moveTo>
                  <a:cubicBezTo>
                    <a:pt x="1004" y="74"/>
                    <a:pt x="881" y="0"/>
                    <a:pt x="704" y="99"/>
                  </a:cubicBezTo>
                  <a:cubicBezTo>
                    <a:pt x="527" y="198"/>
                    <a:pt x="147" y="542"/>
                    <a:pt x="0" y="65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4648320" y="5657040"/>
            <a:ext cx="4038480" cy="855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Every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final state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orresponds to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500" spc="-1" strike="noStrike">
                <a:solidFill>
                  <a:srgbClr val="000000"/>
                </a:solidFill>
                <a:latin typeface="Times New Roman"/>
              </a:rPr>
              <a:t>one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type of lexe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"/>
          <p:cNvGrpSpPr/>
          <p:nvPr/>
        </p:nvGrpSpPr>
        <p:grpSpPr>
          <a:xfrm>
            <a:off x="2579400" y="3657600"/>
            <a:ext cx="4175280" cy="2958120"/>
            <a:chOff x="2579400" y="3657600"/>
            <a:chExt cx="4175280" cy="2958120"/>
          </a:xfrm>
        </p:grpSpPr>
        <p:sp>
          <p:nvSpPr>
            <p:cNvPr id="392" name=""/>
            <p:cNvSpPr/>
            <p:nvPr/>
          </p:nvSpPr>
          <p:spPr>
            <a:xfrm>
              <a:off x="5334120" y="3657600"/>
              <a:ext cx="533160" cy="18288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579400" y="6095160"/>
              <a:ext cx="4175280" cy="52056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onvert thi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FA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o DFA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5333760" y="5410080"/>
              <a:ext cx="228600" cy="76212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FA for Lexemes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09480" y="1142280"/>
            <a:ext cx="784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ccep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se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xemes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962520" y="3429000"/>
            <a:ext cx="228600" cy="382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191120" y="3124080"/>
            <a:ext cx="53280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657600" y="2284920"/>
            <a:ext cx="160020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Space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Tab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lang="cs-CZ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EoLn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808080"/>
                </a:solidFill>
                <a:latin typeface="Times New Roman"/>
              </a:rPr>
              <a:t>..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4267080" y="5383800"/>
            <a:ext cx="38088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 rot="16200000">
            <a:off x="4002480" y="4379040"/>
            <a:ext cx="533160" cy="31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 rot="16200000">
            <a:off x="4408200" y="4408560"/>
            <a:ext cx="533160" cy="25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805560" y="441864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795920" y="449460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644000" y="5409000"/>
            <a:ext cx="8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  –</a:t>
            </a:r>
            <a:r>
              <a:rPr b="1" i="1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114800" y="36576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114800" y="4724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80808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542880" y="3428280"/>
            <a:ext cx="3571920" cy="1372320"/>
            <a:chOff x="542880" y="3428280"/>
            <a:chExt cx="3571920" cy="1372320"/>
          </a:xfrm>
        </p:grpSpPr>
        <p:sp>
          <p:nvSpPr>
            <p:cNvPr id="409" name=""/>
            <p:cNvSpPr/>
            <p:nvPr/>
          </p:nvSpPr>
          <p:spPr>
            <a:xfrm>
              <a:off x="542880" y="4266000"/>
              <a:ext cx="109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nteg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2140920" y="411480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2217600" y="41907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2827440" y="4038480"/>
              <a:ext cx="12873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2216880" y="358128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2910240" y="3732840"/>
              <a:ext cx="753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1538640" y="3428280"/>
              <a:ext cx="753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676520" y="434340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545040" y="2285280"/>
            <a:ext cx="3577320" cy="1600920"/>
            <a:chOff x="545040" y="2285280"/>
            <a:chExt cx="3577320" cy="1600920"/>
          </a:xfrm>
        </p:grpSpPr>
        <p:sp>
          <p:nvSpPr>
            <p:cNvPr id="418" name=""/>
            <p:cNvSpPr/>
            <p:nvPr/>
          </p:nvSpPr>
          <p:spPr>
            <a:xfrm>
              <a:off x="545040" y="2894400"/>
              <a:ext cx="138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entifi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2369520" y="28191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2446200" y="28954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 flipV="1">
              <a:off x="2979360" y="3352680"/>
              <a:ext cx="114300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2445480" y="228600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3124440" y="2971080"/>
              <a:ext cx="711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1066320" y="2285280"/>
              <a:ext cx="1379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,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905120" y="297180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612000" y="4191120"/>
            <a:ext cx="3579120" cy="1675800"/>
            <a:chOff x="612000" y="4191120"/>
            <a:chExt cx="3579120" cy="1675800"/>
          </a:xfrm>
        </p:grpSpPr>
        <p:sp>
          <p:nvSpPr>
            <p:cNvPr id="427" name=""/>
            <p:cNvSpPr/>
            <p:nvPr/>
          </p:nvSpPr>
          <p:spPr>
            <a:xfrm flipH="1">
              <a:off x="1675800" y="5181480"/>
              <a:ext cx="685800" cy="6854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1752480" y="52578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3124080" y="4191120"/>
              <a:ext cx="1067040" cy="114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3430440" y="4342320"/>
              <a:ext cx="30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2743200" y="52578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2362320" y="556236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2440080" y="50281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12000" y="5180760"/>
              <a:ext cx="523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143000" y="533376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4724280" y="2208960"/>
            <a:ext cx="2990160" cy="1524240"/>
            <a:chOff x="4724280" y="2208960"/>
            <a:chExt cx="2990160" cy="1524240"/>
          </a:xfrm>
        </p:grpSpPr>
        <p:sp>
          <p:nvSpPr>
            <p:cNvPr id="437" name=""/>
            <p:cNvSpPr/>
            <p:nvPr/>
          </p:nvSpPr>
          <p:spPr>
            <a:xfrm>
              <a:off x="6019920" y="22096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095880" y="22860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4724280" y="2742840"/>
              <a:ext cx="137160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36280" y="26661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6858000" y="2361960"/>
              <a:ext cx="38088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317360" y="22089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800600" y="3580560"/>
            <a:ext cx="3675960" cy="762840"/>
            <a:chOff x="4800600" y="3580560"/>
            <a:chExt cx="3675960" cy="762840"/>
          </a:xfrm>
        </p:grpSpPr>
        <p:sp>
          <p:nvSpPr>
            <p:cNvPr id="444" name=""/>
            <p:cNvSpPr/>
            <p:nvPr/>
          </p:nvSpPr>
          <p:spPr>
            <a:xfrm>
              <a:off x="4800600" y="4038480"/>
              <a:ext cx="2133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412240" y="35805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934320" y="365760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010280" y="37335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7695360" y="3809880"/>
              <a:ext cx="381240" cy="380880"/>
            </a:xfrm>
            <a:prstGeom prst="lef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079480" y="373284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4800600" y="4037760"/>
            <a:ext cx="3892680" cy="1143720"/>
            <a:chOff x="4800600" y="4037760"/>
            <a:chExt cx="3892680" cy="1143720"/>
          </a:xfrm>
        </p:grpSpPr>
        <p:sp>
          <p:nvSpPr>
            <p:cNvPr id="451" name=""/>
            <p:cNvSpPr/>
            <p:nvPr/>
          </p:nvSpPr>
          <p:spPr>
            <a:xfrm>
              <a:off x="4800600" y="4114800"/>
              <a:ext cx="114300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479280" y="42663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412240" y="40377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477120" y="48006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934320" y="44956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010280" y="45720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5943600" y="44956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7695360" y="4647960"/>
              <a:ext cx="38124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079840" y="4571280"/>
              <a:ext cx="613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4800600" y="4191120"/>
            <a:ext cx="3988440" cy="1904400"/>
            <a:chOff x="4800600" y="4191120"/>
            <a:chExt cx="3988440" cy="1904400"/>
          </a:xfrm>
        </p:grpSpPr>
        <p:sp>
          <p:nvSpPr>
            <p:cNvPr id="461" name=""/>
            <p:cNvSpPr/>
            <p:nvPr/>
          </p:nvSpPr>
          <p:spPr>
            <a:xfrm>
              <a:off x="6479280" y="52567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800600" y="4191120"/>
              <a:ext cx="1219320" cy="144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412240" y="45709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477120" y="57909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5410080"/>
              <a:ext cx="685800" cy="6854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010280" y="54864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>
              <a:off x="5943600" y="54864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079480" y="5485320"/>
              <a:ext cx="709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 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7695360" y="5562360"/>
              <a:ext cx="381240" cy="380880"/>
            </a:xfrm>
            <a:prstGeom prst="lef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4800600" y="2971080"/>
            <a:ext cx="2925720" cy="914760"/>
            <a:chOff x="4800600" y="2971080"/>
            <a:chExt cx="2925720" cy="914760"/>
          </a:xfrm>
        </p:grpSpPr>
        <p:sp>
          <p:nvSpPr>
            <p:cNvPr id="471" name=""/>
            <p:cNvSpPr/>
            <p:nvPr/>
          </p:nvSpPr>
          <p:spPr>
            <a:xfrm>
              <a:off x="5943600" y="30477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019920" y="31240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>
              <a:off x="4800600" y="3504600"/>
              <a:ext cx="11430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488200" y="30474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6858000" y="312408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317000" y="29710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1376280" y="1523160"/>
            <a:ext cx="1669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029040" y="1523160"/>
            <a:ext cx="133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0000"/>
                </a:solidFill>
                <a:latin typeface="Times New Roman"/>
              </a:rPr>
              <a:t>intege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345200" y="1523160"/>
            <a:ext cx="6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:=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878720" y="1523160"/>
            <a:ext cx="49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258880" y="1523160"/>
            <a:ext cx="46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640480" y="1523160"/>
            <a:ext cx="49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22080" y="1523160"/>
            <a:ext cx="7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631560" y="1523160"/>
            <a:ext cx="7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 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FAs for Lexemes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33520" y="1065960"/>
            <a:ext cx="8305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quivalent DF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542880" y="3428280"/>
            <a:ext cx="3571920" cy="1372320"/>
            <a:chOff x="542880" y="3428280"/>
            <a:chExt cx="3571920" cy="1372320"/>
          </a:xfrm>
        </p:grpSpPr>
        <p:sp>
          <p:nvSpPr>
            <p:cNvPr id="489" name=""/>
            <p:cNvSpPr/>
            <p:nvPr/>
          </p:nvSpPr>
          <p:spPr>
            <a:xfrm>
              <a:off x="542880" y="4266000"/>
              <a:ext cx="109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nteg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>
              <a:off x="2140920" y="411480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2217600" y="41907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>
              <a:off x="2827440" y="4038480"/>
              <a:ext cx="12873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2216880" y="358128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2910240" y="3732840"/>
              <a:ext cx="753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>
              <a:off x="1538640" y="3428280"/>
              <a:ext cx="753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676520" y="434340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549720" y="2285280"/>
            <a:ext cx="3572640" cy="1600920"/>
            <a:chOff x="549720" y="2285280"/>
            <a:chExt cx="3572640" cy="1600920"/>
          </a:xfrm>
        </p:grpSpPr>
        <p:sp>
          <p:nvSpPr>
            <p:cNvPr id="498" name=""/>
            <p:cNvSpPr/>
            <p:nvPr/>
          </p:nvSpPr>
          <p:spPr>
            <a:xfrm>
              <a:off x="549720" y="2894400"/>
              <a:ext cx="138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entifi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2369520" y="28191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2446200" y="28954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 flipV="1">
              <a:off x="2979360" y="3352680"/>
              <a:ext cx="114300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2445480" y="228600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3124440" y="2971080"/>
              <a:ext cx="711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>
              <a:off x="1066320" y="2285280"/>
              <a:ext cx="1379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,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905120" y="297180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612000" y="4191120"/>
            <a:ext cx="3579120" cy="1675800"/>
            <a:chOff x="612000" y="4191120"/>
            <a:chExt cx="3579120" cy="1675800"/>
          </a:xfrm>
        </p:grpSpPr>
        <p:sp>
          <p:nvSpPr>
            <p:cNvPr id="507" name=""/>
            <p:cNvSpPr/>
            <p:nvPr/>
          </p:nvSpPr>
          <p:spPr>
            <a:xfrm flipH="1">
              <a:off x="1675800" y="5181480"/>
              <a:ext cx="685800" cy="6854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1752480" y="52578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3124080" y="4191120"/>
              <a:ext cx="1067040" cy="114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>
              <a:off x="3430440" y="4342320"/>
              <a:ext cx="30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>
              <a:off x="2743200" y="52578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2362320" y="556236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>
              <a:off x="2440080" y="50281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12000" y="5180760"/>
              <a:ext cx="523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143000" y="533376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724280" y="2208960"/>
            <a:ext cx="2990160" cy="1524240"/>
            <a:chOff x="4724280" y="2208960"/>
            <a:chExt cx="2990160" cy="1524240"/>
          </a:xfrm>
        </p:grpSpPr>
        <p:sp>
          <p:nvSpPr>
            <p:cNvPr id="517" name=""/>
            <p:cNvSpPr/>
            <p:nvPr/>
          </p:nvSpPr>
          <p:spPr>
            <a:xfrm>
              <a:off x="6019920" y="22096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095880" y="22860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>
              <a:off x="4724280" y="2742840"/>
              <a:ext cx="137160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336280" y="26661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>
              <a:off x="6858000" y="2361960"/>
              <a:ext cx="38088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317360" y="22089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4800600" y="3580560"/>
            <a:ext cx="3675960" cy="762840"/>
            <a:chOff x="4800600" y="3580560"/>
            <a:chExt cx="3675960" cy="762840"/>
          </a:xfrm>
        </p:grpSpPr>
        <p:sp>
          <p:nvSpPr>
            <p:cNvPr id="524" name=""/>
            <p:cNvSpPr/>
            <p:nvPr/>
          </p:nvSpPr>
          <p:spPr>
            <a:xfrm>
              <a:off x="4800600" y="4038480"/>
              <a:ext cx="2133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412240" y="35805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934320" y="365760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010280" y="37335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7695360" y="3809880"/>
              <a:ext cx="381240" cy="380880"/>
            </a:xfrm>
            <a:prstGeom prst="lef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079480" y="373284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5943600" y="4114080"/>
            <a:ext cx="1066320" cy="2227320"/>
            <a:chOff x="5943600" y="4114080"/>
            <a:chExt cx="1066320" cy="2227320"/>
          </a:xfrm>
        </p:grpSpPr>
        <p:sp>
          <p:nvSpPr>
            <p:cNvPr id="531" name=""/>
            <p:cNvSpPr/>
            <p:nvPr/>
          </p:nvSpPr>
          <p:spPr>
            <a:xfrm>
              <a:off x="6402960" y="411408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943600" y="47242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019920" y="48006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H="1" rot="5400000">
              <a:off x="6095160" y="5486040"/>
              <a:ext cx="38088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946480" y="5790600"/>
              <a:ext cx="613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6476760" y="4191120"/>
              <a:ext cx="53316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6934320" y="4266360"/>
            <a:ext cx="780120" cy="2075040"/>
            <a:chOff x="6934320" y="4266360"/>
            <a:chExt cx="780120" cy="2075040"/>
          </a:xfrm>
        </p:grpSpPr>
        <p:sp>
          <p:nvSpPr>
            <p:cNvPr id="538" name=""/>
            <p:cNvSpPr/>
            <p:nvPr/>
          </p:nvSpPr>
          <p:spPr>
            <a:xfrm>
              <a:off x="7315200" y="43434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317360" y="42663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934320" y="47242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010280" y="48006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936480" y="5790600"/>
              <a:ext cx="709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 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 rot="5400000">
              <a:off x="7086600" y="548640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4800600" y="2971080"/>
            <a:ext cx="2925720" cy="914760"/>
            <a:chOff x="4800600" y="2971080"/>
            <a:chExt cx="2925720" cy="914760"/>
          </a:xfrm>
        </p:grpSpPr>
        <p:sp>
          <p:nvSpPr>
            <p:cNvPr id="545" name=""/>
            <p:cNvSpPr/>
            <p:nvPr/>
          </p:nvSpPr>
          <p:spPr>
            <a:xfrm>
              <a:off x="5943600" y="30477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019920" y="31240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4800600" y="3504600"/>
              <a:ext cx="11430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488200" y="30474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H="1">
              <a:off x="6858000" y="312408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317000" y="29710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1376280" y="1523160"/>
            <a:ext cx="1669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029040" y="1523160"/>
            <a:ext cx="133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0000"/>
                </a:solidFill>
                <a:latin typeface="Times New Roman"/>
              </a:rPr>
              <a:t>intege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345200" y="1523160"/>
            <a:ext cx="6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:=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878720" y="1523160"/>
            <a:ext cx="49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258880" y="1523160"/>
            <a:ext cx="46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640480" y="1523160"/>
            <a:ext cx="49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022080" y="1523160"/>
            <a:ext cx="7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631560" y="1523160"/>
            <a:ext cx="7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 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962520" y="3429000"/>
            <a:ext cx="228600" cy="382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191120" y="3124080"/>
            <a:ext cx="53280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657600" y="2284920"/>
            <a:ext cx="160020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Space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Tab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lang="cs-CZ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EoLn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808080"/>
                </a:solidFill>
                <a:latin typeface="Times New Roman"/>
              </a:rPr>
              <a:t>..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4267080" y="5383800"/>
            <a:ext cx="38088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H="1" rot="16200000">
            <a:off x="4002480" y="4379040"/>
            <a:ext cx="533160" cy="31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 rot="16200000">
            <a:off x="4408200" y="4408560"/>
            <a:ext cx="533160" cy="25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805560" y="441864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795920" y="449460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644000" y="5409000"/>
            <a:ext cx="8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  –</a:t>
            </a:r>
            <a:r>
              <a:rPr b="1" i="1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114800" y="36576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114800" y="4724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80808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609480" y="1143000"/>
            <a:ext cx="83059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DF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r the source-program lexem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Output: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determination of the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lexeme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85800" y="2133720"/>
            <a:ext cx="8153280" cy="445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xt symbo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character)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make a move with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ad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ak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ov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i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inal state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determine th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correspondin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lexeme typ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ls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 the lexical error (write message et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ype of Lexe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"/>
          <p:cNvGrpSpPr/>
          <p:nvPr/>
        </p:nvGrpSpPr>
        <p:grpSpPr>
          <a:xfrm>
            <a:off x="1143000" y="5562000"/>
            <a:ext cx="838080" cy="838800"/>
            <a:chOff x="1143000" y="5562000"/>
            <a:chExt cx="838080" cy="838800"/>
          </a:xfrm>
        </p:grpSpPr>
        <p:sp>
          <p:nvSpPr>
            <p:cNvPr id="577" name=""/>
            <p:cNvSpPr/>
            <p:nvPr/>
          </p:nvSpPr>
          <p:spPr>
            <a:xfrm>
              <a:off x="1143000" y="5638680"/>
              <a:ext cx="838080" cy="762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219320" y="6019920"/>
              <a:ext cx="6858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296720" y="556200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0" name=""/>
          <p:cNvSpPr/>
          <p:nvPr/>
        </p:nvSpPr>
        <p:spPr>
          <a:xfrm>
            <a:off x="3429000" y="51055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800600" y="51055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371600" y="51055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828800" y="51055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ype of Lexem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71480" y="327564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2369520" y="31240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244620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>
            <a:off x="3056040" y="3048120"/>
            <a:ext cx="128736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2445480" y="259092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3138840" y="274248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767240" y="243756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905120" y="3352680"/>
            <a:ext cx="380880" cy="3812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78320" y="1904040"/>
            <a:ext cx="13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2598120" y="18288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H="1">
            <a:off x="2674800" y="19051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 flipV="1">
            <a:off x="3207960" y="2361960"/>
            <a:ext cx="114300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2674080" y="12952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3353040" y="1980360"/>
            <a:ext cx="71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1294920" y="1294560"/>
            <a:ext cx="137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133720" y="1981080"/>
            <a:ext cx="380880" cy="3812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1904400" y="419112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1981080" y="4267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3352680" y="3200400"/>
            <a:ext cx="106704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3659040" y="3351960"/>
            <a:ext cx="30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2971800" y="4267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2590920" y="45720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2668680" y="403776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840600" y="4190400"/>
            <a:ext cx="523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434340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248520" y="121932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324480" y="12952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V="1">
            <a:off x="4952880" y="1752480"/>
            <a:ext cx="137160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564880" y="16758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7086600" y="137160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7545960" y="12186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029200" y="304812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640840" y="25902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162920" y="26668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238880" y="2743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7923960" y="2819520"/>
            <a:ext cx="381240" cy="380880"/>
          </a:xfrm>
          <a:prstGeom prst="leftArrow">
            <a:avLst>
              <a:gd name="adj1" fmla="val 50000"/>
              <a:gd name="adj2" fmla="val 2502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8308080" y="274248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631560" y="312336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172200" y="373392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248520" y="38098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H="1" rot="5400000">
            <a:off x="6323760" y="4495320"/>
            <a:ext cx="381240" cy="3812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175080" y="4799880"/>
            <a:ext cx="613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6705360" y="3200400"/>
            <a:ext cx="53316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543800" y="33526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545960" y="32760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162920" y="373392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238880" y="3809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165080" y="4799880"/>
            <a:ext cx="7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 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H="1" rot="5400000">
            <a:off x="7314840" y="4495320"/>
            <a:ext cx="381240" cy="380880"/>
          </a:xfrm>
          <a:prstGeom prst="leftArrow">
            <a:avLst>
              <a:gd name="adj1" fmla="val 50000"/>
              <a:gd name="adj2" fmla="val 2502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172200" y="20574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248520" y="21337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5029200" y="2514600"/>
            <a:ext cx="11430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716800" y="205704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7086600" y="213372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545600" y="1980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1372680" y="5105520"/>
            <a:ext cx="1141920" cy="1357920"/>
            <a:chOff x="1372680" y="5105520"/>
            <a:chExt cx="1141920" cy="1357920"/>
          </a:xfrm>
        </p:grpSpPr>
        <p:sp>
          <p:nvSpPr>
            <p:cNvPr id="641" name=""/>
            <p:cNvSpPr/>
            <p:nvPr/>
          </p:nvSpPr>
          <p:spPr>
            <a:xfrm>
              <a:off x="22860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37268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1601280" y="5105520"/>
            <a:ext cx="1141920" cy="1357920"/>
            <a:chOff x="1601280" y="5105520"/>
            <a:chExt cx="1141920" cy="1357920"/>
          </a:xfrm>
        </p:grpSpPr>
        <p:sp>
          <p:nvSpPr>
            <p:cNvPr id="644" name=""/>
            <p:cNvSpPr/>
            <p:nvPr/>
          </p:nvSpPr>
          <p:spPr>
            <a:xfrm>
              <a:off x="25146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60128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2743200" y="51055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133720" y="5638680"/>
            <a:ext cx="2590560" cy="9471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next configura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075320" y="2208960"/>
            <a:ext cx="76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=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840240" y="3580560"/>
            <a:ext cx="88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= 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191120" y="2438280"/>
            <a:ext cx="228600" cy="382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419720" y="2133720"/>
            <a:ext cx="53280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886200" y="1294200"/>
            <a:ext cx="160020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Space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Tab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lang="cs-CZ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EoLn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808080"/>
                </a:solidFill>
                <a:latin typeface="Times New Roman"/>
              </a:rPr>
              <a:t>..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4495680" y="4393800"/>
            <a:ext cx="38088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H="1" rot="16200000">
            <a:off x="4231080" y="3387600"/>
            <a:ext cx="532800" cy="31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V="1" rot="16200000">
            <a:off x="4636800" y="3417840"/>
            <a:ext cx="532800" cy="25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040280" y="342792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024520" y="350424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872600" y="4418640"/>
            <a:ext cx="8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  –</a:t>
            </a:r>
            <a:r>
              <a:rPr b="1" i="1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343400" y="37339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80808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343400" y="2666880"/>
            <a:ext cx="685800" cy="685800"/>
          </a:xfrm>
          <a:prstGeom prst="ellipse">
            <a:avLst/>
          </a:prstGeom>
          <a:solidFill>
            <a:srgbClr val="00cc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1143000" y="2666880"/>
            <a:ext cx="3886200" cy="2819520"/>
            <a:chOff x="1143000" y="2666880"/>
            <a:chExt cx="3886200" cy="2819520"/>
          </a:xfrm>
        </p:grpSpPr>
        <p:sp>
          <p:nvSpPr>
            <p:cNvPr id="662" name=""/>
            <p:cNvSpPr/>
            <p:nvPr/>
          </p:nvSpPr>
          <p:spPr>
            <a:xfrm>
              <a:off x="11430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343400" y="37339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1600200" y="2666880"/>
            <a:ext cx="3429000" cy="2819520"/>
            <a:chOff x="1600200" y="2666880"/>
            <a:chExt cx="3429000" cy="2819520"/>
          </a:xfrm>
        </p:grpSpPr>
        <p:sp>
          <p:nvSpPr>
            <p:cNvPr id="666" name=""/>
            <p:cNvSpPr/>
            <p:nvPr/>
          </p:nvSpPr>
          <p:spPr>
            <a:xfrm>
              <a:off x="16002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343400" y="37339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808080"/>
                  </a:solidFill>
                  <a:latin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1144080" y="1828800"/>
            <a:ext cx="3885120" cy="4634640"/>
            <a:chOff x="1144080" y="1828800"/>
            <a:chExt cx="3885120" cy="4634640"/>
          </a:xfrm>
        </p:grpSpPr>
        <p:sp>
          <p:nvSpPr>
            <p:cNvPr id="670" name=""/>
            <p:cNvSpPr/>
            <p:nvPr/>
          </p:nvSpPr>
          <p:spPr>
            <a:xfrm>
              <a:off x="20574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14408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2" name=""/>
            <p:cNvGrpSpPr/>
            <p:nvPr/>
          </p:nvGrpSpPr>
          <p:grpSpPr>
            <a:xfrm>
              <a:off x="2590560" y="1828800"/>
              <a:ext cx="685800" cy="685800"/>
              <a:chOff x="2590560" y="1828800"/>
              <a:chExt cx="685800" cy="685800"/>
            </a:xfrm>
          </p:grpSpPr>
          <p:sp>
            <p:nvSpPr>
              <p:cNvPr id="673" name=""/>
              <p:cNvSpPr/>
              <p:nvPr/>
            </p:nvSpPr>
            <p:spPr>
              <a:xfrm flipH="1">
                <a:off x="2590200" y="18288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H="1">
                <a:off x="2666520" y="1905120"/>
                <a:ext cx="533160" cy="533160"/>
              </a:xfrm>
              <a:prstGeom prst="ellipse">
                <a:avLst/>
              </a:prstGeom>
              <a:solidFill>
                <a:srgbClr val="00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5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2057400" y="1828800"/>
            <a:ext cx="2971800" cy="4876920"/>
            <a:chOff x="2057400" y="1828800"/>
            <a:chExt cx="2971800" cy="4876920"/>
          </a:xfrm>
        </p:grpSpPr>
        <p:grpSp>
          <p:nvGrpSpPr>
            <p:cNvPr id="677" name=""/>
            <p:cNvGrpSpPr/>
            <p:nvPr/>
          </p:nvGrpSpPr>
          <p:grpSpPr>
            <a:xfrm>
              <a:off x="2590560" y="1828800"/>
              <a:ext cx="685800" cy="685800"/>
              <a:chOff x="2590560" y="1828800"/>
              <a:chExt cx="685800" cy="685800"/>
            </a:xfrm>
          </p:grpSpPr>
          <p:sp>
            <p:nvSpPr>
              <p:cNvPr id="678" name=""/>
              <p:cNvSpPr/>
              <p:nvPr/>
            </p:nvSpPr>
            <p:spPr>
              <a:xfrm flipH="1">
                <a:off x="2590200" y="18288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flipH="1">
                <a:off x="2667240" y="1905120"/>
                <a:ext cx="533520" cy="53352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0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057400" y="5562720"/>
              <a:ext cx="274320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2743200" y="51055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819520" y="5638680"/>
            <a:ext cx="2590560" cy="9471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next configura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2058480" y="2666880"/>
            <a:ext cx="2970720" cy="3796560"/>
            <a:chOff x="2058480" y="2666880"/>
            <a:chExt cx="2970720" cy="3796560"/>
          </a:xfrm>
        </p:grpSpPr>
        <p:sp>
          <p:nvSpPr>
            <p:cNvPr id="685" name=""/>
            <p:cNvSpPr/>
            <p:nvPr/>
          </p:nvSpPr>
          <p:spPr>
            <a:xfrm>
              <a:off x="205848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9718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H="1">
              <a:off x="2971800" y="42670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9" name=""/>
          <p:cNvGrpSpPr/>
          <p:nvPr/>
        </p:nvGrpSpPr>
        <p:grpSpPr>
          <a:xfrm>
            <a:off x="1904760" y="4191120"/>
            <a:ext cx="1600560" cy="2272320"/>
            <a:chOff x="1904760" y="4191120"/>
            <a:chExt cx="1600560" cy="2272320"/>
          </a:xfrm>
        </p:grpSpPr>
        <p:sp>
          <p:nvSpPr>
            <p:cNvPr id="690" name=""/>
            <p:cNvSpPr/>
            <p:nvPr/>
          </p:nvSpPr>
          <p:spPr>
            <a:xfrm>
              <a:off x="228708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2004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2" name=""/>
            <p:cNvGrpSpPr/>
            <p:nvPr/>
          </p:nvGrpSpPr>
          <p:grpSpPr>
            <a:xfrm>
              <a:off x="1904760" y="4191120"/>
              <a:ext cx="685800" cy="685800"/>
              <a:chOff x="1904760" y="4191120"/>
              <a:chExt cx="685800" cy="685800"/>
            </a:xfrm>
          </p:grpSpPr>
          <p:sp>
            <p:nvSpPr>
              <p:cNvPr id="693" name=""/>
              <p:cNvSpPr/>
              <p:nvPr/>
            </p:nvSpPr>
            <p:spPr>
              <a:xfrm flipH="1">
                <a:off x="1904400" y="419112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H="1">
                <a:off x="1981440" y="4267080"/>
                <a:ext cx="533520" cy="533520"/>
              </a:xfrm>
              <a:prstGeom prst="ellipse">
                <a:avLst/>
              </a:prstGeom>
              <a:solidFill>
                <a:srgbClr val="00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5" name=""/>
            <p:cNvSpPr/>
            <p:nvPr/>
          </p:nvSpPr>
          <p:spPr>
            <a:xfrm flipH="1">
              <a:off x="2971800" y="42670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2133720" y="5562000"/>
            <a:ext cx="533160" cy="838800"/>
            <a:chOff x="2133720" y="5562000"/>
            <a:chExt cx="533160" cy="838800"/>
          </a:xfrm>
        </p:grpSpPr>
        <p:sp>
          <p:nvSpPr>
            <p:cNvPr id="697" name=""/>
            <p:cNvSpPr/>
            <p:nvPr/>
          </p:nvSpPr>
          <p:spPr>
            <a:xfrm>
              <a:off x="2133720" y="5638680"/>
              <a:ext cx="533160" cy="762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209680" y="6019920"/>
              <a:ext cx="3812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135520" y="5562000"/>
              <a:ext cx="502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0" name=""/>
          <p:cNvSpPr/>
          <p:nvPr/>
        </p:nvSpPr>
        <p:spPr>
          <a:xfrm>
            <a:off x="3429000" y="51055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1904760" y="2666880"/>
            <a:ext cx="3581640" cy="4038840"/>
            <a:chOff x="1904760" y="2666880"/>
            <a:chExt cx="3581640" cy="4038840"/>
          </a:xfrm>
        </p:grpSpPr>
        <p:sp>
          <p:nvSpPr>
            <p:cNvPr id="702" name=""/>
            <p:cNvSpPr/>
            <p:nvPr/>
          </p:nvSpPr>
          <p:spPr>
            <a:xfrm>
              <a:off x="2743200" y="5562720"/>
              <a:ext cx="274320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3" name=""/>
            <p:cNvGrpSpPr/>
            <p:nvPr/>
          </p:nvGrpSpPr>
          <p:grpSpPr>
            <a:xfrm>
              <a:off x="1904760" y="4191120"/>
              <a:ext cx="685800" cy="685800"/>
              <a:chOff x="1904760" y="4191120"/>
              <a:chExt cx="685800" cy="685800"/>
            </a:xfrm>
          </p:grpSpPr>
          <p:sp>
            <p:nvSpPr>
              <p:cNvPr id="704" name=""/>
              <p:cNvSpPr/>
              <p:nvPr/>
            </p:nvSpPr>
            <p:spPr>
              <a:xfrm flipH="1">
                <a:off x="1904400" y="419112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H="1">
                <a:off x="1981080" y="4267440"/>
                <a:ext cx="533520" cy="53316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6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7" name=""/>
          <p:cNvGrpSpPr/>
          <p:nvPr/>
        </p:nvGrpSpPr>
        <p:grpSpPr>
          <a:xfrm>
            <a:off x="2819520" y="5562000"/>
            <a:ext cx="1066680" cy="838800"/>
            <a:chOff x="2819520" y="5562000"/>
            <a:chExt cx="1066680" cy="838800"/>
          </a:xfrm>
        </p:grpSpPr>
        <p:sp>
          <p:nvSpPr>
            <p:cNvPr id="708" name=""/>
            <p:cNvSpPr/>
            <p:nvPr/>
          </p:nvSpPr>
          <p:spPr>
            <a:xfrm>
              <a:off x="2819520" y="5638680"/>
              <a:ext cx="1066680" cy="762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125520" y="556200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895480" y="60199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2590560" y="1828800"/>
            <a:ext cx="2438640" cy="4634640"/>
            <a:chOff x="2590560" y="1828800"/>
            <a:chExt cx="2438640" cy="4634640"/>
          </a:xfrm>
        </p:grpSpPr>
        <p:sp>
          <p:nvSpPr>
            <p:cNvPr id="712" name=""/>
            <p:cNvSpPr/>
            <p:nvPr/>
          </p:nvSpPr>
          <p:spPr>
            <a:xfrm>
              <a:off x="36576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206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5" name=""/>
            <p:cNvGrpSpPr/>
            <p:nvPr/>
          </p:nvGrpSpPr>
          <p:grpSpPr>
            <a:xfrm>
              <a:off x="2590560" y="1828800"/>
              <a:ext cx="685800" cy="685800"/>
              <a:chOff x="2590560" y="1828800"/>
              <a:chExt cx="685800" cy="685800"/>
            </a:xfrm>
          </p:grpSpPr>
          <p:sp>
            <p:nvSpPr>
              <p:cNvPr id="716" name=""/>
              <p:cNvSpPr/>
              <p:nvPr/>
            </p:nvSpPr>
            <p:spPr>
              <a:xfrm flipH="1">
                <a:off x="2590200" y="18288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H="1">
                <a:off x="2666520" y="1905120"/>
                <a:ext cx="533160" cy="533160"/>
              </a:xfrm>
              <a:prstGeom prst="ellipse">
                <a:avLst/>
              </a:prstGeom>
              <a:solidFill>
                <a:srgbClr val="00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8" name=""/>
          <p:cNvSpPr/>
          <p:nvPr/>
        </p:nvSpPr>
        <p:spPr>
          <a:xfrm>
            <a:off x="4572000" y="51055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3049200" y="5105520"/>
            <a:ext cx="1065600" cy="1357920"/>
            <a:chOff x="3049200" y="5105520"/>
            <a:chExt cx="1065600" cy="1357920"/>
          </a:xfrm>
        </p:grpSpPr>
        <p:sp>
          <p:nvSpPr>
            <p:cNvPr id="720" name=""/>
            <p:cNvSpPr/>
            <p:nvPr/>
          </p:nvSpPr>
          <p:spPr>
            <a:xfrm>
              <a:off x="38862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0492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"/>
          <p:cNvGrpSpPr/>
          <p:nvPr/>
        </p:nvGrpSpPr>
        <p:grpSpPr>
          <a:xfrm>
            <a:off x="3277800" y="5105520"/>
            <a:ext cx="1065600" cy="1357920"/>
            <a:chOff x="3277800" y="5105520"/>
            <a:chExt cx="1065600" cy="1357920"/>
          </a:xfrm>
        </p:grpSpPr>
        <p:sp>
          <p:nvSpPr>
            <p:cNvPr id="723" name=""/>
            <p:cNvSpPr/>
            <p:nvPr/>
          </p:nvSpPr>
          <p:spPr>
            <a:xfrm>
              <a:off x="41148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2778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5" name=""/>
          <p:cNvGrpSpPr/>
          <p:nvPr/>
        </p:nvGrpSpPr>
        <p:grpSpPr>
          <a:xfrm>
            <a:off x="3506400" y="5105520"/>
            <a:ext cx="1065600" cy="1357920"/>
            <a:chOff x="3506400" y="5105520"/>
            <a:chExt cx="1065600" cy="1357920"/>
          </a:xfrm>
        </p:grpSpPr>
        <p:sp>
          <p:nvSpPr>
            <p:cNvPr id="726" name=""/>
            <p:cNvSpPr/>
            <p:nvPr/>
          </p:nvSpPr>
          <p:spPr>
            <a:xfrm>
              <a:off x="43434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5064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8" name=""/>
          <p:cNvSpPr/>
          <p:nvPr/>
        </p:nvSpPr>
        <p:spPr>
          <a:xfrm>
            <a:off x="4038480" y="5638680"/>
            <a:ext cx="2590920" cy="9471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next configura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2590560" y="1828800"/>
            <a:ext cx="4115160" cy="4876920"/>
            <a:chOff x="2590560" y="1828800"/>
            <a:chExt cx="4115160" cy="4876920"/>
          </a:xfrm>
        </p:grpSpPr>
        <p:sp>
          <p:nvSpPr>
            <p:cNvPr id="730" name=""/>
            <p:cNvSpPr/>
            <p:nvPr/>
          </p:nvSpPr>
          <p:spPr>
            <a:xfrm>
              <a:off x="3962520" y="5562720"/>
              <a:ext cx="274320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2" name=""/>
            <p:cNvGrpSpPr/>
            <p:nvPr/>
          </p:nvGrpSpPr>
          <p:grpSpPr>
            <a:xfrm>
              <a:off x="2590560" y="1828800"/>
              <a:ext cx="685800" cy="685800"/>
              <a:chOff x="2590560" y="1828800"/>
              <a:chExt cx="685800" cy="685800"/>
            </a:xfrm>
          </p:grpSpPr>
          <p:sp>
            <p:nvSpPr>
              <p:cNvPr id="733" name=""/>
              <p:cNvSpPr/>
              <p:nvPr/>
            </p:nvSpPr>
            <p:spPr>
              <a:xfrm flipH="1">
                <a:off x="2590200" y="18288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H="1">
                <a:off x="2667240" y="1905120"/>
                <a:ext cx="533520" cy="53352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35" name=""/>
          <p:cNvGrpSpPr/>
          <p:nvPr/>
        </p:nvGrpSpPr>
        <p:grpSpPr>
          <a:xfrm>
            <a:off x="4039920" y="2057400"/>
            <a:ext cx="2818080" cy="4406040"/>
            <a:chOff x="4039920" y="2057400"/>
            <a:chExt cx="2818080" cy="4406040"/>
          </a:xfrm>
        </p:grpSpPr>
        <p:grpSp>
          <p:nvGrpSpPr>
            <p:cNvPr id="736" name=""/>
            <p:cNvGrpSpPr/>
            <p:nvPr/>
          </p:nvGrpSpPr>
          <p:grpSpPr>
            <a:xfrm>
              <a:off x="6172200" y="2057400"/>
              <a:ext cx="685800" cy="685800"/>
              <a:chOff x="6172200" y="2057400"/>
              <a:chExt cx="685800" cy="685800"/>
            </a:xfrm>
          </p:grpSpPr>
          <p:sp>
            <p:nvSpPr>
              <p:cNvPr id="737" name=""/>
              <p:cNvSpPr/>
              <p:nvPr/>
            </p:nvSpPr>
            <p:spPr>
              <a:xfrm>
                <a:off x="6172200" y="20574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6248520" y="2133360"/>
                <a:ext cx="533520" cy="533520"/>
              </a:xfrm>
              <a:prstGeom prst="ellipse">
                <a:avLst/>
              </a:prstGeom>
              <a:solidFill>
                <a:srgbClr val="00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9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5720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03992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2" name=""/>
          <p:cNvGrpSpPr/>
          <p:nvPr/>
        </p:nvGrpSpPr>
        <p:grpSpPr>
          <a:xfrm>
            <a:off x="4038480" y="5637960"/>
            <a:ext cx="381240" cy="762840"/>
            <a:chOff x="4038480" y="5637960"/>
            <a:chExt cx="381240" cy="762840"/>
          </a:xfrm>
        </p:grpSpPr>
        <p:sp>
          <p:nvSpPr>
            <p:cNvPr id="743" name=""/>
            <p:cNvSpPr/>
            <p:nvPr/>
          </p:nvSpPr>
          <p:spPr>
            <a:xfrm>
              <a:off x="4038480" y="5638680"/>
              <a:ext cx="381240" cy="762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114800" y="6019920"/>
              <a:ext cx="2286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039920" y="56379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6" name=""/>
          <p:cNvSpPr/>
          <p:nvPr/>
        </p:nvSpPr>
        <p:spPr>
          <a:xfrm>
            <a:off x="4572000" y="5638680"/>
            <a:ext cx="2590920" cy="9471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next configura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4343400" y="2057400"/>
            <a:ext cx="2895480" cy="4648320"/>
            <a:chOff x="4343400" y="2057400"/>
            <a:chExt cx="2895480" cy="4648320"/>
          </a:xfrm>
        </p:grpSpPr>
        <p:sp>
          <p:nvSpPr>
            <p:cNvPr id="748" name=""/>
            <p:cNvSpPr/>
            <p:nvPr/>
          </p:nvSpPr>
          <p:spPr>
            <a:xfrm>
              <a:off x="4495680" y="5562720"/>
              <a:ext cx="274320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9" name=""/>
            <p:cNvGrpSpPr/>
            <p:nvPr/>
          </p:nvGrpSpPr>
          <p:grpSpPr>
            <a:xfrm>
              <a:off x="6172200" y="2057400"/>
              <a:ext cx="685800" cy="685800"/>
              <a:chOff x="6172200" y="2057400"/>
              <a:chExt cx="685800" cy="685800"/>
            </a:xfrm>
          </p:grpSpPr>
          <p:sp>
            <p:nvSpPr>
              <p:cNvPr id="750" name=""/>
              <p:cNvSpPr/>
              <p:nvPr/>
            </p:nvSpPr>
            <p:spPr>
              <a:xfrm>
                <a:off x="6172200" y="20574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6248160" y="2133720"/>
                <a:ext cx="533520" cy="53316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2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4572000" y="5562000"/>
            <a:ext cx="762120" cy="838800"/>
            <a:chOff x="4572000" y="5562000"/>
            <a:chExt cx="762120" cy="838800"/>
          </a:xfrm>
        </p:grpSpPr>
        <p:sp>
          <p:nvSpPr>
            <p:cNvPr id="754" name=""/>
            <p:cNvSpPr/>
            <p:nvPr/>
          </p:nvSpPr>
          <p:spPr>
            <a:xfrm>
              <a:off x="4572000" y="5638680"/>
              <a:ext cx="762120" cy="762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648320" y="6019920"/>
              <a:ext cx="6094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649760" y="5562000"/>
              <a:ext cx="59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7" name=""/>
          <p:cNvGrpSpPr/>
          <p:nvPr/>
        </p:nvGrpSpPr>
        <p:grpSpPr>
          <a:xfrm>
            <a:off x="4878000" y="5105520"/>
            <a:ext cx="394200" cy="1357920"/>
            <a:chOff x="4878000" y="5105520"/>
            <a:chExt cx="394200" cy="1357920"/>
          </a:xfrm>
        </p:grpSpPr>
        <p:sp>
          <p:nvSpPr>
            <p:cNvPr id="758" name=""/>
            <p:cNvSpPr/>
            <p:nvPr/>
          </p:nvSpPr>
          <p:spPr>
            <a:xfrm>
              <a:off x="50292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8780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0" name=""/>
          <p:cNvGrpSpPr/>
          <p:nvPr/>
        </p:nvGrpSpPr>
        <p:grpSpPr>
          <a:xfrm>
            <a:off x="2361960" y="2666880"/>
            <a:ext cx="2681640" cy="3796560"/>
            <a:chOff x="2361960" y="2666880"/>
            <a:chExt cx="2681640" cy="3796560"/>
          </a:xfrm>
        </p:grpSpPr>
        <p:sp>
          <p:nvSpPr>
            <p:cNvPr id="761" name=""/>
            <p:cNvSpPr/>
            <p:nvPr/>
          </p:nvSpPr>
          <p:spPr>
            <a:xfrm>
              <a:off x="48006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2" name=""/>
            <p:cNvGrpSpPr/>
            <p:nvPr/>
          </p:nvGrpSpPr>
          <p:grpSpPr>
            <a:xfrm>
              <a:off x="2361960" y="3124080"/>
              <a:ext cx="685800" cy="685800"/>
              <a:chOff x="2361960" y="3124080"/>
              <a:chExt cx="685800" cy="685800"/>
            </a:xfrm>
          </p:grpSpPr>
          <p:sp>
            <p:nvSpPr>
              <p:cNvPr id="763" name=""/>
              <p:cNvSpPr/>
              <p:nvPr/>
            </p:nvSpPr>
            <p:spPr>
              <a:xfrm flipH="1">
                <a:off x="2361600" y="312408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H="1">
                <a:off x="2438280" y="3200400"/>
                <a:ext cx="533520" cy="533160"/>
              </a:xfrm>
              <a:prstGeom prst="ellipse">
                <a:avLst/>
              </a:prstGeom>
              <a:solidFill>
                <a:srgbClr val="00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5" name=""/>
            <p:cNvSpPr/>
            <p:nvPr/>
          </p:nvSpPr>
          <p:spPr>
            <a:xfrm>
              <a:off x="46494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7" name=""/>
          <p:cNvSpPr/>
          <p:nvPr/>
        </p:nvSpPr>
        <p:spPr>
          <a:xfrm>
            <a:off x="5257800" y="51055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5410080" y="5334120"/>
            <a:ext cx="2133360" cy="825120"/>
            <a:chOff x="5410080" y="5334120"/>
            <a:chExt cx="2133360" cy="825120"/>
          </a:xfrm>
        </p:grpSpPr>
        <p:sp>
          <p:nvSpPr>
            <p:cNvPr id="769" name=""/>
            <p:cNvSpPr/>
            <p:nvPr/>
          </p:nvSpPr>
          <p:spPr>
            <a:xfrm>
              <a:off x="5562360" y="5638680"/>
              <a:ext cx="1981080" cy="52056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End of fi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410080" y="5334120"/>
              <a:ext cx="30456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1" name=""/>
          <p:cNvSpPr/>
          <p:nvPr/>
        </p:nvSpPr>
        <p:spPr>
          <a:xfrm>
            <a:off x="1066680" y="5029200"/>
            <a:ext cx="4648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{1} </a:t>
            </a:r>
            <a:r>
              <a:rPr b="1" lang="cs-CZ" sz="3000" spc="-1" strike="noStrike">
                <a:solidFill>
                  <a:srgbClr val="000000"/>
                </a:solidFill>
                <a:latin typeface="Courier New"/>
              </a:rPr>
              <a:t>Pos := Rate*6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2361960" y="3124080"/>
            <a:ext cx="685800" cy="685800"/>
            <a:chOff x="2361960" y="3124080"/>
            <a:chExt cx="685800" cy="685800"/>
          </a:xfrm>
        </p:grpSpPr>
        <p:sp>
          <p:nvSpPr>
            <p:cNvPr id="773" name=""/>
            <p:cNvSpPr/>
            <p:nvPr/>
          </p:nvSpPr>
          <p:spPr>
            <a:xfrm flipH="1">
              <a:off x="2361600" y="31240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2437920" y="32004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13T21:00:04Z</dcterms:modified>
  <cp:revision>131</cp:revision>
  <dc:subject/>
  <dc:title>Lexical Analysis</dc:title>
</cp:coreProperties>
</file>