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0BC-C4D0-48CC-956F-7E2AA0CC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90D-A47B-4DCA-8274-87907F6F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969-91B4-4416-94E5-E621A575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F3E-41F6-49B8-A8FC-B09ABB2E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35B-82BE-4A65-A7B2-6D118055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9D3-DDD1-41EB-BA0B-BB252561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9F9-0D0D-4EA3-B17D-E18DE41C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98DF-5263-4298-82A6-A6C69B5C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1C6-4DDC-4C89-AE2F-84F4EC27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39A-64DC-40BF-B30D-AE48175E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B69-55B6-41A3-A505-F944F626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617-09E1-45C4-BD1F-16E30760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F9AC-A51D-45BF-B4FC-45F76CCF7A4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343400"/>
            <a:ext cx="6324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Alexander Meduna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8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219320"/>
            <a:ext cx="80773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R is defined analogically as the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2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5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9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2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6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9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3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6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1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6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1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6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N to equivalent 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57800" y="52578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62520" y="5562720"/>
            <a:ext cx="7596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6019920"/>
            <a:ext cx="251460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91320" y="6019920"/>
            <a:ext cx="259056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943240" y="541008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1143000"/>
            <a:ext cx="7772400" cy="31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 the language families defined by MGN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and MGR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1480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94360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053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3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2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4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ftmo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10-23T18:01:41Z</dcterms:modified>
  <cp:revision>192</cp:revision>
  <dc:subject/>
  <dc:title>Formal Languages and Compilers</dc:title>
</cp:coreProperties>
</file>