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E26-761F-498D-A2EE-618A6F5B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F4B-5AB4-43D2-9518-EC2BCDCE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486-FD52-48B5-A130-95BC1C56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A11-C066-4348-A9C8-4852F78C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427-3478-42C3-91F6-38E1AFEC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372-2E45-4289-B1D3-1862B203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AD0-C820-421A-8413-337ABA4E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0DD-BDFB-4098-82D9-49D14CB3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160-7ABD-4460-ACF2-750B1096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ADA-21B1-413E-96D1-A1B880D8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62B-E9E6-46C4-8BE2-9B54D96C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2D1-8305-494B-9B70-E6E0F4B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2BE1-0A31-4845-A5D2-2BC6D380724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8:33Z</dcterms:modified>
  <cp:revision>288</cp:revision>
  <dc:subject/>
  <dc:title>Bottom-Up Parsing</dc:title>
</cp:coreProperties>
</file>