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8B1-90DA-4589-87C2-11C085E7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B2A-1B54-4ED5-921F-C4D9DD96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86C-B4E0-4561-88B6-7151D713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9DF-0F4D-422F-B0DB-D509823D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263-A45F-4330-A72D-53FBB11B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100-20FD-4239-A591-04AC15CB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75C-3290-45C8-A7D1-32011F11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65D-B9E6-477F-AB2A-FDC43695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0FD-1CEC-4538-AF50-3EF2F134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FC5-A681-4B10-AACF-AD218A0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13F-CB3F-4086-8CFF-15ECF7D0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51E-C868-4B8A-8B01-E2E27280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D166-6396-4D68-9688-E69CFFE2059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5:17Z</dcterms:modified>
  <cp:revision>268</cp:revision>
  <dc:subject/>
  <dc:title>Top-Down Parsing</dc:title>
</cp:coreProperties>
</file>