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6C91-E284-4DBE-8C99-D399D9008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ECBC-56F1-4222-91A2-4F56DCF0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B385-C0FE-4530-81C9-4AD84B1B4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33BF-B73B-47DA-9BD0-16FFB13D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C46E-D846-4F3E-A250-E4181389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D7E0-4121-4756-855A-697C2DB6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4C73-BFEE-48C9-A415-0FCC3B96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F6A3-241F-4DA0-90A9-C82D9E5A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7C5D-C921-42D1-B496-E07F7A9A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6E40-E49B-4A49-A345-5A563D96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9CA8-AEB3-4B46-9615-8F010F98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7CD8-61D9-4019-86EF-188EAC4A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1104-DA95-4165-B36D-EC87376E3D8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Introduction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Compil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bstract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2133720"/>
            <a:ext cx="8153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analyzer checks semantic aspect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ype check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ich may imp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sions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for exampl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-to-rea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hecking declaration of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yntax-Directed Transl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r contr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neration of s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3962520" y="2362320"/>
            <a:ext cx="4190760" cy="304560"/>
            <a:chOff x="3962520" y="2362320"/>
            <a:chExt cx="4190760" cy="304560"/>
          </a:xfrm>
        </p:grpSpPr>
        <p:grpSp>
          <p:nvGrpSpPr>
            <p:cNvPr id="316" name=""/>
            <p:cNvGrpSpPr/>
            <p:nvPr/>
          </p:nvGrpSpPr>
          <p:grpSpPr>
            <a:xfrm>
              <a:off x="3962520" y="2362320"/>
              <a:ext cx="838080" cy="304560"/>
              <a:chOff x="3962520" y="2362320"/>
              <a:chExt cx="838080" cy="304560"/>
            </a:xfrm>
          </p:grpSpPr>
          <p:sp>
            <p:nvSpPr>
              <p:cNvPr id="317" name=""/>
              <p:cNvSpPr/>
              <p:nvPr/>
            </p:nvSpPr>
            <p:spPr>
              <a:xfrm flipV="1">
                <a:off x="39625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9625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791320" y="2362320"/>
              <a:ext cx="838080" cy="304560"/>
              <a:chOff x="5791320" y="2362320"/>
              <a:chExt cx="838080" cy="304560"/>
            </a:xfrm>
          </p:grpSpPr>
          <p:sp>
            <p:nvSpPr>
              <p:cNvPr id="320" name=""/>
              <p:cNvSpPr/>
              <p:nvPr/>
            </p:nvSpPr>
            <p:spPr>
              <a:xfrm flipV="1">
                <a:off x="57913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7913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7315200" y="2362320"/>
              <a:ext cx="838080" cy="304560"/>
              <a:chOff x="7315200" y="2362320"/>
              <a:chExt cx="838080" cy="304560"/>
            </a:xfrm>
          </p:grpSpPr>
          <p:sp>
            <p:nvSpPr>
              <p:cNvPr id="323" name=""/>
              <p:cNvSpPr/>
              <p:nvPr/>
            </p:nvSpPr>
            <p:spPr>
              <a:xfrm flipV="1">
                <a:off x="731520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31520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5" name=""/>
          <p:cNvSpPr/>
          <p:nvPr/>
        </p:nvSpPr>
        <p:spPr>
          <a:xfrm flipH="1">
            <a:off x="1904760" y="1676520"/>
            <a:ext cx="106668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1676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54680" y="14472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9880" y="1676520"/>
            <a:ext cx="121932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yntax-Directed Translation: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90720" y="2819520"/>
            <a:ext cx="19047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71800" y="2819520"/>
            <a:ext cx="5335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81280" y="2819520"/>
            <a:ext cx="16002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2819520"/>
            <a:ext cx="380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15000" y="2819520"/>
            <a:ext cx="9907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1680" y="2819520"/>
            <a:ext cx="3049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162920" y="2819520"/>
            <a:ext cx="9144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66680" y="3276720"/>
            <a:ext cx="1752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8120" y="3276720"/>
            <a:ext cx="380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57600" y="3276720"/>
            <a:ext cx="14479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91320" y="3276720"/>
            <a:ext cx="8380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3276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238880" y="3276720"/>
            <a:ext cx="609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64480" y="11422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8800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78920" y="17517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419720" y="1981080"/>
            <a:ext cx="7617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10080" y="19810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1981080"/>
            <a:ext cx="7621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9312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24068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248520" y="220968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22096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2209680"/>
            <a:ext cx="3808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340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7220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8320" y="1234080"/>
            <a:ext cx="1090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Pa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01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972160" y="1397880"/>
            <a:ext cx="608760" cy="147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181480" y="1752480"/>
            <a:ext cx="456840" cy="110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629400" y="2107800"/>
            <a:ext cx="456840" cy="73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7038000" y="1294920"/>
            <a:ext cx="1578240" cy="1750680"/>
            <a:chOff x="7038000" y="1294920"/>
            <a:chExt cx="1578240" cy="1750680"/>
          </a:xfrm>
        </p:grpSpPr>
        <p:sp>
          <p:nvSpPr>
            <p:cNvPr id="363" name=""/>
            <p:cNvSpPr/>
            <p:nvPr/>
          </p:nvSpPr>
          <p:spPr>
            <a:xfrm flipV="1">
              <a:off x="7692120" y="1751760"/>
              <a:ext cx="610200" cy="12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8" y="828"/>
                  </a:moveTo>
                  <a:arcTo wR="10800" hR="10800" stAng="-4044979" swAng="14284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8" y="828"/>
                  </a:moveTo>
                  <a:arcTo wR="10800" hR="10800" stAng="-4044979" swAng="1428486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38000" y="1294920"/>
              <a:ext cx="157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IntToR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30360" y="3642120"/>
            <a:ext cx="6676920" cy="2758680"/>
            <a:chOff x="630360" y="3642120"/>
            <a:chExt cx="6676920" cy="2758680"/>
          </a:xfrm>
        </p:grpSpPr>
        <p:sp>
          <p:nvSpPr>
            <p:cNvPr id="366" name=""/>
            <p:cNvSpPr/>
            <p:nvPr/>
          </p:nvSpPr>
          <p:spPr>
            <a:xfrm>
              <a:off x="914400" y="5943600"/>
              <a:ext cx="19051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95480" y="3809880"/>
              <a:ext cx="5335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71800" y="5943600"/>
              <a:ext cx="1600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I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95680" y="4419720"/>
              <a:ext cx="3812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24280" y="5943600"/>
              <a:ext cx="9907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38680" y="4952880"/>
              <a:ext cx="3812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67280" y="5943600"/>
              <a:ext cx="9144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09040" y="5333760"/>
              <a:ext cx="139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IntToR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24480" y="5791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752120" y="4038480"/>
              <a:ext cx="114300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29000" y="4038480"/>
              <a:ext cx="12952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3733920" y="4724280"/>
              <a:ext cx="76176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5181480" y="51814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19920" y="518148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76920" y="4648320"/>
              <a:ext cx="9903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0360" y="3642120"/>
              <a:ext cx="1418040" cy="11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Abstrac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Syntax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Tre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24280" y="3809880"/>
              <a:ext cx="106704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bstract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ntax tre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2133720"/>
            <a:ext cx="8305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mediate code generator produces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nal version of target program ca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these reas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form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rect translation to target program is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fficult and “rough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819520" y="4724280"/>
            <a:ext cx="5486400" cy="1676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Interme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ate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code generator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19320" y="3581280"/>
            <a:ext cx="19047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00400" y="144792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3581280"/>
            <a:ext cx="1600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00600" y="2057400"/>
            <a:ext cx="38088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29200" y="3581280"/>
            <a:ext cx="9907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43600" y="2590920"/>
            <a:ext cx="38088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72200" y="3581280"/>
            <a:ext cx="914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241960" y="220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67640" y="3047760"/>
            <a:ext cx="1632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IntTo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35053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057040" y="1676520"/>
            <a:ext cx="114300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33920" y="1676520"/>
            <a:ext cx="1295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038120" y="2362320"/>
            <a:ext cx="76212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5486400" y="2819520"/>
            <a:ext cx="45720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24480" y="2819520"/>
            <a:ext cx="381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81480" y="2286000"/>
            <a:ext cx="9907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35320" y="1066320"/>
            <a:ext cx="1598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Abstra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Synta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14800" y="4191120"/>
            <a:ext cx="10666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705720" y="2608920"/>
            <a:ext cx="1155240" cy="781200"/>
            <a:chOff x="6705720" y="2608920"/>
            <a:chExt cx="1155240" cy="781200"/>
          </a:xfrm>
        </p:grpSpPr>
        <p:sp>
          <p:nvSpPr>
            <p:cNvPr id="410" name=""/>
            <p:cNvSpPr/>
            <p:nvPr/>
          </p:nvSpPr>
          <p:spPr>
            <a:xfrm>
              <a:off x="6705720" y="260892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7086600" y="2741400"/>
              <a:ext cx="774360" cy="64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53" y="0"/>
                  </a:moveTo>
                  <a:arcTo wR="10800" hR="10800" stAng="-5383181" swAng="107123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53" y="0"/>
                  </a:moveTo>
                  <a:arcTo wR="10800" hR="10800" stAng="-5383181" swAng="10712313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791320" y="1847160"/>
            <a:ext cx="761760" cy="840240"/>
            <a:chOff x="5791320" y="1847160"/>
            <a:chExt cx="761760" cy="840240"/>
          </a:xfrm>
        </p:grpSpPr>
        <p:sp>
          <p:nvSpPr>
            <p:cNvPr id="413" name=""/>
            <p:cNvSpPr/>
            <p:nvPr/>
          </p:nvSpPr>
          <p:spPr>
            <a:xfrm>
              <a:off x="5791320" y="184716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202080" y="2310840"/>
              <a:ext cx="350640" cy="3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46" y="502"/>
                  </a:moveTo>
                  <a:arcTo wR="10800" hR="10800" stAng="-6452038" swAng="9244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46" y="502"/>
                  </a:moveTo>
                  <a:arcTo wR="10800" hR="10800" stAng="-6452038" swAng="9244577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527960" y="537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903400" y="472356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1 :=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IntToRea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663640" y="510444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64360" y="548568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3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 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46800" y="5866560"/>
            <a:ext cx="36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 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409720" y="2739960"/>
            <a:ext cx="1295640" cy="1383840"/>
            <a:chOff x="5409720" y="2739960"/>
            <a:chExt cx="1295640" cy="1383840"/>
          </a:xfrm>
        </p:grpSpPr>
        <p:sp>
          <p:nvSpPr>
            <p:cNvPr id="421" name=""/>
            <p:cNvSpPr/>
            <p:nvPr/>
          </p:nvSpPr>
          <p:spPr>
            <a:xfrm flipH="1" flipV="1">
              <a:off x="5409360" y="2739960"/>
              <a:ext cx="1066680" cy="138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1" y="9266"/>
                  </a:moveTo>
                  <a:arcTo wR="10800" hR="10800" stAng="-489945" swAng="5889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1" y="9266"/>
                  </a:moveTo>
                  <a:arcTo wR="10800" hR="10800" stAng="-489945" swAng="588994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6324120" y="2818800"/>
              <a:ext cx="381240" cy="152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648320" y="1313280"/>
            <a:ext cx="761760" cy="840240"/>
            <a:chOff x="4648320" y="1313280"/>
            <a:chExt cx="761760" cy="840240"/>
          </a:xfrm>
        </p:grpSpPr>
        <p:sp>
          <p:nvSpPr>
            <p:cNvPr id="424" name=""/>
            <p:cNvSpPr/>
            <p:nvPr/>
          </p:nvSpPr>
          <p:spPr>
            <a:xfrm>
              <a:off x="4648320" y="131328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059080" y="1776960"/>
              <a:ext cx="350640" cy="3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46" y="502"/>
                  </a:moveTo>
                  <a:arcTo wR="10800" hR="10800" stAng="-6452038" swAng="9244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46" y="502"/>
                  </a:moveTo>
                  <a:arcTo wR="10800" hR="10800" stAng="-6452038" swAng="9244577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809520" y="2286000"/>
            <a:ext cx="1981800" cy="2184480"/>
            <a:chOff x="3809520" y="2286000"/>
            <a:chExt cx="1981800" cy="2184480"/>
          </a:xfrm>
        </p:grpSpPr>
        <p:sp>
          <p:nvSpPr>
            <p:cNvPr id="427" name=""/>
            <p:cNvSpPr/>
            <p:nvPr/>
          </p:nvSpPr>
          <p:spPr>
            <a:xfrm flipH="1" flipV="1">
              <a:off x="3809160" y="2286000"/>
              <a:ext cx="1981080" cy="218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1" y="9266"/>
                  </a:moveTo>
                  <a:arcTo wR="10800" hR="10800" stAng="-489945" swAng="5889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1" y="9266"/>
                  </a:moveTo>
                  <a:arcTo wR="10800" hR="10800" stAng="-489945" swAng="588994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5181480" y="2286000"/>
              <a:ext cx="609840" cy="76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 flipH="1" flipV="1">
            <a:off x="3733920" y="1600200"/>
            <a:ext cx="914400" cy="76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1980000" y="1600200"/>
            <a:ext cx="2438280" cy="346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91" y="9266"/>
                </a:moveTo>
                <a:arcTo wR="10800" hR="10800" stAng="-489945" swAng="5889945"/>
                <a:lnTo>
                  <a:pt x="10800" y="10800"/>
                </a:lnTo>
                <a:close/>
              </a:path>
              <a:path fill="none" w="21600" h="21600">
                <a:moveTo>
                  <a:pt x="21491" y="9266"/>
                </a:moveTo>
                <a:arcTo wR="10800" hR="10800" stAng="-489945" swAng="5889945"/>
              </a:path>
            </a:pathLst>
          </a:custGeom>
          <a:noFill/>
          <a:ln w="572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7120" y="4723920"/>
            <a:ext cx="22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timiz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2133720"/>
            <a:ext cx="845820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Optimizer makes more efficient version of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intermediate code called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optimized intermediate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cod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Constant propagation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a := 1; b := 2; c := a + b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 := 3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 Variables a, b have no next u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Copy propagation</a:t>
            </a:r>
            <a:r>
              <a:rPr b="1" lang="cs-CZ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b := a; c := b; d := c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 := a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 Variables b, c have no next u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Dead code elimination</a:t>
            </a:r>
            <a:r>
              <a:rPr b="1" lang="cs-CZ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false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nothing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me compilers have no optimi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823480" y="5486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2666880" y="4800600"/>
            <a:ext cx="5791320" cy="106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95480" y="1295280"/>
            <a:ext cx="5562720" cy="2590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72200" y="3962520"/>
            <a:ext cx="106668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55680" y="13708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1 :=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IntToRea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15920" y="198036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17000" y="258984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3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 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58920" y="319968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:= 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9400" y="1371240"/>
            <a:ext cx="22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4266360"/>
            <a:ext cx="586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timized intermediate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3048120" y="1447920"/>
            <a:ext cx="4266720" cy="1143000"/>
            <a:chOff x="3048120" y="1447920"/>
            <a:chExt cx="4266720" cy="1143000"/>
          </a:xfrm>
        </p:grpSpPr>
        <p:sp>
          <p:nvSpPr>
            <p:cNvPr id="452" name=""/>
            <p:cNvSpPr/>
            <p:nvPr/>
          </p:nvSpPr>
          <p:spPr>
            <a:xfrm>
              <a:off x="3048120" y="1447920"/>
              <a:ext cx="82044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94400" y="2057760"/>
              <a:ext cx="820440" cy="5331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68560" y="1829160"/>
              <a:ext cx="270756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971800" y="2590920"/>
            <a:ext cx="3429000" cy="1143000"/>
            <a:chOff x="2971800" y="2590920"/>
            <a:chExt cx="3429000" cy="1143000"/>
          </a:xfrm>
        </p:grpSpPr>
        <p:sp>
          <p:nvSpPr>
            <p:cNvPr id="456" name=""/>
            <p:cNvSpPr/>
            <p:nvPr/>
          </p:nvSpPr>
          <p:spPr>
            <a:xfrm>
              <a:off x="2971800" y="2590920"/>
              <a:ext cx="76212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638680" y="3200400"/>
              <a:ext cx="76212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57600" y="3048120"/>
              <a:ext cx="1981080" cy="3049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435400" y="4875840"/>
            <a:ext cx="48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6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441880" y="5333040"/>
            <a:ext cx="598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48320" y="1828800"/>
            <a:ext cx="2133360" cy="0"/>
          </a:xfrm>
          <a:prstGeom prst="line">
            <a:avLst/>
          </a:prstGeom>
          <a:ln w="5724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timiz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85800" y="21337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ptimized intermediate code is convert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rget program is written in target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reality, target language is assembly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chine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209680" y="3962520"/>
            <a:ext cx="4953240" cy="2133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676520" y="1752480"/>
            <a:ext cx="5790960" cy="10670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86200" y="2895480"/>
            <a:ext cx="1066680" cy="99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566000" y="1828080"/>
            <a:ext cx="44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6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95960" y="2285280"/>
            <a:ext cx="57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335196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arget progra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1142280"/>
            <a:ext cx="58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timized intermediate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282040" y="2060640"/>
            <a:ext cx="5870880" cy="2863440"/>
            <a:chOff x="2282040" y="2060640"/>
            <a:chExt cx="5870880" cy="2863440"/>
          </a:xfrm>
        </p:grpSpPr>
        <p:sp>
          <p:nvSpPr>
            <p:cNvPr id="477" name=""/>
            <p:cNvSpPr/>
            <p:nvPr/>
          </p:nvSpPr>
          <p:spPr>
            <a:xfrm>
              <a:off x="2282040" y="3961800"/>
              <a:ext cx="382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R2,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20720" y="4342680"/>
              <a:ext cx="359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ul R2, #60.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48520" y="4038840"/>
              <a:ext cx="228600" cy="685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36280" y="2060640"/>
              <a:ext cx="371664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204" y="119"/>
                  </a:moveTo>
                  <a:arcTo wR="10800" hR="10800" stAng="-5909927" swAng="107566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204" y="119"/>
                  </a:moveTo>
                  <a:arcTo wR="10800" hR="10800" stAng="-5909927" swAng="10756632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455520" y="3523680"/>
              <a:ext cx="148824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R2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2283120" y="2343600"/>
            <a:ext cx="5976360" cy="3723480"/>
            <a:chOff x="2283120" y="2343600"/>
            <a:chExt cx="5976360" cy="3723480"/>
          </a:xfrm>
        </p:grpSpPr>
        <p:sp>
          <p:nvSpPr>
            <p:cNvPr id="483" name=""/>
            <p:cNvSpPr/>
            <p:nvPr/>
          </p:nvSpPr>
          <p:spPr>
            <a:xfrm>
              <a:off x="2283120" y="4723560"/>
              <a:ext cx="456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R3,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Init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519640" y="510480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add R2, R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526840" y="5485680"/>
              <a:ext cx="431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Position,R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81680" y="4800600"/>
              <a:ext cx="228600" cy="11430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41760" y="2343600"/>
              <a:ext cx="3717720" cy="316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442" y="1591"/>
                  </a:moveTo>
                  <a:arcTo wR="10800" hR="10800" stAng="-3510213" swAng="75804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442" y="1591"/>
                  </a:moveTo>
                  <a:arcTo wR="10800" hR="10800" stAng="-3510213" swAng="7580488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13372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compiler read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ource progr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ce language) and translates them in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arget progr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in target languag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and target programs a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unction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5168880"/>
            <a:ext cx="2971800" cy="139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77804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88288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179064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342900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64832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Compil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Ph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463536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219320"/>
            <a:ext cx="77724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Position := Initial + Rate *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3962520"/>
            <a:ext cx="39625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1280" y="396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1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3 * 6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1280" y="419004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304000"/>
            <a:ext cx="2971800" cy="510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*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5423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ul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#6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565164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R3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I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5181480"/>
            <a:ext cx="3962520" cy="138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, Id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58802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dd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61088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416400"/>
            <a:ext cx="29718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3301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3645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8736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41022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3645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3873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4102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218960" y="36450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36450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676160" y="38736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133360" y="41022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38736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41022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92240" y="504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3960" y="52833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81160" y="55119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38360" y="57405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62040" y="52833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19240" y="55119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24160" y="6197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52200" y="52833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86080" y="52833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409400" y="5511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66600" y="57405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66960" y="5511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24160" y="57405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95560" y="574056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IntToRe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52760" y="6121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0560" y="22849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1  := IntToReal(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1280" y="25135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2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1280" y="27421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3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360" y="29707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= 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08640" y="2324160"/>
            <a:ext cx="3949560" cy="1028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3505680" y="1359000"/>
            <a:ext cx="3038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3506040" y="196920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3506040" y="257868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3506040" y="311220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3505680" y="4331160"/>
            <a:ext cx="38088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3506040" y="486468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rot="16200000">
            <a:off x="4265280" y="20592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rot="16200000">
            <a:off x="4265280" y="312588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rot="16200000">
            <a:off x="4265280" y="36594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rot="16200000">
            <a:off x="4265280" y="43452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rot="16200000">
            <a:off x="4264920" y="4877640"/>
            <a:ext cx="38088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45000" y="1887480"/>
            <a:ext cx="850680" cy="4538880"/>
          </a:xfrm>
          <a:custGeom>
            <a:avLst/>
            <a:gdLst/>
            <a:ahLst/>
            <a:rect l="l" t="t" r="r" b="b"/>
            <a:pathLst>
              <a:path w="576" h="2843">
                <a:moveTo>
                  <a:pt x="0" y="2843"/>
                </a:moveTo>
                <a:cubicBezTo>
                  <a:pt x="44" y="2798"/>
                  <a:pt x="216" y="2819"/>
                  <a:pt x="264" y="2571"/>
                </a:cubicBezTo>
                <a:cubicBezTo>
                  <a:pt x="312" y="2323"/>
                  <a:pt x="284" y="1700"/>
                  <a:pt x="288" y="1355"/>
                </a:cubicBezTo>
                <a:cubicBezTo>
                  <a:pt x="292" y="1010"/>
                  <a:pt x="276" y="711"/>
                  <a:pt x="288" y="499"/>
                </a:cubicBezTo>
                <a:cubicBezTo>
                  <a:pt x="300" y="287"/>
                  <a:pt x="312" y="166"/>
                  <a:pt x="360" y="83"/>
                </a:cubicBezTo>
                <a:cubicBezTo>
                  <a:pt x="408" y="0"/>
                  <a:pt x="531" y="20"/>
                  <a:pt x="576" y="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943600" y="1219320"/>
            <a:ext cx="2514600" cy="3657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13716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3716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82960" y="13716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182880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4120" y="2666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657600"/>
            <a:ext cx="266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5029200"/>
            <a:ext cx="4495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Optimized intermediat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55627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arget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137160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1371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182880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17524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343400" y="20574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274320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2971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1828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27432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971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41148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426708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54864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56386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676520" y="5867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2209680"/>
            <a:ext cx="320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e of Compiler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160" y="22860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ars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343400" y="31240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3657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5029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3429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15328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40384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-Dir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tica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1337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27432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actica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3276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, ...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4191120"/>
            <a:ext cx="70106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begin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=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ascal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373392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asca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ing Language Pas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5181480"/>
            <a:ext cx="3276720" cy="82548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YE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rogra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K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arget program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5181480"/>
            <a:ext cx="4267080" cy="82548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N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rogra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O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657240" y="47242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47242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s and Compil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5181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20968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program is broken into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exeme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gically cohesive lexical entitie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identifiers, numbers, key-words, operato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xemes are represented by uniform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tokens hav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xical analyzer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6920" y="1142280"/>
            <a:ext cx="296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Source progra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16002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Position := Initial + Rate * 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15480" y="4038480"/>
            <a:ext cx="7009200" cy="1905120"/>
            <a:chOff x="915480" y="4038480"/>
            <a:chExt cx="7009200" cy="1905120"/>
          </a:xfrm>
        </p:grpSpPr>
        <p:sp>
          <p:nvSpPr>
            <p:cNvPr id="175" name=""/>
            <p:cNvSpPr/>
            <p:nvPr/>
          </p:nvSpPr>
          <p:spPr>
            <a:xfrm>
              <a:off x="3962520" y="4038480"/>
              <a:ext cx="1066680" cy="8384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15480" y="4571280"/>
              <a:ext cx="1492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Token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90720" y="5105520"/>
              <a:ext cx="190476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71800" y="5105520"/>
              <a:ext cx="5335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81280" y="5105520"/>
              <a:ext cx="160020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57800" y="5105520"/>
              <a:ext cx="38088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15000" y="5105520"/>
              <a:ext cx="9907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81680" y="5105520"/>
              <a:ext cx="3049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62920" y="5105520"/>
              <a:ext cx="76176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66680" y="5562720"/>
              <a:ext cx="1752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48120" y="5562720"/>
              <a:ext cx="380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57600" y="5562720"/>
              <a:ext cx="14479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1320" y="556272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58000" y="5562720"/>
              <a:ext cx="152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38880" y="5562720"/>
              <a:ext cx="609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34120" y="55627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833040" y="2133720"/>
            <a:ext cx="7015680" cy="1676160"/>
            <a:chOff x="833040" y="2133720"/>
            <a:chExt cx="7015680" cy="1676160"/>
          </a:xfrm>
        </p:grpSpPr>
        <p:sp>
          <p:nvSpPr>
            <p:cNvPr id="192" name=""/>
            <p:cNvSpPr/>
            <p:nvPr/>
          </p:nvSpPr>
          <p:spPr>
            <a:xfrm>
              <a:off x="990720" y="3200400"/>
              <a:ext cx="1904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Posi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71800" y="3200400"/>
              <a:ext cx="5335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: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81280" y="3200400"/>
              <a:ext cx="1600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Initi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57800" y="3200400"/>
              <a:ext cx="38088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15000" y="320040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81680" y="3200400"/>
              <a:ext cx="3049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62920" y="3200400"/>
              <a:ext cx="6858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62520" y="2133720"/>
              <a:ext cx="1066680" cy="838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3040" y="2666160"/>
              <a:ext cx="172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Lexeme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6095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2133720"/>
            <a:ext cx="822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r verifies that the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s a syntactically well-formed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it find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arse t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the string, i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rect; otherwise, it is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struction of tree is based on gramma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wo approach: top-down and botto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ntax analyze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990720" y="3048120"/>
            <a:ext cx="6933960" cy="1981080"/>
            <a:chOff x="990720" y="3048120"/>
            <a:chExt cx="6933960" cy="1981080"/>
          </a:xfrm>
        </p:grpSpPr>
        <p:sp>
          <p:nvSpPr>
            <p:cNvPr id="210" name=""/>
            <p:cNvSpPr/>
            <p:nvPr/>
          </p:nvSpPr>
          <p:spPr>
            <a:xfrm>
              <a:off x="990720" y="3048120"/>
              <a:ext cx="6933960" cy="1981080"/>
            </a:xfrm>
            <a:custGeom>
              <a:avLst/>
              <a:gdLst/>
              <a:ahLst/>
              <a:rect l="l" t="t" r="r" b="b"/>
              <a:pathLst>
                <a:path w="4368" h="1296">
                  <a:moveTo>
                    <a:pt x="0" y="1296"/>
                  </a:moveTo>
                  <a:lnTo>
                    <a:pt x="4368" y="1296"/>
                  </a:lnTo>
                  <a:lnTo>
                    <a:pt x="2064" y="0"/>
                  </a:lnTo>
                  <a:lnTo>
                    <a:pt x="1920" y="48"/>
                  </a:lnTo>
                  <a:lnTo>
                    <a:pt x="1152" y="48"/>
                  </a:lnTo>
                  <a:lnTo>
                    <a:pt x="960" y="0"/>
                  </a:lnTo>
                  <a:lnTo>
                    <a:pt x="0" y="1296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61960" y="3657600"/>
              <a:ext cx="304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reate a parse tre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rom a grammatical rules 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85800" y="2590920"/>
            <a:ext cx="7924680" cy="2971800"/>
            <a:chOff x="685800" y="2590920"/>
            <a:chExt cx="7924680" cy="2971800"/>
          </a:xfrm>
        </p:grpSpPr>
        <p:sp>
          <p:nvSpPr>
            <p:cNvPr id="213" name=""/>
            <p:cNvSpPr/>
            <p:nvPr/>
          </p:nvSpPr>
          <p:spPr>
            <a:xfrm>
              <a:off x="685800" y="2971800"/>
              <a:ext cx="7924680" cy="259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981080" y="3048120"/>
              <a:ext cx="99072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76720" y="304812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9200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191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73240" y="4266360"/>
              <a:ext cx="5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907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4680" y="289512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3048120"/>
              <a:ext cx="12193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2060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971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687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31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6160" y="144684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0920" y="10656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0100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62680" y="2056320"/>
            <a:ext cx="16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74284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004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48920" y="2056320"/>
            <a:ext cx="16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441936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0552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769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63440" y="20563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867280" y="190512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77120" y="190512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53040" y="2056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629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78160" y="20563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010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2800" y="205632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03644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226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940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49040" y="6171480"/>
            <a:ext cx="136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04760" y="5105520"/>
            <a:ext cx="19051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86200" y="5105520"/>
            <a:ext cx="5331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95680" y="5105520"/>
            <a:ext cx="16002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72200" y="5105520"/>
            <a:ext cx="380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29400" y="5105520"/>
            <a:ext cx="9903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96080" y="5105520"/>
            <a:ext cx="3049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76960" y="5105520"/>
            <a:ext cx="9003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81080" y="5562720"/>
            <a:ext cx="1752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62160" y="5562720"/>
            <a:ext cx="3812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72000" y="5562720"/>
            <a:ext cx="1447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05360" y="5562720"/>
            <a:ext cx="8384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72400" y="5562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53280" y="5562720"/>
            <a:ext cx="747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48160" y="5562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4464720" y="2559600"/>
            <a:ext cx="152280" cy="7072560"/>
          </a:xfrm>
          <a:custGeom>
            <a:avLst/>
            <a:gdLst>
              <a:gd name="textAreaLeft" fmla="*/ 0 w 152280"/>
              <a:gd name="textAreaRight" fmla="*/ 55080 w 152280"/>
              <a:gd name="textAreaTop" fmla="*/ 184320 h 7072560"/>
              <a:gd name="textAreaBottom" fmla="*/ 6888240 h 707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44"/>
                </a:lnTo>
                <a:cubicBezTo>
                  <a:pt x="10800" y="9944"/>
                  <a:pt x="16200" y="10844"/>
                  <a:pt x="21600" y="10844"/>
                </a:cubicBezTo>
                <a:cubicBezTo>
                  <a:pt x="16200" y="10844"/>
                  <a:pt x="10800" y="11744"/>
                  <a:pt x="10800" y="1264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64480" y="25138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888000" y="3048120"/>
            <a:ext cx="3541320" cy="2057400"/>
            <a:chOff x="3888000" y="3048120"/>
            <a:chExt cx="3541320" cy="2057400"/>
          </a:xfrm>
        </p:grpSpPr>
        <p:sp>
          <p:nvSpPr>
            <p:cNvPr id="276" name=""/>
            <p:cNvSpPr/>
            <p:nvPr/>
          </p:nvSpPr>
          <p:spPr>
            <a:xfrm>
              <a:off x="5250240" y="4266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2448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8800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78920" y="32760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419720" y="3429000"/>
              <a:ext cx="7617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10080" y="34290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15000" y="3429000"/>
              <a:ext cx="838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67280" y="30481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793120" y="3276720"/>
            <a:ext cx="2397960" cy="1828800"/>
            <a:chOff x="5793120" y="3276720"/>
            <a:chExt cx="2397960" cy="1828800"/>
          </a:xfrm>
        </p:grpSpPr>
        <p:sp>
          <p:nvSpPr>
            <p:cNvPr id="285" name=""/>
            <p:cNvSpPr/>
            <p:nvPr/>
          </p:nvSpPr>
          <p:spPr>
            <a:xfrm>
              <a:off x="6720840" y="4266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483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9312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4068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476760" y="3733920"/>
              <a:ext cx="228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34320" y="3810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15200" y="365760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91520" y="32767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130640" y="4114800"/>
            <a:ext cx="898560" cy="990720"/>
            <a:chOff x="4130640" y="4114800"/>
            <a:chExt cx="898560" cy="990720"/>
          </a:xfrm>
        </p:grpSpPr>
        <p:sp>
          <p:nvSpPr>
            <p:cNvPr id="294" name=""/>
            <p:cNvSpPr/>
            <p:nvPr/>
          </p:nvSpPr>
          <p:spPr>
            <a:xfrm>
              <a:off x="413064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5780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43400" y="419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48320" y="4114800"/>
              <a:ext cx="380880" cy="3812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959440" y="4191120"/>
            <a:ext cx="822240" cy="914400"/>
            <a:chOff x="5959440" y="4191120"/>
            <a:chExt cx="822240" cy="914400"/>
          </a:xfrm>
        </p:grpSpPr>
        <p:sp>
          <p:nvSpPr>
            <p:cNvPr id="299" name=""/>
            <p:cNvSpPr/>
            <p:nvPr/>
          </p:nvSpPr>
          <p:spPr>
            <a:xfrm>
              <a:off x="595944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8660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72200" y="419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00800" y="41911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764280" y="2590200"/>
            <a:ext cx="1090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Pa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322760" y="4038480"/>
            <a:ext cx="1078200" cy="1066680"/>
            <a:chOff x="7322760" y="4038480"/>
            <a:chExt cx="1078200" cy="1066680"/>
          </a:xfrm>
        </p:grpSpPr>
        <p:sp>
          <p:nvSpPr>
            <p:cNvPr id="305" name=""/>
            <p:cNvSpPr/>
            <p:nvPr/>
          </p:nvSpPr>
          <p:spPr>
            <a:xfrm>
              <a:off x="7322760" y="419004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0120" y="472428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20120" y="4190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20080" y="403848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2T07:25:39Z</dcterms:modified>
  <cp:revision>125</cp:revision>
  <dc:subject/>
  <dc:title>Introduction to Compilers</dc:title>
</cp:coreProperties>
</file>