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9057-E355-460F-B872-A72524B0A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4373-B921-4340-8B65-528A5E2D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12FD-134D-4ED5-8DDF-F5E71AC66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4868-6BDF-47FA-AB7B-3A69E99FB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38B8-E672-43D4-9DC0-018E6FED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ED66-09DE-447B-B4EF-2F8DFC35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0A2C-CA69-4009-A026-377AA12E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3235-ABC0-48F6-9EDC-BC034520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A4F8-BAA5-4D81-8629-17D28B81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B006-DEDF-46B8-8D12-7F41FDE0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2EF3-6B36-45FC-BFFA-3D9E63D9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9BD3-725C-4E90-BF11-8011C9A4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E0F2-6BDD-4422-A739-F5339297D8B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Regulated Gramma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5120" y="23194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297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2854440"/>
            <a:ext cx="146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→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29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01080" y="2854440"/>
            <a:ext cx="497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09440" y="2854440"/>
            <a:ext cx="384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710520" y="3148200"/>
            <a:ext cx="574200" cy="1521720"/>
            <a:chOff x="3710520" y="3148200"/>
            <a:chExt cx="574200" cy="1521720"/>
          </a:xfrm>
        </p:grpSpPr>
        <p:sp>
          <p:nvSpPr>
            <p:cNvPr id="52" name=""/>
            <p:cNvSpPr/>
            <p:nvPr/>
          </p:nvSpPr>
          <p:spPr>
            <a:xfrm rot="5400000">
              <a:off x="3257280" y="3601080"/>
              <a:ext cx="148032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710520" y="3189240"/>
              <a:ext cx="573840" cy="148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564000" y="3607200"/>
            <a:ext cx="434520" cy="532800"/>
            <a:chOff x="3564000" y="3607200"/>
            <a:chExt cx="434520" cy="532800"/>
          </a:xfrm>
        </p:grpSpPr>
        <p:sp>
          <p:nvSpPr>
            <p:cNvPr id="55" name=""/>
            <p:cNvSpPr/>
            <p:nvPr/>
          </p:nvSpPr>
          <p:spPr>
            <a:xfrm rot="16200000">
              <a:off x="3521880" y="3663360"/>
              <a:ext cx="51876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800000">
              <a:off x="3564360" y="3607200"/>
              <a:ext cx="434160" cy="51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924360" y="333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3765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427032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477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24280" y="2852640"/>
            <a:ext cx="2494440" cy="39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B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ab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bbc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71200" y="5805360"/>
            <a:ext cx="41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08120" y="2854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119700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Only a selected subset of pro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n be applied during a 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34936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28464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2200" y="3789360"/>
            <a:ext cx="281736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, 23, 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, A,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, b,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5200" y="3860640"/>
            <a:ext cx="10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91640" y="3860640"/>
            <a:ext cx="2093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86760" y="58514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rivation Step in M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190520"/>
            <a:ext cx="7775280" cy="3775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there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…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479736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66520" y="5300640"/>
            <a:ext cx="78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1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23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45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3720" y="5877000"/>
            <a:ext cx="3977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andom Context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andom context gramma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ai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from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denotes the set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aring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RC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413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9400" y="2205000"/>
            <a:ext cx="2552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227664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292428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2324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1080" y="22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1080" y="306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108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33800" y="2708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4221000"/>
            <a:ext cx="71280" cy="86544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551664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1080" y="566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17800" y="220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21720" y="2205000"/>
            <a:ext cx="2708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bbBc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419640" y="2469240"/>
            <a:ext cx="862920" cy="3576240"/>
            <a:chOff x="3419640" y="2469240"/>
            <a:chExt cx="862920" cy="3576240"/>
          </a:xfrm>
        </p:grpSpPr>
        <p:sp>
          <p:nvSpPr>
            <p:cNvPr id="111" name=""/>
            <p:cNvSpPr/>
            <p:nvPr/>
          </p:nvSpPr>
          <p:spPr>
            <a:xfrm rot="5400000">
              <a:off x="2111040" y="3777480"/>
              <a:ext cx="3479760" cy="86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0000" y="2565360"/>
              <a:ext cx="862560" cy="348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419640" y="3321000"/>
            <a:ext cx="720360" cy="1368360"/>
            <a:chOff x="3419640" y="3321000"/>
            <a:chExt cx="720360" cy="1368360"/>
          </a:xfrm>
        </p:grpSpPr>
        <p:sp>
          <p:nvSpPr>
            <p:cNvPr id="114" name=""/>
            <p:cNvSpPr/>
            <p:nvPr/>
          </p:nvSpPr>
          <p:spPr>
            <a:xfrm rot="5400000">
              <a:off x="3114000" y="3626280"/>
              <a:ext cx="133128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20000" y="3357720"/>
              <a:ext cx="720000" cy="13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635280" y="2708280"/>
            <a:ext cx="0" cy="433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350028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479736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86880" y="2205000"/>
            <a:ext cx="535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3720" y="5950080"/>
            <a:ext cx="33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on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ted languag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)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P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9400" y="2421000"/>
            <a:ext cx="3214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5440" y="2421000"/>
            <a:ext cx="9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17080" y="2421000"/>
            <a:ext cx="2327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46240" y="5877000"/>
            <a:ext cx="34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887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93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98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01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6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09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76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92360" y="6165720"/>
            <a:ext cx="2876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44920" y="6021720"/>
            <a:ext cx="2053800" cy="574200"/>
            <a:chOff x="844920" y="6021720"/>
            <a:chExt cx="2053800" cy="574200"/>
          </a:xfrm>
        </p:grpSpPr>
        <p:sp>
          <p:nvSpPr>
            <p:cNvPr id="151" name=""/>
            <p:cNvSpPr/>
            <p:nvPr/>
          </p:nvSpPr>
          <p:spPr>
            <a:xfrm rot="10800000">
              <a:off x="900720" y="6021720"/>
              <a:ext cx="199800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1557000" y="5309280"/>
              <a:ext cx="573840" cy="199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377000" y="5661000"/>
            <a:ext cx="989280" cy="577800"/>
            <a:chOff x="1377000" y="5661000"/>
            <a:chExt cx="989280" cy="577800"/>
          </a:xfrm>
        </p:grpSpPr>
        <p:sp>
          <p:nvSpPr>
            <p:cNvPr id="154" name=""/>
            <p:cNvSpPr/>
            <p:nvPr/>
          </p:nvSpPr>
          <p:spPr>
            <a:xfrm>
              <a:off x="1377000" y="5661000"/>
              <a:ext cx="962640" cy="57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1595880" y="5468040"/>
              <a:ext cx="577440" cy="96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835080" y="5860800"/>
            <a:ext cx="531360" cy="538560"/>
            <a:chOff x="3835080" y="5860800"/>
            <a:chExt cx="531360" cy="538560"/>
          </a:xfrm>
        </p:grpSpPr>
        <p:grpSp>
          <p:nvGrpSpPr>
            <p:cNvPr id="157" name=""/>
            <p:cNvGrpSpPr/>
            <p:nvPr/>
          </p:nvGrpSpPr>
          <p:grpSpPr>
            <a:xfrm>
              <a:off x="3835080" y="5860800"/>
              <a:ext cx="531000" cy="531360"/>
              <a:chOff x="3835080" y="5860800"/>
              <a:chExt cx="531000" cy="531360"/>
            </a:xfrm>
          </p:grpSpPr>
          <p:sp>
            <p:nvSpPr>
              <p:cNvPr id="158" name=""/>
              <p:cNvSpPr/>
              <p:nvPr/>
            </p:nvSpPr>
            <p:spPr>
              <a:xfrm rot="8106000">
                <a:off x="3918960" y="593712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706600">
                <a:off x="3911760" y="594468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rot="18906600">
              <a:off x="3919320" y="5952240"/>
              <a:ext cx="370080" cy="37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84360" y="2349360"/>
            <a:ext cx="770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tive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1880" y="158580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1880" y="3673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83520" y="5689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09600" y="3170160"/>
            <a:ext cx="35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55880" y="4033800"/>
            <a:ext cx="18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45960" y="4321080"/>
            <a:ext cx="27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6240" y="5186520"/>
            <a:ext cx="15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635280" y="4581000"/>
            <a:ext cx="3241800" cy="863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132000" y="3789000"/>
            <a:ext cx="2232000" cy="576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771640" y="4868640"/>
            <a:ext cx="0" cy="360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1834920" y="4076280"/>
            <a:ext cx="64908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08000" y="5734080"/>
            <a:ext cx="57636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258920" y="4221000"/>
            <a:ext cx="0" cy="1440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258920" y="2133720"/>
            <a:ext cx="0" cy="1582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1763280" y="1916280"/>
            <a:ext cx="5472360" cy="1225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380360" y="3644640"/>
            <a:ext cx="0" cy="431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573408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97600" y="53737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623736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97600" y="58770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22T10:07:47Z</dcterms:modified>
  <cp:revision>154</cp:revision>
  <dc:subject/>
  <dc:title>Part I. Alphabets, Strings, and Languages</dc:title>
</cp:coreProperties>
</file>