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F773-EC8A-4A9E-9ECF-6FDB1B239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2631-7FE4-4FCC-8F3A-C492736AA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4B33-E920-41CA-8CB8-B4AC9CA77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F003-336B-4652-9306-09E79E7B8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A0CF-3719-4C28-A652-CF3D80CA0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4610-1433-4201-B956-23C32E17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20D0-0A3F-4C2B-9C54-743AE89A1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448E-DAA3-4A05-BCE4-1753F73DB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8E1A-CA54-4A7B-81AF-727498D41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0A01-4044-4A07-864E-52EB4F33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15B0-42AC-487F-A65A-F1A1D600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179F-52E7-48D9-8482-169EA465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C7B4D-C8FA-4E6F-A1B7-3B0C5269593A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Regulated Rewrit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35120" y="231948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2973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03280" y="2854440"/>
            <a:ext cx="1469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→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→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→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→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→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2901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01080" y="2854440"/>
            <a:ext cx="497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09440" y="2854440"/>
            <a:ext cx="384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710520" y="3148200"/>
            <a:ext cx="574200" cy="1521720"/>
            <a:chOff x="3710520" y="3148200"/>
            <a:chExt cx="574200" cy="1521720"/>
          </a:xfrm>
        </p:grpSpPr>
        <p:sp>
          <p:nvSpPr>
            <p:cNvPr id="52" name=""/>
            <p:cNvSpPr/>
            <p:nvPr/>
          </p:nvSpPr>
          <p:spPr>
            <a:xfrm rot="5400000">
              <a:off x="3257280" y="3601080"/>
              <a:ext cx="148032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710520" y="3189240"/>
              <a:ext cx="573840" cy="148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3564000" y="3607200"/>
            <a:ext cx="434520" cy="532800"/>
            <a:chOff x="3564000" y="3607200"/>
            <a:chExt cx="434520" cy="532800"/>
          </a:xfrm>
        </p:grpSpPr>
        <p:sp>
          <p:nvSpPr>
            <p:cNvPr id="55" name=""/>
            <p:cNvSpPr/>
            <p:nvPr/>
          </p:nvSpPr>
          <p:spPr>
            <a:xfrm rot="16200000">
              <a:off x="3521880" y="3663360"/>
              <a:ext cx="518760" cy="43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0800000">
              <a:off x="3564360" y="3607200"/>
              <a:ext cx="434160" cy="51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924360" y="3333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24360" y="3765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24360" y="427032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24360" y="4773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24280" y="2852640"/>
            <a:ext cx="2494440" cy="39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Ab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B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abb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abbbc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71200" y="5805360"/>
            <a:ext cx="413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08120" y="28544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55640" y="119700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Only a selected subset of prod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an be applied during a 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2349360"/>
            <a:ext cx="777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language over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328464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2200" y="3789360"/>
            <a:ext cx="281736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1, 23, 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, A, 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, b,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5200" y="3860640"/>
            <a:ext cx="105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91640" y="3860640"/>
            <a:ext cx="2093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86760" y="585144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rivation Step in M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1190520"/>
            <a:ext cx="7775280" cy="37753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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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 there a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…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479736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66520" y="5300640"/>
            <a:ext cx="78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1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bB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23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45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83720" y="5877000"/>
            <a:ext cx="3977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andom Context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andom context gramma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pai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relation from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33577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ation step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551664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denotes the set of all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earing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of RC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14130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119700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9400" y="2205000"/>
            <a:ext cx="2552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2276640"/>
            <a:ext cx="777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2924280"/>
            <a:ext cx="71280" cy="86508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80000" y="23241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1080" y="227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1080" y="3068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1080" y="4365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33800" y="2708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4221000"/>
            <a:ext cx="71280" cy="86544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440"/>
              <a:gd name="textAreaBottom" fmla="*/ 84312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5516640"/>
            <a:ext cx="71280" cy="86508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1080" y="5661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17800" y="2205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21720" y="2205000"/>
            <a:ext cx="2708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AbbBc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419640" y="2469240"/>
            <a:ext cx="862920" cy="3576240"/>
            <a:chOff x="3419640" y="2469240"/>
            <a:chExt cx="862920" cy="3576240"/>
          </a:xfrm>
        </p:grpSpPr>
        <p:sp>
          <p:nvSpPr>
            <p:cNvPr id="111" name=""/>
            <p:cNvSpPr/>
            <p:nvPr/>
          </p:nvSpPr>
          <p:spPr>
            <a:xfrm rot="5400000">
              <a:off x="2111040" y="3777480"/>
              <a:ext cx="3479760" cy="86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420000" y="2565360"/>
              <a:ext cx="862560" cy="348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419640" y="3321000"/>
            <a:ext cx="720360" cy="1368360"/>
            <a:chOff x="3419640" y="3321000"/>
            <a:chExt cx="720360" cy="1368360"/>
          </a:xfrm>
        </p:grpSpPr>
        <p:sp>
          <p:nvSpPr>
            <p:cNvPr id="114" name=""/>
            <p:cNvSpPr/>
            <p:nvPr/>
          </p:nvSpPr>
          <p:spPr>
            <a:xfrm rot="5400000">
              <a:off x="3114000" y="3626280"/>
              <a:ext cx="1331280" cy="72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420000" y="3357720"/>
              <a:ext cx="720000" cy="13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3635280" y="2708280"/>
            <a:ext cx="0" cy="433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3500280"/>
            <a:ext cx="0" cy="936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35280" y="4797360"/>
            <a:ext cx="0" cy="936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86880" y="2205000"/>
            <a:ext cx="535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03720" y="5950080"/>
            <a:ext cx="336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ogrammed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grammed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relation on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33577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ation step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4360" y="5516640"/>
            <a:ext cx="7775280" cy="1068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erated languag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)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of P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119700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9400" y="2421000"/>
            <a:ext cx="3214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5440" y="2421000"/>
            <a:ext cx="95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17080" y="2421000"/>
            <a:ext cx="2327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46240" y="5877000"/>
            <a:ext cx="34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887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93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985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01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065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09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71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7636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79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8436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87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92360" y="6165720"/>
            <a:ext cx="28764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844920" y="6021720"/>
            <a:ext cx="2053800" cy="574200"/>
            <a:chOff x="844920" y="6021720"/>
            <a:chExt cx="2053800" cy="574200"/>
          </a:xfrm>
        </p:grpSpPr>
        <p:sp>
          <p:nvSpPr>
            <p:cNvPr id="151" name=""/>
            <p:cNvSpPr/>
            <p:nvPr/>
          </p:nvSpPr>
          <p:spPr>
            <a:xfrm rot="10800000">
              <a:off x="900720" y="6021720"/>
              <a:ext cx="199800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5400000">
              <a:off x="1557000" y="5309280"/>
              <a:ext cx="573840" cy="199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377000" y="5661000"/>
            <a:ext cx="989280" cy="577800"/>
            <a:chOff x="1377000" y="5661000"/>
            <a:chExt cx="989280" cy="577800"/>
          </a:xfrm>
        </p:grpSpPr>
        <p:sp>
          <p:nvSpPr>
            <p:cNvPr id="154" name=""/>
            <p:cNvSpPr/>
            <p:nvPr/>
          </p:nvSpPr>
          <p:spPr>
            <a:xfrm>
              <a:off x="1377000" y="5661000"/>
              <a:ext cx="962640" cy="57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6200000">
              <a:off x="1595880" y="5468040"/>
              <a:ext cx="577440" cy="96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835080" y="5860800"/>
            <a:ext cx="531360" cy="538560"/>
            <a:chOff x="3835080" y="5860800"/>
            <a:chExt cx="531360" cy="538560"/>
          </a:xfrm>
        </p:grpSpPr>
        <p:grpSp>
          <p:nvGrpSpPr>
            <p:cNvPr id="157" name=""/>
            <p:cNvGrpSpPr/>
            <p:nvPr/>
          </p:nvGrpSpPr>
          <p:grpSpPr>
            <a:xfrm>
              <a:off x="3835080" y="5860800"/>
              <a:ext cx="531000" cy="531360"/>
              <a:chOff x="3835080" y="5860800"/>
              <a:chExt cx="531000" cy="531360"/>
            </a:xfrm>
          </p:grpSpPr>
          <p:sp>
            <p:nvSpPr>
              <p:cNvPr id="158" name=""/>
              <p:cNvSpPr/>
              <p:nvPr/>
            </p:nvSpPr>
            <p:spPr>
              <a:xfrm rot="8106000">
                <a:off x="3918960" y="5937120"/>
                <a:ext cx="370080" cy="37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2706600">
                <a:off x="3911760" y="5944680"/>
                <a:ext cx="370080" cy="37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 rot="18906600">
              <a:off x="3919320" y="5952240"/>
              <a:ext cx="370080" cy="37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84360" y="2349360"/>
            <a:ext cx="770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nerative Po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1880" y="158580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1880" y="367344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83520" y="568944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09600" y="3170160"/>
            <a:ext cx="350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55880" y="4033800"/>
            <a:ext cx="187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C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45960" y="4321080"/>
            <a:ext cx="27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) =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36240" y="5186520"/>
            <a:ext cx="150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C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635280" y="4581000"/>
            <a:ext cx="3241800" cy="8636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132000" y="3789000"/>
            <a:ext cx="2232000" cy="5763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771640" y="4868640"/>
            <a:ext cx="0" cy="3603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1834920" y="4076280"/>
            <a:ext cx="64908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908000" y="5734080"/>
            <a:ext cx="57636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258920" y="4221000"/>
            <a:ext cx="0" cy="1440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1258920" y="2133720"/>
            <a:ext cx="0" cy="15825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1763280" y="1916280"/>
            <a:ext cx="5472360" cy="1225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380360" y="3644640"/>
            <a:ext cx="0" cy="4316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6000" y="5734080"/>
            <a:ext cx="5061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797600" y="537372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36000" y="6237360"/>
            <a:ext cx="506160" cy="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797600" y="587700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Jiří Techet</cp:lastModifiedBy>
  <dcterms:modified xsi:type="dcterms:W3CDTF">2005-10-12T15:12:21Z</dcterms:modified>
  <cp:revision>153</cp:revision>
  <dc:subject/>
  <dc:title>Part I. Alphabets, Strings, and Languages</dc:title>
</cp:coreProperties>
</file>