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C954-C9BA-47DC-8EE6-CFF49714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A4A0-FDCE-4727-82EE-3B78D2DD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6E9D-6A49-48C3-9A33-9CBF0F37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18C3-66A1-4909-8608-0923891E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779B-BA19-4622-AA53-949C8283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077C-C768-4261-AD19-C8C21046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4CB1-1B60-4976-9B30-993C4A30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E3C2-0288-46C1-B082-961D448D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93F-CA28-4EB8-8324-A5080296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805-0DCE-45C5-8724-CA67B983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7402-24E7-4DD8-9083-C1D8B669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8A7-A18D-425A-9240-65AA436B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7B87-C612-4610-939A-47305261E68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2T10:07:47Z</dcterms:modified>
  <cp:revision>154</cp:revision>
  <dc:subject/>
  <dc:title>Part I. Alphabets, Strings, and Languages</dc:title>
</cp:coreProperties>
</file>