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6741-1BB5-4A9B-B6A5-F0001367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2095-CC5C-4E93-BEA7-69E90F0F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452C-EE6D-48DF-A2CD-A2091C88D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5F86-615F-439D-B933-CDD7B717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AA1C-3F5E-4117-A093-C1A60CFC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E2EA-6851-4CF9-B9F2-DD031A41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803A-AE88-4883-A229-5CD333E7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995E-2C80-4358-AC21-1D6DBE1B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C8AE-81F3-4306-B70E-1EB7FAA3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AC73-A930-4925-80E5-386F6A0E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D2AC-C868-4462-B669-439ABC27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BA7F-8E40-42CB-9D05-02A4D3C0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24E6-1142-4047-B96D-BC2881796A4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Regulated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3320" y="3656880"/>
            <a:ext cx="5426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3333cc"/>
                </a:solidFill>
                <a:latin typeface="Times New Roman"/>
              </a:rPr>
              <a:t>Alexander Medun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ist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3723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 a pushdown automaton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and control language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ccepts a string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if and only i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tains a control string according to which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kes a sequence of moves so it reaches a final configuration after reading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371600"/>
            <a:ext cx="7772400" cy="533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ushdown automaton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752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20968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3962520"/>
            <a:ext cx="7772400" cy="21333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124080"/>
            <a:ext cx="7772400" cy="6858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95280"/>
            <a:ext cx="792468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n alphabet of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ule labe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Let every ru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labeled with a uniqu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00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962520"/>
            <a:ext cx="807732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move from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Apa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xwq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371600"/>
            <a:ext cx="7772400" cy="1676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371600"/>
            <a:ext cx="784872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ny configuration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200400"/>
            <a:ext cx="7772400" cy="2666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200400"/>
            <a:ext cx="8153280" cy="27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there exist a sequence of configuration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he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ritten a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371600"/>
            <a:ext cx="79246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 With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accepts its language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 Fami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371600"/>
            <a:ext cx="8077320" cy="43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context-free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recursively enumerable langu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regul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37160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371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640" y="21330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2920" y="2666520"/>
            <a:ext cx="53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cl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1840" y="3352320"/>
            <a:ext cx="42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6280" y="3961440"/>
            <a:ext cx="320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26080" y="4742280"/>
            <a:ext cx="324864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20000" y="4742280"/>
            <a:ext cx="101736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909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8720" y="5409360"/>
            <a:ext cx="715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regular grammar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rules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5053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219320"/>
            <a:ext cx="7848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ransform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regulated by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to a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36124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8851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54853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t of final stat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ate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5486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14600" y="4437720"/>
            <a:ext cx="22960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ew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724280" y="4724280"/>
            <a:ext cx="137160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75248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7524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640" y="28188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39920" y="304704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4038480"/>
            <a:ext cx="7772400" cy="2057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371600"/>
            <a:ext cx="79246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sider two consecutive moves made by a pushdown automaton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during the first move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oes not shorten its pushdown and during the second move it does,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akes a turn during the second m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one-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it makes no more than one turn with either of its pushdowns during any computation starting from an initial configu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per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493640"/>
            <a:ext cx="8001000" cy="48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Acta Cybernetica, Vol. 2000, No. 4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, p. 653-664, ISSN 0324-721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ne-Turn Regulated Pushdown Automata and Their Reducti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Fundamenta Informatica, Vol. 2002, No. 16, Amsterdam, NL, p. 399-405, ISSN 0169-29996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29420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a  move,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ted PDA changes a state and, in addition, performs exactly one of the following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ushes a symbol onto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ops a symbol from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ads an inpu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371600"/>
            <a:ext cx="7772400" cy="2209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371600"/>
            <a:ext cx="792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is accepted by an atomic one-turn PDA regulated by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640" y="365724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39920" y="388548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spiration: Regulated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167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2591280"/>
            <a:ext cx="2590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57142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1827720"/>
            <a:ext cx="228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3426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904040"/>
            <a:ext cx="396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5160" y="5504760"/>
            <a:ext cx="50310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281844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86200" y="5942880"/>
            <a:ext cx="4897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234440"/>
            <a:ext cx="8153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 generate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35}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28492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2480" y="5256720"/>
            <a:ext cx="3124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: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3120" y="260928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2189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 PDA is based on a finite set of rules of the for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35802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7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7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83240" y="26092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71960" y="542844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6360" y="5428440"/>
            <a:ext cx="35928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nput symbol or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581280" y="3048120"/>
            <a:ext cx="1981440" cy="914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276720"/>
            <a:ext cx="30492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3276720"/>
            <a:ext cx="38088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505320" y="4723920"/>
            <a:ext cx="457200" cy="6858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790960" y="4723920"/>
            <a:ext cx="75960" cy="6858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ew Concept: 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13444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57142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0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14472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7998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144792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1827720"/>
            <a:ext cx="3733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82520" y="5961960"/>
            <a:ext cx="51069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827720"/>
            <a:ext cx="2514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59440" y="6038280"/>
            <a:ext cx="49734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18240"/>
            <a:ext cx="81536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56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20896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accept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99320" y="5409360"/>
            <a:ext cx="3340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6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2666880"/>
            <a:ext cx="37339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600" y="2666160"/>
            <a:ext cx="164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Roman Lukáš</cp:lastModifiedBy>
  <dcterms:modified xsi:type="dcterms:W3CDTF">2003-09-17T18:05:46Z</dcterms:modified>
  <cp:revision>97</cp:revision>
  <dc:subject/>
  <dc:title>Bez nadpisu</dc:title>
</cp:coreProperties>
</file>