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0B9-705E-4DA6-BA0D-5579E0F3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231-4EE3-42C5-8C1B-C72002EF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D35-D9BF-48FB-99EC-A6254D92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409-13F5-40CC-A26B-A02CE937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2BD7-DB7E-4F5B-B1DD-7353A173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A9B6-0F21-4A4D-98EE-71C540FC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1D56-D362-47A3-8DFD-2B5E869E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9ABC-2986-41EB-9611-D4E8637D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A82E-118F-4404-A1AA-92D8E632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8708-A30E-477B-A7C3-41067256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C551-8789-44C5-A9E7-4F4C352A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79C-7EE3-4CCC-BCF6-520664D3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08A2-D790-46C3-89AA-88629BBC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6229-5A05-4C52-AFD5-85CF31FA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39C6-6585-43FF-B137-7A5F0EBD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A7D2-E8AD-4AA3-A289-CD57F04C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5AAA-36DE-47F5-97C7-6EDB411A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AE7-40EF-4B0F-B830-3D616045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F4F-E5DF-4BA7-868A-37ED126D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822-7974-48B6-B212-42B82ADA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67D-22B3-4474-9715-54A35B95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480-8839-4054-A000-117B6B8D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672-854D-4C0D-A2D9-AFEAD752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8F7-99AF-461E-9395-C0109B5F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7D29-4434-4DE7-A094-12D6D4D861EB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BD33-078C-4533-8FBA-AF4FF1AC9155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dvanced VYP Mater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lated to VYP0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seim</cp:lastModifiedBy>
  <dcterms:modified xsi:type="dcterms:W3CDTF">2005-10-22T14:23:06Z</dcterms:modified>
  <cp:revision>195</cp:revision>
  <dc:subject/>
  <dc:title>Parallel communicating (PC) grammar systems</dc:title>
</cp:coreProperties>
</file>