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E713-0AC8-49FE-B28B-EBD724752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3940-BCEF-45F3-A746-700480B8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25C3-6138-42DF-B3E4-492ECA9B8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CD86-9C51-49CB-AB72-81BEECF30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C134-9B8B-4717-94D6-E853B0D2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8A50-6C99-46CB-861C-EDDA76B4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6C2F-8BC2-4708-8A3C-AB2E9D02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A775-CD86-49A9-9CC3-6B185DCB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C846-BE18-45EE-A329-8098B568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017F-FBC4-4CF5-A7B1-C547F69B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D23D-5CCB-4B18-A5B9-7BF6CBD9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0B1C-7923-4E05-85A6-E012A421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1936-C534-4D2A-AAA2-4D63DD8F3D6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Regulated Autom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3320" y="3656880"/>
            <a:ext cx="5426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3333cc"/>
                </a:solidFill>
                <a:latin typeface="Times New Roman"/>
              </a:rPr>
              <a:t>Alexander Medun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ist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3723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 a pushdown automaton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and control language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ccepts a string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if and only i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tains a control string according to which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kes a sequence of moves so it reaches a final configuration after reading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371600"/>
            <a:ext cx="7772400" cy="533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ushdown automaton is a 7-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752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209680"/>
            <a:ext cx="754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3962520"/>
            <a:ext cx="7772400" cy="21333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124080"/>
            <a:ext cx="7772400" cy="6858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95280"/>
            <a:ext cx="792468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n alphabet of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ule labe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Let every ru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labeled with a uniqu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00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962520"/>
            <a:ext cx="807732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move from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Apa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xwq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371600"/>
            <a:ext cx="7772400" cy="1676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371600"/>
            <a:ext cx="784872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ny configuration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200400"/>
            <a:ext cx="7772400" cy="2666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200400"/>
            <a:ext cx="8153280" cy="27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there exist a sequence of configuration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whe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written a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371600"/>
            <a:ext cx="79246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 With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accepts its language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 Fami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371600"/>
            <a:ext cx="8077320" cy="43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ine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context-free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recursively enumerable langu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anguages accepted by PDAs regulated by regul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anguages accepted by PDAs regulated by line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. and its Proof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37160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371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640" y="21330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2920" y="2666520"/>
            <a:ext cx="53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cl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1840" y="3352320"/>
            <a:ext cx="42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6280" y="3961440"/>
            <a:ext cx="320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26080" y="4742280"/>
            <a:ext cx="324864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20000" y="4742280"/>
            <a:ext cx="101736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5909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8720" y="5409360"/>
            <a:ext cx="715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regular grammar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rules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5053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. and its Proof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219320"/>
            <a:ext cx="7848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ransform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regulated by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to a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36124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8851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54853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t of final state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ate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5486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14600" y="4437720"/>
            <a:ext cx="22960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ew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724280" y="4724280"/>
            <a:ext cx="137160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75248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7524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640" y="28188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39920" y="304704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4038480"/>
            <a:ext cx="7772400" cy="2057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371600"/>
            <a:ext cx="79246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sider two consecutive moves made by a pushdown automaton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during the first move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oes not shorten its pushdown and during the second move it does,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akes a turn during the second m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one-tur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it makes no more than one turn with either of its pushdowns during any computation starting from an initial configu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per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493640"/>
            <a:ext cx="8001000" cy="48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ted Pushdown Automat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: Acta Cybernetica, Vol. 2000, No. 4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S, p. 653-664, ISSN 0324-721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ne-Turn Regulated Pushdown Automata and Their Reducti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: Fundamenta Informatica, Vol. 2002, No. 16, Amsterdam, NL, p. 399-405, ISSN 0169-29996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29420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uring a  move,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tom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ted PDA changes a state and, in addition, performs exactly one of the following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ushes a symbol onto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ops a symbol from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ads an inpu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371600"/>
            <a:ext cx="7772400" cy="2209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371600"/>
            <a:ext cx="7924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is accepted by an atomic one-turn PDA regulated by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640" y="365724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39920" y="388548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spiration: Regulated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1675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2591280"/>
            <a:ext cx="2590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57142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1827720"/>
            <a:ext cx="228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43426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447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5720" y="129492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904040"/>
            <a:ext cx="396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5160" y="5504760"/>
            <a:ext cx="50310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294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281844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86200" y="5942880"/>
            <a:ext cx="4897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234440"/>
            <a:ext cx="8153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 generate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35}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28492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2480" y="5256720"/>
            <a:ext cx="3124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: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3120" y="2609280"/>
            <a:ext cx="37026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2189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 PDA is based on a finite set of rules of the for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35802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7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7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7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83240" y="2609280"/>
            <a:ext cx="12733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71960" y="5428440"/>
            <a:ext cx="344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6360" y="5428440"/>
            <a:ext cx="35928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nput symbol or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581280" y="3048120"/>
            <a:ext cx="1981440" cy="914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276720"/>
            <a:ext cx="30492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3276720"/>
            <a:ext cx="38088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505320" y="4723920"/>
            <a:ext cx="457200" cy="6858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5790960" y="4723920"/>
            <a:ext cx="75960" cy="6858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ew Concept: 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134440"/>
            <a:ext cx="335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57142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0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14472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7998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144792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5720" y="129492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1827720"/>
            <a:ext cx="3733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b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82520" y="5961960"/>
            <a:ext cx="51069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294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827720"/>
            <a:ext cx="2514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59440" y="6038280"/>
            <a:ext cx="49734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18240"/>
            <a:ext cx="81536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56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20896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accept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99320" y="5409360"/>
            <a:ext cx="3340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6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2666880"/>
            <a:ext cx="37339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600" y="2666160"/>
            <a:ext cx="164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</dc:creator>
  <dc:description/>
  <dc:language>en-US</dc:language>
  <cp:lastModifiedBy>Roman Lukáš</cp:lastModifiedBy>
  <dcterms:modified xsi:type="dcterms:W3CDTF">2003-09-17T18:05:46Z</dcterms:modified>
  <cp:revision>97</cp:revision>
  <dc:subject/>
  <dc:title>Bez nadpisu</dc:title>
</cp:coreProperties>
</file>