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BD6-2B09-46CA-B293-149EEAEE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3F3-0FB4-4A4C-A7CD-B85250D4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93A-B50C-41FD-B640-980BDFC1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F06-9FF3-4C7F-95AF-8226FAD5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C7A-854E-4051-8F75-C9899326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533-D6DB-4C8D-88B6-7FAF39F4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829-803B-4DCC-BFFA-1451AB47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910-E311-4612-9966-D309DC86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A9B-B0F8-4178-84EF-7D1738DA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534-1FC5-496E-9E77-D954B619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47C-7F5C-40A1-AFDA-3DCA2FD3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140-3701-4032-B892-EEF6A203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5686-777E-43C9-879D-EC9CFD46329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5:17Z</dcterms:modified>
  <cp:revision>268</cp:revision>
  <dc:subject/>
  <dc:title>Top-Down Parsing</dc:title>
</cp:coreProperties>
</file>