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392-E8CE-431C-9B82-0671A0F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ADD-0390-4479-91D1-A63847FC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0A5-E3B9-4DAB-8C53-8EE89BD6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8BF-89A1-4623-9368-9F1EFC23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272-9256-45ED-8351-B3BD062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A0F-09C7-47A5-AAD5-055F235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796-9C82-4BA4-BE5E-C332CF5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583-1918-48FA-B0A9-0DE15433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EFC-9BED-4669-A252-1EE794C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B07-315F-4969-8470-0AA50FE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6A1-68DB-4766-B59C-D5A9211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B17-41A0-4999-8600-7203EA7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8F69-10C4-40FC-833C-06C473FB2A0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0:04Z</dcterms:modified>
  <cp:revision>131</cp:revision>
  <dc:subject/>
  <dc:title>Lexical Analysis</dc:title>
</cp:coreProperties>
</file>