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FD7-256F-4465-AC7E-D0F0BE19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44E-0041-43AA-BBAF-5C371F8B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DEB-6E20-4E14-B9DF-ED6B0069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5EB-6FB4-4C27-B2E8-AC904A29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9D78-42BB-4FFA-9DD5-5F6B0250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BFB-F29F-4557-ABB5-475E6854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26A-8E21-42D7-A7C6-14A7D77B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7A4-D68D-4A94-BBAD-A19DE2F7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EB5-5ED4-4FE8-B052-7925E1CA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31B-430B-4EF5-951D-C0385BAE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4093-8A9D-4CA8-BA58-8FA087D6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7CB7-9E1D-4420-A9E6-C8A45B44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B259-3A03-4E8F-ADED-AFD24DD526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8120" y="3860280"/>
            <a:ext cx="69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dvaced VYP Materia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lated to VYP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4C8-0F24-4423-A347-EDD4E341CDF8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8D9-9A4C-4649-B45C-BE2B9034D236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485-B8E7-4D5A-AF80-3C766C82A118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92D-F2E0-4206-B688-1009935913C3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253-5C4E-4200-B517-0F531F73F918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D6B-6C4D-40BC-B887-065FAB6573AE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599-8D73-40BB-99BB-8676DC89B337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AF0-2ADA-4C70-8F63-41F3AE88424A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992-FD84-4BB9-BCF2-987BC6AD58F3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8F0D-0871-4BBE-BBC8-AB9D5E6E9EA1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931-53B6-4588-8844-8B7611E4E5A4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A03-2FE1-466D-BF19-E3D11FECC204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F1C-482D-406E-A4FE-3B62703171D5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5CC-FEF7-4909-9A31-0F228F7DA385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7B3-9164-488B-9E71-2726E0905A65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68BD-B810-4FB7-B0D8-71EA502C5874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E213-3FB7-4C70-8435-7F55E742685E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895-EDE7-470E-8BD6-5FA497926E08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2C1-20BD-4ADF-BC78-623D097AD0AD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99F-DF4F-44D0-BEE9-F3F74433A129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3D2-1902-466E-A6AB-8E37232AB545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031-FD05-4CDB-B423-95C683D03B7E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024-53D8-4A10-A659-ED4B7684BA61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5C0-8DE7-4DEE-9ACF-F7E04D07C726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F85C-59F9-427A-9555-7F240014A2A5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8E1-FD91-42E4-A89E-F565703ECBDB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0EF-C405-4D5F-9665-4284FDBF1E84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63D-3A02-4337-A2F9-E06C6D9E86DE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Alexander Meduna</cp:lastModifiedBy>
  <dcterms:modified xsi:type="dcterms:W3CDTF">2005-10-09T19:37:59Z</dcterms:modified>
  <cp:revision>26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</Properties>
</file>