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1D8-8614-46F5-92C0-031D5057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258-2591-43C7-AD38-191764E6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1A9-CD4A-4F9B-9040-22083323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5826-C197-487F-A5D0-062810A6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14D-F723-4D3C-B57A-F965FA9D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FE74-352B-402A-94E1-7C27B8F8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4FA-948A-4048-9A85-7E48CCB3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0AA-7277-4D45-BF9D-A275D631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544-981D-45F9-AF96-DED23A5F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2652-2019-42BD-993D-959F8809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D91-8AFF-45E3-96FA-89C4EC1F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183E-2AD5-4679-81EB-13069E43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F1BA-13A6-4326-B76A-CB1F15EF0B5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25:39Z</dcterms:modified>
  <cp:revision>125</cp:revision>
  <dc:subject/>
  <dc:title>Introduction to Compilers</dc:title>
</cp:coreProperties>
</file>