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E9D4-3C95-4D02-8365-DFEBA4B1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9AC-D956-463E-ACD8-FE89AEFB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A91-3DB5-4D26-A071-7A59CA8A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6EC-5D16-48F6-A956-0C48FECC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8151-9A47-494D-B5FD-FDABB036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78C-D872-40FD-9346-C9DD8298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D38-D170-4233-8409-5C9EC7D8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EFA-91A5-42EE-92D9-4EAF7D2D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1D6C-BB38-43A1-932F-50AAE7EB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989A-C431-48BB-B303-A4C25EEF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DA3-0111-4275-B109-0BF28E07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E958-3953-4CE1-B7B9-EF400EEC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A19D-CB6B-4B87-9E6E-1FB5F96E124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2T10:07:47Z</dcterms:modified>
  <cp:revision>154</cp:revision>
  <dc:subject/>
  <dc:title>Part I. Alphabets, Strings, and Languages</dc:title>
</cp:coreProperties>
</file>