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48B5-90A0-49D0-A353-E081B4EC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5788-EE6C-4DB9-8E7C-017B7274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4E37-9A1F-42A3-94B8-CB91C037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43BB-8BE0-4891-998A-FCA78713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4C3A-B42A-42E2-86CC-452FF5E7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9BB8-32E8-4678-8601-0E270E90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BB2A-4D09-422C-9092-A5132FA6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5F29-7CCC-4269-80E8-43FE3DB7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5C36-426E-42BC-BEBD-F9C8C36C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79CD-94CC-43C3-9744-DEC16486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99E-FC16-48AA-AF48-6FB29AA1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FCAB-77FA-4619-BDEF-AFB05544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31D4-4832-4F71-9221-0CDC7173FD9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Rewrit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Jiří Techet</cp:lastModifiedBy>
  <dcterms:modified xsi:type="dcterms:W3CDTF">2005-10-12T15:12:21Z</dcterms:modified>
  <cp:revision>153</cp:revision>
  <dc:subject/>
  <dc:title>Part I. Alphabets, Strings, and Languages</dc:title>
</cp:coreProperties>
</file>