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45C-B531-4588-87D4-FFBFA48D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C9E-587E-41F8-9013-EE761050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871-EC3C-4559-B679-ED306D85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BCC-C117-4DC9-B003-2D7F1CB5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40A-7688-446D-A3CA-9D2093A1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BC0-2652-4BE6-AB30-0E09C47C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5494-70E4-4C8A-80FF-2D9B9C62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3DC-8CD0-4769-863A-01BC4056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DF2-DA74-497C-AF08-9647AC06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0DA-B0D0-4BD7-B4D6-27B89391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885-DA5E-4A86-8143-A252065A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6E4D-7014-41D4-B11C-DF67D8F8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A422-149C-4442-8AA6-66F7579D4F7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7:02Z</dcterms:modified>
  <cp:revision>130</cp:revision>
  <dc:subject/>
  <dc:title>Variants of Finite Automata</dc:title>
</cp:coreProperties>
</file>