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00E-0D7D-4DDB-83F3-50970E65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F7B-657E-4C04-95A7-8E77F24D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4E3-4157-440F-A5F3-537B9DF6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F1F-35FB-4E73-827B-C50F6A12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9F29-24F7-4683-AE7C-896AF23D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A5DD-7548-4DA9-B3D7-DE60C532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04D9-201C-4571-AB27-3344AAA9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ABC3-A591-4BA7-951B-84CE7CDF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602A-4197-46DB-BBE1-540DF662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5C97-685A-48E1-AC19-C8130AFB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F3C3-35A7-4760-8767-F863D785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3FA-AB04-4386-A106-6468FF49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D96F-FEF7-4D1D-A3E4-5A510058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819B-4B96-4CE5-95E0-AA7E6834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A351-D5DD-44ED-9F5C-93A4BB5D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70BE-1F30-4DEE-AA75-FE98FCD2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F29F-C333-4C1A-A2E8-D4DE5E7D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481-5D4C-4A61-98E7-99E7C83B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D6A-9C89-456C-8265-1F37A010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5FD-A009-4362-A88F-AD861AFA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683-316A-4227-AB77-22FBEA34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C68-F3ED-47EB-9C4E-E722E75B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C33-62D0-4752-83A3-E0AC1B68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19E-C002-42C7-AABB-5674586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7A85-77C7-45BD-A39D-355A1F0A5288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FD31-DC31-40EE-91D1-2C537C45BE94}" type="slidenum">
              <a:rPr b="0" lang="cs-CZ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dvanced VYP Mater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lated to VYP0</a:t>
            </a:r>
            <a:r>
              <a:rPr b="1" lang="cs-CZ" sz="4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seim</cp:lastModifiedBy>
  <dcterms:modified xsi:type="dcterms:W3CDTF">2005-10-22T14:23:06Z</dcterms:modified>
  <cp:revision>195</cp:revision>
  <dc:subject/>
  <dc:title>Parallel communicating (PC) grammar systems</dc:title>
</cp:coreProperties>
</file>