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496D-AA13-4595-BEA6-3534BDBC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3971-7054-4537-9D2F-51C75A6D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CFE9-6CBD-41D1-BBD3-397EBD1E4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8402-9F9C-4E69-8981-204D12CB4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58BE-E819-40FD-BC7A-F2922123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52D2-E7F2-4296-B523-A3B9CBA6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5EAA-7212-4951-9AE4-A82FD883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84D5-D144-4798-AB33-BB52D70F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7E2F-A01B-4854-8C8C-FC4F3FD6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71A2-363D-444C-B34E-8C930F8D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D066-89E6-4C17-93AA-8F7BBA17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63FB-D81E-4C01-BC30-361FAAE4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203C-A537-47A8-B0B2-EDC4E3B2AA2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cc"/>
                </a:solidFill>
                <a:latin typeface="Times New Roman"/>
              </a:rPr>
              <a:t>Part XI.</a:t>
            </a:r>
            <a:br>
              <a:rPr sz="5400"/>
            </a:b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Syntax Directed Translation and Intermediate Co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fix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5800" y="1143000"/>
            <a:ext cx="8001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Eve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operato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ccurs behind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era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62120" y="502920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tfix notation is achievable by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torder traversal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T</a:t>
            </a:r>
            <a:r>
              <a:rPr b="0" lang="cs-CZ" sz="3200" spc="-1" strike="noStrike">
                <a:solidFill>
                  <a:srgbClr val="40008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400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9480" y="2590920"/>
            <a:ext cx="7772400" cy="21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ix not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stfix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else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f-then-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447920" y="266688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447920" y="472428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7920" y="304812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44792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95288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22960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1981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fix to Postfix Directed by a BU Pars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1905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200400" y="1905120"/>
            <a:ext cx="5410080" cy="20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 -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24080" y="198108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396252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24080" y="236232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12408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56272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8188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051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623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195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339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767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94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648320" y="54864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15000" y="5562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657600" y="4952880"/>
            <a:ext cx="3429000" cy="1602720"/>
            <a:chOff x="3657600" y="4952880"/>
            <a:chExt cx="3429000" cy="1602720"/>
          </a:xfrm>
        </p:grpSpPr>
        <p:sp>
          <p:nvSpPr>
            <p:cNvPr id="434" name=""/>
            <p:cNvSpPr/>
            <p:nvPr/>
          </p:nvSpPr>
          <p:spPr>
            <a:xfrm>
              <a:off x="67057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3657600" y="4952880"/>
              <a:ext cx="609480" cy="1191240"/>
              <a:chOff x="3657600" y="4952880"/>
              <a:chExt cx="609480" cy="1191240"/>
            </a:xfrm>
          </p:grpSpPr>
          <p:sp>
            <p:nvSpPr>
              <p:cNvPr id="436" name=""/>
              <p:cNvSpPr/>
              <p:nvPr/>
            </p:nvSpPr>
            <p:spPr>
              <a:xfrm>
                <a:off x="38862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6576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657600" y="4952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8862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0" name=""/>
          <p:cNvGrpSpPr/>
          <p:nvPr/>
        </p:nvGrpSpPr>
        <p:grpSpPr>
          <a:xfrm>
            <a:off x="2133720" y="3733920"/>
            <a:ext cx="5867280" cy="2821680"/>
            <a:chOff x="2133720" y="3733920"/>
            <a:chExt cx="5867280" cy="2821680"/>
          </a:xfrm>
        </p:grpSpPr>
        <p:sp>
          <p:nvSpPr>
            <p:cNvPr id="441" name=""/>
            <p:cNvSpPr/>
            <p:nvPr/>
          </p:nvSpPr>
          <p:spPr>
            <a:xfrm>
              <a:off x="76201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2133720" y="3733920"/>
              <a:ext cx="1371600" cy="2410200"/>
              <a:chOff x="2133720" y="3733920"/>
              <a:chExt cx="1371600" cy="2410200"/>
            </a:xfrm>
          </p:grpSpPr>
          <p:sp>
            <p:nvSpPr>
              <p:cNvPr id="443" name=""/>
              <p:cNvSpPr/>
              <p:nvPr/>
            </p:nvSpPr>
            <p:spPr>
              <a:xfrm>
                <a:off x="2590920" y="4191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2320" y="3733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2860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2133720" y="4191120"/>
                <a:ext cx="4572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590920" y="4191120"/>
                <a:ext cx="0" cy="144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590920" y="4191120"/>
                <a:ext cx="91440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9" name=""/>
          <p:cNvGrpSpPr/>
          <p:nvPr/>
        </p:nvGrpSpPr>
        <p:grpSpPr>
          <a:xfrm>
            <a:off x="3200040" y="4419720"/>
            <a:ext cx="4343760" cy="2135880"/>
            <a:chOff x="3200040" y="4419720"/>
            <a:chExt cx="4343760" cy="2135880"/>
          </a:xfrm>
        </p:grpSpPr>
        <p:sp>
          <p:nvSpPr>
            <p:cNvPr id="450" name=""/>
            <p:cNvSpPr/>
            <p:nvPr/>
          </p:nvSpPr>
          <p:spPr>
            <a:xfrm>
              <a:off x="71629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3200040" y="4419720"/>
              <a:ext cx="609840" cy="1800360"/>
              <a:chOff x="3200040" y="4419720"/>
              <a:chExt cx="609840" cy="1800360"/>
            </a:xfrm>
          </p:grpSpPr>
          <p:sp>
            <p:nvSpPr>
              <p:cNvPr id="452" name=""/>
              <p:cNvSpPr/>
              <p:nvPr/>
            </p:nvSpPr>
            <p:spPr>
              <a:xfrm>
                <a:off x="3200400" y="5029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276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505320" y="495288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505320" y="4952880"/>
                <a:ext cx="3045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3200040" y="4952880"/>
                <a:ext cx="30492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2004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8" name=""/>
          <p:cNvGrpSpPr/>
          <p:nvPr/>
        </p:nvGrpSpPr>
        <p:grpSpPr>
          <a:xfrm>
            <a:off x="2743200" y="4952880"/>
            <a:ext cx="3886200" cy="1602720"/>
            <a:chOff x="2743200" y="4952880"/>
            <a:chExt cx="3886200" cy="1602720"/>
          </a:xfrm>
        </p:grpSpPr>
        <p:sp>
          <p:nvSpPr>
            <p:cNvPr id="459" name=""/>
            <p:cNvSpPr/>
            <p:nvPr/>
          </p:nvSpPr>
          <p:spPr>
            <a:xfrm>
              <a:off x="62485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2743200" y="4952880"/>
              <a:ext cx="609480" cy="1191240"/>
              <a:chOff x="2743200" y="4952880"/>
              <a:chExt cx="609480" cy="1191240"/>
            </a:xfrm>
          </p:grpSpPr>
          <p:sp>
            <p:nvSpPr>
              <p:cNvPr id="461" name=""/>
              <p:cNvSpPr/>
              <p:nvPr/>
            </p:nvSpPr>
            <p:spPr>
              <a:xfrm>
                <a:off x="27432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819520" y="49528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812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7432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5" name=""/>
          <p:cNvGrpSpPr/>
          <p:nvPr/>
        </p:nvGrpSpPr>
        <p:grpSpPr>
          <a:xfrm>
            <a:off x="1828800" y="4952880"/>
            <a:ext cx="4343400" cy="1602720"/>
            <a:chOff x="1828800" y="4952880"/>
            <a:chExt cx="4343400" cy="1602720"/>
          </a:xfrm>
        </p:grpSpPr>
        <p:sp>
          <p:nvSpPr>
            <p:cNvPr id="466" name=""/>
            <p:cNvSpPr/>
            <p:nvPr/>
          </p:nvSpPr>
          <p:spPr>
            <a:xfrm>
              <a:off x="57913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1828800" y="4952880"/>
              <a:ext cx="609480" cy="1191240"/>
              <a:chOff x="1828800" y="4952880"/>
              <a:chExt cx="609480" cy="1191240"/>
            </a:xfrm>
          </p:grpSpPr>
          <p:sp>
            <p:nvSpPr>
              <p:cNvPr id="468" name=""/>
              <p:cNvSpPr/>
              <p:nvPr/>
            </p:nvSpPr>
            <p:spPr>
              <a:xfrm>
                <a:off x="1905120" y="49528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8288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13372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288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2" name=""/>
          <p:cNvSpPr/>
          <p:nvPr/>
        </p:nvSpPr>
        <p:spPr>
          <a:xfrm>
            <a:off x="685800" y="1143000"/>
            <a:ext cx="800100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mantic actions produce the postfix vers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f  the tokenized sourc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lation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1143000"/>
            <a:ext cx="82296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Translation grammars translate input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rings to output string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2514600"/>
            <a:ext cx="289548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arser based 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 input gramm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9480" y="190512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Translation by two gramma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312408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520" y="2362320"/>
            <a:ext cx="1066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57800" y="2514600"/>
            <a:ext cx="1752480" cy="678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43400" y="3124080"/>
            <a:ext cx="914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19720" y="236232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ft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a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010280" y="3124080"/>
            <a:ext cx="1295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010280" y="243828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9480" y="3352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Translation by a single gramm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48120" y="4724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295280" y="4724280"/>
            <a:ext cx="15242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172200" y="4724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343400" y="472428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219320" y="3886200"/>
            <a:ext cx="6400800" cy="776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ser based on a grammar with rules having two right-hand si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28600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5029200"/>
            <a:ext cx="30456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19920" y="5029200"/>
            <a:ext cx="30456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32448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62940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41008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9548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71500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505320" y="50292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0040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86000" y="54100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19920" y="5410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62120" y="5410080"/>
            <a:ext cx="7696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During the parse of an input string, a simultaneous generation f an output string occu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Grammar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895480" y="1143000"/>
            <a:ext cx="4191120" cy="25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of 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of 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819520" y="121932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19520" y="36576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19520" y="16002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8195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72428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7057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86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38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810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382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3526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954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08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09880" y="4876920"/>
            <a:ext cx="228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7242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6095880" y="3809880"/>
            <a:ext cx="2362320" cy="2745720"/>
            <a:chOff x="6095880" y="3809880"/>
            <a:chExt cx="2362320" cy="2745720"/>
          </a:xfrm>
        </p:grpSpPr>
        <p:sp>
          <p:nvSpPr>
            <p:cNvPr id="528" name=""/>
            <p:cNvSpPr/>
            <p:nvPr/>
          </p:nvSpPr>
          <p:spPr>
            <a:xfrm>
              <a:off x="6858000" y="41911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086600" y="4114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095880" y="4038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6476760" y="411480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9246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0010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86600" y="4114800"/>
              <a:ext cx="11430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629400" y="3809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6553080" y="4343400"/>
            <a:ext cx="1447920" cy="2212200"/>
            <a:chOff x="6553080" y="4343400"/>
            <a:chExt cx="1447920" cy="2212200"/>
          </a:xfrm>
        </p:grpSpPr>
        <p:sp>
          <p:nvSpPr>
            <p:cNvPr id="537" name=""/>
            <p:cNvSpPr/>
            <p:nvPr/>
          </p:nvSpPr>
          <p:spPr>
            <a:xfrm flipH="1">
              <a:off x="685764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86600" y="464832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0102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53080" y="4572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86600" y="4648320"/>
              <a:ext cx="6858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6748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438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0572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5943600" y="4343400"/>
            <a:ext cx="685800" cy="810000"/>
            <a:chOff x="5943600" y="4343400"/>
            <a:chExt cx="685800" cy="810000"/>
          </a:xfrm>
        </p:grpSpPr>
        <p:sp>
          <p:nvSpPr>
            <p:cNvPr id="546" name=""/>
            <p:cNvSpPr/>
            <p:nvPr/>
          </p:nvSpPr>
          <p:spPr>
            <a:xfrm>
              <a:off x="6095880" y="4572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324480" y="4495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94360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5943600" y="4876920"/>
            <a:ext cx="685800" cy="810000"/>
            <a:chOff x="5943600" y="4876920"/>
            <a:chExt cx="685800" cy="810000"/>
          </a:xfrm>
        </p:grpSpPr>
        <p:sp>
          <p:nvSpPr>
            <p:cNvPr id="550" name=""/>
            <p:cNvSpPr/>
            <p:nvPr/>
          </p:nvSpPr>
          <p:spPr>
            <a:xfrm>
              <a:off x="60958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32448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436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5943600" y="5410080"/>
            <a:ext cx="685800" cy="1145520"/>
            <a:chOff x="5943600" y="5410080"/>
            <a:chExt cx="685800" cy="1145520"/>
          </a:xfrm>
        </p:grpSpPr>
        <p:sp>
          <p:nvSpPr>
            <p:cNvPr id="554" name=""/>
            <p:cNvSpPr/>
            <p:nvPr/>
          </p:nvSpPr>
          <p:spPr>
            <a:xfrm>
              <a:off x="63244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958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1722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43600" y="5410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6553080" y="4876920"/>
            <a:ext cx="609840" cy="810000"/>
            <a:chOff x="6553080" y="4876920"/>
            <a:chExt cx="609840" cy="810000"/>
          </a:xfrm>
        </p:grpSpPr>
        <p:sp>
          <p:nvSpPr>
            <p:cNvPr id="559" name=""/>
            <p:cNvSpPr/>
            <p:nvPr/>
          </p:nvSpPr>
          <p:spPr>
            <a:xfrm>
              <a:off x="678168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5530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816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553080" y="5410080"/>
            <a:ext cx="609840" cy="1145520"/>
            <a:chOff x="6553080" y="5410080"/>
            <a:chExt cx="609840" cy="1145520"/>
          </a:xfrm>
        </p:grpSpPr>
        <p:sp>
          <p:nvSpPr>
            <p:cNvPr id="563" name=""/>
            <p:cNvSpPr/>
            <p:nvPr/>
          </p:nvSpPr>
          <p:spPr>
            <a:xfrm>
              <a:off x="67816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530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6294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816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7010280" y="5410080"/>
            <a:ext cx="609840" cy="1145520"/>
            <a:chOff x="7010280" y="5410080"/>
            <a:chExt cx="609840" cy="1145520"/>
          </a:xfrm>
        </p:grpSpPr>
        <p:sp>
          <p:nvSpPr>
            <p:cNvPr id="568" name=""/>
            <p:cNvSpPr/>
            <p:nvPr/>
          </p:nvSpPr>
          <p:spPr>
            <a:xfrm>
              <a:off x="72388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102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866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2388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1447920" y="4038480"/>
            <a:ext cx="3047760" cy="2181600"/>
            <a:chOff x="1447920" y="4038480"/>
            <a:chExt cx="3047760" cy="2181600"/>
          </a:xfrm>
        </p:grpSpPr>
        <p:grpSp>
          <p:nvGrpSpPr>
            <p:cNvPr id="573" name=""/>
            <p:cNvGrpSpPr/>
            <p:nvPr/>
          </p:nvGrpSpPr>
          <p:grpSpPr>
            <a:xfrm>
              <a:off x="1447920" y="4038480"/>
              <a:ext cx="1981080" cy="2181600"/>
              <a:chOff x="1447920" y="4038480"/>
              <a:chExt cx="1981080" cy="2181600"/>
            </a:xfrm>
          </p:grpSpPr>
          <p:sp>
            <p:nvSpPr>
              <p:cNvPr id="574" name=""/>
              <p:cNvSpPr/>
              <p:nvPr/>
            </p:nvSpPr>
            <p:spPr>
              <a:xfrm>
                <a:off x="2895840" y="4038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051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44792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828440" y="4191120"/>
                <a:ext cx="3812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210040" y="41911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210040" y="4191120"/>
                <a:ext cx="7617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90512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41148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295280" y="4343400"/>
            <a:ext cx="3353040" cy="993240"/>
            <a:chOff x="1295280" y="4343400"/>
            <a:chExt cx="3353040" cy="993240"/>
          </a:xfrm>
        </p:grpSpPr>
        <p:grpSp>
          <p:nvGrpSpPr>
            <p:cNvPr id="583" name=""/>
            <p:cNvGrpSpPr/>
            <p:nvPr/>
          </p:nvGrpSpPr>
          <p:grpSpPr>
            <a:xfrm>
              <a:off x="1295280" y="4343400"/>
              <a:ext cx="685800" cy="810000"/>
              <a:chOff x="1295280" y="4343400"/>
              <a:chExt cx="685800" cy="810000"/>
            </a:xfrm>
          </p:grpSpPr>
          <p:sp>
            <p:nvSpPr>
              <p:cNvPr id="584" name=""/>
              <p:cNvSpPr/>
              <p:nvPr/>
            </p:nvSpPr>
            <p:spPr>
              <a:xfrm>
                <a:off x="144756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67616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29528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42670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1295280" y="4876920"/>
            <a:ext cx="3505320" cy="810000"/>
            <a:chOff x="1295280" y="4876920"/>
            <a:chExt cx="3505320" cy="810000"/>
          </a:xfrm>
        </p:grpSpPr>
        <p:grpSp>
          <p:nvGrpSpPr>
            <p:cNvPr id="589" name=""/>
            <p:cNvGrpSpPr/>
            <p:nvPr/>
          </p:nvGrpSpPr>
          <p:grpSpPr>
            <a:xfrm>
              <a:off x="1295280" y="4876920"/>
              <a:ext cx="685800" cy="810000"/>
              <a:chOff x="1295280" y="4876920"/>
              <a:chExt cx="685800" cy="810000"/>
            </a:xfrm>
          </p:grpSpPr>
          <p:sp>
            <p:nvSpPr>
              <p:cNvPr id="590" name=""/>
              <p:cNvSpPr/>
              <p:nvPr/>
            </p:nvSpPr>
            <p:spPr>
              <a:xfrm>
                <a:off x="144756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67616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29528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>
              <a:off x="44197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1295280" y="4876920"/>
            <a:ext cx="3657600" cy="1343160"/>
            <a:chOff x="1295280" y="4876920"/>
            <a:chExt cx="3657600" cy="1343160"/>
          </a:xfrm>
        </p:grpSpPr>
        <p:grpSp>
          <p:nvGrpSpPr>
            <p:cNvPr id="595" name=""/>
            <p:cNvGrpSpPr/>
            <p:nvPr/>
          </p:nvGrpSpPr>
          <p:grpSpPr>
            <a:xfrm>
              <a:off x="1295280" y="5410080"/>
              <a:ext cx="685800" cy="810000"/>
              <a:chOff x="1295280" y="5410080"/>
              <a:chExt cx="685800" cy="810000"/>
            </a:xfrm>
          </p:grpSpPr>
          <p:sp>
            <p:nvSpPr>
              <p:cNvPr id="596" name=""/>
              <p:cNvSpPr/>
              <p:nvPr/>
            </p:nvSpPr>
            <p:spPr>
              <a:xfrm>
                <a:off x="167616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44756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29528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45720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362320" y="4419720"/>
            <a:ext cx="2743200" cy="1876680"/>
            <a:chOff x="2362320" y="4419720"/>
            <a:chExt cx="2743200" cy="1876680"/>
          </a:xfrm>
        </p:grpSpPr>
        <p:grpSp>
          <p:nvGrpSpPr>
            <p:cNvPr id="601" name=""/>
            <p:cNvGrpSpPr/>
            <p:nvPr/>
          </p:nvGrpSpPr>
          <p:grpSpPr>
            <a:xfrm>
              <a:off x="2362320" y="4419720"/>
              <a:ext cx="1447200" cy="1876680"/>
              <a:chOff x="2362320" y="4419720"/>
              <a:chExt cx="1447200" cy="1876680"/>
            </a:xfrm>
          </p:grpSpPr>
          <p:sp>
            <p:nvSpPr>
              <p:cNvPr id="602" name=""/>
              <p:cNvSpPr/>
              <p:nvPr/>
            </p:nvSpPr>
            <p:spPr>
              <a:xfrm flipH="1">
                <a:off x="2666520" y="4495680"/>
                <a:ext cx="45684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362320" y="45720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276360" y="51055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124080" y="449568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819160" y="57150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124080" y="4495680"/>
                <a:ext cx="38052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276360" y="441972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47242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2362320" y="4876920"/>
            <a:ext cx="2895480" cy="810000"/>
            <a:chOff x="2362320" y="4876920"/>
            <a:chExt cx="2895480" cy="810000"/>
          </a:xfrm>
        </p:grpSpPr>
        <p:grpSp>
          <p:nvGrpSpPr>
            <p:cNvPr id="611" name=""/>
            <p:cNvGrpSpPr/>
            <p:nvPr/>
          </p:nvGrpSpPr>
          <p:grpSpPr>
            <a:xfrm>
              <a:off x="2362320" y="4876920"/>
              <a:ext cx="609480" cy="810000"/>
              <a:chOff x="2362320" y="4876920"/>
              <a:chExt cx="609480" cy="810000"/>
            </a:xfrm>
          </p:grpSpPr>
          <p:sp>
            <p:nvSpPr>
              <p:cNvPr id="612" name=""/>
              <p:cNvSpPr/>
              <p:nvPr/>
            </p:nvSpPr>
            <p:spPr>
              <a:xfrm>
                <a:off x="259092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36232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59092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48769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2362320" y="4876920"/>
            <a:ext cx="3047760" cy="1343160"/>
            <a:chOff x="2362320" y="4876920"/>
            <a:chExt cx="3047760" cy="1343160"/>
          </a:xfrm>
        </p:grpSpPr>
        <p:grpSp>
          <p:nvGrpSpPr>
            <p:cNvPr id="617" name=""/>
            <p:cNvGrpSpPr/>
            <p:nvPr/>
          </p:nvGrpSpPr>
          <p:grpSpPr>
            <a:xfrm>
              <a:off x="2362320" y="5410080"/>
              <a:ext cx="609480" cy="810000"/>
              <a:chOff x="2362320" y="5410080"/>
              <a:chExt cx="609480" cy="810000"/>
            </a:xfrm>
          </p:grpSpPr>
          <p:sp>
            <p:nvSpPr>
              <p:cNvPr id="618" name=""/>
              <p:cNvSpPr/>
              <p:nvPr/>
            </p:nvSpPr>
            <p:spPr>
              <a:xfrm>
                <a:off x="259092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3623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5909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50292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3276720" y="4876920"/>
            <a:ext cx="2286000" cy="1343160"/>
            <a:chOff x="3276720" y="4876920"/>
            <a:chExt cx="2286000" cy="1343160"/>
          </a:xfrm>
        </p:grpSpPr>
        <p:grpSp>
          <p:nvGrpSpPr>
            <p:cNvPr id="623" name=""/>
            <p:cNvGrpSpPr/>
            <p:nvPr/>
          </p:nvGrpSpPr>
          <p:grpSpPr>
            <a:xfrm>
              <a:off x="3276720" y="5410080"/>
              <a:ext cx="609480" cy="810000"/>
              <a:chOff x="3276720" y="5410080"/>
              <a:chExt cx="609480" cy="810000"/>
            </a:xfrm>
          </p:grpSpPr>
          <p:sp>
            <p:nvSpPr>
              <p:cNvPr id="624" name=""/>
              <p:cNvSpPr/>
              <p:nvPr/>
            </p:nvSpPr>
            <p:spPr>
              <a:xfrm>
                <a:off x="350532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2767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5053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51814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5638680" y="4876920"/>
            <a:ext cx="228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14800" y="4572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09480" y="1143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x to postfix trans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Grammar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895480" y="1143000"/>
            <a:ext cx="5410440" cy="25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. Eleme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819520" y="121932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19520" y="36576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819520" y="16002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195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72428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057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362320" y="3657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9051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3623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195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7339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2767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5720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648320" y="48006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858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7242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1828800" y="3809880"/>
            <a:ext cx="6629400" cy="2745720"/>
            <a:chOff x="1828800" y="3809880"/>
            <a:chExt cx="6629400" cy="2745720"/>
          </a:xfrm>
        </p:grpSpPr>
        <p:grpSp>
          <p:nvGrpSpPr>
            <p:cNvPr id="652" name=""/>
            <p:cNvGrpSpPr/>
            <p:nvPr/>
          </p:nvGrpSpPr>
          <p:grpSpPr>
            <a:xfrm>
              <a:off x="1828800" y="4038480"/>
              <a:ext cx="1981080" cy="2181600"/>
              <a:chOff x="1828800" y="4038480"/>
              <a:chExt cx="1981080" cy="2181600"/>
            </a:xfrm>
          </p:grpSpPr>
          <p:sp>
            <p:nvSpPr>
              <p:cNvPr id="653" name=""/>
              <p:cNvSpPr/>
              <p:nvPr/>
            </p:nvSpPr>
            <p:spPr>
              <a:xfrm>
                <a:off x="3276720" y="4038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2860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82880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2209320" y="4191120"/>
                <a:ext cx="3812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590920" y="41911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590920" y="4191120"/>
                <a:ext cx="7617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28600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6095880" y="3809880"/>
              <a:ext cx="2362320" cy="2745720"/>
              <a:chOff x="6095880" y="3809880"/>
              <a:chExt cx="2362320" cy="2745720"/>
            </a:xfrm>
          </p:grpSpPr>
          <p:sp>
            <p:nvSpPr>
              <p:cNvPr id="661" name=""/>
              <p:cNvSpPr/>
              <p:nvPr/>
            </p:nvSpPr>
            <p:spPr>
              <a:xfrm>
                <a:off x="6858000" y="41911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86600" y="411480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09588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6476760" y="4114800"/>
                <a:ext cx="6094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9246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0010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086600" y="4114800"/>
                <a:ext cx="114300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629400" y="38098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9" name=""/>
          <p:cNvGrpSpPr/>
          <p:nvPr/>
        </p:nvGrpSpPr>
        <p:grpSpPr>
          <a:xfrm>
            <a:off x="2743200" y="4343400"/>
            <a:ext cx="5257800" cy="2212200"/>
            <a:chOff x="2743200" y="4343400"/>
            <a:chExt cx="5257800" cy="2212200"/>
          </a:xfrm>
        </p:grpSpPr>
        <p:grpSp>
          <p:nvGrpSpPr>
            <p:cNvPr id="670" name=""/>
            <p:cNvGrpSpPr/>
            <p:nvPr/>
          </p:nvGrpSpPr>
          <p:grpSpPr>
            <a:xfrm>
              <a:off x="2743200" y="4419720"/>
              <a:ext cx="1447920" cy="1876680"/>
              <a:chOff x="2743200" y="4419720"/>
              <a:chExt cx="1447920" cy="1876680"/>
            </a:xfrm>
          </p:grpSpPr>
          <p:sp>
            <p:nvSpPr>
              <p:cNvPr id="671" name=""/>
              <p:cNvSpPr/>
              <p:nvPr/>
            </p:nvSpPr>
            <p:spPr>
              <a:xfrm flipH="1">
                <a:off x="3048120" y="4495680"/>
                <a:ext cx="45720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74320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6576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05320" y="449568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200400" y="5715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05320" y="4495680"/>
                <a:ext cx="38088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657600" y="44197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6553080" y="4343400"/>
              <a:ext cx="1447920" cy="2212200"/>
              <a:chOff x="6553080" y="4343400"/>
              <a:chExt cx="1447920" cy="2212200"/>
            </a:xfrm>
          </p:grpSpPr>
          <p:sp>
            <p:nvSpPr>
              <p:cNvPr id="679" name=""/>
              <p:cNvSpPr/>
              <p:nvPr/>
            </p:nvSpPr>
            <p:spPr>
              <a:xfrm flipH="1">
                <a:off x="6857640" y="464832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86600" y="4648320"/>
                <a:ext cx="15228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0102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55308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86600" y="4648320"/>
                <a:ext cx="685800" cy="11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467480" y="5715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5438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70572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7" name=""/>
          <p:cNvGrpSpPr/>
          <p:nvPr/>
        </p:nvGrpSpPr>
        <p:grpSpPr>
          <a:xfrm>
            <a:off x="1676520" y="4343400"/>
            <a:ext cx="4952880" cy="810000"/>
            <a:chOff x="1676520" y="4343400"/>
            <a:chExt cx="4952880" cy="810000"/>
          </a:xfrm>
        </p:grpSpPr>
        <p:grpSp>
          <p:nvGrpSpPr>
            <p:cNvPr id="688" name=""/>
            <p:cNvGrpSpPr/>
            <p:nvPr/>
          </p:nvGrpSpPr>
          <p:grpSpPr>
            <a:xfrm>
              <a:off x="1676520" y="4343400"/>
              <a:ext cx="685800" cy="810000"/>
              <a:chOff x="1676520" y="4343400"/>
              <a:chExt cx="685800" cy="810000"/>
            </a:xfrm>
          </p:grpSpPr>
          <p:sp>
            <p:nvSpPr>
              <p:cNvPr id="689" name=""/>
              <p:cNvSpPr/>
              <p:nvPr/>
            </p:nvSpPr>
            <p:spPr>
              <a:xfrm>
                <a:off x="182880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05740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67652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5943600" y="4343400"/>
              <a:ext cx="685800" cy="810000"/>
              <a:chOff x="5943600" y="4343400"/>
              <a:chExt cx="685800" cy="810000"/>
            </a:xfrm>
          </p:grpSpPr>
          <p:sp>
            <p:nvSpPr>
              <p:cNvPr id="693" name=""/>
              <p:cNvSpPr/>
              <p:nvPr/>
            </p:nvSpPr>
            <p:spPr>
              <a:xfrm>
                <a:off x="609588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32448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94360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6" name=""/>
          <p:cNvGrpSpPr/>
          <p:nvPr/>
        </p:nvGrpSpPr>
        <p:grpSpPr>
          <a:xfrm>
            <a:off x="1676520" y="4876920"/>
            <a:ext cx="4952880" cy="810000"/>
            <a:chOff x="1676520" y="4876920"/>
            <a:chExt cx="4952880" cy="810000"/>
          </a:xfrm>
        </p:grpSpPr>
        <p:grpSp>
          <p:nvGrpSpPr>
            <p:cNvPr id="697" name=""/>
            <p:cNvGrpSpPr/>
            <p:nvPr/>
          </p:nvGrpSpPr>
          <p:grpSpPr>
            <a:xfrm>
              <a:off x="1676520" y="4876920"/>
              <a:ext cx="685800" cy="810000"/>
              <a:chOff x="1676520" y="4876920"/>
              <a:chExt cx="685800" cy="810000"/>
            </a:xfrm>
          </p:grpSpPr>
          <p:sp>
            <p:nvSpPr>
              <p:cNvPr id="698" name=""/>
              <p:cNvSpPr/>
              <p:nvPr/>
            </p:nvSpPr>
            <p:spPr>
              <a:xfrm>
                <a:off x="18288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05740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67652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5943600" y="4876920"/>
              <a:ext cx="685800" cy="810000"/>
              <a:chOff x="5943600" y="4876920"/>
              <a:chExt cx="685800" cy="810000"/>
            </a:xfrm>
          </p:grpSpPr>
          <p:sp>
            <p:nvSpPr>
              <p:cNvPr id="702" name=""/>
              <p:cNvSpPr/>
              <p:nvPr/>
            </p:nvSpPr>
            <p:spPr>
              <a:xfrm>
                <a:off x="60958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32448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94360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"/>
          <p:cNvGrpSpPr/>
          <p:nvPr/>
        </p:nvGrpSpPr>
        <p:grpSpPr>
          <a:xfrm>
            <a:off x="1676520" y="5410080"/>
            <a:ext cx="4952880" cy="1145520"/>
            <a:chOff x="1676520" y="5410080"/>
            <a:chExt cx="4952880" cy="1145520"/>
          </a:xfrm>
        </p:grpSpPr>
        <p:grpSp>
          <p:nvGrpSpPr>
            <p:cNvPr id="706" name=""/>
            <p:cNvGrpSpPr/>
            <p:nvPr/>
          </p:nvGrpSpPr>
          <p:grpSpPr>
            <a:xfrm>
              <a:off x="1676520" y="5410080"/>
              <a:ext cx="685800" cy="810000"/>
              <a:chOff x="1676520" y="5410080"/>
              <a:chExt cx="685800" cy="810000"/>
            </a:xfrm>
          </p:grpSpPr>
          <p:sp>
            <p:nvSpPr>
              <p:cNvPr id="707" name=""/>
              <p:cNvSpPr/>
              <p:nvPr/>
            </p:nvSpPr>
            <p:spPr>
              <a:xfrm>
                <a:off x="20574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8288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6765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5943600" y="5410080"/>
              <a:ext cx="685800" cy="1145520"/>
              <a:chOff x="5943600" y="5410080"/>
              <a:chExt cx="685800" cy="1145520"/>
            </a:xfrm>
          </p:grpSpPr>
          <p:sp>
            <p:nvSpPr>
              <p:cNvPr id="711" name=""/>
              <p:cNvSpPr/>
              <p:nvPr/>
            </p:nvSpPr>
            <p:spPr>
              <a:xfrm>
                <a:off x="63244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0958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1722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9436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5" name=""/>
          <p:cNvGrpSpPr/>
          <p:nvPr/>
        </p:nvGrpSpPr>
        <p:grpSpPr>
          <a:xfrm>
            <a:off x="2743200" y="4876920"/>
            <a:ext cx="4419720" cy="810000"/>
            <a:chOff x="2743200" y="4876920"/>
            <a:chExt cx="4419720" cy="810000"/>
          </a:xfrm>
        </p:grpSpPr>
        <p:grpSp>
          <p:nvGrpSpPr>
            <p:cNvPr id="716" name=""/>
            <p:cNvGrpSpPr/>
            <p:nvPr/>
          </p:nvGrpSpPr>
          <p:grpSpPr>
            <a:xfrm>
              <a:off x="2743200" y="4876920"/>
              <a:ext cx="609480" cy="810000"/>
              <a:chOff x="2743200" y="4876920"/>
              <a:chExt cx="609480" cy="810000"/>
            </a:xfrm>
          </p:grpSpPr>
          <p:sp>
            <p:nvSpPr>
              <p:cNvPr id="717" name=""/>
              <p:cNvSpPr/>
              <p:nvPr/>
            </p:nvSpPr>
            <p:spPr>
              <a:xfrm>
                <a:off x="297180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7432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97180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6553080" y="4876920"/>
              <a:ext cx="609840" cy="810000"/>
              <a:chOff x="6553080" y="4876920"/>
              <a:chExt cx="609840" cy="810000"/>
            </a:xfrm>
          </p:grpSpPr>
          <p:sp>
            <p:nvSpPr>
              <p:cNvPr id="721" name=""/>
              <p:cNvSpPr/>
              <p:nvPr/>
            </p:nvSpPr>
            <p:spPr>
              <a:xfrm>
                <a:off x="678168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5530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781680" y="48769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4" name=""/>
          <p:cNvGrpSpPr/>
          <p:nvPr/>
        </p:nvGrpSpPr>
        <p:grpSpPr>
          <a:xfrm>
            <a:off x="2743200" y="5410080"/>
            <a:ext cx="4419720" cy="1145520"/>
            <a:chOff x="2743200" y="5410080"/>
            <a:chExt cx="4419720" cy="1145520"/>
          </a:xfrm>
        </p:grpSpPr>
        <p:grpSp>
          <p:nvGrpSpPr>
            <p:cNvPr id="725" name=""/>
            <p:cNvGrpSpPr/>
            <p:nvPr/>
          </p:nvGrpSpPr>
          <p:grpSpPr>
            <a:xfrm>
              <a:off x="2743200" y="5410080"/>
              <a:ext cx="609480" cy="810000"/>
              <a:chOff x="2743200" y="5410080"/>
              <a:chExt cx="609480" cy="810000"/>
            </a:xfrm>
          </p:grpSpPr>
          <p:sp>
            <p:nvSpPr>
              <p:cNvPr id="726" name=""/>
              <p:cNvSpPr/>
              <p:nvPr/>
            </p:nvSpPr>
            <p:spPr>
              <a:xfrm>
                <a:off x="29718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7432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9718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6553080" y="5410080"/>
              <a:ext cx="609840" cy="1145520"/>
              <a:chOff x="6553080" y="5410080"/>
              <a:chExt cx="609840" cy="1145520"/>
            </a:xfrm>
          </p:grpSpPr>
          <p:sp>
            <p:nvSpPr>
              <p:cNvPr id="730" name=""/>
              <p:cNvSpPr/>
              <p:nvPr/>
            </p:nvSpPr>
            <p:spPr>
              <a:xfrm>
                <a:off x="67816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5530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6294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781680" y="5410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4" name=""/>
          <p:cNvGrpSpPr/>
          <p:nvPr/>
        </p:nvGrpSpPr>
        <p:grpSpPr>
          <a:xfrm>
            <a:off x="3657600" y="5410080"/>
            <a:ext cx="3962520" cy="1145520"/>
            <a:chOff x="3657600" y="5410080"/>
            <a:chExt cx="3962520" cy="1145520"/>
          </a:xfrm>
        </p:grpSpPr>
        <p:grpSp>
          <p:nvGrpSpPr>
            <p:cNvPr id="735" name=""/>
            <p:cNvGrpSpPr/>
            <p:nvPr/>
          </p:nvGrpSpPr>
          <p:grpSpPr>
            <a:xfrm>
              <a:off x="3657600" y="5410080"/>
              <a:ext cx="609480" cy="810000"/>
              <a:chOff x="3657600" y="5410080"/>
              <a:chExt cx="609480" cy="810000"/>
            </a:xfrm>
          </p:grpSpPr>
          <p:sp>
            <p:nvSpPr>
              <p:cNvPr id="736" name=""/>
              <p:cNvSpPr/>
              <p:nvPr/>
            </p:nvSpPr>
            <p:spPr>
              <a:xfrm>
                <a:off x="38862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6576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8862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7010280" y="5410080"/>
              <a:ext cx="609840" cy="1145520"/>
              <a:chOff x="7010280" y="5410080"/>
              <a:chExt cx="609840" cy="1145520"/>
            </a:xfrm>
          </p:grpSpPr>
          <p:sp>
            <p:nvSpPr>
              <p:cNvPr id="740" name=""/>
              <p:cNvSpPr/>
              <p:nvPr/>
            </p:nvSpPr>
            <p:spPr>
              <a:xfrm>
                <a:off x="72388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010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0866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238880" y="5410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4" name=""/>
          <p:cNvSpPr/>
          <p:nvPr/>
        </p:nvSpPr>
        <p:spPr>
          <a:xfrm>
            <a:off x="609480" y="1143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x to postfix trans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5105520" y="4267080"/>
            <a:ext cx="327636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Generation of 3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2860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7432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2004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148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6576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04920" y="60958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191120" y="41148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1143000"/>
            <a:ext cx="800100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BU parser directs the ge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ation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rec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9480" y="182880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1905120"/>
            <a:ext cx="609588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i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+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*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cs-CZ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514600" y="1981080"/>
            <a:ext cx="5867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514600" y="3809880"/>
            <a:ext cx="5867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514600" y="2286000"/>
            <a:ext cx="5867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514600" y="1981080"/>
            <a:ext cx="144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648320" y="1981080"/>
            <a:ext cx="144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381880" y="1981080"/>
            <a:ext cx="180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3716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288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638680" y="3809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2209680" y="4267080"/>
            <a:ext cx="5562720" cy="1877040"/>
            <a:chOff x="2209680" y="4267080"/>
            <a:chExt cx="5562720" cy="1877040"/>
          </a:xfrm>
        </p:grpSpPr>
        <p:grpSp>
          <p:nvGrpSpPr>
            <p:cNvPr id="769" name=""/>
            <p:cNvGrpSpPr/>
            <p:nvPr/>
          </p:nvGrpSpPr>
          <p:grpSpPr>
            <a:xfrm>
              <a:off x="2209680" y="4952880"/>
              <a:ext cx="609480" cy="1191240"/>
              <a:chOff x="2209680" y="4952880"/>
              <a:chExt cx="609480" cy="1191240"/>
            </a:xfrm>
          </p:grpSpPr>
          <p:sp>
            <p:nvSpPr>
              <p:cNvPr id="770" name=""/>
              <p:cNvSpPr/>
              <p:nvPr/>
            </p:nvSpPr>
            <p:spPr>
              <a:xfrm>
                <a:off x="2286000" y="495288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1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2096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5146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096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5105520" y="4267080"/>
              <a:ext cx="26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3124080" y="4648320"/>
            <a:ext cx="4648320" cy="1495800"/>
            <a:chOff x="3124080" y="4648320"/>
            <a:chExt cx="4648320" cy="1495800"/>
          </a:xfrm>
        </p:grpSpPr>
        <p:grpSp>
          <p:nvGrpSpPr>
            <p:cNvPr id="776" name=""/>
            <p:cNvGrpSpPr/>
            <p:nvPr/>
          </p:nvGrpSpPr>
          <p:grpSpPr>
            <a:xfrm>
              <a:off x="3124080" y="4952880"/>
              <a:ext cx="609480" cy="1191240"/>
              <a:chOff x="3124080" y="4952880"/>
              <a:chExt cx="609480" cy="1191240"/>
            </a:xfrm>
          </p:grpSpPr>
          <p:sp>
            <p:nvSpPr>
              <p:cNvPr id="777" name=""/>
              <p:cNvSpPr/>
              <p:nvPr/>
            </p:nvSpPr>
            <p:spPr>
              <a:xfrm>
                <a:off x="31240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200400" y="495288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2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4290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1240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5105520" y="4648320"/>
              <a:ext cx="26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4038480" y="4952880"/>
            <a:ext cx="4191120" cy="1191240"/>
            <a:chOff x="4038480" y="4952880"/>
            <a:chExt cx="4191120" cy="1191240"/>
          </a:xfrm>
        </p:grpSpPr>
        <p:grpSp>
          <p:nvGrpSpPr>
            <p:cNvPr id="783" name=""/>
            <p:cNvGrpSpPr/>
            <p:nvPr/>
          </p:nvGrpSpPr>
          <p:grpSpPr>
            <a:xfrm>
              <a:off x="4038480" y="4952880"/>
              <a:ext cx="609480" cy="1191240"/>
              <a:chOff x="4038480" y="4952880"/>
              <a:chExt cx="609480" cy="1191240"/>
            </a:xfrm>
          </p:grpSpPr>
          <p:sp>
            <p:nvSpPr>
              <p:cNvPr id="784" name=""/>
              <p:cNvSpPr/>
              <p:nvPr/>
            </p:nvSpPr>
            <p:spPr>
              <a:xfrm>
                <a:off x="42670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0384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038480" y="4952880"/>
                <a:ext cx="53352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26708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8" name=""/>
            <p:cNvSpPr/>
            <p:nvPr/>
          </p:nvSpPr>
          <p:spPr>
            <a:xfrm>
              <a:off x="5105520" y="5029200"/>
              <a:ext cx="312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3580920" y="4419720"/>
            <a:ext cx="4953600" cy="1800360"/>
            <a:chOff x="3580920" y="4419720"/>
            <a:chExt cx="4953600" cy="1800360"/>
          </a:xfrm>
        </p:grpSpPr>
        <p:grpSp>
          <p:nvGrpSpPr>
            <p:cNvPr id="790" name=""/>
            <p:cNvGrpSpPr/>
            <p:nvPr/>
          </p:nvGrpSpPr>
          <p:grpSpPr>
            <a:xfrm>
              <a:off x="3580920" y="4419720"/>
              <a:ext cx="609840" cy="1800360"/>
              <a:chOff x="3580920" y="4419720"/>
              <a:chExt cx="609840" cy="1800360"/>
            </a:xfrm>
          </p:grpSpPr>
          <p:sp>
            <p:nvSpPr>
              <p:cNvPr id="791" name=""/>
              <p:cNvSpPr/>
              <p:nvPr/>
            </p:nvSpPr>
            <p:spPr>
              <a:xfrm>
                <a:off x="3581280" y="5029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57600" y="441972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4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886200" y="495288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886200" y="4952880"/>
                <a:ext cx="3045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3580920" y="4952880"/>
                <a:ext cx="30492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581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7" name=""/>
            <p:cNvSpPr/>
            <p:nvPr/>
          </p:nvSpPr>
          <p:spPr>
            <a:xfrm>
              <a:off x="5105520" y="5410080"/>
              <a:ext cx="3429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*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2514600" y="3733920"/>
            <a:ext cx="6172200" cy="2567520"/>
            <a:chOff x="2514600" y="3733920"/>
            <a:chExt cx="6172200" cy="2567520"/>
          </a:xfrm>
        </p:grpSpPr>
        <p:grpSp>
          <p:nvGrpSpPr>
            <p:cNvPr id="799" name=""/>
            <p:cNvGrpSpPr/>
            <p:nvPr/>
          </p:nvGrpSpPr>
          <p:grpSpPr>
            <a:xfrm>
              <a:off x="2514600" y="3733920"/>
              <a:ext cx="1371600" cy="2410200"/>
              <a:chOff x="2514600" y="3733920"/>
              <a:chExt cx="1371600" cy="2410200"/>
            </a:xfrm>
          </p:grpSpPr>
          <p:sp>
            <p:nvSpPr>
              <p:cNvPr id="800" name=""/>
              <p:cNvSpPr/>
              <p:nvPr/>
            </p:nvSpPr>
            <p:spPr>
              <a:xfrm>
                <a:off x="2971800" y="4191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743200" y="373392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5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6668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>
                <a:off x="2514600" y="4191120"/>
                <a:ext cx="4572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971800" y="4191120"/>
                <a:ext cx="0" cy="144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971800" y="4191120"/>
                <a:ext cx="91440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6" name=""/>
            <p:cNvSpPr/>
            <p:nvPr/>
          </p:nvSpPr>
          <p:spPr>
            <a:xfrm>
              <a:off x="5105520" y="5791320"/>
              <a:ext cx="3581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+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1295280" y="3276720"/>
            <a:ext cx="6629400" cy="3405600"/>
            <a:chOff x="1295280" y="3276720"/>
            <a:chExt cx="6629400" cy="3405600"/>
          </a:xfrm>
        </p:grpSpPr>
        <p:sp>
          <p:nvSpPr>
            <p:cNvPr id="808" name=""/>
            <p:cNvSpPr/>
            <p:nvPr/>
          </p:nvSpPr>
          <p:spPr>
            <a:xfrm>
              <a:off x="5105520" y="6172200"/>
              <a:ext cx="281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5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9" name=""/>
            <p:cNvGrpSpPr/>
            <p:nvPr/>
          </p:nvGrpSpPr>
          <p:grpSpPr>
            <a:xfrm>
              <a:off x="1295280" y="3276720"/>
              <a:ext cx="1600200" cy="2943360"/>
              <a:chOff x="1295280" y="3276720"/>
              <a:chExt cx="1600200" cy="2943360"/>
            </a:xfrm>
          </p:grpSpPr>
          <p:sp>
            <p:nvSpPr>
              <p:cNvPr id="810" name=""/>
              <p:cNvSpPr/>
              <p:nvPr/>
            </p:nvSpPr>
            <p:spPr>
              <a:xfrm>
                <a:off x="1905120" y="3276720"/>
                <a:ext cx="380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057400" y="3809880"/>
                <a:ext cx="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1600200" y="3809880"/>
                <a:ext cx="45720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7524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295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057400" y="3809880"/>
                <a:ext cx="83808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523880" y="38862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op-Down Translation: Introduc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85800" y="1219320"/>
            <a:ext cx="7696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L-grammar with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pushdow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pushdown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mantic push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type of attribu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synthesized: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   iheri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495680" y="297180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219320" y="3352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rom children to pa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2133360" y="464832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819520" y="46483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666880" y="41148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82880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59092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133720" y="4191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.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295280" y="5638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9" name=""/>
          <p:cNvCxnSpPr>
            <a:endCxn id="827" idx="1"/>
          </p:cNvCxnSpPr>
          <p:nvPr/>
        </p:nvCxnSpPr>
        <p:spPr>
          <a:xfrm flipH="1" flipV="1" rot="5400000">
            <a:off x="1257120" y="4685760"/>
            <a:ext cx="1143720" cy="61056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30" name=""/>
          <p:cNvSpPr/>
          <p:nvPr/>
        </p:nvSpPr>
        <p:spPr>
          <a:xfrm>
            <a:off x="4724280" y="335268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rom parent to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r between siblin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6095520" y="464832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6294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79132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5880" y="4191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2578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.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6" name=""/>
          <p:cNvCxnSpPr>
            <a:endCxn id="834" idx="1"/>
          </p:cNvCxnSpPr>
          <p:nvPr/>
        </p:nvCxnSpPr>
        <p:spPr>
          <a:xfrm flipH="1" flipV="1" rot="5400000">
            <a:off x="5219280" y="4685760"/>
            <a:ext cx="1143720" cy="610200"/>
          </a:xfrm>
          <a:prstGeom prst="curvedConnector2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837" name=""/>
          <p:cNvSpPr/>
          <p:nvPr/>
        </p:nvSpPr>
        <p:spPr>
          <a:xfrm>
            <a:off x="2819520" y="4648320"/>
            <a:ext cx="76176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352680" y="5562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781680" y="46483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553080" y="5562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781680" y="4648320"/>
            <a:ext cx="76212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31520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553080" y="6019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467480" y="6019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D.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086600" y="62485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op-Down Translation: 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800600" y="17524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124080" y="335268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124080" y="4267080"/>
            <a:ext cx="525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581280" y="24382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867280" y="24382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029200" y="4952880"/>
            <a:ext cx="3276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3885840" y="213372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952880" y="2133720"/>
            <a:ext cx="10670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3352320" y="2819520"/>
            <a:ext cx="3812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733920" y="281952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276720" y="37339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4952520" y="2895480"/>
            <a:ext cx="11430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95880" y="28954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5880" y="2895480"/>
            <a:ext cx="15242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5333760" y="38098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019920" y="380988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620120" y="3809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25780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78168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895480" y="1295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arse tree for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+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b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6095520" y="464832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781680" y="4648320"/>
            <a:ext cx="12193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553080" y="5867280"/>
            <a:ext cx="1752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781680" y="54100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00100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09480" y="12952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mm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85800" y="1981080"/>
            <a:ext cx="1905120" cy="3020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Q      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       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959200" y="35812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800600" y="4495680"/>
            <a:ext cx="304920" cy="83844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6247800" y="3657600"/>
            <a:ext cx="725400" cy="825480"/>
          </a:xfrm>
          <a:custGeom>
            <a:avLst/>
            <a:gdLst/>
            <a:ahLst/>
            <a:rect l="l" t="t" r="r" b="b"/>
            <a:pathLst>
              <a:path w="361" h="520">
                <a:moveTo>
                  <a:pt x="65" y="520"/>
                </a:moveTo>
                <a:cubicBezTo>
                  <a:pt x="62" y="460"/>
                  <a:pt x="0" y="247"/>
                  <a:pt x="49" y="160"/>
                </a:cubicBezTo>
                <a:cubicBezTo>
                  <a:pt x="98" y="73"/>
                  <a:pt x="296" y="33"/>
                  <a:pt x="361" y="0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400800" y="5410080"/>
            <a:ext cx="304920" cy="6858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248520" y="2583000"/>
            <a:ext cx="1409760" cy="782640"/>
          </a:xfrm>
          <a:custGeom>
            <a:avLst/>
            <a:gdLst/>
            <a:ahLst/>
            <a:rect l="l" t="t" r="r" b="b"/>
            <a:pathLst>
              <a:path w="888" h="493">
                <a:moveTo>
                  <a:pt x="888" y="493"/>
                </a:moveTo>
                <a:cubicBezTo>
                  <a:pt x="857" y="424"/>
                  <a:pt x="852" y="154"/>
                  <a:pt x="704" y="77"/>
                </a:cubicBezTo>
                <a:cubicBezTo>
                  <a:pt x="556" y="0"/>
                  <a:pt x="147" y="39"/>
                  <a:pt x="0" y="29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194440" y="1955880"/>
            <a:ext cx="1003320" cy="571320"/>
          </a:xfrm>
          <a:custGeom>
            <a:avLst/>
            <a:gdLst/>
            <a:ahLst/>
            <a:rect l="l" t="t" r="r" b="b"/>
            <a:pathLst>
              <a:path w="632" h="360">
                <a:moveTo>
                  <a:pt x="624" y="360"/>
                </a:moveTo>
                <a:cubicBezTo>
                  <a:pt x="607" y="316"/>
                  <a:pt x="632" y="156"/>
                  <a:pt x="528" y="96"/>
                </a:cubicBezTo>
                <a:cubicBezTo>
                  <a:pt x="424" y="36"/>
                  <a:pt x="110" y="20"/>
                  <a:pt x="0" y="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038480" y="2666880"/>
            <a:ext cx="175284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410080" y="44956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505320" y="3581280"/>
            <a:ext cx="6094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936960" y="2743200"/>
            <a:ext cx="311040" cy="609480"/>
          </a:xfrm>
          <a:custGeom>
            <a:avLst/>
            <a:gdLst/>
            <a:ahLst/>
            <a:rect l="l" t="t" r="r" b="b"/>
            <a:pathLst>
              <a:path w="196" h="384">
                <a:moveTo>
                  <a:pt x="168" y="384"/>
                </a:moveTo>
                <a:cubicBezTo>
                  <a:pt x="168" y="349"/>
                  <a:pt x="196" y="240"/>
                  <a:pt x="168" y="176"/>
                </a:cubicBezTo>
                <a:cubicBezTo>
                  <a:pt x="140" y="112"/>
                  <a:pt x="35" y="37"/>
                  <a:pt x="0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6248520" y="3276720"/>
            <a:ext cx="228600" cy="3045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248520" y="2819520"/>
            <a:ext cx="190440" cy="27936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0" y="0"/>
                </a:moveTo>
                <a:cubicBezTo>
                  <a:pt x="13" y="19"/>
                  <a:pt x="60" y="83"/>
                  <a:pt x="80" y="112"/>
                </a:cubicBezTo>
                <a:cubicBezTo>
                  <a:pt x="100" y="141"/>
                  <a:pt x="112" y="163"/>
                  <a:pt x="120" y="17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029200" y="3187800"/>
            <a:ext cx="1371600" cy="393480"/>
          </a:xfrm>
          <a:custGeom>
            <a:avLst/>
            <a:gdLst/>
            <a:ahLst/>
            <a:rect l="l" t="t" r="r" b="b"/>
            <a:pathLst>
              <a:path w="864" h="248">
                <a:moveTo>
                  <a:pt x="0" y="248"/>
                </a:moveTo>
                <a:cubicBezTo>
                  <a:pt x="75" y="215"/>
                  <a:pt x="304" y="89"/>
                  <a:pt x="448" y="48"/>
                </a:cubicBezTo>
                <a:cubicBezTo>
                  <a:pt x="592" y="7"/>
                  <a:pt x="777" y="10"/>
                  <a:pt x="864" y="0"/>
                </a:cubicBezTo>
              </a:path>
            </a:pathLst>
          </a:custGeom>
          <a:noFill/>
          <a:ln w="38160">
            <a:solidFill>
              <a:srgbClr val="b2b2b2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32448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467480" y="3886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807240" y="4622760"/>
            <a:ext cx="507960" cy="380880"/>
          </a:xfrm>
          <a:custGeom>
            <a:avLst/>
            <a:gdLst/>
            <a:ahLst/>
            <a:rect l="l" t="t" r="r" b="b"/>
            <a:pathLst>
              <a:path w="320" h="240">
                <a:moveTo>
                  <a:pt x="0" y="0"/>
                </a:moveTo>
                <a:cubicBezTo>
                  <a:pt x="24" y="20"/>
                  <a:pt x="91" y="80"/>
                  <a:pt x="144" y="120"/>
                </a:cubicBezTo>
                <a:cubicBezTo>
                  <a:pt x="197" y="160"/>
                  <a:pt x="283" y="215"/>
                  <a:pt x="320" y="24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248520" y="4995720"/>
            <a:ext cx="990360" cy="198720"/>
          </a:xfrm>
          <a:custGeom>
            <a:avLst/>
            <a:gdLst/>
            <a:ahLst/>
            <a:rect l="l" t="t" r="r" b="b"/>
            <a:pathLst>
              <a:path w="624" h="125">
                <a:moveTo>
                  <a:pt x="0" y="125"/>
                </a:moveTo>
                <a:cubicBezTo>
                  <a:pt x="57" y="106"/>
                  <a:pt x="240" y="26"/>
                  <a:pt x="344" y="13"/>
                </a:cubicBezTo>
                <a:cubicBezTo>
                  <a:pt x="448" y="0"/>
                  <a:pt x="566" y="38"/>
                  <a:pt x="624" y="45"/>
                </a:cubicBezTo>
              </a:path>
            </a:pathLst>
          </a:custGeom>
          <a:noFill/>
          <a:ln w="38160">
            <a:solidFill>
              <a:srgbClr val="b2b2b2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162920" y="4876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858000" y="4440240"/>
            <a:ext cx="1365120" cy="690480"/>
          </a:xfrm>
          <a:custGeom>
            <a:avLst/>
            <a:gdLst/>
            <a:ahLst/>
            <a:rect l="l" t="t" r="r" b="b"/>
            <a:pathLst>
              <a:path w="860" h="435">
                <a:moveTo>
                  <a:pt x="792" y="435"/>
                </a:moveTo>
                <a:cubicBezTo>
                  <a:pt x="781" y="374"/>
                  <a:pt x="860" y="134"/>
                  <a:pt x="728" y="67"/>
                </a:cubicBezTo>
                <a:cubicBezTo>
                  <a:pt x="596" y="0"/>
                  <a:pt x="152" y="42"/>
                  <a:pt x="0" y="35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467480" y="5105520"/>
            <a:ext cx="457200" cy="759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6934320" y="5181480"/>
            <a:ext cx="304560" cy="7632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629400" y="3276720"/>
            <a:ext cx="83808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iable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amp; Parenthes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676520" y="23623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752480" y="37339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905120" y="2971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743200" y="3048120"/>
            <a:ext cx="0" cy="7617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572000" y="1219320"/>
            <a:ext cx="0" cy="510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11430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648320" y="11430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enthe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62120" y="5486400"/>
            <a:ext cx="373356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62120" y="55627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981080" y="5562720"/>
            <a:ext cx="266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248520" y="22096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3341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477120" y="28195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3915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2485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5486400" y="2819520"/>
            <a:ext cx="99072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477120" y="2819520"/>
            <a:ext cx="9903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010280" y="2806560"/>
            <a:ext cx="1055880" cy="1778040"/>
          </a:xfrm>
          <a:custGeom>
            <a:avLst/>
            <a:gdLst/>
            <a:ahLst/>
            <a:rect l="l" t="t" r="r" b="b"/>
            <a:pathLst>
              <a:path w="665" h="1120">
                <a:moveTo>
                  <a:pt x="0" y="872"/>
                </a:moveTo>
                <a:cubicBezTo>
                  <a:pt x="28" y="908"/>
                  <a:pt x="75" y="1056"/>
                  <a:pt x="168" y="1088"/>
                </a:cubicBezTo>
                <a:cubicBezTo>
                  <a:pt x="261" y="1120"/>
                  <a:pt x="479" y="1108"/>
                  <a:pt x="560" y="1064"/>
                </a:cubicBezTo>
                <a:cubicBezTo>
                  <a:pt x="641" y="1020"/>
                  <a:pt x="647" y="896"/>
                  <a:pt x="656" y="824"/>
                </a:cubicBezTo>
                <a:cubicBezTo>
                  <a:pt x="665" y="752"/>
                  <a:pt x="661" y="709"/>
                  <a:pt x="616" y="632"/>
                </a:cubicBezTo>
                <a:cubicBezTo>
                  <a:pt x="571" y="555"/>
                  <a:pt x="459" y="465"/>
                  <a:pt x="384" y="360"/>
                </a:cubicBezTo>
                <a:cubicBezTo>
                  <a:pt x="309" y="255"/>
                  <a:pt x="213" y="75"/>
                  <a:pt x="168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2362320" y="2590920"/>
            <a:ext cx="1447560" cy="1724400"/>
            <a:chOff x="2362320" y="2590920"/>
            <a:chExt cx="1447560" cy="1724400"/>
          </a:xfrm>
        </p:grpSpPr>
        <p:sp>
          <p:nvSpPr>
            <p:cNvPr id="919" name=""/>
            <p:cNvSpPr/>
            <p:nvPr/>
          </p:nvSpPr>
          <p:spPr>
            <a:xfrm>
              <a:off x="2362320" y="3733920"/>
              <a:ext cx="144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i.val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438280" y="259092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6629400" y="2286000"/>
            <a:ext cx="990720" cy="1953000"/>
            <a:chOff x="6629400" y="2286000"/>
            <a:chExt cx="990720" cy="1953000"/>
          </a:xfrm>
        </p:grpSpPr>
        <p:sp>
          <p:nvSpPr>
            <p:cNvPr id="922" name=""/>
            <p:cNvSpPr/>
            <p:nvPr/>
          </p:nvSpPr>
          <p:spPr>
            <a:xfrm>
              <a:off x="6629400" y="36576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781680" y="22860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4648320" y="5486400"/>
            <a:ext cx="38862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648320" y="55627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                   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172200" y="55627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990720" y="5867280"/>
            <a:ext cx="7086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191120" y="15238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94360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2819160" y="2133720"/>
            <a:ext cx="16002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419720" y="213372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1295280" y="3657600"/>
            <a:ext cx="2692440" cy="1905120"/>
            <a:chOff x="1295280" y="3657600"/>
            <a:chExt cx="2692440" cy="1905120"/>
          </a:xfrm>
        </p:grpSpPr>
        <p:sp>
          <p:nvSpPr>
            <p:cNvPr id="935" name=""/>
            <p:cNvSpPr/>
            <p:nvPr/>
          </p:nvSpPr>
          <p:spPr>
            <a:xfrm>
              <a:off x="1295280" y="36576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752480" y="48006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3886200" y="3429000"/>
            <a:ext cx="12952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 flipV="1">
            <a:off x="5105520" y="2133360"/>
            <a:ext cx="1828800" cy="10666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523880" y="5867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3200400" y="1600200"/>
            <a:ext cx="4267080" cy="2105280"/>
            <a:chOff x="3200400" y="1600200"/>
            <a:chExt cx="4267080" cy="2105280"/>
          </a:xfrm>
        </p:grpSpPr>
        <p:sp>
          <p:nvSpPr>
            <p:cNvPr id="941" name=""/>
            <p:cNvSpPr/>
            <p:nvPr/>
          </p:nvSpPr>
          <p:spPr>
            <a:xfrm>
              <a:off x="3200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629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648320" y="16002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181480" y="31240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2743200" y="5867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952880" y="5867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4120" y="5867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59092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2057400" y="3429000"/>
            <a:ext cx="1294920" cy="1447560"/>
            <a:chOff x="2057400" y="3429000"/>
            <a:chExt cx="1294920" cy="1447560"/>
          </a:xfrm>
        </p:grpSpPr>
        <p:sp>
          <p:nvSpPr>
            <p:cNvPr id="950" name=""/>
            <p:cNvSpPr/>
            <p:nvPr/>
          </p:nvSpPr>
          <p:spPr>
            <a:xfrm>
              <a:off x="2743200" y="342900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743200" y="43434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57400" y="396216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2361600" y="44956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3123360" y="457200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"/>
          <p:cNvSpPr/>
          <p:nvPr/>
        </p:nvSpPr>
        <p:spPr>
          <a:xfrm flipV="1">
            <a:off x="5029200" y="121932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3733920"/>
            <a:ext cx="2819520" cy="190476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 flipV="1">
            <a:off x="5790600" y="4952160"/>
            <a:ext cx="207720" cy="55908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303960" y="4724280"/>
            <a:ext cx="444600" cy="66060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952880" y="472428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837480" y="502920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477120" y="3670200"/>
            <a:ext cx="457200" cy="120672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587920" y="3581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715000" y="472428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943600" y="4686480"/>
            <a:ext cx="38088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324480" y="4622760"/>
            <a:ext cx="609840" cy="50796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 rot="16200000">
            <a:off x="6034320" y="3487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tax-Directed Tra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143000"/>
            <a:ext cx="8001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emantic acti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are attached to gramatical rules. Most importantly, these actions make intermediate code generation and type checking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2286000"/>
            <a:ext cx="6782040" cy="17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9933"/>
                </a:solidFill>
                <a:latin typeface="Courier New CE"/>
              </a:rPr>
              <a:t>k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9933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9933"/>
                </a:solidFill>
                <a:latin typeface="Courier New CE"/>
              </a:rPr>
              <a:t>k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9933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i.v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l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236232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88620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266688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2428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5820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5715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5791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5715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5715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5715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2209680"/>
            <a:ext cx="198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61722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61722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4038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24480" y="4038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838080" y="4419720"/>
            <a:ext cx="4876920" cy="1371600"/>
            <a:chOff x="838080" y="4419720"/>
            <a:chExt cx="4876920" cy="1371600"/>
          </a:xfrm>
        </p:grpSpPr>
        <p:grpSp>
          <p:nvGrpSpPr>
            <p:cNvPr id="66" name=""/>
            <p:cNvGrpSpPr/>
            <p:nvPr/>
          </p:nvGrpSpPr>
          <p:grpSpPr>
            <a:xfrm>
              <a:off x="838080" y="4572000"/>
              <a:ext cx="533520" cy="1219320"/>
              <a:chOff x="838080" y="4572000"/>
              <a:chExt cx="533520" cy="1219320"/>
            </a:xfrm>
          </p:grpSpPr>
          <p:sp>
            <p:nvSpPr>
              <p:cNvPr id="67" name=""/>
              <p:cNvSpPr/>
              <p:nvPr/>
            </p:nvSpPr>
            <p:spPr>
              <a:xfrm>
                <a:off x="838080" y="4572000"/>
                <a:ext cx="53352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35000">
                    <a:solidFill>
                      <a:srgbClr val="3333cc"/>
                    </a:solidFill>
                    <a:latin typeface="Times New Roman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990720" y="5105520"/>
                <a:ext cx="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4495680" y="441972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286000" y="4800600"/>
            <a:ext cx="3429000" cy="990720"/>
            <a:chOff x="2286000" y="4800600"/>
            <a:chExt cx="3429000" cy="990720"/>
          </a:xfrm>
        </p:grpSpPr>
        <p:grpSp>
          <p:nvGrpSpPr>
            <p:cNvPr id="71" name=""/>
            <p:cNvGrpSpPr/>
            <p:nvPr/>
          </p:nvGrpSpPr>
          <p:grpSpPr>
            <a:xfrm>
              <a:off x="2286000" y="5029200"/>
              <a:ext cx="533520" cy="762120"/>
              <a:chOff x="2286000" y="5029200"/>
              <a:chExt cx="533520" cy="762120"/>
            </a:xfrm>
          </p:grpSpPr>
          <p:sp>
            <p:nvSpPr>
              <p:cNvPr id="72" name=""/>
              <p:cNvSpPr/>
              <p:nvPr/>
            </p:nvSpPr>
            <p:spPr>
              <a:xfrm>
                <a:off x="2286000" y="5029200"/>
                <a:ext cx="53352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35000">
                    <a:solidFill>
                      <a:srgbClr val="3333cc"/>
                    </a:solidFill>
                    <a:latin typeface="Times New Roman"/>
                  </a:rPr>
                  <a:t>2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514600" y="55627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4495680" y="480060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809880" y="5029200"/>
            <a:ext cx="1905120" cy="762120"/>
            <a:chOff x="3809880" y="5029200"/>
            <a:chExt cx="1905120" cy="762120"/>
          </a:xfrm>
        </p:grpSpPr>
        <p:grpSp>
          <p:nvGrpSpPr>
            <p:cNvPr id="76" name=""/>
            <p:cNvGrpSpPr/>
            <p:nvPr/>
          </p:nvGrpSpPr>
          <p:grpSpPr>
            <a:xfrm>
              <a:off x="3809880" y="5029200"/>
              <a:ext cx="533520" cy="762120"/>
              <a:chOff x="3809880" y="5029200"/>
              <a:chExt cx="533520" cy="762120"/>
            </a:xfrm>
          </p:grpSpPr>
          <p:sp>
            <p:nvSpPr>
              <p:cNvPr id="77" name=""/>
              <p:cNvSpPr/>
              <p:nvPr/>
            </p:nvSpPr>
            <p:spPr>
              <a:xfrm>
                <a:off x="3809880" y="5029200"/>
                <a:ext cx="53352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038480" y="55627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4495680" y="518148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5715000" y="56386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590560" y="4648320"/>
            <a:ext cx="4115160" cy="1424520"/>
            <a:chOff x="2590560" y="4648320"/>
            <a:chExt cx="4115160" cy="1424520"/>
          </a:xfrm>
        </p:grpSpPr>
        <p:grpSp>
          <p:nvGrpSpPr>
            <p:cNvPr id="82" name=""/>
            <p:cNvGrpSpPr/>
            <p:nvPr/>
          </p:nvGrpSpPr>
          <p:grpSpPr>
            <a:xfrm>
              <a:off x="2590560" y="4648320"/>
              <a:ext cx="1295640" cy="1218960"/>
              <a:chOff x="2590560" y="4648320"/>
              <a:chExt cx="1295640" cy="1218960"/>
            </a:xfrm>
          </p:grpSpPr>
          <p:sp>
            <p:nvSpPr>
              <p:cNvPr id="83" name=""/>
              <p:cNvSpPr/>
              <p:nvPr/>
            </p:nvSpPr>
            <p:spPr>
              <a:xfrm>
                <a:off x="3048120" y="4648320"/>
                <a:ext cx="53316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33cc"/>
                    </a:solidFill>
                    <a:latin typeface="Times New Roman"/>
                  </a:rPr>
                  <a:t>4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276720" y="510552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76720" y="5105520"/>
                <a:ext cx="6094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2590560" y="510552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4495680" y="5562720"/>
              <a:ext cx="221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142640" y="3809880"/>
            <a:ext cx="5410440" cy="2720160"/>
            <a:chOff x="1142640" y="3809880"/>
            <a:chExt cx="5410440" cy="2720160"/>
          </a:xfrm>
        </p:grpSpPr>
        <p:grpSp>
          <p:nvGrpSpPr>
            <p:cNvPr id="89" name=""/>
            <p:cNvGrpSpPr/>
            <p:nvPr/>
          </p:nvGrpSpPr>
          <p:grpSpPr>
            <a:xfrm>
              <a:off x="1142640" y="3809880"/>
              <a:ext cx="2134080" cy="1981440"/>
              <a:chOff x="1142640" y="3809880"/>
              <a:chExt cx="2134080" cy="1981440"/>
            </a:xfrm>
          </p:grpSpPr>
          <p:sp>
            <p:nvSpPr>
              <p:cNvPr id="90" name=""/>
              <p:cNvSpPr/>
              <p:nvPr/>
            </p:nvSpPr>
            <p:spPr>
              <a:xfrm>
                <a:off x="1523880" y="3809880"/>
                <a:ext cx="53352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9933"/>
                    </a:solidFill>
                    <a:latin typeface="Times New Roman"/>
                  </a:rPr>
                  <a:t>5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1142640" y="4343400"/>
                <a:ext cx="6094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752480" y="4343400"/>
                <a:ext cx="0" cy="144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52480" y="4343400"/>
                <a:ext cx="152424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4495680" y="6019920"/>
              <a:ext cx="2057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4343400"/>
            <a:ext cx="8686800" cy="592920"/>
            <a:chOff x="152280" y="4343400"/>
            <a:chExt cx="8686800" cy="592920"/>
          </a:xfrm>
        </p:grpSpPr>
        <p:sp>
          <p:nvSpPr>
            <p:cNvPr id="96" name=""/>
            <p:cNvSpPr/>
            <p:nvPr/>
          </p:nvSpPr>
          <p:spPr>
            <a:xfrm>
              <a:off x="6324480" y="449568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2280" y="43434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057400" y="4800600"/>
            <a:ext cx="6781680" cy="516960"/>
            <a:chOff x="2057400" y="4800600"/>
            <a:chExt cx="6781680" cy="516960"/>
          </a:xfrm>
        </p:grpSpPr>
        <p:sp>
          <p:nvSpPr>
            <p:cNvPr id="99" name=""/>
            <p:cNvSpPr/>
            <p:nvPr/>
          </p:nvSpPr>
          <p:spPr>
            <a:xfrm>
              <a:off x="6324480" y="487692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2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57400" y="48006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581280" y="4800600"/>
            <a:ext cx="5257800" cy="897840"/>
            <a:chOff x="3581280" y="4800600"/>
            <a:chExt cx="5257800" cy="897840"/>
          </a:xfrm>
        </p:grpSpPr>
        <p:sp>
          <p:nvSpPr>
            <p:cNvPr id="102" name=""/>
            <p:cNvSpPr/>
            <p:nvPr/>
          </p:nvSpPr>
          <p:spPr>
            <a:xfrm>
              <a:off x="6324480" y="525780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3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81280" y="48006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895480" y="4343400"/>
            <a:ext cx="5943600" cy="1735920"/>
            <a:chOff x="2895480" y="4343400"/>
            <a:chExt cx="5943600" cy="1735920"/>
          </a:xfrm>
        </p:grpSpPr>
        <p:sp>
          <p:nvSpPr>
            <p:cNvPr id="105" name=""/>
            <p:cNvSpPr/>
            <p:nvPr/>
          </p:nvSpPr>
          <p:spPr>
            <a:xfrm>
              <a:off x="6324480" y="563868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ff0000"/>
                  </a:solidFill>
                  <a:latin typeface="Courier New CE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*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Courier New CE"/>
                </a:rPr>
                <a:t>3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9933"/>
                  </a:solidFill>
                  <a:latin typeface="Courier New C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95480" y="4343400"/>
              <a:ext cx="144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066680" y="3581280"/>
            <a:ext cx="7925040" cy="2879280"/>
            <a:chOff x="1066680" y="3581280"/>
            <a:chExt cx="7925040" cy="2879280"/>
          </a:xfrm>
        </p:grpSpPr>
        <p:sp>
          <p:nvSpPr>
            <p:cNvPr id="108" name=""/>
            <p:cNvSpPr/>
            <p:nvPr/>
          </p:nvSpPr>
          <p:spPr>
            <a:xfrm>
              <a:off x="6324480" y="6019920"/>
              <a:ext cx="2667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5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ff0000"/>
                  </a:solidFill>
                  <a:latin typeface="Courier New CE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+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Courier New CE"/>
                </a:rPr>
                <a:t>4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9933"/>
                  </a:solidFill>
                  <a:latin typeface="Courier New C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66680" y="3581280"/>
              <a:ext cx="1295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Times New Roman"/>
                </a:rPr>
                <a:t>5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7242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724280" y="3124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4266720" y="228600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952880" y="2286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838080" y="1828800"/>
            <a:ext cx="2692440" cy="1905120"/>
            <a:chOff x="838080" y="1828800"/>
            <a:chExt cx="2692440" cy="1905120"/>
          </a:xfrm>
        </p:grpSpPr>
        <p:sp>
          <p:nvSpPr>
            <p:cNvPr id="975" name=""/>
            <p:cNvSpPr/>
            <p:nvPr/>
          </p:nvSpPr>
          <p:spPr>
            <a:xfrm>
              <a:off x="838080" y="1828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295280" y="2971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5562720" y="2819520"/>
            <a:ext cx="1218960" cy="5331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5410080" y="2971440"/>
            <a:ext cx="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1600200" y="1282680"/>
            <a:ext cx="2108160" cy="1765440"/>
            <a:chOff x="1600200" y="1282680"/>
            <a:chExt cx="2108160" cy="1765440"/>
          </a:xfrm>
        </p:grpSpPr>
        <p:sp>
          <p:nvSpPr>
            <p:cNvPr id="980" name=""/>
            <p:cNvSpPr/>
            <p:nvPr/>
          </p:nvSpPr>
          <p:spPr>
            <a:xfrm>
              <a:off x="2303640" y="12826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286000" y="25146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600200" y="21337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>
              <a:off x="1904400" y="26668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>
              <a:off x="2666160" y="27432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5" name=""/>
          <p:cNvSpPr/>
          <p:nvPr/>
        </p:nvSpPr>
        <p:spPr>
          <a:xfrm>
            <a:off x="3886200" y="3124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3352680" y="3809880"/>
            <a:ext cx="2692440" cy="1905120"/>
            <a:chOff x="3352680" y="3809880"/>
            <a:chExt cx="2692440" cy="1905120"/>
          </a:xfrm>
        </p:grpSpPr>
        <p:sp>
          <p:nvSpPr>
            <p:cNvPr id="987" name=""/>
            <p:cNvSpPr/>
            <p:nvPr/>
          </p:nvSpPr>
          <p:spPr>
            <a:xfrm>
              <a:off x="3352680" y="38098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809880" y="49528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4114800" y="3581280"/>
            <a:ext cx="1294920" cy="1447560"/>
            <a:chOff x="4114800" y="3581280"/>
            <a:chExt cx="1294920" cy="1447560"/>
          </a:xfrm>
        </p:grpSpPr>
        <p:sp>
          <p:nvSpPr>
            <p:cNvPr id="990" name=""/>
            <p:cNvSpPr/>
            <p:nvPr/>
          </p:nvSpPr>
          <p:spPr>
            <a:xfrm>
              <a:off x="4800600" y="358128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800600" y="449568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114800" y="411444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4419000" y="464796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5180760" y="472428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4952880" y="2286000"/>
            <a:ext cx="25909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391520" y="312408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3962520" y="1676520"/>
            <a:ext cx="5029200" cy="2172600"/>
            <a:chOff x="3962520" y="1676520"/>
            <a:chExt cx="5029200" cy="2172600"/>
          </a:xfrm>
        </p:grpSpPr>
        <p:sp>
          <p:nvSpPr>
            <p:cNvPr id="998" name=""/>
            <p:cNvSpPr/>
            <p:nvPr/>
          </p:nvSpPr>
          <p:spPr>
            <a:xfrm>
              <a:off x="5181480" y="32004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962520" y="16765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705720" y="320040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001000" y="3200400"/>
              <a:ext cx="990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334120" y="1676520"/>
              <a:ext cx="990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5181480" y="2438280"/>
            <a:ext cx="609840" cy="642600"/>
            <a:chOff x="5181480" y="2438280"/>
            <a:chExt cx="609840" cy="642600"/>
          </a:xfrm>
        </p:grpSpPr>
        <p:sp>
          <p:nvSpPr>
            <p:cNvPr id="1004" name=""/>
            <p:cNvSpPr/>
            <p:nvPr/>
          </p:nvSpPr>
          <p:spPr>
            <a:xfrm>
              <a:off x="51814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181480" y="24382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6" name=""/>
          <p:cNvSpPr/>
          <p:nvPr/>
        </p:nvSpPr>
        <p:spPr>
          <a:xfrm>
            <a:off x="4495680" y="2286000"/>
            <a:ext cx="762120" cy="3808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 flipV="1">
            <a:off x="6019920" y="2209680"/>
            <a:ext cx="2209680" cy="10670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5791320" y="129528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095880" y="3886200"/>
            <a:ext cx="2819520" cy="190512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 flipV="1">
            <a:off x="7315200" y="5105520"/>
            <a:ext cx="208080" cy="55872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827840" y="4876920"/>
            <a:ext cx="444600" cy="66024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477120" y="487692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361360" y="518148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3822840"/>
            <a:ext cx="457200" cy="120636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112160" y="373392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238880" y="48769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467480" y="4838760"/>
            <a:ext cx="38124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848720" y="4775040"/>
            <a:ext cx="609480" cy="50832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09480" y="5867280"/>
            <a:ext cx="815364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62120" y="5867280"/>
            <a:ext cx="182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362320" y="586728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i + T.s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715000" y="586728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172200" y="5867280"/>
            <a:ext cx="266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733920" y="12952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 rot="16200000">
            <a:off x="4815720" y="1201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 rot="16200000">
            <a:off x="7482240" y="35643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2895480" y="5257800"/>
            <a:ext cx="3657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638680" y="2209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715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867280" y="2895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895480" y="5334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495680" y="5334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4876920" y="2286000"/>
            <a:ext cx="2361960" cy="581400"/>
            <a:chOff x="4876920" y="2286000"/>
            <a:chExt cx="2361960" cy="581400"/>
          </a:xfrm>
        </p:grpSpPr>
        <p:sp>
          <p:nvSpPr>
            <p:cNvPr id="1037" name=""/>
            <p:cNvSpPr/>
            <p:nvPr/>
          </p:nvSpPr>
          <p:spPr>
            <a:xfrm>
              <a:off x="4876920" y="2286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248520" y="22860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9" name=""/>
          <p:cNvSpPr/>
          <p:nvPr/>
        </p:nvSpPr>
        <p:spPr>
          <a:xfrm flipV="1">
            <a:off x="6629400" y="18288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194440" y="2819520"/>
            <a:ext cx="1396800" cy="1665000"/>
          </a:xfrm>
          <a:custGeom>
            <a:avLst/>
            <a:gdLst/>
            <a:ahLst/>
            <a:rect l="l" t="t" r="r" b="b"/>
            <a:pathLst>
              <a:path w="880" h="1049">
                <a:moveTo>
                  <a:pt x="0" y="48"/>
                </a:moveTo>
                <a:cubicBezTo>
                  <a:pt x="39" y="95"/>
                  <a:pt x="204" y="199"/>
                  <a:pt x="232" y="328"/>
                </a:cubicBezTo>
                <a:cubicBezTo>
                  <a:pt x="260" y="457"/>
                  <a:pt x="127" y="704"/>
                  <a:pt x="168" y="824"/>
                </a:cubicBezTo>
                <a:cubicBezTo>
                  <a:pt x="209" y="944"/>
                  <a:pt x="376" y="1049"/>
                  <a:pt x="480" y="1048"/>
                </a:cubicBezTo>
                <a:cubicBezTo>
                  <a:pt x="584" y="1047"/>
                  <a:pt x="765" y="935"/>
                  <a:pt x="792" y="816"/>
                </a:cubicBezTo>
                <a:cubicBezTo>
                  <a:pt x="819" y="697"/>
                  <a:pt x="625" y="472"/>
                  <a:pt x="640" y="336"/>
                </a:cubicBezTo>
                <a:cubicBezTo>
                  <a:pt x="655" y="200"/>
                  <a:pt x="830" y="70"/>
                  <a:pt x="88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1752480" y="2286000"/>
            <a:ext cx="2692440" cy="1905120"/>
            <a:chOff x="1752480" y="2286000"/>
            <a:chExt cx="2692440" cy="1905120"/>
          </a:xfrm>
        </p:grpSpPr>
        <p:sp>
          <p:nvSpPr>
            <p:cNvPr id="1042" name=""/>
            <p:cNvSpPr/>
            <p:nvPr/>
          </p:nvSpPr>
          <p:spPr>
            <a:xfrm>
              <a:off x="1752480" y="22860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209680" y="34290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2514600" y="1739880"/>
            <a:ext cx="2108160" cy="1765440"/>
            <a:chOff x="2514600" y="1739880"/>
            <a:chExt cx="2108160" cy="1765440"/>
          </a:xfrm>
        </p:grpSpPr>
        <p:sp>
          <p:nvSpPr>
            <p:cNvPr id="1045" name=""/>
            <p:cNvSpPr/>
            <p:nvPr/>
          </p:nvSpPr>
          <p:spPr>
            <a:xfrm>
              <a:off x="3218040" y="17398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00400" y="29718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14600" y="25909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2818800" y="31240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3580560" y="32004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"/>
          <p:cNvSpPr/>
          <p:nvPr/>
        </p:nvSpPr>
        <p:spPr>
          <a:xfrm>
            <a:off x="4648320" y="17524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 rot="16200000">
            <a:off x="5729760" y="17355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"/>
          <p:cNvGrpSpPr/>
          <p:nvPr/>
        </p:nvGrpSpPr>
        <p:grpSpPr>
          <a:xfrm>
            <a:off x="5334120" y="3200400"/>
            <a:ext cx="3276360" cy="1084320"/>
            <a:chOff x="5334120" y="3200400"/>
            <a:chExt cx="3276360" cy="1084320"/>
          </a:xfrm>
        </p:grpSpPr>
        <p:sp>
          <p:nvSpPr>
            <p:cNvPr id="1054" name=""/>
            <p:cNvSpPr/>
            <p:nvPr/>
          </p:nvSpPr>
          <p:spPr>
            <a:xfrm>
              <a:off x="5334120" y="3581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5638680" y="32004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324480" y="35053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172200" y="32004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172200" y="3200400"/>
              <a:ext cx="1828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924680" y="3352680"/>
              <a:ext cx="68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657600" y="160020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7524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2209320" y="16002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380880" y="2209680"/>
            <a:ext cx="2692440" cy="1905120"/>
            <a:chOff x="380880" y="2209680"/>
            <a:chExt cx="2692440" cy="1905120"/>
          </a:xfrm>
        </p:grpSpPr>
        <p:sp>
          <p:nvSpPr>
            <p:cNvPr id="1066" name=""/>
            <p:cNvSpPr/>
            <p:nvPr/>
          </p:nvSpPr>
          <p:spPr>
            <a:xfrm>
              <a:off x="380880" y="22096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838080" y="33526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1143000" y="2171880"/>
            <a:ext cx="1294920" cy="1257120"/>
            <a:chOff x="1143000" y="2171880"/>
            <a:chExt cx="1294920" cy="1257120"/>
          </a:xfrm>
        </p:grpSpPr>
        <p:sp>
          <p:nvSpPr>
            <p:cNvPr id="1069" name=""/>
            <p:cNvSpPr/>
            <p:nvPr/>
          </p:nvSpPr>
          <p:spPr>
            <a:xfrm>
              <a:off x="1987560" y="217188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828800" y="289548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143000" y="247644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1447200" y="304812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2208960" y="312408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609480" y="1066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mma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895480" y="160020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666880" y="1066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743200" y="2057400"/>
            <a:ext cx="3808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2666880" y="3200400"/>
            <a:ext cx="2692440" cy="1905120"/>
            <a:chOff x="2666880" y="3200400"/>
            <a:chExt cx="2692440" cy="1905120"/>
          </a:xfrm>
        </p:grpSpPr>
        <p:sp>
          <p:nvSpPr>
            <p:cNvPr id="1079" name=""/>
            <p:cNvSpPr/>
            <p:nvPr/>
          </p:nvSpPr>
          <p:spPr>
            <a:xfrm>
              <a:off x="2666880" y="32004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124080" y="43434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429000" y="3162240"/>
            <a:ext cx="1294920" cy="1257120"/>
            <a:chOff x="3429000" y="3162240"/>
            <a:chExt cx="1294920" cy="1257120"/>
          </a:xfrm>
        </p:grpSpPr>
        <p:sp>
          <p:nvSpPr>
            <p:cNvPr id="1082" name=""/>
            <p:cNvSpPr/>
            <p:nvPr/>
          </p:nvSpPr>
          <p:spPr>
            <a:xfrm>
              <a:off x="4273560" y="31622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114800" y="38858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429000" y="34668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3733200" y="40384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4494960" y="41144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3581280" y="2209680"/>
            <a:ext cx="76212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8" name=""/>
          <p:cNvGrpSpPr/>
          <p:nvPr/>
        </p:nvGrpSpPr>
        <p:grpSpPr>
          <a:xfrm>
            <a:off x="3048120" y="2286000"/>
            <a:ext cx="3733560" cy="1084320"/>
            <a:chOff x="3048120" y="2286000"/>
            <a:chExt cx="3733560" cy="1084320"/>
          </a:xfrm>
        </p:grpSpPr>
        <p:sp>
          <p:nvSpPr>
            <p:cNvPr id="1089" name=""/>
            <p:cNvSpPr/>
            <p:nvPr/>
          </p:nvSpPr>
          <p:spPr>
            <a:xfrm>
              <a:off x="3048120" y="2666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3352680" y="22860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943600" y="2590920"/>
              <a:ext cx="8380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038480" y="25909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886200" y="2286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886200" y="2286000"/>
              <a:ext cx="2209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4952880" y="4114800"/>
            <a:ext cx="2692440" cy="1905120"/>
            <a:chOff x="4952880" y="4114800"/>
            <a:chExt cx="2692440" cy="1905120"/>
          </a:xfrm>
        </p:grpSpPr>
        <p:sp>
          <p:nvSpPr>
            <p:cNvPr id="1096" name=""/>
            <p:cNvSpPr/>
            <p:nvPr/>
          </p:nvSpPr>
          <p:spPr>
            <a:xfrm>
              <a:off x="4952880" y="4114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410080" y="5257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5715000" y="4076640"/>
            <a:ext cx="1294920" cy="1257120"/>
            <a:chOff x="5715000" y="4076640"/>
            <a:chExt cx="1294920" cy="1257120"/>
          </a:xfrm>
        </p:grpSpPr>
        <p:sp>
          <p:nvSpPr>
            <p:cNvPr id="1099" name=""/>
            <p:cNvSpPr/>
            <p:nvPr/>
          </p:nvSpPr>
          <p:spPr>
            <a:xfrm>
              <a:off x="6559560" y="40766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400800" y="48002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715000" y="43812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6019200" y="49528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6780960" y="50288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7848720" y="487692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8001000" y="5562720"/>
            <a:ext cx="609480" cy="962280"/>
            <a:chOff x="8001000" y="5562720"/>
            <a:chExt cx="609480" cy="962280"/>
          </a:xfrm>
        </p:grpSpPr>
        <p:sp>
          <p:nvSpPr>
            <p:cNvPr id="1106" name=""/>
            <p:cNvSpPr/>
            <p:nvPr/>
          </p:nvSpPr>
          <p:spPr>
            <a:xfrm>
              <a:off x="8153280" y="55627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001000" y="5943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4343400" y="2209680"/>
            <a:ext cx="609480" cy="642600"/>
            <a:chOff x="4343400" y="2209680"/>
            <a:chExt cx="609480" cy="642600"/>
          </a:xfrm>
        </p:grpSpPr>
        <p:sp>
          <p:nvSpPr>
            <p:cNvPr id="1109" name=""/>
            <p:cNvSpPr/>
            <p:nvPr/>
          </p:nvSpPr>
          <p:spPr>
            <a:xfrm>
              <a:off x="4343400" y="23623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343400" y="22096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6553080" y="3048120"/>
            <a:ext cx="609840" cy="642600"/>
            <a:chOff x="6553080" y="3048120"/>
            <a:chExt cx="609840" cy="642600"/>
          </a:xfrm>
        </p:grpSpPr>
        <p:sp>
          <p:nvSpPr>
            <p:cNvPr id="1112" name=""/>
            <p:cNvSpPr/>
            <p:nvPr/>
          </p:nvSpPr>
          <p:spPr>
            <a:xfrm>
              <a:off x="6553080" y="3200400"/>
              <a:ext cx="381240" cy="38052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553080" y="30481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4" name=""/>
          <p:cNvSpPr/>
          <p:nvPr/>
        </p:nvSpPr>
        <p:spPr>
          <a:xfrm rot="5400000">
            <a:off x="7893360" y="40680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791320" y="3124080"/>
            <a:ext cx="76176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flipV="1">
            <a:off x="4723920" y="2666520"/>
            <a:ext cx="304920" cy="3812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724280" y="2590920"/>
            <a:ext cx="7621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 flipV="1">
            <a:off x="6857640" y="3505320"/>
            <a:ext cx="3049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934320" y="3429000"/>
            <a:ext cx="91440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77240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669080" y="5130720"/>
            <a:ext cx="1105200" cy="1563840"/>
          </a:xfrm>
          <a:custGeom>
            <a:avLst/>
            <a:gdLst/>
            <a:ahLst/>
            <a:rect l="l" t="t" r="r" b="b"/>
            <a:pathLst>
              <a:path w="696" h="985">
                <a:moveTo>
                  <a:pt x="25" y="24"/>
                </a:moveTo>
                <a:cubicBezTo>
                  <a:pt x="40" y="64"/>
                  <a:pt x="102" y="141"/>
                  <a:pt x="105" y="264"/>
                </a:cubicBezTo>
                <a:cubicBezTo>
                  <a:pt x="108" y="387"/>
                  <a:pt x="0" y="640"/>
                  <a:pt x="41" y="760"/>
                </a:cubicBezTo>
                <a:cubicBezTo>
                  <a:pt x="82" y="880"/>
                  <a:pt x="249" y="985"/>
                  <a:pt x="353" y="984"/>
                </a:cubicBezTo>
                <a:cubicBezTo>
                  <a:pt x="457" y="983"/>
                  <a:pt x="634" y="875"/>
                  <a:pt x="665" y="752"/>
                </a:cubicBezTo>
                <a:cubicBezTo>
                  <a:pt x="696" y="629"/>
                  <a:pt x="541" y="373"/>
                  <a:pt x="537" y="248"/>
                </a:cubicBezTo>
                <a:cubicBezTo>
                  <a:pt x="533" y="123"/>
                  <a:pt x="619" y="52"/>
                  <a:pt x="641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861048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162920" y="2971800"/>
            <a:ext cx="16128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876920" y="2057400"/>
            <a:ext cx="20700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5" name=""/>
          <p:cNvGrpSpPr/>
          <p:nvPr/>
        </p:nvGrpSpPr>
        <p:grpSpPr>
          <a:xfrm>
            <a:off x="4648320" y="2743200"/>
            <a:ext cx="2819160" cy="696960"/>
            <a:chOff x="4648320" y="2743200"/>
            <a:chExt cx="2819160" cy="696960"/>
          </a:xfrm>
        </p:grpSpPr>
        <p:sp>
          <p:nvSpPr>
            <p:cNvPr id="1126" name=""/>
            <p:cNvSpPr/>
            <p:nvPr/>
          </p:nvSpPr>
          <p:spPr>
            <a:xfrm>
              <a:off x="4648320" y="2895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334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477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7391520" y="4648320"/>
            <a:ext cx="1600200" cy="544680"/>
            <a:chOff x="7391520" y="4648320"/>
            <a:chExt cx="1600200" cy="544680"/>
          </a:xfrm>
        </p:grpSpPr>
        <p:sp>
          <p:nvSpPr>
            <p:cNvPr id="1130" name=""/>
            <p:cNvSpPr/>
            <p:nvPr/>
          </p:nvSpPr>
          <p:spPr>
            <a:xfrm>
              <a:off x="7391520" y="46483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153280" y="4648320"/>
              <a:ext cx="8384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2133720" y="1143000"/>
            <a:ext cx="3047760" cy="1154160"/>
            <a:chOff x="2133720" y="1143000"/>
            <a:chExt cx="3047760" cy="1154160"/>
          </a:xfrm>
        </p:grpSpPr>
        <p:sp>
          <p:nvSpPr>
            <p:cNvPr id="1133" name=""/>
            <p:cNvSpPr/>
            <p:nvPr/>
          </p:nvSpPr>
          <p:spPr>
            <a:xfrm>
              <a:off x="21337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048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191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048120" y="1143000"/>
              <a:ext cx="83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>
            <a:off x="3657600" y="1371600"/>
            <a:ext cx="990720" cy="45720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6934320" y="3581280"/>
            <a:ext cx="2209680" cy="697320"/>
            <a:chOff x="6934320" y="3581280"/>
            <a:chExt cx="2209680" cy="697320"/>
          </a:xfrm>
        </p:grpSpPr>
        <p:sp>
          <p:nvSpPr>
            <p:cNvPr id="1139" name=""/>
            <p:cNvSpPr/>
            <p:nvPr/>
          </p:nvSpPr>
          <p:spPr>
            <a:xfrm>
              <a:off x="6934320" y="37339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5438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458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/>
          <p:nvPr/>
        </p:nvSpPr>
        <p:spPr>
          <a:xfrm>
            <a:off x="990720" y="5867280"/>
            <a:ext cx="7086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191120" y="15238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94360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2819160" y="2133720"/>
            <a:ext cx="16002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19720" y="213372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9" name=""/>
          <p:cNvGrpSpPr/>
          <p:nvPr/>
        </p:nvGrpSpPr>
        <p:grpSpPr>
          <a:xfrm>
            <a:off x="1295280" y="3657600"/>
            <a:ext cx="2692440" cy="1905120"/>
            <a:chOff x="1295280" y="3657600"/>
            <a:chExt cx="2692440" cy="1905120"/>
          </a:xfrm>
        </p:grpSpPr>
        <p:sp>
          <p:nvSpPr>
            <p:cNvPr id="1150" name=""/>
            <p:cNvSpPr/>
            <p:nvPr/>
          </p:nvSpPr>
          <p:spPr>
            <a:xfrm>
              <a:off x="1295280" y="36576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752480" y="48006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"/>
          <p:cNvSpPr/>
          <p:nvPr/>
        </p:nvSpPr>
        <p:spPr>
          <a:xfrm>
            <a:off x="3886200" y="3429000"/>
            <a:ext cx="12952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 flipV="1">
            <a:off x="5105520" y="2133360"/>
            <a:ext cx="1828800" cy="10666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523880" y="5867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5" name=""/>
          <p:cNvGrpSpPr/>
          <p:nvPr/>
        </p:nvGrpSpPr>
        <p:grpSpPr>
          <a:xfrm>
            <a:off x="3200400" y="1600200"/>
            <a:ext cx="4267080" cy="2105280"/>
            <a:chOff x="3200400" y="1600200"/>
            <a:chExt cx="4267080" cy="2105280"/>
          </a:xfrm>
        </p:grpSpPr>
        <p:sp>
          <p:nvSpPr>
            <p:cNvPr id="1156" name=""/>
            <p:cNvSpPr/>
            <p:nvPr/>
          </p:nvSpPr>
          <p:spPr>
            <a:xfrm>
              <a:off x="3200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629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648320" y="16002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181480" y="31240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0" name=""/>
          <p:cNvSpPr/>
          <p:nvPr/>
        </p:nvSpPr>
        <p:spPr>
          <a:xfrm>
            <a:off x="2743200" y="5867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52880" y="5867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334120" y="5867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9092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2057400" y="3429000"/>
            <a:ext cx="1294920" cy="1447560"/>
            <a:chOff x="2057400" y="3429000"/>
            <a:chExt cx="1294920" cy="1447560"/>
          </a:xfrm>
        </p:grpSpPr>
        <p:sp>
          <p:nvSpPr>
            <p:cNvPr id="1165" name=""/>
            <p:cNvSpPr/>
            <p:nvPr/>
          </p:nvSpPr>
          <p:spPr>
            <a:xfrm>
              <a:off x="2743200" y="342900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743200" y="43434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057400" y="396216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2361600" y="44956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123360" y="457200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0" name=""/>
          <p:cNvSpPr/>
          <p:nvPr/>
        </p:nvSpPr>
        <p:spPr>
          <a:xfrm flipV="1">
            <a:off x="5029200" y="121932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572000" y="3733920"/>
            <a:ext cx="2819520" cy="190476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 flipV="1">
            <a:off x="5790600" y="4952160"/>
            <a:ext cx="207720" cy="55908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303960" y="4724280"/>
            <a:ext cx="444600" cy="66060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952880" y="472428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837480" y="502920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477120" y="3670200"/>
            <a:ext cx="457200" cy="120672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587920" y="3581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715000" y="472428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943600" y="4686480"/>
            <a:ext cx="38088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324480" y="4622760"/>
            <a:ext cx="609840" cy="50796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 rot="16200000">
            <a:off x="6034320" y="3487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7242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724280" y="3124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4266720" y="228600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952880" y="2286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838080" y="1828800"/>
            <a:ext cx="2692440" cy="1905120"/>
            <a:chOff x="838080" y="1828800"/>
            <a:chExt cx="2692440" cy="1905120"/>
          </a:xfrm>
        </p:grpSpPr>
        <p:sp>
          <p:nvSpPr>
            <p:cNvPr id="1190" name=""/>
            <p:cNvSpPr/>
            <p:nvPr/>
          </p:nvSpPr>
          <p:spPr>
            <a:xfrm>
              <a:off x="838080" y="1828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295280" y="2971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2" name=""/>
          <p:cNvSpPr/>
          <p:nvPr/>
        </p:nvSpPr>
        <p:spPr>
          <a:xfrm>
            <a:off x="5562720" y="2819520"/>
            <a:ext cx="1218960" cy="5331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5410080" y="2971440"/>
            <a:ext cx="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1600200" y="1282680"/>
            <a:ext cx="2108160" cy="1765440"/>
            <a:chOff x="1600200" y="1282680"/>
            <a:chExt cx="2108160" cy="1765440"/>
          </a:xfrm>
        </p:grpSpPr>
        <p:sp>
          <p:nvSpPr>
            <p:cNvPr id="1195" name=""/>
            <p:cNvSpPr/>
            <p:nvPr/>
          </p:nvSpPr>
          <p:spPr>
            <a:xfrm>
              <a:off x="2303640" y="12826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286000" y="25146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600200" y="21337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>
              <a:off x="1904400" y="26668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H="1">
              <a:off x="2666160" y="27432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3886200" y="3124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3352680" y="3809880"/>
            <a:ext cx="2692440" cy="1905120"/>
            <a:chOff x="3352680" y="3809880"/>
            <a:chExt cx="2692440" cy="1905120"/>
          </a:xfrm>
        </p:grpSpPr>
        <p:sp>
          <p:nvSpPr>
            <p:cNvPr id="1202" name=""/>
            <p:cNvSpPr/>
            <p:nvPr/>
          </p:nvSpPr>
          <p:spPr>
            <a:xfrm>
              <a:off x="3352680" y="38098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809880" y="49528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4114800" y="3581280"/>
            <a:ext cx="1294920" cy="1447560"/>
            <a:chOff x="4114800" y="3581280"/>
            <a:chExt cx="1294920" cy="1447560"/>
          </a:xfrm>
        </p:grpSpPr>
        <p:sp>
          <p:nvSpPr>
            <p:cNvPr id="1205" name=""/>
            <p:cNvSpPr/>
            <p:nvPr/>
          </p:nvSpPr>
          <p:spPr>
            <a:xfrm>
              <a:off x="4800600" y="358128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800600" y="449568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114800" y="411444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>
              <a:off x="4419000" y="464796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>
              <a:off x="5180760" y="472428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0" name=""/>
          <p:cNvSpPr/>
          <p:nvPr/>
        </p:nvSpPr>
        <p:spPr>
          <a:xfrm>
            <a:off x="4952880" y="2286000"/>
            <a:ext cx="25909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391520" y="312408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3962520" y="1676520"/>
            <a:ext cx="5029200" cy="2172600"/>
            <a:chOff x="3962520" y="1676520"/>
            <a:chExt cx="5029200" cy="2172600"/>
          </a:xfrm>
        </p:grpSpPr>
        <p:sp>
          <p:nvSpPr>
            <p:cNvPr id="1213" name=""/>
            <p:cNvSpPr/>
            <p:nvPr/>
          </p:nvSpPr>
          <p:spPr>
            <a:xfrm>
              <a:off x="5181480" y="32004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962520" y="16765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705720" y="320040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8001000" y="3200400"/>
              <a:ext cx="990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334120" y="1676520"/>
              <a:ext cx="990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5181480" y="2438280"/>
            <a:ext cx="609840" cy="642600"/>
            <a:chOff x="5181480" y="2438280"/>
            <a:chExt cx="609840" cy="642600"/>
          </a:xfrm>
        </p:grpSpPr>
        <p:sp>
          <p:nvSpPr>
            <p:cNvPr id="1219" name=""/>
            <p:cNvSpPr/>
            <p:nvPr/>
          </p:nvSpPr>
          <p:spPr>
            <a:xfrm>
              <a:off x="51814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181480" y="24382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4495680" y="2286000"/>
            <a:ext cx="762120" cy="3808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 flipV="1">
            <a:off x="6019920" y="2209680"/>
            <a:ext cx="2209680" cy="10670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5791320" y="129528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095880" y="3886200"/>
            <a:ext cx="2819520" cy="190512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H="1" flipV="1">
            <a:off x="7315200" y="5105520"/>
            <a:ext cx="208080" cy="55872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827840" y="4876920"/>
            <a:ext cx="444600" cy="66024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477120" y="487692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8361360" y="518148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8001000" y="3822840"/>
            <a:ext cx="457200" cy="120636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112160" y="373392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238880" y="48769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467480" y="4838760"/>
            <a:ext cx="38124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848720" y="4775040"/>
            <a:ext cx="609480" cy="50832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09480" y="5867280"/>
            <a:ext cx="815364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62120" y="5867280"/>
            <a:ext cx="182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362320" y="586728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i * F.s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715000" y="586728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172200" y="5867280"/>
            <a:ext cx="266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733920" y="12952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 rot="16200000">
            <a:off x="4815720" y="1201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 rot="16200000">
            <a:off x="7482240" y="35643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2895480" y="5257800"/>
            <a:ext cx="3657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638680" y="2209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715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867280" y="2895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895480" y="5334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495680" y="5334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1" name=""/>
          <p:cNvGrpSpPr/>
          <p:nvPr/>
        </p:nvGrpSpPr>
        <p:grpSpPr>
          <a:xfrm>
            <a:off x="4876920" y="2286000"/>
            <a:ext cx="2361960" cy="581400"/>
            <a:chOff x="4876920" y="2286000"/>
            <a:chExt cx="2361960" cy="581400"/>
          </a:xfrm>
        </p:grpSpPr>
        <p:sp>
          <p:nvSpPr>
            <p:cNvPr id="1252" name=""/>
            <p:cNvSpPr/>
            <p:nvPr/>
          </p:nvSpPr>
          <p:spPr>
            <a:xfrm>
              <a:off x="4876920" y="2286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248520" y="22860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 flipV="1">
            <a:off x="6629400" y="18288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194440" y="2819520"/>
            <a:ext cx="1396800" cy="1665000"/>
          </a:xfrm>
          <a:custGeom>
            <a:avLst/>
            <a:gdLst/>
            <a:ahLst/>
            <a:rect l="l" t="t" r="r" b="b"/>
            <a:pathLst>
              <a:path w="880" h="1049">
                <a:moveTo>
                  <a:pt x="0" y="48"/>
                </a:moveTo>
                <a:cubicBezTo>
                  <a:pt x="39" y="95"/>
                  <a:pt x="204" y="199"/>
                  <a:pt x="232" y="328"/>
                </a:cubicBezTo>
                <a:cubicBezTo>
                  <a:pt x="260" y="457"/>
                  <a:pt x="127" y="704"/>
                  <a:pt x="168" y="824"/>
                </a:cubicBezTo>
                <a:cubicBezTo>
                  <a:pt x="209" y="944"/>
                  <a:pt x="376" y="1049"/>
                  <a:pt x="480" y="1048"/>
                </a:cubicBezTo>
                <a:cubicBezTo>
                  <a:pt x="584" y="1047"/>
                  <a:pt x="765" y="935"/>
                  <a:pt x="792" y="816"/>
                </a:cubicBezTo>
                <a:cubicBezTo>
                  <a:pt x="819" y="697"/>
                  <a:pt x="625" y="472"/>
                  <a:pt x="640" y="336"/>
                </a:cubicBezTo>
                <a:cubicBezTo>
                  <a:pt x="655" y="200"/>
                  <a:pt x="830" y="70"/>
                  <a:pt x="88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1752480" y="2286000"/>
            <a:ext cx="2692440" cy="1905120"/>
            <a:chOff x="1752480" y="2286000"/>
            <a:chExt cx="2692440" cy="1905120"/>
          </a:xfrm>
        </p:grpSpPr>
        <p:sp>
          <p:nvSpPr>
            <p:cNvPr id="1257" name=""/>
            <p:cNvSpPr/>
            <p:nvPr/>
          </p:nvSpPr>
          <p:spPr>
            <a:xfrm>
              <a:off x="1752480" y="22860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209680" y="34290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2514600" y="1739880"/>
            <a:ext cx="2108160" cy="1765440"/>
            <a:chOff x="2514600" y="1739880"/>
            <a:chExt cx="2108160" cy="1765440"/>
          </a:xfrm>
        </p:grpSpPr>
        <p:sp>
          <p:nvSpPr>
            <p:cNvPr id="1260" name=""/>
            <p:cNvSpPr/>
            <p:nvPr/>
          </p:nvSpPr>
          <p:spPr>
            <a:xfrm>
              <a:off x="3218040" y="17398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200400" y="29718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514600" y="25909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2818800" y="31240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3580560" y="32004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5" name=""/>
          <p:cNvSpPr/>
          <p:nvPr/>
        </p:nvSpPr>
        <p:spPr>
          <a:xfrm>
            <a:off x="4648320" y="17524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 rot="16200000">
            <a:off x="5729760" y="17355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"/>
          <p:cNvGrpSpPr/>
          <p:nvPr/>
        </p:nvGrpSpPr>
        <p:grpSpPr>
          <a:xfrm>
            <a:off x="5334120" y="3200400"/>
            <a:ext cx="3276360" cy="1084320"/>
            <a:chOff x="5334120" y="3200400"/>
            <a:chExt cx="3276360" cy="1084320"/>
          </a:xfrm>
        </p:grpSpPr>
        <p:sp>
          <p:nvSpPr>
            <p:cNvPr id="1269" name=""/>
            <p:cNvSpPr/>
            <p:nvPr/>
          </p:nvSpPr>
          <p:spPr>
            <a:xfrm>
              <a:off x="5334120" y="3581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4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5638680" y="32004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324480" y="35053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172200" y="32004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172200" y="3200400"/>
              <a:ext cx="1828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924680" y="3352680"/>
              <a:ext cx="68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657600" y="160020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7524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2209320" y="16002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380880" y="2209680"/>
            <a:ext cx="2692440" cy="1905120"/>
            <a:chOff x="380880" y="2209680"/>
            <a:chExt cx="2692440" cy="1905120"/>
          </a:xfrm>
        </p:grpSpPr>
        <p:sp>
          <p:nvSpPr>
            <p:cNvPr id="1281" name=""/>
            <p:cNvSpPr/>
            <p:nvPr/>
          </p:nvSpPr>
          <p:spPr>
            <a:xfrm>
              <a:off x="380880" y="22096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38080" y="33526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1143000" y="2171880"/>
            <a:ext cx="1294920" cy="1257120"/>
            <a:chOff x="1143000" y="2171880"/>
            <a:chExt cx="1294920" cy="1257120"/>
          </a:xfrm>
        </p:grpSpPr>
        <p:sp>
          <p:nvSpPr>
            <p:cNvPr id="1284" name=""/>
            <p:cNvSpPr/>
            <p:nvPr/>
          </p:nvSpPr>
          <p:spPr>
            <a:xfrm>
              <a:off x="1987560" y="217188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828800" y="289548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143000" y="247644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>
              <a:off x="1447200" y="304812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2208960" y="312408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9" name=""/>
          <p:cNvSpPr/>
          <p:nvPr/>
        </p:nvSpPr>
        <p:spPr>
          <a:xfrm>
            <a:off x="609480" y="1066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mma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895480" y="160020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666880" y="1066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743200" y="2057400"/>
            <a:ext cx="3808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2666880" y="3200400"/>
            <a:ext cx="2692440" cy="1905120"/>
            <a:chOff x="2666880" y="3200400"/>
            <a:chExt cx="2692440" cy="1905120"/>
          </a:xfrm>
        </p:grpSpPr>
        <p:sp>
          <p:nvSpPr>
            <p:cNvPr id="1294" name=""/>
            <p:cNvSpPr/>
            <p:nvPr/>
          </p:nvSpPr>
          <p:spPr>
            <a:xfrm>
              <a:off x="2666880" y="32004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124080" y="43434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6" name=""/>
          <p:cNvGrpSpPr/>
          <p:nvPr/>
        </p:nvGrpSpPr>
        <p:grpSpPr>
          <a:xfrm>
            <a:off x="3429000" y="3162240"/>
            <a:ext cx="1294920" cy="1257120"/>
            <a:chOff x="3429000" y="3162240"/>
            <a:chExt cx="1294920" cy="1257120"/>
          </a:xfrm>
        </p:grpSpPr>
        <p:sp>
          <p:nvSpPr>
            <p:cNvPr id="1297" name=""/>
            <p:cNvSpPr/>
            <p:nvPr/>
          </p:nvSpPr>
          <p:spPr>
            <a:xfrm>
              <a:off x="4273560" y="31622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114800" y="38858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429000" y="34668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3733200" y="40384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H="1">
              <a:off x="4494960" y="41144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2" name=""/>
          <p:cNvSpPr/>
          <p:nvPr/>
        </p:nvSpPr>
        <p:spPr>
          <a:xfrm>
            <a:off x="3581280" y="2209680"/>
            <a:ext cx="76212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3" name=""/>
          <p:cNvGrpSpPr/>
          <p:nvPr/>
        </p:nvGrpSpPr>
        <p:grpSpPr>
          <a:xfrm>
            <a:off x="3048120" y="2286000"/>
            <a:ext cx="3733560" cy="1084320"/>
            <a:chOff x="3048120" y="2286000"/>
            <a:chExt cx="3733560" cy="1084320"/>
          </a:xfrm>
        </p:grpSpPr>
        <p:sp>
          <p:nvSpPr>
            <p:cNvPr id="1304" name=""/>
            <p:cNvSpPr/>
            <p:nvPr/>
          </p:nvSpPr>
          <p:spPr>
            <a:xfrm>
              <a:off x="3048120" y="2666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4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>
              <a:off x="3352680" y="22860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943600" y="2590920"/>
              <a:ext cx="8380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038480" y="25909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886200" y="2286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886200" y="2286000"/>
              <a:ext cx="2209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4952880" y="4114800"/>
            <a:ext cx="2692440" cy="1905120"/>
            <a:chOff x="4952880" y="4114800"/>
            <a:chExt cx="2692440" cy="1905120"/>
          </a:xfrm>
        </p:grpSpPr>
        <p:sp>
          <p:nvSpPr>
            <p:cNvPr id="1311" name=""/>
            <p:cNvSpPr/>
            <p:nvPr/>
          </p:nvSpPr>
          <p:spPr>
            <a:xfrm>
              <a:off x="4952880" y="4114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410080" y="5257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5715000" y="4076640"/>
            <a:ext cx="1294920" cy="1257120"/>
            <a:chOff x="5715000" y="4076640"/>
            <a:chExt cx="1294920" cy="1257120"/>
          </a:xfrm>
        </p:grpSpPr>
        <p:sp>
          <p:nvSpPr>
            <p:cNvPr id="1314" name=""/>
            <p:cNvSpPr/>
            <p:nvPr/>
          </p:nvSpPr>
          <p:spPr>
            <a:xfrm>
              <a:off x="6559560" y="40766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400800" y="48002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715000" y="43812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H="1">
              <a:off x="6019200" y="49528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>
              <a:off x="6780960" y="50288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9" name=""/>
          <p:cNvSpPr/>
          <p:nvPr/>
        </p:nvSpPr>
        <p:spPr>
          <a:xfrm>
            <a:off x="7848720" y="487692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8001000" y="5562720"/>
            <a:ext cx="609480" cy="962280"/>
            <a:chOff x="8001000" y="5562720"/>
            <a:chExt cx="609480" cy="962280"/>
          </a:xfrm>
        </p:grpSpPr>
        <p:sp>
          <p:nvSpPr>
            <p:cNvPr id="1321" name=""/>
            <p:cNvSpPr/>
            <p:nvPr/>
          </p:nvSpPr>
          <p:spPr>
            <a:xfrm>
              <a:off x="8153280" y="55627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8001000" y="5943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4343400" y="2209680"/>
            <a:ext cx="609480" cy="642600"/>
            <a:chOff x="4343400" y="2209680"/>
            <a:chExt cx="609480" cy="642600"/>
          </a:xfrm>
        </p:grpSpPr>
        <p:sp>
          <p:nvSpPr>
            <p:cNvPr id="1324" name=""/>
            <p:cNvSpPr/>
            <p:nvPr/>
          </p:nvSpPr>
          <p:spPr>
            <a:xfrm>
              <a:off x="4343400" y="23623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343400" y="22096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6553080" y="3048120"/>
            <a:ext cx="609840" cy="642600"/>
            <a:chOff x="6553080" y="3048120"/>
            <a:chExt cx="609840" cy="642600"/>
          </a:xfrm>
        </p:grpSpPr>
        <p:sp>
          <p:nvSpPr>
            <p:cNvPr id="1327" name=""/>
            <p:cNvSpPr/>
            <p:nvPr/>
          </p:nvSpPr>
          <p:spPr>
            <a:xfrm>
              <a:off x="6553080" y="3200400"/>
              <a:ext cx="381240" cy="38052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553080" y="30481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9" name=""/>
          <p:cNvSpPr/>
          <p:nvPr/>
        </p:nvSpPr>
        <p:spPr>
          <a:xfrm rot="5400000">
            <a:off x="7893360" y="40680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791320" y="3124080"/>
            <a:ext cx="76176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H="1" flipV="1">
            <a:off x="4723920" y="2666520"/>
            <a:ext cx="304920" cy="3812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724280" y="2590920"/>
            <a:ext cx="7621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H="1" flipV="1">
            <a:off x="6857640" y="3505320"/>
            <a:ext cx="3049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934320" y="3429000"/>
            <a:ext cx="91440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77240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669080" y="5130720"/>
            <a:ext cx="1105200" cy="1563840"/>
          </a:xfrm>
          <a:custGeom>
            <a:avLst/>
            <a:gdLst/>
            <a:ahLst/>
            <a:rect l="l" t="t" r="r" b="b"/>
            <a:pathLst>
              <a:path w="696" h="985">
                <a:moveTo>
                  <a:pt x="25" y="24"/>
                </a:moveTo>
                <a:cubicBezTo>
                  <a:pt x="40" y="64"/>
                  <a:pt x="102" y="141"/>
                  <a:pt x="105" y="264"/>
                </a:cubicBezTo>
                <a:cubicBezTo>
                  <a:pt x="108" y="387"/>
                  <a:pt x="0" y="640"/>
                  <a:pt x="41" y="760"/>
                </a:cubicBezTo>
                <a:cubicBezTo>
                  <a:pt x="82" y="880"/>
                  <a:pt x="249" y="985"/>
                  <a:pt x="353" y="984"/>
                </a:cubicBezTo>
                <a:cubicBezTo>
                  <a:pt x="457" y="983"/>
                  <a:pt x="634" y="875"/>
                  <a:pt x="665" y="752"/>
                </a:cubicBezTo>
                <a:cubicBezTo>
                  <a:pt x="696" y="629"/>
                  <a:pt x="541" y="373"/>
                  <a:pt x="537" y="248"/>
                </a:cubicBezTo>
                <a:cubicBezTo>
                  <a:pt x="533" y="123"/>
                  <a:pt x="619" y="52"/>
                  <a:pt x="641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861048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162920" y="2971800"/>
            <a:ext cx="16128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876920" y="2057400"/>
            <a:ext cx="20700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0" name=""/>
          <p:cNvGrpSpPr/>
          <p:nvPr/>
        </p:nvGrpSpPr>
        <p:grpSpPr>
          <a:xfrm>
            <a:off x="4648320" y="2743200"/>
            <a:ext cx="2819160" cy="696960"/>
            <a:chOff x="4648320" y="2743200"/>
            <a:chExt cx="2819160" cy="696960"/>
          </a:xfrm>
        </p:grpSpPr>
        <p:sp>
          <p:nvSpPr>
            <p:cNvPr id="1341" name=""/>
            <p:cNvSpPr/>
            <p:nvPr/>
          </p:nvSpPr>
          <p:spPr>
            <a:xfrm>
              <a:off x="4648320" y="2895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34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477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7391520" y="4648320"/>
            <a:ext cx="1600200" cy="544680"/>
            <a:chOff x="7391520" y="4648320"/>
            <a:chExt cx="1600200" cy="544680"/>
          </a:xfrm>
        </p:grpSpPr>
        <p:sp>
          <p:nvSpPr>
            <p:cNvPr id="1345" name=""/>
            <p:cNvSpPr/>
            <p:nvPr/>
          </p:nvSpPr>
          <p:spPr>
            <a:xfrm>
              <a:off x="7391520" y="46483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153280" y="4648320"/>
              <a:ext cx="8384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2133720" y="1143000"/>
            <a:ext cx="3047760" cy="1154160"/>
            <a:chOff x="2133720" y="1143000"/>
            <a:chExt cx="3047760" cy="1154160"/>
          </a:xfrm>
        </p:grpSpPr>
        <p:sp>
          <p:nvSpPr>
            <p:cNvPr id="1348" name=""/>
            <p:cNvSpPr/>
            <p:nvPr/>
          </p:nvSpPr>
          <p:spPr>
            <a:xfrm>
              <a:off x="21337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048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191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048120" y="1143000"/>
              <a:ext cx="83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3657600" y="1371600"/>
            <a:ext cx="990720" cy="45720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6934320" y="3581280"/>
            <a:ext cx="2209680" cy="697320"/>
            <a:chOff x="6934320" y="3581280"/>
            <a:chExt cx="2209680" cy="697320"/>
          </a:xfrm>
        </p:grpSpPr>
        <p:sp>
          <p:nvSpPr>
            <p:cNvPr id="1354" name=""/>
            <p:cNvSpPr/>
            <p:nvPr/>
          </p:nvSpPr>
          <p:spPr>
            <a:xfrm>
              <a:off x="6934320" y="37339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5438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458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Expressions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: Summary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685800" y="1295280"/>
            <a:ext cx="7772400" cy="387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5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*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*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6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7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8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62120" y="3276720"/>
            <a:ext cx="236196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62120" y="3276720"/>
            <a:ext cx="2361960" cy="3251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1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392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Intermediate Code: Three</a:t>
            </a:r>
            <a:r>
              <a:rPr b="0" lang="cs-CZ" sz="3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Address Cod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066680"/>
            <a:ext cx="8153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struction in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three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code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has the form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1600200"/>
            <a:ext cx="6172200" cy="696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o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r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438280"/>
            <a:ext cx="7775640" cy="1847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– operator     (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*,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perand 1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perand 2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result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34340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794120"/>
            <a:ext cx="77724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: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 , c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,  a, b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a +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 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o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a = tru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go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b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abe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62120" y="3276720"/>
            <a:ext cx="2361960" cy="3372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2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13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18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2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62120" y="3276720"/>
            <a:ext cx="2361960" cy="341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 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8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39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4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44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1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62120" y="3276720"/>
            <a:ext cx="2361960" cy="3372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 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7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68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7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47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62120" y="3276720"/>
            <a:ext cx="2361960" cy="3332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6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97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1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02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6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07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9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1" name=""/>
          <p:cNvGrpSpPr/>
          <p:nvPr/>
        </p:nvGrpSpPr>
        <p:grpSpPr>
          <a:xfrm>
            <a:off x="762120" y="2286000"/>
            <a:ext cx="6248160" cy="4282920"/>
            <a:chOff x="762120" y="2286000"/>
            <a:chExt cx="6248160" cy="4282920"/>
          </a:xfrm>
        </p:grpSpPr>
        <p:sp>
          <p:nvSpPr>
            <p:cNvPr id="1512" name=""/>
            <p:cNvSpPr/>
            <p:nvPr/>
          </p:nvSpPr>
          <p:spPr>
            <a:xfrm>
              <a:off x="762120" y="3276720"/>
              <a:ext cx="2361960" cy="3292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905120" y="2286000"/>
              <a:ext cx="297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29400" y="4876920"/>
              <a:ext cx="3808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762120" y="3276720"/>
            <a:ext cx="2361960" cy="3292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5" name=""/>
          <p:cNvGrpSpPr/>
          <p:nvPr/>
        </p:nvGrpSpPr>
        <p:grpSpPr>
          <a:xfrm>
            <a:off x="762120" y="3276720"/>
            <a:ext cx="5181480" cy="3251880"/>
            <a:chOff x="762120" y="3276720"/>
            <a:chExt cx="5181480" cy="3251880"/>
          </a:xfrm>
        </p:grpSpPr>
        <p:sp>
          <p:nvSpPr>
            <p:cNvPr id="1526" name=""/>
            <p:cNvSpPr/>
            <p:nvPr/>
          </p:nvSpPr>
          <p:spPr>
            <a:xfrm>
              <a:off x="762120" y="3276720"/>
              <a:ext cx="2362320" cy="3251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581640" y="3276720"/>
              <a:ext cx="236196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4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535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9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40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4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45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548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3" name=""/>
          <p:cNvGrpSpPr/>
          <p:nvPr/>
        </p:nvGrpSpPr>
        <p:grpSpPr>
          <a:xfrm>
            <a:off x="762120" y="3276720"/>
            <a:ext cx="6400800" cy="3211560"/>
            <a:chOff x="762120" y="3276720"/>
            <a:chExt cx="6400800" cy="3211560"/>
          </a:xfrm>
        </p:grpSpPr>
        <p:sp>
          <p:nvSpPr>
            <p:cNvPr id="1554" name=""/>
            <p:cNvSpPr/>
            <p:nvPr/>
          </p:nvSpPr>
          <p:spPr>
            <a:xfrm>
              <a:off x="762120" y="3276720"/>
              <a:ext cx="2361960" cy="3211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 flipV="1">
              <a:off x="7010280" y="4038480"/>
              <a:ext cx="152640" cy="609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762120" y="2286000"/>
            <a:ext cx="7543800" cy="4161960"/>
            <a:chOff x="762120" y="2286000"/>
            <a:chExt cx="7543800" cy="4161960"/>
          </a:xfrm>
        </p:grpSpPr>
        <p:sp>
          <p:nvSpPr>
            <p:cNvPr id="1558" name=""/>
            <p:cNvSpPr/>
            <p:nvPr/>
          </p:nvSpPr>
          <p:spPr>
            <a:xfrm>
              <a:off x="1752480" y="2286000"/>
              <a:ext cx="655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62120" y="3276720"/>
              <a:ext cx="2361960" cy="317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162920" y="388620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62120" y="3276720"/>
            <a:ext cx="2361960" cy="3264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7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578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8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8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0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591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3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59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762120" y="3276720"/>
            <a:ext cx="2361960" cy="3264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0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621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5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626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0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631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634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64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0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62120" y="3276720"/>
            <a:ext cx="2361960" cy="338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66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66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67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67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68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4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9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690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762120" y="3276720"/>
            <a:ext cx="2361960" cy="335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1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712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6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717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722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6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727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9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730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2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733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5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0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741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762120" y="3276720"/>
            <a:ext cx="2361960" cy="338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2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763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7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768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77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77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0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781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784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79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867280" y="2438280"/>
            <a:ext cx="213372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yntax-Directed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Generation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3AC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62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1600200"/>
            <a:ext cx="792468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ser directs the creation of a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stract-syntax tre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AS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which is then converted to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0666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sic 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3352680"/>
            <a:ext cx="7772400" cy="13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r directs the creation of 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ostfix notat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P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which is then converted to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5105520"/>
            <a:ext cx="80010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rser directs the creation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2438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152424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5909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2438280"/>
            <a:ext cx="152388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2666880"/>
            <a:ext cx="1523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25909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2895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01000" y="2895480"/>
            <a:ext cx="584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0100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266688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4191120"/>
            <a:ext cx="21337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6280" y="446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4191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ack-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4191120"/>
            <a:ext cx="1524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43434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4191120"/>
            <a:ext cx="1523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4197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434340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38480" y="46483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001000" y="4648320"/>
            <a:ext cx="584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010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441972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7508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5562720"/>
            <a:ext cx="1524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57150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3400" y="5562720"/>
            <a:ext cx="1523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57913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6019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579132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5562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62120" y="3276720"/>
            <a:ext cx="2361960" cy="334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581280" y="3276720"/>
            <a:ext cx="2362320" cy="3056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81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81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82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82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83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4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835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7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3" name=""/>
          <p:cNvGrpSpPr/>
          <p:nvPr/>
        </p:nvGrpSpPr>
        <p:grpSpPr>
          <a:xfrm>
            <a:off x="762120" y="2209680"/>
            <a:ext cx="7391160" cy="4371840"/>
            <a:chOff x="762120" y="2209680"/>
            <a:chExt cx="7391160" cy="4371840"/>
          </a:xfrm>
        </p:grpSpPr>
        <p:sp>
          <p:nvSpPr>
            <p:cNvPr id="1844" name=""/>
            <p:cNvSpPr/>
            <p:nvPr/>
          </p:nvSpPr>
          <p:spPr>
            <a:xfrm>
              <a:off x="762120" y="3276720"/>
              <a:ext cx="2361960" cy="3304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581280" y="3276720"/>
              <a:ext cx="236232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752480" y="2209680"/>
              <a:ext cx="3810240" cy="5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r>
                <a:rPr b="1" lang="en-US" sz="30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7772400" y="5181480"/>
              <a:ext cx="380880" cy="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84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762120" y="3276720"/>
            <a:ext cx="2361960" cy="3304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581280" y="3276720"/>
            <a:ext cx="2362320" cy="3056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4" name=""/>
          <p:cNvGrpSpPr/>
          <p:nvPr/>
        </p:nvGrpSpPr>
        <p:grpSpPr>
          <a:xfrm>
            <a:off x="762120" y="3276720"/>
            <a:ext cx="5181480" cy="3292200"/>
            <a:chOff x="762120" y="3276720"/>
            <a:chExt cx="5181480" cy="3292200"/>
          </a:xfrm>
        </p:grpSpPr>
        <p:sp>
          <p:nvSpPr>
            <p:cNvPr id="1865" name=""/>
            <p:cNvSpPr/>
            <p:nvPr/>
          </p:nvSpPr>
          <p:spPr>
            <a:xfrm>
              <a:off x="762120" y="3276720"/>
              <a:ext cx="2362320" cy="3292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581640" y="3276720"/>
              <a:ext cx="236196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87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87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88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88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89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1895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7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898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7" name=""/>
          <p:cNvGrpSpPr/>
          <p:nvPr/>
        </p:nvGrpSpPr>
        <p:grpSpPr>
          <a:xfrm>
            <a:off x="762120" y="3276720"/>
            <a:ext cx="7467120" cy="3251880"/>
            <a:chOff x="762120" y="3276720"/>
            <a:chExt cx="7467120" cy="3251880"/>
          </a:xfrm>
        </p:grpSpPr>
        <p:sp>
          <p:nvSpPr>
            <p:cNvPr id="1908" name=""/>
            <p:cNvSpPr/>
            <p:nvPr/>
          </p:nvSpPr>
          <p:spPr>
            <a:xfrm>
              <a:off x="762120" y="3276720"/>
              <a:ext cx="2361960" cy="3251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581280" y="3276720"/>
              <a:ext cx="236232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 flipV="1">
              <a:off x="7924320" y="4723920"/>
              <a:ext cx="304920" cy="30492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91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5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762120" y="3276720"/>
            <a:ext cx="2361960" cy="3187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93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93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94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94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95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4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1955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7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958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 flipH="1" flipV="1">
            <a:off x="7924320" y="4723920"/>
            <a:ext cx="30492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96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5" name=""/>
          <p:cNvSpPr/>
          <p:nvPr/>
        </p:nvSpPr>
        <p:spPr>
          <a:xfrm>
            <a:off x="8077320" y="4064040"/>
            <a:ext cx="461880" cy="361800"/>
          </a:xfrm>
          <a:custGeom>
            <a:avLst/>
            <a:gdLst/>
            <a:ahLst/>
            <a:rect l="l" t="t" r="r" b="b"/>
            <a:pathLst>
              <a:path w="291" h="228">
                <a:moveTo>
                  <a:pt x="0" y="0"/>
                </a:moveTo>
                <a:cubicBezTo>
                  <a:pt x="20" y="29"/>
                  <a:pt x="66" y="139"/>
                  <a:pt x="111" y="176"/>
                </a:cubicBezTo>
                <a:cubicBezTo>
                  <a:pt x="156" y="213"/>
                  <a:pt x="249" y="220"/>
                  <a:pt x="270" y="224"/>
                </a:cubicBezTo>
                <a:cubicBezTo>
                  <a:pt x="291" y="228"/>
                  <a:pt x="246" y="205"/>
                  <a:pt x="240" y="20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80773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8051760" y="4362480"/>
            <a:ext cx="304920" cy="222120"/>
          </a:xfrm>
          <a:custGeom>
            <a:avLst/>
            <a:gdLst/>
            <a:ahLst/>
            <a:rect l="l" t="t" r="r" b="b"/>
            <a:pathLst>
              <a:path w="192" h="140">
                <a:moveTo>
                  <a:pt x="0" y="140"/>
                </a:moveTo>
                <a:cubicBezTo>
                  <a:pt x="12" y="124"/>
                  <a:pt x="56" y="40"/>
                  <a:pt x="88" y="20"/>
                </a:cubicBezTo>
                <a:cubicBezTo>
                  <a:pt x="120" y="0"/>
                  <a:pt x="170" y="20"/>
                  <a:pt x="192" y="2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6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762120" y="3276720"/>
            <a:ext cx="2361960" cy="3187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7" name=""/>
          <p:cNvGrpSpPr/>
          <p:nvPr/>
        </p:nvGrpSpPr>
        <p:grpSpPr>
          <a:xfrm>
            <a:off x="762120" y="3276720"/>
            <a:ext cx="5181480" cy="3122280"/>
            <a:chOff x="762120" y="3276720"/>
            <a:chExt cx="5181480" cy="3122280"/>
          </a:xfrm>
        </p:grpSpPr>
        <p:sp>
          <p:nvSpPr>
            <p:cNvPr id="1988" name=""/>
            <p:cNvSpPr/>
            <p:nvPr/>
          </p:nvSpPr>
          <p:spPr>
            <a:xfrm>
              <a:off x="762120" y="3276720"/>
              <a:ext cx="2362320" cy="312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581640" y="3276720"/>
              <a:ext cx="236196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6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997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1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2002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6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2007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1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2012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4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2015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7" name=""/>
          <p:cNvGrpSpPr/>
          <p:nvPr/>
        </p:nvGrpSpPr>
        <p:grpSpPr>
          <a:xfrm>
            <a:off x="8458200" y="4648320"/>
            <a:ext cx="457200" cy="535680"/>
            <a:chOff x="8458200" y="4648320"/>
            <a:chExt cx="457200" cy="535680"/>
          </a:xfrm>
        </p:grpSpPr>
        <p:sp>
          <p:nvSpPr>
            <p:cNvPr id="2018" name=""/>
            <p:cNvSpPr/>
            <p:nvPr/>
          </p:nvSpPr>
          <p:spPr>
            <a:xfrm>
              <a:off x="8458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8610480" y="4648320"/>
              <a:ext cx="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0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2021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3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2024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0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2031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3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 flipH="1" flipV="1">
            <a:off x="7924320" y="4723920"/>
            <a:ext cx="30492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8077320" y="4064040"/>
            <a:ext cx="461880" cy="361800"/>
          </a:xfrm>
          <a:custGeom>
            <a:avLst/>
            <a:gdLst/>
            <a:ahLst/>
            <a:rect l="l" t="t" r="r" b="b"/>
            <a:pathLst>
              <a:path w="291" h="228">
                <a:moveTo>
                  <a:pt x="0" y="0"/>
                </a:moveTo>
                <a:cubicBezTo>
                  <a:pt x="20" y="29"/>
                  <a:pt x="66" y="139"/>
                  <a:pt x="111" y="176"/>
                </a:cubicBezTo>
                <a:cubicBezTo>
                  <a:pt x="156" y="213"/>
                  <a:pt x="249" y="220"/>
                  <a:pt x="270" y="224"/>
                </a:cubicBezTo>
                <a:cubicBezTo>
                  <a:pt x="291" y="228"/>
                  <a:pt x="246" y="205"/>
                  <a:pt x="240" y="20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8051760" y="4362480"/>
            <a:ext cx="304920" cy="222120"/>
          </a:xfrm>
          <a:custGeom>
            <a:avLst/>
            <a:gdLst/>
            <a:ahLst/>
            <a:rect l="l" t="t" r="r" b="b"/>
            <a:pathLst>
              <a:path w="192" h="140">
                <a:moveTo>
                  <a:pt x="0" y="140"/>
                </a:moveTo>
                <a:cubicBezTo>
                  <a:pt x="12" y="124"/>
                  <a:pt x="56" y="40"/>
                  <a:pt x="88" y="20"/>
                </a:cubicBezTo>
                <a:cubicBezTo>
                  <a:pt x="120" y="0"/>
                  <a:pt x="170" y="20"/>
                  <a:pt x="192" y="2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80773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4" name=""/>
          <p:cNvGrpSpPr/>
          <p:nvPr/>
        </p:nvGrpSpPr>
        <p:grpSpPr>
          <a:xfrm>
            <a:off x="762120" y="3276720"/>
            <a:ext cx="7848360" cy="3081960"/>
            <a:chOff x="762120" y="3276720"/>
            <a:chExt cx="7848360" cy="3081960"/>
          </a:xfrm>
        </p:grpSpPr>
        <p:sp>
          <p:nvSpPr>
            <p:cNvPr id="2045" name=""/>
            <p:cNvSpPr/>
            <p:nvPr/>
          </p:nvSpPr>
          <p:spPr>
            <a:xfrm>
              <a:off x="762120" y="3276720"/>
              <a:ext cx="2361960" cy="30819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 flipH="1" flipV="1">
              <a:off x="8153280" y="3885840"/>
              <a:ext cx="457200" cy="304920"/>
            </a:xfrm>
            <a:prstGeom prst="line">
              <a:avLst/>
            </a:prstGeom>
            <a:ln w="5724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8" name=""/>
          <p:cNvGrpSpPr/>
          <p:nvPr/>
        </p:nvGrpSpPr>
        <p:grpSpPr>
          <a:xfrm>
            <a:off x="762120" y="3276720"/>
            <a:ext cx="7162560" cy="3041640"/>
            <a:chOff x="762120" y="3276720"/>
            <a:chExt cx="7162560" cy="3041640"/>
          </a:xfrm>
        </p:grpSpPr>
        <p:sp>
          <p:nvSpPr>
            <p:cNvPr id="2049" name=""/>
            <p:cNvSpPr/>
            <p:nvPr/>
          </p:nvSpPr>
          <p:spPr>
            <a:xfrm>
              <a:off x="762120" y="3276720"/>
              <a:ext cx="2361960" cy="30416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3581280" y="3276720"/>
              <a:ext cx="2362320" cy="2999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flipH="1" flipV="1">
              <a:off x="7467480" y="3428640"/>
              <a:ext cx="457200" cy="304920"/>
            </a:xfrm>
            <a:prstGeom prst="line">
              <a:avLst/>
            </a:prstGeom>
            <a:ln w="5724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"/>
          <p:cNvSpPr/>
          <p:nvPr/>
        </p:nvSpPr>
        <p:spPr>
          <a:xfrm>
            <a:off x="4419720" y="1295280"/>
            <a:ext cx="4038480" cy="1067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emantic Analysis: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Checkin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274320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2743200" y="1143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2590920" y="3581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2971800" y="1676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609480" y="1143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4419720" y="1295280"/>
            <a:ext cx="2971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: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type :=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ty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2666880" y="2666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 flipH="1">
            <a:off x="2361960" y="3200400"/>
            <a:ext cx="53316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685800" y="2590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2057400" y="365760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2895480" y="3200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2895480" y="320040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276720" y="365760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1447920" y="114300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1447920" y="266688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990720" y="4343400"/>
            <a:ext cx="335268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peration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is defined over typ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4419720" y="2666880"/>
            <a:ext cx="4038480" cy="4038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4419720" y="2666880"/>
            <a:ext cx="403848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c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is convertable to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is convertable to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: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emantic 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685800" y="4267080"/>
            <a:ext cx="78487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:=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o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o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76212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685800" y="5029200"/>
            <a:ext cx="74674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76212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68580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609480" y="114300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 a type-checking for a gramm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or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e defined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685800" y="5562720"/>
            <a:ext cx="7543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762120" y="6172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685800" y="6095880"/>
            <a:ext cx="7543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762120" y="6705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1447920" y="27432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5334120" y="2514600"/>
            <a:ext cx="30477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sible Conver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5562720" y="2819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609480" y="1219320"/>
            <a:ext cx="8153640" cy="58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ew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609480" y="1219320"/>
            <a:ext cx="8153640" cy="58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ew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"/>
          <p:cNvSpPr/>
          <p:nvPr/>
        </p:nvSpPr>
        <p:spPr>
          <a:xfrm>
            <a:off x="609480" y="3124080"/>
            <a:ext cx="777240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hort Evaluation (Jumping Cod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609480" y="11430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09480" y="16002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mplies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609480" y="20574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mplies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609480" y="2514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Times New Roman"/>
              </a:rPr>
              <a:t>not evaluated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hort Evaluation: Graphic Re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2743200" y="20574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200400" y="1676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1600200" y="2209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371600" y="4952880"/>
            <a:ext cx="121932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809880" y="4952880"/>
            <a:ext cx="121932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581280" y="29718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743200" y="38862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140360" y="3568680"/>
            <a:ext cx="652320" cy="1346400"/>
          </a:xfrm>
          <a:custGeom>
            <a:avLst/>
            <a:gdLst/>
            <a:ahLst/>
            <a:rect l="l" t="t" r="r" b="b"/>
            <a:pathLst>
              <a:path w="411" h="848">
                <a:moveTo>
                  <a:pt x="0" y="0"/>
                </a:moveTo>
                <a:cubicBezTo>
                  <a:pt x="57" y="64"/>
                  <a:pt x="277" y="243"/>
                  <a:pt x="344" y="384"/>
                </a:cubicBezTo>
                <a:cubicBezTo>
                  <a:pt x="411" y="525"/>
                  <a:pt x="388" y="751"/>
                  <a:pt x="400" y="8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598760" y="2438280"/>
            <a:ext cx="1157040" cy="2476800"/>
          </a:xfrm>
          <a:custGeom>
            <a:avLst/>
            <a:gdLst/>
            <a:ahLst/>
            <a:rect l="l" t="t" r="r" b="b"/>
            <a:pathLst>
              <a:path w="729" h="1560">
                <a:moveTo>
                  <a:pt x="729" y="0"/>
                </a:moveTo>
                <a:cubicBezTo>
                  <a:pt x="626" y="79"/>
                  <a:pt x="226" y="212"/>
                  <a:pt x="113" y="472"/>
                </a:cubicBezTo>
                <a:cubicBezTo>
                  <a:pt x="0" y="732"/>
                  <a:pt x="62" y="1333"/>
                  <a:pt x="49" y="156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4343400" y="3352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670200" y="2425680"/>
            <a:ext cx="432000" cy="546120"/>
          </a:xfrm>
          <a:custGeom>
            <a:avLst/>
            <a:gdLst/>
            <a:ahLst/>
            <a:rect l="l" t="t" r="r" b="b"/>
            <a:pathLst>
              <a:path w="272" h="344">
                <a:moveTo>
                  <a:pt x="0" y="0"/>
                </a:moveTo>
                <a:cubicBezTo>
                  <a:pt x="33" y="19"/>
                  <a:pt x="155" y="55"/>
                  <a:pt x="200" y="112"/>
                </a:cubicBezTo>
                <a:cubicBezTo>
                  <a:pt x="245" y="169"/>
                  <a:pt x="257" y="296"/>
                  <a:pt x="272" y="3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2590920" y="320040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657600" y="40384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038480" y="2209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1905120" y="403848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57200" y="58672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of this graphic representation by 3AC ju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2" name=""/>
          <p:cNvGrpSpPr/>
          <p:nvPr/>
        </p:nvGrpSpPr>
        <p:grpSpPr>
          <a:xfrm>
            <a:off x="5334120" y="1676520"/>
            <a:ext cx="3124080" cy="4038480"/>
            <a:chOff x="5334120" y="1676520"/>
            <a:chExt cx="3124080" cy="4038480"/>
          </a:xfrm>
        </p:grpSpPr>
        <p:sp>
          <p:nvSpPr>
            <p:cNvPr id="2123" name=""/>
            <p:cNvSpPr/>
            <p:nvPr/>
          </p:nvSpPr>
          <p:spPr>
            <a:xfrm>
              <a:off x="6019920" y="1676520"/>
              <a:ext cx="2438280" cy="4038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cs-CZ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334120" y="2819520"/>
              <a:ext cx="609480" cy="9144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5" name=""/>
          <p:cNvSpPr/>
          <p:nvPr/>
        </p:nvSpPr>
        <p:spPr>
          <a:xfrm>
            <a:off x="3340080" y="3429000"/>
            <a:ext cx="317520" cy="457200"/>
          </a:xfrm>
          <a:custGeom>
            <a:avLst/>
            <a:gdLst/>
            <a:ahLst/>
            <a:rect l="l" t="t" r="r" b="b"/>
            <a:pathLst>
              <a:path w="200" h="288">
                <a:moveTo>
                  <a:pt x="200" y="0"/>
                </a:moveTo>
                <a:cubicBezTo>
                  <a:pt x="172" y="13"/>
                  <a:pt x="64" y="32"/>
                  <a:pt x="32" y="80"/>
                </a:cubicBezTo>
                <a:cubicBezTo>
                  <a:pt x="0" y="128"/>
                  <a:pt x="13" y="245"/>
                  <a:pt x="8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2286000" y="4419720"/>
            <a:ext cx="593640" cy="533160"/>
          </a:xfrm>
          <a:custGeom>
            <a:avLst/>
            <a:gdLst/>
            <a:ahLst/>
            <a:rect l="l" t="t" r="r" b="b"/>
            <a:pathLst>
              <a:path w="230" h="384">
                <a:moveTo>
                  <a:pt x="230" y="0"/>
                </a:moveTo>
                <a:cubicBezTo>
                  <a:pt x="201" y="17"/>
                  <a:pt x="92" y="40"/>
                  <a:pt x="54" y="104"/>
                </a:cubicBezTo>
                <a:cubicBezTo>
                  <a:pt x="16" y="168"/>
                  <a:pt x="11" y="326"/>
                  <a:pt x="0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 flipH="1">
            <a:off x="3504600" y="4419720"/>
            <a:ext cx="609480" cy="533160"/>
          </a:xfrm>
          <a:custGeom>
            <a:avLst/>
            <a:gdLst/>
            <a:ahLst/>
            <a:rect l="l" t="t" r="r" b="b"/>
            <a:pathLst>
              <a:path w="230" h="384">
                <a:moveTo>
                  <a:pt x="230" y="0"/>
                </a:moveTo>
                <a:cubicBezTo>
                  <a:pt x="201" y="17"/>
                  <a:pt x="92" y="40"/>
                  <a:pt x="54" y="104"/>
                </a:cubicBezTo>
                <a:cubicBezTo>
                  <a:pt x="16" y="168"/>
                  <a:pt x="11" y="326"/>
                  <a:pt x="0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rom a Parse Tree (PT) to an AST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T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2590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685800" y="2590920"/>
            <a:ext cx="45720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32767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6765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0574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718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2590920"/>
            <a:ext cx="1830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812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14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5053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34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004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576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4320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2590920"/>
            <a:ext cx="83844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410080" y="2971800"/>
            <a:ext cx="99072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248520" y="49528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2940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552720" y="4038480"/>
            <a:ext cx="7621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15200" y="4038480"/>
            <a:ext cx="7621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297180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055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48520" y="25146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44197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35053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940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915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153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77204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24680" y="441972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Short Evaluation Using AST: Introdu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2514600" y="17524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 flipH="1">
            <a:off x="3276720" y="3048120"/>
            <a:ext cx="7617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3733920" y="259092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4876920" y="327672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2743200" y="2209680"/>
            <a:ext cx="12193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1128600" y="3956040"/>
            <a:ext cx="50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H="1">
            <a:off x="1487520" y="2209680"/>
            <a:ext cx="1255680" cy="177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952880" y="3886200"/>
            <a:ext cx="455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5181480" y="3733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4038480" y="3048120"/>
            <a:ext cx="9144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1955880" y="3060720"/>
            <a:ext cx="1270080" cy="1612800"/>
          </a:xfrm>
          <a:custGeom>
            <a:avLst/>
            <a:gdLst/>
            <a:ahLst/>
            <a:rect l="l" t="t" r="r" b="b"/>
            <a:pathLst>
              <a:path w="800" h="1016">
                <a:moveTo>
                  <a:pt x="0" y="1016"/>
                </a:moveTo>
                <a:cubicBezTo>
                  <a:pt x="49" y="900"/>
                  <a:pt x="163" y="489"/>
                  <a:pt x="296" y="320"/>
                </a:cubicBezTo>
                <a:cubicBezTo>
                  <a:pt x="429" y="151"/>
                  <a:pt x="695" y="67"/>
                  <a:pt x="80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2971800" y="39625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276720" y="2819520"/>
            <a:ext cx="45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4495680" y="3429000"/>
            <a:ext cx="455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8" name=""/>
          <p:cNvGrpSpPr/>
          <p:nvPr/>
        </p:nvGrpSpPr>
        <p:grpSpPr>
          <a:xfrm>
            <a:off x="533520" y="4419720"/>
            <a:ext cx="5790960" cy="703080"/>
            <a:chOff x="533520" y="4419720"/>
            <a:chExt cx="5790960" cy="703080"/>
          </a:xfrm>
        </p:grpSpPr>
        <p:sp>
          <p:nvSpPr>
            <p:cNvPr id="2149" name=""/>
            <p:cNvSpPr/>
            <p:nvPr/>
          </p:nvSpPr>
          <p:spPr>
            <a:xfrm>
              <a:off x="53352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137160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H="1">
              <a:off x="9144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3716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43828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27672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H="1">
              <a:off x="281952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27672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41972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5780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H="1">
              <a:off x="48006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2578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1" name=""/>
          <p:cNvSpPr/>
          <p:nvPr/>
        </p:nvSpPr>
        <p:spPr>
          <a:xfrm>
            <a:off x="609480" y="17524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3124080" y="3695760"/>
            <a:ext cx="1397160" cy="1042920"/>
          </a:xfrm>
          <a:custGeom>
            <a:avLst/>
            <a:gdLst/>
            <a:ahLst/>
            <a:rect l="l" t="t" r="r" b="b"/>
            <a:pathLst>
              <a:path w="880" h="657">
                <a:moveTo>
                  <a:pt x="0" y="657"/>
                </a:moveTo>
                <a:cubicBezTo>
                  <a:pt x="71" y="566"/>
                  <a:pt x="277" y="222"/>
                  <a:pt x="424" y="112"/>
                </a:cubicBezTo>
                <a:cubicBezTo>
                  <a:pt x="571" y="2"/>
                  <a:pt x="785" y="23"/>
                  <a:pt x="88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1066680" y="5029200"/>
            <a:ext cx="45720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733920" y="5029200"/>
            <a:ext cx="45720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>
            <a:off x="4647960" y="5029200"/>
            <a:ext cx="15228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6" name=""/>
          <p:cNvGrpSpPr/>
          <p:nvPr/>
        </p:nvGrpSpPr>
        <p:grpSpPr>
          <a:xfrm>
            <a:off x="1066680" y="5486400"/>
            <a:ext cx="4038840" cy="581400"/>
            <a:chOff x="1066680" y="5486400"/>
            <a:chExt cx="4038840" cy="581400"/>
          </a:xfrm>
        </p:grpSpPr>
        <p:sp>
          <p:nvSpPr>
            <p:cNvPr id="2167" name=""/>
            <p:cNvSpPr/>
            <p:nvPr/>
          </p:nvSpPr>
          <p:spPr>
            <a:xfrm>
              <a:off x="1066680" y="5486400"/>
              <a:ext cx="14479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True: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657600" y="5486400"/>
              <a:ext cx="14479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False: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9" name=""/>
          <p:cNvSpPr/>
          <p:nvPr/>
        </p:nvSpPr>
        <p:spPr>
          <a:xfrm>
            <a:off x="2021040" y="5105520"/>
            <a:ext cx="3701880" cy="1341360"/>
          </a:xfrm>
          <a:custGeom>
            <a:avLst/>
            <a:gdLst/>
            <a:ahLst/>
            <a:rect l="l" t="t" r="r" b="b"/>
            <a:pathLst>
              <a:path w="2332" h="845">
                <a:moveTo>
                  <a:pt x="2231" y="0"/>
                </a:moveTo>
                <a:cubicBezTo>
                  <a:pt x="2195" y="119"/>
                  <a:pt x="2332" y="579"/>
                  <a:pt x="2015" y="712"/>
                </a:cubicBezTo>
                <a:cubicBezTo>
                  <a:pt x="1698" y="845"/>
                  <a:pt x="654" y="813"/>
                  <a:pt x="327" y="800"/>
                </a:cubicBezTo>
                <a:cubicBezTo>
                  <a:pt x="0" y="787"/>
                  <a:pt x="111" y="667"/>
                  <a:pt x="55" y="632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0" name=""/>
          <p:cNvGrpSpPr/>
          <p:nvPr/>
        </p:nvGrpSpPr>
        <p:grpSpPr>
          <a:xfrm>
            <a:off x="5410080" y="1752480"/>
            <a:ext cx="3276720" cy="4038840"/>
            <a:chOff x="5410080" y="1752480"/>
            <a:chExt cx="3276720" cy="4038840"/>
          </a:xfrm>
        </p:grpSpPr>
        <p:sp>
          <p:nvSpPr>
            <p:cNvPr id="2171" name=""/>
            <p:cNvSpPr/>
            <p:nvPr/>
          </p:nvSpPr>
          <p:spPr>
            <a:xfrm>
              <a:off x="6248520" y="1752480"/>
              <a:ext cx="2438280" cy="4038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cs-CZ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410080" y="2438280"/>
              <a:ext cx="685800" cy="9144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 Using AST: Implementa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609480" y="1143000"/>
            <a:ext cx="8229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very AST node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 has assigned two attributes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609480" y="167652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ementary AST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990720" y="35812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828800" y="25909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2057400" y="3048120"/>
            <a:ext cx="76212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 flipH="1">
            <a:off x="1294920" y="3048120"/>
            <a:ext cx="76212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2514600" y="3581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533520" y="403848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2057400" y="403848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2438280" y="2286000"/>
            <a:ext cx="762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2133720" y="3352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4114800" y="3657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4952880" y="26668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5257800" y="3124080"/>
            <a:ext cx="9907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 flipH="1">
            <a:off x="4419720" y="312408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5943600" y="3657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3733920" y="4038480"/>
            <a:ext cx="1752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5410080" y="4038480"/>
            <a:ext cx="1905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5791320" y="228600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5638680" y="34290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7315200" y="2590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6960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7467480" y="3581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7238880" y="4038480"/>
            <a:ext cx="1676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8001000" y="220968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609480" y="2133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3657600" y="2133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7086600" y="2133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3657600" y="22860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7086600" y="22860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533520" y="4800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new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533520" y="5257800"/>
            <a:ext cx="83055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root of AST, the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r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Fals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r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Fals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label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ropaga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ttributes are propagated from root to lea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AST using rule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809880" y="48006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new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"/>
          <p:cNvSpPr/>
          <p:nvPr/>
        </p:nvSpPr>
        <p:spPr>
          <a:xfrm>
            <a:off x="609480" y="5486400"/>
            <a:ext cx="784872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Short Evaluation Using AST: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2514600" y="1828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 flipH="1">
            <a:off x="3657600" y="3124080"/>
            <a:ext cx="83808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191120" y="266688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5638680" y="3505320"/>
            <a:ext cx="67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2743200" y="2286000"/>
            <a:ext cx="1676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1143000" y="41911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H="1">
            <a:off x="1447920" y="2286000"/>
            <a:ext cx="129528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5715000" y="4191120"/>
            <a:ext cx="455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5943600" y="3962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4495680" y="3124080"/>
            <a:ext cx="12956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429000" y="41911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733920" y="2666880"/>
            <a:ext cx="45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5181480" y="3505320"/>
            <a:ext cx="455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609480" y="1676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3048120" y="1676520"/>
            <a:ext cx="1523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685800" y="4572000"/>
            <a:ext cx="1447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198108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3048120" y="4572000"/>
            <a:ext cx="1752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4495680" y="4876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334120" y="457200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685800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6934320" y="1447920"/>
            <a:ext cx="1600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858000" y="4876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4876920" y="2514600"/>
            <a:ext cx="1828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647712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647712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6248520" y="3429000"/>
            <a:ext cx="2286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8001000" y="3352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80010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7315200" y="5715000"/>
            <a:ext cx="11430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5" name=""/>
          <p:cNvGrpSpPr/>
          <p:nvPr/>
        </p:nvGrpSpPr>
        <p:grpSpPr>
          <a:xfrm>
            <a:off x="3048120" y="5257800"/>
            <a:ext cx="2286000" cy="1346400"/>
            <a:chOff x="3048120" y="5257800"/>
            <a:chExt cx="2286000" cy="1346400"/>
          </a:xfrm>
        </p:grpSpPr>
        <p:sp>
          <p:nvSpPr>
            <p:cNvPr id="2246" name=""/>
            <p:cNvSpPr/>
            <p:nvPr/>
          </p:nvSpPr>
          <p:spPr>
            <a:xfrm>
              <a:off x="3048120" y="5486400"/>
              <a:ext cx="22860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358128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762120" y="5257800"/>
            <a:ext cx="1981080" cy="1310040"/>
            <a:chOff x="762120" y="5257800"/>
            <a:chExt cx="1981080" cy="1310040"/>
          </a:xfrm>
        </p:grpSpPr>
        <p:sp>
          <p:nvSpPr>
            <p:cNvPr id="2249" name=""/>
            <p:cNvSpPr/>
            <p:nvPr/>
          </p:nvSpPr>
          <p:spPr>
            <a:xfrm>
              <a:off x="762120" y="5791320"/>
              <a:ext cx="198108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21932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1" name=""/>
          <p:cNvGrpSpPr/>
          <p:nvPr/>
        </p:nvGrpSpPr>
        <p:grpSpPr>
          <a:xfrm>
            <a:off x="5334120" y="5257800"/>
            <a:ext cx="2286000" cy="1346400"/>
            <a:chOff x="5334120" y="5257800"/>
            <a:chExt cx="2286000" cy="1346400"/>
          </a:xfrm>
        </p:grpSpPr>
        <p:sp>
          <p:nvSpPr>
            <p:cNvPr id="2252" name=""/>
            <p:cNvSpPr/>
            <p:nvPr/>
          </p:nvSpPr>
          <p:spPr>
            <a:xfrm>
              <a:off x="5334120" y="5486400"/>
              <a:ext cx="22860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86728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"/>
          <p:cNvSpPr/>
          <p:nvPr/>
        </p:nvSpPr>
        <p:spPr>
          <a:xfrm>
            <a:off x="3124080" y="388620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3886200" y="388620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1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685800" y="10666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mmar for boolean express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1371600" y="2819520"/>
            <a:ext cx="342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mbiguit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609480" y="33526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Modification of gramm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190656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746928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611280" y="1523160"/>
            <a:ext cx="121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36232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7924680" y="16765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1363680" y="2345400"/>
            <a:ext cx="151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r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 flipH="1">
            <a:off x="166824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235440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2125800" y="2193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943240" y="2361240"/>
            <a:ext cx="133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 flipH="1">
            <a:off x="6324480" y="220968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934320" y="220968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7057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7468920" y="236124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769608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365940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411480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083400" y="2345400"/>
            <a:ext cx="15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n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342072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410688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3878280" y="2193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518328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5638680" y="16765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4788000" y="2345400"/>
            <a:ext cx="12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t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410080" y="22096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 flipH="1">
            <a:off x="5181120" y="2193840"/>
            <a:ext cx="220680" cy="24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647856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693432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609480" y="38098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Replace rul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2211480" y="4266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1625760" y="493632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 flipH="1">
            <a:off x="1972800" y="4784760"/>
            <a:ext cx="3812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2506680" y="478476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2430360" y="4784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2583000" y="478476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4726080" y="4266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809880" y="4952160"/>
            <a:ext cx="25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 flipH="1">
            <a:off x="4267080" y="4784760"/>
            <a:ext cx="601920" cy="24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5021280" y="478476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4944960" y="4784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5097600" y="478476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67057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693432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4876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85800" y="5638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to each rule the following semantic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85800" y="1143000"/>
            <a:ext cx="807732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GB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GB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lab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 // Generation of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a new lab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 flipH="1">
            <a:off x="3153960" y="4240080"/>
            <a:ext cx="137340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2673360" y="5024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3557520" y="5024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4527720" y="4240080"/>
            <a:ext cx="28404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 flipH="1">
            <a:off x="4019400" y="4240080"/>
            <a:ext cx="50832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4756320" y="5535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4494240" y="504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4527720" y="4240080"/>
            <a:ext cx="136332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4235400" y="37544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4908600" y="347832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095560" y="5553000"/>
            <a:ext cx="173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4070520" y="5916600"/>
            <a:ext cx="1009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wla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4451400" y="5535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5060880" y="5916600"/>
            <a:ext cx="457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32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5746680" y="504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5745240" y="5554800"/>
            <a:ext cx="10825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2362320" y="3505320"/>
            <a:ext cx="2482560" cy="2049480"/>
          </a:xfrm>
          <a:custGeom>
            <a:avLst/>
            <a:gdLst/>
            <a:ahLst/>
            <a:rect l="l" t="t" r="r" b="b"/>
            <a:pathLst>
              <a:path w="1564" h="1291">
                <a:moveTo>
                  <a:pt x="1564" y="79"/>
                </a:moveTo>
                <a:cubicBezTo>
                  <a:pt x="1379" y="99"/>
                  <a:pt x="705" y="0"/>
                  <a:pt x="444" y="202"/>
                </a:cubicBezTo>
                <a:cubicBezTo>
                  <a:pt x="183" y="404"/>
                  <a:pt x="68" y="1140"/>
                  <a:pt x="0" y="1291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5911920" y="3719520"/>
            <a:ext cx="598320" cy="1835280"/>
          </a:xfrm>
          <a:custGeom>
            <a:avLst/>
            <a:gdLst/>
            <a:ahLst/>
            <a:rect l="l" t="t" r="r" b="b"/>
            <a:pathLst>
              <a:path w="377" h="1156">
                <a:moveTo>
                  <a:pt x="0" y="0"/>
                </a:moveTo>
                <a:cubicBezTo>
                  <a:pt x="55" y="56"/>
                  <a:pt x="299" y="146"/>
                  <a:pt x="338" y="339"/>
                </a:cubicBezTo>
                <a:cubicBezTo>
                  <a:pt x="377" y="532"/>
                  <a:pt x="265" y="1035"/>
                  <a:pt x="236" y="115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6013440" y="4075200"/>
            <a:ext cx="1081080" cy="1911240"/>
          </a:xfrm>
          <a:custGeom>
            <a:avLst/>
            <a:gdLst/>
            <a:ahLst/>
            <a:rect l="l" t="t" r="r" b="b"/>
            <a:pathLst>
              <a:path w="681" h="1204">
                <a:moveTo>
                  <a:pt x="0" y="0"/>
                </a:moveTo>
                <a:cubicBezTo>
                  <a:pt x="102" y="92"/>
                  <a:pt x="545" y="345"/>
                  <a:pt x="613" y="546"/>
                </a:cubicBezTo>
                <a:cubicBezTo>
                  <a:pt x="681" y="747"/>
                  <a:pt x="470" y="1116"/>
                  <a:pt x="410" y="1204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685800" y="1905120"/>
            <a:ext cx="84582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enerateNew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609480" y="35053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H="1">
            <a:off x="3459240" y="4087800"/>
            <a:ext cx="137304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2978280" y="48718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862440" y="4871880"/>
            <a:ext cx="70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4832280" y="4087800"/>
            <a:ext cx="28440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H="1">
            <a:off x="4323960" y="4087800"/>
            <a:ext cx="50796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5060880" y="5383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4799160" y="489744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4832280" y="4087800"/>
            <a:ext cx="136368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4540320" y="360216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5181480" y="297180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2400480" y="5400720"/>
            <a:ext cx="173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4375080" y="5764320"/>
            <a:ext cx="1009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wla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4756320" y="53830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5365800" y="5764320"/>
            <a:ext cx="457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32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6051600" y="48974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6049800" y="5402160"/>
            <a:ext cx="1082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1527120" y="3478320"/>
            <a:ext cx="3622680" cy="2414520"/>
          </a:xfrm>
          <a:custGeom>
            <a:avLst/>
            <a:gdLst/>
            <a:ahLst/>
            <a:rect l="l" t="t" r="r" b="b"/>
            <a:pathLst>
              <a:path w="2282" h="1521">
                <a:moveTo>
                  <a:pt x="2282" y="0"/>
                </a:moveTo>
                <a:cubicBezTo>
                  <a:pt x="1951" y="119"/>
                  <a:pt x="588" y="460"/>
                  <a:pt x="294" y="713"/>
                </a:cubicBezTo>
                <a:cubicBezTo>
                  <a:pt x="0" y="966"/>
                  <a:pt x="471" y="1353"/>
                  <a:pt x="518" y="1521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6146640" y="3200400"/>
            <a:ext cx="696960" cy="2273400"/>
          </a:xfrm>
          <a:custGeom>
            <a:avLst/>
            <a:gdLst/>
            <a:ahLst/>
            <a:rect l="l" t="t" r="r" b="b"/>
            <a:pathLst>
              <a:path w="439" h="1432">
                <a:moveTo>
                  <a:pt x="0" y="0"/>
                </a:moveTo>
                <a:cubicBezTo>
                  <a:pt x="62" y="95"/>
                  <a:pt x="325" y="331"/>
                  <a:pt x="382" y="570"/>
                </a:cubicBezTo>
                <a:cubicBezTo>
                  <a:pt x="439" y="809"/>
                  <a:pt x="352" y="1253"/>
                  <a:pt x="344" y="1432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6172200" y="3670200"/>
            <a:ext cx="1252440" cy="2163960"/>
          </a:xfrm>
          <a:custGeom>
            <a:avLst/>
            <a:gdLst/>
            <a:ahLst/>
            <a:rect l="l" t="t" r="r" b="b"/>
            <a:pathLst>
              <a:path w="789" h="1363">
                <a:moveTo>
                  <a:pt x="0" y="0"/>
                </a:moveTo>
                <a:cubicBezTo>
                  <a:pt x="116" y="118"/>
                  <a:pt x="621" y="478"/>
                  <a:pt x="705" y="705"/>
                </a:cubicBezTo>
                <a:cubicBezTo>
                  <a:pt x="789" y="932"/>
                  <a:pt x="562" y="1275"/>
                  <a:pt x="502" y="1363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685800" y="1143000"/>
            <a:ext cx="84582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enerateNew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685800" y="29718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85800" y="1066680"/>
            <a:ext cx="78487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{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 flipH="1">
            <a:off x="3309480" y="2746440"/>
            <a:ext cx="36036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4016520" y="351324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2878200" y="3513240"/>
            <a:ext cx="67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3886200" y="2819520"/>
            <a:ext cx="28908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3490920" y="224316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4191120" y="213372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4495680" y="342900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5181480" y="2362320"/>
            <a:ext cx="567000" cy="1612800"/>
          </a:xfrm>
          <a:custGeom>
            <a:avLst/>
            <a:gdLst/>
            <a:ahLst/>
            <a:rect l="l" t="t" r="r" b="b"/>
            <a:pathLst>
              <a:path w="357" h="1016">
                <a:moveTo>
                  <a:pt x="0" y="0"/>
                </a:moveTo>
                <a:cubicBezTo>
                  <a:pt x="53" y="68"/>
                  <a:pt x="283" y="239"/>
                  <a:pt x="320" y="408"/>
                </a:cubicBezTo>
                <a:cubicBezTo>
                  <a:pt x="357" y="577"/>
                  <a:pt x="244" y="889"/>
                  <a:pt x="224" y="101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85800" y="21337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5181480" y="2743200"/>
            <a:ext cx="381240" cy="838080"/>
          </a:xfrm>
          <a:custGeom>
            <a:avLst/>
            <a:gdLst/>
            <a:ahLst/>
            <a:rect l="l" t="t" r="r" b="b"/>
            <a:pathLst>
              <a:path w="357" h="1016">
                <a:moveTo>
                  <a:pt x="0" y="0"/>
                </a:moveTo>
                <a:cubicBezTo>
                  <a:pt x="53" y="68"/>
                  <a:pt x="283" y="239"/>
                  <a:pt x="320" y="408"/>
                </a:cubicBezTo>
                <a:cubicBezTo>
                  <a:pt x="357" y="577"/>
                  <a:pt x="244" y="889"/>
                  <a:pt x="224" y="101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685800" y="4191120"/>
            <a:ext cx="78487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6212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762120" y="5257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genera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va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ot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nerate “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o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"/>
          <p:cNvSpPr/>
          <p:nvPr/>
        </p:nvSpPr>
        <p:spPr>
          <a:xfrm>
            <a:off x="6477120" y="1219320"/>
            <a:ext cx="2057400" cy="5410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609480" y="52578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2895480" y="5257800"/>
            <a:ext cx="76212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228600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1219320" y="5257800"/>
            <a:ext cx="7617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2895480" y="1523880"/>
            <a:ext cx="15242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. 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339933"/>
                </a:solidFill>
                <a:latin typeface="Times New Roman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. 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339933"/>
                </a:solidFill>
                <a:latin typeface="Times New Roman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609480" y="10666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1" name=""/>
          <p:cNvGrpSpPr/>
          <p:nvPr/>
        </p:nvGrpSpPr>
        <p:grpSpPr>
          <a:xfrm>
            <a:off x="304920" y="3733920"/>
            <a:ext cx="3255840" cy="2778120"/>
            <a:chOff x="304920" y="3733920"/>
            <a:chExt cx="3255840" cy="2778120"/>
          </a:xfrm>
        </p:grpSpPr>
        <p:sp>
          <p:nvSpPr>
            <p:cNvPr id="2382" name=""/>
            <p:cNvSpPr/>
            <p:nvPr/>
          </p:nvSpPr>
          <p:spPr>
            <a:xfrm>
              <a:off x="3049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19051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H="1">
              <a:off x="914400" y="3733920"/>
              <a:ext cx="9907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82480" y="4268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H="1">
              <a:off x="1523520" y="3733920"/>
              <a:ext cx="38124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1841400" y="4241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1905120" y="3733920"/>
              <a:ext cx="67608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362320" y="426708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905120" y="373392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1" name=""/>
          <p:cNvSpPr/>
          <p:nvPr/>
        </p:nvSpPr>
        <p:spPr>
          <a:xfrm>
            <a:off x="388620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556272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4495680" y="5257800"/>
            <a:ext cx="76212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4" name=""/>
          <p:cNvGrpSpPr/>
          <p:nvPr/>
        </p:nvGrpSpPr>
        <p:grpSpPr>
          <a:xfrm>
            <a:off x="3505320" y="3733920"/>
            <a:ext cx="3179520" cy="2778120"/>
            <a:chOff x="3505320" y="3733920"/>
            <a:chExt cx="3179520" cy="2778120"/>
          </a:xfrm>
        </p:grpSpPr>
        <p:sp>
          <p:nvSpPr>
            <p:cNvPr id="2395" name=""/>
            <p:cNvSpPr/>
            <p:nvPr/>
          </p:nvSpPr>
          <p:spPr>
            <a:xfrm>
              <a:off x="35053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02920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>
              <a:off x="4190760" y="3733920"/>
              <a:ext cx="9903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3859200" y="4268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H="1">
              <a:off x="4800600" y="3733920"/>
              <a:ext cx="38088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118120" y="4241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181480" y="3733920"/>
              <a:ext cx="67644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5638680" y="4267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181480" y="3733920"/>
              <a:ext cx="15264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4" name=""/>
          <p:cNvSpPr/>
          <p:nvPr/>
        </p:nvSpPr>
        <p:spPr>
          <a:xfrm>
            <a:off x="3276720" y="213372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5" name=""/>
          <p:cNvGrpSpPr/>
          <p:nvPr/>
        </p:nvGrpSpPr>
        <p:grpSpPr>
          <a:xfrm>
            <a:off x="1066680" y="2438280"/>
            <a:ext cx="5388120" cy="2819520"/>
            <a:chOff x="1066680" y="2438280"/>
            <a:chExt cx="5388120" cy="2819520"/>
          </a:xfrm>
        </p:grpSpPr>
        <p:sp>
          <p:nvSpPr>
            <p:cNvPr id="2406" name=""/>
            <p:cNvSpPr/>
            <p:nvPr/>
          </p:nvSpPr>
          <p:spPr>
            <a:xfrm>
              <a:off x="1066680" y="2438280"/>
              <a:ext cx="14479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1727280" y="326880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003640" y="326880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H="1">
              <a:off x="2057040" y="2598840"/>
              <a:ext cx="139716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 flipH="1">
              <a:off x="3276720" y="2598840"/>
              <a:ext cx="177840" cy="265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454560" y="2598840"/>
              <a:ext cx="165096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3454560" y="259884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3429000" y="3124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4724280" y="2438280"/>
              <a:ext cx="17305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. f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5" name=""/>
          <p:cNvSpPr/>
          <p:nvPr/>
        </p:nvSpPr>
        <p:spPr>
          <a:xfrm>
            <a:off x="5715000" y="327672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6" name=""/>
          <p:cNvGrpSpPr/>
          <p:nvPr/>
        </p:nvGrpSpPr>
        <p:grpSpPr>
          <a:xfrm>
            <a:off x="798480" y="1219320"/>
            <a:ext cx="7699320" cy="4065480"/>
            <a:chOff x="798480" y="1219320"/>
            <a:chExt cx="7699320" cy="4065480"/>
          </a:xfrm>
        </p:grpSpPr>
        <p:sp>
          <p:nvSpPr>
            <p:cNvPr id="2417" name=""/>
            <p:cNvSpPr/>
            <p:nvPr/>
          </p:nvSpPr>
          <p:spPr>
            <a:xfrm>
              <a:off x="798480" y="478152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6553080" y="1219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9" name=""/>
          <p:cNvGrpSpPr/>
          <p:nvPr/>
        </p:nvGrpSpPr>
        <p:grpSpPr>
          <a:xfrm>
            <a:off x="2514600" y="2362320"/>
            <a:ext cx="5983200" cy="2865240"/>
            <a:chOff x="2514600" y="2362320"/>
            <a:chExt cx="5983200" cy="2865240"/>
          </a:xfrm>
        </p:grpSpPr>
        <p:sp>
          <p:nvSpPr>
            <p:cNvPr id="2420" name=""/>
            <p:cNvSpPr/>
            <p:nvPr/>
          </p:nvSpPr>
          <p:spPr>
            <a:xfrm>
              <a:off x="2514600" y="472428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6553080" y="2362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2" name=""/>
          <p:cNvGrpSpPr/>
          <p:nvPr/>
        </p:nvGrpSpPr>
        <p:grpSpPr>
          <a:xfrm>
            <a:off x="1828800" y="1981080"/>
            <a:ext cx="5300640" cy="3179880"/>
            <a:chOff x="1828800" y="1981080"/>
            <a:chExt cx="5300640" cy="3179880"/>
          </a:xfrm>
        </p:grpSpPr>
        <p:grpSp>
          <p:nvGrpSpPr>
            <p:cNvPr id="2423" name=""/>
            <p:cNvGrpSpPr/>
            <p:nvPr/>
          </p:nvGrpSpPr>
          <p:grpSpPr>
            <a:xfrm>
              <a:off x="1828800" y="4648320"/>
              <a:ext cx="533520" cy="512640"/>
              <a:chOff x="1828800" y="4648320"/>
              <a:chExt cx="533520" cy="512640"/>
            </a:xfrm>
          </p:grpSpPr>
          <p:sp>
            <p:nvSpPr>
              <p:cNvPr id="2424" name=""/>
              <p:cNvSpPr/>
              <p:nvPr/>
            </p:nvSpPr>
            <p:spPr>
              <a:xfrm>
                <a:off x="1828800" y="4800600"/>
                <a:ext cx="5335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2057400" y="46483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6" name=""/>
            <p:cNvSpPr/>
            <p:nvPr/>
          </p:nvSpPr>
          <p:spPr>
            <a:xfrm>
              <a:off x="6553080" y="1981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7" name=""/>
          <p:cNvGrpSpPr/>
          <p:nvPr/>
        </p:nvGrpSpPr>
        <p:grpSpPr>
          <a:xfrm>
            <a:off x="4075200" y="3505320"/>
            <a:ext cx="4422600" cy="1779480"/>
            <a:chOff x="4075200" y="3505320"/>
            <a:chExt cx="4422600" cy="1779480"/>
          </a:xfrm>
        </p:grpSpPr>
        <p:sp>
          <p:nvSpPr>
            <p:cNvPr id="2428" name=""/>
            <p:cNvSpPr/>
            <p:nvPr/>
          </p:nvSpPr>
          <p:spPr>
            <a:xfrm>
              <a:off x="4075200" y="478152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553080" y="3505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0" name=""/>
          <p:cNvGrpSpPr/>
          <p:nvPr/>
        </p:nvGrpSpPr>
        <p:grpSpPr>
          <a:xfrm>
            <a:off x="3352680" y="3124080"/>
            <a:ext cx="3776760" cy="970200"/>
            <a:chOff x="3352680" y="3124080"/>
            <a:chExt cx="3776760" cy="970200"/>
          </a:xfrm>
        </p:grpSpPr>
        <p:grpSp>
          <p:nvGrpSpPr>
            <p:cNvPr id="2431" name=""/>
            <p:cNvGrpSpPr/>
            <p:nvPr/>
          </p:nvGrpSpPr>
          <p:grpSpPr>
            <a:xfrm>
              <a:off x="3352680" y="3513240"/>
              <a:ext cx="533520" cy="581040"/>
              <a:chOff x="3352680" y="3513240"/>
              <a:chExt cx="533520" cy="581040"/>
            </a:xfrm>
          </p:grpSpPr>
          <p:sp>
            <p:nvSpPr>
              <p:cNvPr id="2432" name=""/>
              <p:cNvSpPr/>
              <p:nvPr/>
            </p:nvSpPr>
            <p:spPr>
              <a:xfrm>
                <a:off x="3352680" y="3733920"/>
                <a:ext cx="5335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3606840" y="351324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4" name=""/>
            <p:cNvSpPr/>
            <p:nvPr/>
          </p:nvSpPr>
          <p:spPr>
            <a:xfrm>
              <a:off x="6553080" y="3124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5" name=""/>
          <p:cNvGrpSpPr/>
          <p:nvPr/>
        </p:nvGrpSpPr>
        <p:grpSpPr>
          <a:xfrm>
            <a:off x="5791320" y="4648320"/>
            <a:ext cx="2706480" cy="1008000"/>
            <a:chOff x="5791320" y="4648320"/>
            <a:chExt cx="2706480" cy="1008000"/>
          </a:xfrm>
        </p:grpSpPr>
        <p:sp>
          <p:nvSpPr>
            <p:cNvPr id="2436" name=""/>
            <p:cNvSpPr/>
            <p:nvPr/>
          </p:nvSpPr>
          <p:spPr>
            <a:xfrm>
              <a:off x="5791320" y="472428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553080" y="4648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8" name=""/>
          <p:cNvGrpSpPr/>
          <p:nvPr/>
        </p:nvGrpSpPr>
        <p:grpSpPr>
          <a:xfrm>
            <a:off x="5105520" y="4267080"/>
            <a:ext cx="2023920" cy="893880"/>
            <a:chOff x="5105520" y="4267080"/>
            <a:chExt cx="2023920" cy="893880"/>
          </a:xfrm>
        </p:grpSpPr>
        <p:grpSp>
          <p:nvGrpSpPr>
            <p:cNvPr id="2439" name=""/>
            <p:cNvGrpSpPr/>
            <p:nvPr/>
          </p:nvGrpSpPr>
          <p:grpSpPr>
            <a:xfrm>
              <a:off x="5105520" y="4648320"/>
              <a:ext cx="533160" cy="512640"/>
              <a:chOff x="5105520" y="4648320"/>
              <a:chExt cx="533160" cy="512640"/>
            </a:xfrm>
          </p:grpSpPr>
          <p:sp>
            <p:nvSpPr>
              <p:cNvPr id="2440" name=""/>
              <p:cNvSpPr/>
              <p:nvPr/>
            </p:nvSpPr>
            <p:spPr>
              <a:xfrm>
                <a:off x="5105520" y="4800600"/>
                <a:ext cx="5331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5334120" y="46483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2" name=""/>
            <p:cNvSpPr/>
            <p:nvPr/>
          </p:nvSpPr>
          <p:spPr>
            <a:xfrm>
              <a:off x="6553080" y="4267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3" name=""/>
          <p:cNvSpPr/>
          <p:nvPr/>
        </p:nvSpPr>
        <p:spPr>
          <a:xfrm>
            <a:off x="6629400" y="5562720"/>
            <a:ext cx="1447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true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6629400" y="6095880"/>
            <a:ext cx="1447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false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"/>
          <p:cNvSpPr/>
          <p:nvPr/>
        </p:nvSpPr>
        <p:spPr>
          <a:xfrm>
            <a:off x="2362320" y="3429000"/>
            <a:ext cx="48006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ing: If-Th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3505320" y="106668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if-then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2057400" y="1905120"/>
            <a:ext cx="6553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2666880" y="3429000"/>
            <a:ext cx="45720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 flipH="1">
            <a:off x="2330280" y="1539720"/>
            <a:ext cx="194472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 flipH="1">
            <a:off x="3193560" y="1539720"/>
            <a:ext cx="108108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4275000" y="1539720"/>
            <a:ext cx="10083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4275000" y="1539720"/>
            <a:ext cx="25066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2743200" y="3505320"/>
            <a:ext cx="114480" cy="647640"/>
          </a:xfrm>
          <a:custGeom>
            <a:avLst/>
            <a:gdLst>
              <a:gd name="textAreaLeft" fmla="*/ 73080 w 114480"/>
              <a:gd name="textAreaRight" fmla="*/ 114840 w 1144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 flipH="1">
            <a:off x="6781680" y="4952880"/>
            <a:ext cx="76320" cy="38124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114800" y="236232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6921360" y="2438280"/>
            <a:ext cx="878040" cy="2692440"/>
          </a:xfrm>
          <a:custGeom>
            <a:avLst/>
            <a:gdLst/>
            <a:ahLst/>
            <a:rect l="l" t="t" r="r" b="b"/>
            <a:pathLst>
              <a:path w="553" h="1696">
                <a:moveTo>
                  <a:pt x="56" y="0"/>
                </a:moveTo>
                <a:cubicBezTo>
                  <a:pt x="137" y="159"/>
                  <a:pt x="553" y="669"/>
                  <a:pt x="544" y="952"/>
                </a:cubicBezTo>
                <a:cubicBezTo>
                  <a:pt x="535" y="1235"/>
                  <a:pt x="113" y="1541"/>
                  <a:pt x="0" y="169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2057400" y="2438280"/>
            <a:ext cx="1066680" cy="1371600"/>
          </a:xfrm>
          <a:custGeom>
            <a:avLst/>
            <a:gdLst/>
            <a:ahLst/>
            <a:rect l="l" t="t" r="r" b="b"/>
            <a:pathLst>
              <a:path w="568" h="720">
                <a:moveTo>
                  <a:pt x="568" y="0"/>
                </a:moveTo>
                <a:cubicBezTo>
                  <a:pt x="324" y="132"/>
                  <a:pt x="80" y="264"/>
                  <a:pt x="40" y="384"/>
                </a:cubicBezTo>
                <a:cubicBezTo>
                  <a:pt x="0" y="504"/>
                  <a:pt x="164" y="612"/>
                  <a:pt x="328" y="72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74628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ing: If-Then-E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2362320" y="3429000"/>
            <a:ext cx="4800600" cy="3276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350532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if-then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-else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1828800" y="1905120"/>
            <a:ext cx="6553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e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2666880" y="3429000"/>
            <a:ext cx="457200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     , , L2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2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 flipH="1">
            <a:off x="2057400" y="1539720"/>
            <a:ext cx="22176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 flipH="1">
            <a:off x="3276360" y="1539720"/>
            <a:ext cx="998280" cy="365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4275000" y="1539720"/>
            <a:ext cx="684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4275000" y="1539720"/>
            <a:ext cx="9828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2743200" y="3505320"/>
            <a:ext cx="114480" cy="647640"/>
          </a:xfrm>
          <a:custGeom>
            <a:avLst/>
            <a:gdLst>
              <a:gd name="textAreaLeft" fmla="*/ 73080 w 114480"/>
              <a:gd name="textAreaRight" fmla="*/ 114840 w 1144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 flipH="1">
            <a:off x="6781680" y="4952880"/>
            <a:ext cx="76320" cy="38124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346720" y="2425680"/>
            <a:ext cx="2071800" cy="2705040"/>
          </a:xfrm>
          <a:custGeom>
            <a:avLst/>
            <a:gdLst/>
            <a:ahLst/>
            <a:rect l="l" t="t" r="r" b="b"/>
            <a:pathLst>
              <a:path w="1305" h="1704">
                <a:moveTo>
                  <a:pt x="0" y="0"/>
                </a:moveTo>
                <a:cubicBezTo>
                  <a:pt x="148" y="40"/>
                  <a:pt x="673" y="111"/>
                  <a:pt x="888" y="248"/>
                </a:cubicBezTo>
                <a:cubicBezTo>
                  <a:pt x="1103" y="385"/>
                  <a:pt x="1271" y="581"/>
                  <a:pt x="1288" y="824"/>
                </a:cubicBezTo>
                <a:cubicBezTo>
                  <a:pt x="1305" y="1067"/>
                  <a:pt x="1054" y="1521"/>
                  <a:pt x="992" y="17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2057400" y="2438280"/>
            <a:ext cx="1066680" cy="1371600"/>
          </a:xfrm>
          <a:custGeom>
            <a:avLst/>
            <a:gdLst/>
            <a:ahLst/>
            <a:rect l="l" t="t" r="r" b="b"/>
            <a:pathLst>
              <a:path w="568" h="720">
                <a:moveTo>
                  <a:pt x="568" y="0"/>
                </a:moveTo>
                <a:cubicBezTo>
                  <a:pt x="324" y="132"/>
                  <a:pt x="80" y="264"/>
                  <a:pt x="40" y="384"/>
                </a:cubicBezTo>
                <a:cubicBezTo>
                  <a:pt x="0" y="504"/>
                  <a:pt x="164" y="612"/>
                  <a:pt x="328" y="72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4343400" y="1523880"/>
            <a:ext cx="2811600" cy="51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 flipH="1">
            <a:off x="6781680" y="5943600"/>
            <a:ext cx="76320" cy="38088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6946920" y="2413080"/>
            <a:ext cx="1149480" cy="3708360"/>
          </a:xfrm>
          <a:custGeom>
            <a:avLst/>
            <a:gdLst/>
            <a:ahLst/>
            <a:rect l="l" t="t" r="r" b="b"/>
            <a:pathLst>
              <a:path w="724" h="2336">
                <a:moveTo>
                  <a:pt x="120" y="0"/>
                </a:moveTo>
                <a:cubicBezTo>
                  <a:pt x="208" y="97"/>
                  <a:pt x="572" y="374"/>
                  <a:pt x="648" y="592"/>
                </a:cubicBezTo>
                <a:cubicBezTo>
                  <a:pt x="724" y="810"/>
                  <a:pt x="684" y="1021"/>
                  <a:pt x="576" y="1312"/>
                </a:cubicBezTo>
                <a:cubicBezTo>
                  <a:pt x="468" y="1603"/>
                  <a:pt x="120" y="2123"/>
                  <a:pt x="0" y="23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Generation of A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143000"/>
            <a:ext cx="80010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 parser simulates the construction of PT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, simultaneously, calls some semantic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s to create AS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220968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2666880"/>
            <a:ext cx="708660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:= MakeTree(‘=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MakeTree(‘+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MakeTree(‘*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 MakeLeaf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90720" y="274320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457200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90720" y="304812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7180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2468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4668840"/>
            <a:ext cx="7620120" cy="21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Tree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eates a new nod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ttaches sons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eft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returns a pointer to nod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Leaf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eates a new nod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ymbol-table address) and returns a pointer to this new 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2362320" y="3429000"/>
            <a:ext cx="4800600" cy="3048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320040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while-loop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1828800" y="190512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whi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2666880" y="342900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2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     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 L2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 flipH="1">
            <a:off x="2285640" y="1539720"/>
            <a:ext cx="19890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 flipH="1">
            <a:off x="3733560" y="1539720"/>
            <a:ext cx="5410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4275000" y="1539720"/>
            <a:ext cx="6778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2819520" y="3886200"/>
            <a:ext cx="114120" cy="647640"/>
          </a:xfrm>
          <a:custGeom>
            <a:avLst/>
            <a:gdLst>
              <a:gd name="textAreaLeft" fmla="*/ 73080 w 114120"/>
              <a:gd name="textAreaRight" fmla="*/ 114480 w 1141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 flipH="1">
            <a:off x="6781680" y="5257800"/>
            <a:ext cx="76320" cy="38088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6426360" y="2425680"/>
            <a:ext cx="1168200" cy="3022560"/>
          </a:xfrm>
          <a:custGeom>
            <a:avLst/>
            <a:gdLst/>
            <a:ahLst/>
            <a:rect l="l" t="t" r="r" b="b"/>
            <a:pathLst>
              <a:path w="736" h="1904">
                <a:moveTo>
                  <a:pt x="0" y="0"/>
                </a:moveTo>
                <a:cubicBezTo>
                  <a:pt x="93" y="52"/>
                  <a:pt x="444" y="125"/>
                  <a:pt x="560" y="312"/>
                </a:cubicBezTo>
                <a:cubicBezTo>
                  <a:pt x="676" y="499"/>
                  <a:pt x="736" y="855"/>
                  <a:pt x="696" y="1120"/>
                </a:cubicBezTo>
                <a:cubicBezTo>
                  <a:pt x="656" y="1385"/>
                  <a:pt x="398" y="1741"/>
                  <a:pt x="320" y="19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2035080" y="2400480"/>
            <a:ext cx="1317600" cy="1803240"/>
          </a:xfrm>
          <a:custGeom>
            <a:avLst/>
            <a:gdLst/>
            <a:ahLst/>
            <a:rect l="l" t="t" r="r" b="b"/>
            <a:pathLst>
              <a:path w="830" h="1136">
                <a:moveTo>
                  <a:pt x="830" y="0"/>
                </a:moveTo>
                <a:cubicBezTo>
                  <a:pt x="703" y="81"/>
                  <a:pt x="122" y="296"/>
                  <a:pt x="61" y="485"/>
                </a:cubicBezTo>
                <a:cubicBezTo>
                  <a:pt x="0" y="674"/>
                  <a:pt x="378" y="1000"/>
                  <a:pt x="462" y="11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eat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2362320" y="3429000"/>
            <a:ext cx="4800600" cy="266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320040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repeat-loop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1828800" y="190512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epea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&gt; 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unti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  &lt;cond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2666880" y="342900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 flipH="1">
            <a:off x="2285640" y="1539720"/>
            <a:ext cx="19890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flipH="1">
            <a:off x="3733560" y="1539720"/>
            <a:ext cx="5410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4275000" y="1539720"/>
            <a:ext cx="6778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2819520" y="3809880"/>
            <a:ext cx="152280" cy="381240"/>
          </a:xfrm>
          <a:custGeom>
            <a:avLst/>
            <a:gdLst>
              <a:gd name="textAreaLeft" fmla="*/ 97200 w 152280"/>
              <a:gd name="textAreaRight" fmla="*/ 152640 w 15228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 flipH="1">
            <a:off x="6781680" y="457200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6426360" y="2425680"/>
            <a:ext cx="1163520" cy="2489400"/>
          </a:xfrm>
          <a:custGeom>
            <a:avLst/>
            <a:gdLst/>
            <a:ahLst/>
            <a:rect l="l" t="t" r="r" b="b"/>
            <a:pathLst>
              <a:path w="733" h="1568">
                <a:moveTo>
                  <a:pt x="0" y="0"/>
                </a:moveTo>
                <a:cubicBezTo>
                  <a:pt x="93" y="52"/>
                  <a:pt x="444" y="125"/>
                  <a:pt x="560" y="312"/>
                </a:cubicBezTo>
                <a:cubicBezTo>
                  <a:pt x="676" y="499"/>
                  <a:pt x="733" y="911"/>
                  <a:pt x="696" y="1120"/>
                </a:cubicBezTo>
                <a:cubicBezTo>
                  <a:pt x="659" y="1329"/>
                  <a:pt x="411" y="1475"/>
                  <a:pt x="336" y="156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1986120" y="2362320"/>
            <a:ext cx="1312560" cy="1625400"/>
          </a:xfrm>
          <a:custGeom>
            <a:avLst/>
            <a:gdLst/>
            <a:ahLst/>
            <a:rect l="l" t="t" r="r" b="b"/>
            <a:pathLst>
              <a:path w="827" h="1024">
                <a:moveTo>
                  <a:pt x="827" y="0"/>
                </a:moveTo>
                <a:cubicBezTo>
                  <a:pt x="700" y="81"/>
                  <a:pt x="116" y="314"/>
                  <a:pt x="58" y="485"/>
                </a:cubicBezTo>
                <a:cubicBezTo>
                  <a:pt x="0" y="656"/>
                  <a:pt x="390" y="912"/>
                  <a:pt x="477" y="102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: Basic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609480" y="11430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 construction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il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h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il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2362320" y="4191120"/>
            <a:ext cx="4724280" cy="1312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000000"/>
                </a:solidFill>
                <a:latin typeface="Times New Roman"/>
              </a:rPr>
              <a:t>YAC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4191120" y="3581280"/>
            <a:ext cx="99036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267080" y="563868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2362320" y="29718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ext-free gramma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2362320" y="6019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rs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457200" y="269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ustra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Phases of Compi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152388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152388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609480" y="2895480"/>
            <a:ext cx="2743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457200" y="11430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ranslat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533520" y="5257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R-pars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ed from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uring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ranslat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36576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7162920" y="213372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7162920" y="365760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3962520" y="2895480"/>
            <a:ext cx="2438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66294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457200" y="42670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a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3733920" y="114300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a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457200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457200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733920" y="426708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6858000" y="2895480"/>
            <a:ext cx="1600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6858000" y="1219320"/>
            <a:ext cx="187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tring of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6781680" y="4343400"/>
            <a:ext cx="195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se of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made b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2768760" y="1473120"/>
            <a:ext cx="1625400" cy="3251160"/>
          </a:xfrm>
          <a:custGeom>
            <a:avLst/>
            <a:gdLst/>
            <a:ahLst/>
            <a:rect l="l" t="t" r="r" b="b"/>
            <a:pathLst>
              <a:path w="1024" h="2048">
                <a:moveTo>
                  <a:pt x="0" y="1992"/>
                </a:moveTo>
                <a:cubicBezTo>
                  <a:pt x="69" y="1969"/>
                  <a:pt x="336" y="2048"/>
                  <a:pt x="416" y="1856"/>
                </a:cubicBezTo>
                <a:cubicBezTo>
                  <a:pt x="496" y="1664"/>
                  <a:pt x="463" y="1103"/>
                  <a:pt x="480" y="840"/>
                </a:cubicBezTo>
                <a:cubicBezTo>
                  <a:pt x="497" y="577"/>
                  <a:pt x="508" y="401"/>
                  <a:pt x="520" y="280"/>
                </a:cubicBezTo>
                <a:cubicBezTo>
                  <a:pt x="532" y="159"/>
                  <a:pt x="524" y="153"/>
                  <a:pt x="552" y="112"/>
                </a:cubicBezTo>
                <a:cubicBezTo>
                  <a:pt x="580" y="71"/>
                  <a:pt x="609" y="51"/>
                  <a:pt x="688" y="32"/>
                </a:cubicBezTo>
                <a:cubicBezTo>
                  <a:pt x="767" y="13"/>
                  <a:pt x="954" y="7"/>
                  <a:pt x="10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702400" y="3211560"/>
            <a:ext cx="1434960" cy="1411200"/>
          </a:xfrm>
          <a:custGeom>
            <a:avLst/>
            <a:gdLst/>
            <a:ahLst/>
            <a:rect l="l" t="t" r="r" b="b"/>
            <a:pathLst>
              <a:path w="904" h="889">
                <a:moveTo>
                  <a:pt x="0" y="889"/>
                </a:moveTo>
                <a:cubicBezTo>
                  <a:pt x="61" y="865"/>
                  <a:pt x="283" y="878"/>
                  <a:pt x="368" y="753"/>
                </a:cubicBezTo>
                <a:cubicBezTo>
                  <a:pt x="453" y="628"/>
                  <a:pt x="467" y="260"/>
                  <a:pt x="512" y="137"/>
                </a:cubicBezTo>
                <a:cubicBezTo>
                  <a:pt x="557" y="14"/>
                  <a:pt x="575" y="34"/>
                  <a:pt x="640" y="17"/>
                </a:cubicBezTo>
                <a:cubicBezTo>
                  <a:pt x="705" y="0"/>
                  <a:pt x="849" y="30"/>
                  <a:pt x="904" y="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609480" y="1143000"/>
            <a:ext cx="8077320" cy="47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Declaration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Translation rules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Auxiliary procedures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scription of Gramma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685800" y="1143000"/>
            <a:ext cx="807732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onterminal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names (= string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pro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erminal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haract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 in quotes or declared toke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*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)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Rule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et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rules {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written a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A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               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tart Nonterminal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 left side of the first ru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711360" y="2768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762120" y="5702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762120" y="616284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"/>
          <p:cNvSpPr/>
          <p:nvPr/>
        </p:nvSpPr>
        <p:spPr>
          <a:xfrm>
            <a:off x="2286000" y="1523880"/>
            <a:ext cx="472428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685800" y="1066680"/>
            <a:ext cx="7848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claration of 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%token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TYPE_OF_TOK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pecification of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asociativi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precede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 ambigous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: Decl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838080" y="480060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6" name=""/>
          <p:cNvGrpSpPr/>
          <p:nvPr/>
        </p:nvGrpSpPr>
        <p:grpSpPr>
          <a:xfrm>
            <a:off x="762120" y="4724280"/>
            <a:ext cx="7696080" cy="1973520"/>
            <a:chOff x="762120" y="4724280"/>
            <a:chExt cx="7696080" cy="1973520"/>
          </a:xfrm>
        </p:grpSpPr>
        <p:sp>
          <p:nvSpPr>
            <p:cNvPr id="2567" name=""/>
            <p:cNvSpPr/>
            <p:nvPr/>
          </p:nvSpPr>
          <p:spPr>
            <a:xfrm>
              <a:off x="762120" y="472428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762120" y="5257440"/>
              <a:ext cx="7696080" cy="14403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token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INTEGE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token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left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‘+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left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‘*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2514600" y="3097080"/>
            <a:ext cx="457200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righ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3809880" y="3173400"/>
            <a:ext cx="32767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3809880" y="2743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same prece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228600" y="33256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igher preced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 flipH="1">
            <a:off x="2210760" y="3249720"/>
            <a:ext cx="6080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3697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36971"/>
              </a:path>
            </a:pathLst>
          </a:custGeom>
          <a:noFill/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 flipH="1">
            <a:off x="2208960" y="3935520"/>
            <a:ext cx="60876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3697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36971"/>
              </a:path>
            </a:pathLst>
          </a:custGeom>
          <a:noFill/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 rot="5400000">
            <a:off x="3085920" y="3897360"/>
            <a:ext cx="75960" cy="1066680"/>
          </a:xfrm>
          <a:custGeom>
            <a:avLst/>
            <a:gdLst>
              <a:gd name="textAreaLeft" fmla="*/ 0 w 75960"/>
              <a:gd name="textAreaRight" fmla="*/ 2736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2286000" y="44197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ssociativit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following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"/>
          <p:cNvSpPr/>
          <p:nvPr/>
        </p:nvSpPr>
        <p:spPr>
          <a:xfrm>
            <a:off x="1981080" y="160020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685800" y="1143000"/>
            <a:ext cx="79246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lation rul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ule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Semantic_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Semantic_Ac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program routine that specifies what to do if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ul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us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pecial symbols for a rule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$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attribute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 left-hand si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$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= attribute of th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th symbols o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 right-hand si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Transla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838080" y="41911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838080" y="4724280"/>
            <a:ext cx="7696440" cy="1875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1 + $3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*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1 * $3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)’ 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2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762120" y="42670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"/>
          <p:cNvSpPr/>
          <p:nvPr/>
        </p:nvSpPr>
        <p:spPr>
          <a:xfrm>
            <a:off x="685800" y="114300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y procedures used by translation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I: Auxiliary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762120" y="16765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762120" y="2895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838080" y="3429000"/>
            <a:ext cx="7620120" cy="1922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yylex(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Get the next toke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yylval = attribu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TYPE_OF_TOK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762120" y="1752480"/>
            <a:ext cx="7848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 the Yacc-parser do not  cooperate with a scanner (e.g. Lex), then there i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yylex(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mplemented in this se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mplete Source Program in Yacc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609480" y="1219320"/>
            <a:ext cx="7696440" cy="51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token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token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lef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+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lef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*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1 + $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*’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1 * $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)’ 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ylex ()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733920" y="2666880"/>
            <a:ext cx="4800600" cy="3048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Generation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1219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16002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0968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1219320"/>
            <a:ext cx="8229600" cy="51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 i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MakeTree(‘+’,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 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MakeTree(‘*’,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4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5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   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S.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 := MakeTree(‘=’,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1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055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345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59436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2857320" y="3848040"/>
            <a:ext cx="152280" cy="4495680"/>
          </a:xfrm>
          <a:custGeom>
            <a:avLst/>
            <a:gdLst>
              <a:gd name="textAreaLeft" fmla="*/ 0 w 152280"/>
              <a:gd name="textAreaRight" fmla="*/ 55080 w 15228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5400000">
            <a:off x="6781680" y="4419360"/>
            <a:ext cx="152280" cy="3353040"/>
          </a:xfrm>
          <a:custGeom>
            <a:avLst/>
            <a:gdLst>
              <a:gd name="textAreaLeft" fmla="*/ 0 w 152280"/>
              <a:gd name="textAreaRight" fmla="*/ 55080 w 15228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76520" y="6248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ottom-Up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6248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mantic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752480" y="1523880"/>
            <a:ext cx="5943600" cy="1752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Generation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7672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mulate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Parse tre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3276720"/>
            <a:ext cx="327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bstract syntax tre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057400" y="1981080"/>
            <a:ext cx="6019920" cy="4114800"/>
            <a:chOff x="2057400" y="1981080"/>
            <a:chExt cx="6019920" cy="4114800"/>
          </a:xfrm>
        </p:grpSpPr>
        <p:sp>
          <p:nvSpPr>
            <p:cNvPr id="259" name=""/>
            <p:cNvSpPr/>
            <p:nvPr/>
          </p:nvSpPr>
          <p:spPr>
            <a:xfrm>
              <a:off x="2057400" y="19810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MakeTree(‘+’,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705720" y="563868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10280" y="56386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81680" y="5181480"/>
              <a:ext cx="3812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362320" y="5029200"/>
              <a:ext cx="3045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66880" y="502920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66880" y="50292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438280" y="45720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53080" y="47242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382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4876920" y="419112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09680" y="1143000"/>
            <a:ext cx="60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52480" y="1219320"/>
            <a:ext cx="5943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52480" y="3276720"/>
            <a:ext cx="5943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52480" y="15238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52480" y="1219320"/>
            <a:ext cx="180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33920" y="1219320"/>
            <a:ext cx="144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96080" y="1219320"/>
            <a:ext cx="180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574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146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718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434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002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62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981080" y="1523880"/>
            <a:ext cx="5181840" cy="4955760"/>
            <a:chOff x="1981080" y="1523880"/>
            <a:chExt cx="5181840" cy="4955760"/>
          </a:xfrm>
        </p:grpSpPr>
        <p:sp>
          <p:nvSpPr>
            <p:cNvPr id="287" name=""/>
            <p:cNvSpPr/>
            <p:nvPr/>
          </p:nvSpPr>
          <p:spPr>
            <a:xfrm>
              <a:off x="19810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57400" y="1523880"/>
              <a:ext cx="51055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2448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860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57400" y="49528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72200" y="556272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057400" y="1676520"/>
            <a:ext cx="5867280" cy="4803120"/>
            <a:chOff x="2057400" y="1676520"/>
            <a:chExt cx="5867280" cy="4803120"/>
          </a:xfrm>
        </p:grpSpPr>
        <p:sp>
          <p:nvSpPr>
            <p:cNvPr id="294" name=""/>
            <p:cNvSpPr/>
            <p:nvPr/>
          </p:nvSpPr>
          <p:spPr>
            <a:xfrm>
              <a:off x="28954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57400" y="1676520"/>
              <a:ext cx="5562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8660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004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95480" y="4952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162920" y="556272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57400" y="2438280"/>
            <a:ext cx="6858000" cy="4041360"/>
            <a:chOff x="2057400" y="2438280"/>
            <a:chExt cx="6858000" cy="4041360"/>
          </a:xfrm>
        </p:grpSpPr>
        <p:sp>
          <p:nvSpPr>
            <p:cNvPr id="301" name=""/>
            <p:cNvSpPr/>
            <p:nvPr/>
          </p:nvSpPr>
          <p:spPr>
            <a:xfrm>
              <a:off x="42670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57400" y="24382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4872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720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67080" y="4952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077320" y="556272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057400" y="2666880"/>
            <a:ext cx="6172200" cy="3477240"/>
            <a:chOff x="2057400" y="2666880"/>
            <a:chExt cx="6172200" cy="3477240"/>
          </a:xfrm>
        </p:grpSpPr>
        <p:sp>
          <p:nvSpPr>
            <p:cNvPr id="308" name=""/>
            <p:cNvSpPr/>
            <p:nvPr/>
          </p:nvSpPr>
          <p:spPr>
            <a:xfrm>
              <a:off x="3809880" y="55627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57400" y="26668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5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MakeTree(‘*’,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24080" y="4267080"/>
              <a:ext cx="12193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819520" y="426708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24080" y="4267080"/>
              <a:ext cx="99072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162560" y="5029200"/>
              <a:ext cx="5331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696080" y="5029200"/>
              <a:ext cx="4572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67480" y="4572000"/>
              <a:ext cx="3812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95480" y="3809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91520" y="41148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09480" y="2895480"/>
            <a:ext cx="7467840" cy="3584160"/>
            <a:chOff x="609480" y="2895480"/>
            <a:chExt cx="7467840" cy="3584160"/>
          </a:xfrm>
        </p:grpSpPr>
        <p:sp>
          <p:nvSpPr>
            <p:cNvPr id="319" name=""/>
            <p:cNvSpPr/>
            <p:nvPr/>
          </p:nvSpPr>
          <p:spPr>
            <a:xfrm>
              <a:off x="10666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94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57400" y="28954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S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=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6   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S.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Tree(‘=’,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)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00200" y="36576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371600" y="4038480"/>
              <a:ext cx="38088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914400" y="4038480"/>
              <a:ext cx="83808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905120" y="3962520"/>
              <a:ext cx="10666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5943600" y="4191120"/>
              <a:ext cx="45720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00800" y="4191120"/>
              <a:ext cx="1066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172200" y="373392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6272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38680" y="3733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523880" y="2209680"/>
            <a:ext cx="5943600" cy="3858120"/>
            <a:chOff x="1523880" y="2209680"/>
            <a:chExt cx="5943600" cy="3858120"/>
          </a:xfrm>
        </p:grpSpPr>
        <p:sp>
          <p:nvSpPr>
            <p:cNvPr id="332" name=""/>
            <p:cNvSpPr/>
            <p:nvPr/>
          </p:nvSpPr>
          <p:spPr>
            <a:xfrm>
              <a:off x="15238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526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57400" y="2209680"/>
              <a:ext cx="525780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(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)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752120" y="4495680"/>
              <a:ext cx="76212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66880" y="4495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95480" y="4495680"/>
              <a:ext cx="68580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438280" y="41148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5308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05720" y="4952880"/>
              <a:ext cx="53316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705720" y="4952880"/>
              <a:ext cx="53316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391160" y="3605040"/>
            <a:ext cx="609480" cy="88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16" y="1289"/>
                </a:moveTo>
                <a:arcTo wR="10800" hR="10800" stAng="-3703404" swAng="7381544"/>
                <a:lnTo>
                  <a:pt x="10800" y="10800"/>
                </a:lnTo>
                <a:close/>
              </a:path>
              <a:path fill="none" w="21600" h="21600">
                <a:moveTo>
                  <a:pt x="15916" y="1289"/>
                </a:moveTo>
                <a:arcTo wR="10800" hR="10800" stAng="-3703404" swAng="73815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7466760" y="3605040"/>
            <a:ext cx="609480" cy="88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16" y="1289"/>
                </a:moveTo>
                <a:arcTo wR="10800" hR="10800" stAng="-3703404" swAng="7381544"/>
                <a:lnTo>
                  <a:pt x="10800" y="10800"/>
                </a:lnTo>
                <a:close/>
              </a:path>
              <a:path fill="none" w="21600" h="21600">
                <a:moveTo>
                  <a:pt x="15916" y="1289"/>
                </a:moveTo>
                <a:arcTo wR="10800" hR="10800" stAng="-3703404" swAng="73815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Direct Acyclic Graph(DAG):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se tree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43000" y="2590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685800" y="2590920"/>
            <a:ext cx="45720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971800" y="32767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16765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146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574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0574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718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43000" y="2590920"/>
            <a:ext cx="1830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3412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G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716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8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52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2952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09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14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371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828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860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812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038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57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114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666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43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0574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5053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434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862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004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6576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114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4290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74320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48320" y="2666880"/>
            <a:ext cx="838080" cy="1067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5867280" y="2971800"/>
            <a:ext cx="99072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91520" y="49528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0" y="297180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5627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705720" y="25146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43800" y="44197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543800" y="32004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010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77240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0880" y="5943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G has no redundant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24:05Z</dcterms:modified>
  <cp:revision>209</cp:revision>
  <dc:subject/>
  <dc:title>Syntax Directed Translation and Intermediate Code</dc:title>
</cp:coreProperties>
</file>