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EB3-208D-4A6D-87A7-61DE964B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9BD-2EEF-4480-888C-F3D163A3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A05-CA6F-4671-8712-90E26890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0E8-329B-4642-BB52-7F580D43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C90-B91D-45B0-8C44-8C290D3C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C01-7564-4E54-801E-3924C0FE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F3C-D6AF-4E95-8940-020E3C6B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1A9-7167-4FBF-A0CE-496ACE9D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D15-6BAA-446B-AB92-55845619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B9D-2072-4722-B612-7E7203E2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63D-8E87-4EA2-BA42-F2451EB8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9E7-4759-4464-9D8B-E4D9C49E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D055-4E86-4782-878C-58FDA07C067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Re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Jiří Techet</cp:lastModifiedBy>
  <dcterms:modified xsi:type="dcterms:W3CDTF">2005-10-12T15:12:21Z</dcterms:modified>
  <cp:revision>153</cp:revision>
  <dc:subject/>
  <dc:title>Part I. Alphabets, Strings, and Languages</dc:title>
</cp:coreProperties>
</file>