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DEF1-CC3D-4A08-A784-3D6E9779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F15A-EA44-4947-8DF1-75FB672F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26B-AC16-4B11-A43D-76566034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6AA3-2CAB-4077-B017-6C980A5C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56D-3F32-4AE2-B6EC-89706045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E516-B1F0-4908-A01E-F3A537E7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04F-AA78-4D2A-8265-F9555CFF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830-7359-431D-A5DF-0B97C7EA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634-DE45-483C-AA00-D6AB56C1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AFB0-463E-449C-B14E-E71B4B5F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755-C130-48CE-AC36-328772AC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2FE5-51B9-4CEE-A888-43DEA0E0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E06E-8F9D-4343-9D89-C95FB40D020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343400"/>
            <a:ext cx="6324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Alexander Meduna 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Roman Luk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2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5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9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2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6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9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3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6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7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1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9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8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219320"/>
            <a:ext cx="807732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MGR is defined analogically as the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MG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2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5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8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9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2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5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6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9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3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6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1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6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1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6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MGN to equivalent 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M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257800" y="52578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62520" y="5562720"/>
            <a:ext cx="7596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6019920"/>
            <a:ext cx="251460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91320" y="6019920"/>
            <a:ext cx="259056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943240" y="5410080"/>
            <a:ext cx="6858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1143000"/>
            <a:ext cx="7772400" cy="31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 the language families defined by MGN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 and MGR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MGR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MGN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14800" y="51055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43400" y="4724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4876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8148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943600" y="4952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341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053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51055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4952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3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2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4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ftmo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10-23T18:01:41Z</dcterms:modified>
  <cp:revision>192</cp:revision>
  <dc:subject/>
  <dc:title>Formal Languages and Compilers</dc:title>
</cp:coreProperties>
</file>