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C8D96-6D7C-4CE2-8F2C-81671261B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AC50C-F577-484A-809F-C359DD3D5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E0699-41AB-4CC7-A5D1-6AAF549BB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4DD90-723B-486E-A5C9-0F022B681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687A3-4F11-42CA-81EF-24D79809C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C161A-6791-434D-9B92-893ABC02E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6DDE7-E653-4EFE-8995-007097E08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CCD75-48F9-446D-AD67-9D900ADA4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4494E-A065-45B3-B22F-6DCF2BA9B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72D6B-D5B3-40A0-8708-8E2FF3767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E589D-0E0B-4C67-B339-00332079E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E6C6E-EA30-4E0B-8704-1797E460F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58EC2-686E-4E5E-8B6B-FB3814D09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586D2-3CA5-409E-BDCF-F66D670CF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BFEE4-7A88-46B0-B06C-7D9C7FEBF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A00A1-FCC1-430A-9825-A60C9151D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127B5-B406-471A-B777-DAD38596C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32FDD-F765-4AE1-A582-1556EBC94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1FC05-834A-4011-8B21-FB1FB4528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C454E-7FF9-477F-9AF8-4D7803B70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9FB50-9523-4CF2-B5B8-56F22A7C6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638BA-AE7C-4EDA-951D-83DDD9454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FCEEC-3A66-43E8-BBA4-4CF030A0D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01C7D-479F-4F76-9D0C-C26B055B4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AD12A-D275-459B-8EFA-507F56D334CB}" type="slidenum">
              <a:rPr b="0" lang="cs-CZ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2A9C5-7D89-401B-AE63-A3E112E7CB91}" type="slidenum">
              <a:rPr b="0" lang="cs-CZ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42920" y="1773000"/>
            <a:ext cx="87487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99"/>
                </a:solidFill>
                <a:latin typeface="Tahoma"/>
              </a:rPr>
              <a:t>G</a:t>
            </a:r>
            <a:r>
              <a:rPr b="1" lang="cs-CZ" sz="5400" spc="-1" strike="noStrike">
                <a:solidFill>
                  <a:srgbClr val="333399"/>
                </a:solidFill>
                <a:latin typeface="Tahoma"/>
              </a:rPr>
              <a:t>rammar </a:t>
            </a:r>
            <a:r>
              <a:rPr b="1" lang="en-US" sz="5400" spc="-1" strike="noStrike">
                <a:solidFill>
                  <a:srgbClr val="333399"/>
                </a:solidFill>
                <a:latin typeface="Tahoma"/>
              </a:rPr>
              <a:t>S</a:t>
            </a:r>
            <a:r>
              <a:rPr b="1" lang="cs-CZ" sz="5400" spc="-1" strike="noStrike">
                <a:solidFill>
                  <a:srgbClr val="333399"/>
                </a:solidFill>
                <a:latin typeface="Tahoma"/>
              </a:rPr>
              <a:t>ystem</a:t>
            </a:r>
            <a:r>
              <a:rPr b="1" lang="en-US" sz="5400" spc="-1" strike="noStrike">
                <a:solidFill>
                  <a:srgbClr val="333399"/>
                </a:solidFill>
                <a:latin typeface="Tahoma"/>
              </a:rPr>
              <a:t>s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Advanced VYP Material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Related to VYP0</a:t>
            </a:r>
            <a:r>
              <a:rPr b="1" lang="cs-CZ" sz="40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Centralized PC G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can produce query symb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t Γ=(N,K,T,(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,… ,(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), be a PC grammar system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Γ is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entralized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if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 i = 2, …, n: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A→x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hen alph({A,x}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K =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Returning PC G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50920" y="2017800"/>
            <a:ext cx="7524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Returning PC G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after communicating each component that has sent its string to another component returns to its axio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Non-Returning PC G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-----||------ continues to process the current string that is, remove (1) in the basic definitio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Denotation of PC GS</a:t>
            </a:r>
            <a:br>
              <a:rPr sz="4400"/>
            </a:b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Language Famili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 – non-returning m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 – centralized PC G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G, LIN, CF – specif. of the type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f product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: CP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G, NP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N, NCP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∞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PC GS – Hierarch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4411800" y="1882800"/>
            <a:ext cx="45396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433760" y="2565360"/>
            <a:ext cx="44316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356000" y="3645000"/>
            <a:ext cx="59868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422600" y="4365720"/>
            <a:ext cx="45432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389480" y="5013360"/>
            <a:ext cx="45396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334040" y="5734080"/>
            <a:ext cx="58716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627280" y="2862360"/>
            <a:ext cx="720720" cy="3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∞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508720" y="2862360"/>
            <a:ext cx="936360" cy="3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P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∞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403280" y="3225960"/>
            <a:ext cx="865080" cy="3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∞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732720" y="3225960"/>
            <a:ext cx="1152360" cy="3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P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∞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627280" y="4068720"/>
            <a:ext cx="865080" cy="3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P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∞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508720" y="4068720"/>
            <a:ext cx="1079280" cy="3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CP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∞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122560" y="4863960"/>
            <a:ext cx="100800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P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∞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724360" y="4805280"/>
            <a:ext cx="1224000" cy="3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CP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∞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4788000" y="5310000"/>
            <a:ext cx="1512720" cy="423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 flipV="1">
            <a:off x="2626920" y="5310000"/>
            <a:ext cx="1706760" cy="423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4572000" y="5310000"/>
            <a:ext cx="0" cy="423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4572000" y="4662000"/>
            <a:ext cx="0" cy="351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4572000" y="3941640"/>
            <a:ext cx="0" cy="424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572000" y="2862360"/>
            <a:ext cx="0" cy="78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4572000" y="2179440"/>
            <a:ext cx="0" cy="385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268000" y="342900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2933640" y="2179800"/>
            <a:ext cx="1400400" cy="682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3348000" y="3078000"/>
            <a:ext cx="216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1763640" y="3077640"/>
            <a:ext cx="720720" cy="14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2933640" y="3225600"/>
            <a:ext cx="0" cy="842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3130560" y="2862000"/>
            <a:ext cx="1203480" cy="12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H="1" flipV="1">
            <a:off x="3347640" y="3159000"/>
            <a:ext cx="986040" cy="4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5940360" y="3225600"/>
            <a:ext cx="0" cy="842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 flipV="1">
            <a:off x="4787640" y="2862000"/>
            <a:ext cx="936360" cy="12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788000" y="436572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3492000" y="436572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H="1" flipV="1">
            <a:off x="1979280" y="3645000"/>
            <a:ext cx="2376360" cy="1434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H="1" flipV="1">
            <a:off x="1763640" y="3644640"/>
            <a:ext cx="504720" cy="113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2484360" y="4365720"/>
            <a:ext cx="432000" cy="498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771640" y="3941640"/>
            <a:ext cx="1662120" cy="92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6445080" y="3644640"/>
            <a:ext cx="790920" cy="113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H="1" flipV="1">
            <a:off x="5940000" y="4365360"/>
            <a:ext cx="360360" cy="417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 flipV="1">
            <a:off x="6444720" y="3077640"/>
            <a:ext cx="790920" cy="14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333399"/>
                </a:solidFill>
                <a:latin typeface="Tahoma"/>
              </a:rPr>
              <a:t>PC GS – Example</a:t>
            </a: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 1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82600" y="2050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, K, {a,b}, (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(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{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{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,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{xx | x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a,b}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oes nothing for a number of steps while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generates a string, then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troduces 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Hence the string produced by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sent to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duplicated (it must be a terminal, otherwise the system is block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a centralized system with REG rules – CP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333399"/>
                </a:solidFill>
                <a:latin typeface="Tahoma"/>
              </a:rPr>
              <a:t>PC GS – Example</a:t>
            </a: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 2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, K, {a,b}, (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(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{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{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, 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{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m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| n,m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≥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th returning and non-returning mode generat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re the same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a centralized system with LIN rules – CP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333399"/>
                </a:solidFill>
                <a:latin typeface="Tahoma"/>
              </a:rPr>
              <a:t>PC GS – Example</a:t>
            </a: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 3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, K, {a}, (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(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{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}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{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{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m+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| m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≥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{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(m+1)(m+2)/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| m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≥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example shows the important difference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ween the returning and the non-returning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es of deriv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f01"/>
                </a:solidFill>
                <a:latin typeface="Tahoma"/>
              </a:rPr>
              <a:t>CD Grammar 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10920" y="2017800"/>
            <a:ext cx="8343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A cooperating distributed grammar system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of degree n, n≥1, is a construct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Γ=(N,K,T,S,P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,…,P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- a finite set of productions, called components of Γ.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CD GS - 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i-th grammar - G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=(N,T,S,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   z: y does not directly derive z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90560" y="1467000"/>
            <a:ext cx="171360" cy="16164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1851120" y="2771640"/>
            <a:ext cx="318960" cy="29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CD GS - derivation m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 each i = 1, …, n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terminating derivatio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y the i-th component x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ahoma"/>
              </a:rPr>
              <a:t>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3200" spc="-1" strike="noStrike" baseline="30000">
                <a:solidFill>
                  <a:srgbClr val="ff0000"/>
                </a:solidFill>
                <a:latin typeface="Tahoma"/>
              </a:rPr>
              <a:t>t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 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f x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y in G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=(N,T,S,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y   z fo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*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e: y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* is not requir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2649600" y="4375080"/>
            <a:ext cx="318960" cy="29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836280"/>
            <a:ext cx="779292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Based on this pa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50920" y="2017800"/>
            <a:ext cx="8704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ssow, J., Paun, G., Rozenberg, G.: Grammar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una, A.: slides in course TID –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rn Theoretical Computer Sci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CD GS - derivation m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K-step derivation in 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=k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y  iff  x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At most k-step derivation in 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≤k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y  iff  x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y  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for some j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≤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At least k-step derivation in 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≥k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y  iff  x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y  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for some j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≥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CD GS - languag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D={*,t}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{≤k, =k, ≥k: k=1,2,…}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F(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u,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f) = {v: u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v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here  j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{1,…,n}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, f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, u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*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1" lang="cs-CZ" sz="3200" spc="-1" strike="noStrike" baseline="-25000">
                <a:solidFill>
                  <a:srgbClr val="000000"/>
                </a:solidFill>
                <a:latin typeface="Tahoma"/>
              </a:rPr>
              <a:t>f</a:t>
            </a: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Γ</a:t>
            </a: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 = {w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*: there are 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…,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ch that 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F(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,v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ahoma"/>
              </a:rPr>
              <a:t>i-1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,f)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for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 = 1,…,m, j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= {1,…,n}, 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= S, 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= w, for some m ≥ 1}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CD GS - languag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1" lang="cs-CZ" sz="3200" spc="-1" strike="noStrike" baseline="-25000">
                <a:solidFill>
                  <a:srgbClr val="000000"/>
                </a:solidFill>
                <a:latin typeface="Tahoma"/>
              </a:rPr>
              <a:t>f</a:t>
            </a: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Γ</a:t>
            </a: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):  w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1" lang="cs-CZ" sz="3200" spc="-1" strike="noStrike" baseline="-25000">
                <a:solidFill>
                  <a:srgbClr val="000000"/>
                </a:solidFill>
                <a:latin typeface="Tahoma"/>
              </a:rPr>
              <a:t>f</a:t>
            </a: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Γ</a:t>
            </a: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ff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cs-CZ" sz="3200" spc="-1" strike="noStrike">
                <a:solidFill>
                  <a:srgbClr val="ff0000"/>
                </a:solidFill>
                <a:latin typeface="Tahoma"/>
              </a:rPr>
              <a:t>S 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ahoma"/>
              </a:rPr>
              <a:t>ji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1" lang="en-US" sz="3200" spc="-1" strike="noStrike" baseline="30000">
                <a:solidFill>
                  <a:srgbClr val="ff0000"/>
                </a:solidFill>
                <a:latin typeface="Tahoma"/>
              </a:rPr>
              <a:t>f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 v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ahoma"/>
              </a:rPr>
              <a:t>1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ahoma"/>
              </a:rPr>
              <a:t>ji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1" lang="en-US" sz="3200" spc="-1" strike="noStrike" baseline="30000">
                <a:solidFill>
                  <a:srgbClr val="ff0000"/>
                </a:solidFill>
                <a:latin typeface="Tahoma"/>
              </a:rPr>
              <a:t>f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 v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ahoma"/>
              </a:rPr>
              <a:t>2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ahoma"/>
              </a:rPr>
              <a:t>ji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1" lang="en-US" sz="3200" spc="-1" strike="noStrike" baseline="30000">
                <a:solidFill>
                  <a:srgbClr val="ff0000"/>
                </a:solidFill>
                <a:latin typeface="Tahoma"/>
              </a:rPr>
              <a:t>f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ahoma"/>
              </a:rPr>
              <a:t>… 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ahoma"/>
              </a:rPr>
              <a:t>ji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1" lang="en-US" sz="3200" spc="-1" strike="noStrike" baseline="30000">
                <a:solidFill>
                  <a:srgbClr val="ff0000"/>
                </a:solidFill>
                <a:latin typeface="Tahoma"/>
              </a:rPr>
              <a:t>f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ahoma"/>
              </a:rPr>
              <a:t>v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ahoma"/>
              </a:rPr>
              <a:t>m</a:t>
            </a:r>
            <a:r>
              <a:rPr b="1" lang="cs-CZ" sz="3200" spc="-1" strike="noStrike">
                <a:solidFill>
                  <a:srgbClr val="ff0000"/>
                </a:solidFill>
                <a:latin typeface="Tahoma"/>
              </a:rPr>
              <a:t> = w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*, j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= {1,…,n}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Denotation of DC </a:t>
            </a:r>
            <a:br>
              <a:rPr sz="4400"/>
            </a:b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Language Famili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D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y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ahoma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(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 – derivation m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  - nothing: no ε-produ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 ε(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  <a:ea typeface="Tahoma"/>
              </a:rPr>
              <a:t>λ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: ε-productions allow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  - n: degree at most n≥1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-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  <a:ea typeface="Tahoma"/>
              </a:rPr>
              <a:t>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: the number of component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is not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CD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(=) – the union of all families CD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(=k) 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for k=1,2,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CD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) – the union of all families CD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≥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)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for k=1,2,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333399"/>
                </a:solidFill>
                <a:latin typeface="Tahoma"/>
              </a:rPr>
              <a:t>C</a:t>
            </a: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D</a:t>
            </a:r>
            <a:r>
              <a:rPr b="1" lang="cs-CZ" sz="4400" spc="-1" strike="noStrike">
                <a:solidFill>
                  <a:srgbClr val="333399"/>
                </a:solidFill>
                <a:latin typeface="Tahoma"/>
              </a:rPr>
              <a:t> GS –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9232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S,A,A’,B,B’}, {a,b,c}, S,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{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,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, A’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, B’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}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{A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A’b,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B’, A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,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{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| n,m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≥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=1, ≥1, *, t}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≤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| k ≥ 1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=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≥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 {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| 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≥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=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≥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k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≥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f01"/>
                </a:solidFill>
                <a:latin typeface="Tahoma"/>
              </a:rPr>
              <a:t>Hybrid system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It would be more realistic to consider systems consisting of components working in different mod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Hybrid CD GS is a CD GS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Γ=(N,K,T,S,(P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f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ahoma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),…,(P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f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ahoma"/>
              </a:rPr>
              <a:t>n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)),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where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, 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,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f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is the derivation mode in the i-th component of Γ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Grammar System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arallel computing GS (PC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Cooperating distributed GS (CD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ybrid 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836280"/>
            <a:ext cx="779292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f01"/>
                </a:solidFill>
                <a:latin typeface="Tahoma"/>
              </a:rPr>
              <a:t>PC Grammar 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50560" y="2017800"/>
            <a:ext cx="7381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A parallel communicating grammar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 degree n, n≥1, is a construc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Γ=(N,K,T,(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,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),… ,(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,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)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={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… ,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}, 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re query symbol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- a finite set of productions of the form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→x, A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, x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(N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K)*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, K, T are parwaise disj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PC GS – deriv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50920" y="2017440"/>
            <a:ext cx="7804080" cy="30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wo kinds of derivation step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rom 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…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…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PC GS – g-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485040" cy="36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…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…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in  G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=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*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PC GS – c-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 z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=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for  i = 1, …, 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 i = 1, …, n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 alph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K ≠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a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each 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n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ph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K =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SzPct val="55000"/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z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SzPct val="55000"/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ce 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n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SzPct val="55000"/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z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the string resulting from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PC GS – c-ste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er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…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ith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= z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 i = 1, …, 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PC GS – languag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8360" y="2017800"/>
            <a:ext cx="8486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(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, 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,…,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) 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 (y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, y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, …, y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br>
              <a:rPr sz="10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…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or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…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* - as usual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L(Γ) = {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*: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              (S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,S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,…,S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1" lang="en-US" sz="5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*(x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,α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,…,α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),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α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(N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K)*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2≤i≤n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2T08:04:53Z</dcterms:created>
  <dc:creator>seim</dc:creator>
  <dc:description/>
  <dc:language>en-US</dc:language>
  <cp:lastModifiedBy>seim</cp:lastModifiedBy>
  <dcterms:modified xsi:type="dcterms:W3CDTF">2005-10-22T14:23:06Z</dcterms:modified>
  <cp:revision>195</cp:revision>
  <dc:subject/>
  <dc:title>Parallel communicating (PC) grammar systems</dc:title>
</cp:coreProperties>
</file>