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AFEC-3FE3-4A4F-A1E1-4ABBEB18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26B-97D6-454C-BE2E-C72E5083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6EC-FAB5-46BD-90C3-AB57AE84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010-4E36-4793-8C32-0CE26D1C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CC72-D8C5-4AD8-A40D-5A6ABA06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7675-F7F0-4EBD-B9AD-3CCD4F5B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A34-14A0-4ADA-8E94-E12AE921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A60-BD10-482D-AC70-0BCA27F3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026-33D1-46F8-975B-C3E71E26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14C-CF4B-4CAB-9666-9D17E356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464-A9E7-463B-8714-A7D091DF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EF7-BEB2-42EE-9D41-91F0C063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2D92-062E-40C4-A1AC-B615FF45C4C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odels for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mber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tes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rst row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derscored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58128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0640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4356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5212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97844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58928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97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6404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2070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6324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064040"/>
            <a:ext cx="914400" cy="2311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4978440"/>
            <a:ext cx="36576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064040"/>
            <a:ext cx="3657600" cy="231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5840"/>
            <a:ext cx="914400" cy="45972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5638680"/>
            <a:ext cx="44956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809520" y="5283000"/>
            <a:ext cx="1219320" cy="35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38880" y="190512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1905120"/>
            <a:ext cx="6476760" cy="1053720"/>
            <a:chOff x="762120" y="1905120"/>
            <a:chExt cx="6476760" cy="1053720"/>
          </a:xfrm>
        </p:grpSpPr>
        <p:sp>
          <p:nvSpPr>
            <p:cNvPr id="262" name=""/>
            <p:cNvSpPr/>
            <p:nvPr/>
          </p:nvSpPr>
          <p:spPr>
            <a:xfrm>
              <a:off x="44956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243828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95680" y="2390760"/>
            <a:ext cx="3657600" cy="1923480"/>
            <a:chOff x="4495680" y="2390760"/>
            <a:chExt cx="3657600" cy="1923480"/>
          </a:xfrm>
        </p:grpSpPr>
        <p:sp>
          <p:nvSpPr>
            <p:cNvPr id="270" name=""/>
            <p:cNvSpPr/>
            <p:nvPr/>
          </p:nvSpPr>
          <p:spPr>
            <a:xfrm>
              <a:off x="44956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8880" y="28814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33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1981080"/>
            <a:ext cx="3733560" cy="2333160"/>
            <a:chOff x="762120" y="1981080"/>
            <a:chExt cx="3733560" cy="2333160"/>
          </a:xfrm>
        </p:grpSpPr>
        <p:sp>
          <p:nvSpPr>
            <p:cNvPr id="288" name=""/>
            <p:cNvSpPr/>
            <p:nvPr/>
          </p:nvSpPr>
          <p:spPr>
            <a:xfrm>
              <a:off x="3962520" y="23986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854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8828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368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120" y="1981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8120" y="1600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97240"/>
            <a:ext cx="4647960" cy="941040"/>
            <a:chOff x="762120" y="2397240"/>
            <a:chExt cx="4647960" cy="941040"/>
          </a:xfrm>
        </p:grpSpPr>
        <p:sp>
          <p:nvSpPr>
            <p:cNvPr id="295" name=""/>
            <p:cNvSpPr/>
            <p:nvPr/>
          </p:nvSpPr>
          <p:spPr>
            <a:xfrm>
              <a:off x="762120" y="281772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01720" y="2884320"/>
            <a:ext cx="4622760" cy="1217520"/>
            <a:chOff x="1701720" y="2884320"/>
            <a:chExt cx="4622760" cy="1217520"/>
          </a:xfrm>
        </p:grpSpPr>
        <p:sp>
          <p:nvSpPr>
            <p:cNvPr id="298" name=""/>
            <p:cNvSpPr/>
            <p:nvPr/>
          </p:nvSpPr>
          <p:spPr>
            <a:xfrm>
              <a:off x="170172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63560" y="3852720"/>
            <a:ext cx="3746520" cy="2149200"/>
            <a:chOff x="1663560" y="3852720"/>
            <a:chExt cx="3746520" cy="2149200"/>
          </a:xfrm>
        </p:grpSpPr>
        <p:sp>
          <p:nvSpPr>
            <p:cNvPr id="301" name=""/>
            <p:cNvSpPr/>
            <p:nvPr/>
          </p:nvSpPr>
          <p:spPr>
            <a:xfrm>
              <a:off x="1663560" y="5481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852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480" y="2390760"/>
            <a:ext cx="6400800" cy="1330200"/>
            <a:chOff x="1752480" y="2390760"/>
            <a:chExt cx="6400800" cy="1330200"/>
          </a:xfrm>
        </p:grpSpPr>
        <p:sp>
          <p:nvSpPr>
            <p:cNvPr id="304" name=""/>
            <p:cNvSpPr/>
            <p:nvPr/>
          </p:nvSpPr>
          <p:spPr>
            <a:xfrm>
              <a:off x="17524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88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01720" y="2884320"/>
            <a:ext cx="4622760" cy="1598760"/>
            <a:chOff x="1701720" y="2884320"/>
            <a:chExt cx="4622760" cy="1598760"/>
          </a:xfrm>
        </p:grpSpPr>
        <p:sp>
          <p:nvSpPr>
            <p:cNvPr id="307" name=""/>
            <p:cNvSpPr/>
            <p:nvPr/>
          </p:nvSpPr>
          <p:spPr>
            <a:xfrm>
              <a:off x="1701720" y="39625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4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27280" y="3370320"/>
            <a:ext cx="5511600" cy="1849320"/>
            <a:chOff x="1727280" y="3370320"/>
            <a:chExt cx="5511600" cy="1849320"/>
          </a:xfrm>
        </p:grpSpPr>
        <p:sp>
          <p:nvSpPr>
            <p:cNvPr id="310" name=""/>
            <p:cNvSpPr/>
            <p:nvPr/>
          </p:nvSpPr>
          <p:spPr>
            <a:xfrm>
              <a:off x="1727280" y="469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27280" y="3370320"/>
            <a:ext cx="5511600" cy="2255760"/>
            <a:chOff x="1727280" y="3370320"/>
            <a:chExt cx="5511600" cy="2255760"/>
          </a:xfrm>
        </p:grpSpPr>
        <p:sp>
          <p:nvSpPr>
            <p:cNvPr id="313" name=""/>
            <p:cNvSpPr/>
            <p:nvPr/>
          </p:nvSpPr>
          <p:spPr>
            <a:xfrm>
              <a:off x="1727280" y="51055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39880" y="2398680"/>
            <a:ext cx="6413400" cy="2476440"/>
            <a:chOff x="1739880" y="2398680"/>
            <a:chExt cx="6413400" cy="2476440"/>
          </a:xfrm>
        </p:grpSpPr>
        <p:sp>
          <p:nvSpPr>
            <p:cNvPr id="316" name=""/>
            <p:cNvSpPr/>
            <p:nvPr/>
          </p:nvSpPr>
          <p:spPr>
            <a:xfrm>
              <a:off x="1739880" y="4354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38080" y="4289400"/>
            <a:ext cx="3614760" cy="2098440"/>
            <a:chOff x="838080" y="4289400"/>
            <a:chExt cx="3614760" cy="2098440"/>
          </a:xfrm>
        </p:grpSpPr>
        <p:sp>
          <p:nvSpPr>
            <p:cNvPr id="319" name=""/>
            <p:cNvSpPr/>
            <p:nvPr/>
          </p:nvSpPr>
          <p:spPr>
            <a:xfrm>
              <a:off x="838080" y="5867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1960" y="428940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2819520"/>
            <a:ext cx="3200400" cy="2057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8120" y="5410080"/>
            <a:ext cx="4268160" cy="510120"/>
            <a:chOff x="3048120" y="5410080"/>
            <a:chExt cx="4268160" cy="510120"/>
          </a:xfrm>
        </p:grpSpPr>
        <p:grpSp>
          <p:nvGrpSpPr>
            <p:cNvPr id="324" name=""/>
            <p:cNvGrpSpPr/>
            <p:nvPr/>
          </p:nvGrpSpPr>
          <p:grpSpPr>
            <a:xfrm>
              <a:off x="5181480" y="5410080"/>
              <a:ext cx="534600" cy="510120"/>
              <a:chOff x="5181480" y="5410080"/>
              <a:chExt cx="534600" cy="510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1814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4360" y="541008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781680" y="5410080"/>
              <a:ext cx="534600" cy="510120"/>
              <a:chOff x="6781680" y="5410080"/>
              <a:chExt cx="534600" cy="510120"/>
            </a:xfrm>
          </p:grpSpPr>
          <p:sp>
            <p:nvSpPr>
              <p:cNvPr id="328" name=""/>
              <p:cNvSpPr/>
              <p:nvPr/>
            </p:nvSpPr>
            <p:spPr>
              <a:xfrm>
                <a:off x="67816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2760" y="541008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715000" y="5410080"/>
              <a:ext cx="1066320" cy="459720"/>
              <a:chOff x="5715000" y="5410080"/>
              <a:chExt cx="106632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715000" y="541008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0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048120" y="5410080"/>
              <a:ext cx="534600" cy="510120"/>
              <a:chOff x="3048120" y="5410080"/>
              <a:chExt cx="53460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304812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56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579840" y="5410080"/>
              <a:ext cx="534600" cy="510120"/>
              <a:chOff x="3579840" y="5410080"/>
              <a:chExt cx="534600" cy="51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357984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128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5410080"/>
              <a:ext cx="1066320" cy="459720"/>
              <a:chOff x="4114800" y="5410080"/>
              <a:chExt cx="106632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4114800" y="541008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48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562720" y="4952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276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5320" y="365724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00000">
            <a:off x="350496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600000">
            <a:off x="4365720" y="3481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2819520"/>
            <a:ext cx="2971800" cy="520560"/>
            <a:chOff x="4495680" y="2819520"/>
            <a:chExt cx="2971800" cy="520560"/>
          </a:xfrm>
        </p:grpSpPr>
        <p:sp>
          <p:nvSpPr>
            <p:cNvPr id="354" name=""/>
            <p:cNvSpPr/>
            <p:nvPr/>
          </p:nvSpPr>
          <p:spPr>
            <a:xfrm>
              <a:off x="5333760" y="281952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95680" y="304812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65760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876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520" y="5867280"/>
            <a:ext cx="5791320" cy="749160"/>
            <a:chOff x="1523520" y="5867280"/>
            <a:chExt cx="5791320" cy="749160"/>
          </a:xfrm>
        </p:grpSpPr>
        <p:sp>
          <p:nvSpPr>
            <p:cNvPr id="360" name=""/>
            <p:cNvSpPr/>
            <p:nvPr/>
          </p:nvSpPr>
          <p:spPr>
            <a:xfrm>
              <a:off x="2362320" y="6095880"/>
              <a:ext cx="297180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95520" y="4952520"/>
              <a:ext cx="304560" cy="21337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523520" y="6171480"/>
              <a:ext cx="838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34120" y="617148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3505320"/>
            <a:ext cx="5712480" cy="4876200"/>
            <a:chOff x="990720" y="3505320"/>
            <a:chExt cx="5712480" cy="4876200"/>
          </a:xfrm>
        </p:grpSpPr>
        <p:sp>
          <p:nvSpPr>
            <p:cNvPr id="369" name=""/>
            <p:cNvSpPr/>
            <p:nvPr/>
          </p:nvSpPr>
          <p:spPr>
            <a:xfrm>
              <a:off x="990720" y="5867640"/>
              <a:ext cx="533160" cy="523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216800" y="3505320"/>
              <a:ext cx="5486040" cy="48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724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72416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ce description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60020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523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9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440" y="51814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mputational step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4572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4520" y="4572000"/>
            <a:ext cx="2527560" cy="533520"/>
            <a:chOff x="4484520" y="4572000"/>
            <a:chExt cx="2527560" cy="533520"/>
          </a:xfrm>
        </p:grpSpPr>
        <p:sp>
          <p:nvSpPr>
            <p:cNvPr id="383" name=""/>
            <p:cNvSpPr/>
            <p:nvPr/>
          </p:nvSpPr>
          <p:spPr>
            <a:xfrm>
              <a:off x="51055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374120" y="5181480"/>
            <a:ext cx="5636160" cy="1295280"/>
            <a:chOff x="1374120" y="5181480"/>
            <a:chExt cx="5636160" cy="1295280"/>
          </a:xfrm>
        </p:grpSpPr>
        <p:sp>
          <p:nvSpPr>
            <p:cNvPr id="391" name=""/>
            <p:cNvSpPr/>
            <p:nvPr/>
          </p:nvSpPr>
          <p:spPr>
            <a:xfrm>
              <a:off x="1374120" y="586728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95680" y="594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181480"/>
              <a:ext cx="1828800" cy="685800"/>
            </a:xfrm>
            <a:prstGeom prst="parallelogram">
              <a:avLst>
                <a:gd name="adj" fmla="val 6921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5181480"/>
              <a:ext cx="106704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0" y="0"/>
                  </a:moveTo>
                  <a:lnTo>
                    <a:pt x="720" y="0"/>
                  </a:lnTo>
                  <a:lnTo>
                    <a:pt x="384" y="432"/>
                  </a:lnTo>
                  <a:lnTo>
                    <a:pt x="0" y="43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097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3241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533376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1320" y="525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594324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784872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259092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5146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p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6960" y="464724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22440" y="5710680"/>
            <a:ext cx="6684480" cy="1148400"/>
            <a:chOff x="622440" y="5710680"/>
            <a:chExt cx="6684480" cy="1148400"/>
          </a:xfrm>
        </p:grpSpPr>
        <p:sp>
          <p:nvSpPr>
            <p:cNvPr id="427" name=""/>
            <p:cNvSpPr/>
            <p:nvPr/>
          </p:nvSpPr>
          <p:spPr>
            <a:xfrm>
              <a:off x="622440" y="5710680"/>
              <a:ext cx="668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9360" y="6277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6200000">
              <a:off x="1562040" y="563004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837720" y="51814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04960" y="5181120"/>
            <a:ext cx="3429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713480"/>
            <a:ext cx="3675240" cy="1006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f it can completely rea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95120" y="5334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962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9512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24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89512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343400"/>
            <a:ext cx="281952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because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(RE):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7772400" cy="4267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858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Expressions with operators ., +, and *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denote concatenation, union, and iteration, respective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924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Definit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an alphabet.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languages they denot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the emp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 RE denoting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ular expressions denoting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46112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odels for languages, such as FAs, are equivalent if they both specify the sam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662560" y="364500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35812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66440" y="3581280"/>
            <a:ext cx="614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6172200" y="3657600"/>
            <a:ext cx="614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208480"/>
            <a:ext cx="7772400" cy="1203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09480" y="2057400"/>
            <a:ext cx="8534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27672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02920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27086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415656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6019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56386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57150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56804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4419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4038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114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version of RE to FA: Basics 1/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gorithm that converts any RE to an equivalent FA (lex in UNIX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914400" y="4722120"/>
            <a:ext cx="7391520" cy="1907280"/>
            <a:chOff x="914400" y="4722120"/>
            <a:chExt cx="7391520" cy="1907280"/>
          </a:xfrm>
        </p:grpSpPr>
        <p:sp>
          <p:nvSpPr>
            <p:cNvPr id="570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4722120"/>
              <a:ext cx="1218960" cy="60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ncatenation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for the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3022560"/>
            <a:ext cx="3962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18920" y="4003920"/>
            <a:ext cx="7282080" cy="2472840"/>
            <a:chOff x="718920" y="4003920"/>
            <a:chExt cx="7282080" cy="2472840"/>
          </a:xfrm>
        </p:grpSpPr>
        <p:sp>
          <p:nvSpPr>
            <p:cNvPr id="577" name=""/>
            <p:cNvSpPr/>
            <p:nvPr/>
          </p:nvSpPr>
          <p:spPr>
            <a:xfrm>
              <a:off x="718920" y="4003920"/>
              <a:ext cx="438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055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0481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18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9343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526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3623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23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53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6920" y="5227200"/>
              <a:ext cx="69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485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15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43920" y="522720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295280" y="5638680"/>
            <a:ext cx="6553440" cy="685800"/>
            <a:chOff x="1295280" y="5638680"/>
            <a:chExt cx="6553440" cy="685800"/>
          </a:xfrm>
        </p:grpSpPr>
        <p:sp>
          <p:nvSpPr>
            <p:cNvPr id="605" name=""/>
            <p:cNvSpPr/>
            <p:nvPr/>
          </p:nvSpPr>
          <p:spPr>
            <a:xfrm>
              <a:off x="1295280" y="5790960"/>
              <a:ext cx="362160" cy="380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5829120"/>
              <a:ext cx="38124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90720" y="4003920"/>
            <a:ext cx="6635880" cy="2015640"/>
            <a:chOff x="990720" y="4003920"/>
            <a:chExt cx="6635880" cy="2015640"/>
          </a:xfrm>
        </p:grpSpPr>
        <p:sp>
          <p:nvSpPr>
            <p:cNvPr id="610" name=""/>
            <p:cNvSpPr/>
            <p:nvPr/>
          </p:nvSpPr>
          <p:spPr>
            <a:xfrm>
              <a:off x="7093800" y="4003920"/>
              <a:ext cx="53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0720" y="60195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62520" y="4003920"/>
            <a:ext cx="3145320" cy="2048040"/>
            <a:chOff x="3962520" y="4003920"/>
            <a:chExt cx="3145320" cy="2048040"/>
          </a:xfrm>
        </p:grpSpPr>
        <p:sp>
          <p:nvSpPr>
            <p:cNvPr id="613" name=""/>
            <p:cNvSpPr/>
            <p:nvPr/>
          </p:nvSpPr>
          <p:spPr>
            <a:xfrm>
              <a:off x="5088960" y="4003920"/>
              <a:ext cx="2018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601956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2960" y="5409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7238880" y="4003920"/>
            <a:ext cx="1209960" cy="2244240"/>
            <a:chOff x="7238880" y="4003920"/>
            <a:chExt cx="1209960" cy="2244240"/>
          </a:xfrm>
        </p:grpSpPr>
        <p:sp>
          <p:nvSpPr>
            <p:cNvPr id="617" name=""/>
            <p:cNvSpPr/>
            <p:nvPr/>
          </p:nvSpPr>
          <p:spPr>
            <a:xfrm>
              <a:off x="7563960" y="4003920"/>
              <a:ext cx="88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36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1609560" y="4766040"/>
            <a:ext cx="6095880" cy="1953360"/>
            <a:chOff x="1609560" y="4766040"/>
            <a:chExt cx="6095880" cy="1953360"/>
          </a:xfrm>
        </p:grpSpPr>
        <p:sp>
          <p:nvSpPr>
            <p:cNvPr id="622" name=""/>
            <p:cNvSpPr/>
            <p:nvPr/>
          </p:nvSpPr>
          <p:spPr>
            <a:xfrm>
              <a:off x="1609560" y="4814640"/>
              <a:ext cx="6095880" cy="1904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1440" y="4766040"/>
              <a:ext cx="96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022560"/>
            <a:ext cx="845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5880" y="4204080"/>
            <a:ext cx="4481280" cy="1524960"/>
            <a:chOff x="1685880" y="4204080"/>
            <a:chExt cx="4481280" cy="1524960"/>
          </a:xfrm>
        </p:grpSpPr>
        <p:sp>
          <p:nvSpPr>
            <p:cNvPr id="628" name=""/>
            <p:cNvSpPr/>
            <p:nvPr/>
          </p:nvSpPr>
          <p:spPr>
            <a:xfrm>
              <a:off x="5725800" y="42040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85880" y="57290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8000" y="3789720"/>
            <a:ext cx="6738840" cy="2839680"/>
            <a:chOff x="738000" y="3789720"/>
            <a:chExt cx="6738840" cy="2839680"/>
          </a:xfrm>
        </p:grpSpPr>
        <p:sp>
          <p:nvSpPr>
            <p:cNvPr id="631" name=""/>
            <p:cNvSpPr/>
            <p:nvPr/>
          </p:nvSpPr>
          <p:spPr>
            <a:xfrm>
              <a:off x="738000" y="3789720"/>
              <a:ext cx="5869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65200" y="48769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04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3480" y="5353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65200" y="57913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38520" y="6262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398920" y="54864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98920" y="50292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60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804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398920" y="64008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5043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8920" y="59436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260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5958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713120" y="51055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6800" y="54864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312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6480" y="5028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2200" y="4787280"/>
              <a:ext cx="659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7320" y="49532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13120" y="60199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0" y="64008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312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66480" y="5942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1920" y="5701680"/>
              <a:ext cx="637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27320" y="58676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308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04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51400" y="4967280"/>
            <a:ext cx="2782800" cy="1600200"/>
            <a:chOff x="3551400" y="4967280"/>
            <a:chExt cx="2782800" cy="1600200"/>
          </a:xfrm>
        </p:grpSpPr>
        <p:sp>
          <p:nvSpPr>
            <p:cNvPr id="661" name=""/>
            <p:cNvSpPr/>
            <p:nvPr/>
          </p:nvSpPr>
          <p:spPr>
            <a:xfrm>
              <a:off x="3567240" y="5345280"/>
              <a:ext cx="45720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51400" y="6264360"/>
              <a:ext cx="47628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840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4840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34320" y="4170600"/>
            <a:ext cx="1366560" cy="1863360"/>
            <a:chOff x="6034320" y="4170600"/>
            <a:chExt cx="1366560" cy="1863360"/>
          </a:xfrm>
        </p:grpSpPr>
        <p:sp>
          <p:nvSpPr>
            <p:cNvPr id="666" name=""/>
            <p:cNvSpPr/>
            <p:nvPr/>
          </p:nvSpPr>
          <p:spPr>
            <a:xfrm>
              <a:off x="6034320" y="4170600"/>
              <a:ext cx="87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7360" y="55004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47160" y="3789720"/>
            <a:ext cx="5583960" cy="2013480"/>
            <a:chOff x="2747160" y="3789720"/>
            <a:chExt cx="5583960" cy="2013480"/>
          </a:xfrm>
        </p:grpSpPr>
        <p:sp>
          <p:nvSpPr>
            <p:cNvPr id="669" name=""/>
            <p:cNvSpPr/>
            <p:nvPr/>
          </p:nvSpPr>
          <p:spPr>
            <a:xfrm>
              <a:off x="6527160" y="37897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3723480" y="4373640"/>
              <a:ext cx="453240" cy="24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262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26288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56160" y="48902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959480" y="4170600"/>
            <a:ext cx="3134160" cy="2100240"/>
            <a:chOff x="1959480" y="4170600"/>
            <a:chExt cx="3134160" cy="2100240"/>
          </a:xfrm>
        </p:grpSpPr>
        <p:sp>
          <p:nvSpPr>
            <p:cNvPr id="673" name=""/>
            <p:cNvSpPr/>
            <p:nvPr/>
          </p:nvSpPr>
          <p:spPr>
            <a:xfrm>
              <a:off x="1959480" y="4170600"/>
              <a:ext cx="1157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5400000">
              <a:off x="3660840" y="4837680"/>
              <a:ext cx="4532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39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39433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6160" y="55760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21080" y="4170600"/>
            <a:ext cx="2693880" cy="2276640"/>
            <a:chOff x="4321080" y="4170600"/>
            <a:chExt cx="2693880" cy="2276640"/>
          </a:xfrm>
        </p:grpSpPr>
        <p:sp>
          <p:nvSpPr>
            <p:cNvPr id="677" name=""/>
            <p:cNvSpPr/>
            <p:nvPr/>
          </p:nvSpPr>
          <p:spPr>
            <a:xfrm>
              <a:off x="4321080" y="4170600"/>
              <a:ext cx="1363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292440" y="598464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14120" y="5804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79880" y="4170600"/>
            <a:ext cx="3835080" cy="1387440"/>
            <a:chOff x="3179880" y="4170600"/>
            <a:chExt cx="3835080" cy="1387440"/>
          </a:xfrm>
        </p:grpSpPr>
        <p:sp>
          <p:nvSpPr>
            <p:cNvPr id="681" name=""/>
            <p:cNvSpPr/>
            <p:nvPr/>
          </p:nvSpPr>
          <p:spPr>
            <a:xfrm>
              <a:off x="3179880" y="417060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2440" y="519552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90080" y="4661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Union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914400" y="4689720"/>
            <a:ext cx="7391520" cy="1939680"/>
            <a:chOff x="914400" y="4689720"/>
            <a:chExt cx="7391520" cy="1939680"/>
          </a:xfrm>
        </p:grpSpPr>
        <p:sp>
          <p:nvSpPr>
            <p:cNvPr id="688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6680" y="4689720"/>
              <a:ext cx="121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9480" y="1143000"/>
            <a:ext cx="815364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2413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11720" y="3318120"/>
            <a:ext cx="7060680" cy="2701800"/>
            <a:chOff x="711720" y="3318120"/>
            <a:chExt cx="7060680" cy="2701800"/>
          </a:xfrm>
        </p:grpSpPr>
        <p:sp>
          <p:nvSpPr>
            <p:cNvPr id="694" name=""/>
            <p:cNvSpPr/>
            <p:nvPr/>
          </p:nvSpPr>
          <p:spPr>
            <a:xfrm>
              <a:off x="711720" y="3318120"/>
              <a:ext cx="408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352680" y="4770360"/>
              <a:ext cx="2895840" cy="1249560"/>
              <a:chOff x="3352680" y="4770360"/>
              <a:chExt cx="2895840" cy="1249560"/>
            </a:xfrm>
          </p:grpSpPr>
          <p:sp>
            <p:nvSpPr>
              <p:cNvPr id="696" name=""/>
              <p:cNvSpPr/>
              <p:nvPr/>
            </p:nvSpPr>
            <p:spPr>
              <a:xfrm>
                <a:off x="3352680" y="4876920"/>
                <a:ext cx="2895840" cy="11430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100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900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81480" y="5715000"/>
                <a:ext cx="3049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81480" y="5257800"/>
                <a:ext cx="304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05520" y="5562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86400" y="5257800"/>
                <a:ext cx="533520" cy="533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495680" y="5333760"/>
                <a:ext cx="304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19720" y="571500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95680" y="55627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49040" y="5257080"/>
                <a:ext cx="48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80640" y="4770360"/>
                <a:ext cx="69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98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213372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5720" y="3809160"/>
            <a:ext cx="2970360" cy="1982160"/>
            <a:chOff x="4725720" y="3809160"/>
            <a:chExt cx="2970360" cy="1982160"/>
          </a:xfrm>
        </p:grpSpPr>
        <p:sp>
          <p:nvSpPr>
            <p:cNvPr id="712" name=""/>
            <p:cNvSpPr/>
            <p:nvPr/>
          </p:nvSpPr>
          <p:spPr>
            <a:xfrm>
              <a:off x="4725720" y="3809160"/>
              <a:ext cx="8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5880" y="3318120"/>
            <a:ext cx="1519200" cy="2200680"/>
            <a:chOff x="6095880" y="3318120"/>
            <a:chExt cx="1519200" cy="2200680"/>
          </a:xfrm>
        </p:grpSpPr>
        <p:sp>
          <p:nvSpPr>
            <p:cNvPr id="715" name=""/>
            <p:cNvSpPr/>
            <p:nvPr/>
          </p:nvSpPr>
          <p:spPr>
            <a:xfrm>
              <a:off x="640440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5880" y="54864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2840" y="331812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880640" y="3775320"/>
            <a:ext cx="3911040" cy="2657880"/>
            <a:chOff x="1880640" y="3775320"/>
            <a:chExt cx="3911040" cy="2657880"/>
          </a:xfrm>
        </p:grpSpPr>
        <p:sp>
          <p:nvSpPr>
            <p:cNvPr id="719" name=""/>
            <p:cNvSpPr/>
            <p:nvPr/>
          </p:nvSpPr>
          <p:spPr>
            <a:xfrm flipV="1">
              <a:off x="4103280" y="5257440"/>
              <a:ext cx="168840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" y="8998"/>
                  </a:moveTo>
                  <a:arcTo wR="10800" hR="10800" stAng="-10223775" swAng="9542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" y="8998"/>
                  </a:moveTo>
                  <a:arcTo wR="10800" hR="10800" stAng="-10223775" swAng="95423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4200" y="57906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80640" y="3775320"/>
              <a:ext cx="1229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467800" y="3775320"/>
            <a:ext cx="4804560" cy="2701080"/>
            <a:chOff x="2467800" y="3775320"/>
            <a:chExt cx="4804560" cy="2701080"/>
          </a:xfrm>
        </p:grpSpPr>
        <p:sp>
          <p:nvSpPr>
            <p:cNvPr id="723" name=""/>
            <p:cNvSpPr/>
            <p:nvPr/>
          </p:nvSpPr>
          <p:spPr>
            <a:xfrm flipH="1" flipV="1">
              <a:off x="2467800" y="4952160"/>
              <a:ext cx="480456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9435"/>
                  </a:moveTo>
                  <a:arcTo wR="10800" hR="10800" stAng="-10364475" swAng="968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9435"/>
                  </a:moveTo>
                  <a:arcTo wR="10800" hR="10800" stAng="-10364475" swAng="96830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9080" y="5638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87720" y="3775320"/>
              <a:ext cx="144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371600" y="3809160"/>
            <a:ext cx="3490920" cy="1677240"/>
            <a:chOff x="1371600" y="3809160"/>
            <a:chExt cx="3490920" cy="1677240"/>
          </a:xfrm>
        </p:grpSpPr>
        <p:sp>
          <p:nvSpPr>
            <p:cNvPr id="727" name=""/>
            <p:cNvSpPr/>
            <p:nvPr/>
          </p:nvSpPr>
          <p:spPr>
            <a:xfrm>
              <a:off x="1371600" y="5486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21160" y="380916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29000" y="5181480"/>
            <a:ext cx="2666520" cy="685800"/>
            <a:chOff x="3429000" y="5181480"/>
            <a:chExt cx="2666520" cy="685800"/>
          </a:xfrm>
        </p:grpSpPr>
        <p:sp>
          <p:nvSpPr>
            <p:cNvPr id="730" name=""/>
            <p:cNvSpPr/>
            <p:nvPr/>
          </p:nvSpPr>
          <p:spPr>
            <a:xfrm>
              <a:off x="5410080" y="5181480"/>
              <a:ext cx="6854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5410080"/>
              <a:ext cx="36180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9520" y="3318120"/>
            <a:ext cx="3673440" cy="2200680"/>
            <a:chOff x="2819520" y="3318120"/>
            <a:chExt cx="3673440" cy="2200680"/>
          </a:xfrm>
        </p:grpSpPr>
        <p:sp>
          <p:nvSpPr>
            <p:cNvPr id="733" name=""/>
            <p:cNvSpPr/>
            <p:nvPr/>
          </p:nvSpPr>
          <p:spPr>
            <a:xfrm>
              <a:off x="4689000" y="33181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908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9520" y="54864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Iteration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895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mpletion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1143000"/>
            <a:ext cx="80773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“inside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epeatedly use the n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to constru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lready exist F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2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3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3276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6280" y="36576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1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3962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9440" y="11566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nsform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4080" y="1649880"/>
            <a:ext cx="3829320" cy="1016640"/>
            <a:chOff x="514080" y="1649880"/>
            <a:chExt cx="3829320" cy="1016640"/>
          </a:xfrm>
        </p:grpSpPr>
        <p:sp>
          <p:nvSpPr>
            <p:cNvPr id="749" name=""/>
            <p:cNvSpPr/>
            <p:nvPr/>
          </p:nvSpPr>
          <p:spPr>
            <a:xfrm>
              <a:off x="20574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0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40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4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812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7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53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41480" y="1649880"/>
            <a:ext cx="3816720" cy="1016640"/>
            <a:chOff x="4641480" y="1649880"/>
            <a:chExt cx="3816720" cy="1016640"/>
          </a:xfrm>
        </p:grpSpPr>
        <p:sp>
          <p:nvSpPr>
            <p:cNvPr id="759" name=""/>
            <p:cNvSpPr/>
            <p:nvPr/>
          </p:nvSpPr>
          <p:spPr>
            <a:xfrm>
              <a:off x="61722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414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88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9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01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25600" y="4191120"/>
            <a:ext cx="3817800" cy="914400"/>
            <a:chOff x="525600" y="4191120"/>
            <a:chExt cx="3817800" cy="914400"/>
          </a:xfrm>
        </p:grpSpPr>
        <p:sp>
          <p:nvSpPr>
            <p:cNvPr id="770" name=""/>
            <p:cNvSpPr/>
            <p:nvPr/>
          </p:nvSpPr>
          <p:spPr>
            <a:xfrm>
              <a:off x="20574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600" y="4419000"/>
              <a:ext cx="15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641480" y="4191120"/>
            <a:ext cx="3816720" cy="914400"/>
            <a:chOff x="4641480" y="4191120"/>
            <a:chExt cx="3816720" cy="914400"/>
          </a:xfrm>
        </p:grpSpPr>
        <p:sp>
          <p:nvSpPr>
            <p:cNvPr id="779" name=""/>
            <p:cNvSpPr/>
            <p:nvPr/>
          </p:nvSpPr>
          <p:spPr>
            <a:xfrm>
              <a:off x="61722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1480" y="441900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388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29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60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72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0" y="5303880"/>
            <a:ext cx="6172200" cy="1173240"/>
            <a:chOff x="2286000" y="5303880"/>
            <a:chExt cx="6172200" cy="1173240"/>
          </a:xfrm>
        </p:grpSpPr>
        <p:sp>
          <p:nvSpPr>
            <p:cNvPr id="788" name=""/>
            <p:cNvSpPr/>
            <p:nvPr/>
          </p:nvSpPr>
          <p:spPr>
            <a:xfrm>
              <a:off x="2286000" y="5410440"/>
              <a:ext cx="6172200" cy="1066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0" y="53038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865240"/>
            <a:ext cx="7772400" cy="1251000"/>
            <a:chOff x="685800" y="2865240"/>
            <a:chExt cx="7772400" cy="1251000"/>
          </a:xfrm>
        </p:grpSpPr>
        <p:sp>
          <p:nvSpPr>
            <p:cNvPr id="791" name=""/>
            <p:cNvSpPr/>
            <p:nvPr/>
          </p:nvSpPr>
          <p:spPr>
            <a:xfrm>
              <a:off x="685800" y="411444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0" y="2971440"/>
              <a:ext cx="6172200" cy="10670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286524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124080" y="2666880"/>
            <a:ext cx="5257800" cy="1295280"/>
            <a:chOff x="3124080" y="2666880"/>
            <a:chExt cx="5257800" cy="1295280"/>
          </a:xfrm>
        </p:grpSpPr>
        <p:sp>
          <p:nvSpPr>
            <p:cNvPr id="795" name=""/>
            <p:cNvSpPr/>
            <p:nvPr/>
          </p:nvSpPr>
          <p:spPr>
            <a:xfrm>
              <a:off x="60958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40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358128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911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0400" y="358128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4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86600" y="358128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29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53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20120" y="3200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38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128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124080" y="5105520"/>
            <a:ext cx="5257800" cy="1295280"/>
            <a:chOff x="3124080" y="5105520"/>
            <a:chExt cx="5257800" cy="1295280"/>
          </a:xfrm>
        </p:grpSpPr>
        <p:sp>
          <p:nvSpPr>
            <p:cNvPr id="812" name=""/>
            <p:cNvSpPr/>
            <p:nvPr/>
          </p:nvSpPr>
          <p:spPr>
            <a:xfrm>
              <a:off x="60958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86600" y="60199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29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0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6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3800" y="5384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240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4800" y="601992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11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0400" y="601992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24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8120" y="5384160"/>
              <a:ext cx="63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660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040" y="3048120"/>
            <a:ext cx="6017040" cy="672120"/>
            <a:chOff x="536040" y="3048120"/>
            <a:chExt cx="6017040" cy="672120"/>
          </a:xfrm>
        </p:grpSpPr>
        <p:sp>
          <p:nvSpPr>
            <p:cNvPr id="829" name=""/>
            <p:cNvSpPr/>
            <p:nvPr/>
          </p:nvSpPr>
          <p:spPr>
            <a:xfrm>
              <a:off x="536040" y="31996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62720" y="3048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3581640"/>
              <a:ext cx="1295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7560" y="5486400"/>
            <a:ext cx="6005520" cy="672120"/>
            <a:chOff x="547560" y="5486400"/>
            <a:chExt cx="6005520" cy="672120"/>
          </a:xfrm>
        </p:grpSpPr>
        <p:sp>
          <p:nvSpPr>
            <p:cNvPr id="833" name=""/>
            <p:cNvSpPr/>
            <p:nvPr/>
          </p:nvSpPr>
          <p:spPr>
            <a:xfrm>
              <a:off x="547560" y="56379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57800" y="6019560"/>
              <a:ext cx="12952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905120" y="3859560"/>
            <a:ext cx="6553080" cy="2464920"/>
            <a:chOff x="1905120" y="3859560"/>
            <a:chExt cx="6553080" cy="2464920"/>
          </a:xfrm>
        </p:grpSpPr>
        <p:sp>
          <p:nvSpPr>
            <p:cNvPr id="838" name=""/>
            <p:cNvSpPr/>
            <p:nvPr/>
          </p:nvSpPr>
          <p:spPr>
            <a:xfrm>
              <a:off x="1905120" y="3886200"/>
              <a:ext cx="6553080" cy="2438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385956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1280" y="3961800"/>
            <a:ext cx="7770600" cy="2105280"/>
            <a:chOff x="611280" y="3961800"/>
            <a:chExt cx="7770600" cy="2105280"/>
          </a:xfrm>
        </p:grpSpPr>
        <p:sp>
          <p:nvSpPr>
            <p:cNvPr id="841" name=""/>
            <p:cNvSpPr/>
            <p:nvPr/>
          </p:nvSpPr>
          <p:spPr>
            <a:xfrm>
              <a:off x="769608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7240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181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23000" y="53334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0600" y="4419720"/>
              <a:ext cx="936360" cy="60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5280" y="3961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34840" y="5265000"/>
              <a:ext cx="9421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742840" y="4496040"/>
              <a:ext cx="1615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9760" y="4114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2739600" y="4799880"/>
              <a:ext cx="1615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93800" y="54856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1280" y="449568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048120" y="2133720"/>
            <a:ext cx="4572000" cy="4114800"/>
            <a:chOff x="3048120" y="2133720"/>
            <a:chExt cx="4572000" cy="4114800"/>
          </a:xfrm>
        </p:grpSpPr>
        <p:sp>
          <p:nvSpPr>
            <p:cNvPr id="855" name=""/>
            <p:cNvSpPr/>
            <p:nvPr/>
          </p:nvSpPr>
          <p:spPr>
            <a:xfrm>
              <a:off x="5715000" y="3353040"/>
              <a:ext cx="1295280" cy="1981080"/>
            </a:xfrm>
            <a:prstGeom prst="downArrow">
              <a:avLst>
                <a:gd name="adj1" fmla="val 53926"/>
                <a:gd name="adj2" fmla="val 2708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8120" y="39625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91120" y="44960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67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00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7120" y="44960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496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1028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8120" y="39362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8120" y="53341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58676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67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57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00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7120" y="5867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43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4120" y="58676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8120" y="5307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2133720"/>
              <a:ext cx="1295280" cy="1828800"/>
            </a:xfrm>
            <a:prstGeom prst="downArrow">
              <a:avLst>
                <a:gd name="adj1" fmla="val 53926"/>
                <a:gd name="adj2" fmla="val 2500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88320" y="1193040"/>
            <a:ext cx="6779160" cy="940680"/>
            <a:chOff x="688320" y="1193040"/>
            <a:chExt cx="6779160" cy="940680"/>
          </a:xfrm>
        </p:grpSpPr>
        <p:sp>
          <p:nvSpPr>
            <p:cNvPr id="882" name=""/>
            <p:cNvSpPr/>
            <p:nvPr/>
          </p:nvSpPr>
          <p:spPr>
            <a:xfrm>
              <a:off x="2743200" y="121932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8320" y="13708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6200" y="17528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2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1800" y="1752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95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72200" y="175284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8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9200" y="17528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05720" y="1371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1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119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9840" y="2412000"/>
            <a:ext cx="6767640" cy="940680"/>
            <a:chOff x="699840" y="2412000"/>
            <a:chExt cx="6767640" cy="940680"/>
          </a:xfrm>
        </p:grpSpPr>
        <p:sp>
          <p:nvSpPr>
            <p:cNvPr id="898" name=""/>
            <p:cNvSpPr/>
            <p:nvPr/>
          </p:nvSpPr>
          <p:spPr>
            <a:xfrm>
              <a:off x="2743200" y="243828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840" y="25898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86200" y="2971440"/>
              <a:ext cx="609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52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97144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95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2200" y="297144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29200" y="2971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05720" y="2590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1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3200" y="2412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87600" y="1269000"/>
            <a:ext cx="7008480" cy="1931040"/>
            <a:chOff x="687600" y="1269000"/>
            <a:chExt cx="7008480" cy="1931040"/>
          </a:xfrm>
        </p:grpSpPr>
        <p:sp>
          <p:nvSpPr>
            <p:cNvPr id="916" name=""/>
            <p:cNvSpPr/>
            <p:nvPr/>
          </p:nvSpPr>
          <p:spPr>
            <a:xfrm>
              <a:off x="2057400" y="1295280"/>
              <a:ext cx="5638680" cy="1904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09880" y="1371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5780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485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060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1981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1028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320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2320" y="236196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0720" y="228492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9760" y="1522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7400" y="1269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600" y="175212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2285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67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5780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060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970720" y="175248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9760" y="25135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528960" y="2284920"/>
              <a:ext cx="561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8960" y="1752480"/>
              <a:ext cx="56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0880" y="12942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60880" y="25898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5800" y="3859920"/>
            <a:ext cx="7772400" cy="2617200"/>
            <a:chOff x="685800" y="3859920"/>
            <a:chExt cx="7772400" cy="2617200"/>
          </a:xfrm>
        </p:grpSpPr>
        <p:sp>
          <p:nvSpPr>
            <p:cNvPr id="952" name=""/>
            <p:cNvSpPr/>
            <p:nvPr/>
          </p:nvSpPr>
          <p:spPr>
            <a:xfrm>
              <a:off x="685800" y="3886200"/>
              <a:ext cx="7772400" cy="25909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5800" y="3859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)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57400" y="3200400"/>
            <a:ext cx="5334120" cy="2743200"/>
            <a:chOff x="2057400" y="3200400"/>
            <a:chExt cx="5334120" cy="2743200"/>
          </a:xfrm>
        </p:grpSpPr>
        <p:sp>
          <p:nvSpPr>
            <p:cNvPr id="955" name=""/>
            <p:cNvSpPr/>
            <p:nvPr/>
          </p:nvSpPr>
          <p:spPr>
            <a:xfrm>
              <a:off x="2057400" y="4038480"/>
              <a:ext cx="5334120" cy="1905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8128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1280" y="4114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3848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6272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7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2920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0199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81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46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42120" y="502884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160" y="42663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57400" y="40122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12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029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481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72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627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292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7200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120" y="449568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160" y="5257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300360" y="4876200"/>
              <a:ext cx="5612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00360" y="4495680"/>
              <a:ext cx="5612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32280" y="40377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0000" y="49521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5520" y="3200400"/>
              <a:ext cx="1218960" cy="838080"/>
            </a:xfrm>
            <a:prstGeom prst="downArrow">
              <a:avLst>
                <a:gd name="adj1" fmla="val 53926"/>
                <a:gd name="adj2" fmla="val 465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85800" y="3351960"/>
            <a:ext cx="7696080" cy="3048480"/>
            <a:chOff x="685800" y="3351960"/>
            <a:chExt cx="7696080" cy="3048480"/>
          </a:xfrm>
        </p:grpSpPr>
        <p:sp>
          <p:nvSpPr>
            <p:cNvPr id="991" name=""/>
            <p:cNvSpPr/>
            <p:nvPr/>
          </p:nvSpPr>
          <p:spPr>
            <a:xfrm>
              <a:off x="1676520" y="5105520"/>
              <a:ext cx="838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960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2120" y="518148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362320" y="4831920"/>
              <a:ext cx="4943160" cy="141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15103"/>
                  </a:moveTo>
                  <a:arcTo wR="10800" hR="10800" stAng="9391384" swAng="13359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15103"/>
                  </a:moveTo>
                  <a:arcTo wR="10800" hR="10800" stAng="9391384" swAng="13359304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1304280" y="4115160"/>
              <a:ext cx="67989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" y="9196"/>
                  </a:moveTo>
                  <a:arcTo wR="10800" hR="10800" stAng="-10287678" swAng="9802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" y="9196"/>
                  </a:moveTo>
                  <a:arcTo wR="10800" hR="10800" stAng="-10287678" swAng="9802535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940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79400" y="45712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4400" y="44949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5105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33519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a final R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6088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1143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28195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210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2819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920" y="5409360"/>
            <a:ext cx="41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9640" y="540936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Finite Autom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Expression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)) the 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438280"/>
            <a:ext cx="3124440" cy="947520"/>
            <a:chOff x="2209680" y="2438280"/>
            <a:chExt cx="3124440" cy="947520"/>
          </a:xfrm>
        </p:grpSpPr>
        <p:sp>
          <p:nvSpPr>
            <p:cNvPr id="53" name=""/>
            <p:cNvSpPr/>
            <p:nvPr/>
          </p:nvSpPr>
          <p:spPr>
            <a:xfrm>
              <a:off x="22096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24382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514600"/>
            <a:ext cx="1524240" cy="871200"/>
            <a:chOff x="3809880" y="2514600"/>
            <a:chExt cx="1524240" cy="871200"/>
          </a:xfrm>
        </p:grpSpPr>
        <p:sp>
          <p:nvSpPr>
            <p:cNvPr id="57" name=""/>
            <p:cNvSpPr/>
            <p:nvPr/>
          </p:nvSpPr>
          <p:spPr>
            <a:xfrm>
              <a:off x="38098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23920" y="2895120"/>
            <a:ext cx="686160" cy="1296000"/>
            <a:chOff x="4723920" y="2895120"/>
            <a:chExt cx="686160" cy="1296000"/>
          </a:xfrm>
        </p:grpSpPr>
        <p:sp>
          <p:nvSpPr>
            <p:cNvPr id="61" name=""/>
            <p:cNvSpPr/>
            <p:nvPr/>
          </p:nvSpPr>
          <p:spPr>
            <a:xfrm flipH="1">
              <a:off x="472392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410080" y="28951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2895480"/>
            <a:ext cx="914400" cy="2286000"/>
            <a:chOff x="4572000" y="2895480"/>
            <a:chExt cx="914400" cy="2286000"/>
          </a:xfrm>
        </p:grpSpPr>
        <p:sp>
          <p:nvSpPr>
            <p:cNvPr id="64" name=""/>
            <p:cNvSpPr/>
            <p:nvPr/>
          </p:nvSpPr>
          <p:spPr>
            <a:xfrm flipH="1">
              <a:off x="4572000" y="5181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9880" y="2895120"/>
            <a:ext cx="1828800" cy="3048480"/>
            <a:chOff x="3809880" y="2895120"/>
            <a:chExt cx="1828800" cy="3048480"/>
          </a:xfrm>
        </p:grpSpPr>
        <p:sp>
          <p:nvSpPr>
            <p:cNvPr id="67" name=""/>
            <p:cNvSpPr/>
            <p:nvPr/>
          </p:nvSpPr>
          <p:spPr>
            <a:xfrm flipH="1">
              <a:off x="3809880" y="594360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8680" y="2895120"/>
              <a:ext cx="0" cy="3048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86000"/>
            <a:ext cx="7772400" cy="1099800"/>
            <a:chOff x="685800" y="2286000"/>
            <a:chExt cx="7772400" cy="1099800"/>
          </a:xfrm>
        </p:grpSpPr>
        <p:sp>
          <p:nvSpPr>
            <p:cNvPr id="70" name=""/>
            <p:cNvSpPr/>
            <p:nvPr/>
          </p:nvSpPr>
          <p:spPr>
            <a:xfrm>
              <a:off x="68580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23623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4120" y="2286000"/>
              <a:ext cx="312408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s a RE over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57600" y="3429000"/>
            <a:ext cx="1066680" cy="1023480"/>
            <a:chOff x="3657600" y="3429000"/>
            <a:chExt cx="1066680" cy="1023480"/>
          </a:xfrm>
        </p:grpSpPr>
        <p:sp>
          <p:nvSpPr>
            <p:cNvPr id="75" name=""/>
            <p:cNvSpPr/>
            <p:nvPr/>
          </p:nvSpPr>
          <p:spPr>
            <a:xfrm>
              <a:off x="3657600" y="3809880"/>
              <a:ext cx="1066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3429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3429000"/>
            <a:ext cx="1981080" cy="2014200"/>
            <a:chOff x="2590920" y="3429000"/>
            <a:chExt cx="1981080" cy="2014200"/>
          </a:xfrm>
        </p:grpSpPr>
        <p:sp>
          <p:nvSpPr>
            <p:cNvPr id="78" name=""/>
            <p:cNvSpPr/>
            <p:nvPr/>
          </p:nvSpPr>
          <p:spPr>
            <a:xfrm>
              <a:off x="2666880" y="4800600"/>
              <a:ext cx="1905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429000"/>
              <a:ext cx="533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44956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3429000"/>
            <a:ext cx="3047760" cy="3004920"/>
            <a:chOff x="762120" y="3429000"/>
            <a:chExt cx="3047760" cy="3004920"/>
          </a:xfrm>
        </p:grpSpPr>
        <p:sp>
          <p:nvSpPr>
            <p:cNvPr id="82" name=""/>
            <p:cNvSpPr/>
            <p:nvPr/>
          </p:nvSpPr>
          <p:spPr>
            <a:xfrm>
              <a:off x="762120" y="5791320"/>
              <a:ext cx="3047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200040" y="54864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3429000"/>
              <a:ext cx="2286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5029200"/>
            <a:ext cx="4572000" cy="1523880"/>
            <a:chOff x="3886200" y="5029200"/>
            <a:chExt cx="4572000" cy="1523880"/>
          </a:xfrm>
        </p:grpSpPr>
        <p:sp>
          <p:nvSpPr>
            <p:cNvPr id="86" name=""/>
            <p:cNvSpPr/>
            <p:nvPr/>
          </p:nvSpPr>
          <p:spPr>
            <a:xfrm>
              <a:off x="6095880" y="5029200"/>
              <a:ext cx="2362320" cy="1373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)) is the RE over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6095880"/>
              <a:ext cx="2133720" cy="457200"/>
            </a:xfrm>
            <a:prstGeom prst="rightArrow">
              <a:avLst>
                <a:gd name="adj1" fmla="val 55556"/>
                <a:gd name="adj2" fmla="val 8556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752480"/>
            <a:ext cx="4114800" cy="703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&gt; . &gt;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5053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d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umber of paren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821840" y="2188080"/>
            <a:ext cx="304920" cy="537696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434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765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RL) if there exists a regular express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81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38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 + b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prefix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6629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regular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20004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means the language denoted by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R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Every RE denotes a 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ubstring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4640" y="5638680"/>
            <a:ext cx="10666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743200"/>
            <a:ext cx="32004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124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2743200"/>
            <a:ext cx="3200400" cy="533520"/>
            <a:chOff x="685800" y="2743200"/>
            <a:chExt cx="3200400" cy="533520"/>
          </a:xfrm>
        </p:grpSpPr>
        <p:sp>
          <p:nvSpPr>
            <p:cNvPr id="117" name=""/>
            <p:cNvSpPr/>
            <p:nvPr/>
          </p:nvSpPr>
          <p:spPr>
            <a:xfrm>
              <a:off x="685800" y="274320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al 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2971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520" y="3124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485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613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638680"/>
            <a:ext cx="1067040" cy="457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1814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95680" y="3580920"/>
            <a:ext cx="60984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">
            <a:off x="449496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600000">
            <a:off x="5355720" y="340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86400" y="2743200"/>
            <a:ext cx="3048120" cy="520560"/>
            <a:chOff x="5486400" y="2743200"/>
            <a:chExt cx="3048120" cy="520560"/>
          </a:xfrm>
        </p:grpSpPr>
        <p:sp>
          <p:nvSpPr>
            <p:cNvPr id="137" name=""/>
            <p:cNvSpPr/>
            <p:nvPr/>
          </p:nvSpPr>
          <p:spPr>
            <a:xfrm>
              <a:off x="6346800" y="2743200"/>
              <a:ext cx="2187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86400" y="2971800"/>
              <a:ext cx="860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4419360"/>
            <a:ext cx="2590920" cy="673560"/>
            <a:chOff x="685800" y="4419360"/>
            <a:chExt cx="2590920" cy="673560"/>
          </a:xfrm>
        </p:grpSpPr>
        <p:sp>
          <p:nvSpPr>
            <p:cNvPr id="140" name=""/>
            <p:cNvSpPr/>
            <p:nvPr/>
          </p:nvSpPr>
          <p:spPr>
            <a:xfrm>
              <a:off x="685800" y="457236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520" y="4419360"/>
              <a:ext cx="45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77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5257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 (F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The simplest model of computation based on a finite set of states and computation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248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 finite automat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FA)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5-tu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057400"/>
            <a:ext cx="7391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0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however, we write the rule a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with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move fro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2600" y="137160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2240" y="205740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start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1520" y="2819520"/>
            <a:ext cx="44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3320" y="3886200"/>
            <a:ext cx="35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1720" y="1600200"/>
            <a:ext cx="5308200" cy="2425680"/>
            <a:chOff x="1701720" y="1600200"/>
            <a:chExt cx="5308200" cy="2425680"/>
          </a:xfrm>
        </p:grpSpPr>
        <p:sp>
          <p:nvSpPr>
            <p:cNvPr id="182" name=""/>
            <p:cNvSpPr/>
            <p:nvPr/>
          </p:nvSpPr>
          <p:spPr>
            <a:xfrm>
              <a:off x="17017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43600" y="1600200"/>
              <a:ext cx="1066320" cy="1522440"/>
              <a:chOff x="5943600" y="1600200"/>
              <a:chExt cx="1066320" cy="152244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3600" y="205740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01720" y="2819520"/>
            <a:ext cx="5918400" cy="1587240"/>
            <a:chOff x="1701720" y="2819520"/>
            <a:chExt cx="5918400" cy="1587240"/>
          </a:xfrm>
        </p:grpSpPr>
        <p:sp>
          <p:nvSpPr>
            <p:cNvPr id="187" name=""/>
            <p:cNvSpPr/>
            <p:nvPr/>
          </p:nvSpPr>
          <p:spPr>
            <a:xfrm>
              <a:off x="170172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81680" y="2819520"/>
              <a:ext cx="838440" cy="520560"/>
              <a:chOff x="6781680" y="2819520"/>
              <a:chExt cx="838440" cy="520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81680" y="32767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102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752480" y="2819520"/>
            <a:ext cx="4343400" cy="825120"/>
            <a:chOff x="1752480" y="2819520"/>
            <a:chExt cx="4343400" cy="825120"/>
          </a:xfrm>
        </p:grpSpPr>
        <p:grpSp>
          <p:nvGrpSpPr>
            <p:cNvPr id="192" name=""/>
            <p:cNvGrpSpPr/>
            <p:nvPr/>
          </p:nvGrpSpPr>
          <p:grpSpPr>
            <a:xfrm>
              <a:off x="5257800" y="2819520"/>
              <a:ext cx="838080" cy="520560"/>
              <a:chOff x="5257800" y="2819520"/>
              <a:chExt cx="83808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800" y="3276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2480" y="3124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739880" y="3505320"/>
            <a:ext cx="4432320" cy="1282320"/>
            <a:chOff x="1739880" y="3505320"/>
            <a:chExt cx="4432320" cy="1282320"/>
          </a:xfrm>
        </p:grpSpPr>
        <p:sp>
          <p:nvSpPr>
            <p:cNvPr id="197" name=""/>
            <p:cNvSpPr/>
            <p:nvPr/>
          </p:nvSpPr>
          <p:spPr>
            <a:xfrm>
              <a:off x="1739880" y="4267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05520" y="3505320"/>
              <a:ext cx="1066680" cy="914040"/>
              <a:chOff x="5105520" y="3505320"/>
              <a:chExt cx="1066680" cy="914040"/>
            </a:xfrm>
          </p:grpSpPr>
          <p:sp>
            <p:nvSpPr>
              <p:cNvPr id="199" name=""/>
              <p:cNvSpPr/>
              <p:nvPr/>
            </p:nvSpPr>
            <p:spPr>
              <a:xfrm>
                <a:off x="5638680" y="3581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5520" y="3505320"/>
                <a:ext cx="106668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727280" y="3505320"/>
            <a:ext cx="6045120" cy="2044440"/>
            <a:chOff x="1727280" y="3505320"/>
            <a:chExt cx="6045120" cy="2044440"/>
          </a:xfrm>
        </p:grpSpPr>
        <p:sp>
          <p:nvSpPr>
            <p:cNvPr id="202" name=""/>
            <p:cNvSpPr/>
            <p:nvPr/>
          </p:nvSpPr>
          <p:spPr>
            <a:xfrm>
              <a:off x="1727280" y="50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705720" y="3505320"/>
              <a:ext cx="1066680" cy="914400"/>
              <a:chOff x="6705720" y="3505320"/>
              <a:chExt cx="1066680" cy="9144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705720" y="3505320"/>
                <a:ext cx="1066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3505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663560" y="1600200"/>
            <a:ext cx="6870240" cy="4330440"/>
            <a:chOff x="1663560" y="1600200"/>
            <a:chExt cx="6870240" cy="4330440"/>
          </a:xfrm>
        </p:grpSpPr>
        <p:grpSp>
          <p:nvGrpSpPr>
            <p:cNvPr id="207" name=""/>
            <p:cNvGrpSpPr/>
            <p:nvPr/>
          </p:nvGrpSpPr>
          <p:grpSpPr>
            <a:xfrm>
              <a:off x="7467480" y="1600200"/>
              <a:ext cx="1066320" cy="1521720"/>
              <a:chOff x="7467480" y="1600200"/>
              <a:chExt cx="1066320" cy="1521720"/>
            </a:xfrm>
          </p:grpSpPr>
          <p:sp>
            <p:nvSpPr>
              <p:cNvPr id="208" name=""/>
              <p:cNvSpPr/>
              <p:nvPr/>
            </p:nvSpPr>
            <p:spPr>
              <a:xfrm>
                <a:off x="7467480" y="205704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36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63560" y="54100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27280" y="4622760"/>
            <a:ext cx="5282640" cy="1239840"/>
            <a:chOff x="1727280" y="4622760"/>
            <a:chExt cx="5282640" cy="1239840"/>
          </a:xfrm>
        </p:grpSpPr>
        <p:sp>
          <p:nvSpPr>
            <p:cNvPr id="212" name=""/>
            <p:cNvSpPr/>
            <p:nvPr/>
          </p:nvSpPr>
          <p:spPr>
            <a:xfrm>
              <a:off x="1727280" y="4622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43600" y="4733280"/>
              <a:ext cx="1066320" cy="1129320"/>
              <a:chOff x="5943600" y="4733280"/>
              <a:chExt cx="1066320" cy="11293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943600" y="473292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24480" y="53420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62120" y="1905120"/>
            <a:ext cx="7543800" cy="3047400"/>
            <a:chOff x="762120" y="1905120"/>
            <a:chExt cx="7543800" cy="3047400"/>
          </a:xfrm>
        </p:grpSpPr>
        <p:sp>
          <p:nvSpPr>
            <p:cNvPr id="217" name=""/>
            <p:cNvSpPr/>
            <p:nvPr/>
          </p:nvSpPr>
          <p:spPr>
            <a:xfrm>
              <a:off x="609588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2670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012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6212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1523880"/>
            <a:ext cx="4723920" cy="1739520"/>
            <a:chOff x="762120" y="1523880"/>
            <a:chExt cx="4723920" cy="173952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1523880"/>
              <a:ext cx="1066320" cy="1521720"/>
              <a:chOff x="4419720" y="1523880"/>
              <a:chExt cx="1066320" cy="1521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198072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600" y="1523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2120" y="27428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8120" y="1600200"/>
            <a:ext cx="1523880" cy="1676520"/>
            <a:chOff x="3048120" y="1600200"/>
            <a:chExt cx="1523880" cy="1676520"/>
          </a:xfrm>
        </p:grpSpPr>
        <p:sp>
          <p:nvSpPr>
            <p:cNvPr id="230" name=""/>
            <p:cNvSpPr/>
            <p:nvPr/>
          </p:nvSpPr>
          <p:spPr>
            <a:xfrm>
              <a:off x="4114800" y="32767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600200"/>
              <a:ext cx="121896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971800"/>
            <a:ext cx="7391520" cy="3340080"/>
            <a:chOff x="838080" y="2971800"/>
            <a:chExt cx="7391520" cy="334008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913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32:42Z</dcterms:modified>
  <cp:revision>139</cp:revision>
  <dc:subject/>
  <dc:title>Models for Regular Languages</dc:title>
</cp:coreProperties>
</file>