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CC8-D185-4532-BE43-BD41593D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902-6B24-4BEC-B17A-024251FA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194-5149-41A8-89CA-1CA72221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B2B-B798-4D97-8DDE-492F8AB0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38D-BFC5-4668-B4E0-A900CDAD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0F9-4A09-4677-AB47-8B4ECBCF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DF1-6493-49DA-B6C4-82D151F2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6ED-548E-4965-975A-A21E7FB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759-DCF5-49E1-A4A0-BC4386EA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706-717F-4921-AFAD-EEF5FE87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E43-4E13-473E-ACF0-CD9CC99B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6C6-8B07-4B56-A74F-612625CD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2E37-C8FC-4F19-BC3C-AB139726FEF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7:02Z</dcterms:modified>
  <cp:revision>130</cp:revision>
  <dc:subject/>
  <dc:title>Variants of Finite Automata</dc:title>
</cp:coreProperties>
</file>