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765-3C6C-49A2-82F1-82535CAC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674-6A88-4443-B58E-FA14C363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E62-BDC3-496C-A253-8B474071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3F2-4681-4244-BB02-D6E5E250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1D2-A0AC-43AA-909E-0029099D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054-A0AC-4B0B-92D3-63F3DF7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DB1-C1C9-4093-B13D-C1B6D3AE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0D9-67DE-4994-BEBA-549E7A3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AA2-CBFC-4BBD-87D8-98F90908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84E-4B78-45DE-9A26-B36F842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B3E-3A59-4946-AF45-8FDB98A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6F8-1803-42C0-A1BD-37995EDA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46E3-5A14-41E4-8E34-A87749C96B6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8:33Z</dcterms:modified>
  <cp:revision>288</cp:revision>
  <dc:subject/>
  <dc:title>Bottom-Up Parsing</dc:title>
</cp:coreProperties>
</file>