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3DF-478B-4E84-BE23-EE26665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5C2-E793-4E0A-A5A7-F0E7FA9B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51E-FBE2-4999-874B-0A27EE64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EBE-CD70-4238-8A55-7FE68CF5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5FE-3CFF-4A03-A347-5DAFFAC1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9DD-BC1D-4AEF-9775-174740D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1E4-6A09-4C2D-93C0-D7F97F7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0D5-B635-4088-89C1-9212E6B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E3E-2E8A-45F6-A54F-5E38A4B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E22-14F4-4317-B2D7-001F942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7B6-295C-4306-A151-08B37B44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3E4-EEA4-4711-9B78-5015AA59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05C-983E-4DC1-B2BE-E13B8192A47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rezentace k disertačním tezí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8006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avidlově synchronizovan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143000"/>
            <a:ext cx="800100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ravid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239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246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249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253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25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260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27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283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288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293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Hlavní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295280"/>
            <a:ext cx="8153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Každý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R jde převést na ekvivalentní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Generativní síla těchto systémů (už 2-MGR, 2-MGN) je rovna síle Turingova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íle disertační práce, 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219320"/>
            <a:ext cx="777240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1) Prostudování stávajících typů gramatických systém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2) Zavedení nových gramatických systémů simulující multigenerován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3) Určení generativní síly těchto nových gramatických systémů a vztahu mezi s sebou navzáj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) Vhodné omezení těchto gramatických systémů, aby byly použitelné v praxi + aplik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50292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29600" y="1219320"/>
            <a:ext cx="152280" cy="3733560"/>
          </a:xfrm>
          <a:custGeom>
            <a:avLst/>
            <a:gdLst>
              <a:gd name="textAreaLeft" fmla="*/ 0 w 152280"/>
              <a:gd name="textAreaRight" fmla="*/ 55080 w 15228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7579800" y="300924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távajíc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snova prezent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1932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) Úvod do dané problematik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Přechod od gramatiky ke gramatickému systém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) Samotný výzk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Zavedení 2 typů multigenerativních gramatických systému (MG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ivní síla těchto M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) Cíle disertační prá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gramatických systé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120" y="1066680"/>
            <a:ext cx="462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atika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209680"/>
            <a:ext cx="800100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atický systé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zkontextová gramatik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pro všech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množina „pravidel“ pro „řízení generování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095880"/>
            <a:ext cx="807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ovaný multiřetězec v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687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2592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51664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41148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5720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Paralelní gener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1840" y="549108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05120" y="498240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452592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135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kontr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8604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3832200" y="5111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219320"/>
            <a:ext cx="80010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ech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 G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jazyk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generovaný pomocí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vá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pro všechna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</a:t>
            </a: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-jazyku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048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ustr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ování jazyků pomocí G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Standardní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tvoří řetězce generované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rvní gramatik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vý příst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429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sledný jazyk je tvořen pomocí řetězců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všech gramati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a operací nad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říklady takovýchto operac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572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Operace „sjednocení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952880"/>
            <a:ext cx="76176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49528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952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562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Operace „konkatenac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594360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943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943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133720"/>
            <a:ext cx="3352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133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110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rola derivac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119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Kontora multifor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Zavedení nových dvou typů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symbol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066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ontrola prav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Nonterminálově synchronizovaný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0010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ultigenera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ivní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álově-synchronizovaný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rama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ický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syst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– tice </a:t>
            </a:r>
            <a:r>
              <a:rPr b="1" lang="cs-CZ" sz="29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= 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9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kd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onečná množina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c tvar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pro všechn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17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17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18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18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19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19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20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21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21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21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6-06T07:01:58Z</dcterms:modified>
  <cp:revision>193</cp:revision>
  <dc:subject/>
  <dc:title>Formal Languages and Compilers</dc:title>
</cp:coreProperties>
</file>