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79C-9828-430D-9C93-33D7037F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7C7-48B0-43B7-82C2-54208631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AFD-395A-4BE6-BAAC-C4752B6D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5CD-FD5A-404B-B04A-C0BBEDA5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EBF-2448-4723-87C1-EA42B7CA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DF5-66B1-4E55-8E75-20FFABE6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317-6BB9-4554-B42B-72AEFA75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10F-B720-4819-AEDA-EDE53128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58C-3E9B-40E1-89D9-420D2585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250-46D7-45B1-9807-FA8710EE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660-529E-44EF-B52C-2E38CBD8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BF7-BA58-4061-8467-C3D71B5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BCE1-D09C-4F16-A777-524AF28662A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0:04Z</dcterms:modified>
  <cp:revision>131</cp:revision>
  <dc:subject/>
  <dc:title>Lexical Analysis</dc:title>
</cp:coreProperties>
</file>