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B10-D791-472A-BA6A-2ADB7E62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1D3-B611-4A45-AFE8-5B0E0E58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4DA-9C6B-4345-AA94-07ADAEF3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550-CC10-4247-BCE1-7059F905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244-B330-43FF-8508-1EF02BF3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6FE-F8BF-4CCD-99AF-4FEA5CD9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412-1C8D-4E0B-A7CC-7F546D0B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F57-61E8-4881-8072-6261BF02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3C3-1757-4E5E-92CB-7C16D766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751-E51D-4A65-BD19-42027B84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7CE-EE77-4AC2-9066-CEE37281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92F-3E58-4BA7-BB34-BD767DCD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7656-BFA7-4055-9B5E-8C6A3E29A5E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18:05Z</dcterms:modified>
  <cp:revision>191</cp:revision>
  <dc:subject/>
  <dc:title>Normal Forms and Properties of CFLs</dc:title>
</cp:coreProperties>
</file>