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commentAuthors.xml><?xml version="1.0" encoding="utf-8"?>
<p:cmAuthorLst xmlns:p="http://schemas.openxmlformats.org/presentationml/2006/main">
  <p:cmAuthor id="0" name="CVT" initials="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05-11-03T14:39:31.656000000" idx="1">
    <p:pos x="10" y="10"/>
    <p:text>případně další příklad L(G) = {a^2^n b a^2^m : n, m &gt;= 0} pomocí pravidel E0L systému:
A -&gt; A, A-&gt; a, a -&gt; aa, b -&gt; b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98E4-DE50-4CB6-8A16-42570353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72A5-4485-4CEC-9BD6-BB820AC1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7EC0-3B04-4C99-B6F3-44BF1134C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5051-25AE-40CF-92B0-FC39E9AEB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81CF-FF6A-4D43-BC80-A80B1264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405C-26C4-4B1C-9D49-2C9B2D34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755E-9473-4605-A5E8-0F035210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5261-D0AA-4B27-81B8-EA8B91A8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F947-9A7D-45CA-A73B-29AC3D1C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3F09-1F42-4980-A3EB-9EE58404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97CA-74F7-4EA4-8FC9-057A0C65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958B-8151-49E9-A4B1-B008B183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2C0B-48A5-4926-93CC-3327AE61C22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dvanced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ecture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L-syste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3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4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5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6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7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8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9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54]8[224]8[23]8[1]76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0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5164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67280" y="263844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508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212360" y="5013360"/>
            <a:ext cx="287640" cy="216000"/>
          </a:xfrm>
          <a:prstGeom prst="parallelogram">
            <a:avLst>
              <a:gd name="adj" fmla="val 3329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50072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4788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7654]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175248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16765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 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n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sec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mentation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catena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itive closure (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erations over 0L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roperties different from CF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4952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810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232080"/>
            <a:ext cx="7772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Classical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Only a certain 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is rewritten at one mo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Lindenmayer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All letters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must be rewritten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295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istor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trid Lindenmayer, 19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spira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the growth process in living 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5800" y="175248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676520"/>
            <a:ext cx="7848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quadru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, 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ave the same meaning as in 0L syst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et of 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5734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 E0L system then it is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7240" y="5657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mproved variant of 0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7240" y="436248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240" y="42861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generated by E0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= {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4360" y="357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– by analogy with 0L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4360" y="414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4360" y="4406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4360" y="2349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stem –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E0L are more powerful than 0L;</a:t>
            </a:r>
            <a:br>
              <a:rPr sz="3200"/>
            </a:b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starting string has not to be inluded in L(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4360" y="295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3645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0320" y="23493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4572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79640" y="1285920"/>
            <a:ext cx="5616720" cy="5572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9641000">
            <a:off x="6075000" y="5204520"/>
            <a:ext cx="10083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00360" y="1430280"/>
            <a:ext cx="4248000" cy="4275360"/>
          </a:xfrm>
          <a:prstGeom prst="ellipse">
            <a:avLst/>
          </a:prstGeom>
          <a:solidFill>
            <a:srgbClr val="00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87640" y="1717560"/>
            <a:ext cx="2952720" cy="2952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348000" y="1935000"/>
            <a:ext cx="2160720" cy="14385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03640" y="2538360"/>
            <a:ext cx="1582560" cy="4032360"/>
          </a:xfrm>
          <a:prstGeom prst="ellipse">
            <a:avLst/>
          </a:prstGeom>
          <a:solidFill>
            <a:srgbClr val="cc3300">
              <a:alpha val="64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9092000">
            <a:off x="4632840" y="2369520"/>
            <a:ext cx="7207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9264200">
            <a:off x="4849560" y="3234600"/>
            <a:ext cx="922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9589400">
            <a:off x="5643000" y="4025160"/>
            <a:ext cx="10080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834920" y="2943360"/>
            <a:ext cx="208908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763640" y="3762360"/>
            <a:ext cx="1944720" cy="71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771280" y="5057640"/>
            <a:ext cx="1295640" cy="1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484360" y="6254640"/>
            <a:ext cx="1440000" cy="1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219640" y="2249280"/>
            <a:ext cx="2089080" cy="64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508720" y="3401640"/>
            <a:ext cx="1152360" cy="406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2000" y="4653000"/>
            <a:ext cx="1224000" cy="3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6066000"/>
            <a:ext cx="144144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71640" y="2825640"/>
            <a:ext cx="863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4360" y="3762360"/>
            <a:ext cx="1081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" y="4986360"/>
            <a:ext cx="2482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6066000"/>
            <a:ext cx="2158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24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4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093080" y="5994360"/>
            <a:ext cx="1584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36000" y="4365720"/>
            <a:ext cx="1722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59640" y="3041640"/>
            <a:ext cx="23032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bbb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8720" y="2033640"/>
            <a:ext cx="12542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64000" y="4194000"/>
            <a:ext cx="863640" cy="58140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962520" y="2438280"/>
            <a:ext cx="137160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T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 systems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3505320"/>
            <a:ext cx="9907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E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4724280"/>
            <a:ext cx="7621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4724280"/>
            <a:ext cx="8380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38480" y="1371600"/>
            <a:ext cx="12193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91120" y="6019920"/>
            <a:ext cx="7617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572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572000" y="3048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09880" y="411444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9528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35812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5105520" y="4114440"/>
            <a:ext cx="3045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0320" y="2895480"/>
            <a:ext cx="7774200" cy="2468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3240" y="284328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tripl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the form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ere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arting str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axio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0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133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o nonterminals, p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l derivation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990720"/>
            <a:ext cx="4114800" cy="914400"/>
            <a:chOff x="685800" y="990720"/>
            <a:chExt cx="4114800" cy="914400"/>
          </a:xfrm>
        </p:grpSpPr>
        <p:sp>
          <p:nvSpPr>
            <p:cNvPr id="58" name=""/>
            <p:cNvSpPr/>
            <p:nvPr/>
          </p:nvSpPr>
          <p:spPr>
            <a:xfrm>
              <a:off x="685800" y="1371600"/>
              <a:ext cx="396252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1371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00"/>
                  </a:solidFill>
                  <a:latin typeface="Times New Roman"/>
                </a:rPr>
                <a:t>Zero-sided left-side hand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981080" y="990720"/>
              <a:ext cx="106704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657600" y="990720"/>
            <a:ext cx="4800600" cy="914400"/>
            <a:chOff x="3657600" y="990720"/>
            <a:chExt cx="4800600" cy="914400"/>
          </a:xfrm>
        </p:grpSpPr>
        <p:sp>
          <p:nvSpPr>
            <p:cNvPr id="62" name=""/>
            <p:cNvSpPr/>
            <p:nvPr/>
          </p:nvSpPr>
          <p:spPr>
            <a:xfrm>
              <a:off x="4800600" y="1371600"/>
              <a:ext cx="365760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29200" y="13716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Lindenmayer sys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3657600" y="990720"/>
              <a:ext cx="175248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784520"/>
            <a:ext cx="7772400" cy="2558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752480"/>
            <a:ext cx="76960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irect 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 reflexive and transitive closure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4197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arallel rewriting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41008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60000" y="4952880"/>
            <a:ext cx="2258280" cy="533520"/>
            <a:chOff x="3960000" y="4952880"/>
            <a:chExt cx="2258280" cy="533520"/>
          </a:xfrm>
        </p:grpSpPr>
        <p:sp>
          <p:nvSpPr>
            <p:cNvPr id="73" name=""/>
            <p:cNvSpPr/>
            <p:nvPr/>
          </p:nvSpPr>
          <p:spPr>
            <a:xfrm rot="5400000">
              <a:off x="398376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4517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5660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09480" y="6019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we write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784520"/>
            <a:ext cx="7772400" cy="653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752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743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ll reachable sentential forms in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659960" y="3671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312920" y="4318560"/>
            <a:ext cx="1336320" cy="758880"/>
            <a:chOff x="1312920" y="4318560"/>
            <a:chExt cx="1336320" cy="758880"/>
          </a:xfrm>
        </p:grpSpPr>
        <p:sp>
          <p:nvSpPr>
            <p:cNvPr id="87" name=""/>
            <p:cNvSpPr/>
            <p:nvPr/>
          </p:nvSpPr>
          <p:spPr>
            <a:xfrm rot="3814800">
              <a:off x="2003400" y="43956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6690600">
              <a:off x="1414440" y="44316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57360" y="4982760"/>
            <a:ext cx="2539800" cy="853560"/>
            <a:chOff x="657360" y="4982760"/>
            <a:chExt cx="2539800" cy="853560"/>
          </a:xfrm>
        </p:grpSpPr>
        <p:sp>
          <p:nvSpPr>
            <p:cNvPr id="90" name=""/>
            <p:cNvSpPr/>
            <p:nvPr/>
          </p:nvSpPr>
          <p:spPr>
            <a:xfrm rot="7665000">
              <a:off x="783360" y="5156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6690600">
              <a:off x="1393920" y="5157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3814800">
              <a:off x="2003400" y="5081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3083400">
              <a:off x="2536920" y="508176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04920" y="5410080"/>
            <a:ext cx="5029200" cy="581400"/>
            <a:chOff x="304920" y="5410080"/>
            <a:chExt cx="5029200" cy="581400"/>
          </a:xfrm>
        </p:grpSpPr>
        <p:sp>
          <p:nvSpPr>
            <p:cNvPr id="95" name=""/>
            <p:cNvSpPr/>
            <p:nvPr/>
          </p:nvSpPr>
          <p:spPr>
            <a:xfrm>
              <a:off x="304920" y="54100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  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05320" y="54100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143000" y="4724280"/>
            <a:ext cx="4191120" cy="581400"/>
            <a:chOff x="1143000" y="4724280"/>
            <a:chExt cx="4191120" cy="581400"/>
          </a:xfrm>
        </p:grpSpPr>
        <p:sp>
          <p:nvSpPr>
            <p:cNvPr id="98" name=""/>
            <p:cNvSpPr/>
            <p:nvPr/>
          </p:nvSpPr>
          <p:spPr>
            <a:xfrm>
              <a:off x="1143000" y="47242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480" y="472428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523880" y="4038480"/>
            <a:ext cx="3733920" cy="581400"/>
            <a:chOff x="1523880" y="4038480"/>
            <a:chExt cx="3733920" cy="581400"/>
          </a:xfrm>
        </p:grpSpPr>
        <p:sp>
          <p:nvSpPr>
            <p:cNvPr id="101" name=""/>
            <p:cNvSpPr/>
            <p:nvPr/>
          </p:nvSpPr>
          <p:spPr>
            <a:xfrm>
              <a:off x="1523880" y="40384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4600" y="40384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676520" y="3276720"/>
            <a:ext cx="3581280" cy="581400"/>
            <a:chOff x="1676520" y="3276720"/>
            <a:chExt cx="3581280" cy="581400"/>
          </a:xfrm>
        </p:grpSpPr>
        <p:sp>
          <p:nvSpPr>
            <p:cNvPr id="104" name=""/>
            <p:cNvSpPr/>
            <p:nvPr/>
          </p:nvSpPr>
          <p:spPr>
            <a:xfrm>
              <a:off x="1676520" y="3276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7400" y="327672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410080" y="2666880"/>
            <a:ext cx="3124440" cy="3111480"/>
            <a:chOff x="5410080" y="2666880"/>
            <a:chExt cx="3124440" cy="3111480"/>
          </a:xfrm>
        </p:grpSpPr>
        <p:sp>
          <p:nvSpPr>
            <p:cNvPr id="107" name=""/>
            <p:cNvSpPr/>
            <p:nvPr/>
          </p:nvSpPr>
          <p:spPr>
            <a:xfrm>
              <a:off x="5410080" y="2666880"/>
              <a:ext cx="3124440" cy="24386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10280" y="5257800"/>
              <a:ext cx="150336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L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7924320" y="48006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2920" y="2781360"/>
              <a:ext cx="59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781680" y="2971800"/>
            <a:ext cx="4572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352680"/>
            <a:ext cx="5331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365760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419112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1721160" y="5896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20574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D0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ariants of L-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terminism and/or no erasing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523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480" y="4114800"/>
            <a:ext cx="7925040" cy="2197080"/>
            <a:chOff x="609480" y="4114800"/>
            <a:chExt cx="7925040" cy="2197080"/>
          </a:xfrm>
        </p:grpSpPr>
        <p:sp>
          <p:nvSpPr>
            <p:cNvPr id="125" name=""/>
            <p:cNvSpPr/>
            <p:nvPr/>
          </p:nvSpPr>
          <p:spPr>
            <a:xfrm>
              <a:off x="609480" y="525780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is a deterministic propagating 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191120"/>
              <a:ext cx="7772400" cy="10666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5800" y="4114800"/>
              <a:ext cx="7848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ropagating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 syste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P0L)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or each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480" y="579132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 2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The previous example is 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odel of red alga growth by PD0L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4038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– Red Alga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2133720"/>
            <a:ext cx="130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4343400"/>
            <a:ext cx="160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tarting st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2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Zbyněk Křivka</cp:lastModifiedBy>
  <dcterms:modified xsi:type="dcterms:W3CDTF">2005-11-06T20:19:11Z</dcterms:modified>
  <cp:revision>167</cp:revision>
  <dc:subject/>
  <dc:title>Alphabets, Strings, and Languages</dc:title>
</cp:coreProperties>
</file>