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B6B-98D2-401A-8379-4C382A90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3A7-47C1-4785-A46E-8EF18E1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72E-513E-4665-84CD-15D972E2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771-67AF-43FE-A0D8-312EE943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323-32CD-47C7-B968-399D2F8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32E-6807-4FD6-8AA4-533969B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C01-6E1F-4637-8E6D-0C8D4E9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EFE-B5A5-4B46-A5A0-05498ED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8AF-D5A3-487D-8331-26DE48A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0FD-9382-4857-94C9-46E7EEB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873-1AC1-4BA9-A77C-1CE9F0C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3FE-FF0C-44E8-BBDD-76E7E8BE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B97-BF66-4CC9-AA31-CD5DE43B65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3T21:03:26Z</dcterms:modified>
  <cp:revision>184</cp:revision>
  <dc:subject/>
  <dc:title>Models for Context-Free Languages</dc:title>
</cp:coreProperties>
</file>