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912-3B01-436A-B35C-5875D1CD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D32-D54D-4B55-8662-32D21F87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B3A-FF37-462B-BDB9-35D79A20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65B-5E3C-4AEF-8DDA-9DA54E1D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2E4-F733-4D41-841E-C39629F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1FE-948A-4B41-8E66-00E9F935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F82-B414-4B81-9A34-F710AC2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85B-DB56-40CB-8407-18DDE65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327-AE22-46F1-BB1A-781DCB3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EA5-802B-46AD-BEE7-985F7C2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8F7-D5A4-49B9-AD99-0834704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4EE-92E5-4C8F-8B42-F33F0C5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220-5CC2-41B4-ABA3-EEA17D61A7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5:17Z</dcterms:modified>
  <cp:revision>268</cp:revision>
  <dc:subject/>
  <dc:title>Top-Down Parsing</dc:title>
</cp:coreProperties>
</file>