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0F96-FA69-4DFB-BB19-DC188B032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54F6-7AD2-45EE-AC8D-F9FACEB2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2CAB-85B1-420B-95BA-7F628A697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02A9-E123-496B-894A-FB5E31233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C068-524C-47AF-BF1A-076DE2A4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BCA9-5509-48C2-87AF-C4BAF5EA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D900-F2CA-412B-8942-D08165C1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14DB-FBA8-4F54-8BC0-F50F0644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76B4-2D4F-4ADB-928D-220A48F9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4B0F-0C75-4E40-86A0-C9497B80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501D-F8D3-4EE1-8EFF-69937FF9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6FAD-CFDA-42DE-90E4-74360BB9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A6B2-11F8-4757-B721-D09CEFF071B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I.</a:t>
            </a:r>
            <a:br>
              <a:rPr sz="6000"/>
            </a:b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Models for Context-Free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48320" y="3352680"/>
            <a:ext cx="3809880" cy="3124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1600200"/>
            <a:ext cx="2057400" cy="1219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1600200"/>
            <a:ext cx="685800" cy="1219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Rule tree graphically represents a ru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9051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1905120"/>
            <a:ext cx="30481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1523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1981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2286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86600" y="1523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2286000"/>
            <a:ext cx="220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6705360" y="1981080"/>
            <a:ext cx="5331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162560" y="1981080"/>
            <a:ext cx="759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38880" y="1981080"/>
            <a:ext cx="83844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2819520"/>
            <a:ext cx="83055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rivation tree corresponding to a deriv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3352680"/>
            <a:ext cx="42670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32767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6248160" y="3733920"/>
            <a:ext cx="1522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3733920"/>
            <a:ext cx="16002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4952880"/>
            <a:ext cx="4191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m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800600" y="472428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257800" y="4724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943240" y="47242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086240" y="47242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1520" y="4724280"/>
            <a:ext cx="759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4724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333760" y="3733920"/>
            <a:ext cx="10666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53080" y="3733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858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002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432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290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464832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0120" y="388620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58672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6095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429000" y="5028840"/>
            <a:ext cx="3505320" cy="1648440"/>
            <a:chOff x="3429000" y="5028840"/>
            <a:chExt cx="3505320" cy="1648440"/>
          </a:xfrm>
        </p:grpSpPr>
        <p:sp>
          <p:nvSpPr>
            <p:cNvPr id="234" name=""/>
            <p:cNvSpPr/>
            <p:nvPr/>
          </p:nvSpPr>
          <p:spPr>
            <a:xfrm>
              <a:off x="3429000" y="5486040"/>
              <a:ext cx="2286000" cy="11912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tr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rrespo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6172200" y="5028480"/>
              <a:ext cx="762120" cy="1371240"/>
            </a:xfrm>
            <a:custGeom>
              <a:avLst/>
              <a:gdLst>
                <a:gd name="textAreaLeft" fmla="*/ 167400 w 762120"/>
                <a:gd name="textAreaRight" fmla="*/ 594720 w 762120"/>
                <a:gd name="textAreaTop" fmla="*/ 301320 h 1371240"/>
                <a:gd name="textAreaBottom" fmla="*/ 1069920 h 137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48520" y="58672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6476760" y="5410080"/>
              <a:ext cx="7596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324120" y="5410080"/>
              <a:ext cx="2286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53080" y="5410080"/>
              <a:ext cx="2286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715000" y="5790960"/>
              <a:ext cx="53352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6324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4648320"/>
            <a:ext cx="4114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e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1430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762120" y="2895480"/>
            <a:ext cx="6705360" cy="3705840"/>
            <a:chOff x="762120" y="2895480"/>
            <a:chExt cx="6705360" cy="3705840"/>
          </a:xfrm>
        </p:grpSpPr>
        <p:sp>
          <p:nvSpPr>
            <p:cNvPr id="249" name=""/>
            <p:cNvSpPr/>
            <p:nvPr/>
          </p:nvSpPr>
          <p:spPr>
            <a:xfrm>
              <a:off x="76212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251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8" name=""/>
          <p:cNvGrpSpPr/>
          <p:nvPr/>
        </p:nvGrpSpPr>
        <p:grpSpPr>
          <a:xfrm>
            <a:off x="762120" y="4114800"/>
            <a:ext cx="5333760" cy="1265400"/>
            <a:chOff x="762120" y="4114800"/>
            <a:chExt cx="5333760" cy="1265400"/>
          </a:xfrm>
        </p:grpSpPr>
        <p:sp>
          <p:nvSpPr>
            <p:cNvPr id="259" name=""/>
            <p:cNvSpPr/>
            <p:nvPr/>
          </p:nvSpPr>
          <p:spPr>
            <a:xfrm>
              <a:off x="76212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762120" y="4952880"/>
            <a:ext cx="5333760" cy="1341720"/>
            <a:chOff x="762120" y="4952880"/>
            <a:chExt cx="5333760" cy="1341720"/>
          </a:xfrm>
        </p:grpSpPr>
        <p:sp>
          <p:nvSpPr>
            <p:cNvPr id="264" name=""/>
            <p:cNvSpPr/>
            <p:nvPr/>
          </p:nvSpPr>
          <p:spPr>
            <a:xfrm>
              <a:off x="76212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266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762120" y="5715000"/>
            <a:ext cx="5257800" cy="1036800"/>
            <a:chOff x="762120" y="5715000"/>
            <a:chExt cx="5257800" cy="1036800"/>
          </a:xfrm>
        </p:grpSpPr>
        <p:sp>
          <p:nvSpPr>
            <p:cNvPr id="269" name=""/>
            <p:cNvSpPr/>
            <p:nvPr/>
          </p:nvSpPr>
          <p:spPr>
            <a:xfrm>
              <a:off x="76212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271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" name=""/>
          <p:cNvGrpSpPr/>
          <p:nvPr/>
        </p:nvGrpSpPr>
        <p:grpSpPr>
          <a:xfrm>
            <a:off x="762120" y="3886200"/>
            <a:ext cx="6248160" cy="1953000"/>
            <a:chOff x="762120" y="3886200"/>
            <a:chExt cx="6248160" cy="1953000"/>
          </a:xfrm>
        </p:grpSpPr>
        <p:sp>
          <p:nvSpPr>
            <p:cNvPr id="274" name=""/>
            <p:cNvSpPr/>
            <p:nvPr/>
          </p:nvSpPr>
          <p:spPr>
            <a:xfrm>
              <a:off x="76212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276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762120" y="4343400"/>
            <a:ext cx="6248160" cy="2257920"/>
            <a:chOff x="762120" y="4343400"/>
            <a:chExt cx="6248160" cy="2257920"/>
          </a:xfrm>
        </p:grpSpPr>
        <p:sp>
          <p:nvSpPr>
            <p:cNvPr id="279" name=""/>
            <p:cNvSpPr/>
            <p:nvPr/>
          </p:nvSpPr>
          <p:spPr>
            <a:xfrm>
              <a:off x="76212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281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3" name=""/>
          <p:cNvGrpSpPr/>
          <p:nvPr/>
        </p:nvGrpSpPr>
        <p:grpSpPr>
          <a:xfrm>
            <a:off x="762120" y="5257800"/>
            <a:ext cx="7086600" cy="1343520"/>
            <a:chOff x="762120" y="5257800"/>
            <a:chExt cx="7086600" cy="1343520"/>
          </a:xfrm>
        </p:grpSpPr>
        <p:sp>
          <p:nvSpPr>
            <p:cNvPr id="284" name=""/>
            <p:cNvSpPr/>
            <p:nvPr/>
          </p:nvSpPr>
          <p:spPr>
            <a:xfrm>
              <a:off x="76212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286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762120" y="3429000"/>
            <a:ext cx="7086600" cy="3248280"/>
            <a:chOff x="762120" y="3429000"/>
            <a:chExt cx="7086600" cy="3248280"/>
          </a:xfrm>
        </p:grpSpPr>
        <p:sp>
          <p:nvSpPr>
            <p:cNvPr id="289" name=""/>
            <p:cNvSpPr/>
            <p:nvPr/>
          </p:nvSpPr>
          <p:spPr>
            <a:xfrm>
              <a:off x="76212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291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ftmos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388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uring 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eftmost derivation ste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 the leftmost nonterminal is rewrit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213372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057400"/>
            <a:ext cx="79246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Le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deriv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ftmost wa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4724280"/>
            <a:ext cx="8305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def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nalogy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1066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most Deriv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1430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ftmost 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685800" y="2895480"/>
            <a:ext cx="6781680" cy="3705840"/>
            <a:chOff x="685800" y="2895480"/>
            <a:chExt cx="6781680" cy="3705840"/>
          </a:xfrm>
        </p:grpSpPr>
        <p:sp>
          <p:nvSpPr>
            <p:cNvPr id="310" name=""/>
            <p:cNvSpPr/>
            <p:nvPr/>
          </p:nvSpPr>
          <p:spPr>
            <a:xfrm>
              <a:off x="68580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312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914400" y="3886200"/>
            <a:ext cx="5181480" cy="1953000"/>
            <a:chOff x="914400" y="3886200"/>
            <a:chExt cx="5181480" cy="1953000"/>
          </a:xfrm>
        </p:grpSpPr>
        <p:grpSp>
          <p:nvGrpSpPr>
            <p:cNvPr id="320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321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91440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914400" y="3429000"/>
            <a:ext cx="5181480" cy="1572120"/>
            <a:chOff x="914400" y="3429000"/>
            <a:chExt cx="5181480" cy="1572120"/>
          </a:xfrm>
        </p:grpSpPr>
        <p:grpSp>
          <p:nvGrpSpPr>
            <p:cNvPr id="325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326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91440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914400" y="4343400"/>
            <a:ext cx="5105520" cy="2257920"/>
            <a:chOff x="914400" y="4343400"/>
            <a:chExt cx="5105520" cy="2257920"/>
          </a:xfrm>
        </p:grpSpPr>
        <p:grpSp>
          <p:nvGrpSpPr>
            <p:cNvPr id="330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331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91440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914400" y="4038480"/>
            <a:ext cx="6934320" cy="2638800"/>
            <a:chOff x="914400" y="4038480"/>
            <a:chExt cx="6934320" cy="2638800"/>
          </a:xfrm>
        </p:grpSpPr>
        <p:grpSp>
          <p:nvGrpSpPr>
            <p:cNvPr id="335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336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91440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914400" y="4952880"/>
            <a:ext cx="6095880" cy="886320"/>
            <a:chOff x="914400" y="4952880"/>
            <a:chExt cx="6095880" cy="886320"/>
          </a:xfrm>
        </p:grpSpPr>
        <p:grpSp>
          <p:nvGrpSpPr>
            <p:cNvPr id="344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345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91440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914400" y="5715000"/>
            <a:ext cx="6095880" cy="886320"/>
            <a:chOff x="914400" y="5715000"/>
            <a:chExt cx="6095880" cy="886320"/>
          </a:xfrm>
        </p:grpSpPr>
        <p:grpSp>
          <p:nvGrpSpPr>
            <p:cNvPr id="349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350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91440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914400" y="5715000"/>
            <a:ext cx="6934320" cy="1036800"/>
            <a:chOff x="914400" y="5715000"/>
            <a:chExt cx="6934320" cy="1036800"/>
          </a:xfrm>
        </p:grpSpPr>
        <p:grpSp>
          <p:nvGrpSpPr>
            <p:cNvPr id="354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355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91440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" y="213372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2057400"/>
            <a:ext cx="79246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deriv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ightmost wa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3520" y="4648320"/>
            <a:ext cx="8001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def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nalogy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388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uring 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ightmost derivation ste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 the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st nonterminal is rewrit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1066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most Deriv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480" y="114300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most 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85800" y="2895480"/>
            <a:ext cx="6781680" cy="3705840"/>
            <a:chOff x="685800" y="2895480"/>
            <a:chExt cx="6781680" cy="3705840"/>
          </a:xfrm>
        </p:grpSpPr>
        <p:sp>
          <p:nvSpPr>
            <p:cNvPr id="371" name=""/>
            <p:cNvSpPr/>
            <p:nvPr/>
          </p:nvSpPr>
          <p:spPr>
            <a:xfrm>
              <a:off x="68580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373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0" name=""/>
          <p:cNvGrpSpPr/>
          <p:nvPr/>
        </p:nvGrpSpPr>
        <p:grpSpPr>
          <a:xfrm>
            <a:off x="914400" y="3429000"/>
            <a:ext cx="6934320" cy="3248280"/>
            <a:chOff x="914400" y="3429000"/>
            <a:chExt cx="6934320" cy="3248280"/>
          </a:xfrm>
        </p:grpSpPr>
        <p:sp>
          <p:nvSpPr>
            <p:cNvPr id="381" name=""/>
            <p:cNvSpPr/>
            <p:nvPr/>
          </p:nvSpPr>
          <p:spPr>
            <a:xfrm>
              <a:off x="91440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383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9" name=""/>
          <p:cNvGrpSpPr/>
          <p:nvPr/>
        </p:nvGrpSpPr>
        <p:grpSpPr>
          <a:xfrm>
            <a:off x="914400" y="4343400"/>
            <a:ext cx="6095880" cy="1495800"/>
            <a:chOff x="914400" y="4343400"/>
            <a:chExt cx="6095880" cy="1495800"/>
          </a:xfrm>
        </p:grpSpPr>
        <p:sp>
          <p:nvSpPr>
            <p:cNvPr id="390" name=""/>
            <p:cNvSpPr/>
            <p:nvPr/>
          </p:nvSpPr>
          <p:spPr>
            <a:xfrm>
              <a:off x="91440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392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4" name=""/>
          <p:cNvGrpSpPr/>
          <p:nvPr/>
        </p:nvGrpSpPr>
        <p:grpSpPr>
          <a:xfrm>
            <a:off x="914400" y="4114800"/>
            <a:ext cx="5181480" cy="1722600"/>
            <a:chOff x="914400" y="4114800"/>
            <a:chExt cx="5181480" cy="1722600"/>
          </a:xfrm>
        </p:grpSpPr>
        <p:grpSp>
          <p:nvGrpSpPr>
            <p:cNvPr id="395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396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91440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914400" y="4800600"/>
            <a:ext cx="6095880" cy="1800720"/>
            <a:chOff x="914400" y="4800600"/>
            <a:chExt cx="6095880" cy="1800720"/>
          </a:xfrm>
        </p:grpSpPr>
        <p:sp>
          <p:nvSpPr>
            <p:cNvPr id="400" name=""/>
            <p:cNvSpPr/>
            <p:nvPr/>
          </p:nvSpPr>
          <p:spPr>
            <a:xfrm>
              <a:off x="91440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402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"/>
          <p:cNvGrpSpPr/>
          <p:nvPr/>
        </p:nvGrpSpPr>
        <p:grpSpPr>
          <a:xfrm>
            <a:off x="914400" y="4952880"/>
            <a:ext cx="5181480" cy="1341720"/>
            <a:chOff x="914400" y="4952880"/>
            <a:chExt cx="5181480" cy="1341720"/>
          </a:xfrm>
        </p:grpSpPr>
        <p:grpSp>
          <p:nvGrpSpPr>
            <p:cNvPr id="405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406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91440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914400" y="3886200"/>
            <a:ext cx="6934320" cy="2715120"/>
            <a:chOff x="914400" y="3886200"/>
            <a:chExt cx="6934320" cy="2715120"/>
          </a:xfrm>
        </p:grpSpPr>
        <p:sp>
          <p:nvSpPr>
            <p:cNvPr id="410" name=""/>
            <p:cNvSpPr/>
            <p:nvPr/>
          </p:nvSpPr>
          <p:spPr>
            <a:xfrm>
              <a:off x="91440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412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4" name=""/>
          <p:cNvGrpSpPr/>
          <p:nvPr/>
        </p:nvGrpSpPr>
        <p:grpSpPr>
          <a:xfrm>
            <a:off x="914400" y="5715000"/>
            <a:ext cx="5105520" cy="1036800"/>
            <a:chOff x="914400" y="5715000"/>
            <a:chExt cx="5105520" cy="1036800"/>
          </a:xfrm>
        </p:grpSpPr>
        <p:grpSp>
          <p:nvGrpSpPr>
            <p:cNvPr id="415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416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91440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s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1066680"/>
            <a:ext cx="7925040" cy="48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 ru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Deriva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lang="cs-CZ" sz="2600" spc="-1" strike="noStrike" u="sng">
                <a:solidFill>
                  <a:srgbClr val="ff0000"/>
                </a:solidFill>
                <a:uFillTx/>
                <a:latin typeface="Times New Roman"/>
              </a:rPr>
              <a:t>ny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Leftmost deriv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Leftmost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Rightmost deriva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Rightmost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4495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5867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Reduction of the Number of Derivatio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2590920"/>
            <a:ext cx="7772400" cy="3047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2590920"/>
            <a:ext cx="792468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next three languages coinc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2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3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523880" y="106668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hout any loss of generality, we can consider only leftmost or rightmost derivation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 to Ambig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541008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312408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3809880"/>
            <a:ext cx="46483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1143000"/>
            <a:ext cx="5029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477120" y="1066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19920" y="1676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391520" y="1676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4008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248520" y="1523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705720" y="15238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705720" y="15238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9343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72400" y="2743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315200" y="3352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620120" y="213372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7162920" y="2133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0120" y="21337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934320" y="2743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1629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0199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248520" y="2133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9343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16292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19920" y="2743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2485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7724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00100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9436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24852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4674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0866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0010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391520" y="5562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924680" y="5638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960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2296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0102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77240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305920" y="49528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53452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00100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315200" y="4952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7391520" y="41911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038480" y="609588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mproper during comp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96080" y="41911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696080" y="4191120"/>
            <a:ext cx="5335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29600" y="4876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229600" y="4876920"/>
            <a:ext cx="3049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8000640" y="487692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943600" y="3809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4419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334120" y="4419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4120" y="5562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867280" y="5638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386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722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0292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02920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38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86728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25780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77120" y="4952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5638680" y="42670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172200" y="42670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172200" y="426708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562720" y="4876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62720" y="4876920"/>
            <a:ext cx="30456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5257440" y="4876920"/>
            <a:ext cx="3049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5790960" y="54100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019920"/>
            <a:ext cx="388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685800" y="3276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mmatical Ambig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1219320"/>
            <a:ext cx="7788240" cy="184788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exis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with more than one derivation tree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00" y="3200400"/>
            <a:ext cx="777240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 CFL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herently ambiguou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generated by no unambiguous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9480" y="4191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85800" y="464832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un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because for ever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here exist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ly o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5800" y="5334120"/>
            <a:ext cx="7696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because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+i*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here exist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wo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re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5800" y="6051600"/>
            <a:ext cx="8077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= 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ot inherently 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caus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s unambiguo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2971800"/>
            <a:ext cx="4064040" cy="3657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xt-Free Grammar (CF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1143000"/>
            <a:ext cx="69343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rammar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s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based on a finite set of grammatical rules, by which it generates strings of its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43828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lustr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6560" y="28954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3429000"/>
            <a:ext cx="152388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3505320"/>
            <a:ext cx="38124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2971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2514600"/>
            <a:ext cx="2667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4038480"/>
            <a:ext cx="152388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40384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erminals:      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342900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nterminals: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638680" y="2590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4648320"/>
            <a:ext cx="1523880" cy="19047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4648320"/>
            <a:ext cx="40384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448240" y="3048120"/>
            <a:ext cx="838440" cy="962280"/>
            <a:chOff x="5448240" y="3048120"/>
            <a:chExt cx="838440" cy="962280"/>
          </a:xfrm>
        </p:grpSpPr>
        <p:sp>
          <p:nvSpPr>
            <p:cNvPr id="61" name=""/>
            <p:cNvSpPr/>
            <p:nvPr/>
          </p:nvSpPr>
          <p:spPr>
            <a:xfrm>
              <a:off x="5448240" y="34290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200000">
              <a:off x="5791320" y="3314160"/>
              <a:ext cx="75960" cy="45720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38680" y="3048120"/>
              <a:ext cx="3812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410080" y="3886200"/>
            <a:ext cx="1067040" cy="962280"/>
            <a:chOff x="5410080" y="3886200"/>
            <a:chExt cx="1067040" cy="962280"/>
          </a:xfrm>
        </p:grpSpPr>
        <p:sp>
          <p:nvSpPr>
            <p:cNvPr id="65" name=""/>
            <p:cNvSpPr/>
            <p:nvPr/>
          </p:nvSpPr>
          <p:spPr>
            <a:xfrm>
              <a:off x="5410080" y="426708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200000">
              <a:off x="5657760" y="4172040"/>
              <a:ext cx="76320" cy="41904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86400" y="388620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81480" y="4724280"/>
            <a:ext cx="1524240" cy="962640"/>
            <a:chOff x="5181480" y="4724280"/>
            <a:chExt cx="1524240" cy="962640"/>
          </a:xfrm>
        </p:grpSpPr>
        <p:sp>
          <p:nvSpPr>
            <p:cNvPr id="69" name=""/>
            <p:cNvSpPr/>
            <p:nvPr/>
          </p:nvSpPr>
          <p:spPr>
            <a:xfrm>
              <a:off x="5181480" y="5105520"/>
              <a:ext cx="15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b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6200000">
              <a:off x="6000480" y="4895640"/>
              <a:ext cx="76320" cy="64764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67280" y="4724280"/>
              <a:ext cx="381240" cy="3812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105520" y="5575320"/>
            <a:ext cx="1828800" cy="949680"/>
            <a:chOff x="5105520" y="5575320"/>
            <a:chExt cx="1828800" cy="949680"/>
          </a:xfrm>
        </p:grpSpPr>
        <p:sp>
          <p:nvSpPr>
            <p:cNvPr id="73" name=""/>
            <p:cNvSpPr/>
            <p:nvPr/>
          </p:nvSpPr>
          <p:spPr>
            <a:xfrm>
              <a:off x="5105520" y="59436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bba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6200000">
              <a:off x="5981760" y="5866920"/>
              <a:ext cx="75960" cy="3808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29480" y="557532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2485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3809880"/>
            <a:ext cx="2209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48520" y="4648320"/>
            <a:ext cx="259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5486400"/>
            <a:ext cx="259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5943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down Automata (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762120" y="4145040"/>
            <a:ext cx="2668320" cy="510120"/>
            <a:chOff x="762120" y="4145040"/>
            <a:chExt cx="2668320" cy="510120"/>
          </a:xfrm>
        </p:grpSpPr>
        <p:grpSp>
          <p:nvGrpSpPr>
            <p:cNvPr id="519" name=""/>
            <p:cNvGrpSpPr/>
            <p:nvPr/>
          </p:nvGrpSpPr>
          <p:grpSpPr>
            <a:xfrm>
              <a:off x="762120" y="4145040"/>
              <a:ext cx="545760" cy="510120"/>
              <a:chOff x="762120" y="4145040"/>
              <a:chExt cx="545760" cy="510120"/>
            </a:xfrm>
          </p:grpSpPr>
          <p:sp>
            <p:nvSpPr>
              <p:cNvPr id="520" name=""/>
              <p:cNvSpPr/>
              <p:nvPr/>
            </p:nvSpPr>
            <p:spPr>
              <a:xfrm>
                <a:off x="7621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7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2895480" y="4145040"/>
              <a:ext cx="534960" cy="510120"/>
              <a:chOff x="2895480" y="4145040"/>
              <a:chExt cx="534960" cy="510120"/>
            </a:xfrm>
          </p:grpSpPr>
          <p:sp>
            <p:nvSpPr>
              <p:cNvPr id="523" name=""/>
              <p:cNvSpPr/>
              <p:nvPr/>
            </p:nvSpPr>
            <p:spPr>
              <a:xfrm>
                <a:off x="289548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90556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362320" y="4145040"/>
              <a:ext cx="534960" cy="510120"/>
              <a:chOff x="2362320" y="4145040"/>
              <a:chExt cx="534960" cy="510120"/>
            </a:xfrm>
          </p:grpSpPr>
          <p:sp>
            <p:nvSpPr>
              <p:cNvPr id="526" name=""/>
              <p:cNvSpPr/>
              <p:nvPr/>
            </p:nvSpPr>
            <p:spPr>
              <a:xfrm>
                <a:off x="23623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37240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1295280" y="414504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295280" y="414504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113360" y="4145040"/>
            <a:ext cx="4268160" cy="510120"/>
            <a:chOff x="4113360" y="4145040"/>
            <a:chExt cx="4268160" cy="510120"/>
          </a:xfrm>
        </p:grpSpPr>
        <p:grpSp>
          <p:nvGrpSpPr>
            <p:cNvPr id="531" name=""/>
            <p:cNvGrpSpPr/>
            <p:nvPr/>
          </p:nvGrpSpPr>
          <p:grpSpPr>
            <a:xfrm>
              <a:off x="6246720" y="4145040"/>
              <a:ext cx="534600" cy="510120"/>
              <a:chOff x="6246720" y="4145040"/>
              <a:chExt cx="534600" cy="510120"/>
            </a:xfrm>
          </p:grpSpPr>
          <p:sp>
            <p:nvSpPr>
              <p:cNvPr id="532" name=""/>
              <p:cNvSpPr/>
              <p:nvPr/>
            </p:nvSpPr>
            <p:spPr>
              <a:xfrm>
                <a:off x="6246720" y="414504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39600" y="414504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7846920" y="4145040"/>
              <a:ext cx="534600" cy="510120"/>
              <a:chOff x="7846920" y="4145040"/>
              <a:chExt cx="534600" cy="510120"/>
            </a:xfrm>
          </p:grpSpPr>
          <p:sp>
            <p:nvSpPr>
              <p:cNvPr id="535" name=""/>
              <p:cNvSpPr/>
              <p:nvPr/>
            </p:nvSpPr>
            <p:spPr>
              <a:xfrm>
                <a:off x="7846920" y="414504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848000" y="414504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6780240" y="4145040"/>
              <a:ext cx="1066320" cy="459720"/>
              <a:chOff x="6780240" y="4145040"/>
              <a:chExt cx="1066320" cy="459720"/>
            </a:xfrm>
          </p:grpSpPr>
          <p:sp>
            <p:nvSpPr>
              <p:cNvPr id="538" name=""/>
              <p:cNvSpPr/>
              <p:nvPr/>
            </p:nvSpPr>
            <p:spPr>
              <a:xfrm>
                <a:off x="6780240" y="4145040"/>
                <a:ext cx="106632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780240" y="414504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4113360" y="4145040"/>
              <a:ext cx="534600" cy="510120"/>
              <a:chOff x="4113360" y="4145040"/>
              <a:chExt cx="534600" cy="510120"/>
            </a:xfrm>
          </p:grpSpPr>
          <p:sp>
            <p:nvSpPr>
              <p:cNvPr id="541" name=""/>
              <p:cNvSpPr/>
              <p:nvPr/>
            </p:nvSpPr>
            <p:spPr>
              <a:xfrm>
                <a:off x="4113360" y="414504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11480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4645080" y="4145040"/>
              <a:ext cx="534600" cy="510120"/>
              <a:chOff x="4645080" y="4145040"/>
              <a:chExt cx="534600" cy="510120"/>
            </a:xfrm>
          </p:grpSpPr>
          <p:sp>
            <p:nvSpPr>
              <p:cNvPr id="544" name=""/>
              <p:cNvSpPr/>
              <p:nvPr/>
            </p:nvSpPr>
            <p:spPr>
              <a:xfrm>
                <a:off x="4645080" y="414504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64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5180040" y="4145040"/>
              <a:ext cx="1066320" cy="459720"/>
              <a:chOff x="5180040" y="4145040"/>
              <a:chExt cx="1066320" cy="459720"/>
            </a:xfrm>
          </p:grpSpPr>
          <p:sp>
            <p:nvSpPr>
              <p:cNvPr id="547" name=""/>
              <p:cNvSpPr/>
              <p:nvPr/>
            </p:nvSpPr>
            <p:spPr>
              <a:xfrm>
                <a:off x="5180040" y="4145040"/>
                <a:ext cx="106632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180040" y="414504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549" name=""/>
          <p:cNvCxnSpPr>
            <a:stCxn id="550" idx="1"/>
            <a:endCxn id="524" idx="0"/>
          </p:cNvCxnSpPr>
          <p:nvPr/>
        </p:nvCxnSpPr>
        <p:spPr>
          <a:xfrm flipV="1" rot="10800000">
            <a:off x="3141000" y="2848320"/>
            <a:ext cx="49752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51" name=""/>
          <p:cNvCxnSpPr>
            <a:stCxn id="550" idx="3"/>
            <a:endCxn id="533" idx="0"/>
          </p:cNvCxnSpPr>
          <p:nvPr/>
        </p:nvCxnSpPr>
        <p:spPr>
          <a:xfrm>
            <a:off x="5518080" y="2849040"/>
            <a:ext cx="101376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2" name=""/>
          <p:cNvSpPr/>
          <p:nvPr/>
        </p:nvSpPr>
        <p:spPr>
          <a:xfrm>
            <a:off x="838080" y="32306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553080" y="353520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657600" y="2011320"/>
            <a:ext cx="18414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657600" y="2057400"/>
            <a:ext cx="18288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 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85800" y="376380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038480" y="3763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743200" y="513540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00200" y="10666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 FA extended by a pushdown st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124080" y="460188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324480" y="475452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4754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down Automata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5800" y="1219320"/>
            <a:ext cx="7772400" cy="4572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1143000"/>
            <a:ext cx="77724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PDA) 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7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pushdown symb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s on PDA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9480" y="3581280"/>
            <a:ext cx="807732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ation of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f the current state 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urrent input symbol is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the topmost symbol on the pushdown is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rea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place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change 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no symbol is 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9480" y="1676520"/>
            <a:ext cx="82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)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however, we write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9480" y="114300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ote 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l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903320" y="1371600"/>
            <a:ext cx="303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01520" y="2057400"/>
            <a:ext cx="54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the initi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914400" y="2361960"/>
            <a:ext cx="38088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01520" y="2819520"/>
            <a:ext cx="48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46840" y="3886200"/>
            <a:ext cx="40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52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828800" y="42670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1080" y="38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" y="1219320"/>
            <a:ext cx="3733920" cy="4876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3429000" y="1600200"/>
            <a:ext cx="2286000" cy="457200"/>
            <a:chOff x="3429000" y="1600200"/>
            <a:chExt cx="2286000" cy="457200"/>
          </a:xfrm>
        </p:grpSpPr>
        <p:sp>
          <p:nvSpPr>
            <p:cNvPr id="598" name=""/>
            <p:cNvSpPr/>
            <p:nvPr/>
          </p:nvSpPr>
          <p:spPr>
            <a:xfrm>
              <a:off x="5257800" y="205740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429000" y="1600200"/>
              <a:ext cx="167652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762120" y="2971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1752480" y="2971800"/>
            <a:ext cx="6477120" cy="1358640"/>
            <a:chOff x="1752480" y="2971800"/>
            <a:chExt cx="6477120" cy="1358640"/>
          </a:xfrm>
        </p:grpSpPr>
        <p:sp>
          <p:nvSpPr>
            <p:cNvPr id="602" name=""/>
            <p:cNvSpPr/>
            <p:nvPr/>
          </p:nvSpPr>
          <p:spPr>
            <a:xfrm>
              <a:off x="1752480" y="3809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6283440" y="2971800"/>
              <a:ext cx="1946160" cy="685440"/>
              <a:chOff x="6283440" y="2971800"/>
              <a:chExt cx="1946160" cy="685440"/>
            </a:xfrm>
          </p:grpSpPr>
          <p:sp>
            <p:nvSpPr>
              <p:cNvPr id="604" name=""/>
              <p:cNvSpPr/>
              <p:nvPr/>
            </p:nvSpPr>
            <p:spPr>
              <a:xfrm rot="5400000">
                <a:off x="6270120" y="2985120"/>
                <a:ext cx="685440" cy="65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934320" y="30481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6" name=""/>
          <p:cNvGrpSpPr/>
          <p:nvPr/>
        </p:nvGrpSpPr>
        <p:grpSpPr>
          <a:xfrm>
            <a:off x="762120" y="1676520"/>
            <a:ext cx="5638680" cy="4572000"/>
            <a:chOff x="762120" y="1676520"/>
            <a:chExt cx="5638680" cy="4572000"/>
          </a:xfrm>
        </p:grpSpPr>
        <p:sp>
          <p:nvSpPr>
            <p:cNvPr id="607" name=""/>
            <p:cNvSpPr/>
            <p:nvPr/>
          </p:nvSpPr>
          <p:spPr>
            <a:xfrm>
              <a:off x="5715000" y="29718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5000" y="42670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15000" y="16765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62120" y="205740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5000" y="55627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62120" y="2362320"/>
            <a:ext cx="5333760" cy="1587240"/>
            <a:chOff x="762120" y="2362320"/>
            <a:chExt cx="5333760" cy="1587240"/>
          </a:xfrm>
        </p:grpSpPr>
        <p:sp>
          <p:nvSpPr>
            <p:cNvPr id="613" name=""/>
            <p:cNvSpPr/>
            <p:nvPr/>
          </p:nvSpPr>
          <p:spPr>
            <a:xfrm>
              <a:off x="762120" y="342900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4800600" y="2362320"/>
              <a:ext cx="1295280" cy="609480"/>
              <a:chOff x="4800600" y="2362320"/>
              <a:chExt cx="1295280" cy="609480"/>
            </a:xfrm>
          </p:grpSpPr>
          <p:sp>
            <p:nvSpPr>
              <p:cNvPr id="615" name=""/>
              <p:cNvSpPr/>
              <p:nvPr/>
            </p:nvSpPr>
            <p:spPr>
              <a:xfrm>
                <a:off x="4800600" y="23623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019920" y="236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"/>
          <p:cNvGrpSpPr/>
          <p:nvPr/>
        </p:nvGrpSpPr>
        <p:grpSpPr>
          <a:xfrm>
            <a:off x="1752480" y="3657600"/>
            <a:ext cx="4496040" cy="1054080"/>
            <a:chOff x="1752480" y="3657600"/>
            <a:chExt cx="4496040" cy="1054080"/>
          </a:xfrm>
        </p:grpSpPr>
        <p:sp>
          <p:nvSpPr>
            <p:cNvPr id="618" name=""/>
            <p:cNvSpPr/>
            <p:nvPr/>
          </p:nvSpPr>
          <p:spPr>
            <a:xfrm>
              <a:off x="1752480" y="419112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5029200" y="3657600"/>
              <a:ext cx="1219320" cy="609480"/>
              <a:chOff x="5029200" y="3657600"/>
              <a:chExt cx="1219320" cy="609480"/>
            </a:xfrm>
          </p:grpSpPr>
          <p:sp>
            <p:nvSpPr>
              <p:cNvPr id="620" name=""/>
              <p:cNvSpPr/>
              <p:nvPr/>
            </p:nvSpPr>
            <p:spPr>
              <a:xfrm>
                <a:off x="5029200" y="3657600"/>
                <a:ext cx="121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019920" y="365760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2" name=""/>
          <p:cNvGrpSpPr/>
          <p:nvPr/>
        </p:nvGrpSpPr>
        <p:grpSpPr>
          <a:xfrm>
            <a:off x="1752480" y="4952880"/>
            <a:ext cx="4572000" cy="609840"/>
            <a:chOff x="1752480" y="4952880"/>
            <a:chExt cx="4572000" cy="609840"/>
          </a:xfrm>
        </p:grpSpPr>
        <p:sp>
          <p:nvSpPr>
            <p:cNvPr id="623" name=""/>
            <p:cNvSpPr/>
            <p:nvPr/>
          </p:nvSpPr>
          <p:spPr>
            <a:xfrm>
              <a:off x="1752480" y="4952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5029200" y="4952880"/>
              <a:ext cx="1295280" cy="609840"/>
              <a:chOff x="5029200" y="4952880"/>
              <a:chExt cx="1295280" cy="609840"/>
            </a:xfrm>
          </p:grpSpPr>
          <p:sp>
            <p:nvSpPr>
              <p:cNvPr id="625" name=""/>
              <p:cNvSpPr/>
              <p:nvPr/>
            </p:nvSpPr>
            <p:spPr>
              <a:xfrm>
                <a:off x="5029200" y="49528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019920" y="4952880"/>
                <a:ext cx="0" cy="60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762120" y="5486400"/>
            <a:ext cx="5562360" cy="685800"/>
            <a:chOff x="762120" y="5486400"/>
            <a:chExt cx="5562360" cy="685800"/>
          </a:xfrm>
        </p:grpSpPr>
        <p:sp>
          <p:nvSpPr>
            <p:cNvPr id="628" name=""/>
            <p:cNvSpPr/>
            <p:nvPr/>
          </p:nvSpPr>
          <p:spPr>
            <a:xfrm>
              <a:off x="762120" y="548640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91320" y="5638680"/>
              <a:ext cx="53316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1752480" y="4267080"/>
            <a:ext cx="6477120" cy="825480"/>
            <a:chOff x="1752480" y="4267080"/>
            <a:chExt cx="6477120" cy="825480"/>
          </a:xfrm>
        </p:grpSpPr>
        <p:sp>
          <p:nvSpPr>
            <p:cNvPr id="631" name=""/>
            <p:cNvSpPr/>
            <p:nvPr/>
          </p:nvSpPr>
          <p:spPr>
            <a:xfrm>
              <a:off x="1752480" y="457200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6283440" y="4267080"/>
              <a:ext cx="1946160" cy="685440"/>
              <a:chOff x="6283440" y="4267080"/>
              <a:chExt cx="1946160" cy="685440"/>
            </a:xfrm>
          </p:grpSpPr>
          <p:sp>
            <p:nvSpPr>
              <p:cNvPr id="633" name=""/>
              <p:cNvSpPr/>
              <p:nvPr/>
            </p:nvSpPr>
            <p:spPr>
              <a:xfrm>
                <a:off x="6934320" y="42670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5400000">
                <a:off x="6270120" y="4280400"/>
                <a:ext cx="685440" cy="65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85800" y="1600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" y="15238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neou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scription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62120" y="5333760"/>
            <a:ext cx="7619760" cy="1267560"/>
            <a:chOff x="762120" y="5333760"/>
            <a:chExt cx="7619760" cy="1267560"/>
          </a:xfrm>
        </p:grpSpPr>
        <p:sp>
          <p:nvSpPr>
            <p:cNvPr id="641" name=""/>
            <p:cNvSpPr/>
            <p:nvPr/>
          </p:nvSpPr>
          <p:spPr>
            <a:xfrm rot="16200000">
              <a:off x="1981080" y="4114440"/>
              <a:ext cx="228600" cy="26668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24920 h 2666880"/>
                <a:gd name="textAreaBottom" fmla="*/ 254196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17"/>
                    <a:pt x="10800" y="3234"/>
                  </a:cubicBezTo>
                  <a:lnTo>
                    <a:pt x="10800" y="7566"/>
                  </a:lnTo>
                  <a:cubicBezTo>
                    <a:pt x="10800" y="9183"/>
                    <a:pt x="5400" y="10800"/>
                    <a:pt x="0" y="10800"/>
                  </a:cubicBezTo>
                  <a:cubicBezTo>
                    <a:pt x="5400" y="10800"/>
                    <a:pt x="10800" y="12417"/>
                    <a:pt x="10800" y="14034"/>
                  </a:cubicBezTo>
                  <a:lnTo>
                    <a:pt x="10800" y="18366"/>
                  </a:lnTo>
                  <a:cubicBezTo>
                    <a:pt x="10800" y="1998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16200000">
              <a:off x="7200720" y="4381200"/>
              <a:ext cx="228600" cy="21333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99720 h 2133360"/>
                <a:gd name="textAreaBottom" fmla="*/ 203364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17"/>
                    <a:pt x="10800" y="3234"/>
                  </a:cubicBezTo>
                  <a:lnTo>
                    <a:pt x="10800" y="7566"/>
                  </a:lnTo>
                  <a:cubicBezTo>
                    <a:pt x="10800" y="9183"/>
                    <a:pt x="5400" y="10800"/>
                    <a:pt x="0" y="10800"/>
                  </a:cubicBezTo>
                  <a:cubicBezTo>
                    <a:pt x="5400" y="10800"/>
                    <a:pt x="10800" y="12417"/>
                    <a:pt x="10800" y="14034"/>
                  </a:cubicBezTo>
                  <a:lnTo>
                    <a:pt x="10800" y="18366"/>
                  </a:lnTo>
                  <a:cubicBezTo>
                    <a:pt x="10800" y="1998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608200" y="6019920"/>
              <a:ext cx="264672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2057400" y="5562720"/>
              <a:ext cx="12952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4191120" y="5562720"/>
              <a:ext cx="31240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3733920" y="54100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762120" y="4906800"/>
            <a:ext cx="2668320" cy="510120"/>
            <a:chOff x="762120" y="4906800"/>
            <a:chExt cx="2668320" cy="510120"/>
          </a:xfrm>
        </p:grpSpPr>
        <p:grpSp>
          <p:nvGrpSpPr>
            <p:cNvPr id="648" name=""/>
            <p:cNvGrpSpPr/>
            <p:nvPr/>
          </p:nvGrpSpPr>
          <p:grpSpPr>
            <a:xfrm>
              <a:off x="762120" y="4906800"/>
              <a:ext cx="545760" cy="510120"/>
              <a:chOff x="762120" y="4906800"/>
              <a:chExt cx="545760" cy="510120"/>
            </a:xfrm>
          </p:grpSpPr>
          <p:sp>
            <p:nvSpPr>
              <p:cNvPr id="649" name=""/>
              <p:cNvSpPr/>
              <p:nvPr/>
            </p:nvSpPr>
            <p:spPr>
              <a:xfrm>
                <a:off x="76212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76520" y="490680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2895480" y="4906800"/>
              <a:ext cx="534960" cy="510120"/>
              <a:chOff x="2895480" y="4906800"/>
              <a:chExt cx="534960" cy="510120"/>
            </a:xfrm>
          </p:grpSpPr>
          <p:sp>
            <p:nvSpPr>
              <p:cNvPr id="652" name=""/>
              <p:cNvSpPr/>
              <p:nvPr/>
            </p:nvSpPr>
            <p:spPr>
              <a:xfrm>
                <a:off x="289548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905560" y="490680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2362320" y="4906800"/>
              <a:ext cx="534960" cy="510120"/>
              <a:chOff x="2362320" y="4906800"/>
              <a:chExt cx="534960" cy="510120"/>
            </a:xfrm>
          </p:grpSpPr>
          <p:sp>
            <p:nvSpPr>
              <p:cNvPr id="655" name=""/>
              <p:cNvSpPr/>
              <p:nvPr/>
            </p:nvSpPr>
            <p:spPr>
              <a:xfrm>
                <a:off x="236232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372400" y="490680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7" name=""/>
            <p:cNvSpPr/>
            <p:nvPr/>
          </p:nvSpPr>
          <p:spPr>
            <a:xfrm>
              <a:off x="1295280" y="490680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295280" y="49068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114800" y="4876920"/>
            <a:ext cx="4268880" cy="510120"/>
            <a:chOff x="4114800" y="4876920"/>
            <a:chExt cx="4268880" cy="510120"/>
          </a:xfrm>
        </p:grpSpPr>
        <p:grpSp>
          <p:nvGrpSpPr>
            <p:cNvPr id="660" name=""/>
            <p:cNvGrpSpPr/>
            <p:nvPr/>
          </p:nvGrpSpPr>
          <p:grpSpPr>
            <a:xfrm>
              <a:off x="6248520" y="4876920"/>
              <a:ext cx="534960" cy="510120"/>
              <a:chOff x="6248520" y="4876920"/>
              <a:chExt cx="534960" cy="510120"/>
            </a:xfrm>
          </p:grpSpPr>
          <p:sp>
            <p:nvSpPr>
              <p:cNvPr id="661" name=""/>
              <p:cNvSpPr/>
              <p:nvPr/>
            </p:nvSpPr>
            <p:spPr>
              <a:xfrm>
                <a:off x="6248520" y="487692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341760" y="487692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7848720" y="4876920"/>
              <a:ext cx="534960" cy="510120"/>
              <a:chOff x="7848720" y="4876920"/>
              <a:chExt cx="534960" cy="510120"/>
            </a:xfrm>
          </p:grpSpPr>
          <p:sp>
            <p:nvSpPr>
              <p:cNvPr id="664" name=""/>
              <p:cNvSpPr/>
              <p:nvPr/>
            </p:nvSpPr>
            <p:spPr>
              <a:xfrm>
                <a:off x="7848720" y="487692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850160" y="4876920"/>
                <a:ext cx="532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6782040" y="4876920"/>
              <a:ext cx="1066680" cy="459720"/>
              <a:chOff x="6782040" y="4876920"/>
              <a:chExt cx="1066680" cy="459720"/>
            </a:xfrm>
          </p:grpSpPr>
          <p:sp>
            <p:nvSpPr>
              <p:cNvPr id="667" name=""/>
              <p:cNvSpPr/>
              <p:nvPr/>
            </p:nvSpPr>
            <p:spPr>
              <a:xfrm>
                <a:off x="6782040" y="4876920"/>
                <a:ext cx="106668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782040" y="48769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4114800" y="4876920"/>
              <a:ext cx="534960" cy="510120"/>
              <a:chOff x="4114800" y="4876920"/>
              <a:chExt cx="534960" cy="510120"/>
            </a:xfrm>
          </p:grpSpPr>
          <p:sp>
            <p:nvSpPr>
              <p:cNvPr id="670" name=""/>
              <p:cNvSpPr/>
              <p:nvPr/>
            </p:nvSpPr>
            <p:spPr>
              <a:xfrm>
                <a:off x="4114800" y="487692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116600" y="487692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4646880" y="4876920"/>
              <a:ext cx="534960" cy="510120"/>
              <a:chOff x="4646880" y="4876920"/>
              <a:chExt cx="534960" cy="510120"/>
            </a:xfrm>
          </p:grpSpPr>
          <p:sp>
            <p:nvSpPr>
              <p:cNvPr id="673" name=""/>
              <p:cNvSpPr/>
              <p:nvPr/>
            </p:nvSpPr>
            <p:spPr>
              <a:xfrm>
                <a:off x="4646880" y="487692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648680" y="487692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5181840" y="4876920"/>
              <a:ext cx="1066680" cy="459720"/>
              <a:chOff x="5181840" y="4876920"/>
              <a:chExt cx="1066680" cy="459720"/>
            </a:xfrm>
          </p:grpSpPr>
          <p:sp>
            <p:nvSpPr>
              <p:cNvPr id="676" name=""/>
              <p:cNvSpPr/>
              <p:nvPr/>
            </p:nvSpPr>
            <p:spPr>
              <a:xfrm>
                <a:off x="5181840" y="4876920"/>
                <a:ext cx="106668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181840" y="48769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678" name=""/>
          <p:cNvCxnSpPr>
            <a:stCxn id="679" idx="1"/>
            <a:endCxn id="653" idx="0"/>
          </p:cNvCxnSpPr>
          <p:nvPr/>
        </p:nvCxnSpPr>
        <p:spPr>
          <a:xfrm flipV="1" rot="10800000">
            <a:off x="3141000" y="3580920"/>
            <a:ext cx="345240" cy="132624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0" name=""/>
          <p:cNvCxnSpPr>
            <a:stCxn id="679" idx="3"/>
            <a:endCxn id="662" idx="0"/>
          </p:cNvCxnSpPr>
          <p:nvPr/>
        </p:nvCxnSpPr>
        <p:spPr>
          <a:xfrm>
            <a:off x="6267600" y="3580920"/>
            <a:ext cx="26568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1" name=""/>
          <p:cNvSpPr/>
          <p:nvPr/>
        </p:nvSpPr>
        <p:spPr>
          <a:xfrm>
            <a:off x="838080" y="3992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553080" y="441972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05320" y="2743200"/>
            <a:ext cx="27432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657600" y="2819520"/>
            <a:ext cx="24382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" y="452592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03848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581280" y="3809880"/>
            <a:ext cx="533520" cy="5335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114800" y="3886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curren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3505320" y="4343400"/>
            <a:ext cx="533160" cy="1066680"/>
            <a:chOff x="3505320" y="4343400"/>
            <a:chExt cx="533160" cy="1066680"/>
          </a:xfrm>
        </p:grpSpPr>
        <p:sp>
          <p:nvSpPr>
            <p:cNvPr id="690" name=""/>
            <p:cNvSpPr/>
            <p:nvPr/>
          </p:nvSpPr>
          <p:spPr>
            <a:xfrm>
              <a:off x="3505320" y="4876920"/>
              <a:ext cx="533160" cy="5331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3733560" y="4343400"/>
              <a:ext cx="7596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85800" y="160020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47640" y="152388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f a PDA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Then, 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written 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0948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33520" y="40384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input symbol is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942120" y="5334120"/>
            <a:ext cx="2477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mputational step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de by 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675440" y="4724280"/>
            <a:ext cx="229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4038480" y="4648320"/>
            <a:ext cx="4497480" cy="533160"/>
            <a:chOff x="4038480" y="4648320"/>
            <a:chExt cx="4497480" cy="533160"/>
          </a:xfrm>
        </p:grpSpPr>
        <p:sp>
          <p:nvSpPr>
            <p:cNvPr id="702" name=""/>
            <p:cNvSpPr/>
            <p:nvPr/>
          </p:nvSpPr>
          <p:spPr>
            <a:xfrm>
              <a:off x="6629400" y="4724280"/>
              <a:ext cx="534960" cy="4568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19920" y="464832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410080" y="4724280"/>
              <a:ext cx="534960" cy="4568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162920" y="4724280"/>
              <a:ext cx="137304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2012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07732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62012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07732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038480" y="4724280"/>
              <a:ext cx="137340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9568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5288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49568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95288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379440" y="5257800"/>
            <a:ext cx="8078760" cy="1295280"/>
            <a:chOff x="379440" y="5257800"/>
            <a:chExt cx="8078760" cy="1295280"/>
          </a:xfrm>
        </p:grpSpPr>
        <p:sp>
          <p:nvSpPr>
            <p:cNvPr id="716" name=""/>
            <p:cNvSpPr/>
            <p:nvPr/>
          </p:nvSpPr>
          <p:spPr>
            <a:xfrm>
              <a:off x="379440" y="5943600"/>
              <a:ext cx="2910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19920" y="60195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705720" y="5257800"/>
              <a:ext cx="1752480" cy="685800"/>
            </a:xfrm>
            <a:prstGeom prst="parallelogram">
              <a:avLst>
                <a:gd name="adj" fmla="val 6758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6934320" y="533376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7848720" y="533376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238880" y="533376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572000" y="601956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200400" y="5257800"/>
              <a:ext cx="2133720" cy="685800"/>
            </a:xfrm>
            <a:prstGeom prst="parallelogram">
              <a:avLst>
                <a:gd name="adj" fmla="val 122924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3504960" y="5333760"/>
              <a:ext cx="6858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4343040" y="5333760"/>
              <a:ext cx="6858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962520" y="533376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0292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4864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292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864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572000" y="5257800"/>
              <a:ext cx="2514600" cy="685800"/>
            </a:xfrm>
            <a:custGeom>
              <a:avLst/>
              <a:gdLst/>
              <a:ahLst/>
              <a:rect l="l" t="t" r="r" b="b"/>
              <a:pathLst>
                <a:path w="1584" h="432">
                  <a:moveTo>
                    <a:pt x="528" y="0"/>
                  </a:moveTo>
                  <a:lnTo>
                    <a:pt x="1584" y="0"/>
                  </a:lnTo>
                  <a:lnTo>
                    <a:pt x="1296" y="432"/>
                  </a:lnTo>
                  <a:lnTo>
                    <a:pt x="0" y="432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410080" y="5333760"/>
              <a:ext cx="106704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629400" y="60195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0866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438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0866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438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200400" y="60195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6576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1148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6576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1148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373392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q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q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685800" y="1295280"/>
            <a:ext cx="7772400" cy="4724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1295280"/>
            <a:ext cx="7848720" cy="49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ccepted Language: Three Typ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219320"/>
            <a:ext cx="7772400" cy="3200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ntext-Free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143000"/>
            <a:ext cx="77882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text-free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CFG) is a quadrup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4724280"/>
            <a:ext cx="82296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writ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563868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be replaced wit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alled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-ru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419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Note on R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DA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1219320"/>
            <a:ext cx="37339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120" y="2971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752480" y="3809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62120" y="2057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62120" y="34290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752480" y="41911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52480" y="4952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2120" y="5486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752480" y="45720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495680" y="114300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ab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09480" y="59436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a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752480" y="59436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276720" y="5943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800600" y="5943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019920" y="5943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858000" y="5943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029200" y="2057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5486400" y="1638360"/>
            <a:ext cx="2438280" cy="558720"/>
            <a:chOff x="5486400" y="1638360"/>
            <a:chExt cx="2438280" cy="558720"/>
          </a:xfrm>
        </p:grpSpPr>
        <p:grpSp>
          <p:nvGrpSpPr>
            <p:cNvPr id="787" name=""/>
            <p:cNvGrpSpPr/>
            <p:nvPr/>
          </p:nvGrpSpPr>
          <p:grpSpPr>
            <a:xfrm>
              <a:off x="5486400" y="1676520"/>
              <a:ext cx="380880" cy="520560"/>
              <a:chOff x="5486400" y="1676520"/>
              <a:chExt cx="380880" cy="520560"/>
            </a:xfrm>
          </p:grpSpPr>
          <p:sp>
            <p:nvSpPr>
              <p:cNvPr id="788" name=""/>
              <p:cNvSpPr/>
              <p:nvPr/>
            </p:nvSpPr>
            <p:spPr>
              <a:xfrm>
                <a:off x="54864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4864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5943600" y="1638360"/>
              <a:ext cx="431280" cy="520560"/>
              <a:chOff x="5943600" y="1638360"/>
              <a:chExt cx="431280" cy="520560"/>
            </a:xfrm>
          </p:grpSpPr>
          <p:sp>
            <p:nvSpPr>
              <p:cNvPr id="791" name=""/>
              <p:cNvSpPr/>
              <p:nvPr/>
            </p:nvSpPr>
            <p:spPr>
              <a:xfrm>
                <a:off x="5943600" y="172728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994000" y="163836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7162920" y="1676520"/>
              <a:ext cx="380880" cy="520560"/>
              <a:chOff x="7162920" y="1676520"/>
              <a:chExt cx="380880" cy="520560"/>
            </a:xfrm>
          </p:grpSpPr>
          <p:sp>
            <p:nvSpPr>
              <p:cNvPr id="794" name=""/>
              <p:cNvSpPr/>
              <p:nvPr/>
            </p:nvSpPr>
            <p:spPr>
              <a:xfrm>
                <a:off x="716292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16292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"/>
            <p:cNvGrpSpPr/>
            <p:nvPr/>
          </p:nvGrpSpPr>
          <p:grpSpPr>
            <a:xfrm>
              <a:off x="6781680" y="1676520"/>
              <a:ext cx="381240" cy="520560"/>
              <a:chOff x="6781680" y="1676520"/>
              <a:chExt cx="381240" cy="520560"/>
            </a:xfrm>
          </p:grpSpPr>
          <p:sp>
            <p:nvSpPr>
              <p:cNvPr id="797" name=""/>
              <p:cNvSpPr/>
              <p:nvPr/>
            </p:nvSpPr>
            <p:spPr>
              <a:xfrm>
                <a:off x="6781680" y="1752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781680" y="1676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6400800" y="1676520"/>
              <a:ext cx="380880" cy="520560"/>
              <a:chOff x="6400800" y="1676520"/>
              <a:chExt cx="380880" cy="520560"/>
            </a:xfrm>
          </p:grpSpPr>
          <p:sp>
            <p:nvSpPr>
              <p:cNvPr id="800" name=""/>
              <p:cNvSpPr/>
              <p:nvPr/>
            </p:nvSpPr>
            <p:spPr>
              <a:xfrm>
                <a:off x="64008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4008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7543800" y="1676520"/>
              <a:ext cx="380880" cy="520560"/>
              <a:chOff x="7543800" y="1676520"/>
              <a:chExt cx="380880" cy="520560"/>
            </a:xfrm>
          </p:grpSpPr>
          <p:sp>
            <p:nvSpPr>
              <p:cNvPr id="803" name=""/>
              <p:cNvSpPr/>
              <p:nvPr/>
            </p:nvSpPr>
            <p:spPr>
              <a:xfrm>
                <a:off x="75438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5438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5" name=""/>
          <p:cNvGrpSpPr/>
          <p:nvPr/>
        </p:nvGrpSpPr>
        <p:grpSpPr>
          <a:xfrm>
            <a:off x="5105520" y="2362320"/>
            <a:ext cx="2438280" cy="596520"/>
            <a:chOff x="5105520" y="2362320"/>
            <a:chExt cx="2438280" cy="596520"/>
          </a:xfrm>
        </p:grpSpPr>
        <p:grpSp>
          <p:nvGrpSpPr>
            <p:cNvPr id="806" name=""/>
            <p:cNvGrpSpPr/>
            <p:nvPr/>
          </p:nvGrpSpPr>
          <p:grpSpPr>
            <a:xfrm>
              <a:off x="5943600" y="2362320"/>
              <a:ext cx="431640" cy="520560"/>
              <a:chOff x="5943600" y="2362320"/>
              <a:chExt cx="431640" cy="520560"/>
            </a:xfrm>
          </p:grpSpPr>
          <p:sp>
            <p:nvSpPr>
              <p:cNvPr id="807" name=""/>
              <p:cNvSpPr/>
              <p:nvPr/>
            </p:nvSpPr>
            <p:spPr>
              <a:xfrm>
                <a:off x="5943600" y="24894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994360" y="2362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5486400" y="2438280"/>
              <a:ext cx="380880" cy="520560"/>
              <a:chOff x="5486400" y="2438280"/>
              <a:chExt cx="380880" cy="520560"/>
            </a:xfrm>
          </p:grpSpPr>
          <p:sp>
            <p:nvSpPr>
              <p:cNvPr id="810" name=""/>
              <p:cNvSpPr/>
              <p:nvPr/>
            </p:nvSpPr>
            <p:spPr>
              <a:xfrm>
                <a:off x="548640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48640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5105520" y="2438280"/>
              <a:ext cx="380880" cy="520560"/>
              <a:chOff x="5105520" y="2438280"/>
              <a:chExt cx="380880" cy="520560"/>
            </a:xfrm>
          </p:grpSpPr>
          <p:sp>
            <p:nvSpPr>
              <p:cNvPr id="813" name=""/>
              <p:cNvSpPr/>
              <p:nvPr/>
            </p:nvSpPr>
            <p:spPr>
              <a:xfrm>
                <a:off x="510552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1055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6400800" y="2438280"/>
              <a:ext cx="380880" cy="520560"/>
              <a:chOff x="6400800" y="2438280"/>
              <a:chExt cx="380880" cy="520560"/>
            </a:xfrm>
          </p:grpSpPr>
          <p:sp>
            <p:nvSpPr>
              <p:cNvPr id="816" name=""/>
              <p:cNvSpPr/>
              <p:nvPr/>
            </p:nvSpPr>
            <p:spPr>
              <a:xfrm>
                <a:off x="640080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40080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7162920" y="2438280"/>
              <a:ext cx="380880" cy="520560"/>
              <a:chOff x="7162920" y="2438280"/>
              <a:chExt cx="380880" cy="520560"/>
            </a:xfrm>
          </p:grpSpPr>
          <p:sp>
            <p:nvSpPr>
              <p:cNvPr id="819" name=""/>
              <p:cNvSpPr/>
              <p:nvPr/>
            </p:nvSpPr>
            <p:spPr>
              <a:xfrm>
                <a:off x="716292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1629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6781680" y="2438280"/>
              <a:ext cx="381240" cy="520560"/>
              <a:chOff x="6781680" y="2438280"/>
              <a:chExt cx="381240" cy="520560"/>
            </a:xfrm>
          </p:grpSpPr>
          <p:sp>
            <p:nvSpPr>
              <p:cNvPr id="822" name=""/>
              <p:cNvSpPr/>
              <p:nvPr/>
            </p:nvSpPr>
            <p:spPr>
              <a:xfrm>
                <a:off x="6781680" y="251460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781680" y="2438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4" name=""/>
          <p:cNvGrpSpPr/>
          <p:nvPr/>
        </p:nvGrpSpPr>
        <p:grpSpPr>
          <a:xfrm>
            <a:off x="5105520" y="3886200"/>
            <a:ext cx="1676160" cy="596880"/>
            <a:chOff x="5105520" y="3886200"/>
            <a:chExt cx="1676160" cy="596880"/>
          </a:xfrm>
        </p:grpSpPr>
        <p:grpSp>
          <p:nvGrpSpPr>
            <p:cNvPr id="825" name=""/>
            <p:cNvGrpSpPr/>
            <p:nvPr/>
          </p:nvGrpSpPr>
          <p:grpSpPr>
            <a:xfrm>
              <a:off x="5943600" y="3886200"/>
              <a:ext cx="393840" cy="520560"/>
              <a:chOff x="5943600" y="3886200"/>
              <a:chExt cx="393840" cy="520560"/>
            </a:xfrm>
          </p:grpSpPr>
          <p:sp>
            <p:nvSpPr>
              <p:cNvPr id="826" name=""/>
              <p:cNvSpPr/>
              <p:nvPr/>
            </p:nvSpPr>
            <p:spPr>
              <a:xfrm>
                <a:off x="5943600" y="402552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956200" y="38862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5105520" y="3962520"/>
              <a:ext cx="380880" cy="520560"/>
              <a:chOff x="5105520" y="3962520"/>
              <a:chExt cx="380880" cy="520560"/>
            </a:xfrm>
          </p:grpSpPr>
          <p:sp>
            <p:nvSpPr>
              <p:cNvPr id="829" name=""/>
              <p:cNvSpPr/>
              <p:nvPr/>
            </p:nvSpPr>
            <p:spPr>
              <a:xfrm>
                <a:off x="51055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1055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5486400" y="3962520"/>
              <a:ext cx="380880" cy="520560"/>
              <a:chOff x="5486400" y="3962520"/>
              <a:chExt cx="380880" cy="520560"/>
            </a:xfrm>
          </p:grpSpPr>
          <p:sp>
            <p:nvSpPr>
              <p:cNvPr id="832" name=""/>
              <p:cNvSpPr/>
              <p:nvPr/>
            </p:nvSpPr>
            <p:spPr>
              <a:xfrm>
                <a:off x="54864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4864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6400800" y="3962520"/>
              <a:ext cx="380880" cy="520560"/>
              <a:chOff x="6400800" y="3962520"/>
              <a:chExt cx="380880" cy="520560"/>
            </a:xfrm>
          </p:grpSpPr>
          <p:sp>
            <p:nvSpPr>
              <p:cNvPr id="835" name=""/>
              <p:cNvSpPr/>
              <p:nvPr/>
            </p:nvSpPr>
            <p:spPr>
              <a:xfrm>
                <a:off x="64008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400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7" name=""/>
          <p:cNvGrpSpPr/>
          <p:nvPr/>
        </p:nvGrpSpPr>
        <p:grpSpPr>
          <a:xfrm>
            <a:off x="4724280" y="3124080"/>
            <a:ext cx="2438640" cy="596880"/>
            <a:chOff x="4724280" y="3124080"/>
            <a:chExt cx="2438640" cy="596880"/>
          </a:xfrm>
        </p:grpSpPr>
        <p:grpSp>
          <p:nvGrpSpPr>
            <p:cNvPr id="838" name=""/>
            <p:cNvGrpSpPr/>
            <p:nvPr/>
          </p:nvGrpSpPr>
          <p:grpSpPr>
            <a:xfrm>
              <a:off x="5943600" y="3124080"/>
              <a:ext cx="431640" cy="520560"/>
              <a:chOff x="5943600" y="3124080"/>
              <a:chExt cx="431640" cy="520560"/>
            </a:xfrm>
          </p:grpSpPr>
          <p:sp>
            <p:nvSpPr>
              <p:cNvPr id="839" name=""/>
              <p:cNvSpPr/>
              <p:nvPr/>
            </p:nvSpPr>
            <p:spPr>
              <a:xfrm>
                <a:off x="5943600" y="325116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99436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4724280" y="3200400"/>
              <a:ext cx="381240" cy="520560"/>
              <a:chOff x="4724280" y="3200400"/>
              <a:chExt cx="381240" cy="520560"/>
            </a:xfrm>
          </p:grpSpPr>
          <p:sp>
            <p:nvSpPr>
              <p:cNvPr id="842" name=""/>
              <p:cNvSpPr/>
              <p:nvPr/>
            </p:nvSpPr>
            <p:spPr>
              <a:xfrm>
                <a:off x="4724280" y="327672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724280" y="32004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5105520" y="3200400"/>
              <a:ext cx="380880" cy="520560"/>
              <a:chOff x="5105520" y="3200400"/>
              <a:chExt cx="380880" cy="520560"/>
            </a:xfrm>
          </p:grpSpPr>
          <p:sp>
            <p:nvSpPr>
              <p:cNvPr id="845" name=""/>
              <p:cNvSpPr/>
              <p:nvPr/>
            </p:nvSpPr>
            <p:spPr>
              <a:xfrm>
                <a:off x="510552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10552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5486400" y="3200400"/>
              <a:ext cx="380880" cy="520560"/>
              <a:chOff x="5486400" y="3200400"/>
              <a:chExt cx="380880" cy="520560"/>
            </a:xfrm>
          </p:grpSpPr>
          <p:sp>
            <p:nvSpPr>
              <p:cNvPr id="848" name=""/>
              <p:cNvSpPr/>
              <p:nvPr/>
            </p:nvSpPr>
            <p:spPr>
              <a:xfrm>
                <a:off x="548640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48640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6400800" y="3200400"/>
              <a:ext cx="380880" cy="520560"/>
              <a:chOff x="6400800" y="3200400"/>
              <a:chExt cx="380880" cy="520560"/>
            </a:xfrm>
          </p:grpSpPr>
          <p:sp>
            <p:nvSpPr>
              <p:cNvPr id="851" name=""/>
              <p:cNvSpPr/>
              <p:nvPr/>
            </p:nvSpPr>
            <p:spPr>
              <a:xfrm>
                <a:off x="640080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40080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6781680" y="3200400"/>
              <a:ext cx="381240" cy="520560"/>
              <a:chOff x="6781680" y="3200400"/>
              <a:chExt cx="381240" cy="520560"/>
            </a:xfrm>
          </p:grpSpPr>
          <p:sp>
            <p:nvSpPr>
              <p:cNvPr id="854" name=""/>
              <p:cNvSpPr/>
              <p:nvPr/>
            </p:nvSpPr>
            <p:spPr>
              <a:xfrm>
                <a:off x="6781680" y="327672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781680" y="32004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6" name=""/>
          <p:cNvSpPr/>
          <p:nvPr/>
        </p:nvSpPr>
        <p:spPr>
          <a:xfrm>
            <a:off x="5029200" y="2819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029200" y="3581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029200" y="4343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029200" y="5105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5486400" y="4648320"/>
            <a:ext cx="990720" cy="596520"/>
            <a:chOff x="5486400" y="4648320"/>
            <a:chExt cx="990720" cy="596520"/>
          </a:xfrm>
        </p:grpSpPr>
        <p:grpSp>
          <p:nvGrpSpPr>
            <p:cNvPr id="861" name=""/>
            <p:cNvGrpSpPr/>
            <p:nvPr/>
          </p:nvGrpSpPr>
          <p:grpSpPr>
            <a:xfrm>
              <a:off x="5486400" y="4724280"/>
              <a:ext cx="380880" cy="520560"/>
              <a:chOff x="5486400" y="4724280"/>
              <a:chExt cx="380880" cy="520560"/>
            </a:xfrm>
          </p:grpSpPr>
          <p:sp>
            <p:nvSpPr>
              <p:cNvPr id="862" name=""/>
              <p:cNvSpPr/>
              <p:nvPr/>
            </p:nvSpPr>
            <p:spPr>
              <a:xfrm>
                <a:off x="5486400" y="4800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486400" y="4724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5943600" y="4648320"/>
              <a:ext cx="393840" cy="520560"/>
              <a:chOff x="5943600" y="4648320"/>
              <a:chExt cx="393840" cy="520560"/>
            </a:xfrm>
          </p:grpSpPr>
          <p:sp>
            <p:nvSpPr>
              <p:cNvPr id="865" name=""/>
              <p:cNvSpPr/>
              <p:nvPr/>
            </p:nvSpPr>
            <p:spPr>
              <a:xfrm>
                <a:off x="5943600" y="47876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956200" y="4648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7" name=""/>
            <p:cNvSpPr/>
            <p:nvPr/>
          </p:nvSpPr>
          <p:spPr>
            <a:xfrm>
              <a:off x="6400800" y="480060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5791320" y="5410080"/>
            <a:ext cx="685800" cy="489960"/>
            <a:chOff x="5791320" y="5410080"/>
            <a:chExt cx="685800" cy="489960"/>
          </a:xfrm>
        </p:grpSpPr>
        <p:grpSp>
          <p:nvGrpSpPr>
            <p:cNvPr id="869" name=""/>
            <p:cNvGrpSpPr/>
            <p:nvPr/>
          </p:nvGrpSpPr>
          <p:grpSpPr>
            <a:xfrm>
              <a:off x="5943600" y="5410080"/>
              <a:ext cx="431640" cy="489960"/>
              <a:chOff x="5943600" y="5410080"/>
              <a:chExt cx="431640" cy="489960"/>
            </a:xfrm>
          </p:grpSpPr>
          <p:sp>
            <p:nvSpPr>
              <p:cNvPr id="870" name=""/>
              <p:cNvSpPr/>
              <p:nvPr/>
            </p:nvSpPr>
            <p:spPr>
              <a:xfrm>
                <a:off x="5943600" y="55116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994360" y="5410080"/>
                <a:ext cx="380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5791320" y="5486400"/>
              <a:ext cx="75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00800" y="548640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6477120" y="5562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3429000" y="5105520"/>
            <a:ext cx="2362320" cy="825480"/>
            <a:chOff x="3429000" y="5105520"/>
            <a:chExt cx="2362320" cy="825480"/>
          </a:xfrm>
        </p:grpSpPr>
        <p:sp>
          <p:nvSpPr>
            <p:cNvPr id="876" name=""/>
            <p:cNvSpPr/>
            <p:nvPr/>
          </p:nvSpPr>
          <p:spPr>
            <a:xfrm>
              <a:off x="3429000" y="510552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029200" y="563904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6248520" y="4876920"/>
            <a:ext cx="2438280" cy="761760"/>
            <a:chOff x="6248520" y="4876920"/>
            <a:chExt cx="2438280" cy="761760"/>
          </a:xfrm>
        </p:grpSpPr>
        <p:sp>
          <p:nvSpPr>
            <p:cNvPr id="879" name=""/>
            <p:cNvSpPr/>
            <p:nvPr/>
          </p:nvSpPr>
          <p:spPr>
            <a:xfrm flipH="1">
              <a:off x="6248520" y="563868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2920" y="533376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086600" y="4876920"/>
              <a:ext cx="16002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Final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609480" y="6400800"/>
            <a:ext cx="571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85800" y="6477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ypes of Acceptance: Equival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85800" y="1295280"/>
            <a:ext cx="7772400" cy="1676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85800" y="1219320"/>
            <a:ext cx="777240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09480" y="297180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 these conversio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971800" y="3581280"/>
            <a:ext cx="3352680" cy="133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838080" y="5334120"/>
            <a:ext cx="335304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029200" y="5334120"/>
            <a:ext cx="335268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048120" y="48769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181480" y="4876920"/>
            <a:ext cx="381240" cy="533160"/>
          </a:xfrm>
          <a:prstGeom prst="up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33920" y="48769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867280" y="48769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114800" y="548640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4114800" y="586728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Deterministic PDA (DPDA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85800" y="2057400"/>
            <a:ext cx="7772400" cy="2438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PDA makes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no more th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ove from a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configu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85800" y="1981080"/>
            <a:ext cx="7924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be a 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09480" y="4495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966480" y="4572000"/>
            <a:ext cx="220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4114800" y="4952880"/>
            <a:ext cx="4497480" cy="533520"/>
            <a:chOff x="4114800" y="4952880"/>
            <a:chExt cx="4497480" cy="533520"/>
          </a:xfrm>
        </p:grpSpPr>
        <p:sp>
          <p:nvSpPr>
            <p:cNvPr id="909" name=""/>
            <p:cNvSpPr/>
            <p:nvPr/>
          </p:nvSpPr>
          <p:spPr>
            <a:xfrm>
              <a:off x="6705720" y="50292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09624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486400" y="50292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239240" y="50292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644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15364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69644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15364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114800" y="502920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57200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02920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7200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02920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5715000" y="5460840"/>
            <a:ext cx="2590920" cy="725040"/>
            <a:chOff x="5715000" y="5460840"/>
            <a:chExt cx="2590920" cy="725040"/>
          </a:xfrm>
        </p:grpSpPr>
        <p:sp>
          <p:nvSpPr>
            <p:cNvPr id="923" name=""/>
            <p:cNvSpPr/>
            <p:nvPr/>
          </p:nvSpPr>
          <p:spPr>
            <a:xfrm>
              <a:off x="5791320" y="5537160"/>
              <a:ext cx="2514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Ap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715000" y="5460840"/>
              <a:ext cx="228600" cy="3812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6248160" y="5460840"/>
              <a:ext cx="75960" cy="30492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5638680" y="5460840"/>
            <a:ext cx="2590920" cy="1258560"/>
            <a:chOff x="5638680" y="5460840"/>
            <a:chExt cx="2590920" cy="1258560"/>
          </a:xfrm>
        </p:grpSpPr>
        <p:sp>
          <p:nvSpPr>
            <p:cNvPr id="927" name=""/>
            <p:cNvSpPr/>
            <p:nvPr/>
          </p:nvSpPr>
          <p:spPr>
            <a:xfrm>
              <a:off x="5791320" y="6070680"/>
              <a:ext cx="2438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pa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6324480" y="5460840"/>
              <a:ext cx="8424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638680" y="5460840"/>
              <a:ext cx="33660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6477120" y="5460840"/>
              <a:ext cx="420480" cy="863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609480" y="5638680"/>
            <a:ext cx="5181840" cy="990720"/>
            <a:chOff x="609480" y="5638680"/>
            <a:chExt cx="5181840" cy="990720"/>
          </a:xfrm>
        </p:grpSpPr>
        <p:sp>
          <p:nvSpPr>
            <p:cNvPr id="932" name=""/>
            <p:cNvSpPr/>
            <p:nvPr/>
          </p:nvSpPr>
          <p:spPr>
            <a:xfrm>
              <a:off x="609480" y="5867280"/>
              <a:ext cx="5181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No more that one rule of the forms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486400" y="563868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DAs are Stronger tha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DPD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85800" y="12952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85800" y="1219320"/>
            <a:ext cx="8001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s no DPD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at accep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 = reversa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480" y="27432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22860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3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819520" y="3505320"/>
            <a:ext cx="5410080" cy="2715120"/>
            <a:chOff x="2819520" y="3505320"/>
            <a:chExt cx="5410080" cy="2715120"/>
          </a:xfrm>
        </p:grpSpPr>
        <p:sp>
          <p:nvSpPr>
            <p:cNvPr id="943" name=""/>
            <p:cNvSpPr/>
            <p:nvPr/>
          </p:nvSpPr>
          <p:spPr>
            <a:xfrm>
              <a:off x="2819520" y="3505320"/>
              <a:ext cx="4190760" cy="14475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486400" y="5029200"/>
              <a:ext cx="274320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629400" y="4648320"/>
              <a:ext cx="1522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762120" y="3733920"/>
            <a:ext cx="4495680" cy="2486520"/>
            <a:chOff x="762120" y="3733920"/>
            <a:chExt cx="4495680" cy="2486520"/>
          </a:xfrm>
        </p:grpSpPr>
        <p:sp>
          <p:nvSpPr>
            <p:cNvPr id="947" name=""/>
            <p:cNvSpPr/>
            <p:nvPr/>
          </p:nvSpPr>
          <p:spPr>
            <a:xfrm>
              <a:off x="2971800" y="3733920"/>
              <a:ext cx="2286000" cy="9903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2120" y="5029200"/>
              <a:ext cx="373356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eterministic CFLs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3123720" y="4572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3276720" y="2895480"/>
            <a:ext cx="4190760" cy="3142080"/>
            <a:chOff x="3276720" y="2895480"/>
            <a:chExt cx="4190760" cy="3142080"/>
          </a:xfrm>
        </p:grpSpPr>
        <p:sp>
          <p:nvSpPr>
            <p:cNvPr id="951" name=""/>
            <p:cNvSpPr/>
            <p:nvPr/>
          </p:nvSpPr>
          <p:spPr>
            <a:xfrm>
              <a:off x="4343400" y="5029200"/>
              <a:ext cx="1295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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3276720" y="2895480"/>
              <a:ext cx="4190760" cy="1524240"/>
              <a:chOff x="3276720" y="2895480"/>
              <a:chExt cx="4190760" cy="1524240"/>
            </a:xfrm>
          </p:grpSpPr>
          <p:sp>
            <p:nvSpPr>
              <p:cNvPr id="953" name=""/>
              <p:cNvSpPr/>
              <p:nvPr/>
            </p:nvSpPr>
            <p:spPr>
              <a:xfrm flipH="1" flipV="1">
                <a:off x="5410080" y="3352680"/>
                <a:ext cx="685440" cy="106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276720" y="2895480"/>
                <a:ext cx="4190760" cy="4291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L =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y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: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i="1" lang="en-US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y = reversal</a:t>
                </a:r>
                <a:r>
                  <a:rPr b="0" lang="cs-CZ" sz="2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cs-CZ" sz="2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ed PDA (E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85800" y="1981080"/>
            <a:ext cx="7772400" cy="2362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600200" y="10666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The pushdown top of an EPDA represents a string rather than a single symb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5800" y="1905120"/>
            <a:ext cx="80773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Extended Pushdown automat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EPDA) is a 7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09480" y="43434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09480" y="48006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ushdown of PD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486400" y="48006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ushdown of EPD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819520" y="52578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447920" y="5257800"/>
            <a:ext cx="13730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90512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36232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90512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36232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638680" y="5257800"/>
            <a:ext cx="13734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0958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5530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0958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5530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010280" y="525780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4674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9246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4674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9246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5400000">
            <a:off x="3009600" y="5600880"/>
            <a:ext cx="152280" cy="533160"/>
          </a:xfrm>
          <a:custGeom>
            <a:avLst/>
            <a:gdLst>
              <a:gd name="textAreaLeft" fmla="*/ 0 w 152280"/>
              <a:gd name="textAreaRight" fmla="*/ 55080 w 15228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5400000">
            <a:off x="7619760" y="51814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33520" y="58672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s a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single symbol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he pushdown t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334120" y="58672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PD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 string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he pushdown t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 in E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85800" y="1295280"/>
            <a:ext cx="7772400" cy="213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1219320"/>
            <a:ext cx="7962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an EPD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o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85640" y="434340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v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58280" y="365760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458280" y="4190760"/>
            <a:ext cx="8228520" cy="1295640"/>
            <a:chOff x="458280" y="4190760"/>
            <a:chExt cx="8228520" cy="1295640"/>
          </a:xfrm>
        </p:grpSpPr>
        <p:sp>
          <p:nvSpPr>
            <p:cNvPr id="993" name=""/>
            <p:cNvSpPr/>
            <p:nvPr/>
          </p:nvSpPr>
          <p:spPr>
            <a:xfrm>
              <a:off x="458280" y="4952880"/>
              <a:ext cx="269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24852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934320" y="4191120"/>
              <a:ext cx="1752480" cy="685800"/>
            </a:xfrm>
            <a:prstGeom prst="parallelogram">
              <a:avLst>
                <a:gd name="adj" fmla="val 6758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7162920" y="426708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8077320" y="426708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467480" y="426708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800600" y="495288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2590920" y="4190400"/>
              <a:ext cx="2133360" cy="685800"/>
            </a:xfrm>
            <a:prstGeom prst="parallelogram">
              <a:avLst>
                <a:gd name="adj" fmla="val 122889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971800" y="4267080"/>
              <a:ext cx="6094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733920" y="4267080"/>
              <a:ext cx="6094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429000" y="4191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2578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7150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2578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7150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987720" y="4191120"/>
              <a:ext cx="3327480" cy="685800"/>
            </a:xfrm>
            <a:custGeom>
              <a:avLst/>
              <a:gdLst/>
              <a:ahLst/>
              <a:rect l="l" t="t" r="r" b="b"/>
              <a:pathLst>
                <a:path w="2096" h="432">
                  <a:moveTo>
                    <a:pt x="0" y="0"/>
                  </a:moveTo>
                  <a:lnTo>
                    <a:pt x="2096" y="0"/>
                  </a:lnTo>
                  <a:lnTo>
                    <a:pt x="1808" y="432"/>
                  </a:lnTo>
                  <a:lnTo>
                    <a:pt x="528" y="4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257800" y="4267080"/>
              <a:ext cx="106668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858000" y="495288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3152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7724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3152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7724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429000" y="495288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8862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3434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8862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3434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533520" y="5638680"/>
            <a:ext cx="7924680" cy="940680"/>
            <a:chOff x="533520" y="5638680"/>
            <a:chExt cx="7924680" cy="940680"/>
          </a:xfrm>
        </p:grpSpPr>
        <p:sp>
          <p:nvSpPr>
            <p:cNvPr id="1021" name=""/>
            <p:cNvSpPr/>
            <p:nvPr/>
          </p:nvSpPr>
          <p:spPr>
            <a:xfrm>
              <a:off x="533520" y="5638680"/>
              <a:ext cx="792468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*,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,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, and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are defined analogically to the corresponding definitions for PDA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948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2514600" y="3581280"/>
            <a:ext cx="6249960" cy="533520"/>
            <a:chOff x="2514600" y="3581280"/>
            <a:chExt cx="6249960" cy="533520"/>
          </a:xfrm>
        </p:grpSpPr>
        <p:sp>
          <p:nvSpPr>
            <p:cNvPr id="1024" name=""/>
            <p:cNvSpPr/>
            <p:nvPr/>
          </p:nvSpPr>
          <p:spPr>
            <a:xfrm>
              <a:off x="6858000" y="3657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248520" y="35812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391520" y="3657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84872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830592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84872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30592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514600" y="3657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718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4290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718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4290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886200" y="3657600"/>
              <a:ext cx="2286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2578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7150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2578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7150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3434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8006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3434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8006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PD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85800" y="1219320"/>
            <a:ext cx="3733920" cy="5105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62120" y="29718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762120" y="1752480"/>
            <a:ext cx="6248160" cy="2286000"/>
            <a:chOff x="762120" y="1752480"/>
            <a:chExt cx="6248160" cy="2286000"/>
          </a:xfrm>
        </p:grpSpPr>
        <p:sp>
          <p:nvSpPr>
            <p:cNvPr id="1053" name=""/>
            <p:cNvSpPr/>
            <p:nvPr/>
          </p:nvSpPr>
          <p:spPr>
            <a:xfrm>
              <a:off x="6248520" y="1752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62120" y="205740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324480" y="3352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6" name=""/>
          <p:cNvGrpSpPr/>
          <p:nvPr/>
        </p:nvGrpSpPr>
        <p:grpSpPr>
          <a:xfrm>
            <a:off x="762120" y="3429000"/>
            <a:ext cx="6172200" cy="2882880"/>
            <a:chOff x="762120" y="3429000"/>
            <a:chExt cx="6172200" cy="2882880"/>
          </a:xfrm>
        </p:grpSpPr>
        <p:sp>
          <p:nvSpPr>
            <p:cNvPr id="1057" name=""/>
            <p:cNvSpPr/>
            <p:nvPr/>
          </p:nvSpPr>
          <p:spPr>
            <a:xfrm>
              <a:off x="762120" y="579132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400800" y="342900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1752480" y="1828800"/>
            <a:ext cx="6934320" cy="2882880"/>
            <a:chOff x="1752480" y="1828800"/>
            <a:chExt cx="6934320" cy="2882880"/>
          </a:xfrm>
        </p:grpSpPr>
        <p:sp>
          <p:nvSpPr>
            <p:cNvPr id="1060" name=""/>
            <p:cNvSpPr/>
            <p:nvPr/>
          </p:nvSpPr>
          <p:spPr>
            <a:xfrm>
              <a:off x="1752480" y="419112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1" name=""/>
            <p:cNvGrpSpPr/>
            <p:nvPr/>
          </p:nvGrpSpPr>
          <p:grpSpPr>
            <a:xfrm>
              <a:off x="6904080" y="1828800"/>
              <a:ext cx="1782720" cy="520560"/>
              <a:chOff x="6904080" y="1828800"/>
              <a:chExt cx="1782720" cy="520560"/>
            </a:xfrm>
          </p:grpSpPr>
          <p:sp>
            <p:nvSpPr>
              <p:cNvPr id="1062" name=""/>
              <p:cNvSpPr/>
              <p:nvPr/>
            </p:nvSpPr>
            <p:spPr>
              <a:xfrm>
                <a:off x="7391520" y="182880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5400000">
                <a:off x="6957360" y="1851480"/>
                <a:ext cx="380880" cy="48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4" name=""/>
          <p:cNvGrpSpPr/>
          <p:nvPr/>
        </p:nvGrpSpPr>
        <p:grpSpPr>
          <a:xfrm>
            <a:off x="1752480" y="2438280"/>
            <a:ext cx="6172200" cy="3416400"/>
            <a:chOff x="1752480" y="2438280"/>
            <a:chExt cx="6172200" cy="3416400"/>
          </a:xfrm>
        </p:grpSpPr>
        <p:grpSp>
          <p:nvGrpSpPr>
            <p:cNvPr id="1065" name=""/>
            <p:cNvGrpSpPr/>
            <p:nvPr/>
          </p:nvGrpSpPr>
          <p:grpSpPr>
            <a:xfrm>
              <a:off x="6629400" y="2438280"/>
              <a:ext cx="1295280" cy="977760"/>
              <a:chOff x="6629400" y="2438280"/>
              <a:chExt cx="1295280" cy="977760"/>
            </a:xfrm>
          </p:grpSpPr>
          <p:sp>
            <p:nvSpPr>
              <p:cNvPr id="1066" name=""/>
              <p:cNvSpPr/>
              <p:nvPr/>
            </p:nvSpPr>
            <p:spPr>
              <a:xfrm>
                <a:off x="6629400" y="28954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629400" y="2438280"/>
                <a:ext cx="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8" name=""/>
            <p:cNvSpPr/>
            <p:nvPr/>
          </p:nvSpPr>
          <p:spPr>
            <a:xfrm>
              <a:off x="1752480" y="53341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1752480" y="1219320"/>
            <a:ext cx="6629400" cy="3873240"/>
            <a:chOff x="1752480" y="1219320"/>
            <a:chExt cx="6629400" cy="3873240"/>
          </a:xfrm>
        </p:grpSpPr>
        <p:sp>
          <p:nvSpPr>
            <p:cNvPr id="1070" name=""/>
            <p:cNvSpPr/>
            <p:nvPr/>
          </p:nvSpPr>
          <p:spPr>
            <a:xfrm>
              <a:off x="1752480" y="457200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1" name=""/>
            <p:cNvGrpSpPr/>
            <p:nvPr/>
          </p:nvGrpSpPr>
          <p:grpSpPr>
            <a:xfrm>
              <a:off x="6652440" y="1219320"/>
              <a:ext cx="1729440" cy="745200"/>
              <a:chOff x="6652440" y="1219320"/>
              <a:chExt cx="1729440" cy="745200"/>
            </a:xfrm>
          </p:grpSpPr>
          <p:sp>
            <p:nvSpPr>
              <p:cNvPr id="1072" name=""/>
              <p:cNvSpPr/>
              <p:nvPr/>
            </p:nvSpPr>
            <p:spPr>
              <a:xfrm rot="2874000">
                <a:off x="6769440" y="145800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086600" y="12193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4" name=""/>
          <p:cNvGrpSpPr/>
          <p:nvPr/>
        </p:nvGrpSpPr>
        <p:grpSpPr>
          <a:xfrm>
            <a:off x="762120" y="1219320"/>
            <a:ext cx="5768280" cy="2730240"/>
            <a:chOff x="762120" y="1219320"/>
            <a:chExt cx="5768280" cy="2730240"/>
          </a:xfrm>
        </p:grpSpPr>
        <p:sp>
          <p:nvSpPr>
            <p:cNvPr id="1075" name=""/>
            <p:cNvSpPr/>
            <p:nvPr/>
          </p:nvSpPr>
          <p:spPr>
            <a:xfrm>
              <a:off x="762120" y="342900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   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6" name=""/>
            <p:cNvGrpSpPr/>
            <p:nvPr/>
          </p:nvGrpSpPr>
          <p:grpSpPr>
            <a:xfrm>
              <a:off x="5181480" y="1219320"/>
              <a:ext cx="1348920" cy="745920"/>
              <a:chOff x="5181480" y="1219320"/>
              <a:chExt cx="1348920" cy="745920"/>
            </a:xfrm>
          </p:grpSpPr>
          <p:sp>
            <p:nvSpPr>
              <p:cNvPr id="1077" name=""/>
              <p:cNvSpPr/>
              <p:nvPr/>
            </p:nvSpPr>
            <p:spPr>
              <a:xfrm flipH="1" rot="18726000">
                <a:off x="6086160" y="145872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181480" y="121932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9" name=""/>
          <p:cNvGrpSpPr/>
          <p:nvPr/>
        </p:nvGrpSpPr>
        <p:grpSpPr>
          <a:xfrm>
            <a:off x="1752480" y="2248200"/>
            <a:ext cx="4778640" cy="2082240"/>
            <a:chOff x="1752480" y="2248200"/>
            <a:chExt cx="4778640" cy="2082240"/>
          </a:xfrm>
        </p:grpSpPr>
        <p:sp>
          <p:nvSpPr>
            <p:cNvPr id="1080" name=""/>
            <p:cNvSpPr/>
            <p:nvPr/>
          </p:nvSpPr>
          <p:spPr>
            <a:xfrm>
              <a:off x="1752480" y="3809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5181480" y="2248200"/>
              <a:ext cx="1349640" cy="710640"/>
              <a:chOff x="5181480" y="2248200"/>
              <a:chExt cx="1349640" cy="710640"/>
            </a:xfrm>
          </p:grpSpPr>
          <p:sp>
            <p:nvSpPr>
              <p:cNvPr id="1082" name=""/>
              <p:cNvSpPr/>
              <p:nvPr/>
            </p:nvSpPr>
            <p:spPr>
              <a:xfrm flipH="1" flipV="1" rot="2874000">
                <a:off x="6086520" y="2293200"/>
                <a:ext cx="326520" cy="46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181480" y="243828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4" name=""/>
          <p:cNvGrpSpPr/>
          <p:nvPr/>
        </p:nvGrpSpPr>
        <p:grpSpPr>
          <a:xfrm>
            <a:off x="1752480" y="2248920"/>
            <a:ext cx="6629400" cy="3224520"/>
            <a:chOff x="1752480" y="2248920"/>
            <a:chExt cx="6629400" cy="3224520"/>
          </a:xfrm>
        </p:grpSpPr>
        <p:sp>
          <p:nvSpPr>
            <p:cNvPr id="1085" name=""/>
            <p:cNvSpPr/>
            <p:nvPr/>
          </p:nvSpPr>
          <p:spPr>
            <a:xfrm>
              <a:off x="1752480" y="4952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b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6" name=""/>
            <p:cNvGrpSpPr/>
            <p:nvPr/>
          </p:nvGrpSpPr>
          <p:grpSpPr>
            <a:xfrm>
              <a:off x="6651360" y="2248920"/>
              <a:ext cx="1730520" cy="709920"/>
              <a:chOff x="6651360" y="2248920"/>
              <a:chExt cx="1730520" cy="709920"/>
            </a:xfrm>
          </p:grpSpPr>
          <p:sp>
            <p:nvSpPr>
              <p:cNvPr id="1087" name=""/>
              <p:cNvSpPr/>
              <p:nvPr/>
            </p:nvSpPr>
            <p:spPr>
              <a:xfrm flipV="1" rot="18726000">
                <a:off x="6768720" y="229392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086600" y="24382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b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9" name=""/>
          <p:cNvSpPr/>
          <p:nvPr/>
        </p:nvSpPr>
        <p:spPr>
          <a:xfrm>
            <a:off x="4419720" y="4572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562720" y="45720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010280" y="4572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562720" y="4952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b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238880" y="4952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a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629400" y="5334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562720" y="53341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u="sng">
                <a:solidFill>
                  <a:srgbClr val="339933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419720" y="403848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419720" y="5791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609480" y="6400800"/>
            <a:ext cx="8305920" cy="510120"/>
            <a:chOff x="609480" y="6400800"/>
            <a:chExt cx="8305920" cy="510120"/>
          </a:xfrm>
        </p:grpSpPr>
        <p:sp>
          <p:nvSpPr>
            <p:cNvPr id="1099" name=""/>
            <p:cNvSpPr/>
            <p:nvPr/>
          </p:nvSpPr>
          <p:spPr>
            <a:xfrm>
              <a:off x="609480" y="6400800"/>
              <a:ext cx="830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ote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reversal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85800" y="6400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3429000" y="1600200"/>
            <a:ext cx="2819160" cy="457200"/>
            <a:chOff x="3429000" y="1600200"/>
            <a:chExt cx="2819160" cy="457200"/>
          </a:xfrm>
        </p:grpSpPr>
        <p:sp>
          <p:nvSpPr>
            <p:cNvPr id="1102" name=""/>
            <p:cNvSpPr/>
            <p:nvPr/>
          </p:nvSpPr>
          <p:spPr>
            <a:xfrm>
              <a:off x="5684400" y="2057400"/>
              <a:ext cx="563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429000" y="1600200"/>
              <a:ext cx="20674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ypes of Acceptance: Equival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85800" y="129528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85800" y="1219320"/>
            <a:ext cx="7772400" cy="17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9480" y="297180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 these convers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895480" y="3581280"/>
            <a:ext cx="3505320" cy="133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838080" y="5334120"/>
            <a:ext cx="335304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029200" y="5334120"/>
            <a:ext cx="335268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048120" y="48769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181480" y="4876920"/>
            <a:ext cx="381240" cy="533160"/>
          </a:xfrm>
          <a:prstGeom prst="up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733920" y="48769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867280" y="48769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114800" y="548640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4114800" y="586728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DAs and PDAs are Equival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85800" y="1295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09480" y="1219320"/>
            <a:ext cx="8001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PD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 PD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09480" y="27432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038480" y="480060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1143000" y="2971800"/>
            <a:ext cx="5410080" cy="2943720"/>
            <a:chOff x="1143000" y="2971800"/>
            <a:chExt cx="5410080" cy="2943720"/>
          </a:xfrm>
        </p:grpSpPr>
        <p:sp>
          <p:nvSpPr>
            <p:cNvPr id="1127" name=""/>
            <p:cNvSpPr/>
            <p:nvPr/>
          </p:nvSpPr>
          <p:spPr>
            <a:xfrm>
              <a:off x="2362320" y="2971800"/>
              <a:ext cx="4190760" cy="160020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143000" y="4724280"/>
              <a:ext cx="304812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2286000" y="4191120"/>
              <a:ext cx="3808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5105520" y="4191120"/>
            <a:ext cx="3047760" cy="1724400"/>
            <a:chOff x="5105520" y="4191120"/>
            <a:chExt cx="3047760" cy="1724400"/>
          </a:xfrm>
        </p:grpSpPr>
        <p:sp>
          <p:nvSpPr>
            <p:cNvPr id="1131" name=""/>
            <p:cNvSpPr/>
            <p:nvPr/>
          </p:nvSpPr>
          <p:spPr>
            <a:xfrm>
              <a:off x="5105520" y="4724280"/>
              <a:ext cx="304776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248520" y="4191120"/>
              <a:ext cx="3045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609480" y="2286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19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2209680" y="3048120"/>
            <a:ext cx="38124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as Parsing Models fo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600200" y="114300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 EPDA or a PDA can simulate the construction of a derivation tree for a CF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09480" y="198108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wo basic 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590920" y="3429000"/>
            <a:ext cx="1143000" cy="16002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066680" y="3429000"/>
            <a:ext cx="2133720" cy="1616040"/>
          </a:xfrm>
          <a:custGeom>
            <a:avLst/>
            <a:gdLst/>
            <a:ahLst/>
            <a:rect l="l" t="t" r="r" b="b"/>
            <a:pathLst>
              <a:path w="1344" h="1018">
                <a:moveTo>
                  <a:pt x="688" y="808"/>
                </a:moveTo>
                <a:cubicBezTo>
                  <a:pt x="584" y="896"/>
                  <a:pt x="468" y="781"/>
                  <a:pt x="400" y="832"/>
                </a:cubicBezTo>
                <a:lnTo>
                  <a:pt x="304" y="1016"/>
                </a:lnTo>
                <a:lnTo>
                  <a:pt x="8" y="1018"/>
                </a:lnTo>
                <a:lnTo>
                  <a:pt x="0" y="1010"/>
                </a:lnTo>
                <a:lnTo>
                  <a:pt x="728" y="0"/>
                </a:lnTo>
                <a:lnTo>
                  <a:pt x="960" y="0"/>
                </a:lnTo>
                <a:lnTo>
                  <a:pt x="1344" y="552"/>
                </a:lnTo>
                <a:cubicBezTo>
                  <a:pt x="1291" y="630"/>
                  <a:pt x="1164" y="525"/>
                  <a:pt x="1112" y="544"/>
                </a:cubicBezTo>
                <a:cubicBezTo>
                  <a:pt x="1060" y="563"/>
                  <a:pt x="1079" y="651"/>
                  <a:pt x="1032" y="664"/>
                </a:cubicBezTo>
                <a:cubicBezTo>
                  <a:pt x="985" y="677"/>
                  <a:pt x="889" y="600"/>
                  <a:pt x="832" y="624"/>
                </a:cubicBezTo>
                <a:cubicBezTo>
                  <a:pt x="775" y="648"/>
                  <a:pt x="792" y="720"/>
                  <a:pt x="688" y="80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3352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Top-Down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0060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Bottom-Up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648320" y="2590920"/>
            <a:ext cx="0" cy="4038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990720" y="5562720"/>
            <a:ext cx="304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wards the inpu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410080" y="556272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om the input string toward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133720" y="29718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2133720" y="3733920"/>
            <a:ext cx="60948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066680" y="5029200"/>
            <a:ext cx="266724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05720" y="3124080"/>
            <a:ext cx="380880" cy="38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086600" y="3505320"/>
            <a:ext cx="633240" cy="88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562720" y="4114800"/>
            <a:ext cx="2666880" cy="1008000"/>
          </a:xfrm>
          <a:custGeom>
            <a:avLst/>
            <a:gdLst/>
            <a:ahLst/>
            <a:rect l="l" t="t" r="r" b="b"/>
            <a:pathLst>
              <a:path w="6403" h="2378">
                <a:moveTo>
                  <a:pt x="1376" y="552"/>
                </a:moveTo>
                <a:lnTo>
                  <a:pt x="1472" y="744"/>
                </a:lnTo>
                <a:cubicBezTo>
                  <a:pt x="1795" y="974"/>
                  <a:pt x="2253" y="758"/>
                  <a:pt x="2401" y="424"/>
                </a:cubicBezTo>
                <a:cubicBezTo>
                  <a:pt x="2590" y="0"/>
                  <a:pt x="3255" y="106"/>
                  <a:pt x="3361" y="488"/>
                </a:cubicBezTo>
                <a:cubicBezTo>
                  <a:pt x="3473" y="892"/>
                  <a:pt x="4136" y="1068"/>
                  <a:pt x="4225" y="584"/>
                </a:cubicBezTo>
                <a:cubicBezTo>
                  <a:pt x="4323" y="48"/>
                  <a:pt x="4873" y="281"/>
                  <a:pt x="5089" y="488"/>
                </a:cubicBezTo>
                <a:lnTo>
                  <a:pt x="6402" y="2377"/>
                </a:lnTo>
                <a:lnTo>
                  <a:pt x="5121" y="488"/>
                </a:lnTo>
                <a:lnTo>
                  <a:pt x="6338" y="2345"/>
                </a:lnTo>
                <a:lnTo>
                  <a:pt x="32" y="2345"/>
                </a:lnTo>
                <a:lnTo>
                  <a:pt x="1376" y="520"/>
                </a:lnTo>
                <a:lnTo>
                  <a:pt x="0" y="2313"/>
                </a:lnTo>
                <a:lnTo>
                  <a:pt x="1376" y="552"/>
                </a:lnTo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629400" y="3048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6095880" y="3505320"/>
            <a:ext cx="633600" cy="88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629400" y="4572000"/>
            <a:ext cx="60948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2720" y="5105520"/>
            <a:ext cx="2666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14300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tart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nontermi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mbers of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mbers of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66ff"/>
                </a:solidFill>
                <a:latin typeface="Symbol"/>
                <a:ea typeface="Symbol"/>
              </a:rPr>
              <a:t>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quence of prod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4648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4572000"/>
            <a:ext cx="777240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subset of rules of the fo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an be simply written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EPDAs as Models of Bottom-Up Parsers 1/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33520" y="1066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PD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underlie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bottom-u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96880" y="1549440"/>
            <a:ext cx="80136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hif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rules that copy the inpu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to the pushdow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1219320" y="2286000"/>
            <a:ext cx="3963960" cy="533160"/>
            <a:chOff x="1219320" y="2286000"/>
            <a:chExt cx="3963960" cy="533160"/>
          </a:xfrm>
        </p:grpSpPr>
        <p:sp>
          <p:nvSpPr>
            <p:cNvPr id="1164" name=""/>
            <p:cNvSpPr/>
            <p:nvPr/>
          </p:nvSpPr>
          <p:spPr>
            <a:xfrm>
              <a:off x="3276720" y="236196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666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809880" y="236196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26708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72428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26708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72428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219320" y="23619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67652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13372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67652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13372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6" name=""/>
          <p:cNvSpPr/>
          <p:nvPr/>
        </p:nvSpPr>
        <p:spPr>
          <a:xfrm>
            <a:off x="5334120" y="243828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267080" y="48006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685800" y="2895480"/>
            <a:ext cx="3963960" cy="838080"/>
            <a:chOff x="685800" y="2895480"/>
            <a:chExt cx="3963960" cy="838080"/>
          </a:xfrm>
        </p:grpSpPr>
        <p:sp>
          <p:nvSpPr>
            <p:cNvPr id="1179" name=""/>
            <p:cNvSpPr/>
            <p:nvPr/>
          </p:nvSpPr>
          <p:spPr>
            <a:xfrm>
              <a:off x="2057400" y="327636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666880" y="32004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276720" y="32763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73392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9112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73392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9112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85800" y="32763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14300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60020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14300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60020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133720" y="2895480"/>
              <a:ext cx="1676160" cy="304920"/>
            </a:xfrm>
            <a:prstGeom prst="parallelogram">
              <a:avLst>
                <a:gd name="adj" fmla="val 174913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666880" y="289548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609480" y="3809880"/>
            <a:ext cx="7848720" cy="2209680"/>
            <a:chOff x="609480" y="3809880"/>
            <a:chExt cx="7848720" cy="2209680"/>
          </a:xfrm>
        </p:grpSpPr>
        <p:sp>
          <p:nvSpPr>
            <p:cNvPr id="1194" name=""/>
            <p:cNvSpPr/>
            <p:nvPr/>
          </p:nvSpPr>
          <p:spPr>
            <a:xfrm>
              <a:off x="609480" y="3809880"/>
              <a:ext cx="77724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reductio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rules that simulate th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application of a grammatical rule in revers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85800" y="38098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6" name=""/>
            <p:cNvGrpSpPr/>
            <p:nvPr/>
          </p:nvGrpSpPr>
          <p:grpSpPr>
            <a:xfrm>
              <a:off x="609480" y="5486040"/>
              <a:ext cx="3430800" cy="533520"/>
              <a:chOff x="609480" y="5486040"/>
              <a:chExt cx="3430800" cy="533520"/>
            </a:xfrm>
          </p:grpSpPr>
          <p:sp>
            <p:nvSpPr>
              <p:cNvPr id="1197" name=""/>
              <p:cNvSpPr/>
              <p:nvPr/>
            </p:nvSpPr>
            <p:spPr>
              <a:xfrm>
                <a:off x="2057400" y="548604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2666880" y="5562360"/>
                <a:ext cx="13734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31240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5812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31240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5812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09480" y="5562360"/>
                <a:ext cx="13734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0666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5238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0666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5238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8" name=""/>
          <p:cNvGrpSpPr/>
          <p:nvPr/>
        </p:nvGrpSpPr>
        <p:grpSpPr>
          <a:xfrm>
            <a:off x="609480" y="4572000"/>
            <a:ext cx="3430800" cy="914400"/>
            <a:chOff x="609480" y="4572000"/>
            <a:chExt cx="3430800" cy="914400"/>
          </a:xfrm>
        </p:grpSpPr>
        <p:sp>
          <p:nvSpPr>
            <p:cNvPr id="1209" name=""/>
            <p:cNvSpPr/>
            <p:nvPr/>
          </p:nvSpPr>
          <p:spPr>
            <a:xfrm>
              <a:off x="1447920" y="464832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09480" y="5181840"/>
              <a:ext cx="1981440" cy="304560"/>
            </a:xfrm>
            <a:custGeom>
              <a:avLst/>
              <a:gdLst/>
              <a:ahLst/>
              <a:rect l="l" t="t" r="r" b="b"/>
              <a:pathLst>
                <a:path w="1304" h="192">
                  <a:moveTo>
                    <a:pt x="0" y="192"/>
                  </a:moveTo>
                  <a:lnTo>
                    <a:pt x="1304" y="192"/>
                  </a:lnTo>
                  <a:lnTo>
                    <a:pt x="1304" y="0"/>
                  </a:lnTo>
                  <a:lnTo>
                    <a:pt x="528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057400" y="4572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666880" y="46483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1240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5812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1240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5812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1600200" y="5181840"/>
              <a:ext cx="53352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609480" y="6051600"/>
            <a:ext cx="8229600" cy="806760"/>
            <a:chOff x="609480" y="6051600"/>
            <a:chExt cx="8229600" cy="806760"/>
          </a:xfrm>
        </p:grpSpPr>
        <p:sp>
          <p:nvSpPr>
            <p:cNvPr id="1219" name=""/>
            <p:cNvSpPr/>
            <p:nvPr/>
          </p:nvSpPr>
          <p:spPr>
            <a:xfrm>
              <a:off x="609480" y="6051600"/>
              <a:ext cx="82296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also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he rule </a:t>
              </a:r>
              <a:r>
                <a:rPr b="1" lang="en-US" sz="2600" spc="-1" strike="noStrike">
                  <a:solidFill>
                    <a:srgbClr val="339933"/>
                  </a:solidFill>
                  <a:latin typeface="Times New Roman"/>
                </a:rPr>
                <a:t>#</a:t>
              </a:r>
              <a:r>
                <a:rPr b="1" i="1" lang="en-US" sz="26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hat takes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o 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final state 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09480" y="6095880"/>
              <a:ext cx="784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5943600" y="2590920"/>
            <a:ext cx="2666880" cy="2666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095880" y="2590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4" name=""/>
          <p:cNvGrpSpPr/>
          <p:nvPr/>
        </p:nvGrpSpPr>
        <p:grpSpPr>
          <a:xfrm>
            <a:off x="6019920" y="3048120"/>
            <a:ext cx="2070000" cy="1689120"/>
            <a:chOff x="6019920" y="3048120"/>
            <a:chExt cx="2070000" cy="1689120"/>
          </a:xfrm>
        </p:grpSpPr>
        <p:sp>
          <p:nvSpPr>
            <p:cNvPr id="1225" name=""/>
            <p:cNvSpPr/>
            <p:nvPr/>
          </p:nvSpPr>
          <p:spPr>
            <a:xfrm>
              <a:off x="6019920" y="3429000"/>
              <a:ext cx="2070000" cy="1308240"/>
            </a:xfrm>
            <a:custGeom>
              <a:avLst/>
              <a:gdLst/>
              <a:ahLst/>
              <a:rect l="l" t="t" r="r" b="b"/>
              <a:pathLst>
                <a:path w="1304" h="824">
                  <a:moveTo>
                    <a:pt x="0" y="824"/>
                  </a:moveTo>
                  <a:lnTo>
                    <a:pt x="1304" y="824"/>
                  </a:lnTo>
                  <a:lnTo>
                    <a:pt x="1304" y="200"/>
                  </a:lnTo>
                  <a:lnTo>
                    <a:pt x="928" y="0"/>
                  </a:lnTo>
                  <a:lnTo>
                    <a:pt x="680" y="0"/>
                  </a:lnTo>
                  <a:lnTo>
                    <a:pt x="0" y="8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086600" y="3048120"/>
              <a:ext cx="38088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228600" y="2057400"/>
            <a:ext cx="457200" cy="4038480"/>
          </a:xfrm>
          <a:prstGeom prst="upArrow">
            <a:avLst>
              <a:gd name="adj1" fmla="val 41667"/>
              <a:gd name="adj2" fmla="val 81501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EPDAs as Models of Bottom-Up Parsers 2/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4788000" y="1562040"/>
            <a:ext cx="3504960" cy="1143000"/>
            <a:chOff x="4788000" y="1562040"/>
            <a:chExt cx="3504960" cy="1143000"/>
          </a:xfrm>
        </p:grpSpPr>
        <p:sp>
          <p:nvSpPr>
            <p:cNvPr id="1230" name=""/>
            <p:cNvSpPr/>
            <p:nvPr/>
          </p:nvSpPr>
          <p:spPr>
            <a:xfrm>
              <a:off x="4940280" y="187956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#</a:t>
              </a: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788000" y="1562040"/>
              <a:ext cx="152280" cy="11430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2" name=""/>
          <p:cNvSpPr/>
          <p:nvPr/>
        </p:nvSpPr>
        <p:spPr>
          <a:xfrm>
            <a:off x="6019920" y="4724280"/>
            <a:ext cx="8380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858000" y="4724280"/>
            <a:ext cx="838080" cy="3661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696080" y="4724280"/>
            <a:ext cx="838440" cy="366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28600" y="60958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tart pushdown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6858000" y="3733920"/>
            <a:ext cx="851040" cy="990360"/>
            <a:chOff x="6858000" y="3733920"/>
            <a:chExt cx="851040" cy="990360"/>
          </a:xfrm>
        </p:grpSpPr>
        <p:sp>
          <p:nvSpPr>
            <p:cNvPr id="1237" name=""/>
            <p:cNvSpPr/>
            <p:nvPr/>
          </p:nvSpPr>
          <p:spPr>
            <a:xfrm>
              <a:off x="7315200" y="3733920"/>
              <a:ext cx="380880" cy="366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858000" y="414036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7696080" y="3733920"/>
            <a:ext cx="851040" cy="990360"/>
            <a:chOff x="7696080" y="3733920"/>
            <a:chExt cx="851040" cy="990360"/>
          </a:xfrm>
        </p:grpSpPr>
        <p:sp>
          <p:nvSpPr>
            <p:cNvPr id="1240" name=""/>
            <p:cNvSpPr/>
            <p:nvPr/>
          </p:nvSpPr>
          <p:spPr>
            <a:xfrm>
              <a:off x="7696080" y="3733920"/>
              <a:ext cx="381240" cy="3661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7696080" y="414036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3733920" y="6338880"/>
            <a:ext cx="4343400" cy="520560"/>
            <a:chOff x="3733920" y="6338880"/>
            <a:chExt cx="4343400" cy="520560"/>
          </a:xfrm>
        </p:grpSpPr>
        <p:grpSp>
          <p:nvGrpSpPr>
            <p:cNvPr id="1243" name=""/>
            <p:cNvGrpSpPr/>
            <p:nvPr/>
          </p:nvGrpSpPr>
          <p:grpSpPr>
            <a:xfrm>
              <a:off x="3733920" y="6338880"/>
              <a:ext cx="380880" cy="520560"/>
              <a:chOff x="3733920" y="6338880"/>
              <a:chExt cx="380880" cy="520560"/>
            </a:xfrm>
          </p:grpSpPr>
          <p:sp>
            <p:nvSpPr>
              <p:cNvPr id="1244" name=""/>
              <p:cNvSpPr/>
              <p:nvPr/>
            </p:nvSpPr>
            <p:spPr>
              <a:xfrm>
                <a:off x="3733920" y="64152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733920" y="6338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4191120" y="6338880"/>
              <a:ext cx="431280" cy="520560"/>
              <a:chOff x="4191120" y="6338880"/>
              <a:chExt cx="431280" cy="520560"/>
            </a:xfrm>
          </p:grpSpPr>
          <p:sp>
            <p:nvSpPr>
              <p:cNvPr id="1247" name=""/>
              <p:cNvSpPr/>
              <p:nvPr/>
            </p:nvSpPr>
            <p:spPr>
              <a:xfrm>
                <a:off x="4191120" y="64278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241520" y="6338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4648320" y="6338880"/>
              <a:ext cx="1142280" cy="520560"/>
              <a:chOff x="4648320" y="6338880"/>
              <a:chExt cx="1142280" cy="520560"/>
            </a:xfrm>
          </p:grpSpPr>
          <p:grpSp>
            <p:nvGrpSpPr>
              <p:cNvPr id="1250" name=""/>
              <p:cNvGrpSpPr/>
              <p:nvPr/>
            </p:nvGrpSpPr>
            <p:grpSpPr>
              <a:xfrm>
                <a:off x="4648320" y="6338880"/>
                <a:ext cx="1142280" cy="520560"/>
                <a:chOff x="4648320" y="6338880"/>
                <a:chExt cx="1142280" cy="52056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4648320" y="6415200"/>
                  <a:ext cx="11422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4648320" y="6338880"/>
                  <a:ext cx="1142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x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3" name=""/>
              <p:cNvSpPr/>
              <p:nvPr/>
            </p:nvSpPr>
            <p:spPr>
              <a:xfrm>
                <a:off x="5410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410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029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029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5791320" y="6338880"/>
              <a:ext cx="1143000" cy="520560"/>
              <a:chOff x="5791320" y="6338880"/>
              <a:chExt cx="1143000" cy="520560"/>
            </a:xfrm>
          </p:grpSpPr>
          <p:sp>
            <p:nvSpPr>
              <p:cNvPr id="1258" name=""/>
              <p:cNvSpPr/>
              <p:nvPr/>
            </p:nvSpPr>
            <p:spPr>
              <a:xfrm>
                <a:off x="5791320" y="6414840"/>
                <a:ext cx="1143000" cy="3812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791320" y="63388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553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553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172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172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6934320" y="6338880"/>
              <a:ext cx="1143000" cy="520560"/>
              <a:chOff x="6934320" y="6338880"/>
              <a:chExt cx="1143000" cy="520560"/>
            </a:xfrm>
          </p:grpSpPr>
          <p:sp>
            <p:nvSpPr>
              <p:cNvPr id="1265" name=""/>
              <p:cNvSpPr/>
              <p:nvPr/>
            </p:nvSpPr>
            <p:spPr>
              <a:xfrm>
                <a:off x="6934320" y="6414840"/>
                <a:ext cx="1143000" cy="38124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934320" y="63388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696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696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315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315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1" name=""/>
          <p:cNvGrpSpPr/>
          <p:nvPr/>
        </p:nvGrpSpPr>
        <p:grpSpPr>
          <a:xfrm>
            <a:off x="2590920" y="5638680"/>
            <a:ext cx="4343400" cy="761760"/>
            <a:chOff x="2590920" y="5638680"/>
            <a:chExt cx="4343400" cy="761760"/>
          </a:xfrm>
        </p:grpSpPr>
        <p:sp>
          <p:nvSpPr>
            <p:cNvPr id="1272" name=""/>
            <p:cNvSpPr/>
            <p:nvPr/>
          </p:nvSpPr>
          <p:spPr>
            <a:xfrm flipV="1">
              <a:off x="4114800" y="60951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3" name=""/>
            <p:cNvGrpSpPr/>
            <p:nvPr/>
          </p:nvGrpSpPr>
          <p:grpSpPr>
            <a:xfrm>
              <a:off x="2590920" y="5638680"/>
              <a:ext cx="4343400" cy="520560"/>
              <a:chOff x="2590920" y="5638680"/>
              <a:chExt cx="4343400" cy="520560"/>
            </a:xfrm>
          </p:grpSpPr>
          <p:grpSp>
            <p:nvGrpSpPr>
              <p:cNvPr id="1274" name=""/>
              <p:cNvGrpSpPr/>
              <p:nvPr/>
            </p:nvGrpSpPr>
            <p:grpSpPr>
              <a:xfrm>
                <a:off x="2590920" y="5638680"/>
                <a:ext cx="380880" cy="520560"/>
                <a:chOff x="2590920" y="5638680"/>
                <a:chExt cx="380880" cy="520560"/>
              </a:xfrm>
            </p:grpSpPr>
            <p:sp>
              <p:nvSpPr>
                <p:cNvPr id="1275" name=""/>
                <p:cNvSpPr/>
                <p:nvPr/>
              </p:nvSpPr>
              <p:spPr>
                <a:xfrm>
                  <a:off x="2590920" y="57150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590920" y="5638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4191120" y="5638680"/>
                <a:ext cx="431280" cy="520560"/>
                <a:chOff x="4191120" y="5638680"/>
                <a:chExt cx="431280" cy="52056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4191120" y="57276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4241520" y="5638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0" name=""/>
              <p:cNvGrpSpPr/>
              <p:nvPr/>
            </p:nvGrpSpPr>
            <p:grpSpPr>
              <a:xfrm>
                <a:off x="2971800" y="5638680"/>
                <a:ext cx="1142280" cy="520560"/>
                <a:chOff x="2971800" y="5638680"/>
                <a:chExt cx="1142280" cy="520560"/>
              </a:xfrm>
            </p:grpSpPr>
            <p:grpSp>
              <p:nvGrpSpPr>
                <p:cNvPr id="1281" name=""/>
                <p:cNvGrpSpPr/>
                <p:nvPr/>
              </p:nvGrpSpPr>
              <p:grpSpPr>
                <a:xfrm>
                  <a:off x="2971800" y="5638680"/>
                  <a:ext cx="1142280" cy="520560"/>
                  <a:chOff x="2971800" y="5638680"/>
                  <a:chExt cx="1142280" cy="520560"/>
                </a:xfrm>
              </p:grpSpPr>
              <p:sp>
                <p:nvSpPr>
                  <p:cNvPr id="1282" name=""/>
                  <p:cNvSpPr/>
                  <p:nvPr/>
                </p:nvSpPr>
                <p:spPr>
                  <a:xfrm>
                    <a:off x="2971800" y="57150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2971800" y="56386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4" name=""/>
                <p:cNvSpPr/>
                <p:nvPr/>
              </p:nvSpPr>
              <p:spPr>
                <a:xfrm>
                  <a:off x="373392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373392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33530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33530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8" name=""/>
              <p:cNvGrpSpPr/>
              <p:nvPr/>
            </p:nvGrpSpPr>
            <p:grpSpPr>
              <a:xfrm>
                <a:off x="4648320" y="5638680"/>
                <a:ext cx="1143000" cy="520560"/>
                <a:chOff x="4648320" y="5638680"/>
                <a:chExt cx="1143000" cy="520560"/>
              </a:xfrm>
            </p:grpSpPr>
            <p:sp>
              <p:nvSpPr>
                <p:cNvPr id="1289" name=""/>
                <p:cNvSpPr/>
                <p:nvPr/>
              </p:nvSpPr>
              <p:spPr>
                <a:xfrm>
                  <a:off x="4648320" y="5714640"/>
                  <a:ext cx="1143000" cy="38124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4648320" y="56386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54104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54104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502956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502956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5" name=""/>
              <p:cNvGrpSpPr/>
              <p:nvPr/>
            </p:nvGrpSpPr>
            <p:grpSpPr>
              <a:xfrm>
                <a:off x="5791320" y="5638680"/>
                <a:ext cx="1143000" cy="520560"/>
                <a:chOff x="5791320" y="5638680"/>
                <a:chExt cx="1143000" cy="520560"/>
              </a:xfrm>
            </p:grpSpPr>
            <p:sp>
              <p:nvSpPr>
                <p:cNvPr id="1296" name=""/>
                <p:cNvSpPr/>
                <p:nvPr/>
              </p:nvSpPr>
              <p:spPr>
                <a:xfrm>
                  <a:off x="5791320" y="57146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5791320" y="56386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65534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65534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617256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617256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02" name=""/>
          <p:cNvGrpSpPr/>
          <p:nvPr/>
        </p:nvGrpSpPr>
        <p:grpSpPr>
          <a:xfrm>
            <a:off x="1447920" y="4952880"/>
            <a:ext cx="4343400" cy="761760"/>
            <a:chOff x="1447920" y="4952880"/>
            <a:chExt cx="4343400" cy="761760"/>
          </a:xfrm>
        </p:grpSpPr>
        <p:sp>
          <p:nvSpPr>
            <p:cNvPr id="1303" name=""/>
            <p:cNvSpPr/>
            <p:nvPr/>
          </p:nvSpPr>
          <p:spPr>
            <a:xfrm flipV="1">
              <a:off x="4114800" y="54093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4" name=""/>
            <p:cNvGrpSpPr/>
            <p:nvPr/>
          </p:nvGrpSpPr>
          <p:grpSpPr>
            <a:xfrm>
              <a:off x="1447920" y="4952880"/>
              <a:ext cx="4343400" cy="520560"/>
              <a:chOff x="1447920" y="4952880"/>
              <a:chExt cx="4343400" cy="520560"/>
            </a:xfrm>
          </p:grpSpPr>
          <p:grpSp>
            <p:nvGrpSpPr>
              <p:cNvPr id="1305" name=""/>
              <p:cNvGrpSpPr/>
              <p:nvPr/>
            </p:nvGrpSpPr>
            <p:grpSpPr>
              <a:xfrm>
                <a:off x="1447920" y="4952880"/>
                <a:ext cx="380880" cy="520560"/>
                <a:chOff x="1447920" y="4952880"/>
                <a:chExt cx="380880" cy="520560"/>
              </a:xfrm>
            </p:grpSpPr>
            <p:sp>
              <p:nvSpPr>
                <p:cNvPr id="1306" name=""/>
                <p:cNvSpPr/>
                <p:nvPr/>
              </p:nvSpPr>
              <p:spPr>
                <a:xfrm>
                  <a:off x="1447920" y="50292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1447920" y="49528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8" name=""/>
              <p:cNvGrpSpPr/>
              <p:nvPr/>
            </p:nvGrpSpPr>
            <p:grpSpPr>
              <a:xfrm>
                <a:off x="4191120" y="4952880"/>
                <a:ext cx="431280" cy="520560"/>
                <a:chOff x="4191120" y="4952880"/>
                <a:chExt cx="431280" cy="52056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4191120" y="50418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4241520" y="49528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1" name=""/>
              <p:cNvGrpSpPr/>
              <p:nvPr/>
            </p:nvGrpSpPr>
            <p:grpSpPr>
              <a:xfrm>
                <a:off x="1828800" y="4952880"/>
                <a:ext cx="1142280" cy="520560"/>
                <a:chOff x="1828800" y="4952880"/>
                <a:chExt cx="1142280" cy="520560"/>
              </a:xfrm>
            </p:grpSpPr>
            <p:grpSp>
              <p:nvGrpSpPr>
                <p:cNvPr id="1312" name=""/>
                <p:cNvGrpSpPr/>
                <p:nvPr/>
              </p:nvGrpSpPr>
              <p:grpSpPr>
                <a:xfrm>
                  <a:off x="1828800" y="4952880"/>
                  <a:ext cx="1142280" cy="520560"/>
                  <a:chOff x="1828800" y="4952880"/>
                  <a:chExt cx="1142280" cy="520560"/>
                </a:xfrm>
              </p:grpSpPr>
              <p:sp>
                <p:nvSpPr>
                  <p:cNvPr id="1313" name=""/>
                  <p:cNvSpPr/>
                  <p:nvPr/>
                </p:nvSpPr>
                <p:spPr>
                  <a:xfrm>
                    <a:off x="1828800" y="50292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1828800" y="49528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5" name=""/>
                <p:cNvSpPr/>
                <p:nvPr/>
              </p:nvSpPr>
              <p:spPr>
                <a:xfrm>
                  <a:off x="259092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259092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22100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2100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9" name=""/>
              <p:cNvGrpSpPr/>
              <p:nvPr/>
            </p:nvGrpSpPr>
            <p:grpSpPr>
              <a:xfrm>
                <a:off x="2971800" y="4952880"/>
                <a:ext cx="1143000" cy="520560"/>
                <a:chOff x="2971800" y="4952880"/>
                <a:chExt cx="1143000" cy="52056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2971800" y="5028840"/>
                  <a:ext cx="1143000" cy="38124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2971800" y="49528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373392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373392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33530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33530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6" name=""/>
              <p:cNvGrpSpPr/>
              <p:nvPr/>
            </p:nvGrpSpPr>
            <p:grpSpPr>
              <a:xfrm>
                <a:off x="4648320" y="4952880"/>
                <a:ext cx="1143000" cy="520560"/>
                <a:chOff x="4648320" y="4952880"/>
                <a:chExt cx="1143000" cy="520560"/>
              </a:xfrm>
            </p:grpSpPr>
            <p:sp>
              <p:nvSpPr>
                <p:cNvPr id="1327" name=""/>
                <p:cNvSpPr/>
                <p:nvPr/>
              </p:nvSpPr>
              <p:spPr>
                <a:xfrm>
                  <a:off x="4648320" y="50288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4648320" y="49528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54104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54104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502956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502956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33" name=""/>
          <p:cNvGrpSpPr/>
          <p:nvPr/>
        </p:nvGrpSpPr>
        <p:grpSpPr>
          <a:xfrm>
            <a:off x="2209680" y="4267080"/>
            <a:ext cx="3581640" cy="736560"/>
            <a:chOff x="2209680" y="4267080"/>
            <a:chExt cx="3581640" cy="736560"/>
          </a:xfrm>
        </p:grpSpPr>
        <p:sp>
          <p:nvSpPr>
            <p:cNvPr id="1334" name=""/>
            <p:cNvSpPr/>
            <p:nvPr/>
          </p:nvSpPr>
          <p:spPr>
            <a:xfrm flipV="1">
              <a:off x="4114800" y="4724280"/>
              <a:ext cx="533520" cy="2793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5" name=""/>
            <p:cNvGrpSpPr/>
            <p:nvPr/>
          </p:nvGrpSpPr>
          <p:grpSpPr>
            <a:xfrm>
              <a:off x="2209680" y="4267080"/>
              <a:ext cx="3581640" cy="520560"/>
              <a:chOff x="2209680" y="4267080"/>
              <a:chExt cx="3581640" cy="520560"/>
            </a:xfrm>
          </p:grpSpPr>
          <p:grpSp>
            <p:nvGrpSpPr>
              <p:cNvPr id="1336" name=""/>
              <p:cNvGrpSpPr/>
              <p:nvPr/>
            </p:nvGrpSpPr>
            <p:grpSpPr>
              <a:xfrm>
                <a:off x="3733920" y="4267080"/>
                <a:ext cx="380880" cy="520560"/>
                <a:chOff x="3733920" y="4267080"/>
                <a:chExt cx="380880" cy="520560"/>
              </a:xfrm>
            </p:grpSpPr>
            <p:sp>
              <p:nvSpPr>
                <p:cNvPr id="1337" name=""/>
                <p:cNvSpPr/>
                <p:nvPr/>
              </p:nvSpPr>
              <p:spPr>
                <a:xfrm>
                  <a:off x="3733920" y="43434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3733920" y="42670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9" name=""/>
              <p:cNvGrpSpPr/>
              <p:nvPr/>
            </p:nvGrpSpPr>
            <p:grpSpPr>
              <a:xfrm>
                <a:off x="2209680" y="4267080"/>
                <a:ext cx="381240" cy="520560"/>
                <a:chOff x="2209680" y="4267080"/>
                <a:chExt cx="381240" cy="520560"/>
              </a:xfrm>
            </p:grpSpPr>
            <p:sp>
              <p:nvSpPr>
                <p:cNvPr id="1340" name=""/>
                <p:cNvSpPr/>
                <p:nvPr/>
              </p:nvSpPr>
              <p:spPr>
                <a:xfrm>
                  <a:off x="2209680" y="43434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2209680" y="42670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2" name=""/>
              <p:cNvGrpSpPr/>
              <p:nvPr/>
            </p:nvGrpSpPr>
            <p:grpSpPr>
              <a:xfrm>
                <a:off x="4191120" y="4267080"/>
                <a:ext cx="431280" cy="520560"/>
                <a:chOff x="4191120" y="4267080"/>
                <a:chExt cx="431280" cy="520560"/>
              </a:xfrm>
            </p:grpSpPr>
            <p:sp>
              <p:nvSpPr>
                <p:cNvPr id="1343" name=""/>
                <p:cNvSpPr/>
                <p:nvPr/>
              </p:nvSpPr>
              <p:spPr>
                <a:xfrm>
                  <a:off x="4191120" y="43560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4241520" y="42670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5" name=""/>
              <p:cNvGrpSpPr/>
              <p:nvPr/>
            </p:nvGrpSpPr>
            <p:grpSpPr>
              <a:xfrm>
                <a:off x="2590920" y="4267080"/>
                <a:ext cx="1142280" cy="520560"/>
                <a:chOff x="2590920" y="4267080"/>
                <a:chExt cx="1142280" cy="520560"/>
              </a:xfrm>
            </p:grpSpPr>
            <p:grpSp>
              <p:nvGrpSpPr>
                <p:cNvPr id="1346" name=""/>
                <p:cNvGrpSpPr/>
                <p:nvPr/>
              </p:nvGrpSpPr>
              <p:grpSpPr>
                <a:xfrm>
                  <a:off x="2590920" y="4267080"/>
                  <a:ext cx="1142280" cy="520560"/>
                  <a:chOff x="2590920" y="4267080"/>
                  <a:chExt cx="1142280" cy="520560"/>
                </a:xfrm>
              </p:grpSpPr>
              <p:sp>
                <p:nvSpPr>
                  <p:cNvPr id="1347" name=""/>
                  <p:cNvSpPr/>
                  <p:nvPr/>
                </p:nvSpPr>
                <p:spPr>
                  <a:xfrm>
                    <a:off x="2590920" y="43434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>
                    <a:off x="2590920" y="42670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49" name=""/>
                <p:cNvSpPr/>
                <p:nvPr/>
              </p:nvSpPr>
              <p:spPr>
                <a:xfrm>
                  <a:off x="335304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335304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297216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297216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4648320" y="4267080"/>
                <a:ext cx="1143000" cy="520560"/>
                <a:chOff x="4648320" y="4267080"/>
                <a:chExt cx="1143000" cy="52056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4648320" y="43430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4648320" y="42670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541044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541044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502956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502956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60" name=""/>
          <p:cNvGrpSpPr/>
          <p:nvPr/>
        </p:nvGrpSpPr>
        <p:grpSpPr>
          <a:xfrm>
            <a:off x="3352680" y="1523880"/>
            <a:ext cx="1371600" cy="762120"/>
            <a:chOff x="3352680" y="1523880"/>
            <a:chExt cx="1371600" cy="762120"/>
          </a:xfrm>
        </p:grpSpPr>
        <p:sp>
          <p:nvSpPr>
            <p:cNvPr id="1361" name=""/>
            <p:cNvSpPr/>
            <p:nvPr/>
          </p:nvSpPr>
          <p:spPr>
            <a:xfrm>
              <a:off x="3352680" y="1981080"/>
              <a:ext cx="1295640" cy="304920"/>
            </a:xfrm>
            <a:custGeom>
              <a:avLst/>
              <a:gdLst/>
              <a:ahLst/>
              <a:rect l="l" t="t" r="r" b="b"/>
              <a:pathLst>
                <a:path w="768" h="144">
                  <a:moveTo>
                    <a:pt x="0" y="144"/>
                  </a:moveTo>
                  <a:lnTo>
                    <a:pt x="768" y="144"/>
                  </a:lnTo>
                  <a:lnTo>
                    <a:pt x="768" y="0"/>
                  </a:lnTo>
                  <a:lnTo>
                    <a:pt x="560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2" name=""/>
            <p:cNvGrpSpPr/>
            <p:nvPr/>
          </p:nvGrpSpPr>
          <p:grpSpPr>
            <a:xfrm>
              <a:off x="4038480" y="1523880"/>
              <a:ext cx="685800" cy="489960"/>
              <a:chOff x="4038480" y="1523880"/>
              <a:chExt cx="685800" cy="489960"/>
            </a:xfrm>
          </p:grpSpPr>
          <p:grpSp>
            <p:nvGrpSpPr>
              <p:cNvPr id="1363" name=""/>
              <p:cNvGrpSpPr/>
              <p:nvPr/>
            </p:nvGrpSpPr>
            <p:grpSpPr>
              <a:xfrm>
                <a:off x="4190760" y="1523880"/>
                <a:ext cx="431640" cy="489960"/>
                <a:chOff x="4190760" y="1523880"/>
                <a:chExt cx="431640" cy="489960"/>
              </a:xfrm>
            </p:grpSpPr>
            <p:sp>
              <p:nvSpPr>
                <p:cNvPr id="1364" name=""/>
                <p:cNvSpPr/>
                <p:nvPr/>
              </p:nvSpPr>
              <p:spPr>
                <a:xfrm>
                  <a:off x="4190760" y="16254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4241520" y="1523880"/>
                  <a:ext cx="3808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600" spc="-1" strike="noStrike">
                      <a:solidFill>
                        <a:srgbClr val="ff66ff"/>
                      </a:solidFill>
                      <a:latin typeface="Times New Roman"/>
                    </a:rPr>
                    <a:t>f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6" name=""/>
              <p:cNvSpPr/>
              <p:nvPr/>
            </p:nvSpPr>
            <p:spPr>
              <a:xfrm>
                <a:off x="4038480" y="16002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647960" y="1600200"/>
                <a:ext cx="7632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8" name=""/>
            <p:cNvSpPr/>
            <p:nvPr/>
          </p:nvSpPr>
          <p:spPr>
            <a:xfrm flipV="1">
              <a:off x="4191120" y="1980360"/>
              <a:ext cx="38088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9" name=""/>
          <p:cNvSpPr/>
          <p:nvPr/>
        </p:nvSpPr>
        <p:spPr>
          <a:xfrm>
            <a:off x="2057400" y="6477120"/>
            <a:ext cx="1676520" cy="15228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828800" y="4648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828800" y="3276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828800" y="2590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3" name=""/>
          <p:cNvGrpSpPr/>
          <p:nvPr/>
        </p:nvGrpSpPr>
        <p:grpSpPr>
          <a:xfrm>
            <a:off x="1828800" y="2895480"/>
            <a:ext cx="2895480" cy="761760"/>
            <a:chOff x="1828800" y="2895480"/>
            <a:chExt cx="2895480" cy="761760"/>
          </a:xfrm>
        </p:grpSpPr>
        <p:sp>
          <p:nvSpPr>
            <p:cNvPr id="1374" name=""/>
            <p:cNvSpPr/>
            <p:nvPr/>
          </p:nvSpPr>
          <p:spPr>
            <a:xfrm flipV="1">
              <a:off x="4114800" y="33519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5" name=""/>
            <p:cNvGrpSpPr/>
            <p:nvPr/>
          </p:nvGrpSpPr>
          <p:grpSpPr>
            <a:xfrm>
              <a:off x="1828800" y="2895480"/>
              <a:ext cx="2895480" cy="520560"/>
              <a:chOff x="1828800" y="2895480"/>
              <a:chExt cx="2895480" cy="520560"/>
            </a:xfrm>
          </p:grpSpPr>
          <p:grpSp>
            <p:nvGrpSpPr>
              <p:cNvPr id="1376" name=""/>
              <p:cNvGrpSpPr/>
              <p:nvPr/>
            </p:nvGrpSpPr>
            <p:grpSpPr>
              <a:xfrm>
                <a:off x="3733920" y="2895480"/>
                <a:ext cx="380880" cy="520560"/>
                <a:chOff x="3733920" y="2895480"/>
                <a:chExt cx="380880" cy="520560"/>
              </a:xfrm>
            </p:grpSpPr>
            <p:sp>
              <p:nvSpPr>
                <p:cNvPr id="1377" name=""/>
                <p:cNvSpPr/>
                <p:nvPr/>
              </p:nvSpPr>
              <p:spPr>
                <a:xfrm>
                  <a:off x="3733920" y="2971800"/>
                  <a:ext cx="38088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373392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3352680" y="2895480"/>
                <a:ext cx="380880" cy="520560"/>
                <a:chOff x="3352680" y="2895480"/>
                <a:chExt cx="380880" cy="520560"/>
              </a:xfrm>
            </p:grpSpPr>
            <p:sp>
              <p:nvSpPr>
                <p:cNvPr id="1380" name=""/>
                <p:cNvSpPr/>
                <p:nvPr/>
              </p:nvSpPr>
              <p:spPr>
                <a:xfrm>
                  <a:off x="3352680" y="29718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335268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2" name=""/>
              <p:cNvGrpSpPr/>
              <p:nvPr/>
            </p:nvGrpSpPr>
            <p:grpSpPr>
              <a:xfrm>
                <a:off x="1828800" y="2895480"/>
                <a:ext cx="380880" cy="520560"/>
                <a:chOff x="1828800" y="2895480"/>
                <a:chExt cx="380880" cy="520560"/>
              </a:xfrm>
            </p:grpSpPr>
            <p:sp>
              <p:nvSpPr>
                <p:cNvPr id="1383" name=""/>
                <p:cNvSpPr/>
                <p:nvPr/>
              </p:nvSpPr>
              <p:spPr>
                <a:xfrm>
                  <a:off x="1828800" y="29718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182880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5" name=""/>
              <p:cNvGrpSpPr/>
              <p:nvPr/>
            </p:nvGrpSpPr>
            <p:grpSpPr>
              <a:xfrm>
                <a:off x="4191120" y="2895480"/>
                <a:ext cx="431280" cy="520560"/>
                <a:chOff x="4191120" y="2895480"/>
                <a:chExt cx="431280" cy="520560"/>
              </a:xfrm>
            </p:grpSpPr>
            <p:sp>
              <p:nvSpPr>
                <p:cNvPr id="1386" name=""/>
                <p:cNvSpPr/>
                <p:nvPr/>
              </p:nvSpPr>
              <p:spPr>
                <a:xfrm>
                  <a:off x="4191120" y="29844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424152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8" name=""/>
              <p:cNvGrpSpPr/>
              <p:nvPr/>
            </p:nvGrpSpPr>
            <p:grpSpPr>
              <a:xfrm>
                <a:off x="2209680" y="2895480"/>
                <a:ext cx="1142280" cy="520560"/>
                <a:chOff x="2209680" y="2895480"/>
                <a:chExt cx="1142280" cy="520560"/>
              </a:xfrm>
            </p:grpSpPr>
            <p:grpSp>
              <p:nvGrpSpPr>
                <p:cNvPr id="1389" name=""/>
                <p:cNvGrpSpPr/>
                <p:nvPr/>
              </p:nvGrpSpPr>
              <p:grpSpPr>
                <a:xfrm>
                  <a:off x="2209680" y="2895480"/>
                  <a:ext cx="1142280" cy="520560"/>
                  <a:chOff x="2209680" y="2895480"/>
                  <a:chExt cx="1142280" cy="520560"/>
                </a:xfrm>
              </p:grpSpPr>
              <p:sp>
                <p:nvSpPr>
                  <p:cNvPr id="1390" name=""/>
                  <p:cNvSpPr/>
                  <p:nvPr/>
                </p:nvSpPr>
                <p:spPr>
                  <a:xfrm>
                    <a:off x="2209680" y="29718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>
                    <a:off x="2209680" y="28954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2" name=""/>
                <p:cNvSpPr/>
                <p:nvPr/>
              </p:nvSpPr>
              <p:spPr>
                <a:xfrm>
                  <a:off x="2971800" y="2971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2971800" y="3200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2590920" y="2971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2590920" y="3200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6" name=""/>
              <p:cNvSpPr/>
              <p:nvPr/>
            </p:nvSpPr>
            <p:spPr>
              <a:xfrm>
                <a:off x="4648320" y="29718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7" name=""/>
          <p:cNvGrpSpPr/>
          <p:nvPr/>
        </p:nvGrpSpPr>
        <p:grpSpPr>
          <a:xfrm>
            <a:off x="1066680" y="3581280"/>
            <a:ext cx="3657600" cy="761760"/>
            <a:chOff x="1066680" y="3581280"/>
            <a:chExt cx="3657600" cy="761760"/>
          </a:xfrm>
        </p:grpSpPr>
        <p:sp>
          <p:nvSpPr>
            <p:cNvPr id="1398" name=""/>
            <p:cNvSpPr/>
            <p:nvPr/>
          </p:nvSpPr>
          <p:spPr>
            <a:xfrm flipV="1">
              <a:off x="4114800" y="40377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9" name=""/>
            <p:cNvGrpSpPr/>
            <p:nvPr/>
          </p:nvGrpSpPr>
          <p:grpSpPr>
            <a:xfrm>
              <a:off x="1066680" y="3581280"/>
              <a:ext cx="3657600" cy="520560"/>
              <a:chOff x="1066680" y="3581280"/>
              <a:chExt cx="3657600" cy="520560"/>
            </a:xfrm>
          </p:grpSpPr>
          <p:grpSp>
            <p:nvGrpSpPr>
              <p:cNvPr id="1400" name=""/>
              <p:cNvGrpSpPr/>
              <p:nvPr/>
            </p:nvGrpSpPr>
            <p:grpSpPr>
              <a:xfrm>
                <a:off x="2590920" y="3581280"/>
                <a:ext cx="380880" cy="520560"/>
                <a:chOff x="2590920" y="3581280"/>
                <a:chExt cx="380880" cy="52056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2590920" y="36576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2590920" y="35812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3" name=""/>
              <p:cNvGrpSpPr/>
              <p:nvPr/>
            </p:nvGrpSpPr>
            <p:grpSpPr>
              <a:xfrm>
                <a:off x="1066680" y="3581280"/>
                <a:ext cx="381240" cy="520560"/>
                <a:chOff x="1066680" y="3581280"/>
                <a:chExt cx="381240" cy="520560"/>
              </a:xfrm>
            </p:grpSpPr>
            <p:sp>
              <p:nvSpPr>
                <p:cNvPr id="1404" name=""/>
                <p:cNvSpPr/>
                <p:nvPr/>
              </p:nvSpPr>
              <p:spPr>
                <a:xfrm>
                  <a:off x="1066680" y="36576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1066680" y="35812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6" name=""/>
              <p:cNvGrpSpPr/>
              <p:nvPr/>
            </p:nvGrpSpPr>
            <p:grpSpPr>
              <a:xfrm>
                <a:off x="4191120" y="3581280"/>
                <a:ext cx="431280" cy="520560"/>
                <a:chOff x="4191120" y="3581280"/>
                <a:chExt cx="431280" cy="520560"/>
              </a:xfrm>
            </p:grpSpPr>
            <p:sp>
              <p:nvSpPr>
                <p:cNvPr id="1407" name=""/>
                <p:cNvSpPr/>
                <p:nvPr/>
              </p:nvSpPr>
              <p:spPr>
                <a:xfrm>
                  <a:off x="4191120" y="36702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4241520" y="35812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1447920" y="3581280"/>
                <a:ext cx="1142280" cy="520560"/>
                <a:chOff x="1447920" y="3581280"/>
                <a:chExt cx="1142280" cy="520560"/>
              </a:xfrm>
            </p:grpSpPr>
            <p:grpSp>
              <p:nvGrpSpPr>
                <p:cNvPr id="1410" name=""/>
                <p:cNvGrpSpPr/>
                <p:nvPr/>
              </p:nvGrpSpPr>
              <p:grpSpPr>
                <a:xfrm>
                  <a:off x="1447920" y="3581280"/>
                  <a:ext cx="1142280" cy="520560"/>
                  <a:chOff x="1447920" y="3581280"/>
                  <a:chExt cx="1142280" cy="520560"/>
                </a:xfrm>
              </p:grpSpPr>
              <p:sp>
                <p:nvSpPr>
                  <p:cNvPr id="1411" name=""/>
                  <p:cNvSpPr/>
                  <p:nvPr/>
                </p:nvSpPr>
                <p:spPr>
                  <a:xfrm>
                    <a:off x="1447920" y="36576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2" name=""/>
                  <p:cNvSpPr/>
                  <p:nvPr/>
                </p:nvSpPr>
                <p:spPr>
                  <a:xfrm>
                    <a:off x="1447920" y="35812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13" name=""/>
                <p:cNvSpPr/>
                <p:nvPr/>
              </p:nvSpPr>
              <p:spPr>
                <a:xfrm>
                  <a:off x="221004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221004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182916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182916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7" name=""/>
              <p:cNvGrpSpPr/>
              <p:nvPr/>
            </p:nvGrpSpPr>
            <p:grpSpPr>
              <a:xfrm>
                <a:off x="2971800" y="3581280"/>
                <a:ext cx="1143000" cy="520560"/>
                <a:chOff x="2971800" y="3581280"/>
                <a:chExt cx="1143000" cy="52056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2971800" y="36572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2971800" y="35812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373392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373392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335304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335304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4" name=""/>
              <p:cNvSpPr/>
              <p:nvPr/>
            </p:nvSpPr>
            <p:spPr>
              <a:xfrm>
                <a:off x="4648320" y="36576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5" name=""/>
          <p:cNvGrpSpPr/>
          <p:nvPr/>
        </p:nvGrpSpPr>
        <p:grpSpPr>
          <a:xfrm>
            <a:off x="3352680" y="2209680"/>
            <a:ext cx="1371600" cy="761760"/>
            <a:chOff x="3352680" y="2209680"/>
            <a:chExt cx="1371600" cy="761760"/>
          </a:xfrm>
        </p:grpSpPr>
        <p:sp>
          <p:nvSpPr>
            <p:cNvPr id="1426" name=""/>
            <p:cNvSpPr/>
            <p:nvPr/>
          </p:nvSpPr>
          <p:spPr>
            <a:xfrm flipV="1">
              <a:off x="4114800" y="26661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7" name=""/>
            <p:cNvGrpSpPr/>
            <p:nvPr/>
          </p:nvGrpSpPr>
          <p:grpSpPr>
            <a:xfrm>
              <a:off x="3352680" y="2209680"/>
              <a:ext cx="1371600" cy="520560"/>
              <a:chOff x="3352680" y="2209680"/>
              <a:chExt cx="1371600" cy="520560"/>
            </a:xfrm>
          </p:grpSpPr>
          <p:grpSp>
            <p:nvGrpSpPr>
              <p:cNvPr id="1428" name=""/>
              <p:cNvGrpSpPr/>
              <p:nvPr/>
            </p:nvGrpSpPr>
            <p:grpSpPr>
              <a:xfrm>
                <a:off x="3733920" y="2209680"/>
                <a:ext cx="380880" cy="520560"/>
                <a:chOff x="3733920" y="2209680"/>
                <a:chExt cx="380880" cy="520560"/>
              </a:xfrm>
            </p:grpSpPr>
            <p:sp>
              <p:nvSpPr>
                <p:cNvPr id="1429" name=""/>
                <p:cNvSpPr/>
                <p:nvPr/>
              </p:nvSpPr>
              <p:spPr>
                <a:xfrm>
                  <a:off x="3733920" y="22860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3733920" y="2209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1" name=""/>
              <p:cNvGrpSpPr/>
              <p:nvPr/>
            </p:nvGrpSpPr>
            <p:grpSpPr>
              <a:xfrm>
                <a:off x="3352680" y="2209680"/>
                <a:ext cx="381240" cy="520560"/>
                <a:chOff x="3352680" y="2209680"/>
                <a:chExt cx="381240" cy="520560"/>
              </a:xfrm>
            </p:grpSpPr>
            <p:sp>
              <p:nvSpPr>
                <p:cNvPr id="1432" name=""/>
                <p:cNvSpPr/>
                <p:nvPr/>
              </p:nvSpPr>
              <p:spPr>
                <a:xfrm>
                  <a:off x="3352680" y="22860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3352680" y="22096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4" name=""/>
              <p:cNvGrpSpPr/>
              <p:nvPr/>
            </p:nvGrpSpPr>
            <p:grpSpPr>
              <a:xfrm>
                <a:off x="4191120" y="2209680"/>
                <a:ext cx="431280" cy="520560"/>
                <a:chOff x="4191120" y="2209680"/>
                <a:chExt cx="431280" cy="520560"/>
              </a:xfrm>
            </p:grpSpPr>
            <p:sp>
              <p:nvSpPr>
                <p:cNvPr id="1435" name=""/>
                <p:cNvSpPr/>
                <p:nvPr/>
              </p:nvSpPr>
              <p:spPr>
                <a:xfrm>
                  <a:off x="4191120" y="22986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4241520" y="2209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7" name=""/>
              <p:cNvSpPr/>
              <p:nvPr/>
            </p:nvSpPr>
            <p:spPr>
              <a:xfrm>
                <a:off x="4648320" y="22860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8" name=""/>
          <p:cNvSpPr/>
          <p:nvPr/>
        </p:nvSpPr>
        <p:spPr>
          <a:xfrm>
            <a:off x="609480" y="1143000"/>
            <a:ext cx="8001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ottom-up construction of a derivation 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/>
          <p:nvPr/>
        </p:nvSpPr>
        <p:spPr>
          <a:xfrm>
            <a:off x="609480" y="1143000"/>
            <a:ext cx="853452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G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609480" y="2057400"/>
            <a:ext cx="815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om CFG to E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From CFG to EPDA: Example 1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09480" y="1143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09480" y="2819520"/>
            <a:ext cx="5562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62120" y="2133720"/>
            <a:ext cx="7619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EPDA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114800" y="39625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09480" y="3276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286000" y="3276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419720" y="32767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09480" y="47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295280" y="3962520"/>
            <a:ext cx="15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3716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1752480" y="4495680"/>
            <a:ext cx="38124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7432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48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867280" y="472428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467480" y="47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2" name=""/>
          <p:cNvGrpSpPr/>
          <p:nvPr/>
        </p:nvGrpSpPr>
        <p:grpSpPr>
          <a:xfrm>
            <a:off x="4114800" y="4343040"/>
            <a:ext cx="1219320" cy="533520"/>
            <a:chOff x="4114800" y="4343040"/>
            <a:chExt cx="1219320" cy="533520"/>
          </a:xfrm>
        </p:grpSpPr>
        <p:sp>
          <p:nvSpPr>
            <p:cNvPr id="1463" name=""/>
            <p:cNvSpPr/>
            <p:nvPr/>
          </p:nvSpPr>
          <p:spPr>
            <a:xfrm rot="16200000">
              <a:off x="4191120" y="42667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rot="16200000">
              <a:off x="5029200" y="4190400"/>
              <a:ext cx="152280" cy="457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267080" y="4495680"/>
              <a:ext cx="10670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4419360" y="4495680"/>
              <a:ext cx="6858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6172200" y="39625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6095880" y="4343040"/>
            <a:ext cx="1143000" cy="533520"/>
            <a:chOff x="6095880" y="4343040"/>
            <a:chExt cx="1143000" cy="533520"/>
          </a:xfrm>
        </p:grpSpPr>
        <p:sp>
          <p:nvSpPr>
            <p:cNvPr id="1469" name=""/>
            <p:cNvSpPr/>
            <p:nvPr/>
          </p:nvSpPr>
          <p:spPr>
            <a:xfrm rot="16200000">
              <a:off x="6248520" y="42667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rot="16200000">
              <a:off x="7010280" y="42667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324480" y="4495680"/>
              <a:ext cx="6098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6095880" y="4495680"/>
              <a:ext cx="9907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3" name=""/>
          <p:cNvSpPr/>
          <p:nvPr/>
        </p:nvSpPr>
        <p:spPr>
          <a:xfrm>
            <a:off x="2743200" y="396252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3200400" y="449568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5" name=""/>
          <p:cNvGrpSpPr/>
          <p:nvPr/>
        </p:nvGrpSpPr>
        <p:grpSpPr>
          <a:xfrm>
            <a:off x="1447920" y="5181120"/>
            <a:ext cx="5790600" cy="612360"/>
            <a:chOff x="1447920" y="5181120"/>
            <a:chExt cx="5790600" cy="612360"/>
          </a:xfrm>
        </p:grpSpPr>
        <p:sp>
          <p:nvSpPr>
            <p:cNvPr id="1476" name=""/>
            <p:cNvSpPr/>
            <p:nvPr/>
          </p:nvSpPr>
          <p:spPr>
            <a:xfrm rot="16200000">
              <a:off x="2662920" y="3966120"/>
              <a:ext cx="152280" cy="25822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67320 h 2582280"/>
                <a:gd name="textAreaBottom" fmla="*/ 2514960 h 258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rot="16200000">
              <a:off x="5675400" y="3770280"/>
              <a:ext cx="152280" cy="29736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7400 h 2973600"/>
                <a:gd name="textAreaBottom" fmla="*/ 2896200 h 297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760400" y="5333760"/>
              <a:ext cx="21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hift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734720" y="5333760"/>
              <a:ext cx="21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duction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609480" y="5943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From CFG to EPDA: Example 2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09480" y="1143000"/>
            <a:ext cx="8229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57200" y="251460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( )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8088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6" name=""/>
          <p:cNvGrpSpPr/>
          <p:nvPr/>
        </p:nvGrpSpPr>
        <p:grpSpPr>
          <a:xfrm>
            <a:off x="1600200" y="3048120"/>
            <a:ext cx="2438280" cy="558360"/>
            <a:chOff x="1600200" y="3048120"/>
            <a:chExt cx="2438280" cy="558360"/>
          </a:xfrm>
        </p:grpSpPr>
        <p:grpSp>
          <p:nvGrpSpPr>
            <p:cNvPr id="1487" name=""/>
            <p:cNvGrpSpPr/>
            <p:nvPr/>
          </p:nvGrpSpPr>
          <p:grpSpPr>
            <a:xfrm>
              <a:off x="1600200" y="3085920"/>
              <a:ext cx="380880" cy="520560"/>
              <a:chOff x="1600200" y="3085920"/>
              <a:chExt cx="380880" cy="520560"/>
            </a:xfrm>
          </p:grpSpPr>
          <p:sp>
            <p:nvSpPr>
              <p:cNvPr id="1488" name=""/>
              <p:cNvSpPr/>
              <p:nvPr/>
            </p:nvSpPr>
            <p:spPr>
              <a:xfrm>
                <a:off x="16002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6002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0" name=""/>
            <p:cNvGrpSpPr/>
            <p:nvPr/>
          </p:nvGrpSpPr>
          <p:grpSpPr>
            <a:xfrm>
              <a:off x="2057400" y="3048120"/>
              <a:ext cx="431280" cy="520560"/>
              <a:chOff x="2057400" y="3048120"/>
              <a:chExt cx="431280" cy="520560"/>
            </a:xfrm>
          </p:grpSpPr>
          <p:sp>
            <p:nvSpPr>
              <p:cNvPr id="1491" name=""/>
              <p:cNvSpPr/>
              <p:nvPr/>
            </p:nvSpPr>
            <p:spPr>
              <a:xfrm>
                <a:off x="2057400" y="3136680"/>
                <a:ext cx="380880" cy="38052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210780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3" name=""/>
            <p:cNvGrpSpPr/>
            <p:nvPr/>
          </p:nvGrpSpPr>
          <p:grpSpPr>
            <a:xfrm>
              <a:off x="3276720" y="3085920"/>
              <a:ext cx="380880" cy="520560"/>
              <a:chOff x="3276720" y="3085920"/>
              <a:chExt cx="380880" cy="520560"/>
            </a:xfrm>
          </p:grpSpPr>
          <p:sp>
            <p:nvSpPr>
              <p:cNvPr id="1494" name=""/>
              <p:cNvSpPr/>
              <p:nvPr/>
            </p:nvSpPr>
            <p:spPr>
              <a:xfrm>
                <a:off x="327672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27672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6" name=""/>
            <p:cNvGrpSpPr/>
            <p:nvPr/>
          </p:nvGrpSpPr>
          <p:grpSpPr>
            <a:xfrm>
              <a:off x="2895480" y="3085920"/>
              <a:ext cx="381240" cy="520560"/>
              <a:chOff x="2895480" y="3085920"/>
              <a:chExt cx="381240" cy="520560"/>
            </a:xfrm>
          </p:grpSpPr>
          <p:sp>
            <p:nvSpPr>
              <p:cNvPr id="1497" name=""/>
              <p:cNvSpPr/>
              <p:nvPr/>
            </p:nvSpPr>
            <p:spPr>
              <a:xfrm>
                <a:off x="2895480" y="3161880"/>
                <a:ext cx="38124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2895480" y="3085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9" name=""/>
            <p:cNvGrpSpPr/>
            <p:nvPr/>
          </p:nvGrpSpPr>
          <p:grpSpPr>
            <a:xfrm>
              <a:off x="2514600" y="3085920"/>
              <a:ext cx="380880" cy="520560"/>
              <a:chOff x="2514600" y="3085920"/>
              <a:chExt cx="380880" cy="520560"/>
            </a:xfrm>
          </p:grpSpPr>
          <p:sp>
            <p:nvSpPr>
              <p:cNvPr id="1500" name=""/>
              <p:cNvSpPr/>
              <p:nvPr/>
            </p:nvSpPr>
            <p:spPr>
              <a:xfrm>
                <a:off x="25146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5146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3657600" y="3085920"/>
              <a:ext cx="380880" cy="520560"/>
              <a:chOff x="3657600" y="3085920"/>
              <a:chExt cx="380880" cy="520560"/>
            </a:xfrm>
          </p:grpSpPr>
          <p:sp>
            <p:nvSpPr>
              <p:cNvPr id="1503" name=""/>
              <p:cNvSpPr/>
              <p:nvPr/>
            </p:nvSpPr>
            <p:spPr>
              <a:xfrm>
                <a:off x="36576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6576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5" name=""/>
          <p:cNvGrpSpPr/>
          <p:nvPr/>
        </p:nvGrpSpPr>
        <p:grpSpPr>
          <a:xfrm>
            <a:off x="6400800" y="5791320"/>
            <a:ext cx="685800" cy="489960"/>
            <a:chOff x="6400800" y="5791320"/>
            <a:chExt cx="685800" cy="489960"/>
          </a:xfrm>
        </p:grpSpPr>
        <p:grpSp>
          <p:nvGrpSpPr>
            <p:cNvPr id="1506" name=""/>
            <p:cNvGrpSpPr/>
            <p:nvPr/>
          </p:nvGrpSpPr>
          <p:grpSpPr>
            <a:xfrm>
              <a:off x="6553080" y="5791320"/>
              <a:ext cx="431640" cy="489960"/>
              <a:chOff x="6553080" y="5791320"/>
              <a:chExt cx="431640" cy="489960"/>
            </a:xfrm>
          </p:grpSpPr>
          <p:sp>
            <p:nvSpPr>
              <p:cNvPr id="1507" name=""/>
              <p:cNvSpPr/>
              <p:nvPr/>
            </p:nvSpPr>
            <p:spPr>
              <a:xfrm>
                <a:off x="6553080" y="5892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603840" y="5791320"/>
                <a:ext cx="380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f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9" name=""/>
            <p:cNvSpPr/>
            <p:nvPr/>
          </p:nvSpPr>
          <p:spPr>
            <a:xfrm>
              <a:off x="6400800" y="5867280"/>
              <a:ext cx="75960" cy="380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010280" y="5867280"/>
              <a:ext cx="76320" cy="380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6477120" y="6172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3" name=""/>
          <p:cNvGrpSpPr/>
          <p:nvPr/>
        </p:nvGrpSpPr>
        <p:grpSpPr>
          <a:xfrm>
            <a:off x="7620120" y="4495680"/>
            <a:ext cx="990000" cy="1335960"/>
            <a:chOff x="7620120" y="4495680"/>
            <a:chExt cx="990000" cy="1335960"/>
          </a:xfrm>
        </p:grpSpPr>
        <p:sp>
          <p:nvSpPr>
            <p:cNvPr id="1514" name=""/>
            <p:cNvSpPr/>
            <p:nvPr/>
          </p:nvSpPr>
          <p:spPr>
            <a:xfrm>
              <a:off x="762012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8483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3055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0769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89912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924680" y="44956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>
              <a:off x="8001000" y="53082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076960" y="53082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076960" y="485100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076960" y="485100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>
              <a:off x="7772040" y="485100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1219320" y="3962520"/>
            <a:ext cx="2438280" cy="520560"/>
            <a:chOff x="1219320" y="3962520"/>
            <a:chExt cx="2438280" cy="520560"/>
          </a:xfrm>
        </p:grpSpPr>
        <p:grpSp>
          <p:nvGrpSpPr>
            <p:cNvPr id="1526" name=""/>
            <p:cNvGrpSpPr/>
            <p:nvPr/>
          </p:nvGrpSpPr>
          <p:grpSpPr>
            <a:xfrm>
              <a:off x="1219320" y="3962520"/>
              <a:ext cx="380880" cy="520560"/>
              <a:chOff x="1219320" y="3962520"/>
              <a:chExt cx="380880" cy="520560"/>
            </a:xfrm>
          </p:grpSpPr>
          <p:sp>
            <p:nvSpPr>
              <p:cNvPr id="1527" name=""/>
              <p:cNvSpPr/>
              <p:nvPr/>
            </p:nvSpPr>
            <p:spPr>
              <a:xfrm>
                <a:off x="1219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219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9" name=""/>
            <p:cNvGrpSpPr/>
            <p:nvPr/>
          </p:nvGrpSpPr>
          <p:grpSpPr>
            <a:xfrm>
              <a:off x="2057400" y="3962520"/>
              <a:ext cx="431280" cy="520560"/>
              <a:chOff x="2057400" y="3962520"/>
              <a:chExt cx="431280" cy="520560"/>
            </a:xfrm>
          </p:grpSpPr>
          <p:sp>
            <p:nvSpPr>
              <p:cNvPr id="1530" name=""/>
              <p:cNvSpPr/>
              <p:nvPr/>
            </p:nvSpPr>
            <p:spPr>
              <a:xfrm>
                <a:off x="2057400" y="40514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107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2" name=""/>
            <p:cNvGrpSpPr/>
            <p:nvPr/>
          </p:nvGrpSpPr>
          <p:grpSpPr>
            <a:xfrm>
              <a:off x="2895480" y="3962520"/>
              <a:ext cx="381240" cy="520560"/>
              <a:chOff x="2895480" y="3962520"/>
              <a:chExt cx="381240" cy="520560"/>
            </a:xfrm>
          </p:grpSpPr>
          <p:sp>
            <p:nvSpPr>
              <p:cNvPr id="1533" name=""/>
              <p:cNvSpPr/>
              <p:nvPr/>
            </p:nvSpPr>
            <p:spPr>
              <a:xfrm>
                <a:off x="28954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8954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5" name=""/>
            <p:cNvGrpSpPr/>
            <p:nvPr/>
          </p:nvGrpSpPr>
          <p:grpSpPr>
            <a:xfrm>
              <a:off x="2514600" y="3962520"/>
              <a:ext cx="380880" cy="520560"/>
              <a:chOff x="2514600" y="3962520"/>
              <a:chExt cx="380880" cy="520560"/>
            </a:xfrm>
          </p:grpSpPr>
          <p:sp>
            <p:nvSpPr>
              <p:cNvPr id="1536" name=""/>
              <p:cNvSpPr/>
              <p:nvPr/>
            </p:nvSpPr>
            <p:spPr>
              <a:xfrm>
                <a:off x="25146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5146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8" name=""/>
            <p:cNvGrpSpPr/>
            <p:nvPr/>
          </p:nvGrpSpPr>
          <p:grpSpPr>
            <a:xfrm>
              <a:off x="1600200" y="3962520"/>
              <a:ext cx="380880" cy="520560"/>
              <a:chOff x="1600200" y="3962520"/>
              <a:chExt cx="380880" cy="520560"/>
            </a:xfrm>
          </p:grpSpPr>
          <p:sp>
            <p:nvSpPr>
              <p:cNvPr id="1539" name=""/>
              <p:cNvSpPr/>
              <p:nvPr/>
            </p:nvSpPr>
            <p:spPr>
              <a:xfrm>
                <a:off x="16002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16002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3276720" y="3962520"/>
              <a:ext cx="380880" cy="520560"/>
              <a:chOff x="3276720" y="3962520"/>
              <a:chExt cx="380880" cy="520560"/>
            </a:xfrm>
          </p:grpSpPr>
          <p:sp>
            <p:nvSpPr>
              <p:cNvPr id="1542" name=""/>
              <p:cNvSpPr/>
              <p:nvPr/>
            </p:nvSpPr>
            <p:spPr>
              <a:xfrm>
                <a:off x="32767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2767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4" name=""/>
          <p:cNvGrpSpPr/>
          <p:nvPr/>
        </p:nvGrpSpPr>
        <p:grpSpPr>
          <a:xfrm>
            <a:off x="838080" y="4876920"/>
            <a:ext cx="2438640" cy="520560"/>
            <a:chOff x="838080" y="4876920"/>
            <a:chExt cx="2438640" cy="520560"/>
          </a:xfrm>
        </p:grpSpPr>
        <p:grpSp>
          <p:nvGrpSpPr>
            <p:cNvPr id="1545" name=""/>
            <p:cNvGrpSpPr/>
            <p:nvPr/>
          </p:nvGrpSpPr>
          <p:grpSpPr>
            <a:xfrm>
              <a:off x="838080" y="4876920"/>
              <a:ext cx="381240" cy="520560"/>
              <a:chOff x="838080" y="4876920"/>
              <a:chExt cx="381240" cy="520560"/>
            </a:xfrm>
          </p:grpSpPr>
          <p:sp>
            <p:nvSpPr>
              <p:cNvPr id="1546" name=""/>
              <p:cNvSpPr/>
              <p:nvPr/>
            </p:nvSpPr>
            <p:spPr>
              <a:xfrm>
                <a:off x="8380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8380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8" name=""/>
            <p:cNvGrpSpPr/>
            <p:nvPr/>
          </p:nvGrpSpPr>
          <p:grpSpPr>
            <a:xfrm>
              <a:off x="2057400" y="4876920"/>
              <a:ext cx="431280" cy="520560"/>
              <a:chOff x="2057400" y="4876920"/>
              <a:chExt cx="431280" cy="520560"/>
            </a:xfrm>
          </p:grpSpPr>
          <p:sp>
            <p:nvSpPr>
              <p:cNvPr id="1549" name=""/>
              <p:cNvSpPr/>
              <p:nvPr/>
            </p:nvSpPr>
            <p:spPr>
              <a:xfrm>
                <a:off x="2057400" y="4965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1078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2514600" y="4876920"/>
              <a:ext cx="380880" cy="520560"/>
              <a:chOff x="2514600" y="4876920"/>
              <a:chExt cx="380880" cy="520560"/>
            </a:xfrm>
          </p:grpSpPr>
          <p:sp>
            <p:nvSpPr>
              <p:cNvPr id="1552" name=""/>
              <p:cNvSpPr/>
              <p:nvPr/>
            </p:nvSpPr>
            <p:spPr>
              <a:xfrm>
                <a:off x="25146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5146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4" name=""/>
            <p:cNvGrpSpPr/>
            <p:nvPr/>
          </p:nvGrpSpPr>
          <p:grpSpPr>
            <a:xfrm>
              <a:off x="1600200" y="4876920"/>
              <a:ext cx="380880" cy="520560"/>
              <a:chOff x="1600200" y="4876920"/>
              <a:chExt cx="380880" cy="520560"/>
            </a:xfrm>
          </p:grpSpPr>
          <p:sp>
            <p:nvSpPr>
              <p:cNvPr id="1555" name=""/>
              <p:cNvSpPr/>
              <p:nvPr/>
            </p:nvSpPr>
            <p:spPr>
              <a:xfrm>
                <a:off x="16002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16002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1219320" y="4876920"/>
              <a:ext cx="380880" cy="520560"/>
              <a:chOff x="1219320" y="4876920"/>
              <a:chExt cx="380880" cy="520560"/>
            </a:xfrm>
          </p:grpSpPr>
          <p:sp>
            <p:nvSpPr>
              <p:cNvPr id="1558" name=""/>
              <p:cNvSpPr/>
              <p:nvPr/>
            </p:nvSpPr>
            <p:spPr>
              <a:xfrm>
                <a:off x="12193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2193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0" name=""/>
            <p:cNvGrpSpPr/>
            <p:nvPr/>
          </p:nvGrpSpPr>
          <p:grpSpPr>
            <a:xfrm>
              <a:off x="2895480" y="4876920"/>
              <a:ext cx="381240" cy="520560"/>
              <a:chOff x="2895480" y="4876920"/>
              <a:chExt cx="381240" cy="520560"/>
            </a:xfrm>
          </p:grpSpPr>
          <p:sp>
            <p:nvSpPr>
              <p:cNvPr id="1561" name=""/>
              <p:cNvSpPr/>
              <p:nvPr/>
            </p:nvSpPr>
            <p:spPr>
              <a:xfrm>
                <a:off x="28954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8954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3" name=""/>
          <p:cNvSpPr/>
          <p:nvPr/>
        </p:nvSpPr>
        <p:spPr>
          <a:xfrm>
            <a:off x="38088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8088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457200" y="5791320"/>
            <a:ext cx="2438280" cy="520560"/>
            <a:chOff x="457200" y="5791320"/>
            <a:chExt cx="2438280" cy="520560"/>
          </a:xfrm>
        </p:grpSpPr>
        <p:grpSp>
          <p:nvGrpSpPr>
            <p:cNvPr id="1566" name=""/>
            <p:cNvGrpSpPr/>
            <p:nvPr/>
          </p:nvGrpSpPr>
          <p:grpSpPr>
            <a:xfrm>
              <a:off x="457200" y="5791320"/>
              <a:ext cx="380880" cy="520560"/>
              <a:chOff x="457200" y="5791320"/>
              <a:chExt cx="380880" cy="520560"/>
            </a:xfrm>
          </p:grpSpPr>
          <p:sp>
            <p:nvSpPr>
              <p:cNvPr id="1567" name=""/>
              <p:cNvSpPr/>
              <p:nvPr/>
            </p:nvSpPr>
            <p:spPr>
              <a:xfrm>
                <a:off x="4572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572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9" name=""/>
            <p:cNvGrpSpPr/>
            <p:nvPr/>
          </p:nvGrpSpPr>
          <p:grpSpPr>
            <a:xfrm>
              <a:off x="2057400" y="5791320"/>
              <a:ext cx="431280" cy="520560"/>
              <a:chOff x="2057400" y="5791320"/>
              <a:chExt cx="431280" cy="520560"/>
            </a:xfrm>
          </p:grpSpPr>
          <p:sp>
            <p:nvSpPr>
              <p:cNvPr id="1570" name=""/>
              <p:cNvSpPr/>
              <p:nvPr/>
            </p:nvSpPr>
            <p:spPr>
              <a:xfrm>
                <a:off x="2057400" y="58802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1078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2" name=""/>
            <p:cNvGrpSpPr/>
            <p:nvPr/>
          </p:nvGrpSpPr>
          <p:grpSpPr>
            <a:xfrm>
              <a:off x="1600200" y="5791320"/>
              <a:ext cx="380880" cy="520560"/>
              <a:chOff x="1600200" y="5791320"/>
              <a:chExt cx="380880" cy="520560"/>
            </a:xfrm>
          </p:grpSpPr>
          <p:sp>
            <p:nvSpPr>
              <p:cNvPr id="1573" name=""/>
              <p:cNvSpPr/>
              <p:nvPr/>
            </p:nvSpPr>
            <p:spPr>
              <a:xfrm>
                <a:off x="16002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16002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1218960" y="5791320"/>
              <a:ext cx="381240" cy="520560"/>
              <a:chOff x="1218960" y="5791320"/>
              <a:chExt cx="381240" cy="520560"/>
            </a:xfrm>
          </p:grpSpPr>
          <p:sp>
            <p:nvSpPr>
              <p:cNvPr id="1576" name=""/>
              <p:cNvSpPr/>
              <p:nvPr/>
            </p:nvSpPr>
            <p:spPr>
              <a:xfrm>
                <a:off x="121896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121896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8" name=""/>
            <p:cNvGrpSpPr/>
            <p:nvPr/>
          </p:nvGrpSpPr>
          <p:grpSpPr>
            <a:xfrm>
              <a:off x="838080" y="5791320"/>
              <a:ext cx="380880" cy="520560"/>
              <a:chOff x="838080" y="5791320"/>
              <a:chExt cx="380880" cy="520560"/>
            </a:xfrm>
          </p:grpSpPr>
          <p:sp>
            <p:nvSpPr>
              <p:cNvPr id="1579" name=""/>
              <p:cNvSpPr/>
              <p:nvPr/>
            </p:nvSpPr>
            <p:spPr>
              <a:xfrm>
                <a:off x="83808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83808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1" name=""/>
            <p:cNvGrpSpPr/>
            <p:nvPr/>
          </p:nvGrpSpPr>
          <p:grpSpPr>
            <a:xfrm>
              <a:off x="2514600" y="5791320"/>
              <a:ext cx="380880" cy="520560"/>
              <a:chOff x="2514600" y="5791320"/>
              <a:chExt cx="380880" cy="520560"/>
            </a:xfrm>
          </p:grpSpPr>
          <p:sp>
            <p:nvSpPr>
              <p:cNvPr id="1582" name=""/>
              <p:cNvSpPr/>
              <p:nvPr/>
            </p:nvSpPr>
            <p:spPr>
              <a:xfrm>
                <a:off x="25146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5146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4" name=""/>
          <p:cNvSpPr/>
          <p:nvPr/>
        </p:nvSpPr>
        <p:spPr>
          <a:xfrm>
            <a:off x="487692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5" name=""/>
          <p:cNvGrpSpPr/>
          <p:nvPr/>
        </p:nvGrpSpPr>
        <p:grpSpPr>
          <a:xfrm>
            <a:off x="5334120" y="3048120"/>
            <a:ext cx="2057400" cy="520560"/>
            <a:chOff x="5334120" y="3048120"/>
            <a:chExt cx="2057400" cy="520560"/>
          </a:xfrm>
        </p:grpSpPr>
        <p:grpSp>
          <p:nvGrpSpPr>
            <p:cNvPr id="1586" name=""/>
            <p:cNvGrpSpPr/>
            <p:nvPr/>
          </p:nvGrpSpPr>
          <p:grpSpPr>
            <a:xfrm>
              <a:off x="5334120" y="3048120"/>
              <a:ext cx="380880" cy="520560"/>
              <a:chOff x="5334120" y="3048120"/>
              <a:chExt cx="380880" cy="520560"/>
            </a:xfrm>
          </p:grpSpPr>
          <p:sp>
            <p:nvSpPr>
              <p:cNvPr id="1587" name=""/>
              <p:cNvSpPr/>
              <p:nvPr/>
            </p:nvSpPr>
            <p:spPr>
              <a:xfrm>
                <a:off x="5334120" y="31244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533412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9" name=""/>
            <p:cNvGrpSpPr/>
            <p:nvPr/>
          </p:nvGrpSpPr>
          <p:grpSpPr>
            <a:xfrm>
              <a:off x="6553080" y="3048120"/>
              <a:ext cx="432000" cy="520560"/>
              <a:chOff x="6553080" y="3048120"/>
              <a:chExt cx="432000" cy="520560"/>
            </a:xfrm>
          </p:grpSpPr>
          <p:sp>
            <p:nvSpPr>
              <p:cNvPr id="1590" name=""/>
              <p:cNvSpPr/>
              <p:nvPr/>
            </p:nvSpPr>
            <p:spPr>
              <a:xfrm>
                <a:off x="6553080" y="31370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60384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2" name=""/>
            <p:cNvGrpSpPr/>
            <p:nvPr/>
          </p:nvGrpSpPr>
          <p:grpSpPr>
            <a:xfrm>
              <a:off x="7010280" y="3048120"/>
              <a:ext cx="381240" cy="520560"/>
              <a:chOff x="7010280" y="3048120"/>
              <a:chExt cx="381240" cy="520560"/>
            </a:xfrm>
          </p:grpSpPr>
          <p:sp>
            <p:nvSpPr>
              <p:cNvPr id="1593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01028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5" name=""/>
            <p:cNvGrpSpPr/>
            <p:nvPr/>
          </p:nvGrpSpPr>
          <p:grpSpPr>
            <a:xfrm>
              <a:off x="5715000" y="3048120"/>
              <a:ext cx="380880" cy="520560"/>
              <a:chOff x="5715000" y="3048120"/>
              <a:chExt cx="380880" cy="520560"/>
            </a:xfrm>
          </p:grpSpPr>
          <p:sp>
            <p:nvSpPr>
              <p:cNvPr id="1596" name=""/>
              <p:cNvSpPr/>
              <p:nvPr/>
            </p:nvSpPr>
            <p:spPr>
              <a:xfrm>
                <a:off x="5715000" y="31244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71500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8" name=""/>
            <p:cNvGrpSpPr/>
            <p:nvPr/>
          </p:nvGrpSpPr>
          <p:grpSpPr>
            <a:xfrm>
              <a:off x="6095880" y="3048120"/>
              <a:ext cx="381240" cy="520560"/>
              <a:chOff x="6095880" y="3048120"/>
              <a:chExt cx="381240" cy="520560"/>
            </a:xfrm>
          </p:grpSpPr>
          <p:sp>
            <p:nvSpPr>
              <p:cNvPr id="1599" name=""/>
              <p:cNvSpPr/>
              <p:nvPr/>
            </p:nvSpPr>
            <p:spPr>
              <a:xfrm>
                <a:off x="6095880" y="31244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09588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1" name=""/>
          <p:cNvSpPr/>
          <p:nvPr/>
        </p:nvSpPr>
        <p:spPr>
          <a:xfrm>
            <a:off x="487692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876920" y="5410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87692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 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4952880" y="3962520"/>
            <a:ext cx="2133720" cy="520560"/>
            <a:chOff x="4952880" y="3962520"/>
            <a:chExt cx="2133720" cy="520560"/>
          </a:xfrm>
        </p:grpSpPr>
        <p:sp>
          <p:nvSpPr>
            <p:cNvPr id="1605" name=""/>
            <p:cNvSpPr/>
            <p:nvPr/>
          </p:nvSpPr>
          <p:spPr>
            <a:xfrm>
              <a:off x="7010280" y="4038480"/>
              <a:ext cx="76320" cy="38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6" name=""/>
            <p:cNvGrpSpPr/>
            <p:nvPr/>
          </p:nvGrpSpPr>
          <p:grpSpPr>
            <a:xfrm>
              <a:off x="4952880" y="3962520"/>
              <a:ext cx="381240" cy="520560"/>
              <a:chOff x="4952880" y="3962520"/>
              <a:chExt cx="381240" cy="520560"/>
            </a:xfrm>
          </p:grpSpPr>
          <p:sp>
            <p:nvSpPr>
              <p:cNvPr id="1607" name=""/>
              <p:cNvSpPr/>
              <p:nvPr/>
            </p:nvSpPr>
            <p:spPr>
              <a:xfrm>
                <a:off x="49528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49528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9" name=""/>
            <p:cNvGrpSpPr/>
            <p:nvPr/>
          </p:nvGrpSpPr>
          <p:grpSpPr>
            <a:xfrm>
              <a:off x="6553080" y="3962520"/>
              <a:ext cx="432000" cy="520560"/>
              <a:chOff x="6553080" y="3962520"/>
              <a:chExt cx="432000" cy="520560"/>
            </a:xfrm>
          </p:grpSpPr>
          <p:sp>
            <p:nvSpPr>
              <p:cNvPr id="1610" name=""/>
              <p:cNvSpPr/>
              <p:nvPr/>
            </p:nvSpPr>
            <p:spPr>
              <a:xfrm>
                <a:off x="6553080" y="40514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60384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6095880" y="3962520"/>
              <a:ext cx="381240" cy="520560"/>
              <a:chOff x="6095880" y="3962520"/>
              <a:chExt cx="381240" cy="520560"/>
            </a:xfrm>
          </p:grpSpPr>
          <p:sp>
            <p:nvSpPr>
              <p:cNvPr id="1613" name=""/>
              <p:cNvSpPr/>
              <p:nvPr/>
            </p:nvSpPr>
            <p:spPr>
              <a:xfrm>
                <a:off x="60958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0958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5" name=""/>
            <p:cNvGrpSpPr/>
            <p:nvPr/>
          </p:nvGrpSpPr>
          <p:grpSpPr>
            <a:xfrm>
              <a:off x="5334120" y="3962520"/>
              <a:ext cx="380880" cy="520560"/>
              <a:chOff x="5334120" y="3962520"/>
              <a:chExt cx="380880" cy="520560"/>
            </a:xfrm>
          </p:grpSpPr>
          <p:sp>
            <p:nvSpPr>
              <p:cNvPr id="1616" name=""/>
              <p:cNvSpPr/>
              <p:nvPr/>
            </p:nvSpPr>
            <p:spPr>
              <a:xfrm>
                <a:off x="53341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53341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5715000" y="3962520"/>
              <a:ext cx="380880" cy="520560"/>
              <a:chOff x="5715000" y="3962520"/>
              <a:chExt cx="380880" cy="520560"/>
            </a:xfrm>
          </p:grpSpPr>
          <p:sp>
            <p:nvSpPr>
              <p:cNvPr id="1619" name=""/>
              <p:cNvSpPr/>
              <p:nvPr/>
            </p:nvSpPr>
            <p:spPr>
              <a:xfrm>
                <a:off x="57150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7150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1" name=""/>
          <p:cNvGrpSpPr/>
          <p:nvPr/>
        </p:nvGrpSpPr>
        <p:grpSpPr>
          <a:xfrm>
            <a:off x="5715000" y="4876920"/>
            <a:ext cx="1371600" cy="520560"/>
            <a:chOff x="5715000" y="4876920"/>
            <a:chExt cx="1371600" cy="520560"/>
          </a:xfrm>
        </p:grpSpPr>
        <p:sp>
          <p:nvSpPr>
            <p:cNvPr id="1622" name=""/>
            <p:cNvSpPr/>
            <p:nvPr/>
          </p:nvSpPr>
          <p:spPr>
            <a:xfrm>
              <a:off x="7010280" y="4952880"/>
              <a:ext cx="76320" cy="38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5715000" y="4876920"/>
              <a:ext cx="380880" cy="520560"/>
              <a:chOff x="5715000" y="4876920"/>
              <a:chExt cx="380880" cy="520560"/>
            </a:xfrm>
          </p:grpSpPr>
          <p:sp>
            <p:nvSpPr>
              <p:cNvPr id="1624" name=""/>
              <p:cNvSpPr/>
              <p:nvPr/>
            </p:nvSpPr>
            <p:spPr>
              <a:xfrm>
                <a:off x="57150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7150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6" name=""/>
            <p:cNvGrpSpPr/>
            <p:nvPr/>
          </p:nvGrpSpPr>
          <p:grpSpPr>
            <a:xfrm>
              <a:off x="6553080" y="4876920"/>
              <a:ext cx="432000" cy="520560"/>
              <a:chOff x="6553080" y="4876920"/>
              <a:chExt cx="432000" cy="520560"/>
            </a:xfrm>
          </p:grpSpPr>
          <p:sp>
            <p:nvSpPr>
              <p:cNvPr id="1627" name=""/>
              <p:cNvSpPr/>
              <p:nvPr/>
            </p:nvSpPr>
            <p:spPr>
              <a:xfrm>
                <a:off x="6553080" y="49658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660384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6095880" y="4876920"/>
              <a:ext cx="381240" cy="520560"/>
              <a:chOff x="6095880" y="4876920"/>
              <a:chExt cx="381240" cy="520560"/>
            </a:xfrm>
          </p:grpSpPr>
          <p:sp>
            <p:nvSpPr>
              <p:cNvPr id="1630" name=""/>
              <p:cNvSpPr/>
              <p:nvPr/>
            </p:nvSpPr>
            <p:spPr>
              <a:xfrm>
                <a:off x="60958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0958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32" name=""/>
          <p:cNvSpPr/>
          <p:nvPr/>
        </p:nvSpPr>
        <p:spPr>
          <a:xfrm>
            <a:off x="4648320" y="3048120"/>
            <a:ext cx="0" cy="3352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3" name=""/>
          <p:cNvGrpSpPr/>
          <p:nvPr/>
        </p:nvGrpSpPr>
        <p:grpSpPr>
          <a:xfrm>
            <a:off x="7620120" y="3581280"/>
            <a:ext cx="990000" cy="878760"/>
            <a:chOff x="7620120" y="3581280"/>
            <a:chExt cx="990000" cy="878760"/>
          </a:xfrm>
        </p:grpSpPr>
        <p:sp>
          <p:nvSpPr>
            <p:cNvPr id="1634" name=""/>
            <p:cNvSpPr/>
            <p:nvPr/>
          </p:nvSpPr>
          <p:spPr>
            <a:xfrm>
              <a:off x="762012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8483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83055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80769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899120" y="3581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8000280" y="3936960"/>
              <a:ext cx="75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8076960" y="3936960"/>
              <a:ext cx="75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7620120" y="2666880"/>
            <a:ext cx="761400" cy="878760"/>
            <a:chOff x="7620120" y="2666880"/>
            <a:chExt cx="761400" cy="878760"/>
          </a:xfrm>
        </p:grpSpPr>
        <p:sp>
          <p:nvSpPr>
            <p:cNvPr id="1642" name=""/>
            <p:cNvSpPr/>
            <p:nvPr/>
          </p:nvSpPr>
          <p:spPr>
            <a:xfrm>
              <a:off x="762012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84836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807696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899120" y="2666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8001000" y="30222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8076960" y="30222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8" name=""/>
          <p:cNvGrpSpPr/>
          <p:nvPr/>
        </p:nvGrpSpPr>
        <p:grpSpPr>
          <a:xfrm>
            <a:off x="3886200" y="5791320"/>
            <a:ext cx="762120" cy="459720"/>
            <a:chOff x="3886200" y="5791320"/>
            <a:chExt cx="762120" cy="459720"/>
          </a:xfrm>
        </p:grpSpPr>
        <p:sp>
          <p:nvSpPr>
            <p:cNvPr id="1649" name=""/>
            <p:cNvSpPr/>
            <p:nvPr/>
          </p:nvSpPr>
          <p:spPr>
            <a:xfrm>
              <a:off x="38862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1148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3434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2" name=""/>
          <p:cNvGrpSpPr/>
          <p:nvPr/>
        </p:nvGrpSpPr>
        <p:grpSpPr>
          <a:xfrm>
            <a:off x="3886200" y="4876920"/>
            <a:ext cx="533520" cy="459720"/>
            <a:chOff x="3886200" y="4876920"/>
            <a:chExt cx="533520" cy="459720"/>
          </a:xfrm>
        </p:grpSpPr>
        <p:sp>
          <p:nvSpPr>
            <p:cNvPr id="1653" name=""/>
            <p:cNvSpPr/>
            <p:nvPr/>
          </p:nvSpPr>
          <p:spPr>
            <a:xfrm>
              <a:off x="38862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1148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5" name=""/>
          <p:cNvSpPr/>
          <p:nvPr/>
        </p:nvSpPr>
        <p:spPr>
          <a:xfrm>
            <a:off x="3886200" y="3962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4724280" y="5867280"/>
            <a:ext cx="1905120" cy="609840"/>
            <a:chOff x="4724280" y="5867280"/>
            <a:chExt cx="1905120" cy="609840"/>
          </a:xfrm>
        </p:grpSpPr>
        <p:sp>
          <p:nvSpPr>
            <p:cNvPr id="1657" name=""/>
            <p:cNvSpPr/>
            <p:nvPr/>
          </p:nvSpPr>
          <p:spPr>
            <a:xfrm flipV="1">
              <a:off x="6324480" y="6248160"/>
              <a:ext cx="304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095880" y="6324480"/>
              <a:ext cx="0" cy="152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724280" y="5867280"/>
              <a:ext cx="16002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Final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6095520" y="64771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PDAs as Models of Top-Down Parsers 1/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609480" y="1676520"/>
            <a:ext cx="8534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pp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ules that pops th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o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mbol from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 and reads th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ymbol if both coinc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334120" y="25909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6" name=""/>
          <p:cNvGrpSpPr/>
          <p:nvPr/>
        </p:nvGrpSpPr>
        <p:grpSpPr>
          <a:xfrm>
            <a:off x="1219320" y="3048120"/>
            <a:ext cx="3430440" cy="838080"/>
            <a:chOff x="1219320" y="3048120"/>
            <a:chExt cx="3430440" cy="838080"/>
          </a:xfrm>
        </p:grpSpPr>
        <p:sp>
          <p:nvSpPr>
            <p:cNvPr id="1667" name=""/>
            <p:cNvSpPr/>
            <p:nvPr/>
          </p:nvSpPr>
          <p:spPr>
            <a:xfrm>
              <a:off x="1219320" y="34290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276720" y="34290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7339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1911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7339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1911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6765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1337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6765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1337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057400" y="3048120"/>
              <a:ext cx="1752480" cy="304560"/>
            </a:xfrm>
            <a:custGeom>
              <a:avLst/>
              <a:gdLst>
                <a:gd name="textAreaLeft" fmla="*/ 462960 w 1752480"/>
                <a:gd name="textAreaRight" fmla="*/ 1289520 w 1752480"/>
                <a:gd name="textAreaTop" fmla="*/ 80280 h 304560"/>
                <a:gd name="textAreaBottom" fmla="*/ 2242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478" y="21600"/>
                  </a:lnTo>
                  <a:lnTo>
                    <a:pt x="7122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666880" y="3352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666880" y="3048120"/>
              <a:ext cx="53352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0" name=""/>
          <p:cNvGrpSpPr/>
          <p:nvPr/>
        </p:nvGrpSpPr>
        <p:grpSpPr>
          <a:xfrm>
            <a:off x="609480" y="4038480"/>
            <a:ext cx="8229600" cy="1295280"/>
            <a:chOff x="609480" y="4038480"/>
            <a:chExt cx="8229600" cy="1295280"/>
          </a:xfrm>
        </p:grpSpPr>
        <p:sp>
          <p:nvSpPr>
            <p:cNvPr id="1681" name=""/>
            <p:cNvSpPr/>
            <p:nvPr/>
          </p:nvSpPr>
          <p:spPr>
            <a:xfrm>
              <a:off x="609480" y="4038480"/>
              <a:ext cx="82296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xpansio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rules that simulate th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application of a grammatical rule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85800" y="4038480"/>
              <a:ext cx="8001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3" name=""/>
            <p:cNvGrpSpPr/>
            <p:nvPr/>
          </p:nvGrpSpPr>
          <p:grpSpPr>
            <a:xfrm>
              <a:off x="1447920" y="4800600"/>
              <a:ext cx="2592360" cy="533160"/>
              <a:chOff x="1447920" y="4800600"/>
              <a:chExt cx="2592360" cy="533160"/>
            </a:xfrm>
          </p:grpSpPr>
          <p:sp>
            <p:nvSpPr>
              <p:cNvPr id="1684" name=""/>
              <p:cNvSpPr/>
              <p:nvPr/>
            </p:nvSpPr>
            <p:spPr>
              <a:xfrm>
                <a:off x="1447920" y="4876560"/>
                <a:ext cx="53496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057400" y="480060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666880" y="4876560"/>
                <a:ext cx="13734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12408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358128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3124080" y="51814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581280" y="51814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1" name=""/>
          <p:cNvGrpSpPr/>
          <p:nvPr/>
        </p:nvGrpSpPr>
        <p:grpSpPr>
          <a:xfrm>
            <a:off x="533520" y="5410080"/>
            <a:ext cx="3531600" cy="838080"/>
            <a:chOff x="533520" y="5410080"/>
            <a:chExt cx="3531600" cy="838080"/>
          </a:xfrm>
        </p:grpSpPr>
        <p:grpSp>
          <p:nvGrpSpPr>
            <p:cNvPr id="1692" name=""/>
            <p:cNvGrpSpPr/>
            <p:nvPr/>
          </p:nvGrpSpPr>
          <p:grpSpPr>
            <a:xfrm>
              <a:off x="533520" y="5715000"/>
              <a:ext cx="3531600" cy="533160"/>
              <a:chOff x="533520" y="5715000"/>
              <a:chExt cx="3531600" cy="533160"/>
            </a:xfrm>
          </p:grpSpPr>
          <p:sp>
            <p:nvSpPr>
              <p:cNvPr id="1693" name=""/>
              <p:cNvSpPr/>
              <p:nvPr/>
            </p:nvSpPr>
            <p:spPr>
              <a:xfrm>
                <a:off x="2023920" y="5715000"/>
                <a:ext cx="54900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2651400" y="5790960"/>
                <a:ext cx="1413720" cy="45684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12192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359280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312192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359280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33520" y="5790960"/>
                <a:ext cx="1413720" cy="4568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i="1" lang="en-US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n </a:t>
                </a: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 …  a</a:t>
                </a:r>
                <a:r>
                  <a:rPr b="1" lang="en-US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00404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47456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100404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147456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4" name=""/>
            <p:cNvSpPr/>
            <p:nvPr/>
          </p:nvSpPr>
          <p:spPr>
            <a:xfrm>
              <a:off x="533520" y="5410080"/>
              <a:ext cx="1981080" cy="304920"/>
            </a:xfrm>
            <a:custGeom>
              <a:avLst/>
              <a:gdLst/>
              <a:ahLst/>
              <a:rect l="l" t="t" r="r" b="b"/>
              <a:pathLst>
                <a:path w="1304" h="192">
                  <a:moveTo>
                    <a:pt x="0" y="192"/>
                  </a:moveTo>
                  <a:lnTo>
                    <a:pt x="1304" y="192"/>
                  </a:lnTo>
                  <a:lnTo>
                    <a:pt x="1304" y="0"/>
                  </a:lnTo>
                  <a:lnTo>
                    <a:pt x="528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523880" y="541008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6" name=""/>
          <p:cNvGrpSpPr/>
          <p:nvPr/>
        </p:nvGrpSpPr>
        <p:grpSpPr>
          <a:xfrm>
            <a:off x="685800" y="2438280"/>
            <a:ext cx="4497480" cy="533520"/>
            <a:chOff x="685800" y="2438280"/>
            <a:chExt cx="4497480" cy="533520"/>
          </a:xfrm>
        </p:grpSpPr>
        <p:sp>
          <p:nvSpPr>
            <p:cNvPr id="1707" name=""/>
            <p:cNvSpPr/>
            <p:nvPr/>
          </p:nvSpPr>
          <p:spPr>
            <a:xfrm>
              <a:off x="3276720" y="2514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666880" y="2438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809880" y="251460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26708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72428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26708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72428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85800" y="2514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14300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60020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14300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60020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057400" y="2514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0" name=""/>
          <p:cNvGrpSpPr/>
          <p:nvPr/>
        </p:nvGrpSpPr>
        <p:grpSpPr>
          <a:xfrm>
            <a:off x="4038480" y="4800600"/>
            <a:ext cx="4953240" cy="1494000"/>
            <a:chOff x="4038480" y="4800600"/>
            <a:chExt cx="4953240" cy="1494000"/>
          </a:xfrm>
        </p:grpSpPr>
        <p:sp>
          <p:nvSpPr>
            <p:cNvPr id="1721" name=""/>
            <p:cNvSpPr/>
            <p:nvPr/>
          </p:nvSpPr>
          <p:spPr>
            <a:xfrm>
              <a:off x="4038480" y="4800600"/>
              <a:ext cx="487692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or every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…a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add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…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2" name=""/>
            <p:cNvGrpSpPr/>
            <p:nvPr/>
          </p:nvGrpSpPr>
          <p:grpSpPr>
            <a:xfrm>
              <a:off x="5638680" y="5715000"/>
              <a:ext cx="3353040" cy="579600"/>
              <a:chOff x="5638680" y="5715000"/>
              <a:chExt cx="3353040" cy="579600"/>
            </a:xfrm>
          </p:grpSpPr>
          <p:sp>
            <p:nvSpPr>
              <p:cNvPr id="1723" name=""/>
              <p:cNvSpPr/>
              <p:nvPr/>
            </p:nvSpPr>
            <p:spPr>
              <a:xfrm rot="5400000">
                <a:off x="6095880" y="5257440"/>
                <a:ext cx="152280" cy="106704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27720 h 1067040"/>
                  <a:gd name="textAreaBottom" fmla="*/ 1039320 h 106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715000" y="5715000"/>
                <a:ext cx="32767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reversal(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…a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5" name=""/>
          <p:cNvSpPr/>
          <p:nvPr/>
        </p:nvSpPr>
        <p:spPr>
          <a:xfrm>
            <a:off x="533520" y="1066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D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underlie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-dow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"/>
          <p:cNvSpPr/>
          <p:nvPr/>
        </p:nvSpPr>
        <p:spPr>
          <a:xfrm>
            <a:off x="6019920" y="3200400"/>
            <a:ext cx="2666880" cy="3124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172200" y="3200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PDAs as Models of Top-Down Parsers 2/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09480" y="1143000"/>
            <a:ext cx="8001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op-down construction of a derivation 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1143000" y="1523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tart pushdown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2" name=""/>
          <p:cNvGrpSpPr/>
          <p:nvPr/>
        </p:nvGrpSpPr>
        <p:grpSpPr>
          <a:xfrm>
            <a:off x="6095880" y="3657600"/>
            <a:ext cx="2070000" cy="2092680"/>
            <a:chOff x="6095880" y="3657600"/>
            <a:chExt cx="2070000" cy="2092680"/>
          </a:xfrm>
        </p:grpSpPr>
        <p:sp>
          <p:nvSpPr>
            <p:cNvPr id="1733" name=""/>
            <p:cNvSpPr/>
            <p:nvPr/>
          </p:nvSpPr>
          <p:spPr>
            <a:xfrm>
              <a:off x="6108480" y="4038480"/>
              <a:ext cx="2057400" cy="1295280"/>
            </a:xfrm>
            <a:custGeom>
              <a:avLst/>
              <a:gdLst/>
              <a:ahLst/>
              <a:rect l="l" t="t" r="r" b="b"/>
              <a:pathLst>
                <a:path w="1296" h="816">
                  <a:moveTo>
                    <a:pt x="0" y="816"/>
                  </a:moveTo>
                  <a:lnTo>
                    <a:pt x="536" y="816"/>
                  </a:lnTo>
                  <a:lnTo>
                    <a:pt x="808" y="448"/>
                  </a:lnTo>
                  <a:lnTo>
                    <a:pt x="1296" y="448"/>
                  </a:lnTo>
                  <a:lnTo>
                    <a:pt x="1296" y="200"/>
                  </a:lnTo>
                  <a:lnTo>
                    <a:pt x="920" y="0"/>
                  </a:lnTo>
                  <a:lnTo>
                    <a:pt x="672" y="0"/>
                  </a:lnTo>
                  <a:lnTo>
                    <a:pt x="0" y="816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162560" y="3657600"/>
              <a:ext cx="38088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095880" y="5333760"/>
              <a:ext cx="838080" cy="416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a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391160" y="4343400"/>
              <a:ext cx="380880" cy="366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772040" y="4343400"/>
              <a:ext cx="381240" cy="3661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8" name=""/>
          <p:cNvGrpSpPr/>
          <p:nvPr/>
        </p:nvGrpSpPr>
        <p:grpSpPr>
          <a:xfrm>
            <a:off x="6934320" y="4749840"/>
            <a:ext cx="850680" cy="1000440"/>
            <a:chOff x="6934320" y="4749840"/>
            <a:chExt cx="850680" cy="1000440"/>
          </a:xfrm>
        </p:grpSpPr>
        <p:sp>
          <p:nvSpPr>
            <p:cNvPr id="1739" name=""/>
            <p:cNvSpPr/>
            <p:nvPr/>
          </p:nvSpPr>
          <p:spPr>
            <a:xfrm>
              <a:off x="6934320" y="5333760"/>
              <a:ext cx="837720" cy="4165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b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934320" y="4749840"/>
              <a:ext cx="85068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1" name=""/>
          <p:cNvGrpSpPr/>
          <p:nvPr/>
        </p:nvGrpSpPr>
        <p:grpSpPr>
          <a:xfrm>
            <a:off x="7772400" y="4749840"/>
            <a:ext cx="851040" cy="1000440"/>
            <a:chOff x="7772400" y="4749840"/>
            <a:chExt cx="851040" cy="1000440"/>
          </a:xfrm>
        </p:grpSpPr>
        <p:sp>
          <p:nvSpPr>
            <p:cNvPr id="1742" name=""/>
            <p:cNvSpPr/>
            <p:nvPr/>
          </p:nvSpPr>
          <p:spPr>
            <a:xfrm>
              <a:off x="7772400" y="5333760"/>
              <a:ext cx="838440" cy="4165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c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H="1">
              <a:off x="7772400" y="474984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4" name=""/>
          <p:cNvGrpSpPr/>
          <p:nvPr/>
        </p:nvGrpSpPr>
        <p:grpSpPr>
          <a:xfrm>
            <a:off x="2743200" y="1892160"/>
            <a:ext cx="4343400" cy="520560"/>
            <a:chOff x="2743200" y="1892160"/>
            <a:chExt cx="4343400" cy="520560"/>
          </a:xfrm>
        </p:grpSpPr>
        <p:grpSp>
          <p:nvGrpSpPr>
            <p:cNvPr id="1745" name=""/>
            <p:cNvGrpSpPr/>
            <p:nvPr/>
          </p:nvGrpSpPr>
          <p:grpSpPr>
            <a:xfrm>
              <a:off x="2743200" y="1892160"/>
              <a:ext cx="381240" cy="520560"/>
              <a:chOff x="2743200" y="1892160"/>
              <a:chExt cx="381240" cy="520560"/>
            </a:xfrm>
          </p:grpSpPr>
          <p:sp>
            <p:nvSpPr>
              <p:cNvPr id="1746" name=""/>
              <p:cNvSpPr/>
              <p:nvPr/>
            </p:nvSpPr>
            <p:spPr>
              <a:xfrm>
                <a:off x="2743200" y="196848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2743200" y="189216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8" name=""/>
            <p:cNvGrpSpPr/>
            <p:nvPr/>
          </p:nvGrpSpPr>
          <p:grpSpPr>
            <a:xfrm>
              <a:off x="3200400" y="1892160"/>
              <a:ext cx="432000" cy="520560"/>
              <a:chOff x="3200400" y="1892160"/>
              <a:chExt cx="432000" cy="520560"/>
            </a:xfrm>
          </p:grpSpPr>
          <p:sp>
            <p:nvSpPr>
              <p:cNvPr id="1749" name=""/>
              <p:cNvSpPr/>
              <p:nvPr/>
            </p:nvSpPr>
            <p:spPr>
              <a:xfrm>
                <a:off x="3200400" y="198108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251160" y="189216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1" name=""/>
            <p:cNvGrpSpPr/>
            <p:nvPr/>
          </p:nvGrpSpPr>
          <p:grpSpPr>
            <a:xfrm>
              <a:off x="3657600" y="1892160"/>
              <a:ext cx="1142280" cy="510120"/>
              <a:chOff x="3657600" y="1892160"/>
              <a:chExt cx="1142280" cy="510120"/>
            </a:xfrm>
          </p:grpSpPr>
          <p:grpSp>
            <p:nvGrpSpPr>
              <p:cNvPr id="1752" name=""/>
              <p:cNvGrpSpPr/>
              <p:nvPr/>
            </p:nvGrpSpPr>
            <p:grpSpPr>
              <a:xfrm>
                <a:off x="3657600" y="1892160"/>
                <a:ext cx="1142280" cy="510120"/>
                <a:chOff x="3657600" y="1892160"/>
                <a:chExt cx="1142280" cy="510120"/>
              </a:xfrm>
            </p:grpSpPr>
            <p:sp>
              <p:nvSpPr>
                <p:cNvPr id="1753" name=""/>
                <p:cNvSpPr/>
                <p:nvPr/>
              </p:nvSpPr>
              <p:spPr>
                <a:xfrm>
                  <a:off x="3657600" y="1968480"/>
                  <a:ext cx="11422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3657600" y="1892160"/>
                  <a:ext cx="11422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5" name=""/>
              <p:cNvSpPr/>
              <p:nvPr/>
            </p:nvSpPr>
            <p:spPr>
              <a:xfrm>
                <a:off x="4419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4419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038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038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9" name=""/>
            <p:cNvGrpSpPr/>
            <p:nvPr/>
          </p:nvGrpSpPr>
          <p:grpSpPr>
            <a:xfrm>
              <a:off x="4800600" y="1892160"/>
              <a:ext cx="1143000" cy="510120"/>
              <a:chOff x="4800600" y="1892160"/>
              <a:chExt cx="1143000" cy="510120"/>
            </a:xfrm>
          </p:grpSpPr>
          <p:sp>
            <p:nvSpPr>
              <p:cNvPr id="1760" name=""/>
              <p:cNvSpPr/>
              <p:nvPr/>
            </p:nvSpPr>
            <p:spPr>
              <a:xfrm>
                <a:off x="4800600" y="1968120"/>
                <a:ext cx="1143000" cy="3812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800600" y="1892160"/>
                <a:ext cx="114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… 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r>
                  <a:rPr b="1" i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562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562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181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181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6" name=""/>
            <p:cNvGrpSpPr/>
            <p:nvPr/>
          </p:nvGrpSpPr>
          <p:grpSpPr>
            <a:xfrm>
              <a:off x="5943600" y="1892160"/>
              <a:ext cx="1143000" cy="510120"/>
              <a:chOff x="5943600" y="1892160"/>
              <a:chExt cx="1143000" cy="510120"/>
            </a:xfrm>
          </p:grpSpPr>
          <p:sp>
            <p:nvSpPr>
              <p:cNvPr id="1767" name=""/>
              <p:cNvSpPr/>
              <p:nvPr/>
            </p:nvSpPr>
            <p:spPr>
              <a:xfrm>
                <a:off x="5943600" y="1968120"/>
                <a:ext cx="1143000" cy="38124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5943600" y="1892160"/>
                <a:ext cx="114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… 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1" i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6705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705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6324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324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3" name=""/>
          <p:cNvSpPr/>
          <p:nvPr/>
        </p:nvSpPr>
        <p:spPr>
          <a:xfrm>
            <a:off x="2133720" y="1905120"/>
            <a:ext cx="685800" cy="2286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4" name=""/>
          <p:cNvGrpSpPr/>
          <p:nvPr/>
        </p:nvGrpSpPr>
        <p:grpSpPr>
          <a:xfrm>
            <a:off x="1219320" y="2362320"/>
            <a:ext cx="5867280" cy="736200"/>
            <a:chOff x="1219320" y="2362320"/>
            <a:chExt cx="5867280" cy="736200"/>
          </a:xfrm>
        </p:grpSpPr>
        <p:sp>
          <p:nvSpPr>
            <p:cNvPr id="1775" name=""/>
            <p:cNvSpPr/>
            <p:nvPr/>
          </p:nvSpPr>
          <p:spPr>
            <a:xfrm flipH="1">
              <a:off x="3123720" y="23623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6" name=""/>
            <p:cNvGrpSpPr/>
            <p:nvPr/>
          </p:nvGrpSpPr>
          <p:grpSpPr>
            <a:xfrm>
              <a:off x="1219320" y="2577960"/>
              <a:ext cx="5867280" cy="520560"/>
              <a:chOff x="1219320" y="2577960"/>
              <a:chExt cx="5867280" cy="520560"/>
            </a:xfrm>
          </p:grpSpPr>
          <p:grpSp>
            <p:nvGrpSpPr>
              <p:cNvPr id="1777" name=""/>
              <p:cNvGrpSpPr/>
              <p:nvPr/>
            </p:nvGrpSpPr>
            <p:grpSpPr>
              <a:xfrm>
                <a:off x="1219320" y="2577960"/>
                <a:ext cx="380880" cy="520560"/>
                <a:chOff x="1219320" y="2577960"/>
                <a:chExt cx="380880" cy="520560"/>
              </a:xfrm>
            </p:grpSpPr>
            <p:sp>
              <p:nvSpPr>
                <p:cNvPr id="1778" name=""/>
                <p:cNvSpPr/>
                <p:nvPr/>
              </p:nvSpPr>
              <p:spPr>
                <a:xfrm>
                  <a:off x="1219320" y="26539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1219320" y="25779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0" name=""/>
              <p:cNvGrpSpPr/>
              <p:nvPr/>
            </p:nvGrpSpPr>
            <p:grpSpPr>
              <a:xfrm>
                <a:off x="1600200" y="2577960"/>
                <a:ext cx="380880" cy="520560"/>
                <a:chOff x="1600200" y="2577960"/>
                <a:chExt cx="380880" cy="520560"/>
              </a:xfrm>
            </p:grpSpPr>
            <p:sp>
              <p:nvSpPr>
                <p:cNvPr id="1781" name=""/>
                <p:cNvSpPr/>
                <p:nvPr/>
              </p:nvSpPr>
              <p:spPr>
                <a:xfrm>
                  <a:off x="1600200" y="2653920"/>
                  <a:ext cx="380880" cy="3805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1600200" y="25779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3" name=""/>
              <p:cNvGrpSpPr/>
              <p:nvPr/>
            </p:nvGrpSpPr>
            <p:grpSpPr>
              <a:xfrm>
                <a:off x="3200400" y="2577960"/>
                <a:ext cx="432000" cy="520560"/>
                <a:chOff x="3200400" y="2577960"/>
                <a:chExt cx="432000" cy="520560"/>
              </a:xfrm>
            </p:grpSpPr>
            <p:sp>
              <p:nvSpPr>
                <p:cNvPr id="1784" name=""/>
                <p:cNvSpPr/>
                <p:nvPr/>
              </p:nvSpPr>
              <p:spPr>
                <a:xfrm>
                  <a:off x="3200400" y="26665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3251160" y="25779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6" name=""/>
              <p:cNvGrpSpPr/>
              <p:nvPr/>
            </p:nvGrpSpPr>
            <p:grpSpPr>
              <a:xfrm>
                <a:off x="1981440" y="2577960"/>
                <a:ext cx="1142280" cy="510120"/>
                <a:chOff x="1981440" y="2577960"/>
                <a:chExt cx="1142280" cy="510120"/>
              </a:xfrm>
            </p:grpSpPr>
            <p:grpSp>
              <p:nvGrpSpPr>
                <p:cNvPr id="1787" name=""/>
                <p:cNvGrpSpPr/>
                <p:nvPr/>
              </p:nvGrpSpPr>
              <p:grpSpPr>
                <a:xfrm>
                  <a:off x="1981440" y="2577960"/>
                  <a:ext cx="1142280" cy="510120"/>
                  <a:chOff x="1981440" y="2577960"/>
                  <a:chExt cx="1142280" cy="510120"/>
                </a:xfrm>
              </p:grpSpPr>
              <p:sp>
                <p:nvSpPr>
                  <p:cNvPr id="1788" name=""/>
                  <p:cNvSpPr/>
                  <p:nvPr/>
                </p:nvSpPr>
                <p:spPr>
                  <a:xfrm>
                    <a:off x="1981440" y="2653920"/>
                    <a:ext cx="1142280" cy="38052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9" name=""/>
                  <p:cNvSpPr/>
                  <p:nvPr/>
                </p:nvSpPr>
                <p:spPr>
                  <a:xfrm>
                    <a:off x="1981440" y="2577960"/>
                    <a:ext cx="11422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i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k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… </a:t>
                    </a: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0" name=""/>
                <p:cNvSpPr/>
                <p:nvPr/>
              </p:nvSpPr>
              <p:spPr>
                <a:xfrm>
                  <a:off x="274356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274356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236268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236268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4" name=""/>
              <p:cNvGrpSpPr/>
              <p:nvPr/>
            </p:nvGrpSpPr>
            <p:grpSpPr>
              <a:xfrm>
                <a:off x="3657600" y="2577960"/>
                <a:ext cx="1142280" cy="510120"/>
                <a:chOff x="3657600" y="2577960"/>
                <a:chExt cx="1142280" cy="510120"/>
              </a:xfrm>
            </p:grpSpPr>
            <p:grpSp>
              <p:nvGrpSpPr>
                <p:cNvPr id="1795" name=""/>
                <p:cNvGrpSpPr/>
                <p:nvPr/>
              </p:nvGrpSpPr>
              <p:grpSpPr>
                <a:xfrm>
                  <a:off x="3657600" y="2577960"/>
                  <a:ext cx="1142280" cy="510120"/>
                  <a:chOff x="3657600" y="2577960"/>
                  <a:chExt cx="1142280" cy="510120"/>
                </a:xfrm>
              </p:grpSpPr>
              <p:sp>
                <p:nvSpPr>
                  <p:cNvPr id="1796" name=""/>
                  <p:cNvSpPr/>
                  <p:nvPr/>
                </p:nvSpPr>
                <p:spPr>
                  <a:xfrm>
                    <a:off x="3657600" y="2653920"/>
                    <a:ext cx="1142280" cy="38052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>
                    <a:off x="3657600" y="2577960"/>
                    <a:ext cx="11422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… </a:t>
                    </a: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i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k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8" name=""/>
                <p:cNvSpPr/>
                <p:nvPr/>
              </p:nvSpPr>
              <p:spPr>
                <a:xfrm>
                  <a:off x="4419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4419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4038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4038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2" name=""/>
              <p:cNvGrpSpPr/>
              <p:nvPr/>
            </p:nvGrpSpPr>
            <p:grpSpPr>
              <a:xfrm>
                <a:off x="4800600" y="2577960"/>
                <a:ext cx="1143000" cy="510120"/>
                <a:chOff x="4800600" y="2577960"/>
                <a:chExt cx="1143000" cy="510120"/>
              </a:xfrm>
            </p:grpSpPr>
            <p:sp>
              <p:nvSpPr>
                <p:cNvPr id="1803" name=""/>
                <p:cNvSpPr/>
                <p:nvPr/>
              </p:nvSpPr>
              <p:spPr>
                <a:xfrm>
                  <a:off x="4800600" y="26535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4800600" y="25779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5562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5562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5181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5181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9" name=""/>
              <p:cNvGrpSpPr/>
              <p:nvPr/>
            </p:nvGrpSpPr>
            <p:grpSpPr>
              <a:xfrm>
                <a:off x="5943600" y="2577960"/>
                <a:ext cx="1143000" cy="510120"/>
                <a:chOff x="5943600" y="2577960"/>
                <a:chExt cx="1143000" cy="510120"/>
              </a:xfrm>
            </p:grpSpPr>
            <p:sp>
              <p:nvSpPr>
                <p:cNvPr id="1810" name=""/>
                <p:cNvSpPr/>
                <p:nvPr/>
              </p:nvSpPr>
              <p:spPr>
                <a:xfrm>
                  <a:off x="5943600" y="26535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5943600" y="25779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6705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6705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6324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6324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16" name=""/>
          <p:cNvGrpSpPr/>
          <p:nvPr/>
        </p:nvGrpSpPr>
        <p:grpSpPr>
          <a:xfrm>
            <a:off x="2362320" y="3048120"/>
            <a:ext cx="3581280" cy="736200"/>
            <a:chOff x="2362320" y="3048120"/>
            <a:chExt cx="3581280" cy="736200"/>
          </a:xfrm>
        </p:grpSpPr>
        <p:sp>
          <p:nvSpPr>
            <p:cNvPr id="1817" name=""/>
            <p:cNvSpPr/>
            <p:nvPr/>
          </p:nvSpPr>
          <p:spPr>
            <a:xfrm flipH="1">
              <a:off x="3123720" y="30481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8" name=""/>
            <p:cNvGrpSpPr/>
            <p:nvPr/>
          </p:nvGrpSpPr>
          <p:grpSpPr>
            <a:xfrm>
              <a:off x="2362320" y="3263760"/>
              <a:ext cx="3581280" cy="520560"/>
              <a:chOff x="2362320" y="3263760"/>
              <a:chExt cx="3581280" cy="520560"/>
            </a:xfrm>
          </p:grpSpPr>
          <p:grpSp>
            <p:nvGrpSpPr>
              <p:cNvPr id="1819" name=""/>
              <p:cNvGrpSpPr/>
              <p:nvPr/>
            </p:nvGrpSpPr>
            <p:grpSpPr>
              <a:xfrm>
                <a:off x="2362320" y="3263760"/>
                <a:ext cx="380880" cy="520560"/>
                <a:chOff x="2362320" y="3263760"/>
                <a:chExt cx="380880" cy="520560"/>
              </a:xfrm>
            </p:grpSpPr>
            <p:sp>
              <p:nvSpPr>
                <p:cNvPr id="1820" name=""/>
                <p:cNvSpPr/>
                <p:nvPr/>
              </p:nvSpPr>
              <p:spPr>
                <a:xfrm>
                  <a:off x="2362320" y="33397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2362320" y="32637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2" name=""/>
              <p:cNvGrpSpPr/>
              <p:nvPr/>
            </p:nvGrpSpPr>
            <p:grpSpPr>
              <a:xfrm>
                <a:off x="2743200" y="3263760"/>
                <a:ext cx="380880" cy="520560"/>
                <a:chOff x="2743200" y="3263760"/>
                <a:chExt cx="380880" cy="520560"/>
              </a:xfrm>
            </p:grpSpPr>
            <p:sp>
              <p:nvSpPr>
                <p:cNvPr id="1823" name=""/>
                <p:cNvSpPr/>
                <p:nvPr/>
              </p:nvSpPr>
              <p:spPr>
                <a:xfrm>
                  <a:off x="2743200" y="3339720"/>
                  <a:ext cx="380880" cy="3805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2743200" y="32637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5" name=""/>
              <p:cNvGrpSpPr/>
              <p:nvPr/>
            </p:nvGrpSpPr>
            <p:grpSpPr>
              <a:xfrm>
                <a:off x="3200400" y="3263760"/>
                <a:ext cx="432000" cy="520560"/>
                <a:chOff x="3200400" y="3263760"/>
                <a:chExt cx="432000" cy="520560"/>
              </a:xfrm>
            </p:grpSpPr>
            <p:sp>
              <p:nvSpPr>
                <p:cNvPr id="1826" name=""/>
                <p:cNvSpPr/>
                <p:nvPr/>
              </p:nvSpPr>
              <p:spPr>
                <a:xfrm>
                  <a:off x="3200400" y="33523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3251160" y="32637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8" name=""/>
              <p:cNvGrpSpPr/>
              <p:nvPr/>
            </p:nvGrpSpPr>
            <p:grpSpPr>
              <a:xfrm>
                <a:off x="3657600" y="3263760"/>
                <a:ext cx="1143000" cy="510120"/>
                <a:chOff x="3657600" y="3263760"/>
                <a:chExt cx="1143000" cy="510120"/>
              </a:xfrm>
            </p:grpSpPr>
            <p:sp>
              <p:nvSpPr>
                <p:cNvPr id="1829" name=""/>
                <p:cNvSpPr/>
                <p:nvPr/>
              </p:nvSpPr>
              <p:spPr>
                <a:xfrm>
                  <a:off x="3657600" y="33393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3657600" y="32637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441972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441972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403884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403884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5" name=""/>
              <p:cNvGrpSpPr/>
              <p:nvPr/>
            </p:nvGrpSpPr>
            <p:grpSpPr>
              <a:xfrm>
                <a:off x="4800600" y="3263760"/>
                <a:ext cx="1143000" cy="510120"/>
                <a:chOff x="4800600" y="3263760"/>
                <a:chExt cx="1143000" cy="510120"/>
              </a:xfrm>
            </p:grpSpPr>
            <p:sp>
              <p:nvSpPr>
                <p:cNvPr id="1836" name=""/>
                <p:cNvSpPr/>
                <p:nvPr/>
              </p:nvSpPr>
              <p:spPr>
                <a:xfrm>
                  <a:off x="4800600" y="33393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4800600" y="32637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556272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556272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518184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518184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42" name=""/>
          <p:cNvGrpSpPr/>
          <p:nvPr/>
        </p:nvGrpSpPr>
        <p:grpSpPr>
          <a:xfrm>
            <a:off x="1600200" y="3733920"/>
            <a:ext cx="4343400" cy="736200"/>
            <a:chOff x="1600200" y="3733920"/>
            <a:chExt cx="4343400" cy="736200"/>
          </a:xfrm>
        </p:grpSpPr>
        <p:grpSp>
          <p:nvGrpSpPr>
            <p:cNvPr id="1843" name=""/>
            <p:cNvGrpSpPr/>
            <p:nvPr/>
          </p:nvGrpSpPr>
          <p:grpSpPr>
            <a:xfrm>
              <a:off x="1600200" y="3949560"/>
              <a:ext cx="4343400" cy="520560"/>
              <a:chOff x="1600200" y="3949560"/>
              <a:chExt cx="4343400" cy="520560"/>
            </a:xfrm>
          </p:grpSpPr>
          <p:grpSp>
            <p:nvGrpSpPr>
              <p:cNvPr id="1844" name=""/>
              <p:cNvGrpSpPr/>
              <p:nvPr/>
            </p:nvGrpSpPr>
            <p:grpSpPr>
              <a:xfrm>
                <a:off x="1600200" y="3949560"/>
                <a:ext cx="380880" cy="520560"/>
                <a:chOff x="1600200" y="3949560"/>
                <a:chExt cx="380880" cy="520560"/>
              </a:xfrm>
            </p:grpSpPr>
            <p:sp>
              <p:nvSpPr>
                <p:cNvPr id="1845" name=""/>
                <p:cNvSpPr/>
                <p:nvPr/>
              </p:nvSpPr>
              <p:spPr>
                <a:xfrm>
                  <a:off x="1600200" y="40255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1600200" y="39495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7" name=""/>
              <p:cNvGrpSpPr/>
              <p:nvPr/>
            </p:nvGrpSpPr>
            <p:grpSpPr>
              <a:xfrm>
                <a:off x="3200400" y="3949560"/>
                <a:ext cx="432000" cy="520560"/>
                <a:chOff x="3200400" y="3949560"/>
                <a:chExt cx="432000" cy="520560"/>
              </a:xfrm>
            </p:grpSpPr>
            <p:sp>
              <p:nvSpPr>
                <p:cNvPr id="1848" name=""/>
                <p:cNvSpPr/>
                <p:nvPr/>
              </p:nvSpPr>
              <p:spPr>
                <a:xfrm>
                  <a:off x="3200400" y="40381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3251160" y="39495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0" name=""/>
              <p:cNvGrpSpPr/>
              <p:nvPr/>
            </p:nvGrpSpPr>
            <p:grpSpPr>
              <a:xfrm>
                <a:off x="3657600" y="3949560"/>
                <a:ext cx="1143000" cy="510120"/>
                <a:chOff x="3657600" y="3949560"/>
                <a:chExt cx="1143000" cy="510120"/>
              </a:xfrm>
            </p:grpSpPr>
            <p:sp>
              <p:nvSpPr>
                <p:cNvPr id="1851" name=""/>
                <p:cNvSpPr/>
                <p:nvPr/>
              </p:nvSpPr>
              <p:spPr>
                <a:xfrm>
                  <a:off x="3657600" y="40251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365760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441972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441972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403884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403884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7" name=""/>
              <p:cNvGrpSpPr/>
              <p:nvPr/>
            </p:nvGrpSpPr>
            <p:grpSpPr>
              <a:xfrm>
                <a:off x="4800600" y="3949560"/>
                <a:ext cx="1143000" cy="510120"/>
                <a:chOff x="4800600" y="3949560"/>
                <a:chExt cx="1143000" cy="510120"/>
              </a:xfrm>
            </p:grpSpPr>
            <p:sp>
              <p:nvSpPr>
                <p:cNvPr id="1858" name=""/>
                <p:cNvSpPr/>
                <p:nvPr/>
              </p:nvSpPr>
              <p:spPr>
                <a:xfrm>
                  <a:off x="4800600" y="40251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480060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556272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556272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518184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518184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4" name=""/>
              <p:cNvGrpSpPr/>
              <p:nvPr/>
            </p:nvGrpSpPr>
            <p:grpSpPr>
              <a:xfrm>
                <a:off x="1981440" y="3949560"/>
                <a:ext cx="1143000" cy="510120"/>
                <a:chOff x="1981440" y="3949560"/>
                <a:chExt cx="1143000" cy="510120"/>
              </a:xfrm>
            </p:grpSpPr>
            <p:sp>
              <p:nvSpPr>
                <p:cNvPr id="1865" name=""/>
                <p:cNvSpPr/>
                <p:nvPr/>
              </p:nvSpPr>
              <p:spPr>
                <a:xfrm>
                  <a:off x="1981440" y="40251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198144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274356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274356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236268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236268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1" name=""/>
            <p:cNvSpPr/>
            <p:nvPr/>
          </p:nvSpPr>
          <p:spPr>
            <a:xfrm flipH="1">
              <a:off x="3123720" y="37339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2" name=""/>
          <p:cNvGrpSpPr/>
          <p:nvPr/>
        </p:nvGrpSpPr>
        <p:grpSpPr>
          <a:xfrm>
            <a:off x="2743200" y="4419720"/>
            <a:ext cx="2057400" cy="736200"/>
            <a:chOff x="2743200" y="4419720"/>
            <a:chExt cx="2057400" cy="736200"/>
          </a:xfrm>
        </p:grpSpPr>
        <p:grpSp>
          <p:nvGrpSpPr>
            <p:cNvPr id="1873" name=""/>
            <p:cNvGrpSpPr/>
            <p:nvPr/>
          </p:nvGrpSpPr>
          <p:grpSpPr>
            <a:xfrm>
              <a:off x="2743200" y="4635360"/>
              <a:ext cx="2057400" cy="520560"/>
              <a:chOff x="2743200" y="4635360"/>
              <a:chExt cx="2057400" cy="520560"/>
            </a:xfrm>
          </p:grpSpPr>
          <p:grpSp>
            <p:nvGrpSpPr>
              <p:cNvPr id="1874" name=""/>
              <p:cNvGrpSpPr/>
              <p:nvPr/>
            </p:nvGrpSpPr>
            <p:grpSpPr>
              <a:xfrm>
                <a:off x="2743200" y="4635360"/>
                <a:ext cx="380880" cy="520560"/>
                <a:chOff x="2743200" y="4635360"/>
                <a:chExt cx="380880" cy="520560"/>
              </a:xfrm>
            </p:grpSpPr>
            <p:sp>
              <p:nvSpPr>
                <p:cNvPr id="1875" name=""/>
                <p:cNvSpPr/>
                <p:nvPr/>
              </p:nvSpPr>
              <p:spPr>
                <a:xfrm>
                  <a:off x="2743200" y="47113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2743200" y="46353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7" name=""/>
              <p:cNvGrpSpPr/>
              <p:nvPr/>
            </p:nvGrpSpPr>
            <p:grpSpPr>
              <a:xfrm>
                <a:off x="3200400" y="4635360"/>
                <a:ext cx="432000" cy="520560"/>
                <a:chOff x="3200400" y="4635360"/>
                <a:chExt cx="432000" cy="520560"/>
              </a:xfrm>
            </p:grpSpPr>
            <p:sp>
              <p:nvSpPr>
                <p:cNvPr id="1878" name=""/>
                <p:cNvSpPr/>
                <p:nvPr/>
              </p:nvSpPr>
              <p:spPr>
                <a:xfrm>
                  <a:off x="3200400" y="47239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3251160" y="46353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0" name=""/>
              <p:cNvGrpSpPr/>
              <p:nvPr/>
            </p:nvGrpSpPr>
            <p:grpSpPr>
              <a:xfrm>
                <a:off x="3657600" y="4635360"/>
                <a:ext cx="1143000" cy="510120"/>
                <a:chOff x="3657600" y="4635360"/>
                <a:chExt cx="1143000" cy="510120"/>
              </a:xfrm>
            </p:grpSpPr>
            <p:sp>
              <p:nvSpPr>
                <p:cNvPr id="1881" name=""/>
                <p:cNvSpPr/>
                <p:nvPr/>
              </p:nvSpPr>
              <p:spPr>
                <a:xfrm>
                  <a:off x="3657600" y="47109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3657600" y="46353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4419720" y="4710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4419720" y="4939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4038840" y="4710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4038840" y="4939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87" name=""/>
            <p:cNvSpPr/>
            <p:nvPr/>
          </p:nvSpPr>
          <p:spPr>
            <a:xfrm flipH="1">
              <a:off x="3123720" y="44197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1981080" y="5105520"/>
            <a:ext cx="2819160" cy="749160"/>
            <a:chOff x="1981080" y="5105520"/>
            <a:chExt cx="2819160" cy="749160"/>
          </a:xfrm>
        </p:grpSpPr>
        <p:grpSp>
          <p:nvGrpSpPr>
            <p:cNvPr id="1889" name=""/>
            <p:cNvGrpSpPr/>
            <p:nvPr/>
          </p:nvGrpSpPr>
          <p:grpSpPr>
            <a:xfrm>
              <a:off x="1981080" y="5334120"/>
              <a:ext cx="2819160" cy="520560"/>
              <a:chOff x="1981080" y="5334120"/>
              <a:chExt cx="2819160" cy="520560"/>
            </a:xfrm>
          </p:grpSpPr>
          <p:grpSp>
            <p:nvGrpSpPr>
              <p:cNvPr id="1890" name=""/>
              <p:cNvGrpSpPr/>
              <p:nvPr/>
            </p:nvGrpSpPr>
            <p:grpSpPr>
              <a:xfrm>
                <a:off x="3200040" y="5334120"/>
                <a:ext cx="432000" cy="520560"/>
                <a:chOff x="3200040" y="5334120"/>
                <a:chExt cx="432000" cy="520560"/>
              </a:xfrm>
            </p:grpSpPr>
            <p:sp>
              <p:nvSpPr>
                <p:cNvPr id="1891" name=""/>
                <p:cNvSpPr/>
                <p:nvPr/>
              </p:nvSpPr>
              <p:spPr>
                <a:xfrm>
                  <a:off x="3200040" y="5423040"/>
                  <a:ext cx="38124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3250800" y="533412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3" name=""/>
              <p:cNvGrpSpPr/>
              <p:nvPr/>
            </p:nvGrpSpPr>
            <p:grpSpPr>
              <a:xfrm>
                <a:off x="3657240" y="5334120"/>
                <a:ext cx="1143000" cy="510120"/>
                <a:chOff x="3657240" y="5334120"/>
                <a:chExt cx="1143000" cy="510120"/>
              </a:xfrm>
            </p:grpSpPr>
            <p:sp>
              <p:nvSpPr>
                <p:cNvPr id="1894" name=""/>
                <p:cNvSpPr/>
                <p:nvPr/>
              </p:nvSpPr>
              <p:spPr>
                <a:xfrm>
                  <a:off x="3657240" y="541008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3657240" y="533412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441936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441936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403848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403848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0" name=""/>
              <p:cNvGrpSpPr/>
              <p:nvPr/>
            </p:nvGrpSpPr>
            <p:grpSpPr>
              <a:xfrm>
                <a:off x="1981080" y="5334120"/>
                <a:ext cx="1143000" cy="510120"/>
                <a:chOff x="1981080" y="5334120"/>
                <a:chExt cx="1143000" cy="510120"/>
              </a:xfrm>
            </p:grpSpPr>
            <p:sp>
              <p:nvSpPr>
                <p:cNvPr id="1901" name=""/>
                <p:cNvSpPr/>
                <p:nvPr/>
              </p:nvSpPr>
              <p:spPr>
                <a:xfrm>
                  <a:off x="1981080" y="541008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1981080" y="533412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274320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274320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236232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236232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07" name=""/>
            <p:cNvSpPr/>
            <p:nvPr/>
          </p:nvSpPr>
          <p:spPr>
            <a:xfrm flipH="1">
              <a:off x="3123360" y="510552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8" name=""/>
          <p:cNvGrpSpPr/>
          <p:nvPr/>
        </p:nvGrpSpPr>
        <p:grpSpPr>
          <a:xfrm>
            <a:off x="3048120" y="5791320"/>
            <a:ext cx="685800" cy="718560"/>
            <a:chOff x="3048120" y="5791320"/>
            <a:chExt cx="685800" cy="718560"/>
          </a:xfrm>
        </p:grpSpPr>
        <p:grpSp>
          <p:nvGrpSpPr>
            <p:cNvPr id="1909" name=""/>
            <p:cNvGrpSpPr/>
            <p:nvPr/>
          </p:nvGrpSpPr>
          <p:grpSpPr>
            <a:xfrm>
              <a:off x="3048120" y="6019920"/>
              <a:ext cx="685800" cy="489960"/>
              <a:chOff x="3048120" y="6019920"/>
              <a:chExt cx="685800" cy="489960"/>
            </a:xfrm>
          </p:grpSpPr>
          <p:grpSp>
            <p:nvGrpSpPr>
              <p:cNvPr id="1910" name=""/>
              <p:cNvGrpSpPr/>
              <p:nvPr/>
            </p:nvGrpSpPr>
            <p:grpSpPr>
              <a:xfrm>
                <a:off x="3200400" y="6019920"/>
                <a:ext cx="431640" cy="489960"/>
                <a:chOff x="3200400" y="6019920"/>
                <a:chExt cx="431640" cy="489960"/>
              </a:xfrm>
            </p:grpSpPr>
            <p:sp>
              <p:nvSpPr>
                <p:cNvPr id="1911" name=""/>
                <p:cNvSpPr/>
                <p:nvPr/>
              </p:nvSpPr>
              <p:spPr>
                <a:xfrm>
                  <a:off x="3200400" y="612144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3251160" y="6019920"/>
                  <a:ext cx="3808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6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3" name=""/>
              <p:cNvSpPr/>
              <p:nvPr/>
            </p:nvSpPr>
            <p:spPr>
              <a:xfrm>
                <a:off x="3048120" y="6095880"/>
                <a:ext cx="7596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3657600" y="6095880"/>
                <a:ext cx="7632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5" name=""/>
            <p:cNvSpPr/>
            <p:nvPr/>
          </p:nvSpPr>
          <p:spPr>
            <a:xfrm flipH="1">
              <a:off x="3123720" y="579132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6" name=""/>
          <p:cNvSpPr/>
          <p:nvPr/>
        </p:nvSpPr>
        <p:spPr>
          <a:xfrm flipV="1">
            <a:off x="380880" y="2133720"/>
            <a:ext cx="457200" cy="3581280"/>
          </a:xfrm>
          <a:prstGeom prst="upArrow">
            <a:avLst>
              <a:gd name="adj1" fmla="val 41667"/>
              <a:gd name="adj2" fmla="val 72275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7" name=""/>
          <p:cNvGrpSpPr/>
          <p:nvPr/>
        </p:nvGrpSpPr>
        <p:grpSpPr>
          <a:xfrm>
            <a:off x="6095520" y="5791320"/>
            <a:ext cx="762480" cy="535680"/>
            <a:chOff x="6095520" y="5791320"/>
            <a:chExt cx="762480" cy="535680"/>
          </a:xfrm>
        </p:grpSpPr>
        <p:sp>
          <p:nvSpPr>
            <p:cNvPr id="1918" name=""/>
            <p:cNvSpPr/>
            <p:nvPr/>
          </p:nvSpPr>
          <p:spPr>
            <a:xfrm rot="5400000">
              <a:off x="6438600" y="5448240"/>
              <a:ext cx="75960" cy="76212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095880" y="5867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0" name=""/>
          <p:cNvGrpSpPr/>
          <p:nvPr/>
        </p:nvGrpSpPr>
        <p:grpSpPr>
          <a:xfrm>
            <a:off x="6934320" y="5791320"/>
            <a:ext cx="761760" cy="535680"/>
            <a:chOff x="6934320" y="5791320"/>
            <a:chExt cx="761760" cy="535680"/>
          </a:xfrm>
        </p:grpSpPr>
        <p:sp>
          <p:nvSpPr>
            <p:cNvPr id="1921" name=""/>
            <p:cNvSpPr/>
            <p:nvPr/>
          </p:nvSpPr>
          <p:spPr>
            <a:xfrm rot="5400000">
              <a:off x="7277040" y="5448240"/>
              <a:ext cx="75960" cy="76176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934320" y="5867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3" name=""/>
          <p:cNvGrpSpPr/>
          <p:nvPr/>
        </p:nvGrpSpPr>
        <p:grpSpPr>
          <a:xfrm>
            <a:off x="7772040" y="5791320"/>
            <a:ext cx="762480" cy="535680"/>
            <a:chOff x="7772040" y="5791320"/>
            <a:chExt cx="762480" cy="535680"/>
          </a:xfrm>
        </p:grpSpPr>
        <p:sp>
          <p:nvSpPr>
            <p:cNvPr id="1924" name=""/>
            <p:cNvSpPr/>
            <p:nvPr/>
          </p:nvSpPr>
          <p:spPr>
            <a:xfrm rot="5400000">
              <a:off x="8115120" y="5448240"/>
              <a:ext cx="75960" cy="76212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772400" y="5867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6" name=""/>
          <p:cNvSpPr/>
          <p:nvPr/>
        </p:nvSpPr>
        <p:spPr>
          <a:xfrm>
            <a:off x="838080" y="2286000"/>
            <a:ext cx="243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85800" y="35812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685800" y="49528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9" name=""/>
          <p:cNvGrpSpPr/>
          <p:nvPr/>
        </p:nvGrpSpPr>
        <p:grpSpPr>
          <a:xfrm>
            <a:off x="914400" y="5867280"/>
            <a:ext cx="2133720" cy="825480"/>
            <a:chOff x="914400" y="5867280"/>
            <a:chExt cx="2133720" cy="825480"/>
          </a:xfrm>
        </p:grpSpPr>
        <p:sp>
          <p:nvSpPr>
            <p:cNvPr id="1930" name=""/>
            <p:cNvSpPr/>
            <p:nvPr/>
          </p:nvSpPr>
          <p:spPr>
            <a:xfrm flipV="1">
              <a:off x="2743200" y="6248160"/>
              <a:ext cx="304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914400" y="586728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H="1">
              <a:off x="2514240" y="64771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"/>
          <p:cNvSpPr/>
          <p:nvPr/>
        </p:nvSpPr>
        <p:spPr>
          <a:xfrm>
            <a:off x="609480" y="1143000"/>
            <a:ext cx="853452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G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609480" y="2057400"/>
            <a:ext cx="815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reversal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om CFG to 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om CFG to PDA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09480" y="1143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609480" y="2819520"/>
            <a:ext cx="5562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762120" y="2133720"/>
            <a:ext cx="75438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PDA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4114800" y="37339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609480" y="3276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286000" y="3276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4648320" y="3276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609480" y="49528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1295280" y="3733920"/>
            <a:ext cx="15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1371600" y="4952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1828800" y="426708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743200" y="4952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114800" y="4952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5867280" y="4952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172200" y="37339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2743200" y="373392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200400" y="426708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609480" y="6019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9" name=""/>
          <p:cNvGrpSpPr/>
          <p:nvPr/>
        </p:nvGrpSpPr>
        <p:grpSpPr>
          <a:xfrm>
            <a:off x="4114800" y="4114440"/>
            <a:ext cx="1371600" cy="914760"/>
            <a:chOff x="4114800" y="4114440"/>
            <a:chExt cx="1371600" cy="914760"/>
          </a:xfrm>
        </p:grpSpPr>
        <p:sp>
          <p:nvSpPr>
            <p:cNvPr id="1960" name=""/>
            <p:cNvSpPr/>
            <p:nvPr/>
          </p:nvSpPr>
          <p:spPr>
            <a:xfrm rot="16200000">
              <a:off x="4191120" y="40381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rot="16200000">
              <a:off x="5029200" y="3961800"/>
              <a:ext cx="152280" cy="457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267080" y="4267080"/>
              <a:ext cx="763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105520" y="4267080"/>
              <a:ext cx="1522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800600" y="4343400"/>
              <a:ext cx="68580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5" name=""/>
          <p:cNvGrpSpPr/>
          <p:nvPr/>
        </p:nvGrpSpPr>
        <p:grpSpPr>
          <a:xfrm>
            <a:off x="6095520" y="4114440"/>
            <a:ext cx="1296000" cy="914760"/>
            <a:chOff x="6095520" y="4114440"/>
            <a:chExt cx="1296000" cy="914760"/>
          </a:xfrm>
        </p:grpSpPr>
        <p:sp>
          <p:nvSpPr>
            <p:cNvPr id="1966" name=""/>
            <p:cNvSpPr/>
            <p:nvPr/>
          </p:nvSpPr>
          <p:spPr>
            <a:xfrm rot="16200000">
              <a:off x="6248520" y="40381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rot="16200000">
              <a:off x="7010280" y="40381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H="1">
              <a:off x="6095520" y="4267080"/>
              <a:ext cx="228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H="1">
              <a:off x="6933960" y="4267080"/>
              <a:ext cx="1522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705720" y="4343400"/>
              <a:ext cx="68580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2" name=""/>
          <p:cNvGrpSpPr/>
          <p:nvPr/>
        </p:nvGrpSpPr>
        <p:grpSpPr>
          <a:xfrm>
            <a:off x="1447920" y="5410080"/>
            <a:ext cx="5715000" cy="612360"/>
            <a:chOff x="1447920" y="5410080"/>
            <a:chExt cx="5715000" cy="612360"/>
          </a:xfrm>
        </p:grpSpPr>
        <p:sp>
          <p:nvSpPr>
            <p:cNvPr id="1973" name=""/>
            <p:cNvSpPr/>
            <p:nvPr/>
          </p:nvSpPr>
          <p:spPr>
            <a:xfrm rot="16200000">
              <a:off x="2628720" y="4228920"/>
              <a:ext cx="152640" cy="25146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 rot="16200000">
              <a:off x="5618880" y="4018680"/>
              <a:ext cx="152640" cy="293544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76320 h 2935440"/>
                <a:gd name="textAreaBottom" fmla="*/ 2859120 h 293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757520" y="5562720"/>
              <a:ext cx="21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pping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691160" y="5562720"/>
              <a:ext cx="224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xpansio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om CFG to PDA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609480" y="1143000"/>
            <a:ext cx="8229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533520" y="2514600"/>
            <a:ext cx="434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( )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62120" y="3581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629400" y="6172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3" name=""/>
          <p:cNvGrpSpPr/>
          <p:nvPr/>
        </p:nvGrpSpPr>
        <p:grpSpPr>
          <a:xfrm>
            <a:off x="7620120" y="2438280"/>
            <a:ext cx="990000" cy="1335960"/>
            <a:chOff x="7620120" y="2438280"/>
            <a:chExt cx="990000" cy="1335960"/>
          </a:xfrm>
        </p:grpSpPr>
        <p:sp>
          <p:nvSpPr>
            <p:cNvPr id="1984" name=""/>
            <p:cNvSpPr/>
            <p:nvPr/>
          </p:nvSpPr>
          <p:spPr>
            <a:xfrm>
              <a:off x="762012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78483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83055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80769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7899120" y="2895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7924680" y="2438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8001000" y="32508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8076960" y="32508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8076960" y="279360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8076960" y="279360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H="1">
              <a:off x="7772040" y="279360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5" name=""/>
          <p:cNvSpPr/>
          <p:nvPr/>
        </p:nvSpPr>
        <p:spPr>
          <a:xfrm>
            <a:off x="76212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762120" y="5410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410080" y="3657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410080" y="4648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5410080" y="2743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952880" y="297180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5029200" y="5486040"/>
            <a:ext cx="1600200" cy="1130760"/>
            <a:chOff x="5029200" y="5486040"/>
            <a:chExt cx="1600200" cy="1130760"/>
          </a:xfrm>
        </p:grpSpPr>
        <p:sp>
          <p:nvSpPr>
            <p:cNvPr id="2002" name=""/>
            <p:cNvSpPr/>
            <p:nvPr/>
          </p:nvSpPr>
          <p:spPr>
            <a:xfrm flipV="1">
              <a:off x="6095880" y="548604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029200" y="579132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4" name=""/>
          <p:cNvGrpSpPr/>
          <p:nvPr/>
        </p:nvGrpSpPr>
        <p:grpSpPr>
          <a:xfrm>
            <a:off x="685800" y="3962520"/>
            <a:ext cx="3200400" cy="520560"/>
            <a:chOff x="685800" y="3962520"/>
            <a:chExt cx="3200400" cy="520560"/>
          </a:xfrm>
        </p:grpSpPr>
        <p:grpSp>
          <p:nvGrpSpPr>
            <p:cNvPr id="2005" name=""/>
            <p:cNvGrpSpPr/>
            <p:nvPr/>
          </p:nvGrpSpPr>
          <p:grpSpPr>
            <a:xfrm>
              <a:off x="1066680" y="3962520"/>
              <a:ext cx="381240" cy="520560"/>
              <a:chOff x="1066680" y="3962520"/>
              <a:chExt cx="381240" cy="520560"/>
            </a:xfrm>
          </p:grpSpPr>
          <p:sp>
            <p:nvSpPr>
              <p:cNvPr id="2006" name=""/>
              <p:cNvSpPr/>
              <p:nvPr/>
            </p:nvSpPr>
            <p:spPr>
              <a:xfrm>
                <a:off x="10666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0666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8" name=""/>
            <p:cNvGrpSpPr/>
            <p:nvPr/>
          </p:nvGrpSpPr>
          <p:grpSpPr>
            <a:xfrm>
              <a:off x="1905120" y="3962520"/>
              <a:ext cx="431280" cy="520560"/>
              <a:chOff x="1905120" y="3962520"/>
              <a:chExt cx="431280" cy="520560"/>
            </a:xfrm>
          </p:grpSpPr>
          <p:sp>
            <p:nvSpPr>
              <p:cNvPr id="2009" name=""/>
              <p:cNvSpPr/>
              <p:nvPr/>
            </p:nvSpPr>
            <p:spPr>
              <a:xfrm>
                <a:off x="1905120" y="40514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9555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1" name=""/>
            <p:cNvGrpSpPr/>
            <p:nvPr/>
          </p:nvGrpSpPr>
          <p:grpSpPr>
            <a:xfrm>
              <a:off x="3124080" y="3962520"/>
              <a:ext cx="381240" cy="520560"/>
              <a:chOff x="3124080" y="3962520"/>
              <a:chExt cx="381240" cy="520560"/>
            </a:xfrm>
          </p:grpSpPr>
          <p:sp>
            <p:nvSpPr>
              <p:cNvPr id="2012" name=""/>
              <p:cNvSpPr/>
              <p:nvPr/>
            </p:nvSpPr>
            <p:spPr>
              <a:xfrm>
                <a:off x="31240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1240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4" name=""/>
            <p:cNvGrpSpPr/>
            <p:nvPr/>
          </p:nvGrpSpPr>
          <p:grpSpPr>
            <a:xfrm>
              <a:off x="2743200" y="3962520"/>
              <a:ext cx="380880" cy="520560"/>
              <a:chOff x="2743200" y="3962520"/>
              <a:chExt cx="380880" cy="520560"/>
            </a:xfrm>
          </p:grpSpPr>
          <p:sp>
            <p:nvSpPr>
              <p:cNvPr id="2015" name=""/>
              <p:cNvSpPr/>
              <p:nvPr/>
            </p:nvSpPr>
            <p:spPr>
              <a:xfrm>
                <a:off x="27432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432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7" name=""/>
            <p:cNvGrpSpPr/>
            <p:nvPr/>
          </p:nvGrpSpPr>
          <p:grpSpPr>
            <a:xfrm>
              <a:off x="2362320" y="3962520"/>
              <a:ext cx="380880" cy="520560"/>
              <a:chOff x="2362320" y="3962520"/>
              <a:chExt cx="380880" cy="520560"/>
            </a:xfrm>
          </p:grpSpPr>
          <p:sp>
            <p:nvSpPr>
              <p:cNvPr id="2018" name=""/>
              <p:cNvSpPr/>
              <p:nvPr/>
            </p:nvSpPr>
            <p:spPr>
              <a:xfrm>
                <a:off x="2362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362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0" name=""/>
            <p:cNvGrpSpPr/>
            <p:nvPr/>
          </p:nvGrpSpPr>
          <p:grpSpPr>
            <a:xfrm>
              <a:off x="3505320" y="3962520"/>
              <a:ext cx="380880" cy="520560"/>
              <a:chOff x="3505320" y="3962520"/>
              <a:chExt cx="380880" cy="520560"/>
            </a:xfrm>
          </p:grpSpPr>
          <p:sp>
            <p:nvSpPr>
              <p:cNvPr id="2021" name=""/>
              <p:cNvSpPr/>
              <p:nvPr/>
            </p:nvSpPr>
            <p:spPr>
              <a:xfrm>
                <a:off x="3505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3505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3" name=""/>
            <p:cNvGrpSpPr/>
            <p:nvPr/>
          </p:nvGrpSpPr>
          <p:grpSpPr>
            <a:xfrm>
              <a:off x="685800" y="3962520"/>
              <a:ext cx="380880" cy="520560"/>
              <a:chOff x="685800" y="3962520"/>
              <a:chExt cx="380880" cy="520560"/>
            </a:xfrm>
          </p:grpSpPr>
          <p:sp>
            <p:nvSpPr>
              <p:cNvPr id="2024" name=""/>
              <p:cNvSpPr/>
              <p:nvPr/>
            </p:nvSpPr>
            <p:spPr>
              <a:xfrm>
                <a:off x="6858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685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6" name=""/>
            <p:cNvGrpSpPr/>
            <p:nvPr/>
          </p:nvGrpSpPr>
          <p:grpSpPr>
            <a:xfrm>
              <a:off x="1447920" y="3962520"/>
              <a:ext cx="380880" cy="520560"/>
              <a:chOff x="1447920" y="3962520"/>
              <a:chExt cx="380880" cy="520560"/>
            </a:xfrm>
          </p:grpSpPr>
          <p:sp>
            <p:nvSpPr>
              <p:cNvPr id="2027" name=""/>
              <p:cNvSpPr/>
              <p:nvPr/>
            </p:nvSpPr>
            <p:spPr>
              <a:xfrm>
                <a:off x="14479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4479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29" name=""/>
          <p:cNvSpPr/>
          <p:nvPr/>
        </p:nvSpPr>
        <p:spPr>
          <a:xfrm flipH="1">
            <a:off x="533520" y="4495680"/>
            <a:ext cx="129528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0" name=""/>
          <p:cNvGrpSpPr/>
          <p:nvPr/>
        </p:nvGrpSpPr>
        <p:grpSpPr>
          <a:xfrm>
            <a:off x="1066680" y="4876920"/>
            <a:ext cx="2438640" cy="520560"/>
            <a:chOff x="1066680" y="4876920"/>
            <a:chExt cx="2438640" cy="520560"/>
          </a:xfrm>
        </p:grpSpPr>
        <p:grpSp>
          <p:nvGrpSpPr>
            <p:cNvPr id="2031" name=""/>
            <p:cNvGrpSpPr/>
            <p:nvPr/>
          </p:nvGrpSpPr>
          <p:grpSpPr>
            <a:xfrm>
              <a:off x="1447920" y="4876920"/>
              <a:ext cx="380880" cy="520560"/>
              <a:chOff x="1447920" y="4876920"/>
              <a:chExt cx="380880" cy="520560"/>
            </a:xfrm>
          </p:grpSpPr>
          <p:sp>
            <p:nvSpPr>
              <p:cNvPr id="2032" name=""/>
              <p:cNvSpPr/>
              <p:nvPr/>
            </p:nvSpPr>
            <p:spPr>
              <a:xfrm>
                <a:off x="14479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4479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4" name=""/>
            <p:cNvGrpSpPr/>
            <p:nvPr/>
          </p:nvGrpSpPr>
          <p:grpSpPr>
            <a:xfrm>
              <a:off x="1905120" y="4876920"/>
              <a:ext cx="431280" cy="520560"/>
              <a:chOff x="1905120" y="4876920"/>
              <a:chExt cx="431280" cy="520560"/>
            </a:xfrm>
          </p:grpSpPr>
          <p:sp>
            <p:nvSpPr>
              <p:cNvPr id="2035" name=""/>
              <p:cNvSpPr/>
              <p:nvPr/>
            </p:nvSpPr>
            <p:spPr>
              <a:xfrm>
                <a:off x="1905120" y="4965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9555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7" name=""/>
            <p:cNvGrpSpPr/>
            <p:nvPr/>
          </p:nvGrpSpPr>
          <p:grpSpPr>
            <a:xfrm>
              <a:off x="2743200" y="4876920"/>
              <a:ext cx="380880" cy="520560"/>
              <a:chOff x="2743200" y="4876920"/>
              <a:chExt cx="380880" cy="520560"/>
            </a:xfrm>
          </p:grpSpPr>
          <p:sp>
            <p:nvSpPr>
              <p:cNvPr id="2038" name=""/>
              <p:cNvSpPr/>
              <p:nvPr/>
            </p:nvSpPr>
            <p:spPr>
              <a:xfrm>
                <a:off x="27432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7432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0" name=""/>
            <p:cNvGrpSpPr/>
            <p:nvPr/>
          </p:nvGrpSpPr>
          <p:grpSpPr>
            <a:xfrm>
              <a:off x="2362320" y="4876920"/>
              <a:ext cx="380880" cy="520560"/>
              <a:chOff x="2362320" y="4876920"/>
              <a:chExt cx="380880" cy="520560"/>
            </a:xfrm>
          </p:grpSpPr>
          <p:sp>
            <p:nvSpPr>
              <p:cNvPr id="2041" name=""/>
              <p:cNvSpPr/>
              <p:nvPr/>
            </p:nvSpPr>
            <p:spPr>
              <a:xfrm>
                <a:off x="23623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3623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3" name=""/>
            <p:cNvGrpSpPr/>
            <p:nvPr/>
          </p:nvGrpSpPr>
          <p:grpSpPr>
            <a:xfrm>
              <a:off x="3124080" y="4876920"/>
              <a:ext cx="381240" cy="520560"/>
              <a:chOff x="3124080" y="4876920"/>
              <a:chExt cx="381240" cy="520560"/>
            </a:xfrm>
          </p:grpSpPr>
          <p:sp>
            <p:nvSpPr>
              <p:cNvPr id="2044" name=""/>
              <p:cNvSpPr/>
              <p:nvPr/>
            </p:nvSpPr>
            <p:spPr>
              <a:xfrm>
                <a:off x="31240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31240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6" name=""/>
            <p:cNvGrpSpPr/>
            <p:nvPr/>
          </p:nvGrpSpPr>
          <p:grpSpPr>
            <a:xfrm>
              <a:off x="1066680" y="4876920"/>
              <a:ext cx="381240" cy="520560"/>
              <a:chOff x="1066680" y="4876920"/>
              <a:chExt cx="381240" cy="520560"/>
            </a:xfrm>
          </p:grpSpPr>
          <p:sp>
            <p:nvSpPr>
              <p:cNvPr id="2047" name=""/>
              <p:cNvSpPr/>
              <p:nvPr/>
            </p:nvSpPr>
            <p:spPr>
              <a:xfrm>
                <a:off x="10666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0666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9" name=""/>
          <p:cNvSpPr/>
          <p:nvPr/>
        </p:nvSpPr>
        <p:spPr>
          <a:xfrm flipH="1">
            <a:off x="914400" y="5410080"/>
            <a:ext cx="9144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0" name=""/>
          <p:cNvGrpSpPr/>
          <p:nvPr/>
        </p:nvGrpSpPr>
        <p:grpSpPr>
          <a:xfrm>
            <a:off x="685800" y="5791320"/>
            <a:ext cx="2819520" cy="520560"/>
            <a:chOff x="685800" y="5791320"/>
            <a:chExt cx="2819520" cy="520560"/>
          </a:xfrm>
        </p:grpSpPr>
        <p:grpSp>
          <p:nvGrpSpPr>
            <p:cNvPr id="2051" name=""/>
            <p:cNvGrpSpPr/>
            <p:nvPr/>
          </p:nvGrpSpPr>
          <p:grpSpPr>
            <a:xfrm>
              <a:off x="1905120" y="5791320"/>
              <a:ext cx="431280" cy="520560"/>
              <a:chOff x="1905120" y="5791320"/>
              <a:chExt cx="431280" cy="520560"/>
            </a:xfrm>
          </p:grpSpPr>
          <p:sp>
            <p:nvSpPr>
              <p:cNvPr id="2052" name=""/>
              <p:cNvSpPr/>
              <p:nvPr/>
            </p:nvSpPr>
            <p:spPr>
              <a:xfrm>
                <a:off x="1905120" y="58802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19555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4" name=""/>
            <p:cNvGrpSpPr/>
            <p:nvPr/>
          </p:nvGrpSpPr>
          <p:grpSpPr>
            <a:xfrm>
              <a:off x="2743200" y="5791320"/>
              <a:ext cx="381240" cy="520560"/>
              <a:chOff x="2743200" y="5791320"/>
              <a:chExt cx="381240" cy="520560"/>
            </a:xfrm>
          </p:grpSpPr>
          <p:sp>
            <p:nvSpPr>
              <p:cNvPr id="2055" name=""/>
              <p:cNvSpPr/>
              <p:nvPr/>
            </p:nvSpPr>
            <p:spPr>
              <a:xfrm>
                <a:off x="274320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274320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7" name=""/>
            <p:cNvGrpSpPr/>
            <p:nvPr/>
          </p:nvGrpSpPr>
          <p:grpSpPr>
            <a:xfrm>
              <a:off x="2362320" y="5791320"/>
              <a:ext cx="380880" cy="520560"/>
              <a:chOff x="2362320" y="5791320"/>
              <a:chExt cx="380880" cy="520560"/>
            </a:xfrm>
          </p:grpSpPr>
          <p:sp>
            <p:nvSpPr>
              <p:cNvPr id="2058" name=""/>
              <p:cNvSpPr/>
              <p:nvPr/>
            </p:nvSpPr>
            <p:spPr>
              <a:xfrm>
                <a:off x="236232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3623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0" name=""/>
            <p:cNvGrpSpPr/>
            <p:nvPr/>
          </p:nvGrpSpPr>
          <p:grpSpPr>
            <a:xfrm>
              <a:off x="3124440" y="5791320"/>
              <a:ext cx="380880" cy="520560"/>
              <a:chOff x="3124440" y="5791320"/>
              <a:chExt cx="380880" cy="520560"/>
            </a:xfrm>
          </p:grpSpPr>
          <p:sp>
            <p:nvSpPr>
              <p:cNvPr id="2061" name=""/>
              <p:cNvSpPr/>
              <p:nvPr/>
            </p:nvSpPr>
            <p:spPr>
              <a:xfrm>
                <a:off x="312444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312444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3" name=""/>
            <p:cNvGrpSpPr/>
            <p:nvPr/>
          </p:nvGrpSpPr>
          <p:grpSpPr>
            <a:xfrm>
              <a:off x="685800" y="5791320"/>
              <a:ext cx="381240" cy="520560"/>
              <a:chOff x="685800" y="5791320"/>
              <a:chExt cx="381240" cy="520560"/>
            </a:xfrm>
          </p:grpSpPr>
          <p:sp>
            <p:nvSpPr>
              <p:cNvPr id="2064" name=""/>
              <p:cNvSpPr/>
              <p:nvPr/>
            </p:nvSpPr>
            <p:spPr>
              <a:xfrm>
                <a:off x="68580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8580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6" name=""/>
            <p:cNvGrpSpPr/>
            <p:nvPr/>
          </p:nvGrpSpPr>
          <p:grpSpPr>
            <a:xfrm>
              <a:off x="1067040" y="5791320"/>
              <a:ext cx="380880" cy="520560"/>
              <a:chOff x="1067040" y="5791320"/>
              <a:chExt cx="380880" cy="520560"/>
            </a:xfrm>
          </p:grpSpPr>
          <p:sp>
            <p:nvSpPr>
              <p:cNvPr id="2067" name=""/>
              <p:cNvSpPr/>
              <p:nvPr/>
            </p:nvSpPr>
            <p:spPr>
              <a:xfrm>
                <a:off x="106704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106704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9" name=""/>
            <p:cNvGrpSpPr/>
            <p:nvPr/>
          </p:nvGrpSpPr>
          <p:grpSpPr>
            <a:xfrm>
              <a:off x="1447920" y="5791320"/>
              <a:ext cx="380880" cy="520560"/>
              <a:chOff x="1447920" y="5791320"/>
              <a:chExt cx="380880" cy="520560"/>
            </a:xfrm>
          </p:grpSpPr>
          <p:sp>
            <p:nvSpPr>
              <p:cNvPr id="2070" name=""/>
              <p:cNvSpPr/>
              <p:nvPr/>
            </p:nvSpPr>
            <p:spPr>
              <a:xfrm>
                <a:off x="144792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14479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2" name=""/>
          <p:cNvGrpSpPr/>
          <p:nvPr/>
        </p:nvGrpSpPr>
        <p:grpSpPr>
          <a:xfrm>
            <a:off x="5410080" y="3124080"/>
            <a:ext cx="2057400" cy="520560"/>
            <a:chOff x="5410080" y="3124080"/>
            <a:chExt cx="2057400" cy="520560"/>
          </a:xfrm>
        </p:grpSpPr>
        <p:grpSp>
          <p:nvGrpSpPr>
            <p:cNvPr id="2073" name=""/>
            <p:cNvGrpSpPr/>
            <p:nvPr/>
          </p:nvGrpSpPr>
          <p:grpSpPr>
            <a:xfrm>
              <a:off x="6248520" y="3124080"/>
              <a:ext cx="431280" cy="520560"/>
              <a:chOff x="6248520" y="3124080"/>
              <a:chExt cx="431280" cy="520560"/>
            </a:xfrm>
          </p:grpSpPr>
          <p:sp>
            <p:nvSpPr>
              <p:cNvPr id="2074" name=""/>
              <p:cNvSpPr/>
              <p:nvPr/>
            </p:nvSpPr>
            <p:spPr>
              <a:xfrm>
                <a:off x="6248520" y="32130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62989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6" name=""/>
            <p:cNvGrpSpPr/>
            <p:nvPr/>
          </p:nvGrpSpPr>
          <p:grpSpPr>
            <a:xfrm>
              <a:off x="6705720" y="3124080"/>
              <a:ext cx="380880" cy="520560"/>
              <a:chOff x="6705720" y="3124080"/>
              <a:chExt cx="380880" cy="520560"/>
            </a:xfrm>
          </p:grpSpPr>
          <p:sp>
            <p:nvSpPr>
              <p:cNvPr id="2077" name=""/>
              <p:cNvSpPr/>
              <p:nvPr/>
            </p:nvSpPr>
            <p:spPr>
              <a:xfrm>
                <a:off x="670572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67057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9" name=""/>
            <p:cNvGrpSpPr/>
            <p:nvPr/>
          </p:nvGrpSpPr>
          <p:grpSpPr>
            <a:xfrm>
              <a:off x="7086600" y="3124080"/>
              <a:ext cx="380880" cy="520560"/>
              <a:chOff x="7086600" y="3124080"/>
              <a:chExt cx="380880" cy="520560"/>
            </a:xfrm>
          </p:grpSpPr>
          <p:sp>
            <p:nvSpPr>
              <p:cNvPr id="2080" name=""/>
              <p:cNvSpPr/>
              <p:nvPr/>
            </p:nvSpPr>
            <p:spPr>
              <a:xfrm>
                <a:off x="708660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708660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2" name=""/>
            <p:cNvGrpSpPr/>
            <p:nvPr/>
          </p:nvGrpSpPr>
          <p:grpSpPr>
            <a:xfrm>
              <a:off x="5410080" y="3124080"/>
              <a:ext cx="381240" cy="520560"/>
              <a:chOff x="5410080" y="3124080"/>
              <a:chExt cx="381240" cy="520560"/>
            </a:xfrm>
          </p:grpSpPr>
          <p:sp>
            <p:nvSpPr>
              <p:cNvPr id="2083" name=""/>
              <p:cNvSpPr/>
              <p:nvPr/>
            </p:nvSpPr>
            <p:spPr>
              <a:xfrm>
                <a:off x="5410080" y="320040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410080" y="31240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5" name=""/>
            <p:cNvGrpSpPr/>
            <p:nvPr/>
          </p:nvGrpSpPr>
          <p:grpSpPr>
            <a:xfrm>
              <a:off x="5791320" y="3124080"/>
              <a:ext cx="380880" cy="520560"/>
              <a:chOff x="5791320" y="3124080"/>
              <a:chExt cx="380880" cy="520560"/>
            </a:xfrm>
          </p:grpSpPr>
          <p:sp>
            <p:nvSpPr>
              <p:cNvPr id="2086" name=""/>
              <p:cNvSpPr/>
              <p:nvPr/>
            </p:nvSpPr>
            <p:spPr>
              <a:xfrm>
                <a:off x="579132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7913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8" name=""/>
          <p:cNvGrpSpPr/>
          <p:nvPr/>
        </p:nvGrpSpPr>
        <p:grpSpPr>
          <a:xfrm>
            <a:off x="5791320" y="4038480"/>
            <a:ext cx="1295280" cy="520560"/>
            <a:chOff x="5791320" y="4038480"/>
            <a:chExt cx="1295280" cy="520560"/>
          </a:xfrm>
        </p:grpSpPr>
        <p:grpSp>
          <p:nvGrpSpPr>
            <p:cNvPr id="2089" name=""/>
            <p:cNvGrpSpPr/>
            <p:nvPr/>
          </p:nvGrpSpPr>
          <p:grpSpPr>
            <a:xfrm>
              <a:off x="6248520" y="4038480"/>
              <a:ext cx="431280" cy="520560"/>
              <a:chOff x="6248520" y="4038480"/>
              <a:chExt cx="431280" cy="520560"/>
            </a:xfrm>
          </p:grpSpPr>
          <p:sp>
            <p:nvSpPr>
              <p:cNvPr id="2090" name=""/>
              <p:cNvSpPr/>
              <p:nvPr/>
            </p:nvSpPr>
            <p:spPr>
              <a:xfrm>
                <a:off x="6248520" y="41274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62989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2" name=""/>
            <p:cNvGrpSpPr/>
            <p:nvPr/>
          </p:nvGrpSpPr>
          <p:grpSpPr>
            <a:xfrm>
              <a:off x="6705720" y="4038480"/>
              <a:ext cx="380880" cy="520560"/>
              <a:chOff x="6705720" y="4038480"/>
              <a:chExt cx="380880" cy="520560"/>
            </a:xfrm>
          </p:grpSpPr>
          <p:sp>
            <p:nvSpPr>
              <p:cNvPr id="2093" name=""/>
              <p:cNvSpPr/>
              <p:nvPr/>
            </p:nvSpPr>
            <p:spPr>
              <a:xfrm>
                <a:off x="6705720" y="41148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67057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5" name=""/>
            <p:cNvGrpSpPr/>
            <p:nvPr/>
          </p:nvGrpSpPr>
          <p:grpSpPr>
            <a:xfrm>
              <a:off x="5791320" y="4038480"/>
              <a:ext cx="380880" cy="520560"/>
              <a:chOff x="5791320" y="4038480"/>
              <a:chExt cx="380880" cy="520560"/>
            </a:xfrm>
          </p:grpSpPr>
          <p:sp>
            <p:nvSpPr>
              <p:cNvPr id="2096" name=""/>
              <p:cNvSpPr/>
              <p:nvPr/>
            </p:nvSpPr>
            <p:spPr>
              <a:xfrm>
                <a:off x="5791320" y="41148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57913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8" name=""/>
          <p:cNvSpPr/>
          <p:nvPr/>
        </p:nvSpPr>
        <p:spPr>
          <a:xfrm flipH="1">
            <a:off x="5638680" y="4572000"/>
            <a:ext cx="5335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9" name=""/>
          <p:cNvGrpSpPr/>
          <p:nvPr/>
        </p:nvGrpSpPr>
        <p:grpSpPr>
          <a:xfrm>
            <a:off x="6095880" y="5029200"/>
            <a:ext cx="685800" cy="520560"/>
            <a:chOff x="6095880" y="5029200"/>
            <a:chExt cx="685800" cy="520560"/>
          </a:xfrm>
        </p:grpSpPr>
        <p:sp>
          <p:nvSpPr>
            <p:cNvPr id="2100" name=""/>
            <p:cNvSpPr/>
            <p:nvPr/>
          </p:nvSpPr>
          <p:spPr>
            <a:xfrm>
              <a:off x="6095880" y="510552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1" name=""/>
            <p:cNvGrpSpPr/>
            <p:nvPr/>
          </p:nvGrpSpPr>
          <p:grpSpPr>
            <a:xfrm>
              <a:off x="6248520" y="5029200"/>
              <a:ext cx="431280" cy="520560"/>
              <a:chOff x="6248520" y="5029200"/>
              <a:chExt cx="431280" cy="520560"/>
            </a:xfrm>
          </p:grpSpPr>
          <p:sp>
            <p:nvSpPr>
              <p:cNvPr id="2102" name=""/>
              <p:cNvSpPr/>
              <p:nvPr/>
            </p:nvSpPr>
            <p:spPr>
              <a:xfrm>
                <a:off x="6248520" y="511812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6298920" y="50292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4" name=""/>
            <p:cNvSpPr/>
            <p:nvPr/>
          </p:nvSpPr>
          <p:spPr>
            <a:xfrm>
              <a:off x="6705720" y="5105520"/>
              <a:ext cx="75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3962520" y="3581280"/>
            <a:ext cx="990000" cy="916920"/>
            <a:chOff x="3962520" y="3581280"/>
            <a:chExt cx="990000" cy="916920"/>
          </a:xfrm>
        </p:grpSpPr>
        <p:sp>
          <p:nvSpPr>
            <p:cNvPr id="2106" name=""/>
            <p:cNvSpPr/>
            <p:nvPr/>
          </p:nvSpPr>
          <p:spPr>
            <a:xfrm>
              <a:off x="396252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64796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4241520" y="40384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267080" y="3581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4419360" y="3936960"/>
              <a:ext cx="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419360" y="39369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4114440" y="39369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3" name=""/>
          <p:cNvSpPr/>
          <p:nvPr/>
        </p:nvSpPr>
        <p:spPr>
          <a:xfrm>
            <a:off x="42670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4" name=""/>
          <p:cNvGrpSpPr/>
          <p:nvPr/>
        </p:nvGrpSpPr>
        <p:grpSpPr>
          <a:xfrm>
            <a:off x="3962520" y="4495680"/>
            <a:ext cx="990000" cy="916920"/>
            <a:chOff x="3962520" y="4495680"/>
            <a:chExt cx="990000" cy="916920"/>
          </a:xfrm>
        </p:grpSpPr>
        <p:sp>
          <p:nvSpPr>
            <p:cNvPr id="2115" name=""/>
            <p:cNvSpPr/>
            <p:nvPr/>
          </p:nvSpPr>
          <p:spPr>
            <a:xfrm>
              <a:off x="3962520" y="4952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647960" y="4952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241520" y="49528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4267080" y="44956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4419360" y="4851360"/>
              <a:ext cx="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4419360" y="48513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>
              <a:off x="4114440" y="48513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2" name=""/>
          <p:cNvGrpSpPr/>
          <p:nvPr/>
        </p:nvGrpSpPr>
        <p:grpSpPr>
          <a:xfrm>
            <a:off x="7620120" y="3657600"/>
            <a:ext cx="990000" cy="1335960"/>
            <a:chOff x="7620120" y="3657600"/>
            <a:chExt cx="990000" cy="1335960"/>
          </a:xfrm>
        </p:grpSpPr>
        <p:sp>
          <p:nvSpPr>
            <p:cNvPr id="2123" name=""/>
            <p:cNvSpPr/>
            <p:nvPr/>
          </p:nvSpPr>
          <p:spPr>
            <a:xfrm>
              <a:off x="762012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8483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83055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80769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899120" y="411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924680" y="36576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H="1">
              <a:off x="8001000" y="447012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8076960" y="447012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8076960" y="401292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8076960" y="401292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H="1">
              <a:off x="7772040" y="401292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3962520" y="5334120"/>
            <a:ext cx="990000" cy="1335960"/>
            <a:chOff x="3962520" y="5334120"/>
            <a:chExt cx="990000" cy="1335960"/>
          </a:xfrm>
        </p:grpSpPr>
        <p:sp>
          <p:nvSpPr>
            <p:cNvPr id="2135" name=""/>
            <p:cNvSpPr/>
            <p:nvPr/>
          </p:nvSpPr>
          <p:spPr>
            <a:xfrm>
              <a:off x="396252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1907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6479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4193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241520" y="5791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4267080" y="53341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H="1">
              <a:off x="4343400" y="614664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4419360" y="614664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419360" y="568944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419360" y="568944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H="1">
              <a:off x="4114440" y="568944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6" name=""/>
          <p:cNvGrpSpPr/>
          <p:nvPr/>
        </p:nvGrpSpPr>
        <p:grpSpPr>
          <a:xfrm>
            <a:off x="7620120" y="4876920"/>
            <a:ext cx="990000" cy="1335960"/>
            <a:chOff x="7620120" y="4876920"/>
            <a:chExt cx="990000" cy="1335960"/>
          </a:xfrm>
        </p:grpSpPr>
        <p:sp>
          <p:nvSpPr>
            <p:cNvPr id="2147" name=""/>
            <p:cNvSpPr/>
            <p:nvPr/>
          </p:nvSpPr>
          <p:spPr>
            <a:xfrm>
              <a:off x="762012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8483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83055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80769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899120" y="5334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924680" y="48769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H="1">
              <a:off x="8001000" y="568944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8076960" y="568944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8076960" y="523224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8076960" y="523224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H="1">
              <a:off x="7772040" y="523224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8" name=""/>
          <p:cNvSpPr/>
          <p:nvPr/>
        </p:nvSpPr>
        <p:spPr>
          <a:xfrm>
            <a:off x="4038480" y="4419720"/>
            <a:ext cx="8384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343400" y="5334120"/>
            <a:ext cx="5335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4267080" y="6629400"/>
            <a:ext cx="6098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8153280" y="3733920"/>
            <a:ext cx="3812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8305920" y="4952880"/>
            <a:ext cx="22860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3" name=""/>
          <p:cNvGrpSpPr/>
          <p:nvPr/>
        </p:nvGrpSpPr>
        <p:grpSpPr>
          <a:xfrm>
            <a:off x="1447920" y="3048120"/>
            <a:ext cx="2438280" cy="558720"/>
            <a:chOff x="1447920" y="3048120"/>
            <a:chExt cx="2438280" cy="558720"/>
          </a:xfrm>
        </p:grpSpPr>
        <p:grpSp>
          <p:nvGrpSpPr>
            <p:cNvPr id="2164" name=""/>
            <p:cNvGrpSpPr/>
            <p:nvPr/>
          </p:nvGrpSpPr>
          <p:grpSpPr>
            <a:xfrm>
              <a:off x="1447920" y="3086280"/>
              <a:ext cx="380880" cy="520560"/>
              <a:chOff x="1447920" y="3086280"/>
              <a:chExt cx="380880" cy="520560"/>
            </a:xfrm>
          </p:grpSpPr>
          <p:sp>
            <p:nvSpPr>
              <p:cNvPr id="2165" name=""/>
              <p:cNvSpPr/>
              <p:nvPr/>
            </p:nvSpPr>
            <p:spPr>
              <a:xfrm>
                <a:off x="14479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14479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7" name=""/>
            <p:cNvGrpSpPr/>
            <p:nvPr/>
          </p:nvGrpSpPr>
          <p:grpSpPr>
            <a:xfrm>
              <a:off x="1905120" y="3048120"/>
              <a:ext cx="431280" cy="520560"/>
              <a:chOff x="1905120" y="3048120"/>
              <a:chExt cx="431280" cy="520560"/>
            </a:xfrm>
          </p:grpSpPr>
          <p:sp>
            <p:nvSpPr>
              <p:cNvPr id="2168" name=""/>
              <p:cNvSpPr/>
              <p:nvPr/>
            </p:nvSpPr>
            <p:spPr>
              <a:xfrm>
                <a:off x="1905120" y="31370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195552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0" name=""/>
            <p:cNvGrpSpPr/>
            <p:nvPr/>
          </p:nvGrpSpPr>
          <p:grpSpPr>
            <a:xfrm>
              <a:off x="3124080" y="3086280"/>
              <a:ext cx="381240" cy="520560"/>
              <a:chOff x="3124080" y="3086280"/>
              <a:chExt cx="381240" cy="520560"/>
            </a:xfrm>
          </p:grpSpPr>
          <p:sp>
            <p:nvSpPr>
              <p:cNvPr id="2171" name=""/>
              <p:cNvSpPr/>
              <p:nvPr/>
            </p:nvSpPr>
            <p:spPr>
              <a:xfrm>
                <a:off x="3124080" y="3162240"/>
                <a:ext cx="38124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3124080" y="3086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3" name=""/>
            <p:cNvGrpSpPr/>
            <p:nvPr/>
          </p:nvGrpSpPr>
          <p:grpSpPr>
            <a:xfrm>
              <a:off x="2743200" y="3086280"/>
              <a:ext cx="380880" cy="520560"/>
              <a:chOff x="2743200" y="3086280"/>
              <a:chExt cx="380880" cy="520560"/>
            </a:xfrm>
          </p:grpSpPr>
          <p:sp>
            <p:nvSpPr>
              <p:cNvPr id="2174" name=""/>
              <p:cNvSpPr/>
              <p:nvPr/>
            </p:nvSpPr>
            <p:spPr>
              <a:xfrm>
                <a:off x="274320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274320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6" name=""/>
            <p:cNvGrpSpPr/>
            <p:nvPr/>
          </p:nvGrpSpPr>
          <p:grpSpPr>
            <a:xfrm>
              <a:off x="2362320" y="3086280"/>
              <a:ext cx="380880" cy="520560"/>
              <a:chOff x="2362320" y="3086280"/>
              <a:chExt cx="380880" cy="520560"/>
            </a:xfrm>
          </p:grpSpPr>
          <p:sp>
            <p:nvSpPr>
              <p:cNvPr id="2177" name=""/>
              <p:cNvSpPr/>
              <p:nvPr/>
            </p:nvSpPr>
            <p:spPr>
              <a:xfrm>
                <a:off x="23623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23623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9" name=""/>
            <p:cNvGrpSpPr/>
            <p:nvPr/>
          </p:nvGrpSpPr>
          <p:grpSpPr>
            <a:xfrm>
              <a:off x="3505320" y="3086280"/>
              <a:ext cx="380880" cy="520560"/>
              <a:chOff x="3505320" y="3086280"/>
              <a:chExt cx="380880" cy="520560"/>
            </a:xfrm>
          </p:grpSpPr>
          <p:sp>
            <p:nvSpPr>
              <p:cNvPr id="2180" name=""/>
              <p:cNvSpPr/>
              <p:nvPr/>
            </p:nvSpPr>
            <p:spPr>
              <a:xfrm>
                <a:off x="35053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35053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82" name=""/>
          <p:cNvSpPr/>
          <p:nvPr/>
        </p:nvSpPr>
        <p:spPr>
          <a:xfrm flipH="1">
            <a:off x="1295280" y="3581280"/>
            <a:ext cx="5335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4343400" y="3429000"/>
            <a:ext cx="3049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 flipH="1">
            <a:off x="457200" y="6324480"/>
            <a:ext cx="129528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 flipH="1">
            <a:off x="5257800" y="3657600"/>
            <a:ext cx="9144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48320" y="464832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00200"/>
            <a:ext cx="7772400" cy="1981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52388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Le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rectly deri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495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3581280"/>
            <a:ext cx="7925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also say tha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hange of a string by a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46483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46483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46200" y="5181120"/>
            <a:ext cx="6365880" cy="1371960"/>
            <a:chOff x="646200" y="5181120"/>
            <a:chExt cx="6365880" cy="1371960"/>
          </a:xfrm>
        </p:grpSpPr>
        <p:sp>
          <p:nvSpPr>
            <p:cNvPr id="113" name=""/>
            <p:cNvSpPr/>
            <p:nvPr/>
          </p:nvSpPr>
          <p:spPr>
            <a:xfrm>
              <a:off x="646200" y="5257800"/>
              <a:ext cx="221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ule: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267080" y="5180760"/>
              <a:ext cx="1295640" cy="838440"/>
            </a:xfrm>
            <a:custGeom>
              <a:avLst/>
              <a:gdLst>
                <a:gd name="textAreaLeft" fmla="*/ 325440 w 1295640"/>
                <a:gd name="textAreaRight" fmla="*/ 970200 w 1295640"/>
                <a:gd name="textAreaTop" fmla="*/ 210600 h 838440"/>
                <a:gd name="textAreaBottom" fmla="*/ 627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67080" y="6095880"/>
              <a:ext cx="13734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95480" y="518148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320004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05320" y="5334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242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814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242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95680" y="5410080"/>
              <a:ext cx="83844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95480" y="609588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526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098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526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98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38680" y="609588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58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530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58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530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257080" y="518148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03812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8640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942880" y="5334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0080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"/>
          <p:cNvSpPr/>
          <p:nvPr/>
        </p:nvSpPr>
        <p:spPr>
          <a:xfrm>
            <a:off x="685800" y="45720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Models for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60948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e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685800" y="1143000"/>
            <a:ext cx="7696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PD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685800" y="28954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609480" y="38862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86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685800" y="2819520"/>
            <a:ext cx="7696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62120" y="449496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undamental model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nguage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689040" y="5485680"/>
            <a:ext cx="41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ext-free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4803480" y="5485680"/>
            <a:ext cx="36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ushdown au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-ste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in symbol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3352680"/>
            <a:ext cx="7772400" cy="2895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4343400"/>
            <a:ext cx="63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5029200"/>
            <a:ext cx="7696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derivation step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55627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Derivation Step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derivation ste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per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37339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Derivation Step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21337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20574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enerated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fined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e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006440"/>
            <a:ext cx="83934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let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143000" y="4902480"/>
            <a:ext cx="4724280" cy="1148400"/>
            <a:chOff x="1143000" y="4902480"/>
            <a:chExt cx="4724280" cy="1148400"/>
          </a:xfrm>
        </p:grpSpPr>
        <p:sp>
          <p:nvSpPr>
            <p:cNvPr id="163" name=""/>
            <p:cNvSpPr/>
            <p:nvPr/>
          </p:nvSpPr>
          <p:spPr>
            <a:xfrm>
              <a:off x="1143000" y="4902480"/>
              <a:ext cx="4724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3800" y="54694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16200000">
              <a:off x="4724280" y="4783680"/>
              <a:ext cx="152280" cy="15242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H="1">
            <a:off x="1523520" y="4556160"/>
            <a:ext cx="129564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enerates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 terminal string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by a sequence of derivation steps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o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48610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724280" y="4937040"/>
            <a:ext cx="4191120" cy="1633320"/>
            <a:chOff x="4724280" y="4937040"/>
            <a:chExt cx="4191120" cy="1633320"/>
          </a:xfrm>
        </p:grpSpPr>
        <p:sp>
          <p:nvSpPr>
            <p:cNvPr id="171" name=""/>
            <p:cNvSpPr/>
            <p:nvPr/>
          </p:nvSpPr>
          <p:spPr>
            <a:xfrm>
              <a:off x="5715000" y="4937040"/>
              <a:ext cx="312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n </a:t>
              </a:r>
              <a:r>
                <a:rPr b="1" i="1" lang="cs-CZ" sz="3600" spc="-1" strike="noStrike">
                  <a:solidFill>
                    <a:srgbClr val="ff9933"/>
                  </a:solidFill>
                  <a:latin typeface="Times New Roman"/>
                </a:rPr>
                <a:t>w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cs-CZ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24280" y="5927760"/>
              <a:ext cx="419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therwise, </a:t>
              </a:r>
              <a:r>
                <a:rPr b="1" i="1" lang="cs-CZ" sz="3600" spc="-1" strike="noStrike">
                  <a:solidFill>
                    <a:srgbClr val="ff9933"/>
                  </a:solidFill>
                  <a:latin typeface="Times New Roman"/>
                </a:rPr>
                <a:t>w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cs-CZ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09480" y="3657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16765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6002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langua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 there exists 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text-free grammar tha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nerat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30481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6095880"/>
            <a:ext cx="7010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}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a CF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text-Free L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1430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languag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nerated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y a CF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50532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44956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17720" y="4419720"/>
            <a:ext cx="182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4800600"/>
            <a:ext cx="434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5181480"/>
            <a:ext cx="6019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b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04000" y="5638680"/>
            <a:ext cx="66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905120" y="4343400"/>
            <a:ext cx="4495680" cy="520560"/>
            <a:chOff x="1905120" y="4343400"/>
            <a:chExt cx="4495680" cy="520560"/>
          </a:xfrm>
        </p:grpSpPr>
        <p:sp>
          <p:nvSpPr>
            <p:cNvPr id="189" name=""/>
            <p:cNvSpPr/>
            <p:nvPr/>
          </p:nvSpPr>
          <p:spPr>
            <a:xfrm>
              <a:off x="5486400" y="43434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05120" y="4464000"/>
              <a:ext cx="3593880" cy="108000"/>
            </a:xfrm>
            <a:custGeom>
              <a:avLst/>
              <a:gdLst/>
              <a:ahLst/>
              <a:rect l="l" t="t" r="r" b="b"/>
              <a:pathLst>
                <a:path w="2264" h="68">
                  <a:moveTo>
                    <a:pt x="0" y="68"/>
                  </a:moveTo>
                  <a:cubicBezTo>
                    <a:pt x="52" y="60"/>
                    <a:pt x="92" y="31"/>
                    <a:pt x="312" y="20"/>
                  </a:cubicBezTo>
                  <a:cubicBezTo>
                    <a:pt x="532" y="9"/>
                    <a:pt x="995" y="0"/>
                    <a:pt x="1320" y="4"/>
                  </a:cubicBezTo>
                  <a:cubicBezTo>
                    <a:pt x="1645" y="8"/>
                    <a:pt x="2067" y="36"/>
                    <a:pt x="2264" y="4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429000" y="4724280"/>
            <a:ext cx="2044800" cy="235080"/>
          </a:xfrm>
          <a:custGeom>
            <a:avLst/>
            <a:gdLst/>
            <a:ahLst/>
            <a:rect l="l" t="t" r="r" b="b"/>
            <a:pathLst>
              <a:path w="1288" h="148">
                <a:moveTo>
                  <a:pt x="0" y="148"/>
                </a:moveTo>
                <a:cubicBezTo>
                  <a:pt x="57" y="130"/>
                  <a:pt x="199" y="51"/>
                  <a:pt x="344" y="40"/>
                </a:cubicBezTo>
                <a:cubicBezTo>
                  <a:pt x="489" y="29"/>
                  <a:pt x="715" y="87"/>
                  <a:pt x="872" y="80"/>
                </a:cubicBezTo>
                <a:cubicBezTo>
                  <a:pt x="1029" y="73"/>
                  <a:pt x="1201" y="17"/>
                  <a:pt x="128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4788000"/>
            <a:ext cx="190440" cy="538200"/>
          </a:xfrm>
          <a:custGeom>
            <a:avLst/>
            <a:gdLst/>
            <a:ahLst/>
            <a:rect l="l" t="t" r="r" b="b"/>
            <a:pathLst>
              <a:path w="120" h="339">
                <a:moveTo>
                  <a:pt x="0" y="339"/>
                </a:moveTo>
                <a:cubicBezTo>
                  <a:pt x="5" y="311"/>
                  <a:pt x="12" y="224"/>
                  <a:pt x="32" y="168"/>
                </a:cubicBezTo>
                <a:cubicBezTo>
                  <a:pt x="52" y="112"/>
                  <a:pt x="102" y="35"/>
                  <a:pt x="12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48520" y="43434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03:26Z</dcterms:modified>
  <cp:revision>184</cp:revision>
  <dc:subject/>
  <dc:title>Models for Context-Free Languages</dc:title>
</cp:coreProperties>
</file>