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F28-3D4B-4740-A96D-08522DD9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3DD-48D2-4908-8E28-11FE4477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6DD-571A-48F3-9BE0-B361731E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649-CE4E-4E2D-A660-E7D277B6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8F4-3FED-44E4-B735-9003E9C0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EA4-58F4-4A55-9319-54CBD747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24C-51B6-42EC-9E89-E016BB20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C46-95A6-4767-8454-FC3FFA9C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5B2-9BED-440B-B872-C2F4791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A28-11F7-4D47-A743-7B3E9CA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1E7-02B3-48F4-A636-4A5B86FD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A96-F057-48AD-A44A-9D121C07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858E-6B24-4599-BFB6-FB9DC2D7856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Re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Jiří Techet</cp:lastModifiedBy>
  <dcterms:modified xsi:type="dcterms:W3CDTF">2005-10-12T15:12:21Z</dcterms:modified>
  <cp:revision>153</cp:revision>
  <dc:subject/>
  <dc:title>Part I. Alphabets, Strings, and Languages</dc:title>
</cp:coreProperties>
</file>