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732-C376-42DF-8FFA-1FE2CCF0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BBF-34E3-4784-B9C8-F93CD6EE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6D3-2C09-4766-B0F5-B6727DAD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049-B499-4079-9AFB-226C8F87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B3E-A74A-4C36-9F17-150E1601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871-EA15-4047-A804-23C04847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EFB-C922-4B5D-AE9D-4989873B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51D-3DC0-418E-836F-19DA2017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4BF-41E6-4869-8CC3-63FDF806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43C-8F12-49D9-A499-2896908C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5D7A-16A3-4351-A844-E5CAF6FD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765-0330-47A6-B203-31489C8D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509E-FCD7-4383-8F04-E4A68570A80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0:55:19Z</dcterms:modified>
  <cp:revision>144</cp:revision>
  <dc:subject/>
  <dc:title>Properties of Regular Languages</dc:title>
</cp:coreProperties>
</file>