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C5A9-E41E-43AE-95C0-C5BB36A5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F2D8-3A44-4387-8CDA-CA27137A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B41B-3A5D-4C10-801C-0B8C9E18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B9E-697C-4103-876B-0F39591F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9276-9F7F-4D87-94D8-7CEBC962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7095-A7A8-42E1-8E2A-E0082106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5B7A-3F08-4735-A33B-17ABDE47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37D8-AF5A-4682-A947-AFA4E0AF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900B-76EF-4883-95E5-01334FFB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15C0-7C28-4D77-A42D-5874BCD6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D872-3526-4539-89B4-BBFC0954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D198-5047-4A6D-9C17-C8BC964A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A5DF-89B8-442D-8D3F-64B3E226E42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4343400"/>
            <a:ext cx="6324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Alexander Meduna 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Roman Luk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2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5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9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2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6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9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3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6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7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1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9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8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219320"/>
            <a:ext cx="807732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MGR is defined analogically as the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MG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2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5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8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9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2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5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6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9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2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3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6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9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1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6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1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6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MGN to equivalent 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M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525780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257800" y="525780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962520" y="5562720"/>
            <a:ext cx="7596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6019920"/>
            <a:ext cx="251460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91320" y="6019920"/>
            <a:ext cx="259056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943240" y="5410080"/>
            <a:ext cx="6858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1143000"/>
            <a:ext cx="7772400" cy="31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 the language families defined by MGN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 and MGR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MGR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MGN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114800" y="51055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343400" y="4724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00600" y="48769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8148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943600" y="4952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341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053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86200" y="4724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51055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4952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3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2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4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ftmo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10-23T18:01:41Z</dcterms:modified>
  <cp:revision>192</cp:revision>
  <dc:subject/>
  <dc:title>Formal Languages and Compilers</dc:title>
</cp:coreProperties>
</file>