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AF20-0DA5-4765-9D9D-9D0BF54C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6CA-CC04-4131-9906-41CF834B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625-5C7F-490E-BC8D-6AA85249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187-D46E-4538-AD67-F4378974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9AA-27E9-4EBD-85EB-A3C548BB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268-C13B-49B9-9029-012D7FE5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439-6FFF-42CB-BD5A-FADA409C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658-7553-492B-B908-7ADED669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DB5B-F559-40AF-B08F-5F1BA516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5F6-C197-422F-94D9-07DB0B70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89B-DF71-407B-B4BD-0FA50494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E37-FC5D-4767-887E-2BC4FE71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4AA1-AE77-4C53-BD3E-31DC9A307FB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0:55:19Z</dcterms:modified>
  <cp:revision>144</cp:revision>
  <dc:subject/>
  <dc:title>Properties of Regular Languages</dc:title>
</cp:coreProperties>
</file>