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0A30DA-1E3A-4760-A600-B17119490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CFE73A-1BC8-464F-BB34-AA73AD17A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886F38-C73C-41BC-A8BB-D5C184F52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6F4818-C0A0-4291-9B5C-783666E50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A3F01-814D-43F6-8A22-A301E6619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D5E36-B5B4-4482-B478-3A70BA594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77BC4-6C0E-4126-89F9-5E9BE8888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EF832-DF9C-4E1B-8511-654F6AAF3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ED23E-6855-4C22-A193-EFFD8DCE1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654F3-C216-46E1-9264-D81B74268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B9BE4-7AE2-48C0-AA54-6BD9EB54F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24CFE6-9F74-4534-AC1A-97103FB8C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9EF14-CA6E-4EC4-A6AA-A45D49D74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85373-B93A-45AE-9405-DE95AA71F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C73EA-51A9-4076-B3F0-C07FBE94A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40096-CB41-4333-84E9-C18EC9A89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2660F-3CEE-4C0C-A029-B0AAC3AE4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22C1D0-2B20-43B1-A0B4-E96DA90EC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59AC3C-84A0-4754-8589-3C3520C49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D23BDF-DBC4-42C1-B612-5198780B0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8A7099-DCD6-4909-AC35-8D62C5D03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5AFD4C-BFDB-4808-BB09-96B3B51F2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EB4FDA-F0BE-4CAA-BAE6-8DA141610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F5C773-5C4A-457B-845C-81148E8A6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038B0-97E8-4B30-BB7D-AE076058F6D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15FB6-8A81-4187-870A-8EB84B50547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Systolic Automata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9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Example: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I = { </a:t>
            </a:r>
            <a:r>
              <a:rPr b="0" i="1" lang="en-US" sz="3200" spc="-1" strike="noStrike">
                <a:solidFill>
                  <a:srgbClr val="e5e5ff"/>
                </a:solidFill>
                <a:latin typeface="Garamond"/>
              </a:rPr>
              <a:t>a</a:t>
            </a: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 → A, # → B}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R = { AA → A, AB → B}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F = {A}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38480" cy="38494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514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A   A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a     a   a  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cc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cc00"/>
                </a:solidFill>
                <a:latin typeface="Garamond"/>
              </a:rPr>
              <a:t>L(M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48320" y="2276280"/>
            <a:ext cx="403848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   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A   A   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a     a   a     #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</a:t>
            </a:r>
            <a:r>
              <a:rPr b="0" lang="en-US" sz="24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Garamond"/>
              </a:rPr>
              <a:t>L(M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1" name=""/>
          <p:cNvSpPr/>
          <p:nvPr/>
        </p:nvSpPr>
        <p:spPr>
          <a:xfrm>
            <a:off x="2050920" y="2492280"/>
            <a:ext cx="576360" cy="503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556000" y="2205000"/>
            <a:ext cx="1152360" cy="287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-192240" y="4976640"/>
            <a:ext cx="3024360" cy="3625920"/>
          </a:xfrm>
          <a:custGeom>
            <a:avLst/>
            <a:gdLst/>
            <a:ahLst/>
            <a:rect l="l" t="t" r="r" b="b"/>
            <a:pathLst>
              <a:path w="1905" h="2284">
                <a:moveTo>
                  <a:pt x="1051" y="204"/>
                </a:moveTo>
                <a:cubicBezTo>
                  <a:pt x="1428" y="102"/>
                  <a:pt x="1806" y="0"/>
                  <a:pt x="1640" y="340"/>
                </a:cubicBezTo>
                <a:cubicBezTo>
                  <a:pt x="1474" y="680"/>
                  <a:pt x="106" y="2208"/>
                  <a:pt x="53" y="2246"/>
                </a:cubicBezTo>
                <a:cubicBezTo>
                  <a:pt x="0" y="2284"/>
                  <a:pt x="1021" y="817"/>
                  <a:pt x="1323" y="567"/>
                </a:cubicBezTo>
                <a:cubicBezTo>
                  <a:pt x="1625" y="317"/>
                  <a:pt x="1905" y="809"/>
                  <a:pt x="1867" y="749"/>
                </a:cubicBezTo>
                <a:cubicBezTo>
                  <a:pt x="1829" y="689"/>
                  <a:pt x="1172" y="332"/>
                  <a:pt x="1096" y="204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476360" y="4941720"/>
            <a:ext cx="2023920" cy="290520"/>
          </a:xfrm>
          <a:custGeom>
            <a:avLst/>
            <a:gdLst/>
            <a:ahLst/>
            <a:rect l="l" t="t" r="r" b="b"/>
            <a:pathLst>
              <a:path w="1275" h="183">
                <a:moveTo>
                  <a:pt x="0" y="20"/>
                </a:moveTo>
                <a:cubicBezTo>
                  <a:pt x="5" y="37"/>
                  <a:pt x="8" y="79"/>
                  <a:pt x="27" y="88"/>
                </a:cubicBezTo>
                <a:cubicBezTo>
                  <a:pt x="32" y="90"/>
                  <a:pt x="118" y="100"/>
                  <a:pt x="122" y="101"/>
                </a:cubicBezTo>
                <a:cubicBezTo>
                  <a:pt x="202" y="98"/>
                  <a:pt x="286" y="98"/>
                  <a:pt x="366" y="88"/>
                </a:cubicBezTo>
                <a:cubicBezTo>
                  <a:pt x="398" y="84"/>
                  <a:pt x="461" y="74"/>
                  <a:pt x="461" y="74"/>
                </a:cubicBezTo>
                <a:cubicBezTo>
                  <a:pt x="527" y="78"/>
                  <a:pt x="561" y="76"/>
                  <a:pt x="616" y="95"/>
                </a:cubicBezTo>
                <a:cubicBezTo>
                  <a:pt x="635" y="123"/>
                  <a:pt x="642" y="151"/>
                  <a:pt x="650" y="183"/>
                </a:cubicBezTo>
                <a:cubicBezTo>
                  <a:pt x="656" y="173"/>
                  <a:pt x="673" y="126"/>
                  <a:pt x="677" y="122"/>
                </a:cubicBezTo>
                <a:cubicBezTo>
                  <a:pt x="682" y="117"/>
                  <a:pt x="691" y="117"/>
                  <a:pt x="698" y="115"/>
                </a:cubicBezTo>
                <a:cubicBezTo>
                  <a:pt x="737" y="88"/>
                  <a:pt x="759" y="93"/>
                  <a:pt x="813" y="88"/>
                </a:cubicBezTo>
                <a:cubicBezTo>
                  <a:pt x="953" y="96"/>
                  <a:pt x="1124" y="126"/>
                  <a:pt x="1253" y="81"/>
                </a:cubicBezTo>
                <a:cubicBezTo>
                  <a:pt x="1275" y="38"/>
                  <a:pt x="1267" y="64"/>
                  <a:pt x="1267" y="0"/>
                </a:cubicBez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724360" y="4869000"/>
            <a:ext cx="2024280" cy="290520"/>
          </a:xfrm>
          <a:custGeom>
            <a:avLst/>
            <a:gdLst/>
            <a:ahLst/>
            <a:rect l="l" t="t" r="r" b="b"/>
            <a:pathLst>
              <a:path w="1275" h="183">
                <a:moveTo>
                  <a:pt x="0" y="20"/>
                </a:moveTo>
                <a:cubicBezTo>
                  <a:pt x="5" y="37"/>
                  <a:pt x="8" y="79"/>
                  <a:pt x="27" y="88"/>
                </a:cubicBezTo>
                <a:cubicBezTo>
                  <a:pt x="32" y="90"/>
                  <a:pt x="118" y="100"/>
                  <a:pt x="122" y="101"/>
                </a:cubicBezTo>
                <a:cubicBezTo>
                  <a:pt x="202" y="98"/>
                  <a:pt x="286" y="98"/>
                  <a:pt x="366" y="88"/>
                </a:cubicBezTo>
                <a:cubicBezTo>
                  <a:pt x="398" y="84"/>
                  <a:pt x="461" y="74"/>
                  <a:pt x="461" y="74"/>
                </a:cubicBezTo>
                <a:cubicBezTo>
                  <a:pt x="527" y="78"/>
                  <a:pt x="561" y="76"/>
                  <a:pt x="616" y="95"/>
                </a:cubicBezTo>
                <a:cubicBezTo>
                  <a:pt x="635" y="123"/>
                  <a:pt x="642" y="151"/>
                  <a:pt x="650" y="183"/>
                </a:cubicBezTo>
                <a:cubicBezTo>
                  <a:pt x="656" y="173"/>
                  <a:pt x="673" y="126"/>
                  <a:pt x="677" y="122"/>
                </a:cubicBezTo>
                <a:cubicBezTo>
                  <a:pt x="682" y="117"/>
                  <a:pt x="691" y="117"/>
                  <a:pt x="698" y="115"/>
                </a:cubicBezTo>
                <a:cubicBezTo>
                  <a:pt x="737" y="88"/>
                  <a:pt x="759" y="93"/>
                  <a:pt x="813" y="88"/>
                </a:cubicBezTo>
                <a:cubicBezTo>
                  <a:pt x="953" y="96"/>
                  <a:pt x="1124" y="126"/>
                  <a:pt x="1253" y="81"/>
                </a:cubicBezTo>
                <a:cubicBezTo>
                  <a:pt x="1275" y="38"/>
                  <a:pt x="1267" y="64"/>
                  <a:pt x="1267" y="0"/>
                </a:cubicBez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2195280" y="3141720"/>
            <a:ext cx="215640" cy="2887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190764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56000" y="3141720"/>
            <a:ext cx="215640" cy="287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195640" y="3716280"/>
            <a:ext cx="727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2771280" y="3716280"/>
            <a:ext cx="71640" cy="217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91636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76364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13200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700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268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6372000" y="3068640"/>
            <a:ext cx="215640" cy="361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H="1">
            <a:off x="608436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659640" y="3068640"/>
            <a:ext cx="2887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372360" y="3716280"/>
            <a:ext cx="7128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6948000" y="3716280"/>
            <a:ext cx="71640" cy="217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09308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940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30872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87708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44508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403280" y="5734080"/>
            <a:ext cx="5977080" cy="54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L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M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) = {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2</a:t>
            </a:r>
            <a:r>
              <a:rPr b="0" i="1" lang="en-US" sz="2800" spc="-1" strike="noStrike" baseline="48000">
                <a:solidFill>
                  <a:srgbClr val="ffffff"/>
                </a:solidFill>
                <a:latin typeface="Garamond"/>
              </a:rPr>
              <a:t>n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|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n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≥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}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1258920" y="981000"/>
            <a:ext cx="6192720" cy="4969080"/>
          </a:xfrm>
          <a:prstGeom prst="ellipse">
            <a:avLst/>
          </a:prstGeom>
          <a:solidFill>
            <a:srgbClr val="800000">
              <a:alpha val="5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203640" y="2924280"/>
            <a:ext cx="3456000" cy="20890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556000" y="1700280"/>
            <a:ext cx="2736720" cy="2952720"/>
          </a:xfrm>
          <a:prstGeom prst="ellipse">
            <a:avLst/>
          </a:prstGeom>
          <a:solidFill>
            <a:srgbClr val="ff6600">
              <a:alpha val="4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635280" y="3284640"/>
            <a:ext cx="1152720" cy="115236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708360" y="357336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364000" y="378936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B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276720" y="2205000"/>
            <a:ext cx="863640" cy="4320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419640" y="1989000"/>
            <a:ext cx="79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508720" y="1916280"/>
            <a:ext cx="8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0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SBTA in hierarchy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A Systolic Binary Tree Automaton </a:t>
            </a:r>
            <a:br>
              <a:rPr sz="4000"/>
            </a:b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(SBTA) is 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M=(Q,</a:t>
            </a:r>
            <a:r>
              <a:rPr b="1" lang="el-GR" sz="4400" spc="-1" strike="noStrike">
                <a:solidFill>
                  <a:srgbClr val="e5e5ff"/>
                </a:solidFill>
                <a:latin typeface="Garamond"/>
              </a:rPr>
              <a:t>Σ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,R,I,#,F)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Q is finite set of stat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Garamond"/>
              </a:rPr>
              <a:t>Σ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is an input alphabe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 is finite set of rules of the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pq → r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 p,q,r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Q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 is finite set of initial rules of the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 → q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l-GR" sz="3200" spc="-1" strike="noStrike">
                <a:solidFill>
                  <a:srgbClr val="ffffff"/>
                </a:solidFill>
                <a:latin typeface="Garamond"/>
              </a:rPr>
              <a:t>Σ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q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Q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# is end mark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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Q is a set of final stat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et 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1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…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k+1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…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i="1" lang="en-US" sz="3200" spc="-1" strike="noStrike" baseline="1000">
                <a:solidFill>
                  <a:srgbClr val="ffffff"/>
                </a:solidFill>
                <a:latin typeface="Garamond"/>
              </a:rPr>
              <a:t>n</a:t>
            </a:r>
            <a:r>
              <a:rPr b="0" lang="en-US" sz="3200" spc="-1" strike="noStrike" baseline="1000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e a string such th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1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,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,…,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l-GR" sz="3200" spc="-1" strike="noStrike">
                <a:solidFill>
                  <a:srgbClr val="ffffff"/>
                </a:solidFill>
                <a:latin typeface="Garamond"/>
              </a:rPr>
              <a:t>Σ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k+1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= 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k+2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 = … =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i="1" lang="en-US" sz="3200" spc="-1" strike="noStrike" baseline="1000">
                <a:solidFill>
                  <a:srgbClr val="ffffff"/>
                </a:solidFill>
                <a:latin typeface="Garamond"/>
              </a:rPr>
              <a:t>n</a:t>
            </a:r>
            <a:r>
              <a:rPr b="0" lang="en-US" sz="3200" spc="-1" strike="noStrike" baseline="1000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= #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nd |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1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…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| &gt; |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k+1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…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i="1" lang="en-US" sz="3200" spc="-1" strike="noStrike" baseline="1000">
                <a:solidFill>
                  <a:srgbClr val="ffffff"/>
                </a:solidFill>
                <a:latin typeface="Garamond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|. Then defin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1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…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i="1" lang="en-US" sz="3200" spc="-1" strike="noStrike" baseline="1000">
                <a:solidFill>
                  <a:srgbClr val="ffffff"/>
                </a:solidFill>
                <a:latin typeface="Garamond"/>
              </a:rPr>
              <a:t>n ►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q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1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…q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i="1" lang="en-US" sz="3200" spc="-1" strike="noStrike" baseline="1000">
                <a:solidFill>
                  <a:srgbClr val="ffffff"/>
                </a:solidFill>
                <a:latin typeface="Garamond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if 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i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→ q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i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I, 1≤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i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≤2</a:t>
            </a:r>
            <a:r>
              <a:rPr b="0" lang="en-US" sz="3200" spc="-1" strike="noStrike" baseline="30000">
                <a:solidFill>
                  <a:srgbClr val="ffffff"/>
                </a:solidFill>
                <a:latin typeface="Garamond"/>
              </a:rPr>
              <a:t>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q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1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q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…q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i="1" lang="en-US" sz="3200" spc="-1" strike="noStrike" baseline="1000">
                <a:solidFill>
                  <a:srgbClr val="ffffff"/>
                </a:solidFill>
                <a:latin typeface="Garamond"/>
              </a:rPr>
              <a:t>n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-1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q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i="1" lang="en-US" sz="3200" spc="-1" strike="noStrike" baseline="1000">
                <a:solidFill>
                  <a:srgbClr val="ffffff"/>
                </a:solidFill>
                <a:latin typeface="Garamond"/>
              </a:rPr>
              <a:t>n  </a:t>
            </a: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1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 p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1,2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…p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i="1" lang="en-US" sz="3200" spc="-1" strike="noStrike" baseline="1000">
                <a:solidFill>
                  <a:srgbClr val="ffffff"/>
                </a:solidFill>
                <a:latin typeface="Garamond"/>
              </a:rPr>
              <a:t>n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-1,2</a:t>
            </a:r>
            <a:r>
              <a:rPr b="0" i="1" lang="en-US" sz="3200" spc="-1" strike="noStrike" baseline="1000">
                <a:solidFill>
                  <a:srgbClr val="ffffff"/>
                </a:solidFill>
                <a:latin typeface="Garamond"/>
              </a:rPr>
              <a:t>n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1000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f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q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i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q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i+1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→ p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i,i+1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, 1≤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i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≤2</a:t>
            </a:r>
            <a:r>
              <a:rPr b="0" lang="en-US" sz="3200" spc="-1" strike="noStrike" baseline="30000">
                <a:solidFill>
                  <a:srgbClr val="ffffff"/>
                </a:solidFill>
                <a:latin typeface="Garamond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-1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x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is  accepted  by 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f  and only if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x</a:t>
            </a:r>
            <a:r>
              <a:rPr b="0" lang="en-US" sz="3200" spc="-1" strike="noStrike" baseline="1000">
                <a:solidFill>
                  <a:srgbClr val="ffffff"/>
                </a:solidFill>
                <a:latin typeface="Garamond"/>
              </a:rPr>
              <a:t> ► </a:t>
            </a:r>
            <a:r>
              <a:rPr b="0" lang="el-GR" sz="3200" spc="-1" strike="noStrike">
                <a:solidFill>
                  <a:srgbClr val="ffffff"/>
                </a:solidFill>
                <a:latin typeface="Garamond"/>
              </a:rPr>
              <a:t>α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 baseline="1000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*</a:t>
            </a:r>
            <a:r>
              <a:rPr b="0" lang="en-US" sz="3200" spc="-1" strike="noStrike" baseline="1000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f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, 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f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F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L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)={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x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|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x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is accepted by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* is reflexive and transitive closure of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9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Example: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I = { </a:t>
            </a:r>
            <a:r>
              <a:rPr b="0" i="1" lang="en-US" sz="3200" spc="-1" strike="noStrike">
                <a:solidFill>
                  <a:srgbClr val="e5e5ff"/>
                </a:solidFill>
                <a:latin typeface="Garamond"/>
              </a:rPr>
              <a:t>a</a:t>
            </a: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 → A, # → B}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R = { AA → A, AB → B}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F = {A}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38480" cy="38494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514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    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       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a     a   a  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2276280"/>
            <a:ext cx="403848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    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       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a     a   a     #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"/>
          <p:cNvSpPr/>
          <p:nvPr/>
        </p:nvSpPr>
        <p:spPr>
          <a:xfrm>
            <a:off x="2050920" y="2492280"/>
            <a:ext cx="576360" cy="503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556000" y="2205000"/>
            <a:ext cx="1152360" cy="287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-192240" y="4976640"/>
            <a:ext cx="3024360" cy="3625920"/>
          </a:xfrm>
          <a:custGeom>
            <a:avLst/>
            <a:gdLst/>
            <a:ahLst/>
            <a:rect l="l" t="t" r="r" b="b"/>
            <a:pathLst>
              <a:path w="1905" h="2284">
                <a:moveTo>
                  <a:pt x="1051" y="204"/>
                </a:moveTo>
                <a:cubicBezTo>
                  <a:pt x="1428" y="102"/>
                  <a:pt x="1806" y="0"/>
                  <a:pt x="1640" y="340"/>
                </a:cubicBezTo>
                <a:cubicBezTo>
                  <a:pt x="1474" y="680"/>
                  <a:pt x="106" y="2208"/>
                  <a:pt x="53" y="2246"/>
                </a:cubicBezTo>
                <a:cubicBezTo>
                  <a:pt x="0" y="2284"/>
                  <a:pt x="1021" y="817"/>
                  <a:pt x="1323" y="567"/>
                </a:cubicBezTo>
                <a:cubicBezTo>
                  <a:pt x="1625" y="317"/>
                  <a:pt x="1905" y="809"/>
                  <a:pt x="1867" y="749"/>
                </a:cubicBezTo>
                <a:cubicBezTo>
                  <a:pt x="1829" y="689"/>
                  <a:pt x="1172" y="332"/>
                  <a:pt x="1096" y="204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9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Example: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I = { </a:t>
            </a:r>
            <a:r>
              <a:rPr b="0" i="1" lang="en-US" sz="3200" spc="-1" strike="noStrike">
                <a:solidFill>
                  <a:srgbClr val="e5e5ff"/>
                </a:solidFill>
                <a:latin typeface="Garamond"/>
              </a:rPr>
              <a:t>a</a:t>
            </a: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 → A, # → B}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R = { AA → A, AB → B}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F = {A}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38480" cy="38494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514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    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A   A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a     a   a  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48320" y="2276280"/>
            <a:ext cx="403848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    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A   A   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a     a   a     #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"/>
          <p:cNvSpPr/>
          <p:nvPr/>
        </p:nvSpPr>
        <p:spPr>
          <a:xfrm>
            <a:off x="-192240" y="4976640"/>
            <a:ext cx="3024360" cy="3625920"/>
          </a:xfrm>
          <a:custGeom>
            <a:avLst/>
            <a:gdLst/>
            <a:ahLst/>
            <a:rect l="l" t="t" r="r" b="b"/>
            <a:pathLst>
              <a:path w="1905" h="2284">
                <a:moveTo>
                  <a:pt x="1051" y="204"/>
                </a:moveTo>
                <a:cubicBezTo>
                  <a:pt x="1428" y="102"/>
                  <a:pt x="1806" y="0"/>
                  <a:pt x="1640" y="340"/>
                </a:cubicBezTo>
                <a:cubicBezTo>
                  <a:pt x="1474" y="680"/>
                  <a:pt x="106" y="2208"/>
                  <a:pt x="53" y="2246"/>
                </a:cubicBezTo>
                <a:cubicBezTo>
                  <a:pt x="0" y="2284"/>
                  <a:pt x="1021" y="817"/>
                  <a:pt x="1323" y="567"/>
                </a:cubicBezTo>
                <a:cubicBezTo>
                  <a:pt x="1625" y="317"/>
                  <a:pt x="1905" y="809"/>
                  <a:pt x="1867" y="749"/>
                </a:cubicBezTo>
                <a:cubicBezTo>
                  <a:pt x="1829" y="689"/>
                  <a:pt x="1172" y="332"/>
                  <a:pt x="1096" y="204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76364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13200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700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268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940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30872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87708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44508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9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Example: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I = { </a:t>
            </a:r>
            <a:r>
              <a:rPr b="0" i="1" lang="en-US" sz="3200" spc="-1" strike="noStrike">
                <a:solidFill>
                  <a:srgbClr val="e5e5ff"/>
                </a:solidFill>
                <a:latin typeface="Garamond"/>
              </a:rPr>
              <a:t>a</a:t>
            </a: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 → A, # → B}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R = { AA → A, AB → B}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F = {A}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38480" cy="38494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514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A   A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a     a   a  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48320" y="2276280"/>
            <a:ext cx="403848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   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A   A   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a     a   a     #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"/>
          <p:cNvSpPr/>
          <p:nvPr/>
        </p:nvSpPr>
        <p:spPr>
          <a:xfrm>
            <a:off x="-192240" y="4976640"/>
            <a:ext cx="3024360" cy="3625920"/>
          </a:xfrm>
          <a:custGeom>
            <a:avLst/>
            <a:gdLst/>
            <a:ahLst/>
            <a:rect l="l" t="t" r="r" b="b"/>
            <a:pathLst>
              <a:path w="1905" h="2284">
                <a:moveTo>
                  <a:pt x="1051" y="204"/>
                </a:moveTo>
                <a:cubicBezTo>
                  <a:pt x="1428" y="102"/>
                  <a:pt x="1806" y="0"/>
                  <a:pt x="1640" y="340"/>
                </a:cubicBezTo>
                <a:cubicBezTo>
                  <a:pt x="1474" y="680"/>
                  <a:pt x="106" y="2208"/>
                  <a:pt x="53" y="2246"/>
                </a:cubicBezTo>
                <a:cubicBezTo>
                  <a:pt x="0" y="2284"/>
                  <a:pt x="1021" y="817"/>
                  <a:pt x="1323" y="567"/>
                </a:cubicBezTo>
                <a:cubicBezTo>
                  <a:pt x="1625" y="317"/>
                  <a:pt x="1905" y="809"/>
                  <a:pt x="1867" y="749"/>
                </a:cubicBezTo>
                <a:cubicBezTo>
                  <a:pt x="1829" y="689"/>
                  <a:pt x="1172" y="332"/>
                  <a:pt x="1096" y="204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190764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195640" y="3716280"/>
            <a:ext cx="727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2771280" y="3716280"/>
            <a:ext cx="71640" cy="217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91636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76364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13200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700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268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608436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372360" y="3716280"/>
            <a:ext cx="7128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6948000" y="3716280"/>
            <a:ext cx="71640" cy="217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09308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940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30872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87708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44508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9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Example: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I = { </a:t>
            </a:r>
            <a:r>
              <a:rPr b="0" i="1" lang="en-US" sz="3200" spc="-1" strike="noStrike">
                <a:solidFill>
                  <a:srgbClr val="e5e5ff"/>
                </a:solidFill>
                <a:latin typeface="Garamond"/>
              </a:rPr>
              <a:t>a</a:t>
            </a: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 → A, # → B}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R = { AA → A, AB → B}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F = {A}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38480" cy="38494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514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A   A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a     a   a  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48320" y="2276280"/>
            <a:ext cx="403848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   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A   A   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a     a   a     #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7" name=""/>
          <p:cNvSpPr/>
          <p:nvPr/>
        </p:nvSpPr>
        <p:spPr>
          <a:xfrm>
            <a:off x="2050920" y="2492280"/>
            <a:ext cx="576360" cy="503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556000" y="2205000"/>
            <a:ext cx="1152360" cy="287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-192240" y="4976640"/>
            <a:ext cx="3024360" cy="3625920"/>
          </a:xfrm>
          <a:custGeom>
            <a:avLst/>
            <a:gdLst/>
            <a:ahLst/>
            <a:rect l="l" t="t" r="r" b="b"/>
            <a:pathLst>
              <a:path w="1905" h="2284">
                <a:moveTo>
                  <a:pt x="1051" y="204"/>
                </a:moveTo>
                <a:cubicBezTo>
                  <a:pt x="1428" y="102"/>
                  <a:pt x="1806" y="0"/>
                  <a:pt x="1640" y="340"/>
                </a:cubicBezTo>
                <a:cubicBezTo>
                  <a:pt x="1474" y="680"/>
                  <a:pt x="106" y="2208"/>
                  <a:pt x="53" y="2246"/>
                </a:cubicBezTo>
                <a:cubicBezTo>
                  <a:pt x="0" y="2284"/>
                  <a:pt x="1021" y="817"/>
                  <a:pt x="1323" y="567"/>
                </a:cubicBezTo>
                <a:cubicBezTo>
                  <a:pt x="1625" y="317"/>
                  <a:pt x="1905" y="809"/>
                  <a:pt x="1867" y="749"/>
                </a:cubicBezTo>
                <a:cubicBezTo>
                  <a:pt x="1829" y="689"/>
                  <a:pt x="1172" y="332"/>
                  <a:pt x="1096" y="204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2195280" y="3141720"/>
            <a:ext cx="215640" cy="2887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190764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556000" y="3141720"/>
            <a:ext cx="215640" cy="287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195640" y="3716280"/>
            <a:ext cx="727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2771280" y="3716280"/>
            <a:ext cx="71640" cy="217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91636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76364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13200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700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268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6372000" y="3068640"/>
            <a:ext cx="215640" cy="361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608436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659640" y="3068640"/>
            <a:ext cx="2887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372360" y="3716280"/>
            <a:ext cx="7128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6948000" y="3716280"/>
            <a:ext cx="71640" cy="217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09308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940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30872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87708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44508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9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Example: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I = { </a:t>
            </a:r>
            <a:r>
              <a:rPr b="0" i="1" lang="en-US" sz="3200" spc="-1" strike="noStrike">
                <a:solidFill>
                  <a:srgbClr val="e5e5ff"/>
                </a:solidFill>
                <a:latin typeface="Garamond"/>
              </a:rPr>
              <a:t>a</a:t>
            </a: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 → A, # → B}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R = { AA → A, AB → B}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F = {A}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38480" cy="38494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514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A   A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a     a   a  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cc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cc00"/>
                </a:solidFill>
                <a:latin typeface="Garamond"/>
              </a:rPr>
              <a:t>L(M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48320" y="2276280"/>
            <a:ext cx="403848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   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A   A   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a     a   a     #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</a:t>
            </a:r>
            <a:r>
              <a:rPr b="0" lang="en-US" sz="24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Garamond"/>
              </a:rPr>
              <a:t>L(M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3" name=""/>
          <p:cNvSpPr/>
          <p:nvPr/>
        </p:nvSpPr>
        <p:spPr>
          <a:xfrm>
            <a:off x="2050920" y="2492280"/>
            <a:ext cx="576360" cy="503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556000" y="2205000"/>
            <a:ext cx="1152360" cy="287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-192240" y="4976640"/>
            <a:ext cx="3024360" cy="3625920"/>
          </a:xfrm>
          <a:custGeom>
            <a:avLst/>
            <a:gdLst/>
            <a:ahLst/>
            <a:rect l="l" t="t" r="r" b="b"/>
            <a:pathLst>
              <a:path w="1905" h="2284">
                <a:moveTo>
                  <a:pt x="1051" y="204"/>
                </a:moveTo>
                <a:cubicBezTo>
                  <a:pt x="1428" y="102"/>
                  <a:pt x="1806" y="0"/>
                  <a:pt x="1640" y="340"/>
                </a:cubicBezTo>
                <a:cubicBezTo>
                  <a:pt x="1474" y="680"/>
                  <a:pt x="106" y="2208"/>
                  <a:pt x="53" y="2246"/>
                </a:cubicBezTo>
                <a:cubicBezTo>
                  <a:pt x="0" y="2284"/>
                  <a:pt x="1021" y="817"/>
                  <a:pt x="1323" y="567"/>
                </a:cubicBezTo>
                <a:cubicBezTo>
                  <a:pt x="1625" y="317"/>
                  <a:pt x="1905" y="809"/>
                  <a:pt x="1867" y="749"/>
                </a:cubicBezTo>
                <a:cubicBezTo>
                  <a:pt x="1829" y="689"/>
                  <a:pt x="1172" y="332"/>
                  <a:pt x="1096" y="204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476360" y="4941720"/>
            <a:ext cx="2023920" cy="290520"/>
          </a:xfrm>
          <a:custGeom>
            <a:avLst/>
            <a:gdLst/>
            <a:ahLst/>
            <a:rect l="l" t="t" r="r" b="b"/>
            <a:pathLst>
              <a:path w="1275" h="183">
                <a:moveTo>
                  <a:pt x="0" y="20"/>
                </a:moveTo>
                <a:cubicBezTo>
                  <a:pt x="5" y="37"/>
                  <a:pt x="8" y="79"/>
                  <a:pt x="27" y="88"/>
                </a:cubicBezTo>
                <a:cubicBezTo>
                  <a:pt x="32" y="90"/>
                  <a:pt x="118" y="100"/>
                  <a:pt x="122" y="101"/>
                </a:cubicBezTo>
                <a:cubicBezTo>
                  <a:pt x="202" y="98"/>
                  <a:pt x="286" y="98"/>
                  <a:pt x="366" y="88"/>
                </a:cubicBezTo>
                <a:cubicBezTo>
                  <a:pt x="398" y="84"/>
                  <a:pt x="461" y="74"/>
                  <a:pt x="461" y="74"/>
                </a:cubicBezTo>
                <a:cubicBezTo>
                  <a:pt x="527" y="78"/>
                  <a:pt x="561" y="76"/>
                  <a:pt x="616" y="95"/>
                </a:cubicBezTo>
                <a:cubicBezTo>
                  <a:pt x="635" y="123"/>
                  <a:pt x="642" y="151"/>
                  <a:pt x="650" y="183"/>
                </a:cubicBezTo>
                <a:cubicBezTo>
                  <a:pt x="656" y="173"/>
                  <a:pt x="673" y="126"/>
                  <a:pt x="677" y="122"/>
                </a:cubicBezTo>
                <a:cubicBezTo>
                  <a:pt x="682" y="117"/>
                  <a:pt x="691" y="117"/>
                  <a:pt x="698" y="115"/>
                </a:cubicBezTo>
                <a:cubicBezTo>
                  <a:pt x="737" y="88"/>
                  <a:pt x="759" y="93"/>
                  <a:pt x="813" y="88"/>
                </a:cubicBezTo>
                <a:cubicBezTo>
                  <a:pt x="953" y="96"/>
                  <a:pt x="1124" y="126"/>
                  <a:pt x="1253" y="81"/>
                </a:cubicBezTo>
                <a:cubicBezTo>
                  <a:pt x="1275" y="38"/>
                  <a:pt x="1267" y="64"/>
                  <a:pt x="1267" y="0"/>
                </a:cubicBez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724360" y="4869000"/>
            <a:ext cx="2024280" cy="290520"/>
          </a:xfrm>
          <a:custGeom>
            <a:avLst/>
            <a:gdLst/>
            <a:ahLst/>
            <a:rect l="l" t="t" r="r" b="b"/>
            <a:pathLst>
              <a:path w="1275" h="183">
                <a:moveTo>
                  <a:pt x="0" y="20"/>
                </a:moveTo>
                <a:cubicBezTo>
                  <a:pt x="5" y="37"/>
                  <a:pt x="8" y="79"/>
                  <a:pt x="27" y="88"/>
                </a:cubicBezTo>
                <a:cubicBezTo>
                  <a:pt x="32" y="90"/>
                  <a:pt x="118" y="100"/>
                  <a:pt x="122" y="101"/>
                </a:cubicBezTo>
                <a:cubicBezTo>
                  <a:pt x="202" y="98"/>
                  <a:pt x="286" y="98"/>
                  <a:pt x="366" y="88"/>
                </a:cubicBezTo>
                <a:cubicBezTo>
                  <a:pt x="398" y="84"/>
                  <a:pt x="461" y="74"/>
                  <a:pt x="461" y="74"/>
                </a:cubicBezTo>
                <a:cubicBezTo>
                  <a:pt x="527" y="78"/>
                  <a:pt x="561" y="76"/>
                  <a:pt x="616" y="95"/>
                </a:cubicBezTo>
                <a:cubicBezTo>
                  <a:pt x="635" y="123"/>
                  <a:pt x="642" y="151"/>
                  <a:pt x="650" y="183"/>
                </a:cubicBezTo>
                <a:cubicBezTo>
                  <a:pt x="656" y="173"/>
                  <a:pt x="673" y="126"/>
                  <a:pt x="677" y="122"/>
                </a:cubicBezTo>
                <a:cubicBezTo>
                  <a:pt x="682" y="117"/>
                  <a:pt x="691" y="117"/>
                  <a:pt x="698" y="115"/>
                </a:cubicBezTo>
                <a:cubicBezTo>
                  <a:pt x="737" y="88"/>
                  <a:pt x="759" y="93"/>
                  <a:pt x="813" y="88"/>
                </a:cubicBezTo>
                <a:cubicBezTo>
                  <a:pt x="953" y="96"/>
                  <a:pt x="1124" y="126"/>
                  <a:pt x="1253" y="81"/>
                </a:cubicBezTo>
                <a:cubicBezTo>
                  <a:pt x="1275" y="38"/>
                  <a:pt x="1267" y="64"/>
                  <a:pt x="1267" y="0"/>
                </a:cubicBez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2195280" y="3141720"/>
            <a:ext cx="215640" cy="2887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190764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556000" y="3141720"/>
            <a:ext cx="215640" cy="287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195640" y="3716280"/>
            <a:ext cx="727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2771280" y="3716280"/>
            <a:ext cx="71640" cy="217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91636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76364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13200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00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268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flipH="1">
            <a:off x="6372000" y="3068640"/>
            <a:ext cx="215640" cy="361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608436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659640" y="3068640"/>
            <a:ext cx="2887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372360" y="3716280"/>
            <a:ext cx="7128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6948000" y="3716280"/>
            <a:ext cx="71640" cy="217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709308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940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30872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87708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4508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7T18:03:59Z</dcterms:created>
  <dc:creator>Tomáš Masopust</dc:creator>
  <dc:description/>
  <dc:language>en-US</dc:language>
  <cp:lastModifiedBy>Tomáš Masopust</cp:lastModifiedBy>
  <dcterms:modified xsi:type="dcterms:W3CDTF">2005-10-21T13:25:46Z</dcterms:modified>
  <cp:revision>102</cp:revision>
  <dc:subject/>
  <dc:title>Systolic Automata</dc:title>
</cp:coreProperties>
</file>