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8EF2-C51C-45B5-A3FF-F451F70B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4FC-979C-4267-A900-EF1B1A73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6A4-1FF8-4D94-8F0C-CA45774A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6A8-63F9-4645-ACF7-592B703B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7141-5A41-450B-838A-ED7E04FE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0A21-0C35-4BFF-B0E9-A8F2337F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5EAF-E871-467E-B4ED-97B8E8AA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B60-9FFF-4849-8E03-15350220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F5D0-6092-4026-BA8A-D5C9A371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C36C-4E08-4197-BA41-926EB388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EE57-8D4E-4655-8199-82719C8C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EC83-8784-404A-B8D9-C2449EE8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6DCC-3FEB-49C8-B7D4-B18082D6859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V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Vari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of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Finite Automat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438280"/>
            <a:ext cx="80010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kip all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5800" y="5562720"/>
            <a:ext cx="6934320" cy="1066680"/>
            <a:chOff x="685800" y="5562720"/>
            <a:chExt cx="6934320" cy="1066680"/>
          </a:xfrm>
        </p:grpSpPr>
        <p:sp>
          <p:nvSpPr>
            <p:cNvPr id="282" name=""/>
            <p:cNvSpPr/>
            <p:nvPr/>
          </p:nvSpPr>
          <p:spPr>
            <a:xfrm>
              <a:off x="2895480" y="5562720"/>
              <a:ext cx="3048120" cy="10666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4080" y="57913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2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30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7800" y="6095880"/>
              <a:ext cx="1295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5562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6576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12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2320" y="5867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86600" y="5943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57600" y="61722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43400" y="6019920"/>
              <a:ext cx="3808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419720" y="6248160"/>
              <a:ext cx="3045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5638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57600" y="5867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670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4340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2578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81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624852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4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" y="5562720"/>
              <a:ext cx="1905120" cy="4899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57913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08240" y="4876920"/>
            <a:ext cx="4035240" cy="1982160"/>
            <a:chOff x="3108240" y="4876920"/>
            <a:chExt cx="4035240" cy="1982160"/>
          </a:xfrm>
        </p:grpSpPr>
        <p:sp>
          <p:nvSpPr>
            <p:cNvPr id="306" name=""/>
            <p:cNvSpPr/>
            <p:nvPr/>
          </p:nvSpPr>
          <p:spPr>
            <a:xfrm flipH="1">
              <a:off x="3107880" y="4876920"/>
              <a:ext cx="40352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6216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21932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480" y="3048120"/>
            <a:ext cx="8534520" cy="2865600"/>
            <a:chOff x="609480" y="3048120"/>
            <a:chExt cx="8534520" cy="2865600"/>
          </a:xfrm>
        </p:grpSpPr>
        <p:sp>
          <p:nvSpPr>
            <p:cNvPr id="312" name=""/>
            <p:cNvSpPr/>
            <p:nvPr/>
          </p:nvSpPr>
          <p:spPr>
            <a:xfrm>
              <a:off x="609480" y="3048120"/>
              <a:ext cx="7696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1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" y="36576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" y="4191120"/>
              <a:ext cx="845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" y="4724280"/>
              <a:ext cx="830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120" y="53341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339933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609480" y="1066680"/>
            <a:ext cx="8229600" cy="1570320"/>
            <a:chOff x="609480" y="1066680"/>
            <a:chExt cx="8229600" cy="1570320"/>
          </a:xfrm>
        </p:grpSpPr>
        <p:sp>
          <p:nvSpPr>
            <p:cNvPr id="320" name=""/>
            <p:cNvSpPr/>
            <p:nvPr/>
          </p:nvSpPr>
          <p:spPr>
            <a:xfrm>
              <a:off x="609480" y="1066680"/>
              <a:ext cx="6782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2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480" y="160020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480" y="205740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800" y="2590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09480" y="2590920"/>
            <a:ext cx="7848720" cy="1569960"/>
            <a:chOff x="609480" y="2590920"/>
            <a:chExt cx="7848720" cy="1569960"/>
          </a:xfrm>
        </p:grpSpPr>
        <p:sp>
          <p:nvSpPr>
            <p:cNvPr id="325" name=""/>
            <p:cNvSpPr/>
            <p:nvPr/>
          </p:nvSpPr>
          <p:spPr>
            <a:xfrm>
              <a:off x="609480" y="2590920"/>
              <a:ext cx="7315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3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3124080"/>
              <a:ext cx="769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480" y="3581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5800" y="4114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09480" y="4114800"/>
            <a:ext cx="8077320" cy="1447920"/>
            <a:chOff x="609480" y="4114800"/>
            <a:chExt cx="8077320" cy="1447920"/>
          </a:xfrm>
        </p:grpSpPr>
        <p:sp>
          <p:nvSpPr>
            <p:cNvPr id="330" name=""/>
            <p:cNvSpPr/>
            <p:nvPr/>
          </p:nvSpPr>
          <p:spPr>
            <a:xfrm>
              <a:off x="609480" y="4114800"/>
              <a:ext cx="701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4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480" y="464832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480" y="50292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09480" y="5486400"/>
            <a:ext cx="7848720" cy="960480"/>
            <a:chOff x="609480" y="5486400"/>
            <a:chExt cx="7848720" cy="960480"/>
          </a:xfrm>
        </p:grpSpPr>
        <p:sp>
          <p:nvSpPr>
            <p:cNvPr id="335" name=""/>
            <p:cNvSpPr/>
            <p:nvPr/>
          </p:nvSpPr>
          <p:spPr>
            <a:xfrm>
              <a:off x="609480" y="548640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19320" y="5867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57200" y="106668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144792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82880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2209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5200" y="12193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67480" y="1752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2936880"/>
            <a:ext cx="7620120" cy="3679560"/>
            <a:chOff x="609480" y="2936880"/>
            <a:chExt cx="7620120" cy="3679560"/>
          </a:xfrm>
        </p:grpSpPr>
        <p:sp>
          <p:nvSpPr>
            <p:cNvPr id="347" name=""/>
            <p:cNvSpPr/>
            <p:nvPr/>
          </p:nvSpPr>
          <p:spPr>
            <a:xfrm>
              <a:off x="2133720" y="40384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66680" y="4038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42670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3048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0400" y="3962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600200" y="3809880"/>
              <a:ext cx="533520" cy="520560"/>
              <a:chOff x="1600200" y="3809880"/>
              <a:chExt cx="533520" cy="520560"/>
            </a:xfrm>
          </p:grpSpPr>
          <p:sp>
            <p:nvSpPr>
              <p:cNvPr id="353" name=""/>
              <p:cNvSpPr/>
              <p:nvPr/>
            </p:nvSpPr>
            <p:spPr>
              <a:xfrm>
                <a:off x="169704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020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6668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6520" y="4495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71600" y="457200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666880" y="4572000"/>
              <a:ext cx="6098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6720" y="403848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90720" y="35402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3000" y="30481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740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52680" y="29718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666880" y="3809880"/>
              <a:ext cx="533520" cy="520560"/>
              <a:chOff x="2666880" y="3809880"/>
              <a:chExt cx="533520" cy="520560"/>
            </a:xfrm>
          </p:grpSpPr>
          <p:sp>
            <p:nvSpPr>
              <p:cNvPr id="367" name=""/>
              <p:cNvSpPr/>
              <p:nvPr/>
            </p:nvSpPr>
            <p:spPr>
              <a:xfrm>
                <a:off x="276372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200400" y="34290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57400" y="5370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77120" y="4003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10080" y="400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52880" y="423216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30132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3800" y="3927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943600" y="3774960"/>
              <a:ext cx="533520" cy="520560"/>
              <a:chOff x="5943600" y="3774960"/>
              <a:chExt cx="533520" cy="520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04044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4360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01992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6095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400356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412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86400" y="301320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00800" y="3470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53080" y="5562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6080" y="2936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010280" y="3774960"/>
              <a:ext cx="533520" cy="520560"/>
              <a:chOff x="7010280" y="3774960"/>
              <a:chExt cx="533520" cy="520560"/>
            </a:xfrm>
          </p:grpSpPr>
          <p:sp>
            <p:nvSpPr>
              <p:cNvPr id="388" name=""/>
              <p:cNvSpPr/>
              <p:nvPr/>
            </p:nvSpPr>
            <p:spPr>
              <a:xfrm>
                <a:off x="710712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1028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7543800" y="3394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477120" y="5981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1320" y="4495680"/>
              <a:ext cx="1904760" cy="4572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0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15000" y="4572000"/>
              <a:ext cx="2057400" cy="8380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9400" y="4952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562720" y="4494960"/>
              <a:ext cx="99036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086600" y="4571280"/>
              <a:ext cx="99072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8880" y="5562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600" y="4800600"/>
              <a:ext cx="1676520" cy="533520"/>
            </a:xfrm>
            <a:prstGeom prst="rightArrow">
              <a:avLst>
                <a:gd name="adj1" fmla="val 50000"/>
                <a:gd name="adj2" fmla="val 7855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106668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 DFA, make states from all subsets of states in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nd move between them so that all possible states of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re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simultaneously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simula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0880" y="2895480"/>
            <a:ext cx="8305920" cy="3678120"/>
            <a:chOff x="380880" y="2895480"/>
            <a:chExt cx="8305920" cy="3678120"/>
          </a:xfrm>
        </p:grpSpPr>
        <p:sp>
          <p:nvSpPr>
            <p:cNvPr id="407" name=""/>
            <p:cNvSpPr/>
            <p:nvPr/>
          </p:nvSpPr>
          <p:spPr>
            <a:xfrm>
              <a:off x="1905120" y="4211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808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0880" y="44956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81080" y="3276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71800" y="419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71600" y="405936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7160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47920" y="54309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0200" y="60404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4267080"/>
              <a:ext cx="53316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2120" y="37688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14400" y="32767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28800" y="37339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1080" y="558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24080" y="32004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35120" y="40384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3828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71800" y="36576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05120" y="600480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4694400"/>
              <a:ext cx="1790640" cy="37908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2320" y="45165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4835520"/>
              <a:ext cx="2057400" cy="6714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82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990720" y="4758480"/>
              <a:ext cx="990360" cy="12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484668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0920" y="5410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28954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9880" y="2971800"/>
              <a:ext cx="487692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102320" y="3942000"/>
            <a:ext cx="5831640" cy="1460880"/>
            <a:chOff x="1102320" y="3942000"/>
            <a:chExt cx="5831640" cy="1460880"/>
          </a:xfrm>
        </p:grpSpPr>
        <p:sp>
          <p:nvSpPr>
            <p:cNvPr id="436" name=""/>
            <p:cNvSpPr/>
            <p:nvPr/>
          </p:nvSpPr>
          <p:spPr>
            <a:xfrm>
              <a:off x="6477120" y="4952880"/>
              <a:ext cx="4568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30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482200">
              <a:off x="3429000" y="398268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482200">
              <a:off x="1142640" y="40590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693080" y="4685760"/>
            <a:ext cx="7222320" cy="1762920"/>
            <a:chOff x="1693080" y="4685760"/>
            <a:chExt cx="7222320" cy="1762920"/>
          </a:xfrm>
        </p:grpSpPr>
        <p:sp>
          <p:nvSpPr>
            <p:cNvPr id="441" name=""/>
            <p:cNvSpPr/>
            <p:nvPr/>
          </p:nvSpPr>
          <p:spPr>
            <a:xfrm>
              <a:off x="7086600" y="583740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5800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15200" y="5715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29600" y="5867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378000">
              <a:off x="1752120" y="573516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061600">
              <a:off x="2971440" y="47451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548000" y="4235760"/>
            <a:ext cx="7367400" cy="1527120"/>
            <a:chOff x="1548000" y="4235760"/>
            <a:chExt cx="7367400" cy="1527120"/>
          </a:xfrm>
        </p:grpSpPr>
        <p:sp>
          <p:nvSpPr>
            <p:cNvPr id="448" name=""/>
            <p:cNvSpPr/>
            <p:nvPr/>
          </p:nvSpPr>
          <p:spPr>
            <a:xfrm>
              <a:off x="7315200" y="5029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102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2960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9989600">
              <a:off x="1600200" y="42879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142800">
              <a:off x="2819520" y="451656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086600" y="522684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809880" y="4495680"/>
            <a:ext cx="4267440" cy="2256120"/>
            <a:chOff x="3809880" y="4495680"/>
            <a:chExt cx="4267440" cy="2256120"/>
          </a:xfrm>
        </p:grpSpPr>
        <p:sp>
          <p:nvSpPr>
            <p:cNvPr id="455" name=""/>
            <p:cNvSpPr/>
            <p:nvPr/>
          </p:nvSpPr>
          <p:spPr>
            <a:xfrm>
              <a:off x="380988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48520" y="5334120"/>
              <a:ext cx="9144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9880" y="4495680"/>
              <a:ext cx="289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4365000" y="4929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400000">
              <a:off x="4365000" y="5767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09880" y="6172200"/>
              <a:ext cx="426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1143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fre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362320"/>
            <a:ext cx="830592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2971800"/>
            <a:ext cx="8534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3886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4724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62320" y="521928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5257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290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819520" y="51814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495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19520" y="42670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5334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5029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252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038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91320" y="464832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57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79800" y="5049720"/>
            <a:ext cx="5044320" cy="1025280"/>
            <a:chOff x="1279800" y="5049720"/>
            <a:chExt cx="5044320" cy="1025280"/>
          </a:xfrm>
        </p:grpSpPr>
        <p:sp>
          <p:nvSpPr>
            <p:cNvPr id="490" name=""/>
            <p:cNvSpPr/>
            <p:nvPr/>
          </p:nvSpPr>
          <p:spPr>
            <a:xfrm flipV="1">
              <a:off x="5867280" y="5219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52578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9488600">
              <a:off x="1371600" y="52574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143000" y="3962520"/>
            <a:ext cx="7467480" cy="2057400"/>
            <a:chOff x="1143000" y="3962520"/>
            <a:chExt cx="7467480" cy="2057400"/>
          </a:xfrm>
        </p:grpSpPr>
        <p:sp>
          <p:nvSpPr>
            <p:cNvPr id="494" name=""/>
            <p:cNvSpPr/>
            <p:nvPr/>
          </p:nvSpPr>
          <p:spPr>
            <a:xfrm>
              <a:off x="6934320" y="42674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24480" y="441972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771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24680" y="4038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114800" y="39625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43000" y="510552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038480" y="3962520"/>
            <a:ext cx="4572000" cy="2209680"/>
            <a:chOff x="4038480" y="3962520"/>
            <a:chExt cx="4572000" cy="2209680"/>
          </a:xfrm>
        </p:grpSpPr>
        <p:sp>
          <p:nvSpPr>
            <p:cNvPr id="502" name=""/>
            <p:cNvSpPr/>
            <p:nvPr/>
          </p:nvSpPr>
          <p:spPr>
            <a:xfrm flipV="1">
              <a:off x="6324480" y="510480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77120" y="4876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34320" y="49532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24680" y="502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038480" y="55627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14800" y="396252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62120" y="4724280"/>
            <a:ext cx="7543800" cy="1789200"/>
            <a:chOff x="762120" y="4724280"/>
            <a:chExt cx="7543800" cy="1789200"/>
          </a:xfrm>
        </p:grpSpPr>
        <p:sp>
          <p:nvSpPr>
            <p:cNvPr id="510" name=""/>
            <p:cNvSpPr/>
            <p:nvPr/>
          </p:nvSpPr>
          <p:spPr>
            <a:xfrm>
              <a:off x="4267080" y="47242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38480" y="556236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2000" y="480024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120" y="5943240"/>
              <a:ext cx="75438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1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09480" y="114300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7400" y="4267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4800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495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89548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39625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810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3352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57800" y="3200400"/>
            <a:ext cx="114300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28120" y="2514600"/>
            <a:ext cx="7701480" cy="1377000"/>
            <a:chOff x="528120" y="2514600"/>
            <a:chExt cx="7701480" cy="1377000"/>
          </a:xfrm>
        </p:grpSpPr>
        <p:sp>
          <p:nvSpPr>
            <p:cNvPr id="528" name=""/>
            <p:cNvSpPr/>
            <p:nvPr/>
          </p:nvSpPr>
          <p:spPr>
            <a:xfrm>
              <a:off x="6934320" y="25909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380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48520" y="2514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8900000">
              <a:off x="609480" y="30481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4480" y="281952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33520" y="1752480"/>
            <a:ext cx="7772400" cy="4267080"/>
            <a:chOff x="533520" y="1752480"/>
            <a:chExt cx="7772400" cy="4267080"/>
          </a:xfrm>
        </p:grpSpPr>
        <p:sp>
          <p:nvSpPr>
            <p:cNvPr id="534" name=""/>
            <p:cNvSpPr/>
            <p:nvPr/>
          </p:nvSpPr>
          <p:spPr>
            <a:xfrm>
              <a:off x="7162920" y="32000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2971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00800" y="3504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200400" y="1752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 rot="5400000">
              <a:off x="13716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65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 rot="5400000">
              <a:off x="22860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909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2971440"/>
              <a:ext cx="91440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447920" y="1752480"/>
            <a:ext cx="7162560" cy="4343400"/>
            <a:chOff x="1447920" y="1752480"/>
            <a:chExt cx="7162560" cy="4343400"/>
          </a:xfrm>
        </p:grpSpPr>
        <p:sp>
          <p:nvSpPr>
            <p:cNvPr id="545" name=""/>
            <p:cNvSpPr/>
            <p:nvPr/>
          </p:nvSpPr>
          <p:spPr>
            <a:xfrm>
              <a:off x="1447920" y="5105160"/>
              <a:ext cx="17524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24680" y="39621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34320" y="38858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324480" y="365724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77120" y="3581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200400" y="327636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00400" y="1752480"/>
              <a:ext cx="1143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04920" y="2514600"/>
            <a:ext cx="8610480" cy="3161160"/>
            <a:chOff x="304920" y="2514600"/>
            <a:chExt cx="8610480" cy="3161160"/>
          </a:xfrm>
        </p:grpSpPr>
        <p:sp>
          <p:nvSpPr>
            <p:cNvPr id="554" name=""/>
            <p:cNvSpPr/>
            <p:nvPr/>
          </p:nvSpPr>
          <p:spPr>
            <a:xfrm>
              <a:off x="3124080" y="3276720"/>
              <a:ext cx="10663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29000" y="2514600"/>
              <a:ext cx="990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8480" y="2590920"/>
              <a:ext cx="685440" cy="167652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920" y="5105520"/>
              <a:ext cx="861048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30096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0020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909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29718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2286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0574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28195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3372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288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2438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04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48600" y="2438280"/>
            <a:ext cx="6223680" cy="1904760"/>
            <a:chOff x="48600" y="2438280"/>
            <a:chExt cx="6223680" cy="1904760"/>
          </a:xfrm>
        </p:grpSpPr>
        <p:sp>
          <p:nvSpPr>
            <p:cNvPr id="576" name=""/>
            <p:cNvSpPr/>
            <p:nvPr/>
          </p:nvSpPr>
          <p:spPr>
            <a:xfrm rot="18900000">
              <a:off x="152280" y="2764800"/>
              <a:ext cx="762120" cy="609480"/>
            </a:xfrm>
            <a:prstGeom prst="rightArrow">
              <a:avLst>
                <a:gd name="adj1" fmla="val 50000"/>
                <a:gd name="adj2" fmla="val 3126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29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400" y="35812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52680" y="380988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62520" y="36572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5586480" y="2514240"/>
              <a:ext cx="761760" cy="60984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52280" y="1676520"/>
            <a:ext cx="6248520" cy="3276000"/>
            <a:chOff x="152280" y="1676520"/>
            <a:chExt cx="6248520" cy="3276000"/>
          </a:xfrm>
        </p:grpSpPr>
        <p:sp>
          <p:nvSpPr>
            <p:cNvPr id="583" name=""/>
            <p:cNvSpPr/>
            <p:nvPr/>
          </p:nvSpPr>
          <p:spPr>
            <a:xfrm>
              <a:off x="4267080" y="43430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7600" y="4114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05320" y="4647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590200" y="167652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37339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46483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2280" y="2666880"/>
              <a:ext cx="8384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2720" y="2361960"/>
              <a:ext cx="83808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590920" y="1676520"/>
            <a:ext cx="5638680" cy="3961800"/>
            <a:chOff x="2590920" y="1676520"/>
            <a:chExt cx="5638680" cy="3961800"/>
          </a:xfrm>
        </p:grpSpPr>
        <p:sp>
          <p:nvSpPr>
            <p:cNvPr id="593" name=""/>
            <p:cNvSpPr/>
            <p:nvPr/>
          </p:nvSpPr>
          <p:spPr>
            <a:xfrm>
              <a:off x="3606840" y="2882520"/>
              <a:ext cx="167652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90920" y="1676520"/>
              <a:ext cx="83808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50288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352680" y="479952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05320" y="4724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52880" y="48002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67057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76201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666160" y="304776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62120" y="2209680"/>
            <a:ext cx="7772400" cy="4373640"/>
            <a:chOff x="762120" y="2209680"/>
            <a:chExt cx="7772400" cy="4373640"/>
          </a:xfrm>
        </p:grpSpPr>
        <p:sp>
          <p:nvSpPr>
            <p:cNvPr id="604" name=""/>
            <p:cNvSpPr/>
            <p:nvPr/>
          </p:nvSpPr>
          <p:spPr>
            <a:xfrm>
              <a:off x="762120" y="5562360"/>
              <a:ext cx="761976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    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4514760" y="2419200"/>
              <a:ext cx="571680" cy="167616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3200" y="22096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0920" y="3047760"/>
              <a:ext cx="8380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29400" y="2895480"/>
              <a:ext cx="17524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43600" y="3736440"/>
              <a:ext cx="2590920" cy="13737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nstruct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ther states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alogicall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8088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14300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98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25909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1814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914400" y="27810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281952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81080" y="1676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371600" y="2743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47920" y="2057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18288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8108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2590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3880" y="2666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9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59020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315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1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960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590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2485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1532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816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3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7150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17220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1500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4191120"/>
            <a:ext cx="1981440" cy="7617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14600" y="1828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570240" y="1032120"/>
            <a:ext cx="784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al states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9480" y="19512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9480" y="3780000"/>
            <a:ext cx="8077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80" y="1523160"/>
            <a:ext cx="21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24084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8656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33228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45200" y="4419360"/>
            <a:ext cx="7898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952880"/>
            <a:ext cx="7467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600200" y="29718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0574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16765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133720"/>
            <a:ext cx="403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vs.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971800"/>
            <a:ext cx="426744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809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752480" y="556200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64832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5410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4197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571500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876920"/>
            <a:ext cx="205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267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562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848720" y="5257800"/>
            <a:ext cx="76176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9480" y="4952880"/>
            <a:ext cx="1219320" cy="8384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315200" y="1295280"/>
            <a:ext cx="121932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91520" y="1371600"/>
            <a:ext cx="10666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" y="5029200"/>
            <a:ext cx="10666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5334120"/>
            <a:ext cx="60984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1447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424800" y="1294560"/>
            <a:ext cx="79545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32437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3243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-2362320" y="795240"/>
            <a:ext cx="4724280" cy="46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48" y="8996"/>
                </a:moveTo>
                <a:arcTo wR="10800" hR="10800" stAng="-576802" swAng="3696489"/>
                <a:lnTo>
                  <a:pt x="10800" y="10800"/>
                </a:lnTo>
                <a:close/>
              </a:path>
              <a:path fill="none" w="21600" h="21600">
                <a:moveTo>
                  <a:pt x="21448" y="8996"/>
                </a:moveTo>
                <a:arcTo wR="10800" hR="10800" stAng="-576802" swAng="36964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 rot="2406600">
            <a:off x="619200" y="164952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 rot="16200000">
            <a:off x="-569160" y="2887560"/>
            <a:ext cx="41857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06492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0649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 rot="5400000">
            <a:off x="4978080" y="3482280"/>
            <a:ext cx="559872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2" y="20503"/>
                </a:moveTo>
                <a:arcTo wR="10800" hR="10800" stAng="3837239" swAng="4226180"/>
                <a:lnTo>
                  <a:pt x="10800" y="10800"/>
                </a:lnTo>
                <a:close/>
              </a:path>
              <a:path fill="none" w="21600" h="21600">
                <a:moveTo>
                  <a:pt x="15542" y="20503"/>
                </a:moveTo>
                <a:arcTo wR="10800" hR="10800" stAng="3837239" swAng="42261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65040" y="4724640"/>
            <a:ext cx="8641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98" y="18272"/>
                </a:moveTo>
                <a:arcTo wR="10800" hR="10800" stAng="2626643" swAng="5660680"/>
                <a:lnTo>
                  <a:pt x="10800" y="10800"/>
                </a:lnTo>
                <a:close/>
              </a:path>
              <a:path fill="none" w="21600" h="21600">
                <a:moveTo>
                  <a:pt x="18598" y="18272"/>
                </a:moveTo>
                <a:arcTo wR="10800" hR="10800" stAng="2626643" swAng="566068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 rot="19193400">
            <a:off x="8457120" y="175176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381880" y="5027760"/>
            <a:ext cx="3060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31" y="560"/>
                </a:moveTo>
                <a:arcTo wR="10800" hR="10800" stAng="-4288488" swAng="15573049"/>
                <a:lnTo>
                  <a:pt x="10800" y="10800"/>
                </a:lnTo>
                <a:close/>
              </a:path>
              <a:path fill="none" w="21600" h="21600">
                <a:moveTo>
                  <a:pt x="14231" y="560"/>
                </a:moveTo>
                <a:arcTo wR="10800" hR="10800" stAng="-4288488" swAng="1557304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520" y="6095880"/>
            <a:ext cx="5562360" cy="4899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we make DFA smalle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19810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23880" y="1066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971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3716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35053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95680" y="5486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4956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81880" y="45720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6095880"/>
            <a:ext cx="2361960" cy="489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456480" y="4877640"/>
            <a:ext cx="3056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46" y="6"/>
                </a:moveTo>
                <a:arcTo wR="10800" hR="10800" stAng="-5512753" swAng="15616653"/>
                <a:lnTo>
                  <a:pt x="10800" y="10800"/>
                </a:lnTo>
                <a:close/>
              </a:path>
              <a:path fill="none" w="21600" h="21600">
                <a:moveTo>
                  <a:pt x="10446" y="6"/>
                </a:moveTo>
                <a:arcTo wR="10800" hR="10800" stAng="-5512753" swAng="15616653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57150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810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19051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stat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w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718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91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769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9480" y="3733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87800" y="4406760"/>
            <a:ext cx="406440" cy="33516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5812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1972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292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33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accesible state can be removed from 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the start state) 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114080" y="441972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609480" y="4800600"/>
            <a:ext cx="8013960" cy="1963800"/>
            <a:chOff x="609480" y="4800600"/>
            <a:chExt cx="8013960" cy="1963800"/>
          </a:xfrm>
        </p:grpSpPr>
        <p:sp>
          <p:nvSpPr>
            <p:cNvPr id="786" name=""/>
            <p:cNvSpPr/>
            <p:nvPr/>
          </p:nvSpPr>
          <p:spPr>
            <a:xfrm>
              <a:off x="609480" y="4800600"/>
              <a:ext cx="731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22440" y="513072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2440" y="547380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5830920"/>
              <a:ext cx="79376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inaccessible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54480" y="6184800"/>
              <a:ext cx="320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such that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51920" y="1371240"/>
            <a:ext cx="8839440" cy="5230080"/>
            <a:chOff x="151920" y="1371240"/>
            <a:chExt cx="8839440" cy="5230080"/>
          </a:xfrm>
        </p:grpSpPr>
        <p:grpSp>
          <p:nvGrpSpPr>
            <p:cNvPr id="864" name=""/>
            <p:cNvGrpSpPr/>
            <p:nvPr/>
          </p:nvGrpSpPr>
          <p:grpSpPr>
            <a:xfrm>
              <a:off x="151920" y="1371240"/>
              <a:ext cx="8839440" cy="4038120"/>
              <a:chOff x="151920" y="1371240"/>
              <a:chExt cx="8839440" cy="403812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2133360" y="2056680"/>
                <a:ext cx="990720" cy="914040"/>
                <a:chOff x="2133360" y="2056680"/>
                <a:chExt cx="990720" cy="914040"/>
              </a:xfrm>
            </p:grpSpPr>
            <p:sp>
              <p:nvSpPr>
                <p:cNvPr id="866" name=""/>
                <p:cNvSpPr/>
                <p:nvPr/>
              </p:nvSpPr>
              <p:spPr>
                <a:xfrm flipV="1">
                  <a:off x="213372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flipV="1">
                  <a:off x="213336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3809520" y="1371240"/>
                <a:ext cx="990720" cy="914040"/>
                <a:chOff x="3809520" y="1371240"/>
                <a:chExt cx="990720" cy="914040"/>
              </a:xfrm>
            </p:grpSpPr>
            <p:sp>
              <p:nvSpPr>
                <p:cNvPr id="869" name=""/>
                <p:cNvSpPr/>
                <p:nvPr/>
              </p:nvSpPr>
              <p:spPr>
                <a:xfrm flipV="1">
                  <a:off x="380988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380952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1066320" y="3276000"/>
                <a:ext cx="990720" cy="914040"/>
                <a:chOff x="1066320" y="3276000"/>
                <a:chExt cx="990720" cy="9140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106668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flipV="1">
                  <a:off x="106632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151920" y="3733200"/>
                <a:ext cx="990720" cy="914040"/>
                <a:chOff x="151920" y="3733200"/>
                <a:chExt cx="990720" cy="914040"/>
              </a:xfrm>
            </p:grpSpPr>
            <p:sp>
              <p:nvSpPr>
                <p:cNvPr id="875" name=""/>
                <p:cNvSpPr/>
                <p:nvPr/>
              </p:nvSpPr>
              <p:spPr>
                <a:xfrm flipV="1">
                  <a:off x="15228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flipV="1">
                  <a:off x="15192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3200040" y="2666520"/>
                <a:ext cx="990720" cy="914040"/>
                <a:chOff x="3200040" y="2666520"/>
                <a:chExt cx="990720" cy="914040"/>
              </a:xfrm>
            </p:grpSpPr>
            <p:sp>
              <p:nvSpPr>
                <p:cNvPr id="878" name=""/>
                <p:cNvSpPr/>
                <p:nvPr/>
              </p:nvSpPr>
              <p:spPr>
                <a:xfrm flipV="1">
                  <a:off x="320040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flipV="1">
                  <a:off x="320004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2895120" y="4266720"/>
                <a:ext cx="990720" cy="914040"/>
                <a:chOff x="2895120" y="4266720"/>
                <a:chExt cx="990720" cy="914040"/>
              </a:xfrm>
            </p:grpSpPr>
            <p:sp>
              <p:nvSpPr>
                <p:cNvPr id="881" name=""/>
                <p:cNvSpPr/>
                <p:nvPr/>
              </p:nvSpPr>
              <p:spPr>
                <a:xfrm flipV="1">
                  <a:off x="289548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flipV="1">
                  <a:off x="289512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6171840" y="2437920"/>
                <a:ext cx="990720" cy="914040"/>
                <a:chOff x="6171840" y="2437920"/>
                <a:chExt cx="990720" cy="914040"/>
              </a:xfrm>
            </p:grpSpPr>
            <p:sp>
              <p:nvSpPr>
                <p:cNvPr id="884" name=""/>
                <p:cNvSpPr/>
                <p:nvPr/>
              </p:nvSpPr>
              <p:spPr>
                <a:xfrm flipV="1">
                  <a:off x="617220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 flipV="1">
                  <a:off x="617184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4495320" y="3428280"/>
                <a:ext cx="990720" cy="914040"/>
                <a:chOff x="4495320" y="3428280"/>
                <a:chExt cx="990720" cy="914040"/>
              </a:xfrm>
            </p:grpSpPr>
            <p:sp>
              <p:nvSpPr>
                <p:cNvPr id="887" name=""/>
                <p:cNvSpPr/>
                <p:nvPr/>
              </p:nvSpPr>
              <p:spPr>
                <a:xfrm flipV="1">
                  <a:off x="449568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flipV="1">
                  <a:off x="449532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5638320" y="3885480"/>
                <a:ext cx="990720" cy="914040"/>
                <a:chOff x="5638320" y="3885480"/>
                <a:chExt cx="990720" cy="914040"/>
              </a:xfrm>
            </p:grpSpPr>
            <p:sp>
              <p:nvSpPr>
                <p:cNvPr id="890" name=""/>
                <p:cNvSpPr/>
                <p:nvPr/>
              </p:nvSpPr>
              <p:spPr>
                <a:xfrm flipV="1">
                  <a:off x="563868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563832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6857640" y="4495320"/>
                <a:ext cx="990720" cy="914040"/>
                <a:chOff x="6857640" y="4495320"/>
                <a:chExt cx="990720" cy="914040"/>
              </a:xfrm>
            </p:grpSpPr>
            <p:sp>
              <p:nvSpPr>
                <p:cNvPr id="893" name=""/>
                <p:cNvSpPr/>
                <p:nvPr/>
              </p:nvSpPr>
              <p:spPr>
                <a:xfrm flipV="1">
                  <a:off x="685800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flipV="1">
                  <a:off x="685764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8000640" y="2361600"/>
                <a:ext cx="990720" cy="914040"/>
                <a:chOff x="8000640" y="2361600"/>
                <a:chExt cx="990720" cy="914040"/>
              </a:xfrm>
            </p:grpSpPr>
            <p:sp>
              <p:nvSpPr>
                <p:cNvPr id="896" name=""/>
                <p:cNvSpPr/>
                <p:nvPr/>
              </p:nvSpPr>
              <p:spPr>
                <a:xfrm flipV="1">
                  <a:off x="800100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>
                  <a:off x="800064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8" name=""/>
            <p:cNvSpPr/>
            <p:nvPr/>
          </p:nvSpPr>
          <p:spPr>
            <a:xfrm>
              <a:off x="2133720" y="6019920"/>
              <a:ext cx="5257800" cy="5814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y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accessible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states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304920" y="1066680"/>
            <a:ext cx="8702280" cy="5748120"/>
            <a:chOff x="304920" y="1066680"/>
            <a:chExt cx="8702280" cy="5748120"/>
          </a:xfrm>
        </p:grpSpPr>
        <p:sp>
          <p:nvSpPr>
            <p:cNvPr id="901" name=""/>
            <p:cNvSpPr/>
            <p:nvPr/>
          </p:nvSpPr>
          <p:spPr>
            <a:xfrm>
              <a:off x="7848720" y="5257440"/>
              <a:ext cx="76176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09480" y="4952880"/>
              <a:ext cx="1219320" cy="8380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15200" y="1295280"/>
              <a:ext cx="12193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91520" y="1371240"/>
              <a:ext cx="10666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5800" y="5028840"/>
              <a:ext cx="10666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0720" y="1371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924680" y="5333760"/>
              <a:ext cx="60984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9480" y="1447560"/>
              <a:ext cx="45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411120" y="1294560"/>
              <a:ext cx="805932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 rot="2406600">
              <a:off x="619200" y="1649160"/>
              <a:ext cx="380520" cy="56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 rot="16200000">
              <a:off x="-569520" y="2886840"/>
              <a:ext cx="418644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 rot="5400000">
              <a:off x="4978080" y="3481920"/>
              <a:ext cx="559872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2" y="20503"/>
                  </a:moveTo>
                  <a:arcTo wR="10800" hR="10800" stAng="3837239" swAng="4226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2" y="20503"/>
                  </a:moveTo>
                  <a:arcTo wR="10800" hR="10800" stAng="3837239" swAng="4226180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365040" y="4724280"/>
              <a:ext cx="86418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98" y="18272"/>
                  </a:moveTo>
                  <a:arcTo wR="10800" hR="10800" stAng="2626643" swAng="5660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98" y="18272"/>
                  </a:moveTo>
                  <a:arcTo wR="10800" hR="10800" stAng="2626643" swAng="566068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 rot="19193400">
              <a:off x="8457840" y="1752480"/>
              <a:ext cx="380520" cy="55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7200" y="19810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1066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800" y="2971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534520" y="13712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05920" y="350496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95680" y="54860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8381880" y="5028840"/>
              <a:ext cx="30600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31" y="560"/>
                  </a:moveTo>
                  <a:arcTo wR="10800" hR="10800" stAng="-4288488" swAng="155730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31" y="560"/>
                  </a:moveTo>
                  <a:arcTo wR="10800" hR="10800" stAng="-4288488" swAng="15573049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4920" y="44971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81880" y="4573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456480" y="4879080"/>
              <a:ext cx="30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6" y="6"/>
                  </a:moveTo>
                  <a:arcTo wR="10800" hR="10800" stAng="-5512753" swAng="15616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6" y="6"/>
                  </a:moveTo>
                  <a:arcTo wR="10800" hR="10800" stAng="-5512753" swAng="1561665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alogy to the previous algorithm except that only sets of accessible states are introduc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80880" y="2494080"/>
            <a:ext cx="5334120" cy="3677760"/>
            <a:chOff x="380880" y="2494080"/>
            <a:chExt cx="5334120" cy="3677760"/>
          </a:xfrm>
        </p:grpSpPr>
        <p:sp>
          <p:nvSpPr>
            <p:cNvPr id="931" name=""/>
            <p:cNvSpPr/>
            <p:nvPr/>
          </p:nvSpPr>
          <p:spPr>
            <a:xfrm>
              <a:off x="1981080" y="28749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14400" y="287496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27986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5120" y="3809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8080" y="38656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880" y="40942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971800" y="3789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71600" y="3657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37160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479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00200" y="563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48120" y="3865680"/>
              <a:ext cx="53316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2120" y="3367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28800" y="33321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981080" y="5181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35120" y="36370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828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71800" y="3255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905120" y="560304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19320" y="4292640"/>
              <a:ext cx="1790640" cy="37944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623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43000" y="4433760"/>
              <a:ext cx="2057400" cy="67176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38280" y="44197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990720" y="4357800"/>
              <a:ext cx="990360" cy="12808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14600" y="444492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90920" y="500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80" y="24940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09880" y="26668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102320" y="2590920"/>
            <a:ext cx="5221800" cy="1412280"/>
            <a:chOff x="1102320" y="2590920"/>
            <a:chExt cx="5221800" cy="1412280"/>
          </a:xfrm>
        </p:grpSpPr>
        <p:sp>
          <p:nvSpPr>
            <p:cNvPr id="960" name=""/>
            <p:cNvSpPr/>
            <p:nvPr/>
          </p:nvSpPr>
          <p:spPr>
            <a:xfrm>
              <a:off x="5943600" y="3048120"/>
              <a:ext cx="380520" cy="38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6422392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64223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43600" y="259092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20482200">
              <a:off x="1143000" y="365724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809880" y="3373560"/>
            <a:ext cx="2743200" cy="609480"/>
            <a:chOff x="3809880" y="3373560"/>
            <a:chExt cx="2743200" cy="609480"/>
          </a:xfrm>
        </p:grpSpPr>
        <p:sp>
          <p:nvSpPr>
            <p:cNvPr id="964" name=""/>
            <p:cNvSpPr/>
            <p:nvPr/>
          </p:nvSpPr>
          <p:spPr>
            <a:xfrm>
              <a:off x="5943600" y="337356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09880" y="3449520"/>
              <a:ext cx="22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3809880" y="43639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new states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3809880" y="4821120"/>
            <a:ext cx="3886200" cy="1905120"/>
            <a:chOff x="3809880" y="4821120"/>
            <a:chExt cx="3886200" cy="1905120"/>
          </a:xfrm>
        </p:grpSpPr>
        <p:sp>
          <p:nvSpPr>
            <p:cNvPr id="968" name=""/>
            <p:cNvSpPr/>
            <p:nvPr/>
          </p:nvSpPr>
          <p:spPr>
            <a:xfrm>
              <a:off x="3809880" y="482112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5400000">
              <a:off x="4213080" y="60926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9880" y="520236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57355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new states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548000" y="2819520"/>
            <a:ext cx="7062480" cy="1661400"/>
            <a:chOff x="1548000" y="2819520"/>
            <a:chExt cx="7062480" cy="1661400"/>
          </a:xfrm>
        </p:grpSpPr>
        <p:sp>
          <p:nvSpPr>
            <p:cNvPr id="973" name=""/>
            <p:cNvSpPr/>
            <p:nvPr/>
          </p:nvSpPr>
          <p:spPr>
            <a:xfrm>
              <a:off x="7010280" y="30481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553080" y="2819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9989600">
              <a:off x="1600200" y="38862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3142800">
              <a:off x="2819160" y="41148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477120" y="3267000"/>
              <a:ext cx="533160" cy="23832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001000" y="3200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1693080" y="3657600"/>
            <a:ext cx="6917400" cy="2040120"/>
            <a:chOff x="1693080" y="3657600"/>
            <a:chExt cx="6917400" cy="2040120"/>
          </a:xfrm>
        </p:grpSpPr>
        <p:sp>
          <p:nvSpPr>
            <p:cNvPr id="980" name=""/>
            <p:cNvSpPr/>
            <p:nvPr/>
          </p:nvSpPr>
          <p:spPr>
            <a:xfrm>
              <a:off x="6477120" y="3876840"/>
              <a:ext cx="639720" cy="33480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294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010280" y="37339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3378000">
              <a:off x="1752120" y="5333760"/>
              <a:ext cx="30456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2061600">
              <a:off x="2971440" y="43434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010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09480" y="1062000"/>
            <a:ext cx="830592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accessibl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9480" y="297180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9480" y="3505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362320" y="4343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2362320" y="48384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438280" y="48769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429000" y="3733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4343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66688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2819520" y="48006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9548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19520" y="3886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29000" y="4952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954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7180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62520" y="3886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038480" y="4648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288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791320" y="4267080"/>
            <a:ext cx="609480" cy="6098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279800" y="3581280"/>
            <a:ext cx="5044320" cy="2112480"/>
            <a:chOff x="1279800" y="3581280"/>
            <a:chExt cx="5044320" cy="2112480"/>
          </a:xfrm>
        </p:grpSpPr>
        <p:sp>
          <p:nvSpPr>
            <p:cNvPr id="1013" name=""/>
            <p:cNvSpPr/>
            <p:nvPr/>
          </p:nvSpPr>
          <p:spPr>
            <a:xfrm>
              <a:off x="5867280" y="37335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562720" y="35812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19488600">
              <a:off x="1371600" y="48762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143000" y="3581280"/>
            <a:ext cx="7467480" cy="2057400"/>
            <a:chOff x="1143000" y="3581280"/>
            <a:chExt cx="7467480" cy="2057400"/>
          </a:xfrm>
        </p:grpSpPr>
        <p:sp>
          <p:nvSpPr>
            <p:cNvPr id="1017" name=""/>
            <p:cNvSpPr/>
            <p:nvPr/>
          </p:nvSpPr>
          <p:spPr>
            <a:xfrm>
              <a:off x="6934320" y="3886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324480" y="403848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77120" y="3581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924680" y="365760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4114800" y="35812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43000" y="472428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4038480" y="3581280"/>
            <a:ext cx="4572000" cy="2209680"/>
            <a:chOff x="4038480" y="3581280"/>
            <a:chExt cx="4572000" cy="2209680"/>
          </a:xfrm>
        </p:grpSpPr>
        <p:sp>
          <p:nvSpPr>
            <p:cNvPr id="1025" name=""/>
            <p:cNvSpPr/>
            <p:nvPr/>
          </p:nvSpPr>
          <p:spPr>
            <a:xfrm flipV="1">
              <a:off x="6324480" y="472356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7120" y="4495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4572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24680" y="464796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4038480" y="5181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14800" y="358128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762120" y="4343400"/>
            <a:ext cx="7543800" cy="2214360"/>
            <a:chOff x="762120" y="4343400"/>
            <a:chExt cx="7543800" cy="2214360"/>
          </a:xfrm>
        </p:grpSpPr>
        <p:sp>
          <p:nvSpPr>
            <p:cNvPr id="1033" name=""/>
            <p:cNvSpPr/>
            <p:nvPr/>
          </p:nvSpPr>
          <p:spPr>
            <a:xfrm>
              <a:off x="4267080" y="434340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038480" y="51814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72000" y="441936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2120" y="5562360"/>
              <a:ext cx="7543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548640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3429000" y="1295280"/>
            <a:ext cx="5029200" cy="2133360"/>
            <a:chOff x="3429000" y="1295280"/>
            <a:chExt cx="5029200" cy="2133360"/>
          </a:xfrm>
        </p:grpSpPr>
        <p:sp>
          <p:nvSpPr>
            <p:cNvPr id="1041" name=""/>
            <p:cNvSpPr/>
            <p:nvPr/>
          </p:nvSpPr>
          <p:spPr>
            <a:xfrm rot="16200000">
              <a:off x="3352680" y="281880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8720" y="21337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7619400" y="1752480"/>
              <a:ext cx="533160" cy="3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696080" y="1295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838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86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86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81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5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43000" y="1066680"/>
            <a:ext cx="6095520" cy="2438280"/>
            <a:chOff x="1143000" y="1066680"/>
            <a:chExt cx="6095520" cy="2438280"/>
          </a:xfrm>
        </p:grpSpPr>
        <p:sp>
          <p:nvSpPr>
            <p:cNvPr id="1054" name=""/>
            <p:cNvSpPr/>
            <p:nvPr/>
          </p:nvSpPr>
          <p:spPr>
            <a:xfrm rot="16200000">
              <a:off x="10666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6200000">
              <a:off x="19810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81680" y="12189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477120" y="1066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5268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5181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400800" y="1600200"/>
            <a:ext cx="1295280" cy="685800"/>
            <a:chOff x="6400800" y="1600200"/>
            <a:chExt cx="1295280" cy="685800"/>
          </a:xfrm>
        </p:grpSpPr>
        <p:sp>
          <p:nvSpPr>
            <p:cNvPr id="1061" name=""/>
            <p:cNvSpPr/>
            <p:nvPr/>
          </p:nvSpPr>
          <p:spPr>
            <a:xfrm>
              <a:off x="6400800" y="160020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04120" y="160812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6400800" y="2379600"/>
            <a:ext cx="1295280" cy="591840"/>
            <a:chOff x="6400800" y="2379600"/>
            <a:chExt cx="1295280" cy="591840"/>
          </a:xfrm>
        </p:grpSpPr>
        <p:sp>
          <p:nvSpPr>
            <p:cNvPr id="1064" name=""/>
            <p:cNvSpPr/>
            <p:nvPr/>
          </p:nvSpPr>
          <p:spPr>
            <a:xfrm>
              <a:off x="6400800" y="2437920"/>
              <a:ext cx="129528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504120" y="237960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V="1">
            <a:off x="6019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7652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43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0574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676520" y="24382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09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5146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43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429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38862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29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24080" y="1523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980320" y="1676520"/>
            <a:ext cx="2777760" cy="2057760"/>
            <a:chOff x="5980320" y="1676520"/>
            <a:chExt cx="2777760" cy="2057760"/>
          </a:xfrm>
        </p:grpSpPr>
        <p:sp>
          <p:nvSpPr>
            <p:cNvPr id="1080" name=""/>
            <p:cNvSpPr/>
            <p:nvPr/>
          </p:nvSpPr>
          <p:spPr>
            <a:xfrm>
              <a:off x="5980320" y="3154680"/>
              <a:ext cx="277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77120" y="167652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33520" y="3657600"/>
            <a:ext cx="7924680" cy="1980720"/>
            <a:chOff x="533520" y="3657600"/>
            <a:chExt cx="7924680" cy="1980720"/>
          </a:xfrm>
        </p:grpSpPr>
        <p:sp>
          <p:nvSpPr>
            <p:cNvPr id="1083" name=""/>
            <p:cNvSpPr/>
            <p:nvPr/>
          </p:nvSpPr>
          <p:spPr>
            <a:xfrm>
              <a:off x="685800" y="373356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008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5800" y="36576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600200" y="45716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66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600200" y="5105160"/>
              <a:ext cx="3808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3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24382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66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2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52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19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38098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52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048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772400" y="457164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7543800" y="4343040"/>
              <a:ext cx="53352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20120" y="3885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05720" y="38098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10080" y="4647960"/>
              <a:ext cx="609840" cy="609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10080" y="411444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105520" y="396216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943600" y="449568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43600" y="39621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199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105520" y="50288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6324480" y="4190760"/>
              <a:ext cx="1295280" cy="685440"/>
              <a:chOff x="6324480" y="4190760"/>
              <a:chExt cx="1295280" cy="685440"/>
            </a:xfrm>
          </p:grpSpPr>
          <p:sp>
            <p:nvSpPr>
              <p:cNvPr id="1111" name=""/>
              <p:cNvSpPr/>
              <p:nvPr/>
            </p:nvSpPr>
            <p:spPr>
              <a:xfrm>
                <a:off x="6324480" y="419076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27800" y="419832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6324480" y="4952880"/>
              <a:ext cx="1295280" cy="685440"/>
              <a:chOff x="6324480" y="4952880"/>
              <a:chExt cx="1295280" cy="685440"/>
            </a:xfrm>
          </p:grpSpPr>
          <p:sp>
            <p:nvSpPr>
              <p:cNvPr id="1114" name=""/>
              <p:cNvSpPr/>
              <p:nvPr/>
            </p:nvSpPr>
            <p:spPr>
              <a:xfrm>
                <a:off x="6324480" y="495288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427800" y="496044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 flipV="1">
              <a:off x="5943600" y="510516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00800" y="4267080"/>
              <a:ext cx="1143000" cy="532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89800" y="2057400"/>
            <a:ext cx="7025400" cy="1676520"/>
            <a:chOff x="289800" y="2057400"/>
            <a:chExt cx="7025400" cy="1676520"/>
          </a:xfrm>
        </p:grpSpPr>
        <p:grpSp>
          <p:nvGrpSpPr>
            <p:cNvPr id="1119" name=""/>
            <p:cNvGrpSpPr/>
            <p:nvPr/>
          </p:nvGrpSpPr>
          <p:grpSpPr>
            <a:xfrm>
              <a:off x="289800" y="2742840"/>
              <a:ext cx="7025400" cy="991080"/>
              <a:chOff x="289800" y="2742840"/>
              <a:chExt cx="7025400" cy="991080"/>
            </a:xfrm>
          </p:grpSpPr>
          <p:sp>
            <p:nvSpPr>
              <p:cNvPr id="1120" name=""/>
              <p:cNvSpPr/>
              <p:nvPr/>
            </p:nvSpPr>
            <p:spPr>
              <a:xfrm>
                <a:off x="990720" y="2742840"/>
                <a:ext cx="167616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0880" y="2818800"/>
                <a:ext cx="693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= 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ff9933"/>
                    </a:solidFill>
                    <a:latin typeface="Times New Roman"/>
                  </a:rPr>
                  <a:t>a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89800" y="3154320"/>
                <a:ext cx="595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en-US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new</a:t>
                </a: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4419720" y="2057400"/>
              <a:ext cx="533160" cy="685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352680" y="5181120"/>
            <a:ext cx="4800600" cy="914400"/>
            <a:chOff x="3352680" y="5181120"/>
            <a:chExt cx="4800600" cy="914400"/>
          </a:xfrm>
        </p:grpSpPr>
        <p:sp>
          <p:nvSpPr>
            <p:cNvPr id="1125" name=""/>
            <p:cNvSpPr/>
            <p:nvPr/>
          </p:nvSpPr>
          <p:spPr>
            <a:xfrm flipH="1" flipV="1">
              <a:off x="7620120" y="5180760"/>
              <a:ext cx="4572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9608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6200000">
              <a:off x="3276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066680" y="5409720"/>
            <a:ext cx="6553440" cy="838440"/>
            <a:chOff x="1066680" y="5409720"/>
            <a:chExt cx="6553440" cy="838440"/>
          </a:xfrm>
        </p:grpSpPr>
        <p:sp>
          <p:nvSpPr>
            <p:cNvPr id="1129" name=""/>
            <p:cNvSpPr/>
            <p:nvPr/>
          </p:nvSpPr>
          <p:spPr>
            <a:xfrm rot="16200000">
              <a:off x="990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6200000">
              <a:off x="19047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705720" y="56127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2920" y="54860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00400" y="5410080"/>
              <a:ext cx="838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5180760" y="5029200"/>
            <a:ext cx="2814480" cy="1524960"/>
            <a:chOff x="5180760" y="5029200"/>
            <a:chExt cx="2814480" cy="1524960"/>
          </a:xfrm>
        </p:grpSpPr>
        <p:sp>
          <p:nvSpPr>
            <p:cNvPr id="1135" name=""/>
            <p:cNvSpPr/>
            <p:nvPr/>
          </p:nvSpPr>
          <p:spPr>
            <a:xfrm>
              <a:off x="6400800" y="502920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180760" y="5974560"/>
              <a:ext cx="281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80880" y="4648320"/>
            <a:ext cx="6934320" cy="1905840"/>
            <a:chOff x="380880" y="4648320"/>
            <a:chExt cx="6934320" cy="1905840"/>
          </a:xfrm>
        </p:grpSpPr>
        <p:sp>
          <p:nvSpPr>
            <p:cNvPr id="1138" name=""/>
            <p:cNvSpPr/>
            <p:nvPr/>
          </p:nvSpPr>
          <p:spPr>
            <a:xfrm>
              <a:off x="984240" y="5410440"/>
              <a:ext cx="16765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80880" y="5639040"/>
              <a:ext cx="693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5880" y="5974560"/>
              <a:ext cx="490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19720" y="46483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1295280" y="2133720"/>
            <a:ext cx="44460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62120" y="20574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175248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295280" y="1600200"/>
            <a:ext cx="38088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90720" y="1523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341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1981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6476400" y="175248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5530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638680" y="121932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343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43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38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876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76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38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257800" y="160020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361120" y="160812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57800" y="236232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361120" y="237024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876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334120" y="1676520"/>
            <a:ext cx="11430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flipV="1">
            <a:off x="6476400" y="266616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62940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638680" y="302220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33412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334120" y="2438280"/>
            <a:ext cx="11430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295280" y="1523880"/>
            <a:ext cx="6553440" cy="1904400"/>
            <a:chOff x="1295280" y="1523880"/>
            <a:chExt cx="6553440" cy="1904400"/>
          </a:xfrm>
        </p:grpSpPr>
        <p:sp>
          <p:nvSpPr>
            <p:cNvPr id="1174" name=""/>
            <p:cNvSpPr/>
            <p:nvPr/>
          </p:nvSpPr>
          <p:spPr>
            <a:xfrm rot="16200000">
              <a:off x="1174680" y="2863080"/>
              <a:ext cx="685800" cy="444600"/>
            </a:xfrm>
            <a:prstGeom prst="rightArrow">
              <a:avLst>
                <a:gd name="adj1" fmla="val 50000"/>
                <a:gd name="adj2" fmla="val 3856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5400000">
              <a:off x="7341120" y="208260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91520" y="1523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6108480" y="2057400"/>
            <a:ext cx="2387880" cy="1676880"/>
            <a:chOff x="6108480" y="2057400"/>
            <a:chExt cx="2387880" cy="1676880"/>
          </a:xfrm>
        </p:grpSpPr>
        <p:sp>
          <p:nvSpPr>
            <p:cNvPr id="1178" name=""/>
            <p:cNvSpPr/>
            <p:nvPr/>
          </p:nvSpPr>
          <p:spPr>
            <a:xfrm>
              <a:off x="6781680" y="205740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08480" y="3154680"/>
              <a:ext cx="238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74200" y="1981080"/>
            <a:ext cx="4106160" cy="1753560"/>
            <a:chOff x="574200" y="1981080"/>
            <a:chExt cx="4106160" cy="1753560"/>
          </a:xfrm>
        </p:grpSpPr>
        <p:sp>
          <p:nvSpPr>
            <p:cNvPr id="1181" name=""/>
            <p:cNvSpPr/>
            <p:nvPr/>
          </p:nvSpPr>
          <p:spPr>
            <a:xfrm>
              <a:off x="2819520" y="198108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14300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5800" y="2819160"/>
              <a:ext cx="3505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4200" y="3155040"/>
              <a:ext cx="410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609480" y="3687840"/>
            <a:ext cx="8077320" cy="3019680"/>
            <a:chOff x="609480" y="3687840"/>
            <a:chExt cx="8077320" cy="3019680"/>
          </a:xfrm>
        </p:grpSpPr>
        <p:sp>
          <p:nvSpPr>
            <p:cNvPr id="1186" name=""/>
            <p:cNvSpPr/>
            <p:nvPr/>
          </p:nvSpPr>
          <p:spPr>
            <a:xfrm>
              <a:off x="2209680" y="376416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76416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52680" y="36878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33720" y="47545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66680" y="4754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9480" y="4983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00400" y="4678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704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0020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676520" y="5639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52480" y="6126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76720" y="47545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990720" y="42562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057400" y="42213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09680" y="5897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6372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6688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00400" y="41450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2057400" y="6209280"/>
              <a:ext cx="9140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447920" y="5246640"/>
              <a:ext cx="1904760" cy="1936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7652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71600" y="5322960"/>
              <a:ext cx="2057400" cy="4986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86000" y="5334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1219320" y="5245920"/>
              <a:ext cx="990360" cy="9558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2743200" y="5322240"/>
              <a:ext cx="990720" cy="8794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971800" y="5668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5800" y="3840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191120" y="505944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72200" y="3992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43800" y="4907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7315200" y="467856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391520" y="4221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77120" y="414504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81480" y="4983120"/>
              <a:ext cx="60984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44499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876920" y="4297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483084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15000" y="4297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91320" y="5059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76920" y="53643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95880" y="452592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99200" y="453384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95880" y="528804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99200" y="529596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5715000" y="543960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72200" y="460224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7315200" y="559224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67480" y="5592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6477120" y="594792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72200" y="58215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72200" y="536436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5400000">
              <a:off x="8179200" y="500868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229600" y="4449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20120" y="49831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962520" y="3763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685800" y="19810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5800" y="1905120"/>
            <a:ext cx="80010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DFA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with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ating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150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9718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434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5053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6576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13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590920" y="4114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8769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812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292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609480" y="4708440"/>
            <a:ext cx="8382240" cy="2276640"/>
            <a:chOff x="609480" y="4708440"/>
            <a:chExt cx="8382240" cy="2276640"/>
          </a:xfrm>
        </p:grpSpPr>
        <p:sp>
          <p:nvSpPr>
            <p:cNvPr id="1258" name=""/>
            <p:cNvSpPr/>
            <p:nvPr/>
          </p:nvSpPr>
          <p:spPr>
            <a:xfrm>
              <a:off x="609480" y="470844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9480" y="508968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9480" y="5470560"/>
              <a:ext cx="800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9480" y="5851440"/>
              <a:ext cx="83822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nonterminating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such that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q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533520" y="32767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nonterminating state can be removed from DF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187800" y="43308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9548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197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4114080" y="43434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685800" y="121932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85800" y="2362320"/>
            <a:ext cx="84582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Removal of nont. sta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038480" y="4648320"/>
            <a:ext cx="4343400" cy="1571760"/>
            <a:chOff x="4038480" y="4648320"/>
            <a:chExt cx="4343400" cy="1571760"/>
          </a:xfrm>
        </p:grpSpPr>
        <p:sp>
          <p:nvSpPr>
            <p:cNvPr id="83" name=""/>
            <p:cNvSpPr/>
            <p:nvPr/>
          </p:nvSpPr>
          <p:spPr>
            <a:xfrm>
              <a:off x="7924680" y="4648320"/>
              <a:ext cx="4572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38480" y="5334120"/>
              <a:ext cx="3810240" cy="8859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YE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848720" y="5791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09480" y="114300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mul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on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possib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every configu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676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52880" y="2971800"/>
            <a:ext cx="1524240" cy="1676520"/>
            <a:chOff x="4952880" y="2971800"/>
            <a:chExt cx="1524240" cy="1676520"/>
          </a:xfrm>
        </p:grpSpPr>
        <p:sp>
          <p:nvSpPr>
            <p:cNvPr id="91" name=""/>
            <p:cNvSpPr/>
            <p:nvPr/>
          </p:nvSpPr>
          <p:spPr>
            <a:xfrm>
              <a:off x="5105520" y="29718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05520" y="3505320"/>
              <a:ext cx="1371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05520" y="4038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880" y="3124440"/>
              <a:ext cx="152640" cy="1523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0968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7339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514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76520" y="3276720"/>
            <a:ext cx="533160" cy="520560"/>
            <a:chOff x="1676520" y="3276720"/>
            <a:chExt cx="533160" cy="520560"/>
          </a:xfrm>
        </p:grpSpPr>
        <p:sp>
          <p:nvSpPr>
            <p:cNvPr id="101" name=""/>
            <p:cNvSpPr/>
            <p:nvPr/>
          </p:nvSpPr>
          <p:spPr>
            <a:xfrm>
              <a:off x="1773360" y="3276720"/>
              <a:ext cx="24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3733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743200" y="3962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962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0384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743200" y="403848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029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0067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514600"/>
            <a:ext cx="2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97180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4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3276720"/>
            <a:ext cx="533520" cy="520560"/>
            <a:chOff x="2743200" y="3276720"/>
            <a:chExt cx="533520" cy="520560"/>
          </a:xfrm>
        </p:grpSpPr>
        <p:sp>
          <p:nvSpPr>
            <p:cNvPr id="115" name=""/>
            <p:cNvSpPr/>
            <p:nvPr/>
          </p:nvSpPr>
          <p:spPr>
            <a:xfrm>
              <a:off x="2840040" y="3276720"/>
              <a:ext cx="2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76720" y="289548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33720" y="491364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91520" y="4038480"/>
            <a:ext cx="1066680" cy="1190880"/>
            <a:chOff x="7391520" y="4038480"/>
            <a:chExt cx="1066680" cy="1190880"/>
          </a:xfrm>
        </p:grpSpPr>
        <p:sp>
          <p:nvSpPr>
            <p:cNvPr id="122" name=""/>
            <p:cNvSpPr/>
            <p:nvPr/>
          </p:nvSpPr>
          <p:spPr>
            <a:xfrm>
              <a:off x="7391520" y="419076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403848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3800" y="4647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172200" y="3809880"/>
            <a:ext cx="1295280" cy="1181880"/>
            <a:chOff x="6172200" y="3809880"/>
            <a:chExt cx="1295280" cy="1181880"/>
          </a:xfrm>
        </p:grpSpPr>
        <p:sp>
          <p:nvSpPr>
            <p:cNvPr id="126" name=""/>
            <p:cNvSpPr/>
            <p:nvPr/>
          </p:nvSpPr>
          <p:spPr>
            <a:xfrm>
              <a:off x="6324480" y="380988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434304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3962160"/>
              <a:ext cx="228600" cy="914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09480" y="213372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48520" y="1828800"/>
            <a:ext cx="2209680" cy="1371600"/>
            <a:chOff x="6248520" y="1828800"/>
            <a:chExt cx="2209680" cy="1371600"/>
          </a:xfrm>
        </p:grpSpPr>
        <p:sp>
          <p:nvSpPr>
            <p:cNvPr id="131" name=""/>
            <p:cNvSpPr/>
            <p:nvPr/>
          </p:nvSpPr>
          <p:spPr>
            <a:xfrm>
              <a:off x="6248520" y="1828800"/>
              <a:ext cx="2209680" cy="11430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o 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324480" y="2819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6324480" y="2895120"/>
            <a:ext cx="45720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086600" y="2971800"/>
            <a:ext cx="152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772040" y="2895120"/>
            <a:ext cx="30492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 of FA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685800" y="11430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15238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212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594360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200400" y="6095520"/>
            <a:ext cx="609480" cy="305280"/>
            <a:chOff x="3200400" y="6095520"/>
            <a:chExt cx="609480" cy="305280"/>
          </a:xfrm>
        </p:grpSpPr>
        <p:sp>
          <p:nvSpPr>
            <p:cNvPr id="1281" name=""/>
            <p:cNvSpPr/>
            <p:nvPr/>
          </p:nvSpPr>
          <p:spPr>
            <a:xfrm flipV="1">
              <a:off x="320040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4648320" y="6095520"/>
            <a:ext cx="609480" cy="305280"/>
            <a:chOff x="4648320" y="6095520"/>
            <a:chExt cx="609480" cy="305280"/>
          </a:xfrm>
        </p:grpSpPr>
        <p:sp>
          <p:nvSpPr>
            <p:cNvPr id="1284" name=""/>
            <p:cNvSpPr/>
            <p:nvPr/>
          </p:nvSpPr>
          <p:spPr>
            <a:xfrm flipV="1">
              <a:off x="464832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4832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ont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erminating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85800" y="1981080"/>
            <a:ext cx="7848720" cy="579600"/>
            <a:chOff x="685800" y="1981080"/>
            <a:chExt cx="7848720" cy="579600"/>
          </a:xfrm>
        </p:grpSpPr>
        <p:sp>
          <p:nvSpPr>
            <p:cNvPr id="1288" name=""/>
            <p:cNvSpPr/>
            <p:nvPr/>
          </p:nvSpPr>
          <p:spPr>
            <a:xfrm>
              <a:off x="685800" y="198108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6212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685800" y="2438280"/>
            <a:ext cx="7924680" cy="960840"/>
            <a:chOff x="685800" y="2438280"/>
            <a:chExt cx="7924680" cy="960840"/>
          </a:xfrm>
        </p:grpSpPr>
        <p:sp>
          <p:nvSpPr>
            <p:cNvPr id="1291" name=""/>
            <p:cNvSpPr/>
            <p:nvPr/>
          </p:nvSpPr>
          <p:spPr>
            <a:xfrm>
              <a:off x="685800" y="2438280"/>
              <a:ext cx="79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85800" y="281952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62120" y="3352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685800" y="3276720"/>
            <a:ext cx="8001000" cy="1265400"/>
            <a:chOff x="685800" y="3276720"/>
            <a:chExt cx="8001000" cy="1265400"/>
          </a:xfrm>
        </p:grpSpPr>
        <p:sp>
          <p:nvSpPr>
            <p:cNvPr id="1295" name=""/>
            <p:cNvSpPr/>
            <p:nvPr/>
          </p:nvSpPr>
          <p:spPr>
            <a:xfrm>
              <a:off x="685800" y="3276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85800" y="3581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5800" y="3962520"/>
              <a:ext cx="51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4495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685800" y="4419720"/>
            <a:ext cx="8229600" cy="1569960"/>
            <a:chOff x="685800" y="4419720"/>
            <a:chExt cx="8229600" cy="1569960"/>
          </a:xfrm>
        </p:grpSpPr>
        <p:sp>
          <p:nvSpPr>
            <p:cNvPr id="1300" name=""/>
            <p:cNvSpPr/>
            <p:nvPr/>
          </p:nvSpPr>
          <p:spPr>
            <a:xfrm>
              <a:off x="685800" y="4419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5800" y="4724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5800" y="502920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5800" y="541008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2120" y="5943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4956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06668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819520" y="1752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600200" y="2057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720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52680" y="2057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5800" y="1066680"/>
            <a:ext cx="487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Inaccessible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 rot="16200000">
            <a:off x="2743200" y="2362320"/>
            <a:ext cx="457200" cy="3045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286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668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733920" y="243828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rt state to this inaccessibl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286000"/>
            <a:ext cx="609480" cy="380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743200" y="2971800"/>
            <a:ext cx="9907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8108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60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20120" y="4343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191120" y="4419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94360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24280" y="4724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6960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09880" y="47242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477120" y="4724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3886200"/>
            <a:ext cx="5181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Nonterminating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6248520" y="4952880"/>
            <a:ext cx="4572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705720" y="5181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324480" y="4800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7315200" y="5028840"/>
            <a:ext cx="533520" cy="3049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5029200" y="56386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0552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8168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502920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is nonterminating state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inal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States to 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668160" y="16002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002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f for an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of the for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37339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02000" y="627768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084320" y="40384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008000" y="505944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50800" y="5334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075040" y="4983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151000" y="505944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32040" y="45259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38360" y="48006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541520" y="53341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075040" y="444960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379600" y="3992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3520" y="373284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version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complete 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1312920" y="4495680"/>
            <a:ext cx="2437920" cy="1752480"/>
            <a:chOff x="1312920" y="4495680"/>
            <a:chExt cx="2437920" cy="1752480"/>
          </a:xfrm>
        </p:grpSpPr>
        <p:sp>
          <p:nvSpPr>
            <p:cNvPr id="1361" name=""/>
            <p:cNvSpPr/>
            <p:nvPr/>
          </p:nvSpPr>
          <p:spPr>
            <a:xfrm>
              <a:off x="1998360" y="5714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760480" y="4495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60480" y="51051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541160" y="548604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312920" y="5562360"/>
              <a:ext cx="6854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60480" y="495288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2760480" y="548532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17680" y="47242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217680" y="54100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5808600" y="5257800"/>
            <a:ext cx="606960" cy="884160"/>
            <a:chOff x="5808600" y="5257800"/>
            <a:chExt cx="606960" cy="884160"/>
          </a:xfrm>
        </p:grpSpPr>
        <p:sp>
          <p:nvSpPr>
            <p:cNvPr id="1371" name=""/>
            <p:cNvSpPr/>
            <p:nvPr/>
          </p:nvSpPr>
          <p:spPr>
            <a:xfrm>
              <a:off x="5808600" y="5440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5810040" y="5257800"/>
              <a:ext cx="60552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6495480" y="5380200"/>
            <a:ext cx="1523160" cy="757800"/>
            <a:chOff x="6495480" y="5380200"/>
            <a:chExt cx="1523160" cy="757800"/>
          </a:xfrm>
        </p:grpSpPr>
        <p:sp>
          <p:nvSpPr>
            <p:cNvPr id="1374" name=""/>
            <p:cNvSpPr/>
            <p:nvPr/>
          </p:nvSpPr>
          <p:spPr>
            <a:xfrm>
              <a:off x="7104240" y="54403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 flipV="1">
              <a:off x="6495120" y="5379840"/>
              <a:ext cx="606600" cy="75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5961240" y="5862960"/>
            <a:ext cx="2590200" cy="920520"/>
            <a:chOff x="5961240" y="5862960"/>
            <a:chExt cx="2590200" cy="920520"/>
          </a:xfrm>
        </p:grpSpPr>
        <p:grpSp>
          <p:nvGrpSpPr>
            <p:cNvPr id="1377" name=""/>
            <p:cNvGrpSpPr/>
            <p:nvPr/>
          </p:nvGrpSpPr>
          <p:grpSpPr>
            <a:xfrm>
              <a:off x="5961240" y="5862960"/>
              <a:ext cx="990360" cy="719640"/>
              <a:chOff x="5961240" y="5862960"/>
              <a:chExt cx="990360" cy="719640"/>
            </a:xfrm>
          </p:grpSpPr>
          <p:sp>
            <p:nvSpPr>
              <p:cNvPr id="1378" name=""/>
              <p:cNvSpPr/>
              <p:nvPr/>
            </p:nvSpPr>
            <p:spPr>
              <a:xfrm>
                <a:off x="5961240" y="5973480"/>
                <a:ext cx="990360" cy="6091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94000" y="58629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 flipH="1" flipV="1" rot="16200000">
              <a:off x="6999120" y="6042960"/>
              <a:ext cx="40068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8350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835041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332480" y="62020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4284720" y="3717000"/>
            <a:ext cx="3744720" cy="1951920"/>
            <a:chOff x="4284720" y="3717000"/>
            <a:chExt cx="3744720" cy="1951920"/>
          </a:xfrm>
        </p:grpSpPr>
        <p:sp>
          <p:nvSpPr>
            <p:cNvPr id="1383" name=""/>
            <p:cNvSpPr/>
            <p:nvPr/>
          </p:nvSpPr>
          <p:spPr>
            <a:xfrm>
              <a:off x="5562720" y="371700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mplete DF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10360" y="4800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113520" y="53341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84720" y="49831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56320" y="40388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80360" y="50594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23160" y="53341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47040" y="4983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4040" y="452592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47040" y="44499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723360" y="3992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23360" y="505944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te D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Complete DFA cannot get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685800" y="175248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971800"/>
            <a:ext cx="83059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DFA to Complete D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dd a “trap”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85800" y="1143000"/>
            <a:ext cx="7772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complete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well-specified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WSFA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inaccessible sta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more than one nonterminating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5800" y="320040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well-specified FA has one nonterminating state, then it 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e 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85800" y="4191120"/>
            <a:ext cx="79246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re is an equivalent WS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4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9480" y="5257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ell-Specified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533520" y="1143000"/>
            <a:ext cx="76341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33520" y="2209680"/>
            <a:ext cx="845820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accessibl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nonterminating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cs-CZ" sz="32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complet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w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 more than one nonterminating state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WS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85800" y="25909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2590920"/>
            <a:ext cx="8229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) be a WSFA, and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.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if there exist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, wher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);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erwis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indistinguishab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ring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distinguishe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state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f WSFA reaches a final state from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precisel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of configuratio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3200400" y="1676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1911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95216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50292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952160" y="2057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0292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19920" y="1295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2514600" y="23508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13372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733920" y="1828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 flipV="1" rot="16200000">
            <a:off x="5595120" y="224172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78160" y="1601640"/>
            <a:ext cx="1515240" cy="7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48029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48029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5146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4197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80880" y="2819520"/>
            <a:ext cx="8077320" cy="1523880"/>
            <a:chOff x="380880" y="2819520"/>
            <a:chExt cx="8077320" cy="1523880"/>
          </a:xfrm>
        </p:grpSpPr>
        <p:sp>
          <p:nvSpPr>
            <p:cNvPr id="1444" name=""/>
            <p:cNvSpPr/>
            <p:nvPr/>
          </p:nvSpPr>
          <p:spPr>
            <a:xfrm>
              <a:off x="380880" y="281952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r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because 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124080" y="3276720"/>
              <a:ext cx="327672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124080" y="3657600"/>
              <a:ext cx="29718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8580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3048120" y="2133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177080" y="1748880"/>
            <a:ext cx="151488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0" y="7167"/>
                </a:moveTo>
                <a:arcTo wR="10800" hR="10800" stAng="-9620462" swAng="4297162"/>
                <a:lnTo>
                  <a:pt x="10800" y="10800"/>
                </a:lnTo>
                <a:close/>
              </a:path>
              <a:path fill="none" w="21600" h="21600">
                <a:moveTo>
                  <a:pt x="630" y="7167"/>
                </a:moveTo>
                <a:arcTo wR="10800" hR="10800" stAng="-9620462" swAng="429716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 flipV="1" rot="16200000">
            <a:off x="5595120" y="140364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19920" y="2133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380880" y="4343400"/>
            <a:ext cx="8763120" cy="1388880"/>
            <a:chOff x="380880" y="4343400"/>
            <a:chExt cx="8763120" cy="1388880"/>
          </a:xfrm>
        </p:grpSpPr>
        <p:sp>
          <p:nvSpPr>
            <p:cNvPr id="1453" name=""/>
            <p:cNvSpPr/>
            <p:nvPr/>
          </p:nvSpPr>
          <p:spPr>
            <a:xfrm>
              <a:off x="380880" y="4343400"/>
              <a:ext cx="8763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in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becaus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each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124080" y="472428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85800" y="5715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124080" y="510552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380880" y="5715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her pairs of states are triviall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685800" y="121932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1143000"/>
            <a:ext cx="7848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</a:rPr>
              <a:t>WS</a:t>
            </a:r>
            <a:r>
              <a:rPr b="1" lang="cs-CZ" sz="3400" spc="-1" strike="noStrike" u="sng">
                <a:solidFill>
                  <a:srgbClr val="ff0000"/>
                </a:solidFill>
                <a:uFillTx/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inimum-state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contains only distinguishable sta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3124080"/>
            <a:ext cx="7772400" cy="1219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5800" y="3124080"/>
            <a:ext cx="76960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S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minimum-state 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um-Stat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9480" y="4343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457200" y="1143000"/>
            <a:ext cx="86868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Mini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there exi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 division is possib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WSFA to Min-State 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143000"/>
            <a:ext cx="8686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Preference in practice: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terminictic 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(DFA) that makes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 more th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n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ove from every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configur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4191120"/>
            <a:ext cx="7772400" cy="2057400"/>
            <a:chOff x="685800" y="4191120"/>
            <a:chExt cx="7772400" cy="2057400"/>
          </a:xfrm>
        </p:grpSpPr>
        <p:sp>
          <p:nvSpPr>
            <p:cNvPr id="141" name=""/>
            <p:cNvSpPr/>
            <p:nvPr/>
          </p:nvSpPr>
          <p:spPr>
            <a:xfrm>
              <a:off x="685800" y="4191120"/>
              <a:ext cx="7772400" cy="2057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4191120"/>
              <a:ext cx="7619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be 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F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an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-free finite automato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if for all rule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a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where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590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971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67080" y="2743200"/>
            <a:ext cx="380880" cy="457200"/>
            <a:chOff x="4267080" y="2743200"/>
            <a:chExt cx="380880" cy="457200"/>
          </a:xfrm>
        </p:grpSpPr>
        <p:sp>
          <p:nvSpPr>
            <p:cNvPr id="153" name=""/>
            <p:cNvSpPr/>
            <p:nvPr/>
          </p:nvSpPr>
          <p:spPr>
            <a:xfrm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672000" y="1753200"/>
            <a:ext cx="3126960" cy="1708560"/>
            <a:chOff x="3672000" y="1753200"/>
            <a:chExt cx="3126960" cy="1708560"/>
          </a:xfrm>
        </p:grpSpPr>
        <p:sp>
          <p:nvSpPr>
            <p:cNvPr id="156" name=""/>
            <p:cNvSpPr/>
            <p:nvPr/>
          </p:nvSpPr>
          <p:spPr>
            <a:xfrm flipH="1">
              <a:off x="3672000" y="1753200"/>
              <a:ext cx="3126960" cy="167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7960" y="28191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531520" y="2133720"/>
            <a:ext cx="4026600" cy="1709280"/>
            <a:chOff x="2531520" y="2133720"/>
            <a:chExt cx="4026600" cy="1709280"/>
          </a:xfrm>
        </p:grpSpPr>
        <p:sp>
          <p:nvSpPr>
            <p:cNvPr id="159" name=""/>
            <p:cNvSpPr/>
            <p:nvPr/>
          </p:nvSpPr>
          <p:spPr>
            <a:xfrm flipH="1">
              <a:off x="2531160" y="2133720"/>
              <a:ext cx="40266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3" y="13398"/>
                  </a:moveTo>
                  <a:arcTo wR="10800" hR="10800" stAng="835055" swAng="8980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3" y="13398"/>
                  </a:moveTo>
                  <a:arcTo wR="10800" hR="10800" stAng="835055" swAng="898049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6200" y="3200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895480" y="2743200"/>
            <a:ext cx="380880" cy="457200"/>
            <a:chOff x="2895480" y="2743200"/>
            <a:chExt cx="380880" cy="457200"/>
          </a:xfrm>
        </p:grpSpPr>
        <p:sp>
          <p:nvSpPr>
            <p:cNvPr id="162" name=""/>
            <p:cNvSpPr/>
            <p:nvPr/>
          </p:nvSpPr>
          <p:spPr>
            <a:xfrm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1148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057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-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19810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590920" y="990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0574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819520" y="137160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600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752480" y="1447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73320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rot="5400000">
            <a:off x="4748760" y="185436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8006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0666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574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31996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327600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2670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3276000" y="22096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661840" y="1447920"/>
            <a:ext cx="53820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0800000">
            <a:off x="2667240" y="1600200"/>
            <a:ext cx="538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819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2096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84440" y="228600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0800000">
            <a:off x="2590920" y="244008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 rot="16200000">
            <a:off x="659880" y="185508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858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8288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96252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41972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6576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5400000">
            <a:off x="3591000" y="1875960"/>
            <a:ext cx="531000" cy="43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 rot="10800000">
            <a:off x="388584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44792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14300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 rot="16200000">
            <a:off x="1780920" y="1877040"/>
            <a:ext cx="531000" cy="4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 flipV="1" rot="10800000">
            <a:off x="129420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685800" y="1066680"/>
            <a:ext cx="7924680" cy="1828800"/>
            <a:chOff x="685800" y="1066680"/>
            <a:chExt cx="7924680" cy="1828800"/>
          </a:xfrm>
        </p:grpSpPr>
        <p:sp>
          <p:nvSpPr>
            <p:cNvPr id="1505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72000" y="1066680"/>
              <a:ext cx="40384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10080" y="1922040"/>
              <a:ext cx="106704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inal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29400" y="1922040"/>
              <a:ext cx="152388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Other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6200000">
              <a:off x="5829120" y="1485000"/>
              <a:ext cx="152280" cy="533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16200000">
              <a:off x="7277040" y="102780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533520" y="2819520"/>
            <a:ext cx="5181480" cy="1281600"/>
            <a:chOff x="533520" y="2819520"/>
            <a:chExt cx="5181480" cy="1281600"/>
          </a:xfrm>
        </p:grpSpPr>
        <p:sp>
          <p:nvSpPr>
            <p:cNvPr id="1512" name=""/>
            <p:cNvSpPr/>
            <p:nvPr/>
          </p:nvSpPr>
          <p:spPr>
            <a:xfrm>
              <a:off x="533520" y="2819520"/>
              <a:ext cx="5181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243160" y="32760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243160" y="358056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90720" y="327672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664920" y="5917320"/>
            <a:ext cx="323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75400" y="4629240"/>
            <a:ext cx="2416320" cy="704880"/>
            <a:chOff x="6575400" y="4629240"/>
            <a:chExt cx="2416320" cy="704880"/>
          </a:xfrm>
        </p:grpSpPr>
        <p:sp>
          <p:nvSpPr>
            <p:cNvPr id="1519" name=""/>
            <p:cNvSpPr/>
            <p:nvPr/>
          </p:nvSpPr>
          <p:spPr>
            <a:xfrm>
              <a:off x="6575400" y="4629240"/>
              <a:ext cx="442800" cy="704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10280" y="5016600"/>
              <a:ext cx="2206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62920" y="4788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6324480" y="5365800"/>
            <a:ext cx="2590920" cy="1240200"/>
            <a:chOff x="6324480" y="5365800"/>
            <a:chExt cx="2590920" cy="1240200"/>
          </a:xfrm>
        </p:grpSpPr>
        <p:sp>
          <p:nvSpPr>
            <p:cNvPr id="1523" name=""/>
            <p:cNvSpPr/>
            <p:nvPr/>
          </p:nvSpPr>
          <p:spPr>
            <a:xfrm>
              <a:off x="6575400" y="5365800"/>
              <a:ext cx="442800" cy="6652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81680" y="6019920"/>
              <a:ext cx="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24480" y="609588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2895480" y="2895480"/>
            <a:ext cx="1981440" cy="1143000"/>
            <a:chOff x="2895480" y="2895480"/>
            <a:chExt cx="1981440" cy="1143000"/>
          </a:xfrm>
        </p:grpSpPr>
        <p:sp>
          <p:nvSpPr>
            <p:cNvPr id="1527" name=""/>
            <p:cNvSpPr/>
            <p:nvPr/>
          </p:nvSpPr>
          <p:spPr>
            <a:xfrm>
              <a:off x="3048120" y="335268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505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95480" y="28954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962520" y="32767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685800" y="2895480"/>
            <a:ext cx="7772400" cy="1295640"/>
            <a:chOff x="685800" y="2895480"/>
            <a:chExt cx="7772400" cy="1295640"/>
          </a:xfrm>
        </p:grpSpPr>
        <p:sp>
          <p:nvSpPr>
            <p:cNvPr id="1532" name=""/>
            <p:cNvSpPr/>
            <p:nvPr/>
          </p:nvSpPr>
          <p:spPr>
            <a:xfrm>
              <a:off x="685800" y="4191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6248520" y="2895480"/>
              <a:ext cx="1981080" cy="1219320"/>
              <a:chOff x="6248520" y="2895480"/>
              <a:chExt cx="1981080" cy="1219320"/>
            </a:xfrm>
          </p:grpSpPr>
          <p:sp>
            <p:nvSpPr>
              <p:cNvPr id="1534" name=""/>
              <p:cNvSpPr/>
              <p:nvPr/>
            </p:nvSpPr>
            <p:spPr>
              <a:xfrm>
                <a:off x="6400800" y="3352680"/>
                <a:ext cx="457200" cy="76212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24852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858000" y="3429000"/>
                <a:ext cx="45720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315200" y="3276720"/>
                <a:ext cx="0" cy="1522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8" name=""/>
          <p:cNvGrpSpPr/>
          <p:nvPr/>
        </p:nvGrpSpPr>
        <p:grpSpPr>
          <a:xfrm>
            <a:off x="533520" y="4114800"/>
            <a:ext cx="3352680" cy="1920960"/>
            <a:chOff x="533520" y="4114800"/>
            <a:chExt cx="3352680" cy="1920960"/>
          </a:xfrm>
        </p:grpSpPr>
        <p:sp>
          <p:nvSpPr>
            <p:cNvPr id="1539" name=""/>
            <p:cNvSpPr/>
            <p:nvPr/>
          </p:nvSpPr>
          <p:spPr>
            <a:xfrm>
              <a:off x="2259720" y="45417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3520" y="4114800"/>
              <a:ext cx="3352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259720" y="484668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25972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25972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457200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4289400" y="4541760"/>
            <a:ext cx="2721600" cy="1494000"/>
            <a:chOff x="4289400" y="4541760"/>
            <a:chExt cx="2721600" cy="1494000"/>
          </a:xfrm>
        </p:grpSpPr>
        <p:sp>
          <p:nvSpPr>
            <p:cNvPr id="1546" name=""/>
            <p:cNvSpPr/>
            <p:nvPr/>
          </p:nvSpPr>
          <p:spPr>
            <a:xfrm>
              <a:off x="5560200" y="48466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53500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53500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527800" y="45417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89400" y="45655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4267080" y="3246480"/>
            <a:ext cx="2549160" cy="884160"/>
            <a:chOff x="4267080" y="3246480"/>
            <a:chExt cx="2549160" cy="884160"/>
          </a:xfrm>
        </p:grpSpPr>
        <p:sp>
          <p:nvSpPr>
            <p:cNvPr id="1552" name=""/>
            <p:cNvSpPr/>
            <p:nvPr/>
          </p:nvSpPr>
          <p:spPr>
            <a:xfrm>
              <a:off x="5483520" y="324648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483880" y="355104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67080" y="32767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3352680" y="4267080"/>
            <a:ext cx="2438640" cy="1752840"/>
            <a:chOff x="3352680" y="4267080"/>
            <a:chExt cx="2438640" cy="1752840"/>
          </a:xfrm>
        </p:grpSpPr>
        <p:sp>
          <p:nvSpPr>
            <p:cNvPr id="1556" name=""/>
            <p:cNvSpPr/>
            <p:nvPr/>
          </p:nvSpPr>
          <p:spPr>
            <a:xfrm>
              <a:off x="3352680" y="4724280"/>
              <a:ext cx="457200" cy="129564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8098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9880" y="4800600"/>
              <a:ext cx="4572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67080" y="464832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3824640" y="4794120"/>
            <a:ext cx="2651400" cy="2228400"/>
            <a:chOff x="3824640" y="4794120"/>
            <a:chExt cx="2651400" cy="2228400"/>
          </a:xfrm>
        </p:grpSpPr>
        <p:sp>
          <p:nvSpPr>
            <p:cNvPr id="1561" name=""/>
            <p:cNvSpPr/>
            <p:nvPr/>
          </p:nvSpPr>
          <p:spPr>
            <a:xfrm>
              <a:off x="5432400" y="4794120"/>
              <a:ext cx="147600" cy="57492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4343400" y="5105520"/>
              <a:ext cx="2132640" cy="19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24640" y="5906160"/>
              <a:ext cx="110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400000">
              <a:off x="422856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1480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815360" y="5403960"/>
            <a:ext cx="1031040" cy="1506960"/>
            <a:chOff x="4815360" y="5403960"/>
            <a:chExt cx="1031040" cy="1506960"/>
          </a:xfrm>
        </p:grpSpPr>
        <p:sp>
          <p:nvSpPr>
            <p:cNvPr id="1567" name=""/>
            <p:cNvSpPr/>
            <p:nvPr/>
          </p:nvSpPr>
          <p:spPr>
            <a:xfrm>
              <a:off x="5432400" y="5403960"/>
              <a:ext cx="147600" cy="59040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5120 h 590400"/>
                <a:gd name="textAreaBottom" fmla="*/ 57528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181480" y="5715000"/>
              <a:ext cx="456480" cy="6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15360" y="5898960"/>
              <a:ext cx="103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5400000">
              <a:off x="521892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0552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609480" y="1600200"/>
            <a:ext cx="5181840" cy="1281960"/>
            <a:chOff x="609480" y="1600200"/>
            <a:chExt cx="5181840" cy="1281960"/>
          </a:xfrm>
        </p:grpSpPr>
        <p:sp>
          <p:nvSpPr>
            <p:cNvPr id="1574" name=""/>
            <p:cNvSpPr/>
            <p:nvPr/>
          </p:nvSpPr>
          <p:spPr>
            <a:xfrm>
              <a:off x="609480" y="1600200"/>
              <a:ext cx="518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43160" y="205668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43160" y="23616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90720" y="20574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8" name=""/>
          <p:cNvSpPr/>
          <p:nvPr/>
        </p:nvSpPr>
        <p:spPr>
          <a:xfrm>
            <a:off x="609480" y="1066680"/>
            <a:ext cx="4419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4495680" y="2027160"/>
            <a:ext cx="2517480" cy="884520"/>
            <a:chOff x="4495680" y="2027160"/>
            <a:chExt cx="2517480" cy="884520"/>
          </a:xfrm>
        </p:grpSpPr>
        <p:sp>
          <p:nvSpPr>
            <p:cNvPr id="1580" name=""/>
            <p:cNvSpPr/>
            <p:nvPr/>
          </p:nvSpPr>
          <p:spPr>
            <a:xfrm>
              <a:off x="5680440" y="20271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680800" y="23320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95680" y="2057400"/>
              <a:ext cx="147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609480" y="2971800"/>
            <a:ext cx="5181840" cy="1235160"/>
            <a:chOff x="609480" y="2971800"/>
            <a:chExt cx="5181840" cy="1235160"/>
          </a:xfrm>
        </p:grpSpPr>
        <p:sp>
          <p:nvSpPr>
            <p:cNvPr id="1584" name=""/>
            <p:cNvSpPr/>
            <p:nvPr/>
          </p:nvSpPr>
          <p:spPr>
            <a:xfrm>
              <a:off x="609480" y="297180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289600" y="33224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89600" y="362736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09480" y="335268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068720" y="3322440"/>
            <a:ext cx="3092400" cy="884520"/>
            <a:chOff x="4068720" y="3322440"/>
            <a:chExt cx="3092400" cy="884520"/>
          </a:xfrm>
        </p:grpSpPr>
        <p:sp>
          <p:nvSpPr>
            <p:cNvPr id="1589" name=""/>
            <p:cNvSpPr/>
            <p:nvPr/>
          </p:nvSpPr>
          <p:spPr>
            <a:xfrm>
              <a:off x="5745240" y="3322440"/>
              <a:ext cx="141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745240" y="3627360"/>
              <a:ext cx="1396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068720" y="335268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579600" y="4267080"/>
            <a:ext cx="5211720" cy="1235160"/>
            <a:chOff x="579600" y="4267080"/>
            <a:chExt cx="5211720" cy="1235160"/>
          </a:xfrm>
        </p:grpSpPr>
        <p:sp>
          <p:nvSpPr>
            <p:cNvPr id="1593" name=""/>
            <p:cNvSpPr/>
            <p:nvPr/>
          </p:nvSpPr>
          <p:spPr>
            <a:xfrm>
              <a:off x="609480" y="426708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2948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294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79600" y="464832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4119480" y="4618080"/>
            <a:ext cx="3109320" cy="884160"/>
            <a:chOff x="4119480" y="4618080"/>
            <a:chExt cx="3109320" cy="884160"/>
          </a:xfrm>
        </p:grpSpPr>
        <p:sp>
          <p:nvSpPr>
            <p:cNvPr id="1598" name=""/>
            <p:cNvSpPr/>
            <p:nvPr/>
          </p:nvSpPr>
          <p:spPr>
            <a:xfrm>
              <a:off x="584100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8312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119480" y="464832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2839680" y="5809680"/>
            <a:ext cx="4080600" cy="642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No next divisions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895480" y="1676520"/>
            <a:ext cx="1981440" cy="1143000"/>
            <a:chOff x="2895480" y="1676520"/>
            <a:chExt cx="1981440" cy="1143000"/>
          </a:xfrm>
        </p:grpSpPr>
        <p:sp>
          <p:nvSpPr>
            <p:cNvPr id="1605" name=""/>
            <p:cNvSpPr/>
            <p:nvPr/>
          </p:nvSpPr>
          <p:spPr>
            <a:xfrm>
              <a:off x="3048120" y="213372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05320" y="22096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895480" y="16765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962520" y="205740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685800" y="1676520"/>
            <a:ext cx="7772400" cy="1371600"/>
            <a:chOff x="685800" y="1676520"/>
            <a:chExt cx="7772400" cy="1371600"/>
          </a:xfrm>
        </p:grpSpPr>
        <p:sp>
          <p:nvSpPr>
            <p:cNvPr id="1610" name=""/>
            <p:cNvSpPr/>
            <p:nvPr/>
          </p:nvSpPr>
          <p:spPr>
            <a:xfrm>
              <a:off x="685800" y="3048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6324480" y="1676520"/>
              <a:ext cx="1981440" cy="1218960"/>
              <a:chOff x="6324480" y="1676520"/>
              <a:chExt cx="1981440" cy="1218960"/>
            </a:xfrm>
          </p:grpSpPr>
          <p:sp>
            <p:nvSpPr>
              <p:cNvPr id="1612" name=""/>
              <p:cNvSpPr/>
              <p:nvPr/>
            </p:nvSpPr>
            <p:spPr>
              <a:xfrm>
                <a:off x="6553080" y="2133720"/>
                <a:ext cx="457200" cy="761760"/>
              </a:xfrm>
              <a:prstGeom prst="rect">
                <a:avLst/>
              </a:prstGeom>
              <a:noFill/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010280" y="2209680"/>
                <a:ext cx="381240" cy="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24480" y="1676520"/>
                <a:ext cx="198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391520" y="2057400"/>
                <a:ext cx="0" cy="15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6" name=""/>
          <p:cNvGrpSpPr/>
          <p:nvPr/>
        </p:nvGrpSpPr>
        <p:grpSpPr>
          <a:xfrm>
            <a:off x="3078000" y="3048120"/>
            <a:ext cx="1981440" cy="1143000"/>
            <a:chOff x="3078000" y="3048120"/>
            <a:chExt cx="1981440" cy="1143000"/>
          </a:xfrm>
        </p:grpSpPr>
        <p:sp>
          <p:nvSpPr>
            <p:cNvPr id="1617" name=""/>
            <p:cNvSpPr/>
            <p:nvPr/>
          </p:nvSpPr>
          <p:spPr>
            <a:xfrm>
              <a:off x="3276720" y="3505320"/>
              <a:ext cx="457200" cy="6858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733920" y="3581280"/>
              <a:ext cx="4111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078000" y="30481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145040" y="342900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716040" y="3048120"/>
            <a:ext cx="7924680" cy="1295280"/>
            <a:chOff x="716040" y="3048120"/>
            <a:chExt cx="7924680" cy="1295280"/>
          </a:xfrm>
        </p:grpSpPr>
        <p:sp>
          <p:nvSpPr>
            <p:cNvPr id="1622" name=""/>
            <p:cNvSpPr/>
            <p:nvPr/>
          </p:nvSpPr>
          <p:spPr>
            <a:xfrm>
              <a:off x="71604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6659640" y="3048120"/>
              <a:ext cx="1981080" cy="1143000"/>
              <a:chOff x="6659640" y="3048120"/>
              <a:chExt cx="1981080" cy="1143000"/>
            </a:xfrm>
          </p:grpSpPr>
          <p:sp>
            <p:nvSpPr>
              <p:cNvPr id="1624" name=""/>
              <p:cNvSpPr/>
              <p:nvPr/>
            </p:nvSpPr>
            <p:spPr>
              <a:xfrm>
                <a:off x="6811920" y="3505320"/>
                <a:ext cx="456840" cy="6858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269120" y="3581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659640" y="30481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726320" y="342936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8" name=""/>
          <p:cNvGrpSpPr/>
          <p:nvPr/>
        </p:nvGrpSpPr>
        <p:grpSpPr>
          <a:xfrm>
            <a:off x="3048120" y="4343400"/>
            <a:ext cx="1981080" cy="1143000"/>
            <a:chOff x="3048120" y="4343400"/>
            <a:chExt cx="1981080" cy="1143000"/>
          </a:xfrm>
        </p:grpSpPr>
        <p:sp>
          <p:nvSpPr>
            <p:cNvPr id="1629" name=""/>
            <p:cNvSpPr/>
            <p:nvPr/>
          </p:nvSpPr>
          <p:spPr>
            <a:xfrm>
              <a:off x="3246480" y="4800600"/>
              <a:ext cx="457200" cy="685800"/>
            </a:xfrm>
            <a:prstGeom prst="rect">
              <a:avLst/>
            </a:pr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703680" y="4876920"/>
              <a:ext cx="4111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048120" y="4343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114800" y="4724280"/>
              <a:ext cx="0" cy="152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85800" y="4343400"/>
            <a:ext cx="7954920" cy="1295280"/>
            <a:chOff x="685800" y="4343400"/>
            <a:chExt cx="7954920" cy="1295280"/>
          </a:xfrm>
        </p:grpSpPr>
        <p:sp>
          <p:nvSpPr>
            <p:cNvPr id="1634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6659640" y="4343400"/>
              <a:ext cx="1981080" cy="1143000"/>
              <a:chOff x="6659640" y="4343400"/>
              <a:chExt cx="1981080" cy="1143000"/>
            </a:xfrm>
          </p:grpSpPr>
          <p:sp>
            <p:nvSpPr>
              <p:cNvPr id="1636" name=""/>
              <p:cNvSpPr/>
              <p:nvPr/>
            </p:nvSpPr>
            <p:spPr>
              <a:xfrm>
                <a:off x="6858000" y="4800600"/>
                <a:ext cx="457200" cy="68580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15200" y="4876920"/>
                <a:ext cx="4111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659640" y="43434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726320" y="4724280"/>
                <a:ext cx="0" cy="15264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609480" y="10666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00120" y="161424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733920" y="1717920"/>
            <a:ext cx="449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190476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09480" y="2258280"/>
            <a:ext cx="2475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09480" y="2563200"/>
            <a:ext cx="2667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09480" y="30204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810600" y="30895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09480" y="3324960"/>
            <a:ext cx="2895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794040" y="2403720"/>
            <a:ext cx="416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9480" y="3782160"/>
            <a:ext cx="2579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733920" y="3927960"/>
            <a:ext cx="480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9200" y="4072680"/>
            <a:ext cx="2554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9200" y="452988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19200" y="4834800"/>
            <a:ext cx="26668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19200" y="52920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810600" y="545184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19200" y="5596920"/>
            <a:ext cx="2895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10600" y="46897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18288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666880" y="2514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666880" y="32004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666880" y="3962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666880" y="4800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666880" y="55627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81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04812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276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048120" y="4038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04812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48120" y="56386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609480" y="1064160"/>
            <a:ext cx="495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85800" y="2438280"/>
            <a:ext cx="82296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85800" y="4191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62840" y="1676160"/>
            <a:ext cx="110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752480" y="1828800"/>
            <a:ext cx="152640" cy="533520"/>
          </a:xfrm>
          <a:custGeom>
            <a:avLst/>
            <a:gdLst>
              <a:gd name="textAreaLeft" fmla="*/ 0 w 152640"/>
              <a:gd name="textAreaRight" fmla="*/ 5508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984040" y="1717920"/>
            <a:ext cx="187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2480" y="1980720"/>
            <a:ext cx="100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362320" y="1219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3623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762120" y="4114080"/>
            <a:ext cx="7772400" cy="2410920"/>
            <a:chOff x="762120" y="4114080"/>
            <a:chExt cx="7772400" cy="2410920"/>
          </a:xfrm>
        </p:grpSpPr>
        <p:sp>
          <p:nvSpPr>
            <p:cNvPr id="1689" name=""/>
            <p:cNvSpPr/>
            <p:nvPr/>
          </p:nvSpPr>
          <p:spPr>
            <a:xfrm>
              <a:off x="807732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70680" y="5230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574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337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895480" y="48006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67652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828800" y="4876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 flipV="1">
              <a:off x="380916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5400000">
              <a:off x="4825080" y="52833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8769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1430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33720" y="56386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32760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3352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43434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3352680" y="5638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738160" y="4876920"/>
              <a:ext cx="5382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10800000">
              <a:off x="2743560" y="5029200"/>
              <a:ext cx="5382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954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19520" y="5638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660400" y="571500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rot="10800000">
              <a:off x="2666880" y="586908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rot="16200000">
              <a:off x="736200" y="5284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21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9051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03848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9568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7339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5400000">
              <a:off x="3667680" y="530532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 rot="10800000">
              <a:off x="396216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152388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2193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rot="16200000">
              <a:off x="1857240" y="530604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 rot="10800000">
              <a:off x="137052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017400" y="5306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10080" y="51055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505320" y="4114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467480" y="5257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414560" y="5333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781680" y="4648320"/>
              <a:ext cx="9144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781680" y="4723920"/>
              <a:ext cx="85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858000" y="4724280"/>
              <a:ext cx="7621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53080" y="449568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467480" y="4114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6248520" y="592524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7696080" y="60015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705720" y="5867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rot="10800000">
              <a:off x="6934320" y="5487120"/>
              <a:ext cx="6148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08660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867280" y="4648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 rot="10800000">
              <a:off x="7451640" y="4876920"/>
              <a:ext cx="784440" cy="49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001000" y="4419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10280" y="4267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 flipV="1" rot="10800000">
              <a:off x="6171480" y="4876200"/>
              <a:ext cx="894600" cy="49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819520" y="44197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ants of FA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85800" y="312408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3962520"/>
            <a:ext cx="426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i="1" lang="cs-CZ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4724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inaccessible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85800" y="5181480"/>
            <a:ext cx="411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nonterminating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85800" y="563868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this FAs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regular languag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rot="16200000">
            <a:off x="4649400" y="2436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rot="16200000">
            <a:off x="5030280" y="2208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fre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6200000">
            <a:off x="5830560" y="2398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rot="16200000">
            <a:off x="594504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rot="16200000">
            <a:off x="7011720" y="2360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rot="16200000">
            <a:off x="716400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n-Sta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4582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8487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6294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2388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4100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0199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8006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685800" y="1219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68580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685800" y="6400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8006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8006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8006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006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769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5627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410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410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4100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4864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1722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019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199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199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0958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7816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781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6294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7057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3915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3915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3915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152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80010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0010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0010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8487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80010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358128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n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DF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nodetermi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752480" y="266616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98108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57600" y="1676520"/>
            <a:ext cx="4724280" cy="1600200"/>
            <a:chOff x="3657600" y="1676520"/>
            <a:chExt cx="4724280" cy="1600200"/>
          </a:xfrm>
        </p:grpSpPr>
        <p:sp>
          <p:nvSpPr>
            <p:cNvPr id="187" name=""/>
            <p:cNvSpPr/>
            <p:nvPr/>
          </p:nvSpPr>
          <p:spPr>
            <a:xfrm>
              <a:off x="3657600" y="2438280"/>
              <a:ext cx="914400" cy="533520"/>
            </a:xfrm>
            <a:prstGeom prst="rightArrow">
              <a:avLst>
                <a:gd name="adj1" fmla="val 50000"/>
                <a:gd name="adj2" fmla="val 737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29200" y="26668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1320" y="23623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259092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29718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960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4120" y="1676520"/>
              <a:ext cx="1828800" cy="5205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ew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781680" y="2209320"/>
              <a:ext cx="238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0948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19320"/>
            <a:ext cx="7925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DF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the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conver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819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3962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free 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5105520"/>
            <a:ext cx="4495680" cy="5796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FA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429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114800"/>
            <a:ext cx="236196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5257800"/>
            <a:ext cx="236196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219320" y="3124080"/>
            <a:ext cx="4835520" cy="2791440"/>
            <a:chOff x="1219320" y="3124080"/>
            <a:chExt cx="4835520" cy="2791440"/>
          </a:xfrm>
        </p:grpSpPr>
        <p:sp>
          <p:nvSpPr>
            <p:cNvPr id="212" name=""/>
            <p:cNvSpPr/>
            <p:nvPr/>
          </p:nvSpPr>
          <p:spPr>
            <a:xfrm>
              <a:off x="2286000" y="3124080"/>
              <a:ext cx="3768840" cy="19814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9320" y="533412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133720" y="4648320"/>
              <a:ext cx="466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209680" y="3352680"/>
            <a:ext cx="3733560" cy="3324600"/>
            <a:chOff x="2209680" y="3352680"/>
            <a:chExt cx="3733560" cy="3324600"/>
          </a:xfrm>
        </p:grpSpPr>
        <p:sp>
          <p:nvSpPr>
            <p:cNvPr id="216" name=""/>
            <p:cNvSpPr/>
            <p:nvPr/>
          </p:nvSpPr>
          <p:spPr>
            <a:xfrm>
              <a:off x="3657240" y="3352680"/>
              <a:ext cx="2286000" cy="152424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968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885840" y="48006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876920" y="3581280"/>
            <a:ext cx="2438280" cy="3096000"/>
            <a:chOff x="4876920" y="3581280"/>
            <a:chExt cx="2438280" cy="3096000"/>
          </a:xfrm>
        </p:grpSpPr>
        <p:sp>
          <p:nvSpPr>
            <p:cNvPr id="220" name=""/>
            <p:cNvSpPr/>
            <p:nvPr/>
          </p:nvSpPr>
          <p:spPr>
            <a:xfrm>
              <a:off x="4876920" y="3581280"/>
              <a:ext cx="91440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692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34120" y="4648320"/>
              <a:ext cx="22860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943600" y="3581280"/>
            <a:ext cx="2438280" cy="2257920"/>
            <a:chOff x="5943600" y="3581280"/>
            <a:chExt cx="2438280" cy="2257920"/>
          </a:xfrm>
        </p:grpSpPr>
        <p:sp>
          <p:nvSpPr>
            <p:cNvPr id="224" name=""/>
            <p:cNvSpPr/>
            <p:nvPr/>
          </p:nvSpPr>
          <p:spPr>
            <a:xfrm>
              <a:off x="6400440" y="3581280"/>
              <a:ext cx="83808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1040" y="4648320"/>
              <a:ext cx="523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525780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5800" y="205740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810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8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066680"/>
            <a:ext cx="77724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in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closure(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FA can reach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without read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438280"/>
            <a:ext cx="80010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;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905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5800" y="2362320"/>
            <a:ext cx="7772400" cy="579600"/>
            <a:chOff x="685800" y="2362320"/>
            <a:chExt cx="7772400" cy="579600"/>
          </a:xfrm>
        </p:grpSpPr>
        <p:sp>
          <p:nvSpPr>
            <p:cNvPr id="257" name=""/>
            <p:cNvSpPr/>
            <p:nvPr/>
          </p:nvSpPr>
          <p:spPr>
            <a:xfrm>
              <a:off x="685800" y="236232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85800" y="2819520"/>
            <a:ext cx="7924680" cy="960480"/>
            <a:chOff x="685800" y="2819520"/>
            <a:chExt cx="7924680" cy="960480"/>
          </a:xfrm>
        </p:grpSpPr>
        <p:sp>
          <p:nvSpPr>
            <p:cNvPr id="260" name=""/>
            <p:cNvSpPr/>
            <p:nvPr/>
          </p:nvSpPr>
          <p:spPr>
            <a:xfrm>
              <a:off x="685800" y="2819520"/>
              <a:ext cx="79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" y="320040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" y="3733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85800" y="3657600"/>
            <a:ext cx="7772400" cy="1265400"/>
            <a:chOff x="685800" y="3657600"/>
            <a:chExt cx="7772400" cy="1265400"/>
          </a:xfrm>
        </p:grpSpPr>
        <p:sp>
          <p:nvSpPr>
            <p:cNvPr id="264" name=""/>
            <p:cNvSpPr/>
            <p:nvPr/>
          </p:nvSpPr>
          <p:spPr>
            <a:xfrm>
              <a:off x="685800" y="3657600"/>
              <a:ext cx="76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3962520"/>
              <a:ext cx="76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4343400"/>
              <a:ext cx="4724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4876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4800600"/>
            <a:ext cx="8229600" cy="1570320"/>
            <a:chOff x="685800" y="4800600"/>
            <a:chExt cx="8229600" cy="1570320"/>
          </a:xfrm>
        </p:grpSpPr>
        <p:sp>
          <p:nvSpPr>
            <p:cNvPr id="269" name=""/>
            <p:cNvSpPr/>
            <p:nvPr/>
          </p:nvSpPr>
          <p:spPr>
            <a:xfrm>
              <a:off x="685800" y="480060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51055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800" y="5410080"/>
              <a:ext cx="70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" y="57913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6324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8:58Z</dcterms:modified>
  <cp:revision>130</cp:revision>
  <dc:subject/>
  <dc:title>Variants of Finite Automata</dc:title>
</cp:coreProperties>
</file>