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E157-DEFC-40B2-A122-F07A8828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2ED8-C712-4457-AF50-278530E2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3A66-0E3C-4997-AB56-08463A79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3E69-45B6-4951-BDDE-796052E3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4B13-48E6-4611-BFF5-135F7B54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5D4-0F70-4795-85DF-C615C370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5C6-0DD5-47DE-BB07-DF8D4451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6FAB-FF37-4050-90A0-6CA0AFB6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7E0A-6E31-4974-BC84-56DBA537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EDA6-73DF-4A9A-8C22-B0158520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CBA5-54C6-4578-A399-CDE73FD3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9732-C85E-465C-A59A-7CD7B8E1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95B9-1895-4B19-8ECB-7D04273BCC7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7746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ormal Languages and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3716280"/>
            <a:ext cx="612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Alexander Medu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an Luk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á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581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pre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19320" y="4648320"/>
            <a:ext cx="2971800" cy="1752480"/>
            <a:chOff x="1219320" y="4648320"/>
            <a:chExt cx="2971800" cy="1752480"/>
          </a:xfrm>
        </p:grpSpPr>
        <p:sp>
          <p:nvSpPr>
            <p:cNvPr id="235" name=""/>
            <p:cNvSpPr/>
            <p:nvPr/>
          </p:nvSpPr>
          <p:spPr>
            <a:xfrm>
              <a:off x="3886200" y="4648320"/>
              <a:ext cx="304920" cy="1752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19320" y="52578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52880" y="4952880"/>
            <a:ext cx="2895840" cy="1066680"/>
            <a:chOff x="4952880" y="4952880"/>
            <a:chExt cx="2895840" cy="1066680"/>
          </a:xfrm>
        </p:grpSpPr>
        <p:sp>
          <p:nvSpPr>
            <p:cNvPr id="238" name=""/>
            <p:cNvSpPr/>
            <p:nvPr/>
          </p:nvSpPr>
          <p:spPr>
            <a:xfrm>
              <a:off x="4952880" y="4952880"/>
              <a:ext cx="304920" cy="1066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7800" y="5029200"/>
              <a:ext cx="259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91120" y="4267080"/>
            <a:ext cx="456840" cy="733680"/>
            <a:chOff x="4191120" y="4267080"/>
            <a:chExt cx="456840" cy="733680"/>
          </a:xfrm>
        </p:grpSpPr>
        <p:sp>
          <p:nvSpPr>
            <p:cNvPr id="241" name=""/>
            <p:cNvSpPr/>
            <p:nvPr/>
          </p:nvSpPr>
          <p:spPr>
            <a:xfrm>
              <a:off x="4191120" y="44193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7364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91120" y="4267080"/>
            <a:ext cx="380880" cy="1114920"/>
            <a:chOff x="4191120" y="4267080"/>
            <a:chExt cx="380880" cy="1114920"/>
          </a:xfrm>
        </p:grpSpPr>
        <p:sp>
          <p:nvSpPr>
            <p:cNvPr id="244" name=""/>
            <p:cNvSpPr/>
            <p:nvPr/>
          </p:nvSpPr>
          <p:spPr>
            <a:xfrm>
              <a:off x="4191120" y="48006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191120" y="4267080"/>
            <a:ext cx="685800" cy="1495800"/>
            <a:chOff x="4191120" y="4267080"/>
            <a:chExt cx="685800" cy="1495800"/>
          </a:xfrm>
        </p:grpSpPr>
        <p:sp>
          <p:nvSpPr>
            <p:cNvPr id="247" name=""/>
            <p:cNvSpPr/>
            <p:nvPr/>
          </p:nvSpPr>
          <p:spPr>
            <a:xfrm>
              <a:off x="419112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191120" y="4267080"/>
            <a:ext cx="838080" cy="1876680"/>
            <a:chOff x="4191120" y="4267080"/>
            <a:chExt cx="838080" cy="1876680"/>
          </a:xfrm>
        </p:grpSpPr>
        <p:sp>
          <p:nvSpPr>
            <p:cNvPr id="250" name=""/>
            <p:cNvSpPr/>
            <p:nvPr/>
          </p:nvSpPr>
          <p:spPr>
            <a:xfrm>
              <a:off x="4191120" y="55623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191120" y="4267080"/>
            <a:ext cx="1066680" cy="2257920"/>
            <a:chOff x="4191120" y="4267080"/>
            <a:chExt cx="1066680" cy="2257920"/>
          </a:xfrm>
        </p:grpSpPr>
        <p:sp>
          <p:nvSpPr>
            <p:cNvPr id="253" name=""/>
            <p:cNvSpPr/>
            <p:nvPr/>
          </p:nvSpPr>
          <p:spPr>
            <a:xfrm>
              <a:off x="4191120" y="59436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e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pre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3657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f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4724280"/>
            <a:ext cx="2971800" cy="1752840"/>
            <a:chOff x="1219320" y="4724280"/>
            <a:chExt cx="2971800" cy="1752840"/>
          </a:xfrm>
        </p:grpSpPr>
        <p:sp>
          <p:nvSpPr>
            <p:cNvPr id="264" name=""/>
            <p:cNvSpPr/>
            <p:nvPr/>
          </p:nvSpPr>
          <p:spPr>
            <a:xfrm>
              <a:off x="3886200" y="4724280"/>
              <a:ext cx="304920" cy="17528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105520" y="5029200"/>
            <a:ext cx="2895120" cy="1066680"/>
            <a:chOff x="5105520" y="5029200"/>
            <a:chExt cx="2895120" cy="1066680"/>
          </a:xfrm>
        </p:grpSpPr>
        <p:sp>
          <p:nvSpPr>
            <p:cNvPr id="267" name=""/>
            <p:cNvSpPr/>
            <p:nvPr/>
          </p:nvSpPr>
          <p:spPr>
            <a:xfrm>
              <a:off x="5105520" y="5029200"/>
              <a:ext cx="304560" cy="10666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10080" y="510552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4419720"/>
            <a:ext cx="990360" cy="657360"/>
            <a:chOff x="4191120" y="4419720"/>
            <a:chExt cx="990360" cy="657360"/>
          </a:xfrm>
        </p:grpSpPr>
        <p:sp>
          <p:nvSpPr>
            <p:cNvPr id="270" name=""/>
            <p:cNvSpPr/>
            <p:nvPr/>
          </p:nvSpPr>
          <p:spPr>
            <a:xfrm>
              <a:off x="4191120" y="44956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428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191120" y="4343400"/>
            <a:ext cx="989640" cy="1114920"/>
            <a:chOff x="4191120" y="4343400"/>
            <a:chExt cx="989640" cy="1114920"/>
          </a:xfrm>
        </p:grpSpPr>
        <p:sp>
          <p:nvSpPr>
            <p:cNvPr id="273" name=""/>
            <p:cNvSpPr/>
            <p:nvPr/>
          </p:nvSpPr>
          <p:spPr>
            <a:xfrm>
              <a:off x="4191120" y="4876920"/>
              <a:ext cx="98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676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199040" y="4343400"/>
            <a:ext cx="990360" cy="1495800"/>
            <a:chOff x="4199040" y="4343400"/>
            <a:chExt cx="990360" cy="1495800"/>
          </a:xfrm>
        </p:grpSpPr>
        <p:sp>
          <p:nvSpPr>
            <p:cNvPr id="276" name=""/>
            <p:cNvSpPr/>
            <p:nvPr/>
          </p:nvSpPr>
          <p:spPr>
            <a:xfrm>
              <a:off x="4199040" y="52578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64120" y="4343400"/>
            <a:ext cx="1017360" cy="1876680"/>
            <a:chOff x="4164120" y="4343400"/>
            <a:chExt cx="1017360" cy="1876680"/>
          </a:xfrm>
        </p:grpSpPr>
        <p:sp>
          <p:nvSpPr>
            <p:cNvPr id="279" name=""/>
            <p:cNvSpPr/>
            <p:nvPr/>
          </p:nvSpPr>
          <p:spPr>
            <a:xfrm>
              <a:off x="4164120" y="563868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4343400"/>
              <a:ext cx="1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191120" y="4343400"/>
            <a:ext cx="1066680" cy="2257920"/>
            <a:chOff x="4191120" y="4343400"/>
            <a:chExt cx="1066680" cy="2257920"/>
          </a:xfrm>
        </p:grpSpPr>
        <p:sp>
          <p:nvSpPr>
            <p:cNvPr id="282" name=""/>
            <p:cNvSpPr/>
            <p:nvPr/>
          </p:nvSpPr>
          <p:spPr>
            <a:xfrm>
              <a:off x="4191120" y="60199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f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f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429000" y="5257800"/>
            <a:ext cx="533520" cy="6094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4876920"/>
            <a:ext cx="45720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81480" y="4905360"/>
            <a:ext cx="457200" cy="5335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62120" y="4572000"/>
            <a:ext cx="4267080" cy="2057400"/>
            <a:chOff x="762120" y="4572000"/>
            <a:chExt cx="4267080" cy="2057400"/>
          </a:xfrm>
        </p:grpSpPr>
        <p:sp>
          <p:nvSpPr>
            <p:cNvPr id="291" name=""/>
            <p:cNvSpPr/>
            <p:nvPr/>
          </p:nvSpPr>
          <p:spPr>
            <a:xfrm>
              <a:off x="3200400" y="4572000"/>
              <a:ext cx="1828800" cy="2057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62120" y="4572000"/>
              <a:ext cx="2361600" cy="2057040"/>
              <a:chOff x="762120" y="4572000"/>
              <a:chExt cx="2361600" cy="2057040"/>
            </a:xfrm>
          </p:grpSpPr>
          <p:sp>
            <p:nvSpPr>
              <p:cNvPr id="293" name=""/>
              <p:cNvSpPr/>
              <p:nvPr/>
            </p:nvSpPr>
            <p:spPr>
              <a:xfrm>
                <a:off x="2881440" y="4572000"/>
                <a:ext cx="242280" cy="2057040"/>
              </a:xfrm>
              <a:custGeom>
                <a:avLst/>
                <a:gdLst>
                  <a:gd name="textAreaLeft" fmla="*/ 154800 w 242280"/>
                  <a:gd name="textAreaRight" fmla="*/ 242640 w 242280"/>
                  <a:gd name="textAreaTop" fmla="*/ 53640 h 2057040"/>
                  <a:gd name="textAreaBottom" fmla="*/ 2003400 h 20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2120" y="5287680"/>
                <a:ext cx="2181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3429000" y="4952880"/>
            <a:ext cx="5126040" cy="1219320"/>
            <a:chOff x="3429000" y="4952880"/>
            <a:chExt cx="5126040" cy="1219320"/>
          </a:xfrm>
        </p:grpSpPr>
        <p:sp>
          <p:nvSpPr>
            <p:cNvPr id="296" name=""/>
            <p:cNvSpPr/>
            <p:nvPr/>
          </p:nvSpPr>
          <p:spPr>
            <a:xfrm>
              <a:off x="3429000" y="4952880"/>
              <a:ext cx="1752480" cy="1219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57800" y="4952880"/>
              <a:ext cx="3297240" cy="1218960"/>
              <a:chOff x="5257800" y="4952880"/>
              <a:chExt cx="3297240" cy="1218960"/>
            </a:xfrm>
          </p:grpSpPr>
          <p:sp>
            <p:nvSpPr>
              <p:cNvPr id="298" name=""/>
              <p:cNvSpPr/>
              <p:nvPr/>
            </p:nvSpPr>
            <p:spPr>
              <a:xfrm>
                <a:off x="5257800" y="495288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86400" y="5040000"/>
                <a:ext cx="3068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roper 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45259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30840" y="3990960"/>
            <a:ext cx="3045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3540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403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92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3084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5400" y="3990960"/>
            <a:ext cx="6098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2592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3084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25920" y="3990960"/>
            <a:ext cx="12193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3962520"/>
            <a:ext cx="12668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are two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, 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30481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b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3429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bstring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 0 1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53341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2680" y="4876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5410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5257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5257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5638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bstring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xz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5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1600200"/>
            <a:ext cx="7772400" cy="9381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5238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note the set of all string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Every subs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24382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the s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62120" y="3071880"/>
            <a:ext cx="7848360" cy="2146320"/>
            <a:chOff x="762120" y="3071880"/>
            <a:chExt cx="7848360" cy="2146320"/>
          </a:xfrm>
        </p:grpSpPr>
        <p:sp>
          <p:nvSpPr>
            <p:cNvPr id="335" name=""/>
            <p:cNvSpPr/>
            <p:nvPr/>
          </p:nvSpPr>
          <p:spPr>
            <a:xfrm>
              <a:off x="762120" y="3478320"/>
              <a:ext cx="7619760" cy="1739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91520" y="3071880"/>
              <a:ext cx="12189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53280" y="36813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905120" y="6172200"/>
            <a:ext cx="5486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934320" y="4495680"/>
            <a:ext cx="1600200" cy="960480"/>
            <a:chOff x="6934320" y="4495680"/>
            <a:chExt cx="1600200" cy="960480"/>
          </a:xfrm>
        </p:grpSpPr>
        <p:sp>
          <p:nvSpPr>
            <p:cNvPr id="340" name=""/>
            <p:cNvSpPr/>
            <p:nvPr/>
          </p:nvSpPr>
          <p:spPr>
            <a:xfrm>
              <a:off x="7238880" y="4876560"/>
              <a:ext cx="129564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4495680"/>
              <a:ext cx="685800" cy="2286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0120" y="464796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09480" y="4062240"/>
            <a:ext cx="1600200" cy="1417680"/>
            <a:chOff x="609480" y="4062240"/>
            <a:chExt cx="1600200" cy="1417680"/>
          </a:xfrm>
        </p:grpSpPr>
        <p:sp>
          <p:nvSpPr>
            <p:cNvPr id="344" name=""/>
            <p:cNvSpPr/>
            <p:nvPr/>
          </p:nvSpPr>
          <p:spPr>
            <a:xfrm>
              <a:off x="1143000" y="4062240"/>
              <a:ext cx="609480" cy="6858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4900320"/>
              <a:ext cx="160020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914400" y="4519440"/>
              <a:ext cx="239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743200" y="3962520"/>
            <a:ext cx="5791320" cy="2153880"/>
            <a:chOff x="2743200" y="3962520"/>
            <a:chExt cx="5791320" cy="2153880"/>
          </a:xfrm>
        </p:grpSpPr>
        <p:sp>
          <p:nvSpPr>
            <p:cNvPr id="348" name=""/>
            <p:cNvSpPr/>
            <p:nvPr/>
          </p:nvSpPr>
          <p:spPr>
            <a:xfrm>
              <a:off x="2743200" y="4114440"/>
              <a:ext cx="3276720" cy="99036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080" y="5486040"/>
              <a:ext cx="426744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5486400" y="4952880"/>
              <a:ext cx="53352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396252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371600" y="3733920"/>
            <a:ext cx="2743200" cy="2382480"/>
            <a:chOff x="1371600" y="3733920"/>
            <a:chExt cx="2743200" cy="2382480"/>
          </a:xfrm>
        </p:grpSpPr>
        <p:sp>
          <p:nvSpPr>
            <p:cNvPr id="353" name=""/>
            <p:cNvSpPr/>
            <p:nvPr/>
          </p:nvSpPr>
          <p:spPr>
            <a:xfrm>
              <a:off x="1752480" y="3733920"/>
              <a:ext cx="1219320" cy="8377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5486040"/>
              <a:ext cx="274320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2438280" y="4571280"/>
              <a:ext cx="15264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948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295280" y="3505320"/>
            <a:ext cx="7391520" cy="1434600"/>
            <a:chOff x="1295280" y="3505320"/>
            <a:chExt cx="7391520" cy="1434600"/>
          </a:xfrm>
        </p:grpSpPr>
        <p:sp>
          <p:nvSpPr>
            <p:cNvPr id="358" name=""/>
            <p:cNvSpPr/>
            <p:nvPr/>
          </p:nvSpPr>
          <p:spPr>
            <a:xfrm>
              <a:off x="5334120" y="35812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5280" y="41144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86200" y="3505320"/>
              <a:ext cx="6858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24080" y="3581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8120" y="434304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48320" y="350532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2200" y="37335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3920" y="42670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96080" y="358128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10280" y="388584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05740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languag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ntains a finite number of strings; otherwis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29718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 a set; card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the number of its memb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09840" y="3352680"/>
            <a:ext cx="7772040" cy="3292200"/>
            <a:chOff x="609840" y="3352680"/>
            <a:chExt cx="7772040" cy="3292200"/>
          </a:xfrm>
        </p:grpSpPr>
        <p:sp>
          <p:nvSpPr>
            <p:cNvPr id="380" name=""/>
            <p:cNvSpPr/>
            <p:nvPr/>
          </p:nvSpPr>
          <p:spPr>
            <a:xfrm>
              <a:off x="609840" y="3352680"/>
              <a:ext cx="201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1000" y="3886200"/>
              <a:ext cx="556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400" y="4343400"/>
              <a:ext cx="5866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7080"/>
              <a:ext cx="754380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5638680"/>
              <a:ext cx="76960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10, 010, 100, … }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fin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nd Infinite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0666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finit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ntains a finite number of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600200"/>
            <a:ext cx="800100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09480" y="3124080"/>
            <a:ext cx="8072640" cy="1639440"/>
            <a:chOff x="609480" y="3124080"/>
            <a:chExt cx="8072640" cy="1639440"/>
          </a:xfrm>
        </p:grpSpPr>
        <p:sp>
          <p:nvSpPr>
            <p:cNvPr id="392" name=""/>
            <p:cNvSpPr/>
            <p:nvPr/>
          </p:nvSpPr>
          <p:spPr>
            <a:xfrm>
              <a:off x="609480" y="3124080"/>
              <a:ext cx="807264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4114800"/>
              <a:ext cx="358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395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216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95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4836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5812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674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419360" y="4114800"/>
              <a:ext cx="2666880" cy="1206360"/>
              <a:chOff x="4419360" y="4114800"/>
              <a:chExt cx="2666880" cy="1206360"/>
            </a:xfrm>
          </p:grpSpPr>
          <p:sp>
            <p:nvSpPr>
              <p:cNvPr id="403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19360" y="48006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09720" y="48006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7676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666880" y="3809880"/>
            <a:ext cx="5333760" cy="2630160"/>
            <a:chOff x="2666880" y="3809880"/>
            <a:chExt cx="5333760" cy="2630160"/>
          </a:xfrm>
        </p:grpSpPr>
        <p:grpSp>
          <p:nvGrpSpPr>
            <p:cNvPr id="412" name=""/>
            <p:cNvGrpSpPr/>
            <p:nvPr/>
          </p:nvGrpSpPr>
          <p:grpSpPr>
            <a:xfrm>
              <a:off x="2666880" y="3809880"/>
              <a:ext cx="5333760" cy="2630160"/>
              <a:chOff x="2666880" y="3809880"/>
              <a:chExt cx="5333760" cy="2630160"/>
            </a:xfrm>
          </p:grpSpPr>
          <p:sp>
            <p:nvSpPr>
              <p:cNvPr id="413" name=""/>
              <p:cNvSpPr/>
              <p:nvPr/>
            </p:nvSpPr>
            <p:spPr>
              <a:xfrm>
                <a:off x="2666880" y="5791320"/>
                <a:ext cx="533376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, 1, 00, 01, 10, 1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962160" y="3809880"/>
                <a:ext cx="3504960" cy="1828800"/>
                <a:chOff x="3962160" y="3809880"/>
                <a:chExt cx="3504960" cy="18288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02884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4419360" y="4114800"/>
              <a:ext cx="2666880" cy="1206000"/>
              <a:chOff x="4419360" y="4114800"/>
              <a:chExt cx="2666880" cy="1206000"/>
            </a:xfrm>
          </p:grpSpPr>
          <p:sp>
            <p:nvSpPr>
              <p:cNvPr id="420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520560" y="3124080"/>
            <a:ext cx="7848720" cy="1639440"/>
            <a:chOff x="520560" y="3124080"/>
            <a:chExt cx="7848720" cy="1639440"/>
          </a:xfrm>
        </p:grpSpPr>
        <p:sp>
          <p:nvSpPr>
            <p:cNvPr id="428" name=""/>
            <p:cNvSpPr/>
            <p:nvPr/>
          </p:nvSpPr>
          <p:spPr>
            <a:xfrm>
              <a:off x="520560" y="312408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560" y="41148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431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216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9548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4836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5812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674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419360" y="4114440"/>
              <a:ext cx="2666880" cy="1206360"/>
              <a:chOff x="4419360" y="4114440"/>
              <a:chExt cx="2666880" cy="1206360"/>
            </a:xfrm>
          </p:grpSpPr>
          <p:sp>
            <p:nvSpPr>
              <p:cNvPr id="439" name=""/>
              <p:cNvSpPr/>
              <p:nvPr/>
            </p:nvSpPr>
            <p:spPr>
              <a:xfrm>
                <a:off x="4419360" y="41144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09720" y="41144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476760" y="41144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sec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961800" y="3784320"/>
            <a:ext cx="3505680" cy="2655720"/>
            <a:chOff x="3961800" y="3784320"/>
            <a:chExt cx="3505680" cy="2655720"/>
          </a:xfrm>
        </p:grpSpPr>
        <p:grpSp>
          <p:nvGrpSpPr>
            <p:cNvPr id="447" name=""/>
            <p:cNvGrpSpPr/>
            <p:nvPr/>
          </p:nvGrpSpPr>
          <p:grpSpPr>
            <a:xfrm>
              <a:off x="3961800" y="3784320"/>
              <a:ext cx="3505680" cy="2655720"/>
              <a:chOff x="3961800" y="3784320"/>
              <a:chExt cx="3505680" cy="2655720"/>
            </a:xfrm>
          </p:grpSpPr>
          <p:sp>
            <p:nvSpPr>
              <p:cNvPr id="448" name=""/>
              <p:cNvSpPr/>
              <p:nvPr/>
            </p:nvSpPr>
            <p:spPr>
              <a:xfrm>
                <a:off x="4038480" y="5791320"/>
                <a:ext cx="342900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0, 0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3961800" y="3784320"/>
                <a:ext cx="3504240" cy="1888200"/>
                <a:chOff x="3961800" y="3784320"/>
                <a:chExt cx="3504240" cy="18882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961800" y="3784320"/>
                  <a:ext cx="243828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5028120" y="3784320"/>
                  <a:ext cx="243756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410080" y="41148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008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Intersect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600200"/>
            <a:ext cx="807732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16002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523880"/>
            <a:ext cx="8001000" cy="16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09480" y="3048120"/>
            <a:ext cx="7848720" cy="1639440"/>
            <a:chOff x="609480" y="3048120"/>
            <a:chExt cx="7848720" cy="1639440"/>
          </a:xfrm>
        </p:grpSpPr>
        <p:sp>
          <p:nvSpPr>
            <p:cNvPr id="464" name=""/>
            <p:cNvSpPr/>
            <p:nvPr/>
          </p:nvSpPr>
          <p:spPr>
            <a:xfrm>
              <a:off x="609480" y="304812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9480" y="4038840"/>
              <a:ext cx="327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895480" y="3733920"/>
            <a:ext cx="5638680" cy="1828800"/>
            <a:chOff x="2895480" y="3733920"/>
            <a:chExt cx="5638680" cy="1828800"/>
          </a:xfrm>
        </p:grpSpPr>
        <p:sp>
          <p:nvSpPr>
            <p:cNvPr id="467" name=""/>
            <p:cNvSpPr/>
            <p:nvPr/>
          </p:nvSpPr>
          <p:spPr>
            <a:xfrm>
              <a:off x="3962160" y="373392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895480" y="3733920"/>
              <a:ext cx="5638680" cy="1828800"/>
              <a:chOff x="2895480" y="3733920"/>
              <a:chExt cx="5638680" cy="1828800"/>
            </a:xfrm>
          </p:grpSpPr>
          <p:sp>
            <p:nvSpPr>
              <p:cNvPr id="469" name=""/>
              <p:cNvSpPr/>
              <p:nvPr/>
            </p:nvSpPr>
            <p:spPr>
              <a:xfrm>
                <a:off x="289548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581280" y="464796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29200" y="3733920"/>
                <a:ext cx="2438280" cy="1828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62160" y="3733920"/>
                <a:ext cx="243864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4836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67480" y="464832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419360" y="4038840"/>
              <a:ext cx="2666880" cy="1206360"/>
              <a:chOff x="4419360" y="4038840"/>
              <a:chExt cx="2666880" cy="1206360"/>
            </a:xfrm>
          </p:grpSpPr>
          <p:sp>
            <p:nvSpPr>
              <p:cNvPr id="476" name=""/>
              <p:cNvSpPr/>
              <p:nvPr/>
            </p:nvSpPr>
            <p:spPr>
              <a:xfrm>
                <a:off x="4419360" y="40388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19360" y="47246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09720" y="40388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09720" y="47246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76760" y="40388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76760" y="47246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ce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Difference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809880" y="3708000"/>
            <a:ext cx="3656520" cy="2731680"/>
            <a:chOff x="3809880" y="3708000"/>
            <a:chExt cx="3656520" cy="2731680"/>
          </a:xfrm>
        </p:grpSpPr>
        <p:sp>
          <p:nvSpPr>
            <p:cNvPr id="485" name=""/>
            <p:cNvSpPr/>
            <p:nvPr/>
          </p:nvSpPr>
          <p:spPr>
            <a:xfrm>
              <a:off x="3809880" y="5790960"/>
              <a:ext cx="2819520" cy="6487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{0, 1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81480" y="5562360"/>
              <a:ext cx="0" cy="2282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62520" y="3733920"/>
              <a:ext cx="2438280" cy="1828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19720" y="40384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19720" y="47242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962160" y="3708000"/>
              <a:ext cx="3504240" cy="1887840"/>
              <a:chOff x="3962160" y="3708000"/>
              <a:chExt cx="3504240" cy="1887840"/>
            </a:xfrm>
          </p:grpSpPr>
          <p:sp>
            <p:nvSpPr>
              <p:cNvPr id="491" name=""/>
              <p:cNvSpPr/>
              <p:nvPr/>
            </p:nvSpPr>
            <p:spPr>
              <a:xfrm>
                <a:off x="3962160" y="3708000"/>
                <a:ext cx="243828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028480" y="3708000"/>
                <a:ext cx="243756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5410080" y="40384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10080" y="4724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2133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266688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3124080"/>
            <a:ext cx="7848720" cy="1114920"/>
            <a:chOff x="609480" y="3124080"/>
            <a:chExt cx="7848720" cy="1114920"/>
          </a:xfrm>
        </p:grpSpPr>
        <p:sp>
          <p:nvSpPr>
            <p:cNvPr id="502" name=""/>
            <p:cNvSpPr/>
            <p:nvPr/>
          </p:nvSpPr>
          <p:spPr>
            <a:xfrm>
              <a:off x="609480" y="31240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1, 10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09480" y="3657600"/>
              <a:ext cx="2667240" cy="581400"/>
              <a:chOff x="609480" y="3657600"/>
              <a:chExt cx="2667240" cy="581400"/>
            </a:xfrm>
          </p:grpSpPr>
          <p:sp>
            <p:nvSpPr>
              <p:cNvPr id="504" name=""/>
              <p:cNvSpPr/>
              <p:nvPr/>
            </p:nvSpPr>
            <p:spPr>
              <a:xfrm>
                <a:off x="609480" y="3657600"/>
                <a:ext cx="266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ask:  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05120" y="3759120"/>
                <a:ext cx="304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914400" y="3657600"/>
            <a:ext cx="7502040" cy="2286000"/>
            <a:chOff x="914400" y="3657600"/>
            <a:chExt cx="7502040" cy="2286000"/>
          </a:xfrm>
        </p:grpSpPr>
        <p:sp>
          <p:nvSpPr>
            <p:cNvPr id="507" name=""/>
            <p:cNvSpPr/>
            <p:nvPr/>
          </p:nvSpPr>
          <p:spPr>
            <a:xfrm flipH="1">
              <a:off x="8076960" y="4267440"/>
              <a:ext cx="75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914400" y="3657600"/>
              <a:ext cx="7502040" cy="2286000"/>
              <a:chOff x="914400" y="3657600"/>
              <a:chExt cx="7502040" cy="2286000"/>
            </a:xfrm>
          </p:grpSpPr>
          <p:sp>
            <p:nvSpPr>
              <p:cNvPr id="509" name=""/>
              <p:cNvSpPr/>
              <p:nvPr/>
            </p:nvSpPr>
            <p:spPr>
              <a:xfrm>
                <a:off x="914400" y="4114800"/>
                <a:ext cx="739152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77520" y="3657600"/>
                <a:ext cx="53892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1219320" y="4191120"/>
              <a:ext cx="7010280" cy="1510920"/>
              <a:chOff x="1219320" y="4191120"/>
              <a:chExt cx="7010280" cy="1510920"/>
            </a:xfrm>
          </p:grpSpPr>
          <p:sp>
            <p:nvSpPr>
              <p:cNvPr id="512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7280" y="44197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2193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43200" y="449568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2900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105520" y="419112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4340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18148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9920" y="518148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9051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62320" y="480060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ment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6520" y="1219320"/>
            <a:ext cx="304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914400" y="4114800"/>
            <a:ext cx="7380000" cy="2257920"/>
            <a:chOff x="914400" y="4114800"/>
            <a:chExt cx="7380000" cy="2257920"/>
          </a:xfrm>
        </p:grpSpPr>
        <p:grpSp>
          <p:nvGrpSpPr>
            <p:cNvPr id="529" name=""/>
            <p:cNvGrpSpPr/>
            <p:nvPr/>
          </p:nvGrpSpPr>
          <p:grpSpPr>
            <a:xfrm>
              <a:off x="914400" y="4114800"/>
              <a:ext cx="7380000" cy="2257920"/>
              <a:chOff x="914400" y="4114800"/>
              <a:chExt cx="7380000" cy="2257920"/>
            </a:xfrm>
          </p:grpSpPr>
          <p:sp>
            <p:nvSpPr>
              <p:cNvPr id="530" name=""/>
              <p:cNvSpPr/>
              <p:nvPr/>
            </p:nvSpPr>
            <p:spPr>
              <a:xfrm>
                <a:off x="914400" y="4114800"/>
                <a:ext cx="7380000" cy="1828800"/>
              </a:xfrm>
              <a:prstGeom prst="ellipse">
                <a:avLst/>
              </a:prstGeom>
              <a:solidFill>
                <a:srgbClr val="3366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1976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7314840" y="5791320"/>
                <a:ext cx="609120" cy="581400"/>
                <a:chOff x="7314840" y="5791320"/>
                <a:chExt cx="609120" cy="581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7314840" y="5791320"/>
                  <a:ext cx="609120" cy="58140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7466760" y="5892840"/>
                  <a:ext cx="30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5" name=""/>
            <p:cNvGrpSpPr/>
            <p:nvPr/>
          </p:nvGrpSpPr>
          <p:grpSpPr>
            <a:xfrm>
              <a:off x="1218960" y="4191120"/>
              <a:ext cx="7010640" cy="1510920"/>
              <a:chOff x="1218960" y="4191120"/>
              <a:chExt cx="7010640" cy="1510920"/>
            </a:xfrm>
          </p:grpSpPr>
          <p:sp>
            <p:nvSpPr>
              <p:cNvPr id="536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7280" y="44193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18960" y="4724280"/>
                <a:ext cx="3049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105160" y="419112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43400" y="510516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81480" y="51051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19560" y="518148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914400" y="4419720"/>
            <a:ext cx="3429000" cy="1952640"/>
            <a:chOff x="914400" y="4419720"/>
            <a:chExt cx="3429000" cy="1952640"/>
          </a:xfrm>
        </p:grpSpPr>
        <p:sp>
          <p:nvSpPr>
            <p:cNvPr id="546" name=""/>
            <p:cNvSpPr/>
            <p:nvPr/>
          </p:nvSpPr>
          <p:spPr>
            <a:xfrm>
              <a:off x="1600200" y="4419720"/>
              <a:ext cx="2743200" cy="11426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14400" y="5790960"/>
              <a:ext cx="60948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523880" y="5486400"/>
              <a:ext cx="6858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43200" y="449568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2900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04760" y="472428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61960" y="480060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2971800" y="4114800"/>
            <a:ext cx="4114800" cy="2286000"/>
            <a:chOff x="2971800" y="4114800"/>
            <a:chExt cx="4114800" cy="2286000"/>
          </a:xfrm>
        </p:grpSpPr>
        <p:sp>
          <p:nvSpPr>
            <p:cNvPr id="555" name=""/>
            <p:cNvSpPr/>
            <p:nvPr/>
          </p:nvSpPr>
          <p:spPr>
            <a:xfrm>
              <a:off x="2971800" y="4419720"/>
              <a:ext cx="3048120" cy="198108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715000" y="45716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9920" y="4114800"/>
              <a:ext cx="106668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480" y="1600200"/>
            <a:ext cx="81536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47242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94240" y="47322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5410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94240" y="54180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48320" y="47242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84600" y="47322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54100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84600" y="54180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257800"/>
            <a:ext cx="2057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09480" y="4876920"/>
            <a:ext cx="2133720" cy="1676160"/>
            <a:chOff x="609480" y="4876920"/>
            <a:chExt cx="2133720" cy="1676160"/>
          </a:xfrm>
        </p:grpSpPr>
        <p:sp>
          <p:nvSpPr>
            <p:cNvPr id="572" name=""/>
            <p:cNvSpPr/>
            <p:nvPr/>
          </p:nvSpPr>
          <p:spPr>
            <a:xfrm>
              <a:off x="1523880" y="4952880"/>
              <a:ext cx="1219320" cy="1600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9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95280" y="51814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05120" y="51055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05120" y="57913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086600" y="5105520"/>
            <a:ext cx="2057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248520" y="4572000"/>
            <a:ext cx="2286000" cy="1981080"/>
            <a:chOff x="6248520" y="4572000"/>
            <a:chExt cx="2286000" cy="1981080"/>
          </a:xfrm>
        </p:grpSpPr>
        <p:sp>
          <p:nvSpPr>
            <p:cNvPr id="579" name=""/>
            <p:cNvSpPr/>
            <p:nvPr/>
          </p:nvSpPr>
          <p:spPr>
            <a:xfrm>
              <a:off x="7848720" y="457200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15200" y="48769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48520" y="4876920"/>
              <a:ext cx="1371600" cy="1676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29400" y="51055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29400" y="57913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609480" y="350532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 1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0, 01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3962520"/>
            <a:ext cx="290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k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14300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lecture notes are bas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utomata and Languag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exander Meduna, Springer,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4438440" y="4267080"/>
            <a:ext cx="3791160" cy="2286000"/>
            <a:chOff x="4438440" y="4267080"/>
            <a:chExt cx="3791160" cy="2286000"/>
          </a:xfrm>
        </p:grpSpPr>
        <p:sp>
          <p:nvSpPr>
            <p:cNvPr id="590" name=""/>
            <p:cNvSpPr/>
            <p:nvPr/>
          </p:nvSpPr>
          <p:spPr>
            <a:xfrm>
              <a:off x="6553080" y="4647960"/>
              <a:ext cx="1676520" cy="19051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38440" y="4267080"/>
              <a:ext cx="20145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8960" y="4736880"/>
              <a:ext cx="342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62120" y="4572000"/>
            <a:ext cx="2286000" cy="2057400"/>
            <a:chOff x="762120" y="4572000"/>
            <a:chExt cx="2286000" cy="2057400"/>
          </a:xfrm>
        </p:grpSpPr>
        <p:sp>
          <p:nvSpPr>
            <p:cNvPr id="597" name=""/>
            <p:cNvSpPr/>
            <p:nvPr/>
          </p:nvSpPr>
          <p:spPr>
            <a:xfrm>
              <a:off x="1676520" y="4572000"/>
              <a:ext cx="13716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4792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051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051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09480" y="3200400"/>
            <a:ext cx="7848720" cy="1038600"/>
            <a:chOff x="609480" y="3200400"/>
            <a:chExt cx="7848720" cy="1038600"/>
          </a:xfrm>
        </p:grpSpPr>
        <p:sp>
          <p:nvSpPr>
            <p:cNvPr id="603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1, 0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9480" y="36576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312408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15720" y="49528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05120" y="4952880"/>
            <a:ext cx="3332880" cy="581400"/>
            <a:chOff x="1905120" y="4952880"/>
            <a:chExt cx="3332880" cy="581400"/>
          </a:xfrm>
        </p:grpSpPr>
        <p:sp>
          <p:nvSpPr>
            <p:cNvPr id="608" name=""/>
            <p:cNvSpPr/>
            <p:nvPr/>
          </p:nvSpPr>
          <p:spPr>
            <a:xfrm>
              <a:off x="4649040" y="49528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0512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791320" y="4952880"/>
            <a:ext cx="2057400" cy="581400"/>
            <a:chOff x="5791320" y="4952880"/>
            <a:chExt cx="2057400" cy="581400"/>
          </a:xfrm>
        </p:grpSpPr>
        <p:sp>
          <p:nvSpPr>
            <p:cNvPr id="611" name=""/>
            <p:cNvSpPr/>
            <p:nvPr/>
          </p:nvSpPr>
          <p:spPr>
            <a:xfrm>
              <a:off x="69343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1320" y="50292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1240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15360" y="56386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905120" y="5638680"/>
            <a:ext cx="3460320" cy="581400"/>
            <a:chOff x="1905120" y="5638680"/>
            <a:chExt cx="3460320" cy="581400"/>
          </a:xfrm>
        </p:grpSpPr>
        <p:sp>
          <p:nvSpPr>
            <p:cNvPr id="616" name=""/>
            <p:cNvSpPr/>
            <p:nvPr/>
          </p:nvSpPr>
          <p:spPr>
            <a:xfrm>
              <a:off x="4572360" y="5638680"/>
              <a:ext cx="7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05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791320" y="5638680"/>
            <a:ext cx="2057400" cy="581400"/>
            <a:chOff x="5791320" y="5638680"/>
            <a:chExt cx="2057400" cy="581400"/>
          </a:xfrm>
        </p:grpSpPr>
        <p:sp>
          <p:nvSpPr>
            <p:cNvPr id="619" name=""/>
            <p:cNvSpPr/>
            <p:nvPr/>
          </p:nvSpPr>
          <p:spPr>
            <a:xfrm>
              <a:off x="69343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91320" y="57150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6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685800" y="19051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2880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 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1120" y="4038480"/>
            <a:ext cx="3123720" cy="2638800"/>
            <a:chOff x="4191120" y="4038480"/>
            <a:chExt cx="3123720" cy="2638800"/>
          </a:xfrm>
        </p:grpSpPr>
        <p:sp>
          <p:nvSpPr>
            <p:cNvPr id="628" name=""/>
            <p:cNvSpPr/>
            <p:nvPr/>
          </p:nvSpPr>
          <p:spPr>
            <a:xfrm>
              <a:off x="4191120" y="4038480"/>
              <a:ext cx="3047760" cy="1981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6476760" y="58669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15000" y="6095880"/>
              <a:ext cx="159984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876920" y="4267080"/>
            <a:ext cx="6094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49528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092560" y="496584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67280" y="4267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48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5000" y="4952880"/>
            <a:ext cx="9144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08840" y="49658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5334120"/>
            <a:ext cx="16002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91520" y="3733920"/>
            <a:ext cx="1143000" cy="2971800"/>
            <a:chOff x="7391520" y="3733920"/>
            <a:chExt cx="1143000" cy="2971800"/>
          </a:xfrm>
        </p:grpSpPr>
        <p:sp>
          <p:nvSpPr>
            <p:cNvPr id="641" name=""/>
            <p:cNvSpPr/>
            <p:nvPr/>
          </p:nvSpPr>
          <p:spPr>
            <a:xfrm>
              <a:off x="7391520" y="4648320"/>
              <a:ext cx="11430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96080" y="373392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01000" y="43434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50292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20120" y="57150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0" y="4419720"/>
            <a:ext cx="33526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057400" y="4495680"/>
            <a:ext cx="3352680" cy="2181600"/>
            <a:chOff x="2057400" y="4495680"/>
            <a:chExt cx="3352680" cy="2181600"/>
          </a:xfrm>
        </p:grpSpPr>
        <p:sp>
          <p:nvSpPr>
            <p:cNvPr id="648" name=""/>
            <p:cNvSpPr/>
            <p:nvPr/>
          </p:nvSpPr>
          <p:spPr>
            <a:xfrm>
              <a:off x="2057400" y="4495680"/>
              <a:ext cx="1523880" cy="19047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33920" y="6095880"/>
              <a:ext cx="16761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81280" y="563868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438280" y="48006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54864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668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19520" y="54864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438280" y="4800600"/>
            <a:ext cx="762120" cy="1267200"/>
            <a:chOff x="2438280" y="4800600"/>
            <a:chExt cx="762120" cy="1267200"/>
          </a:xfrm>
        </p:grpSpPr>
        <p:sp>
          <p:nvSpPr>
            <p:cNvPr id="656" name=""/>
            <p:cNvSpPr/>
            <p:nvPr/>
          </p:nvSpPr>
          <p:spPr>
            <a:xfrm>
              <a:off x="2438280" y="48006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0" y="5334120"/>
            <a:ext cx="1447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2120" y="4572000"/>
            <a:ext cx="838080" cy="2057400"/>
            <a:chOff x="762120" y="4572000"/>
            <a:chExt cx="838080" cy="2057400"/>
          </a:xfrm>
        </p:grpSpPr>
        <p:sp>
          <p:nvSpPr>
            <p:cNvPr id="660" name=""/>
            <p:cNvSpPr/>
            <p:nvPr/>
          </p:nvSpPr>
          <p:spPr>
            <a:xfrm>
              <a:off x="762120" y="5562720"/>
              <a:ext cx="838080" cy="10666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8080" y="457200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43000" y="5181480"/>
              <a:ext cx="76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90720" y="5791320"/>
              <a:ext cx="38088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LL…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5400000">
            <a:off x="3009240" y="9522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85800" y="3352680"/>
            <a:ext cx="7848720" cy="1038600"/>
            <a:chOff x="685800" y="3352680"/>
            <a:chExt cx="7848720" cy="1038600"/>
          </a:xfrm>
        </p:grpSpPr>
        <p:sp>
          <p:nvSpPr>
            <p:cNvPr id="670" name=""/>
            <p:cNvSpPr/>
            <p:nvPr/>
          </p:nvSpPr>
          <p:spPr>
            <a:xfrm>
              <a:off x="685800" y="33526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800" y="380988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85800" y="19810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1905120"/>
            <a:ext cx="81532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ositive 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re defined as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30800" y="2603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267080" y="3200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199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69160" y="3187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3520" y="3581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47640" y="4038480"/>
            <a:ext cx="7848720" cy="1419480"/>
            <a:chOff x="647640" y="4038480"/>
            <a:chExt cx="7848720" cy="1419480"/>
          </a:xfrm>
        </p:grpSpPr>
        <p:sp>
          <p:nvSpPr>
            <p:cNvPr id="681" name=""/>
            <p:cNvSpPr/>
            <p:nvPr/>
          </p:nvSpPr>
          <p:spPr>
            <a:xfrm>
              <a:off x="647640" y="40384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7640" y="487656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7640" y="4419360"/>
              <a:ext cx="68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over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0, 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85800" y="5334120"/>
            <a:ext cx="8077320" cy="1343160"/>
            <a:chOff x="685800" y="5334120"/>
            <a:chExt cx="8077320" cy="1343160"/>
          </a:xfrm>
        </p:grpSpPr>
        <p:grpSp>
          <p:nvGrpSpPr>
            <p:cNvPr id="685" name=""/>
            <p:cNvGrpSpPr/>
            <p:nvPr/>
          </p:nvGrpSpPr>
          <p:grpSpPr>
            <a:xfrm>
              <a:off x="685800" y="5334120"/>
              <a:ext cx="7696080" cy="581400"/>
              <a:chOff x="685800" y="5334120"/>
              <a:chExt cx="7696080" cy="581400"/>
            </a:xfrm>
          </p:grpSpPr>
          <p:sp>
            <p:nvSpPr>
              <p:cNvPr id="686" name=""/>
              <p:cNvSpPr/>
              <p:nvPr/>
            </p:nvSpPr>
            <p:spPr>
              <a:xfrm>
                <a:off x="685800" y="533412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057400" y="5334120"/>
                <a:ext cx="304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38480" y="5334120"/>
                <a:ext cx="43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 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685800" y="5715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5800" y="609588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       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10666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i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Part 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Alphabe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Strings,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and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phabets and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95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, nonempty set of elements, which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2590920"/>
            <a:ext cx="7924680" cy="3187440"/>
            <a:chOff x="685800" y="2590920"/>
            <a:chExt cx="7924680" cy="3187440"/>
          </a:xfrm>
        </p:grpSpPr>
        <p:grpSp>
          <p:nvGrpSpPr>
            <p:cNvPr id="51" name=""/>
            <p:cNvGrpSpPr/>
            <p:nvPr/>
          </p:nvGrpSpPr>
          <p:grpSpPr>
            <a:xfrm>
              <a:off x="685800" y="2590920"/>
              <a:ext cx="7696080" cy="2514600"/>
              <a:chOff x="685800" y="2590920"/>
              <a:chExt cx="7696080" cy="251460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353040"/>
                <a:ext cx="4876560" cy="17524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52480" y="41151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90920" y="38102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29000" y="35816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43400" y="36579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95880" y="3353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Alphabe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2438280" y="4648320"/>
                <a:ext cx="3657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95880" y="4496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Symbol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3200040" y="4495680"/>
                <a:ext cx="2895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3657240" y="4267440"/>
                <a:ext cx="243828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4876920" y="4343760"/>
                <a:ext cx="12189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562720" y="3657600"/>
                <a:ext cx="5331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800" y="2590920"/>
                <a:ext cx="19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Example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838080" y="525780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f we denote this alphabet as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n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0, 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75248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4120" y="4419720"/>
            <a:ext cx="1143000" cy="1981080"/>
            <a:chOff x="5334120" y="4419720"/>
            <a:chExt cx="1143000" cy="1981080"/>
          </a:xfrm>
        </p:grpSpPr>
        <p:sp>
          <p:nvSpPr>
            <p:cNvPr id="70" name=""/>
            <p:cNvSpPr/>
            <p:nvPr/>
          </p:nvSpPr>
          <p:spPr>
            <a:xfrm>
              <a:off x="5562720" y="57913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3341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62720" y="48769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44197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6400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77120" y="46483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248160" y="4648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24816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481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248160" y="6019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4876920"/>
            <a:ext cx="685800" cy="1218240"/>
            <a:chOff x="4191120" y="4876920"/>
            <a:chExt cx="685800" cy="1218240"/>
          </a:xfrm>
        </p:grpSpPr>
        <p:sp>
          <p:nvSpPr>
            <p:cNvPr id="81" name=""/>
            <p:cNvSpPr/>
            <p:nvPr/>
          </p:nvSpPr>
          <p:spPr>
            <a:xfrm>
              <a:off x="4191120" y="533376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1120" y="487692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876920" y="5181120"/>
              <a:ext cx="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647960" y="5181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6479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alphab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962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00200" y="5029200"/>
            <a:ext cx="3733920" cy="1587600"/>
            <a:chOff x="1600200" y="5029200"/>
            <a:chExt cx="3733920" cy="1587600"/>
          </a:xfrm>
        </p:grpSpPr>
        <p:sp>
          <p:nvSpPr>
            <p:cNvPr id="89" name=""/>
            <p:cNvSpPr/>
            <p:nvPr/>
          </p:nvSpPr>
          <p:spPr>
            <a:xfrm>
              <a:off x="1600200" y="5029200"/>
              <a:ext cx="609480" cy="5335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1800" y="6096240"/>
              <a:ext cx="236232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s string over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7400" y="5562720"/>
              <a:ext cx="9144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477120" y="4419720"/>
            <a:ext cx="2361960" cy="2303640"/>
            <a:chOff x="6477120" y="4419720"/>
            <a:chExt cx="2361960" cy="2303640"/>
          </a:xfrm>
        </p:grpSpPr>
        <p:grpSp>
          <p:nvGrpSpPr>
            <p:cNvPr id="93" name=""/>
            <p:cNvGrpSpPr/>
            <p:nvPr/>
          </p:nvGrpSpPr>
          <p:grpSpPr>
            <a:xfrm>
              <a:off x="6477120" y="5105520"/>
              <a:ext cx="1676160" cy="1295280"/>
              <a:chOff x="6477120" y="5105520"/>
              <a:chExt cx="167616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7086600" y="5639040"/>
                <a:ext cx="838080" cy="53316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86600" y="5105520"/>
                <a:ext cx="838080" cy="533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77120" y="6400800"/>
                <a:ext cx="167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8153280" y="533376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924320" y="53341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924320" y="5943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315200" y="4419720"/>
              <a:ext cx="1523880" cy="2303640"/>
              <a:chOff x="7315200" y="4419720"/>
              <a:chExt cx="1523880" cy="2303640"/>
            </a:xfrm>
          </p:grpSpPr>
          <p:sp>
            <p:nvSpPr>
              <p:cNvPr id="101" name=""/>
              <p:cNvSpPr/>
              <p:nvPr/>
            </p:nvSpPr>
            <p:spPr>
              <a:xfrm>
                <a:off x="7315200" y="441972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15200" y="594360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3280" y="5029200"/>
                <a:ext cx="685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1676520" y="4952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5638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657600" y="4800600"/>
            <a:ext cx="990720" cy="1038600"/>
            <a:chOff x="3657600" y="4800600"/>
            <a:chExt cx="990720" cy="1038600"/>
          </a:xfrm>
        </p:grpSpPr>
        <p:sp>
          <p:nvSpPr>
            <p:cNvPr id="108" name=""/>
            <p:cNvSpPr/>
            <p:nvPr/>
          </p:nvSpPr>
          <p:spPr>
            <a:xfrm>
              <a:off x="3657600" y="4800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600" y="52578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52680" y="5257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58128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empty strin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at contains no symb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9680" y="4800600"/>
            <a:ext cx="1371600" cy="1038600"/>
            <a:chOff x="2209680" y="4800600"/>
            <a:chExt cx="1371600" cy="1038600"/>
          </a:xfrm>
        </p:grpSpPr>
        <p:sp>
          <p:nvSpPr>
            <p:cNvPr id="114" name=""/>
            <p:cNvSpPr/>
            <p:nvPr/>
          </p:nvSpPr>
          <p:spPr>
            <a:xfrm>
              <a:off x="31240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209680" y="510516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541044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48320" y="4343400"/>
            <a:ext cx="1371600" cy="1038600"/>
            <a:chOff x="4648320" y="4343400"/>
            <a:chExt cx="1371600" cy="1038600"/>
          </a:xfrm>
        </p:grpSpPr>
        <p:sp>
          <p:nvSpPr>
            <p:cNvPr id="119" name=""/>
            <p:cNvSpPr/>
            <p:nvPr/>
          </p:nvSpPr>
          <p:spPr>
            <a:xfrm>
              <a:off x="55627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5105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648320" y="46483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57800"/>
            <a:ext cx="1371600" cy="1038600"/>
            <a:chOff x="4648320" y="5257800"/>
            <a:chExt cx="1371600" cy="1038600"/>
          </a:xfrm>
        </p:grpSpPr>
        <p:sp>
          <p:nvSpPr>
            <p:cNvPr id="124" name=""/>
            <p:cNvSpPr/>
            <p:nvPr/>
          </p:nvSpPr>
          <p:spPr>
            <a:xfrm>
              <a:off x="55627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15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791320" y="4343400"/>
            <a:ext cx="457200" cy="1495800"/>
            <a:chOff x="5791320" y="4343400"/>
            <a:chExt cx="457200" cy="1495800"/>
          </a:xfrm>
        </p:grpSpPr>
        <p:sp>
          <p:nvSpPr>
            <p:cNvPr id="129" name=""/>
            <p:cNvSpPr/>
            <p:nvPr/>
          </p:nvSpPr>
          <p:spPr>
            <a:xfrm>
              <a:off x="57913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13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4800600"/>
            <a:ext cx="457200" cy="1495800"/>
            <a:chOff x="5791320" y="4800600"/>
            <a:chExt cx="457200" cy="1495800"/>
          </a:xfrm>
        </p:grpSpPr>
        <p:sp>
          <p:nvSpPr>
            <p:cNvPr id="132" name=""/>
            <p:cNvSpPr/>
            <p:nvPr/>
          </p:nvSpPr>
          <p:spPr>
            <a:xfrm>
              <a:off x="57913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248520" y="5105520"/>
            <a:ext cx="1447560" cy="1114920"/>
            <a:chOff x="6248520" y="5105520"/>
            <a:chExt cx="1447560" cy="1114920"/>
          </a:xfrm>
        </p:grpSpPr>
        <p:sp>
          <p:nvSpPr>
            <p:cNvPr id="135" name=""/>
            <p:cNvSpPr/>
            <p:nvPr/>
          </p:nvSpPr>
          <p:spPr>
            <a:xfrm>
              <a:off x="701028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248520" y="5410080"/>
              <a:ext cx="838080" cy="759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520" y="563904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0280" y="5639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4674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5905440"/>
            <a:ext cx="762120" cy="916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29600" y="5791320"/>
            <a:ext cx="914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809880" y="5943600"/>
            <a:ext cx="4114800" cy="642600"/>
            <a:chOff x="3809880" y="5943600"/>
            <a:chExt cx="4114800" cy="642600"/>
          </a:xfrm>
        </p:grpSpPr>
        <p:sp>
          <p:nvSpPr>
            <p:cNvPr id="146" name=""/>
            <p:cNvSpPr/>
            <p:nvPr/>
          </p:nvSpPr>
          <p:spPr>
            <a:xfrm>
              <a:off x="3809880" y="6172200"/>
              <a:ext cx="304920" cy="3049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800" y="6324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594360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4, thus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 = 4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85800" y="178452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752480"/>
            <a:ext cx="80773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1911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 length of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the number of all symbols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572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486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= 1 0 1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5867280"/>
            <a:ext cx="16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ngth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|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752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6765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666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3200400"/>
            <a:ext cx="8229600" cy="1572120"/>
            <a:chOff x="609480" y="3200400"/>
            <a:chExt cx="8229600" cy="1572120"/>
          </a:xfrm>
        </p:grpSpPr>
        <p:sp>
          <p:nvSpPr>
            <p:cNvPr id="164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480" y="37339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80" y="41911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9051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8288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3352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8098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5181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5181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22096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6019920"/>
            <a:ext cx="9144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038120" y="556272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14800" y="54864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885840" y="5105520"/>
            <a:ext cx="16002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886200" y="5029200"/>
            <a:ext cx="18288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02920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56272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6095880"/>
            <a:ext cx="482760" cy="38124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172200"/>
            <a:ext cx="1003320" cy="317520"/>
          </a:xfrm>
          <a:custGeom>
            <a:avLst/>
            <a:gdLst/>
            <a:ahLst/>
            <a:rect l="l" t="t" r="r" b="b"/>
            <a:pathLst>
              <a:path w="632" h="200">
                <a:moveTo>
                  <a:pt x="0" y="192"/>
                </a:moveTo>
                <a:cubicBezTo>
                  <a:pt x="144" y="196"/>
                  <a:pt x="288" y="200"/>
                  <a:pt x="384" y="192"/>
                </a:cubicBezTo>
                <a:cubicBezTo>
                  <a:pt x="480" y="184"/>
                  <a:pt x="536" y="168"/>
                  <a:pt x="576" y="144"/>
                </a:cubicBezTo>
                <a:cubicBezTo>
                  <a:pt x="616" y="120"/>
                  <a:pt x="616" y="72"/>
                  <a:pt x="624" y="48"/>
                </a:cubicBezTo>
                <a:cubicBezTo>
                  <a:pt x="632" y="24"/>
                  <a:pt x="628" y="12"/>
                  <a:pt x="6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xx…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895480" y="10666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523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752480"/>
            <a:ext cx="7772400" cy="2438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76520"/>
            <a:ext cx="78487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al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reversa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343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ersa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52578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352680" y="5334120"/>
            <a:ext cx="3429000" cy="648720"/>
            <a:chOff x="3352680" y="5334120"/>
            <a:chExt cx="3429000" cy="648720"/>
          </a:xfrm>
        </p:grpSpPr>
        <p:sp>
          <p:nvSpPr>
            <p:cNvPr id="202" name=""/>
            <p:cNvSpPr/>
            <p:nvPr/>
          </p:nvSpPr>
          <p:spPr>
            <a:xfrm>
              <a:off x="61722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657600" y="5334120"/>
            <a:ext cx="2808000" cy="648720"/>
            <a:chOff x="3657600" y="5334120"/>
            <a:chExt cx="2808000" cy="648720"/>
          </a:xfrm>
        </p:grpSpPr>
        <p:sp>
          <p:nvSpPr>
            <p:cNvPr id="205" name=""/>
            <p:cNvSpPr/>
            <p:nvPr/>
          </p:nvSpPr>
          <p:spPr>
            <a:xfrm>
              <a:off x="585612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7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86280" y="5334120"/>
            <a:ext cx="2161800" cy="648720"/>
            <a:chOff x="3986280" y="5334120"/>
            <a:chExt cx="2161800" cy="648720"/>
          </a:xfrm>
        </p:grpSpPr>
        <p:sp>
          <p:nvSpPr>
            <p:cNvPr id="208" name=""/>
            <p:cNvSpPr/>
            <p:nvPr/>
          </p:nvSpPr>
          <p:spPr>
            <a:xfrm>
              <a:off x="39862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38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319640" y="5334120"/>
            <a:ext cx="1500120" cy="650160"/>
            <a:chOff x="4319640" y="5334120"/>
            <a:chExt cx="1500120" cy="650160"/>
          </a:xfrm>
        </p:grpSpPr>
        <p:sp>
          <p:nvSpPr>
            <p:cNvPr id="211" name=""/>
            <p:cNvSpPr/>
            <p:nvPr/>
          </p:nvSpPr>
          <p:spPr>
            <a:xfrm>
              <a:off x="4319640" y="53355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09920" y="533412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752480" y="57913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352680" y="5867280"/>
            <a:ext cx="3429000" cy="581400"/>
            <a:chOff x="3352680" y="5867280"/>
            <a:chExt cx="3429000" cy="581400"/>
          </a:xfrm>
        </p:grpSpPr>
        <p:sp>
          <p:nvSpPr>
            <p:cNvPr id="215" name=""/>
            <p:cNvSpPr/>
            <p:nvPr/>
          </p:nvSpPr>
          <p:spPr>
            <a:xfrm>
              <a:off x="61722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526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657600" y="5867280"/>
            <a:ext cx="2808000" cy="581400"/>
            <a:chOff x="3657600" y="5867280"/>
            <a:chExt cx="2808000" cy="581400"/>
          </a:xfrm>
        </p:grpSpPr>
        <p:sp>
          <p:nvSpPr>
            <p:cNvPr id="218" name=""/>
            <p:cNvSpPr/>
            <p:nvPr/>
          </p:nvSpPr>
          <p:spPr>
            <a:xfrm>
              <a:off x="585612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86280" y="5867280"/>
            <a:ext cx="2161800" cy="581400"/>
            <a:chOff x="3986280" y="5867280"/>
            <a:chExt cx="2161800" cy="581400"/>
          </a:xfrm>
        </p:grpSpPr>
        <p:sp>
          <p:nvSpPr>
            <p:cNvPr id="221" name=""/>
            <p:cNvSpPr/>
            <p:nvPr/>
          </p:nvSpPr>
          <p:spPr>
            <a:xfrm>
              <a:off x="39862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8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43400" y="5867280"/>
            <a:ext cx="1500120" cy="582840"/>
            <a:chOff x="4343400" y="5867280"/>
            <a:chExt cx="1500120" cy="582840"/>
          </a:xfrm>
        </p:grpSpPr>
        <p:sp>
          <p:nvSpPr>
            <p:cNvPr id="224" name=""/>
            <p:cNvSpPr/>
            <p:nvPr/>
          </p:nvSpPr>
          <p:spPr>
            <a:xfrm>
              <a:off x="4343400" y="5868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33680" y="58672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versal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3:56:08Z</dcterms:modified>
  <cp:revision>151</cp:revision>
  <dc:subject/>
  <dc:title>Alphabets, Strings, and Languages</dc:title>
</cp:coreProperties>
</file>