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32600" cy="93916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E9AAF-0A4F-4383-9DCB-C22FD8510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5D413-A05B-4254-B728-C8A03FF90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42417-120A-439B-B84E-1DE036A56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19A3B-5338-4BC8-874E-7B6F93665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08DB3-9851-4A93-8205-6122345F2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58FED-1D65-4D43-A63F-2A93E0574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76D1C-384E-4E39-934A-A9810C9CA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948B4-1815-4837-B2EC-041AE8BE1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E52C1-01CD-42C8-AB76-7DCEF5DB1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DB58D-72F5-4EEF-A20E-0EF5EB03E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31DCE-5843-4C4C-A8DA-3C9D4D457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AC4A8-49A7-4643-8760-225351C4C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22A9F-C437-43F2-8D46-AA53CDAAEA31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1760" y="1980720"/>
            <a:ext cx="784836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Multigenerative Grammar Systems</a:t>
            </a:r>
            <a:br>
              <a:rPr sz="6000"/>
            </a:b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(MGS)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0" name=""/>
          <p:cNvGrpSpPr/>
          <p:nvPr/>
        </p:nvGrpSpPr>
        <p:grpSpPr>
          <a:xfrm>
            <a:off x="5638680" y="4724280"/>
            <a:ext cx="2210040" cy="977760"/>
            <a:chOff x="5638680" y="4724280"/>
            <a:chExt cx="2210040" cy="977760"/>
          </a:xfrm>
        </p:grpSpPr>
        <p:sp>
          <p:nvSpPr>
            <p:cNvPr id="301" name=""/>
            <p:cNvSpPr/>
            <p:nvPr/>
          </p:nvSpPr>
          <p:spPr>
            <a:xfrm>
              <a:off x="7391520" y="472428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5638680" y="472428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3" name=""/>
            <p:cNvGrpSpPr/>
            <p:nvPr/>
          </p:nvGrpSpPr>
          <p:grpSpPr>
            <a:xfrm>
              <a:off x="6095520" y="5181120"/>
              <a:ext cx="1296000" cy="520920"/>
              <a:chOff x="6095520" y="5181120"/>
              <a:chExt cx="1296000" cy="520920"/>
            </a:xfrm>
          </p:grpSpPr>
          <p:sp>
            <p:nvSpPr>
              <p:cNvPr id="304" name=""/>
              <p:cNvSpPr/>
              <p:nvPr/>
            </p:nvSpPr>
            <p:spPr>
              <a:xfrm>
                <a:off x="6324480" y="5181480"/>
                <a:ext cx="838440" cy="52056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OK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flipH="1" flipV="1">
                <a:off x="6095520" y="518112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7162920" y="518112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7" name=""/>
          <p:cNvGrpSpPr/>
          <p:nvPr/>
        </p:nvGrpSpPr>
        <p:grpSpPr>
          <a:xfrm>
            <a:off x="5638680" y="3581280"/>
            <a:ext cx="2210040" cy="977760"/>
            <a:chOff x="5638680" y="3581280"/>
            <a:chExt cx="2210040" cy="977760"/>
          </a:xfrm>
        </p:grpSpPr>
        <p:sp>
          <p:nvSpPr>
            <p:cNvPr id="308" name=""/>
            <p:cNvSpPr/>
            <p:nvPr/>
          </p:nvSpPr>
          <p:spPr>
            <a:xfrm>
              <a:off x="7391520" y="358128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638680" y="358128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0" name=""/>
            <p:cNvGrpSpPr/>
            <p:nvPr/>
          </p:nvGrpSpPr>
          <p:grpSpPr>
            <a:xfrm>
              <a:off x="6095520" y="4038120"/>
              <a:ext cx="1296000" cy="520920"/>
              <a:chOff x="6095520" y="4038120"/>
              <a:chExt cx="1296000" cy="520920"/>
            </a:xfrm>
          </p:grpSpPr>
          <p:sp>
            <p:nvSpPr>
              <p:cNvPr id="311" name=""/>
              <p:cNvSpPr/>
              <p:nvPr/>
            </p:nvSpPr>
            <p:spPr>
              <a:xfrm>
                <a:off x="6324480" y="4038480"/>
                <a:ext cx="838440" cy="52056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OK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6095520" y="403812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flipV="1">
                <a:off x="7162920" y="403812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14" name=""/>
          <p:cNvGrpSpPr/>
          <p:nvPr/>
        </p:nvGrpSpPr>
        <p:grpSpPr>
          <a:xfrm>
            <a:off x="5638680" y="2438280"/>
            <a:ext cx="2210040" cy="977760"/>
            <a:chOff x="5638680" y="2438280"/>
            <a:chExt cx="2210040" cy="977760"/>
          </a:xfrm>
        </p:grpSpPr>
        <p:sp>
          <p:nvSpPr>
            <p:cNvPr id="315" name=""/>
            <p:cNvSpPr/>
            <p:nvPr/>
          </p:nvSpPr>
          <p:spPr>
            <a:xfrm>
              <a:off x="7391520" y="243828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5638680" y="243828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7" name=""/>
            <p:cNvGrpSpPr/>
            <p:nvPr/>
          </p:nvGrpSpPr>
          <p:grpSpPr>
            <a:xfrm>
              <a:off x="6095520" y="2895120"/>
              <a:ext cx="1296000" cy="520920"/>
              <a:chOff x="6095520" y="2895120"/>
              <a:chExt cx="1296000" cy="520920"/>
            </a:xfrm>
          </p:grpSpPr>
          <p:sp>
            <p:nvSpPr>
              <p:cNvPr id="318" name=""/>
              <p:cNvSpPr/>
              <p:nvPr/>
            </p:nvSpPr>
            <p:spPr>
              <a:xfrm>
                <a:off x="6324480" y="2895480"/>
                <a:ext cx="838440" cy="52056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OK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flipH="1" flipV="1">
                <a:off x="6095520" y="289512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flipV="1">
                <a:off x="7162920" y="289512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21" name=""/>
          <p:cNvGrpSpPr/>
          <p:nvPr/>
        </p:nvGrpSpPr>
        <p:grpSpPr>
          <a:xfrm>
            <a:off x="5638680" y="1295280"/>
            <a:ext cx="2210040" cy="977760"/>
            <a:chOff x="5638680" y="1295280"/>
            <a:chExt cx="2210040" cy="977760"/>
          </a:xfrm>
        </p:grpSpPr>
        <p:sp>
          <p:nvSpPr>
            <p:cNvPr id="322" name=""/>
            <p:cNvSpPr/>
            <p:nvPr/>
          </p:nvSpPr>
          <p:spPr>
            <a:xfrm>
              <a:off x="7391520" y="129528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638680" y="129528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4" name=""/>
            <p:cNvGrpSpPr/>
            <p:nvPr/>
          </p:nvGrpSpPr>
          <p:grpSpPr>
            <a:xfrm>
              <a:off x="6095520" y="1752120"/>
              <a:ext cx="1296000" cy="520920"/>
              <a:chOff x="6095520" y="1752120"/>
              <a:chExt cx="1296000" cy="520920"/>
            </a:xfrm>
          </p:grpSpPr>
          <p:sp>
            <p:nvSpPr>
              <p:cNvPr id="325" name=""/>
              <p:cNvSpPr/>
              <p:nvPr/>
            </p:nvSpPr>
            <p:spPr>
              <a:xfrm>
                <a:off x="6324480" y="1752480"/>
                <a:ext cx="838440" cy="52056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OK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flipH="1" flipV="1">
                <a:off x="6095520" y="175212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flipV="1">
                <a:off x="7162920" y="175212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8" name="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85800" y="4038480"/>
            <a:ext cx="4191120" cy="2133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85800" y="1828800"/>
            <a:ext cx="4191120" cy="2133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85800" y="1219320"/>
            <a:ext cx="4191120" cy="5331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-MGN: Example 1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85800" y="1143000"/>
            <a:ext cx="4419720" cy="62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= {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562720" y="1219320"/>
            <a:ext cx="25146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5334120" y="1828800"/>
            <a:ext cx="3200400" cy="1182240"/>
            <a:chOff x="5334120" y="1828800"/>
            <a:chExt cx="3200400" cy="1182240"/>
          </a:xfrm>
        </p:grpSpPr>
        <p:sp>
          <p:nvSpPr>
            <p:cNvPr id="336" name=""/>
            <p:cNvSpPr/>
            <p:nvPr/>
          </p:nvSpPr>
          <p:spPr>
            <a:xfrm rot="5400000">
              <a:off x="5654160" y="1812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rot="5400000">
              <a:off x="7406280" y="1812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5334120" y="2362320"/>
              <a:ext cx="32004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a </a:t>
              </a: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   </a:t>
              </a: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2 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9" name=""/>
          <p:cNvGrpSpPr/>
          <p:nvPr/>
        </p:nvGrpSpPr>
        <p:grpSpPr>
          <a:xfrm>
            <a:off x="5105520" y="2971800"/>
            <a:ext cx="3504960" cy="1182240"/>
            <a:chOff x="5105520" y="2971800"/>
            <a:chExt cx="3504960" cy="1182240"/>
          </a:xfrm>
        </p:grpSpPr>
        <p:sp>
          <p:nvSpPr>
            <p:cNvPr id="340" name=""/>
            <p:cNvSpPr/>
            <p:nvPr/>
          </p:nvSpPr>
          <p:spPr>
            <a:xfrm rot="5400000">
              <a:off x="5577480" y="2955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rot="5400000">
              <a:off x="7406280" y="2955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105520" y="3505320"/>
              <a:ext cx="35049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aa </a:t>
              </a: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      </a:t>
              </a: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2 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3" name=""/>
          <p:cNvGrpSpPr/>
          <p:nvPr/>
        </p:nvGrpSpPr>
        <p:grpSpPr>
          <a:xfrm>
            <a:off x="4876920" y="4114800"/>
            <a:ext cx="3504960" cy="1182240"/>
            <a:chOff x="4876920" y="4114800"/>
            <a:chExt cx="3504960" cy="1182240"/>
          </a:xfrm>
        </p:grpSpPr>
        <p:sp>
          <p:nvSpPr>
            <p:cNvPr id="344" name=""/>
            <p:cNvSpPr/>
            <p:nvPr/>
          </p:nvSpPr>
          <p:spPr>
            <a:xfrm rot="5400000">
              <a:off x="5577480" y="4098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rot="5400000">
              <a:off x="7406280" y="4098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876920" y="4648320"/>
              <a:ext cx="35049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aab </a:t>
              </a: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1 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     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d </a:t>
              </a: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7" name=""/>
          <p:cNvGrpSpPr/>
          <p:nvPr/>
        </p:nvGrpSpPr>
        <p:grpSpPr>
          <a:xfrm>
            <a:off x="5181480" y="5257800"/>
            <a:ext cx="3505320" cy="1182240"/>
            <a:chOff x="5181480" y="5257800"/>
            <a:chExt cx="3505320" cy="1182240"/>
          </a:xfrm>
        </p:grpSpPr>
        <p:sp>
          <p:nvSpPr>
            <p:cNvPr id="348" name=""/>
            <p:cNvSpPr/>
            <p:nvPr/>
          </p:nvSpPr>
          <p:spPr>
            <a:xfrm rot="5400000">
              <a:off x="5577480" y="5241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 rot="5400000">
              <a:off x="7406280" y="5241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5181480" y="5791320"/>
              <a:ext cx="35053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aabbcc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     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d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1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4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85800" y="4038480"/>
            <a:ext cx="4191120" cy="2133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85800" y="1828800"/>
            <a:ext cx="4191120" cy="2133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85800" y="1219320"/>
            <a:ext cx="4191120" cy="5331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-MGN: Example 2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685800" y="1143000"/>
            <a:ext cx="4419720" cy="62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= {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4952880" y="1143000"/>
            <a:ext cx="3733920" cy="57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(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union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conc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lm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ule-synchronized 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85800" y="1219320"/>
            <a:ext cx="7772400" cy="25905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85800" y="1143000"/>
            <a:ext cx="8001000" cy="27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n n-multigenerative rule-synchronized grammar system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-MG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is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+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upl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Symbol"/>
                <a:ea typeface="Symbol"/>
              </a:rPr>
              <a:t>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= (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, … 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i="1" lang="en-US" sz="30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s a CFG for all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1 …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is a finite set o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-tuples of the form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…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for all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1 …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685800" y="3886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09480" y="380988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09480" y="4299120"/>
            <a:ext cx="8305920" cy="28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Symbol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{(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})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(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  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b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(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4648320" y="3809880"/>
            <a:ext cx="533160" cy="5335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352680" y="3809880"/>
            <a:ext cx="533520" cy="5335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057400" y="4800600"/>
            <a:ext cx="53496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6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rect Derivation Ste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85800" y="1219320"/>
            <a:ext cx="7772400" cy="17524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685800" y="1143000"/>
            <a:ext cx="7848720" cy="20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 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e a n-MG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1" i="1" lang="en-US" sz="2800" spc="-1" strike="noStrike" baseline="-25000">
                <a:solidFill>
                  <a:srgbClr val="ff66ff"/>
                </a:solidFill>
                <a:latin typeface="Times New Roman"/>
              </a:rPr>
              <a:t>i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al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1..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n, (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if (</a:t>
            </a: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1" lang="en-US" sz="2800" spc="-1" strike="noStrike" baseline="-25000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1" lang="en-US" sz="2800" spc="-1" strike="noStrike" baseline="-25000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1" i="1" lang="en-US" sz="2800" spc="-1" strike="noStrike" baseline="-25000">
                <a:solidFill>
                  <a:srgbClr val="ff66ff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85800" y="3733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590920" y="4800600"/>
            <a:ext cx="1373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04812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50532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4812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50532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85800" y="4800600"/>
            <a:ext cx="1373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14300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60020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14300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60020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09480" y="4191120"/>
            <a:ext cx="3962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1" lang="en-US" sz="3200" spc="-1" strike="noStrike" baseline="-25000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6553080" y="4800600"/>
            <a:ext cx="53496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086600" y="4800600"/>
            <a:ext cx="1373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754380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800100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754380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800100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181480" y="4800600"/>
            <a:ext cx="137340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63868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09588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63868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609588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304920" y="5334120"/>
            <a:ext cx="8611920" cy="1371600"/>
            <a:chOff x="304920" y="5334120"/>
            <a:chExt cx="8611920" cy="1371600"/>
          </a:xfrm>
        </p:grpSpPr>
        <p:sp>
          <p:nvSpPr>
            <p:cNvPr id="397" name=""/>
            <p:cNvSpPr/>
            <p:nvPr/>
          </p:nvSpPr>
          <p:spPr>
            <a:xfrm flipV="1">
              <a:off x="1676520" y="5334120"/>
              <a:ext cx="1295280" cy="838080"/>
            </a:xfrm>
            <a:custGeom>
              <a:avLst/>
              <a:gdLst>
                <a:gd name="textAreaLeft" fmla="*/ 325440 w 1295280"/>
                <a:gd name="textAreaRight" fmla="*/ 969840 w 1295280"/>
                <a:gd name="textAreaTop" fmla="*/ 210600 h 838080"/>
                <a:gd name="textAreaBottom" fmla="*/ 627480 h 83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4983" y="21600"/>
                  </a:lnTo>
                  <a:lnTo>
                    <a:pt x="6617" y="2160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676520" y="6248520"/>
              <a:ext cx="137304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1" lang="en-US" sz="26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04920" y="5334120"/>
              <a:ext cx="1676160" cy="838080"/>
            </a:xfrm>
            <a:prstGeom prst="parallelogram">
              <a:avLst>
                <a:gd name="adj" fmla="val 46398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 flipH="1">
              <a:off x="609120" y="5410080"/>
              <a:ext cx="30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914400" y="5486400"/>
              <a:ext cx="609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1337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5909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1337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909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1905120" y="5562720"/>
              <a:ext cx="838080" cy="53316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04920" y="6248520"/>
              <a:ext cx="137304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7621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12193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7621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2193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3048120" y="6248520"/>
              <a:ext cx="137304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35053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39625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35053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9625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 flipH="1">
              <a:off x="2666160" y="5334120"/>
              <a:ext cx="1676520" cy="838080"/>
            </a:xfrm>
            <a:prstGeom prst="parallelogram">
              <a:avLst>
                <a:gd name="adj" fmla="val 46408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 flipH="1">
              <a:off x="1447920" y="5410080"/>
              <a:ext cx="30456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895480" y="5410080"/>
              <a:ext cx="30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 flipH="1">
              <a:off x="3352680" y="5486400"/>
              <a:ext cx="6098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809880" y="5410080"/>
              <a:ext cx="30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V="1">
              <a:off x="6172200" y="5334120"/>
              <a:ext cx="1295280" cy="838080"/>
            </a:xfrm>
            <a:custGeom>
              <a:avLst/>
              <a:gdLst>
                <a:gd name="textAreaLeft" fmla="*/ 325440 w 1295280"/>
                <a:gd name="textAreaRight" fmla="*/ 969840 w 1295280"/>
                <a:gd name="textAreaTop" fmla="*/ 210600 h 838080"/>
                <a:gd name="textAreaBottom" fmla="*/ 627480 h 83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4983" y="21600"/>
                  </a:lnTo>
                  <a:lnTo>
                    <a:pt x="6617" y="2160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6172200" y="6248520"/>
              <a:ext cx="137304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1" i="1" lang="en-US" sz="2600" spc="-1" strike="noStrike" baseline="-25000">
                  <a:solidFill>
                    <a:srgbClr val="ff0000"/>
                  </a:solidFill>
                  <a:latin typeface="Times New Roman"/>
                </a:rPr>
                <a:t>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800600" y="5334120"/>
              <a:ext cx="1676520" cy="838080"/>
            </a:xfrm>
            <a:prstGeom prst="parallelogram">
              <a:avLst>
                <a:gd name="adj" fmla="val 46408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 flipH="1">
              <a:off x="5105520" y="5410080"/>
              <a:ext cx="30456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410080" y="5486400"/>
              <a:ext cx="6098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66294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70866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66294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70866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6400800" y="5562720"/>
              <a:ext cx="838080" cy="53316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4800600" y="6248520"/>
              <a:ext cx="137304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1" i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52578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57150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2578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7150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7543800" y="6248520"/>
              <a:ext cx="137304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80010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84582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80010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84582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 flipH="1">
              <a:off x="7162920" y="5334120"/>
              <a:ext cx="1676160" cy="838080"/>
            </a:xfrm>
            <a:prstGeom prst="parallelogram">
              <a:avLst>
                <a:gd name="adj" fmla="val 46398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 flipH="1">
              <a:off x="5943240" y="5410080"/>
              <a:ext cx="30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391520" y="5410080"/>
              <a:ext cx="30456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 flipH="1">
              <a:off x="7848000" y="5486400"/>
              <a:ext cx="609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8305920" y="5410080"/>
              <a:ext cx="30456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267080" y="5334120"/>
              <a:ext cx="685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8" name=""/>
          <p:cNvSpPr/>
          <p:nvPr/>
        </p:nvSpPr>
        <p:spPr>
          <a:xfrm>
            <a:off x="5105520" y="4191120"/>
            <a:ext cx="4038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1" i="1" lang="en-US" sz="3200" spc="-1" strike="noStrike" baseline="-25000">
                <a:solidFill>
                  <a:srgbClr val="ff66ff"/>
                </a:solidFill>
                <a:latin typeface="Times New Roman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124080" y="3733920"/>
            <a:ext cx="35816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1" lang="en-US" sz="3200" spc="-1" strike="noStrike" baseline="-25000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 </a:t>
            </a: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1" i="1" lang="en-US" sz="3200" spc="-1" strike="noStrike" baseline="-25000">
                <a:solidFill>
                  <a:srgbClr val="ff66ff"/>
                </a:solidFill>
                <a:latin typeface="Times New Roman"/>
              </a:rPr>
              <a:t>n</a:t>
            </a:r>
            <a:r>
              <a:rPr b="1" i="1" lang="en-US" sz="3200" spc="-1" strike="noStrike" baseline="-25000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609480" y="2971800"/>
            <a:ext cx="784872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itive closure of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flexive and transitive closure of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533520" y="3657600"/>
            <a:ext cx="236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"/>
          <p:cNvSpPr/>
          <p:nvPr/>
        </p:nvSpPr>
        <p:spPr>
          <a:xfrm>
            <a:off x="685800" y="2590920"/>
            <a:ext cx="7772400" cy="19047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685800" y="1219320"/>
            <a:ext cx="7772400" cy="10666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85800" y="1219320"/>
            <a:ext cx="807732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it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: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Language for n-MGR is defined analogically as the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Language for n-MGN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Generated Multistrings </a:t>
            </a: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&amp; Language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685800" y="2590920"/>
            <a:ext cx="792468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it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: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language generated by n-MGR in the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ode, for each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{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o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, is defined analogically as a language generated by n-MGN in the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685800" y="2438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0" name=""/>
          <p:cNvGrpSpPr/>
          <p:nvPr/>
        </p:nvGrpSpPr>
        <p:grpSpPr>
          <a:xfrm>
            <a:off x="5943600" y="5257800"/>
            <a:ext cx="2057400" cy="977760"/>
            <a:chOff x="5943600" y="5257800"/>
            <a:chExt cx="2057400" cy="977760"/>
          </a:xfrm>
        </p:grpSpPr>
        <p:sp>
          <p:nvSpPr>
            <p:cNvPr id="461" name=""/>
            <p:cNvSpPr/>
            <p:nvPr/>
          </p:nvSpPr>
          <p:spPr>
            <a:xfrm>
              <a:off x="7543800" y="525780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943600" y="525780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3" name=""/>
            <p:cNvGrpSpPr/>
            <p:nvPr/>
          </p:nvGrpSpPr>
          <p:grpSpPr>
            <a:xfrm>
              <a:off x="6324120" y="5714640"/>
              <a:ext cx="1296000" cy="520920"/>
              <a:chOff x="6324120" y="5714640"/>
              <a:chExt cx="1296000" cy="520920"/>
            </a:xfrm>
          </p:grpSpPr>
          <p:sp>
            <p:nvSpPr>
              <p:cNvPr id="464" name=""/>
              <p:cNvSpPr/>
              <p:nvPr/>
            </p:nvSpPr>
            <p:spPr>
              <a:xfrm>
                <a:off x="6553080" y="5715000"/>
                <a:ext cx="838440" cy="52056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OK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 flipV="1">
                <a:off x="6324120" y="571464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V="1">
                <a:off x="7391520" y="571464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67" name=""/>
          <p:cNvGrpSpPr/>
          <p:nvPr/>
        </p:nvGrpSpPr>
        <p:grpSpPr>
          <a:xfrm>
            <a:off x="5943600" y="4114800"/>
            <a:ext cx="2057400" cy="977760"/>
            <a:chOff x="5943600" y="4114800"/>
            <a:chExt cx="2057400" cy="977760"/>
          </a:xfrm>
        </p:grpSpPr>
        <p:sp>
          <p:nvSpPr>
            <p:cNvPr id="468" name=""/>
            <p:cNvSpPr/>
            <p:nvPr/>
          </p:nvSpPr>
          <p:spPr>
            <a:xfrm>
              <a:off x="7543800" y="411480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943600" y="411480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0" name=""/>
            <p:cNvGrpSpPr/>
            <p:nvPr/>
          </p:nvGrpSpPr>
          <p:grpSpPr>
            <a:xfrm>
              <a:off x="6324120" y="4571640"/>
              <a:ext cx="1296000" cy="520920"/>
              <a:chOff x="6324120" y="4571640"/>
              <a:chExt cx="1296000" cy="520920"/>
            </a:xfrm>
          </p:grpSpPr>
          <p:sp>
            <p:nvSpPr>
              <p:cNvPr id="471" name=""/>
              <p:cNvSpPr/>
              <p:nvPr/>
            </p:nvSpPr>
            <p:spPr>
              <a:xfrm>
                <a:off x="6553080" y="4572000"/>
                <a:ext cx="838440" cy="52056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OK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 flipH="1" flipV="1">
                <a:off x="6324120" y="457164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 flipV="1">
                <a:off x="7391520" y="457164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74" name=""/>
          <p:cNvGrpSpPr/>
          <p:nvPr/>
        </p:nvGrpSpPr>
        <p:grpSpPr>
          <a:xfrm>
            <a:off x="5943600" y="1828800"/>
            <a:ext cx="2057400" cy="977760"/>
            <a:chOff x="5943600" y="1828800"/>
            <a:chExt cx="2057400" cy="977760"/>
          </a:xfrm>
        </p:grpSpPr>
        <p:sp>
          <p:nvSpPr>
            <p:cNvPr id="475" name=""/>
            <p:cNvSpPr/>
            <p:nvPr/>
          </p:nvSpPr>
          <p:spPr>
            <a:xfrm>
              <a:off x="7543800" y="182880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943600" y="182880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7" name=""/>
            <p:cNvGrpSpPr/>
            <p:nvPr/>
          </p:nvGrpSpPr>
          <p:grpSpPr>
            <a:xfrm>
              <a:off x="6324120" y="2285640"/>
              <a:ext cx="1296000" cy="520920"/>
              <a:chOff x="6324120" y="2285640"/>
              <a:chExt cx="1296000" cy="520920"/>
            </a:xfrm>
          </p:grpSpPr>
          <p:sp>
            <p:nvSpPr>
              <p:cNvPr id="478" name=""/>
              <p:cNvSpPr/>
              <p:nvPr/>
            </p:nvSpPr>
            <p:spPr>
              <a:xfrm>
                <a:off x="6553080" y="2286000"/>
                <a:ext cx="838440" cy="52056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OK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 flipH="1" flipV="1">
                <a:off x="6324120" y="228564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 flipV="1">
                <a:off x="7391520" y="228564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81" name=""/>
          <p:cNvGrpSpPr/>
          <p:nvPr/>
        </p:nvGrpSpPr>
        <p:grpSpPr>
          <a:xfrm>
            <a:off x="5943600" y="2971800"/>
            <a:ext cx="2057400" cy="977760"/>
            <a:chOff x="5943600" y="2971800"/>
            <a:chExt cx="2057400" cy="977760"/>
          </a:xfrm>
        </p:grpSpPr>
        <p:sp>
          <p:nvSpPr>
            <p:cNvPr id="482" name=""/>
            <p:cNvSpPr/>
            <p:nvPr/>
          </p:nvSpPr>
          <p:spPr>
            <a:xfrm>
              <a:off x="5943600" y="297180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7543800" y="297180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4" name=""/>
            <p:cNvGrpSpPr/>
            <p:nvPr/>
          </p:nvGrpSpPr>
          <p:grpSpPr>
            <a:xfrm>
              <a:off x="6324120" y="3428640"/>
              <a:ext cx="1296000" cy="520920"/>
              <a:chOff x="6324120" y="3428640"/>
              <a:chExt cx="1296000" cy="520920"/>
            </a:xfrm>
          </p:grpSpPr>
          <p:sp>
            <p:nvSpPr>
              <p:cNvPr id="485" name=""/>
              <p:cNvSpPr/>
              <p:nvPr/>
            </p:nvSpPr>
            <p:spPr>
              <a:xfrm>
                <a:off x="6553080" y="3429000"/>
                <a:ext cx="838440" cy="52056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OK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 flipH="1" flipV="1">
                <a:off x="6324120" y="342864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 flipV="1">
                <a:off x="7391520" y="342864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88" name=""/>
          <p:cNvSpPr/>
          <p:nvPr/>
        </p:nvSpPr>
        <p:spPr>
          <a:xfrm>
            <a:off x="685800" y="5715000"/>
            <a:ext cx="419112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685800" y="3809880"/>
            <a:ext cx="4191120" cy="1828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85800" y="1828800"/>
            <a:ext cx="4191120" cy="19051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685800" y="1219320"/>
            <a:ext cx="4191120" cy="5331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-MGR: Example 1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685800" y="1143000"/>
            <a:ext cx="4419720" cy="56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(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5562720" y="121932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      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5334120" y="2362320"/>
            <a:ext cx="36576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          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5105520" y="3505320"/>
            <a:ext cx="38098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a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             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876920" y="4648320"/>
            <a:ext cx="39621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ab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              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5181480" y="5791320"/>
            <a:ext cx="3505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abbcc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           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d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9" name=""/>
          <p:cNvGrpSpPr/>
          <p:nvPr/>
        </p:nvGrpSpPr>
        <p:grpSpPr>
          <a:xfrm>
            <a:off x="5560920" y="5257800"/>
            <a:ext cx="2928600" cy="609480"/>
            <a:chOff x="5560920" y="5257800"/>
            <a:chExt cx="2928600" cy="609480"/>
          </a:xfrm>
        </p:grpSpPr>
        <p:sp>
          <p:nvSpPr>
            <p:cNvPr id="500" name=""/>
            <p:cNvSpPr/>
            <p:nvPr/>
          </p:nvSpPr>
          <p:spPr>
            <a:xfrm rot="5400000">
              <a:off x="5577480" y="5241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 rot="5400000">
              <a:off x="7863480" y="5241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6019920" y="52578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7620120" y="52578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4" name=""/>
          <p:cNvGrpSpPr/>
          <p:nvPr/>
        </p:nvGrpSpPr>
        <p:grpSpPr>
          <a:xfrm>
            <a:off x="5560920" y="4114800"/>
            <a:ext cx="2928600" cy="609480"/>
            <a:chOff x="5560920" y="4114800"/>
            <a:chExt cx="2928600" cy="609480"/>
          </a:xfrm>
        </p:grpSpPr>
        <p:sp>
          <p:nvSpPr>
            <p:cNvPr id="505" name=""/>
            <p:cNvSpPr/>
            <p:nvPr/>
          </p:nvSpPr>
          <p:spPr>
            <a:xfrm rot="5400000">
              <a:off x="5577480" y="4098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 rot="5400000">
              <a:off x="7863480" y="4098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6019920" y="41148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7620120" y="41148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9" name=""/>
          <p:cNvGrpSpPr/>
          <p:nvPr/>
        </p:nvGrpSpPr>
        <p:grpSpPr>
          <a:xfrm>
            <a:off x="5560920" y="1828800"/>
            <a:ext cx="2928600" cy="609480"/>
            <a:chOff x="5560920" y="1828800"/>
            <a:chExt cx="2928600" cy="609480"/>
          </a:xfrm>
        </p:grpSpPr>
        <p:sp>
          <p:nvSpPr>
            <p:cNvPr id="510" name=""/>
            <p:cNvSpPr/>
            <p:nvPr/>
          </p:nvSpPr>
          <p:spPr>
            <a:xfrm rot="5400000">
              <a:off x="5577480" y="1812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 rot="5400000">
              <a:off x="7863480" y="1812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6019920" y="18288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7620120" y="18288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4" name=""/>
          <p:cNvGrpSpPr/>
          <p:nvPr/>
        </p:nvGrpSpPr>
        <p:grpSpPr>
          <a:xfrm>
            <a:off x="5560920" y="2971800"/>
            <a:ext cx="2928600" cy="609480"/>
            <a:chOff x="5560920" y="2971800"/>
            <a:chExt cx="2928600" cy="609480"/>
          </a:xfrm>
        </p:grpSpPr>
        <p:sp>
          <p:nvSpPr>
            <p:cNvPr id="515" name=""/>
            <p:cNvSpPr/>
            <p:nvPr/>
          </p:nvSpPr>
          <p:spPr>
            <a:xfrm rot="5400000">
              <a:off x="5577480" y="2955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 rot="5400000">
              <a:off x="7863480" y="2955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620120" y="29718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6019920" y="29718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5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2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9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6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-MGR: Example 2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952880" y="1143000"/>
            <a:ext cx="3733920" cy="57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-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(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union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conc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l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685800" y="5715000"/>
            <a:ext cx="419112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685800" y="3809880"/>
            <a:ext cx="4191120" cy="1828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685800" y="1828800"/>
            <a:ext cx="4191120" cy="19051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685800" y="1219320"/>
            <a:ext cx="4191120" cy="5331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685800" y="1143000"/>
            <a:ext cx="4419720" cy="56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(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"/>
          <p:cNvSpPr/>
          <p:nvPr/>
        </p:nvSpPr>
        <p:spPr>
          <a:xfrm>
            <a:off x="685800" y="1219320"/>
            <a:ext cx="7772400" cy="15238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Conversions Between MG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7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685800" y="1143000"/>
            <a:ext cx="7772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There exist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algorithm, which convets any n-MGN to equivalent n-MGR in the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mode, where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n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on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685800" y="2819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685800" y="2971800"/>
            <a:ext cx="7772400" cy="15238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685800" y="2895480"/>
            <a:ext cx="7772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There exist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algorithm, which convets any n-MG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o equivalent n-MGN in the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mode, where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n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on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685800" y="4572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609480" y="457200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1042920" y="5257800"/>
            <a:ext cx="2919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n-MG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5257800" y="5257800"/>
            <a:ext cx="3059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n-MG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3886200" y="5410080"/>
            <a:ext cx="1295280" cy="304920"/>
          </a:xfrm>
          <a:prstGeom prst="rightArrow">
            <a:avLst>
              <a:gd name="adj1" fmla="val 50000"/>
              <a:gd name="adj2" fmla="val 106198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 flipH="1">
            <a:off x="3886200" y="5867280"/>
            <a:ext cx="1295280" cy="304920"/>
          </a:xfrm>
          <a:prstGeom prst="rightArrow">
            <a:avLst>
              <a:gd name="adj1" fmla="val 50000"/>
              <a:gd name="adj2" fmla="val 106198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/>
          <p:nvPr/>
        </p:nvSpPr>
        <p:spPr>
          <a:xfrm>
            <a:off x="685800" y="1219320"/>
            <a:ext cx="7772400" cy="29718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sults: Power of MG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2133720" y="4572000"/>
            <a:ext cx="4800600" cy="99072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685800" y="6019920"/>
            <a:ext cx="2209680" cy="4899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 languag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962520" y="5562720"/>
            <a:ext cx="33120" cy="2426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3059280" y="5805360"/>
            <a:ext cx="2514600" cy="8859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-MGN languag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5796000" y="5805360"/>
            <a:ext cx="2590920" cy="8859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-MGR languag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 flipH="1" flipV="1">
            <a:off x="5943600" y="5410080"/>
            <a:ext cx="789120" cy="395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 flipH="1">
            <a:off x="1981080" y="5410080"/>
            <a:ext cx="914400" cy="6098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8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685800" y="1143000"/>
            <a:ext cx="7772400" cy="30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9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1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(n-MGN</a:t>
            </a:r>
            <a:r>
              <a:rPr b="0" i="1" lang="en-US" sz="31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) and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(n-MGR</a:t>
            </a:r>
            <a:r>
              <a:rPr b="0" i="1" lang="en-US" sz="31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) denote the language families defined by n-MGN in the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mode and n-MGR in the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mode resp., 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union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conc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}. Then,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(RE) =</a:t>
            </a:r>
            <a:r>
              <a:rPr b="1" i="1" lang="en-US" sz="4000" spc="-1" strike="noStrike">
                <a:solidFill>
                  <a:srgbClr val="ff0000"/>
                </a:solidFill>
                <a:latin typeface="Times New Roman"/>
              </a:rPr>
              <a:t> L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(2-MGR</a:t>
            </a:r>
            <a:r>
              <a:rPr b="1" i="1" lang="en-US" sz="4000" spc="-1" strike="noStrike" baseline="-25000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) = </a:t>
            </a:r>
            <a:r>
              <a:rPr b="1" i="1" lang="en-US" sz="40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(2-MGN</a:t>
            </a:r>
            <a:r>
              <a:rPr b="1" i="1" lang="en-US" sz="4000" spc="-1" strike="noStrike" baseline="-25000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685800" y="4267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609480" y="419112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General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-MGNs and n-MG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611280" y="1125360"/>
            <a:ext cx="82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7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300" spc="-1" strike="noStrike">
                <a:solidFill>
                  <a:srgbClr val="3333cc"/>
                </a:solidFill>
                <a:latin typeface="Times New Roman"/>
              </a:rPr>
              <a:t>There is used only the leftmost derivation in n-MGNs</a:t>
            </a:r>
            <a:r>
              <a:rPr b="1" lang="en-US" sz="2300" spc="-1" strike="noStrike">
                <a:solidFill>
                  <a:srgbClr val="3333cc"/>
                </a:solidFill>
                <a:latin typeface="Times New Roman"/>
              </a:rPr>
              <a:t>/n-MGRs</a:t>
            </a:r>
            <a:r>
              <a:rPr b="1" lang="cs-CZ" sz="2300" spc="-1" strike="noStrike">
                <a:solidFill>
                  <a:srgbClr val="3333cc"/>
                </a:solidFill>
                <a:latin typeface="Times New Roman"/>
              </a:rPr>
              <a:t>: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1951200" y="2203560"/>
            <a:ext cx="53496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6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2484360" y="2203560"/>
            <a:ext cx="137340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2941560" y="220356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3398760" y="220356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941560" y="2508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3398760" y="2508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579600" y="2203560"/>
            <a:ext cx="1373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1036800" y="220356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1494000" y="220356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1036800" y="2508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1494000" y="2508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6446880" y="2203560"/>
            <a:ext cx="53496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6948360" y="2203560"/>
            <a:ext cx="137340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7437600" y="220356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7894800" y="220356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7437600" y="2508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7894800" y="2508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5075280" y="2203560"/>
            <a:ext cx="1373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5532480" y="220356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5989680" y="220356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5532480" y="2508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5989680" y="2508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 flipV="1">
            <a:off x="1569960" y="2736000"/>
            <a:ext cx="1295640" cy="838440"/>
          </a:xfrm>
          <a:custGeom>
            <a:avLst/>
            <a:gdLst>
              <a:gd name="textAreaLeft" fmla="*/ 325440 w 1295640"/>
              <a:gd name="textAreaRight" fmla="*/ 970200 w 1295640"/>
              <a:gd name="textAreaTop" fmla="*/ 210600 h 838440"/>
              <a:gd name="textAreaBottom" fmla="*/ 6278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4983" y="21600"/>
                </a:lnTo>
                <a:lnTo>
                  <a:pt x="6617" y="21600"/>
                </a:lnTo>
                <a:close/>
              </a:path>
            </a:pathLst>
          </a:cu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1569960" y="3651120"/>
            <a:ext cx="137340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98360" y="2736720"/>
            <a:ext cx="1676520" cy="838440"/>
          </a:xfrm>
          <a:prstGeom prst="parallelogram">
            <a:avLst>
              <a:gd name="adj" fmla="val 46388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 flipH="1">
            <a:off x="502920" y="2813040"/>
            <a:ext cx="30492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808200" y="2889360"/>
            <a:ext cx="609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2027160" y="3651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2484360" y="3651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2027160" y="39560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2484360" y="39560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1798560" y="2965320"/>
            <a:ext cx="838440" cy="533520"/>
          </a:xfrm>
          <a:prstGeom prst="downArrow">
            <a:avLst>
              <a:gd name="adj1" fmla="val 39583"/>
              <a:gd name="adj2" fmla="val 44444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198360" y="3651120"/>
            <a:ext cx="137340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55560" y="3651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1112760" y="3651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655560" y="39560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112760" y="39560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2941560" y="3651120"/>
            <a:ext cx="137340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3398760" y="3651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855960" y="3651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3398760" y="39560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855960" y="39560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H="1">
            <a:off x="2559960" y="2736720"/>
            <a:ext cx="1676520" cy="838440"/>
          </a:xfrm>
          <a:prstGeom prst="parallelogram">
            <a:avLst>
              <a:gd name="adj" fmla="val 46388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H="1">
            <a:off x="1341000" y="2813040"/>
            <a:ext cx="30492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2789280" y="2813040"/>
            <a:ext cx="30492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 flipH="1">
            <a:off x="3245760" y="2889360"/>
            <a:ext cx="609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3703680" y="2813040"/>
            <a:ext cx="30492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 flipV="1">
            <a:off x="6066000" y="2736000"/>
            <a:ext cx="1295280" cy="838440"/>
          </a:xfrm>
          <a:custGeom>
            <a:avLst/>
            <a:gdLst>
              <a:gd name="textAreaLeft" fmla="*/ 325440 w 1295280"/>
              <a:gd name="textAreaRight" fmla="*/ 969840 w 1295280"/>
              <a:gd name="textAreaTop" fmla="*/ 210600 h 838440"/>
              <a:gd name="textAreaBottom" fmla="*/ 6278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4983" y="21600"/>
                </a:lnTo>
                <a:lnTo>
                  <a:pt x="6617" y="21600"/>
                </a:lnTo>
                <a:close/>
              </a:path>
            </a:pathLst>
          </a:cu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6066000" y="3651120"/>
            <a:ext cx="137304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4694400" y="2736720"/>
            <a:ext cx="1676160" cy="838440"/>
          </a:xfrm>
          <a:prstGeom prst="parallelogram">
            <a:avLst>
              <a:gd name="adj" fmla="val 46378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 flipH="1">
            <a:off x="4998600" y="2813040"/>
            <a:ext cx="30492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303880" y="2889360"/>
            <a:ext cx="609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6523200" y="3651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6980400" y="3651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6523200" y="39560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980400" y="39560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6294600" y="2965320"/>
            <a:ext cx="838080" cy="533520"/>
          </a:xfrm>
          <a:prstGeom prst="downArrow">
            <a:avLst>
              <a:gd name="adj1" fmla="val 39583"/>
              <a:gd name="adj2" fmla="val 44444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4694400" y="3651120"/>
            <a:ext cx="1373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5151600" y="3651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5608800" y="3651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5151600" y="39560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5608800" y="39560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7437600" y="3651120"/>
            <a:ext cx="1373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7894800" y="3651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8352000" y="3651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7894800" y="39560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8352000" y="39560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 flipH="1">
            <a:off x="7055640" y="2736720"/>
            <a:ext cx="1676520" cy="838440"/>
          </a:xfrm>
          <a:prstGeom prst="parallelogram">
            <a:avLst>
              <a:gd name="adj" fmla="val 46388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 flipH="1">
            <a:off x="5837400" y="2813040"/>
            <a:ext cx="30456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7284960" y="2813040"/>
            <a:ext cx="30492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 flipH="1">
            <a:off x="7742160" y="2889360"/>
            <a:ext cx="609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8199360" y="2813040"/>
            <a:ext cx="30492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4160880" y="273672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 rot="16200000">
            <a:off x="1118160" y="1338840"/>
            <a:ext cx="216000" cy="1366920"/>
          </a:xfrm>
          <a:custGeom>
            <a:avLst/>
            <a:gdLst>
              <a:gd name="textAreaLeft" fmla="*/ 0 w 216000"/>
              <a:gd name="textAreaRight" fmla="*/ 78120 w 216000"/>
              <a:gd name="textAreaTop" fmla="*/ 35640 h 1366920"/>
              <a:gd name="textAreaBottom" fmla="*/ 1331280 h 1366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042920" y="1484280"/>
            <a:ext cx="863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0" lang="cs-CZ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cs-CZ" sz="24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cs-CZ" sz="24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cs-CZ" sz="2400" spc="-1" strike="noStrike" baseline="30000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 rot="16200000">
            <a:off x="2091240" y="1734120"/>
            <a:ext cx="216000" cy="576360"/>
          </a:xfrm>
          <a:custGeom>
            <a:avLst/>
            <a:gdLst>
              <a:gd name="textAreaLeft" fmla="*/ 0 w 216000"/>
              <a:gd name="textAreaRight" fmla="*/ 78120 w 21600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1979640" y="1484280"/>
            <a:ext cx="863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 rot="16200000">
            <a:off x="3062880" y="1338840"/>
            <a:ext cx="216000" cy="1366920"/>
          </a:xfrm>
          <a:custGeom>
            <a:avLst/>
            <a:gdLst>
              <a:gd name="textAreaLeft" fmla="*/ 0 w 216000"/>
              <a:gd name="textAreaRight" fmla="*/ 78120 w 216000"/>
              <a:gd name="textAreaTop" fmla="*/ 35640 h 1366920"/>
              <a:gd name="textAreaBottom" fmla="*/ 1331280 h 1366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2987640" y="1484280"/>
            <a:ext cx="1871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rot="16200000">
            <a:off x="5616360" y="1447560"/>
            <a:ext cx="216000" cy="1295640"/>
          </a:xfrm>
          <a:custGeom>
            <a:avLst/>
            <a:gdLst>
              <a:gd name="textAreaLeft" fmla="*/ 0 w 216000"/>
              <a:gd name="textAreaRight" fmla="*/ 78120 w 216000"/>
              <a:gd name="textAreaTop" fmla="*/ 33480 h 1295640"/>
              <a:gd name="textAreaBottom" fmla="*/ 126216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5508720" y="1555920"/>
            <a:ext cx="863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0" lang="cs-CZ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cs-CZ" sz="24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cs-CZ" sz="2400" spc="-1" strike="noStrike" baseline="30000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 rot="16200000">
            <a:off x="6555600" y="1805400"/>
            <a:ext cx="215640" cy="576360"/>
          </a:xfrm>
          <a:custGeom>
            <a:avLst/>
            <a:gdLst>
              <a:gd name="textAreaLeft" fmla="*/ 0 w 215640"/>
              <a:gd name="textAreaRight" fmla="*/ 77760 w 21564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6443640" y="1555920"/>
            <a:ext cx="863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 rot="16200000">
            <a:off x="7523640" y="1411920"/>
            <a:ext cx="216000" cy="1366920"/>
          </a:xfrm>
          <a:custGeom>
            <a:avLst/>
            <a:gdLst>
              <a:gd name="textAreaLeft" fmla="*/ 0 w 216000"/>
              <a:gd name="textAreaRight" fmla="*/ 78120 w 216000"/>
              <a:gd name="textAreaTop" fmla="*/ 35640 h 1366920"/>
              <a:gd name="textAreaBottom" fmla="*/ 1331280 h 1366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7272360" y="1557360"/>
            <a:ext cx="1871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1879560" y="5589720"/>
            <a:ext cx="53496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6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2413080" y="5589720"/>
            <a:ext cx="1373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2870280" y="5589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3327480" y="5589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2870280" y="58942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3327480" y="58942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507960" y="5589720"/>
            <a:ext cx="137340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965160" y="5589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1422360" y="5589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965160" y="58942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1422360" y="58942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6375240" y="5589720"/>
            <a:ext cx="53532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6877080" y="5589720"/>
            <a:ext cx="1373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7365960" y="5589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7823160" y="5589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7365960" y="58942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7823160" y="58942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003640" y="5589720"/>
            <a:ext cx="137340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460840" y="5589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918040" y="5589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5460840" y="58942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5918040" y="58942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rot="16200000">
            <a:off x="1043640" y="4798080"/>
            <a:ext cx="216000" cy="1366920"/>
          </a:xfrm>
          <a:custGeom>
            <a:avLst/>
            <a:gdLst>
              <a:gd name="textAreaLeft" fmla="*/ 0 w 216000"/>
              <a:gd name="textAreaRight" fmla="*/ 78120 w 216000"/>
              <a:gd name="textAreaTop" fmla="*/ 35640 h 1366920"/>
              <a:gd name="textAreaBottom" fmla="*/ 1331280 h 1366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 rot="16200000">
            <a:off x="2986560" y="4798080"/>
            <a:ext cx="216000" cy="1366920"/>
          </a:xfrm>
          <a:custGeom>
            <a:avLst/>
            <a:gdLst>
              <a:gd name="textAreaLeft" fmla="*/ 0 w 216000"/>
              <a:gd name="textAreaRight" fmla="*/ 78120 w 216000"/>
              <a:gd name="textAreaTop" fmla="*/ 35640 h 1366920"/>
              <a:gd name="textAreaBottom" fmla="*/ 1331280 h 1366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2916360" y="4870440"/>
            <a:ext cx="1871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 rot="16200000">
            <a:off x="5545080" y="4834080"/>
            <a:ext cx="216000" cy="1295280"/>
          </a:xfrm>
          <a:custGeom>
            <a:avLst/>
            <a:gdLst>
              <a:gd name="textAreaLeft" fmla="*/ 0 w 216000"/>
              <a:gd name="textAreaRight" fmla="*/ 78120 w 21600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 rot="16200000">
            <a:off x="7452360" y="4798080"/>
            <a:ext cx="216000" cy="1366920"/>
          </a:xfrm>
          <a:custGeom>
            <a:avLst/>
            <a:gdLst>
              <a:gd name="textAreaLeft" fmla="*/ 0 w 216000"/>
              <a:gd name="textAreaRight" fmla="*/ 78120 w 216000"/>
              <a:gd name="textAreaTop" fmla="*/ 35640 h 1366920"/>
              <a:gd name="textAreaBottom" fmla="*/ 1331280 h 1366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55640" y="4221000"/>
            <a:ext cx="7632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971640" y="4870440"/>
            <a:ext cx="1871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0" lang="cs-CZ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cs-CZ" sz="24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0" lang="cs-CZ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cs-CZ" sz="24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272360" y="4941720"/>
            <a:ext cx="1871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5435640" y="4941720"/>
            <a:ext cx="1871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0" lang="cs-CZ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0" lang="cs-CZ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4140360" y="544680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1835280" y="586908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6300720" y="586908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11280" y="4221000"/>
            <a:ext cx="85327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7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3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300" spc="-1" strike="noStrike">
                <a:solidFill>
                  <a:srgbClr val="3333cc"/>
                </a:solidFill>
                <a:latin typeface="Times New Roman"/>
              </a:rPr>
              <a:t>There is used </a:t>
            </a:r>
            <a:r>
              <a:rPr b="1" lang="en-US" sz="2300" spc="-1" strike="noStrike">
                <a:solidFill>
                  <a:srgbClr val="3333cc"/>
                </a:solidFill>
                <a:latin typeface="Times New Roman"/>
              </a:rPr>
              <a:t>general </a:t>
            </a:r>
            <a:r>
              <a:rPr b="1" lang="cs-CZ" sz="2300" spc="-1" strike="noStrike">
                <a:solidFill>
                  <a:srgbClr val="3333cc"/>
                </a:solidFill>
                <a:latin typeface="Times New Roman"/>
              </a:rPr>
              <a:t>derivation in </a:t>
            </a:r>
            <a:r>
              <a:rPr b="1" lang="en-US" sz="2300" spc="-1" strike="noStrike" u="sng">
                <a:solidFill>
                  <a:srgbClr val="3333cc"/>
                </a:solidFill>
                <a:uFillTx/>
                <a:latin typeface="Times New Roman"/>
              </a:rPr>
              <a:t>Genaral</a:t>
            </a:r>
            <a:r>
              <a:rPr b="1" lang="en-US" sz="23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300" spc="-1" strike="noStrike">
                <a:solidFill>
                  <a:srgbClr val="3333cc"/>
                </a:solidFill>
                <a:latin typeface="Times New Roman"/>
              </a:rPr>
              <a:t>n-MGNs</a:t>
            </a:r>
            <a:r>
              <a:rPr b="1" lang="en-US" sz="2300" spc="-1" strike="noStrike">
                <a:solidFill>
                  <a:srgbClr val="3333cc"/>
                </a:solidFill>
                <a:latin typeface="Times New Roman"/>
              </a:rPr>
              <a:t>/n-MGRs</a:t>
            </a:r>
            <a:r>
              <a:rPr b="1" lang="cs-CZ" sz="2300" spc="-1" strike="noStrike">
                <a:solidFill>
                  <a:srgbClr val="3333cc"/>
                </a:solidFill>
                <a:latin typeface="Times New Roman"/>
              </a:rPr>
              <a:t>: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rom Grammar To M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120" y="1066680"/>
            <a:ext cx="4474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rammar: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2286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905120" y="16002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…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…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09680"/>
            <a:ext cx="8001000" cy="15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Grammar system: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… ,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wher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en-US" sz="3000" spc="-1" strike="noStrike" baseline="-25000">
                <a:solidFill>
                  <a:srgbClr val="339933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s a CFG for all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1 …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a set of rules, which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„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heck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generation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38080" y="6019920"/>
            <a:ext cx="76964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Generated multistring in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38080" y="3809880"/>
            <a:ext cx="72392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9933"/>
                </a:solidFill>
                <a:latin typeface="Times New Roman"/>
              </a:rPr>
              <a:t>1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…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38080" y="4267080"/>
            <a:ext cx="72392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9933"/>
                </a:solidFill>
                <a:latin typeface="Times New Roman"/>
              </a:rPr>
              <a:t>2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…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38080" y="5257800"/>
            <a:ext cx="72392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en-US" sz="3000" spc="-1" strike="noStrike" baseline="-25000">
                <a:solidFill>
                  <a:srgbClr val="339933"/>
                </a:solidFill>
                <a:latin typeface="Times New Roman"/>
              </a:rPr>
              <a:t>n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en-US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…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en-US" sz="30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en-US" sz="30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cs-CZ" sz="3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934320" y="3886200"/>
            <a:ext cx="152280" cy="1905120"/>
          </a:xfrm>
          <a:custGeom>
            <a:avLst/>
            <a:gdLst>
              <a:gd name="textAreaLeft" fmla="*/ 0 w 152280"/>
              <a:gd name="textAreaRight" fmla="*/ 55080 w 152280"/>
              <a:gd name="textAreaTop" fmla="*/ 49680 h 1905120"/>
              <a:gd name="textAreaBottom" fmla="*/ 1855440 h 1905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010280" y="4343400"/>
            <a:ext cx="1828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Paralell gen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031840" y="5232240"/>
            <a:ext cx="330480" cy="254160"/>
          </a:xfrm>
          <a:custGeom>
            <a:avLst/>
            <a:gdLst/>
            <a:ahLst/>
            <a:rect l="l" t="t" r="r" b="b"/>
            <a:pathLst>
              <a:path w="208" h="160">
                <a:moveTo>
                  <a:pt x="0" y="160"/>
                </a:moveTo>
                <a:cubicBezTo>
                  <a:pt x="7" y="142"/>
                  <a:pt x="5" y="75"/>
                  <a:pt x="40" y="48"/>
                </a:cubicBezTo>
                <a:cubicBezTo>
                  <a:pt x="75" y="21"/>
                  <a:pt x="173" y="10"/>
                  <a:pt x="208" y="0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1905120" y="4723560"/>
            <a:ext cx="457200" cy="228600"/>
          </a:xfrm>
          <a:custGeom>
            <a:avLst/>
            <a:gdLst/>
            <a:ahLst/>
            <a:rect l="l" t="t" r="r" b="b"/>
            <a:pathLst>
              <a:path w="224" h="288">
                <a:moveTo>
                  <a:pt x="32" y="288"/>
                </a:moveTo>
                <a:cubicBezTo>
                  <a:pt x="16" y="216"/>
                  <a:pt x="0" y="144"/>
                  <a:pt x="32" y="96"/>
                </a:cubicBezTo>
                <a:cubicBezTo>
                  <a:pt x="64" y="48"/>
                  <a:pt x="192" y="16"/>
                  <a:pt x="224" y="0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30520" y="4267080"/>
            <a:ext cx="618840" cy="851040"/>
          </a:xfrm>
          <a:custGeom>
            <a:avLst/>
            <a:gdLst/>
            <a:ahLst/>
            <a:rect l="l" t="t" r="r" b="b"/>
            <a:pathLst>
              <a:path w="390" h="536">
                <a:moveTo>
                  <a:pt x="115" y="0"/>
                </a:moveTo>
                <a:cubicBezTo>
                  <a:pt x="104" y="72"/>
                  <a:pt x="0" y="343"/>
                  <a:pt x="46" y="432"/>
                </a:cubicBezTo>
                <a:cubicBezTo>
                  <a:pt x="92" y="521"/>
                  <a:pt x="318" y="514"/>
                  <a:pt x="390" y="536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487692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hecking</a:t>
            </a: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860400" y="48528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9933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rot="5400000">
            <a:off x="3832200" y="48528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atrix Gramm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684360" y="1190520"/>
            <a:ext cx="7775280" cy="2043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atrix gramma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MG) is a pai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is a CF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finite language over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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84360" y="1844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900000" y="177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684360" y="3213000"/>
            <a:ext cx="185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684360" y="3716280"/>
            <a:ext cx="734364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e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{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1476360" y="4724280"/>
            <a:ext cx="7345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B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→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c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684360" y="5805360"/>
            <a:ext cx="36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23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4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trix Grammar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1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539640" y="1052640"/>
            <a:ext cx="734400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e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{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1332000" y="2060640"/>
            <a:ext cx="7345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B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→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c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539640" y="3141720"/>
            <a:ext cx="36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23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4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611280" y="3789360"/>
            <a:ext cx="784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717840" y="3789360"/>
            <a:ext cx="6989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A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b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4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A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B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2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abbc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4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682200" y="5516640"/>
            <a:ext cx="389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"/>
          <p:cNvSpPr/>
          <p:nvPr/>
        </p:nvSpPr>
        <p:spPr>
          <a:xfrm>
            <a:off x="685800" y="2971800"/>
            <a:ext cx="7772400" cy="15238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685800" y="1219320"/>
            <a:ext cx="7772400" cy="15238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MG and General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n-MGNs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&amp;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n-MGRs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: Conversions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2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611280" y="1125360"/>
            <a:ext cx="7989840" cy="33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or every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general n-MGN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&amp;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n-M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in the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mode, where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unio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con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 there exists an equivalent matrix grammar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or every matrix grammar there exists an equivalent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n-MGN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&amp;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n-M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in the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mode, where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unio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con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685800" y="2819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685800" y="4572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609480" y="457200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611280" y="5084640"/>
            <a:ext cx="33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General n-MG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3635280" y="5445000"/>
            <a:ext cx="432000" cy="304920"/>
          </a:xfrm>
          <a:prstGeom prst="rightArrow">
            <a:avLst>
              <a:gd name="adj1" fmla="val 50000"/>
              <a:gd name="adj2" fmla="val 354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611280" y="5516640"/>
            <a:ext cx="33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General n-MG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5580000" y="5084640"/>
            <a:ext cx="331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General 2-MG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5580000" y="5516640"/>
            <a:ext cx="331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General 2-MG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4067280" y="5229360"/>
            <a:ext cx="129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M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5219640" y="5445000"/>
            <a:ext cx="432000" cy="304920"/>
          </a:xfrm>
          <a:prstGeom prst="rightArrow">
            <a:avLst>
              <a:gd name="adj1" fmla="val 50000"/>
              <a:gd name="adj2" fmla="val 354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"/>
          <p:cNvSpPr/>
          <p:nvPr/>
        </p:nvSpPr>
        <p:spPr>
          <a:xfrm>
            <a:off x="685800" y="1219320"/>
            <a:ext cx="7772400" cy="29718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sults: Power of General MG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133720" y="4572000"/>
            <a:ext cx="4800600" cy="99072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611280" y="5805360"/>
            <a:ext cx="3384360" cy="8859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guages defined by matrix grammar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4643280" y="5589720"/>
            <a:ext cx="33480" cy="2426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4356000" y="5805360"/>
            <a:ext cx="1657440" cy="8859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-GMGN languag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6732720" y="5805360"/>
            <a:ext cx="1654200" cy="8859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-GMGR languag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 flipH="1" flipV="1">
            <a:off x="5943600" y="5410080"/>
            <a:ext cx="789120" cy="395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 flipH="1">
            <a:off x="1979640" y="5410080"/>
            <a:ext cx="915840" cy="3952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3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685800" y="1143000"/>
            <a:ext cx="7772400" cy="324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(n-GMGN</a:t>
            </a:r>
            <a:r>
              <a:rPr b="0" i="1" lang="en-US" sz="29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 and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(n-GMGR</a:t>
            </a:r>
            <a:r>
              <a:rPr b="0" i="1" lang="en-US" sz="29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 denote the language families defined by general   n-MGN in the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mode and general n-MGR in the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mode resp.,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union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conc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}. Then,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5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500" spc="-1" strike="noStrike">
                <a:solidFill>
                  <a:srgbClr val="ff0000"/>
                </a:solidFill>
                <a:latin typeface="Times New Roman"/>
              </a:rPr>
              <a:t>(MG) =</a:t>
            </a:r>
            <a:r>
              <a:rPr b="1" i="1" lang="en-US" sz="3500" spc="-1" strike="noStrike">
                <a:solidFill>
                  <a:srgbClr val="ff0000"/>
                </a:solidFill>
                <a:latin typeface="Times New Roman"/>
              </a:rPr>
              <a:t> L</a:t>
            </a:r>
            <a:r>
              <a:rPr b="1" lang="en-US" sz="3500" spc="-1" strike="noStrike">
                <a:solidFill>
                  <a:srgbClr val="ff0000"/>
                </a:solidFill>
                <a:latin typeface="Times New Roman"/>
              </a:rPr>
              <a:t>(n-GMGR</a:t>
            </a:r>
            <a:r>
              <a:rPr b="1" i="1" lang="en-US" sz="3500" spc="-1" strike="noStrike" baseline="-25000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500" spc="-1" strike="noStrike">
                <a:solidFill>
                  <a:srgbClr val="ff0000"/>
                </a:solidFill>
                <a:latin typeface="Times New Roman"/>
              </a:rPr>
              <a:t>) = </a:t>
            </a:r>
            <a:r>
              <a:rPr b="1" i="1" lang="en-US" sz="35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500" spc="-1" strike="noStrike">
                <a:solidFill>
                  <a:srgbClr val="ff0000"/>
                </a:solidFill>
                <a:latin typeface="Times New Roman"/>
              </a:rPr>
              <a:t>(n-GMGN</a:t>
            </a:r>
            <a:r>
              <a:rPr b="1" i="1" lang="en-US" sz="3500" spc="-1" strike="noStrike" baseline="-25000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5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685800" y="4267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609480" y="419112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4800600" y="2438280"/>
            <a:ext cx="4114800" cy="3979800"/>
            <a:chOff x="4800600" y="2438280"/>
            <a:chExt cx="4114800" cy="3979800"/>
          </a:xfrm>
        </p:grpSpPr>
        <p:sp>
          <p:nvSpPr>
            <p:cNvPr id="62" name=""/>
            <p:cNvSpPr/>
            <p:nvPr/>
          </p:nvSpPr>
          <p:spPr>
            <a:xfrm>
              <a:off x="4876920" y="4952880"/>
              <a:ext cx="3504960" cy="60984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876920" y="3733920"/>
              <a:ext cx="350496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876920" y="2438280"/>
              <a:ext cx="3504960" cy="60984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800600" y="5867280"/>
              <a:ext cx="4114800" cy="5508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Checking of derivations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V="1">
              <a:off x="8686800" y="2743200"/>
              <a:ext cx="0" cy="31240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H="1">
              <a:off x="8381520" y="2743200"/>
              <a:ext cx="3049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8381520" y="4038480"/>
              <a:ext cx="3049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H="1">
              <a:off x="8381520" y="5257800"/>
              <a:ext cx="3049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533520" y="1828800"/>
            <a:ext cx="4114800" cy="4589280"/>
            <a:chOff x="533520" y="1828800"/>
            <a:chExt cx="4114800" cy="4589280"/>
          </a:xfrm>
        </p:grpSpPr>
        <p:sp>
          <p:nvSpPr>
            <p:cNvPr id="71" name=""/>
            <p:cNvSpPr/>
            <p:nvPr/>
          </p:nvSpPr>
          <p:spPr>
            <a:xfrm>
              <a:off x="990720" y="4343400"/>
              <a:ext cx="350496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990720" y="3048120"/>
              <a:ext cx="350496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990720" y="1828800"/>
              <a:ext cx="350496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33520" y="5867280"/>
              <a:ext cx="4114800" cy="5508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Checking of multiforms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V="1">
              <a:off x="685800" y="2133360"/>
              <a:ext cx="0" cy="37335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85800" y="2133720"/>
              <a:ext cx="3049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85800" y="3352680"/>
              <a:ext cx="3049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5800" y="4648320"/>
              <a:ext cx="3049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ecking: Two Approach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09480" y="106668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ymbols Check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724280" y="1219320"/>
            <a:ext cx="0" cy="5333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724280" y="1066680"/>
            <a:ext cx="35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Rules Check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066680" y="1752480"/>
            <a:ext cx="350532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en-US" sz="36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cs-CZ" sz="36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i="1" lang="cs-CZ" sz="36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i="1" lang="en-US" sz="3600" spc="-1" strike="noStrike" baseline="-25000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rot="5400000">
            <a:off x="1310400" y="24217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rot="5400000">
            <a:off x="2072520" y="24217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rot="5400000">
            <a:off x="3609000" y="242028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43000" y="2971800"/>
            <a:ext cx="33526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6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cs-CZ" sz="36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cs-CZ" sz="36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i="1" lang="en-US" sz="3600" spc="-1" strike="noStrike" baseline="-25000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rot="5400000">
            <a:off x="1310760" y="371736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5400000">
            <a:off x="2072880" y="371736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5400000">
            <a:off x="3608640" y="371556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143000" y="4267080"/>
            <a:ext cx="33526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lang="en-US" sz="36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lang="cs-CZ" sz="36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i="1" lang="cs-CZ" sz="36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i="1" lang="en-US" sz="3600" spc="-1" strike="noStrike" baseline="-25000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rot="5400000">
            <a:off x="1310400" y="49363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rot="5400000">
            <a:off x="2072520" y="49363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3596400" y="49363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19520" y="22860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9520" y="36576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87692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952880" y="1752480"/>
            <a:ext cx="350532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cs-CZ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rot="5400000">
            <a:off x="5196600" y="24217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rot="5400000">
            <a:off x="5958720" y="24217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rot="5400000">
            <a:off x="7495200" y="242028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029200" y="2971800"/>
            <a:ext cx="33526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cs-CZ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cs-CZ" sz="3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rot="5400000">
            <a:off x="5196960" y="371736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rot="5400000">
            <a:off x="5959080" y="371736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rot="5400000">
            <a:off x="7494840" y="371556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029200" y="4267080"/>
            <a:ext cx="33526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cs-CZ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i="1" lang="cs-CZ" sz="3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rot="5400000">
            <a:off x="5196600" y="49363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rot="5400000">
            <a:off x="5958720" y="49363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rot="5400000">
            <a:off x="7482600" y="49363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705720" y="22860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705720" y="36576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705720" y="487692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286000" y="5105520"/>
            <a:ext cx="838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400800" y="5181480"/>
            <a:ext cx="838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nterminal-synchronized 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1219320"/>
            <a:ext cx="7772400" cy="25905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85800" y="1143000"/>
            <a:ext cx="8001000" cy="27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n n-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ultigenerative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nonterminal-synchronized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rammar system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-MG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upl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Symbol"/>
                <a:ea typeface="Symbol"/>
              </a:rPr>
              <a:t>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= (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, … 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i="1" lang="en-US" sz="30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s a CFG for all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1 …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is a finite set o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-tuples of the form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…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for all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1 …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85800" y="3886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9480" y="380988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09480" y="4343400"/>
            <a:ext cx="8305920" cy="25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Symbol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})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(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(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4648320" y="3809880"/>
            <a:ext cx="533160" cy="53352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52680" y="3809880"/>
            <a:ext cx="533520" cy="53352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057400" y="4800600"/>
            <a:ext cx="53496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6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rect Derivation Ste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85800" y="1219320"/>
            <a:ext cx="7772400" cy="17524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85800" y="1143000"/>
            <a:ext cx="7848720" cy="20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 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e a n-MG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al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1..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n, (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if (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85800" y="3733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590920" y="4800600"/>
            <a:ext cx="1373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04812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50532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04812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50532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85800" y="4800600"/>
            <a:ext cx="1373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0020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14300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60020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09480" y="4191120"/>
            <a:ext cx="36576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553080" y="4800600"/>
            <a:ext cx="53496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086600" y="4800600"/>
            <a:ext cx="1373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54380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800100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54380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800100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181480" y="4800600"/>
            <a:ext cx="137340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63868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9588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63868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09588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304920" y="5334120"/>
            <a:ext cx="8611920" cy="1371600"/>
            <a:chOff x="304920" y="5334120"/>
            <a:chExt cx="8611920" cy="1371600"/>
          </a:xfrm>
        </p:grpSpPr>
        <p:sp>
          <p:nvSpPr>
            <p:cNvPr id="153" name=""/>
            <p:cNvSpPr/>
            <p:nvPr/>
          </p:nvSpPr>
          <p:spPr>
            <a:xfrm flipV="1">
              <a:off x="1676520" y="5334120"/>
              <a:ext cx="1295280" cy="838080"/>
            </a:xfrm>
            <a:custGeom>
              <a:avLst/>
              <a:gdLst>
                <a:gd name="textAreaLeft" fmla="*/ 325440 w 1295280"/>
                <a:gd name="textAreaRight" fmla="*/ 969840 w 1295280"/>
                <a:gd name="textAreaTop" fmla="*/ 210600 h 838080"/>
                <a:gd name="textAreaBottom" fmla="*/ 627480 h 83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4983" y="21600"/>
                  </a:lnTo>
                  <a:lnTo>
                    <a:pt x="6617" y="2160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676520" y="6248520"/>
              <a:ext cx="137304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1" lang="en-US" sz="26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04920" y="5334120"/>
              <a:ext cx="1676160" cy="838080"/>
            </a:xfrm>
            <a:prstGeom prst="parallelogram">
              <a:avLst>
                <a:gd name="adj" fmla="val 46398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H="1">
              <a:off x="609120" y="5410080"/>
              <a:ext cx="30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914400" y="5486400"/>
              <a:ext cx="609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1337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909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1337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5909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905120" y="5562720"/>
              <a:ext cx="838080" cy="53316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04920" y="6248520"/>
              <a:ext cx="137304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621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2193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621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2193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048120" y="6248520"/>
              <a:ext cx="137304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5053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9625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5053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9625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>
              <a:off x="2666160" y="5334120"/>
              <a:ext cx="1676520" cy="838080"/>
            </a:xfrm>
            <a:prstGeom prst="parallelogram">
              <a:avLst>
                <a:gd name="adj" fmla="val 46408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>
              <a:off x="1447920" y="5410080"/>
              <a:ext cx="30456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895480" y="5410080"/>
              <a:ext cx="30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>
              <a:off x="3352680" y="5486400"/>
              <a:ext cx="6098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09880" y="5410080"/>
              <a:ext cx="30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flipV="1">
              <a:off x="6172200" y="5334120"/>
              <a:ext cx="1295280" cy="838080"/>
            </a:xfrm>
            <a:custGeom>
              <a:avLst/>
              <a:gdLst>
                <a:gd name="textAreaLeft" fmla="*/ 325440 w 1295280"/>
                <a:gd name="textAreaRight" fmla="*/ 969840 w 1295280"/>
                <a:gd name="textAreaTop" fmla="*/ 210600 h 838080"/>
                <a:gd name="textAreaBottom" fmla="*/ 627480 h 83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4983" y="21600"/>
                  </a:lnTo>
                  <a:lnTo>
                    <a:pt x="6617" y="2160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172200" y="6248520"/>
              <a:ext cx="137304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1" i="1" lang="en-US" sz="2600" spc="-1" strike="noStrike" baseline="-25000">
                  <a:solidFill>
                    <a:srgbClr val="ff0000"/>
                  </a:solidFill>
                  <a:latin typeface="Times New Roman"/>
                </a:rPr>
                <a:t>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800600" y="5334120"/>
              <a:ext cx="1676520" cy="838080"/>
            </a:xfrm>
            <a:prstGeom prst="parallelogram">
              <a:avLst>
                <a:gd name="adj" fmla="val 46408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5105520" y="5410080"/>
              <a:ext cx="30456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410080" y="5486400"/>
              <a:ext cx="6098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6294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0866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6294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0866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400800" y="5562720"/>
              <a:ext cx="838080" cy="53316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800600" y="6248520"/>
              <a:ext cx="137304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1" i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2578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7150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2578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7150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543800" y="6248520"/>
              <a:ext cx="137304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0010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84582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0010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84582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H="1">
              <a:off x="7162920" y="5334120"/>
              <a:ext cx="1676160" cy="838080"/>
            </a:xfrm>
            <a:prstGeom prst="parallelogram">
              <a:avLst>
                <a:gd name="adj" fmla="val 46398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5943240" y="5410080"/>
              <a:ext cx="30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391520" y="5410080"/>
              <a:ext cx="30456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>
              <a:off x="7848000" y="5486400"/>
              <a:ext cx="609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305920" y="5410080"/>
              <a:ext cx="30456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267080" y="5334120"/>
              <a:ext cx="685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4" name=""/>
          <p:cNvSpPr/>
          <p:nvPr/>
        </p:nvSpPr>
        <p:spPr>
          <a:xfrm>
            <a:off x="5105520" y="4191120"/>
            <a:ext cx="38098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124080" y="3733920"/>
            <a:ext cx="35816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200" spc="-1" strike="noStrike" baseline="-25000">
                <a:solidFill>
                  <a:srgbClr val="3333cc"/>
                </a:solidFill>
                <a:latin typeface="Times New Roman"/>
              </a:rPr>
              <a:t>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09480" y="2971800"/>
            <a:ext cx="784872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itive closure of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flexive and transitive closure of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33520" y="3657600"/>
            <a:ext cx="236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685800" y="1219320"/>
            <a:ext cx="7772400" cy="17524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09480" y="1219320"/>
            <a:ext cx="8382240" cy="17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… 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9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 be a n-MGN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guage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  </a:t>
            </a:r>
            <a:r>
              <a:rPr b="0" lang="cs-CZ" sz="29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-L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is defined as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-L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…,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: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…,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cs-CZ" sz="25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cs-CZ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…,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cs-CZ" sz="25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</a:t>
            </a:r>
            <a:r>
              <a:rPr b="0" i="1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cs-CZ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all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, …,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-Language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" y="30481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429000" y="297180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09480" y="3200400"/>
            <a:ext cx="3505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9933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cs-CZ" sz="3200" spc="-1" strike="noStrike" baseline="-25000">
                <a:solidFill>
                  <a:srgbClr val="339933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…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cs-CZ" sz="3200" spc="-1" strike="noStrike" baseline="-25000">
                <a:solidFill>
                  <a:srgbClr val="339933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09480" y="3886200"/>
            <a:ext cx="3353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cs-CZ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09480" y="5410080"/>
            <a:ext cx="3353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rot="5400000">
            <a:off x="1789560" y="4913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3733920"/>
            <a:ext cx="914400" cy="38088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600200" y="4419720"/>
            <a:ext cx="914400" cy="38088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600200" y="5181480"/>
            <a:ext cx="914400" cy="38124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62120" y="579132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62120" y="6186600"/>
            <a:ext cx="3124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  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114800" y="4267080"/>
            <a:ext cx="4267080" cy="236232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086600" y="3352680"/>
            <a:ext cx="1295280" cy="5356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900" spc="-1" strike="noStrike">
                <a:solidFill>
                  <a:srgbClr val="000000"/>
                </a:solidFill>
                <a:latin typeface="Times New Roman"/>
              </a:rPr>
              <a:t>n-L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7620120" y="3886200"/>
            <a:ext cx="38088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572000" y="5257800"/>
            <a:ext cx="2895480" cy="648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…,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rot="5400000">
            <a:off x="5797800" y="456300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rot="5400000">
            <a:off x="5797800" y="593460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352680" y="5257800"/>
            <a:ext cx="685800" cy="9144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685800" y="1219320"/>
            <a:ext cx="7772400" cy="14475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85800" y="1219320"/>
            <a:ext cx="8001000" cy="15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guage generated by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first mod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i="1" lang="en-GB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firs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is defined a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i="1" lang="en-US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first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cs-CZ" sz="31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{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(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…,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</a:t>
            </a:r>
            <a:r>
              <a:rPr b="0" i="1" lang="cs-CZ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-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900" spc="-1" strike="noStrike">
                <a:solidFill>
                  <a:srgbClr val="000000"/>
                </a:solidFill>
                <a:latin typeface="Times New Roman"/>
              </a:rPr>
              <a:t>Generated Language in </a:t>
            </a:r>
            <a:r>
              <a:rPr b="0" i="1" lang="cs-CZ" sz="39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i="1" lang="en-GB" sz="3900" spc="-1" strike="noStrike">
                <a:solidFill>
                  <a:srgbClr val="000000"/>
                </a:solidFill>
                <a:latin typeface="Times New Roman"/>
              </a:rPr>
              <a:t> Mode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85800" y="2743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429000" y="266688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09480" y="2971800"/>
            <a:ext cx="3505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9933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cs-CZ" sz="3200" spc="-1" strike="noStrike" baseline="-25000">
                <a:solidFill>
                  <a:srgbClr val="339933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…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cs-CZ" sz="3200" spc="-1" strike="noStrike" baseline="-25000">
                <a:solidFill>
                  <a:srgbClr val="339933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9480" y="3657600"/>
            <a:ext cx="3353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cs-CZ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09480" y="5181480"/>
            <a:ext cx="3353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rot="5400000">
            <a:off x="1789560" y="4685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600200" y="3505320"/>
            <a:ext cx="914400" cy="38088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600200" y="4191120"/>
            <a:ext cx="914400" cy="38088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600200" y="4952880"/>
            <a:ext cx="914400" cy="38124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62120" y="556272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62120" y="5958000"/>
            <a:ext cx="3124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  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114800" y="4191120"/>
            <a:ext cx="4267080" cy="236196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781680" y="3352680"/>
            <a:ext cx="1600200" cy="596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i="1" lang="cs-CZ" sz="2900" spc="-1" strike="noStrike" baseline="-25000">
                <a:solidFill>
                  <a:srgbClr val="000000"/>
                </a:solidFill>
                <a:latin typeface="Times New Roman"/>
              </a:rPr>
              <a:t>first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H="1">
            <a:off x="7695720" y="3962520"/>
            <a:ext cx="228600" cy="533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5400000">
            <a:off x="5340600" y="456300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rot="5400000">
            <a:off x="5340600" y="578232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352680" y="5029200"/>
            <a:ext cx="685800" cy="9144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181480" y="5181480"/>
            <a:ext cx="762120" cy="648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685800" y="1219320"/>
            <a:ext cx="7772400" cy="19047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85800" y="1219320"/>
            <a:ext cx="8001000" cy="20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guage generated by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union mod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i="1" lang="en-GB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unio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is defined a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i="1" lang="cs-CZ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unio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{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…,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</a:t>
            </a:r>
            <a:r>
              <a:rPr b="0" i="1" lang="cs-CZ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-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cs-CZ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,…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}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100" spc="-1" strike="noStrike">
                <a:solidFill>
                  <a:srgbClr val="000000"/>
                </a:solidFill>
                <a:latin typeface="Times New Roman"/>
              </a:rPr>
              <a:t>Generated Language in </a:t>
            </a:r>
            <a:r>
              <a:rPr b="0" i="1" lang="en-GB" sz="4100" spc="-1" strike="noStrike">
                <a:solidFill>
                  <a:srgbClr val="000000"/>
                </a:solidFill>
                <a:latin typeface="Times New Roman"/>
              </a:rPr>
              <a:t>Union Mode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85800" y="3200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429000" y="312408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09480" y="3352680"/>
            <a:ext cx="3505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9933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cs-CZ" sz="3200" spc="-1" strike="noStrike" baseline="-25000">
                <a:solidFill>
                  <a:srgbClr val="339933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…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cs-CZ" sz="3200" spc="-1" strike="noStrike" baseline="-25000">
                <a:solidFill>
                  <a:srgbClr val="339933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09480" y="4038480"/>
            <a:ext cx="3353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cs-CZ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5562720"/>
            <a:ext cx="3353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rot="5400000">
            <a:off x="1789560" y="5065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3886200"/>
            <a:ext cx="914400" cy="38088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600200" y="4572000"/>
            <a:ext cx="914400" cy="38088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600200" y="5334120"/>
            <a:ext cx="914400" cy="38088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762120" y="594360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62120" y="6338880"/>
            <a:ext cx="3124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  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114800" y="4343400"/>
            <a:ext cx="4267080" cy="236232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81680" y="3505320"/>
            <a:ext cx="1600200" cy="596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i="1" lang="en-GB" sz="29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union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H="1">
            <a:off x="7695720" y="4114800"/>
            <a:ext cx="22860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495680" y="5410080"/>
            <a:ext cx="762120" cy="648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rot="5400000">
            <a:off x="5797800" y="448668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rot="5400000">
            <a:off x="5797800" y="601092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352680" y="5410080"/>
            <a:ext cx="685800" cy="9144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486400" y="5410080"/>
            <a:ext cx="762120" cy="648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7010280" y="5410080"/>
            <a:ext cx="762120" cy="648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400800" y="541008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685800" y="1219320"/>
            <a:ext cx="7772400" cy="14475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85800" y="1219320"/>
            <a:ext cx="8001000" cy="15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guage generated by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oncatenation mod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i="1" lang="en-GB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conc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is defined a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i="1" lang="en-US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conc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cs-CZ" sz="31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{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cs-CZ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(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…,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</a:t>
            </a:r>
            <a:r>
              <a:rPr b="0" i="1" lang="cs-CZ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cs-CZ" sz="31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-L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Generated Language in </a:t>
            </a:r>
            <a:r>
              <a:rPr b="0" i="1" lang="en-GB" sz="4200" spc="-1" strike="noStrike">
                <a:solidFill>
                  <a:srgbClr val="000000"/>
                </a:solidFill>
                <a:latin typeface="Times New Roman"/>
              </a:rPr>
              <a:t>Conc. Mode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85800" y="2743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429000" y="266688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09480" y="2971800"/>
            <a:ext cx="3505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9933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cs-CZ" sz="3200" spc="-1" strike="noStrike" baseline="-25000">
                <a:solidFill>
                  <a:srgbClr val="339933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…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cs-CZ" sz="3200" spc="-1" strike="noStrike" baseline="-25000">
                <a:solidFill>
                  <a:srgbClr val="339933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09480" y="3657600"/>
            <a:ext cx="3353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cs-CZ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09480" y="5181480"/>
            <a:ext cx="3353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rot="5400000">
            <a:off x="1789560" y="4685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600200" y="3505320"/>
            <a:ext cx="914400" cy="38088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600200" y="4191120"/>
            <a:ext cx="914400" cy="38088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600200" y="4952880"/>
            <a:ext cx="914400" cy="38124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762120" y="556272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762120" y="5958000"/>
            <a:ext cx="3124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  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14800" y="4191120"/>
            <a:ext cx="4267080" cy="236196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781680" y="3352680"/>
            <a:ext cx="1600200" cy="596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i="1" lang="en-GB" sz="29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conc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flipH="1">
            <a:off x="7695720" y="3962520"/>
            <a:ext cx="228600" cy="533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 rot="5400000">
            <a:off x="5797800" y="456300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rot="5400000">
            <a:off x="5797800" y="578232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352680" y="5029200"/>
            <a:ext cx="685800" cy="9144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648320" y="5181480"/>
            <a:ext cx="2209680" cy="648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…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1:29:08Z</dcterms:created>
  <dc:creator>Roman Lukáš</dc:creator>
  <dc:description/>
  <dc:language>en-US</dc:language>
  <cp:lastModifiedBy>Roman Lukáš</cp:lastModifiedBy>
  <dcterms:modified xsi:type="dcterms:W3CDTF">2006-06-26T22:50:05Z</dcterms:modified>
  <cp:revision>193</cp:revision>
  <dc:subject/>
  <dc:title>Formal Languages and Compilers</dc:title>
</cp:coreProperties>
</file>