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731D-BB56-4D94-82E6-768C6ED5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480F-BA68-4F94-B48D-C0F0D49B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7191-F866-4DE7-9427-4F673272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07DA-2765-412A-A5F6-96BE55CB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C8E8-A6F6-49A8-958E-D6099326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3B9F-8CED-4969-AF78-2C7CEB01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6517-16D6-486E-94B0-70FDAAEE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91D-6B48-4201-9D02-29CF4C60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2A60-1F78-4C13-AB7B-8F163AFF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69A2-7222-4349-A0B7-A5090227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C303-CFBE-4ECC-813C-24D6E1A4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8F09-0DC7-4E67-89B6-C97A0BE2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1182-69BC-4BD1-ACCF-AB1D387550A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434340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25909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1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n use the pumping lemma to pr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other theor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04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521800"/>
            <a:ext cx="807732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DFA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pumping lemma con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umber of states i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 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120" y="38854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2800" y="4280400"/>
            <a:ext cx="7908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472392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z </a:t>
            </a:r>
            <a:r>
              <a:rPr b="1" lang="cs-CZ" sz="3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|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then by PL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and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133360" y="5638680"/>
            <a:ext cx="6019560" cy="797760"/>
            <a:chOff x="2133360" y="5638680"/>
            <a:chExt cx="6019560" cy="797760"/>
          </a:xfrm>
        </p:grpSpPr>
        <p:sp>
          <p:nvSpPr>
            <p:cNvPr id="329" name=""/>
            <p:cNvSpPr/>
            <p:nvPr/>
          </p:nvSpPr>
          <p:spPr>
            <a:xfrm rot="5400000">
              <a:off x="2475720" y="5295960"/>
              <a:ext cx="152640" cy="837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7720"/>
                <a:gd name="textAreaBottom" fmla="*/ 816120 h 83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6552720" y="4191120"/>
              <a:ext cx="152640" cy="3047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79200 h 3047760"/>
                <a:gd name="textAreaBottom" fmla="*/ 2968560 h 30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76360" y="5885640"/>
              <a:ext cx="259056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 is infini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90560" y="5867280"/>
              <a:ext cx="685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866920" y="5867280"/>
              <a:ext cx="7614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3560" y="1156320"/>
            <a:ext cx="7835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647600"/>
            <a:ext cx="861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nfinit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3809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7720" y="1675800"/>
            <a:ext cx="49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e prove by contradiction,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9560" y="2228040"/>
            <a:ext cx="250488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36960" y="2228040"/>
            <a:ext cx="454860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75680" y="3218760"/>
            <a:ext cx="531504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2819520"/>
            <a:ext cx="0" cy="3808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4120" y="20566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59600" y="2742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774680" y="5181480"/>
            <a:ext cx="3836160" cy="618840"/>
            <a:chOff x="4774680" y="5181480"/>
            <a:chExt cx="3836160" cy="618840"/>
          </a:xfrm>
        </p:grpSpPr>
        <p:sp>
          <p:nvSpPr>
            <p:cNvPr id="350" name=""/>
            <p:cNvSpPr/>
            <p:nvPr/>
          </p:nvSpPr>
          <p:spPr>
            <a:xfrm>
              <a:off x="4774680" y="5325480"/>
              <a:ext cx="3836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 holds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20120" y="518148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635160" y="5791320"/>
            <a:ext cx="2020320" cy="702720"/>
            <a:chOff x="6635160" y="5791320"/>
            <a:chExt cx="2020320" cy="702720"/>
          </a:xfrm>
        </p:grpSpPr>
        <p:sp>
          <p:nvSpPr>
            <p:cNvPr id="353" name=""/>
            <p:cNvSpPr/>
            <p:nvPr/>
          </p:nvSpPr>
          <p:spPr>
            <a:xfrm>
              <a:off x="6635160" y="6019200"/>
              <a:ext cx="2020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 is finit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30360" y="5181480"/>
            <a:ext cx="6062400" cy="1148400"/>
            <a:chOff x="630360" y="5181480"/>
            <a:chExt cx="6062400" cy="1148400"/>
          </a:xfrm>
        </p:grpSpPr>
        <p:sp>
          <p:nvSpPr>
            <p:cNvPr id="356" name=""/>
            <p:cNvSpPr/>
            <p:nvPr/>
          </p:nvSpPr>
          <p:spPr>
            <a:xfrm>
              <a:off x="630360" y="580932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00400" y="5181480"/>
              <a:ext cx="812880" cy="787680"/>
            </a:xfrm>
            <a:custGeom>
              <a:avLst/>
              <a:gdLst/>
              <a:ahLst/>
              <a:rect l="l" t="t" r="r" b="b"/>
              <a:pathLst>
                <a:path w="504" h="496">
                  <a:moveTo>
                    <a:pt x="0" y="496"/>
                  </a:moveTo>
                  <a:cubicBezTo>
                    <a:pt x="67" y="459"/>
                    <a:pt x="332" y="347"/>
                    <a:pt x="416" y="264"/>
                  </a:cubicBezTo>
                  <a:cubicBezTo>
                    <a:pt x="500" y="181"/>
                    <a:pt x="486" y="55"/>
                    <a:pt x="504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00400" y="5837400"/>
              <a:ext cx="3492360" cy="385560"/>
            </a:xfrm>
            <a:custGeom>
              <a:avLst/>
              <a:gdLst/>
              <a:ahLst/>
              <a:rect l="l" t="t" r="r" b="b"/>
              <a:pathLst>
                <a:path w="2168" h="243">
                  <a:moveTo>
                    <a:pt x="0" y="179"/>
                  </a:moveTo>
                  <a:cubicBezTo>
                    <a:pt x="120" y="151"/>
                    <a:pt x="367" y="0"/>
                    <a:pt x="728" y="11"/>
                  </a:cubicBezTo>
                  <a:cubicBezTo>
                    <a:pt x="1089" y="22"/>
                    <a:pt x="1868" y="195"/>
                    <a:pt x="2168" y="24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II.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3782880"/>
            <a:ext cx="69343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PL implies: 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cs-CZ" sz="25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5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9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31640" y="3492360"/>
            <a:ext cx="5541480" cy="3142440"/>
            <a:chOff x="431640" y="3492360"/>
            <a:chExt cx="5541480" cy="3142440"/>
          </a:xfrm>
        </p:grpSpPr>
        <p:sp>
          <p:nvSpPr>
            <p:cNvPr id="364" name=""/>
            <p:cNvSpPr/>
            <p:nvPr/>
          </p:nvSpPr>
          <p:spPr>
            <a:xfrm>
              <a:off x="3449880" y="611424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640" y="3492360"/>
              <a:ext cx="2971800" cy="3073680"/>
            </a:xfrm>
            <a:custGeom>
              <a:avLst/>
              <a:gdLst/>
              <a:ahLst/>
              <a:rect l="l" t="t" r="r" b="b"/>
              <a:pathLst>
                <a:path w="1872" h="1936">
                  <a:moveTo>
                    <a:pt x="1872" y="1936"/>
                  </a:moveTo>
                  <a:cubicBezTo>
                    <a:pt x="1609" y="1908"/>
                    <a:pt x="592" y="1933"/>
                    <a:pt x="296" y="1768"/>
                  </a:cubicBezTo>
                  <a:cubicBezTo>
                    <a:pt x="0" y="1603"/>
                    <a:pt x="113" y="1207"/>
                    <a:pt x="96" y="944"/>
                  </a:cubicBezTo>
                  <a:cubicBezTo>
                    <a:pt x="79" y="681"/>
                    <a:pt x="113" y="349"/>
                    <a:pt x="192" y="192"/>
                  </a:cubicBezTo>
                  <a:cubicBezTo>
                    <a:pt x="271" y="35"/>
                    <a:pt x="490" y="40"/>
                    <a:pt x="56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3720" y="6019920"/>
              <a:ext cx="1282680" cy="317520"/>
            </a:xfrm>
            <a:custGeom>
              <a:avLst/>
              <a:gdLst/>
              <a:ahLst/>
              <a:rect l="l" t="t" r="r" b="b"/>
              <a:pathLst>
                <a:path w="808" h="200">
                  <a:moveTo>
                    <a:pt x="808" y="200"/>
                  </a:moveTo>
                  <a:cubicBezTo>
                    <a:pt x="699" y="192"/>
                    <a:pt x="287" y="185"/>
                    <a:pt x="152" y="152"/>
                  </a:cubicBezTo>
                  <a:cubicBezTo>
                    <a:pt x="17" y="119"/>
                    <a:pt x="32" y="32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85800" y="2285280"/>
            <a:ext cx="7696080" cy="610200"/>
            <a:chOff x="685800" y="2285280"/>
            <a:chExt cx="7696080" cy="610200"/>
          </a:xfrm>
        </p:grpSpPr>
        <p:sp>
          <p:nvSpPr>
            <p:cNvPr id="368" name=""/>
            <p:cNvSpPr/>
            <p:nvPr/>
          </p:nvSpPr>
          <p:spPr>
            <a:xfrm>
              <a:off x="685800" y="2285280"/>
              <a:ext cx="5334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ssume that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re is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),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2819520"/>
              <a:ext cx="236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72200" y="2743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7320" y="2285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44880" y="2285280"/>
              <a:ext cx="53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3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4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1520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96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77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621720" y="4882320"/>
            <a:ext cx="21834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9933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416480" y="4648320"/>
            <a:ext cx="4377960" cy="808920"/>
            <a:chOff x="4416480" y="4648320"/>
            <a:chExt cx="4377960" cy="808920"/>
          </a:xfrm>
        </p:grpSpPr>
        <p:sp>
          <p:nvSpPr>
            <p:cNvPr id="380" name=""/>
            <p:cNvSpPr/>
            <p:nvPr/>
          </p:nvSpPr>
          <p:spPr>
            <a:xfrm>
              <a:off x="5943600" y="464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6480" y="4875840"/>
              <a:ext cx="43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uv</a:t>
              </a:r>
              <a:r>
                <a:rPr b="0" i="1" lang="en-US" sz="25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uw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85800" y="5307120"/>
            <a:ext cx="81532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 &lt; 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8640" y="5611680"/>
            <a:ext cx="7440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is not the shortest str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atisfying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487520" y="4571280"/>
            <a:ext cx="1431720" cy="534240"/>
            <a:chOff x="1487520" y="4571280"/>
            <a:chExt cx="1431720" cy="534240"/>
          </a:xfrm>
        </p:grpSpPr>
        <p:sp>
          <p:nvSpPr>
            <p:cNvPr id="385" name=""/>
            <p:cNvSpPr/>
            <p:nvPr/>
          </p:nvSpPr>
          <p:spPr>
            <a:xfrm rot="5400000">
              <a:off x="2476080" y="4838760"/>
              <a:ext cx="152640" cy="380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5400000">
              <a:off x="1828440" y="4800600"/>
              <a:ext cx="152640" cy="4572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7520" y="4571280"/>
              <a:ext cx="907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49280" y="4571280"/>
              <a:ext cx="669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89040" y="3021120"/>
            <a:ext cx="8033040" cy="908280"/>
            <a:chOff x="689040" y="3021120"/>
            <a:chExt cx="8033040" cy="908280"/>
          </a:xfrm>
        </p:grpSpPr>
        <p:sp>
          <p:nvSpPr>
            <p:cNvPr id="390" name=""/>
            <p:cNvSpPr/>
            <p:nvPr/>
          </p:nvSpPr>
          <p:spPr>
            <a:xfrm>
              <a:off x="689040" y="3021120"/>
              <a:ext cx="764244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</a:t>
              </a:r>
              <a:r>
                <a:rPr b="0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shortest string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satisfying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41560" y="3402000"/>
              <a:ext cx="758052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ecause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there exists no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, so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ff9933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08040" y="2590200"/>
            <a:ext cx="7775640" cy="474840"/>
            <a:chOff x="608040" y="2590200"/>
            <a:chExt cx="7775640" cy="474840"/>
          </a:xfrm>
        </p:grpSpPr>
        <p:grpSp>
          <p:nvGrpSpPr>
            <p:cNvPr id="393" name=""/>
            <p:cNvGrpSpPr/>
            <p:nvPr/>
          </p:nvGrpSpPr>
          <p:grpSpPr>
            <a:xfrm>
              <a:off x="7240680" y="2667240"/>
              <a:ext cx="304560" cy="304200"/>
              <a:chOff x="7240680" y="2667240"/>
              <a:chExt cx="304560" cy="30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097680" y="2667240"/>
              <a:ext cx="304560" cy="304200"/>
              <a:chOff x="6097680" y="2667240"/>
              <a:chExt cx="304560" cy="30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859440" y="2667240"/>
              <a:ext cx="304560" cy="304200"/>
              <a:chOff x="6859440" y="2667240"/>
              <a:chExt cx="304560" cy="30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685980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685944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6478560" y="2667240"/>
              <a:ext cx="304560" cy="304200"/>
              <a:chOff x="6478560" y="2667240"/>
              <a:chExt cx="304560" cy="30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7697880" y="2971800"/>
              <a:ext cx="68580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8040" y="2590200"/>
              <a:ext cx="5045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</a:rPr>
                <a:t> there is no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, 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|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| &lt;</a:t>
              </a:r>
              <a:r>
                <a:rPr b="1" lang="en-GB" sz="2500" spc="-1" strike="noStrike">
                  <a:solidFill>
                    <a:srgbClr val="ff0000"/>
                  </a:solidFill>
                  <a:latin typeface="Times New Roman"/>
                </a:rPr>
                <a:t> 2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694600" y="4875840"/>
            <a:ext cx="8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4479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412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regular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regular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r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lso reg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423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426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429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432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2666880"/>
            <a:ext cx="81536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RE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ition of regular expres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RE denotes regular language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840" y="5608440"/>
            <a:ext cx="649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1066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2590920"/>
            <a:ext cx="56386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69880" y="2132640"/>
            <a:ext cx="24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2096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35805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52480" y="46483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49179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19320" y="491796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2120" y="51465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52680" y="4842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1600" y="41148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491796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916360" y="465948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519264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38280" y="4114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218960" y="5486400"/>
            <a:ext cx="2895840" cy="732960"/>
            <a:chOff x="1218960" y="5486400"/>
            <a:chExt cx="2895840" cy="732960"/>
          </a:xfrm>
        </p:grpSpPr>
        <p:sp>
          <p:nvSpPr>
            <p:cNvPr id="463" name=""/>
            <p:cNvSpPr/>
            <p:nvPr/>
          </p:nvSpPr>
          <p:spPr>
            <a:xfrm rot="5400000">
              <a:off x="190476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5400000">
              <a:off x="3619440" y="5219640"/>
              <a:ext cx="152640" cy="8380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48280" y="5561640"/>
              <a:ext cx="115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30800" y="56379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611280" y="41140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409720" y="5486400"/>
            <a:ext cx="2099880" cy="656640"/>
            <a:chOff x="5409720" y="5486400"/>
            <a:chExt cx="2099880" cy="656640"/>
          </a:xfrm>
        </p:grpSpPr>
        <p:sp>
          <p:nvSpPr>
            <p:cNvPr id="469" name=""/>
            <p:cNvSpPr/>
            <p:nvPr/>
          </p:nvSpPr>
          <p:spPr>
            <a:xfrm rot="5400000">
              <a:off x="632412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09720" y="5561640"/>
              <a:ext cx="209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Q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268200" y="6094800"/>
            <a:ext cx="90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9528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6232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49568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5181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419720" y="3962520"/>
            <a:ext cx="4190760" cy="1600200"/>
            <a:chOff x="4419720" y="3962520"/>
            <a:chExt cx="4190760" cy="1600200"/>
          </a:xfrm>
        </p:grpSpPr>
        <p:sp>
          <p:nvSpPr>
            <p:cNvPr id="477" name=""/>
            <p:cNvSpPr/>
            <p:nvPr/>
          </p:nvSpPr>
          <p:spPr>
            <a:xfrm>
              <a:off x="4419720" y="48769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48520" y="4648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72400" y="3962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92468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05520" y="51814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15000" y="39625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67480" y="46483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91520" y="5181480"/>
              <a:ext cx="5331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34320" y="39625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8000" y="4114080"/>
              <a:ext cx="81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62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38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05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81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24680" y="4495680"/>
              <a:ext cx="456840" cy="39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3868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48520" y="5181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1066680"/>
            <a:ext cx="8610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 requir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mple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complete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ust be converted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lete FA before w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u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43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4191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33720" y="3886200"/>
            <a:ext cx="5331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350532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365760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57400" y="342900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2971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120" y="281844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complete DF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33520" y="4419720"/>
            <a:ext cx="3962160" cy="2105280"/>
            <a:chOff x="533520" y="4419720"/>
            <a:chExt cx="3962160" cy="2105280"/>
          </a:xfrm>
        </p:grpSpPr>
        <p:sp>
          <p:nvSpPr>
            <p:cNvPr id="510" name=""/>
            <p:cNvSpPr/>
            <p:nvPr/>
          </p:nvSpPr>
          <p:spPr>
            <a:xfrm>
              <a:off x="160020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1460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124080" y="5528160"/>
              <a:ext cx="990720" cy="720360"/>
              <a:chOff x="3124080" y="5528160"/>
              <a:chExt cx="990720" cy="720360"/>
            </a:xfrm>
          </p:grpSpPr>
          <p:sp>
            <p:nvSpPr>
              <p:cNvPr id="513" name=""/>
              <p:cNvSpPr/>
              <p:nvPr/>
            </p:nvSpPr>
            <p:spPr>
              <a:xfrm>
                <a:off x="3124080" y="5639040"/>
                <a:ext cx="990720" cy="60948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56840" y="55281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2767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6160" y="4799520"/>
              <a:ext cx="21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Complete DF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23880" y="54864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23880" y="601992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5400000">
              <a:off x="1713960" y="43052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49532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0720" y="57150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59896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05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14400" y="541044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05120" y="533412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2480" y="4953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81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7672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90920" y="6019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10800000">
              <a:off x="1350720" y="6019920"/>
              <a:ext cx="20775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535320" y="3199680"/>
            <a:ext cx="6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243756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4267080" y="4800600"/>
            <a:ext cx="4572000" cy="1724400"/>
            <a:chOff x="4267080" y="4800600"/>
            <a:chExt cx="4572000" cy="1724400"/>
          </a:xfrm>
        </p:grpSpPr>
        <p:sp>
          <p:nvSpPr>
            <p:cNvPr id="535" name=""/>
            <p:cNvSpPr/>
            <p:nvPr/>
          </p:nvSpPr>
          <p:spPr>
            <a:xfrm>
              <a:off x="609588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1028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201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334120" y="4800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40080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7240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6019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rot="10800000">
              <a:off x="5847120" y="6019920"/>
              <a:ext cx="2077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76920" y="60199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34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10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34120" y="525780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19920" y="556272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19920" y="601992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77120" y="533412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20120" y="5639040"/>
              <a:ext cx="1066680" cy="6778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28840" y="5528160"/>
              <a:ext cx="840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96080" y="5715000"/>
              <a:ext cx="9144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82800" y="492300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67080" y="56390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432840" y="4332240"/>
            <a:ext cx="2245320" cy="579600"/>
            <a:chOff x="6432840" y="4332240"/>
            <a:chExt cx="2245320" cy="579600"/>
          </a:xfrm>
        </p:grpSpPr>
        <p:sp>
          <p:nvSpPr>
            <p:cNvPr id="557" name=""/>
            <p:cNvSpPr/>
            <p:nvPr/>
          </p:nvSpPr>
          <p:spPr>
            <a:xfrm>
              <a:off x="6432840" y="4332240"/>
              <a:ext cx="2245320" cy="579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8720" y="4419720"/>
              <a:ext cx="676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200400" y="2660400"/>
            <a:ext cx="5486400" cy="630360"/>
            <a:chOff x="3200400" y="2660400"/>
            <a:chExt cx="5486400" cy="630360"/>
          </a:xfrm>
        </p:grpSpPr>
        <p:sp>
          <p:nvSpPr>
            <p:cNvPr id="560" name=""/>
            <p:cNvSpPr/>
            <p:nvPr/>
          </p:nvSpPr>
          <p:spPr>
            <a:xfrm>
              <a:off x="3200400" y="2660400"/>
              <a:ext cx="5486400" cy="63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!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’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24280" y="281916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971800" y="3124080"/>
            <a:ext cx="3123720" cy="1523880"/>
            <a:chOff x="2971800" y="3124080"/>
            <a:chExt cx="3123720" cy="1523880"/>
          </a:xfrm>
        </p:grpSpPr>
        <p:sp>
          <p:nvSpPr>
            <p:cNvPr id="563" name=""/>
            <p:cNvSpPr/>
            <p:nvPr/>
          </p:nvSpPr>
          <p:spPr>
            <a:xfrm>
              <a:off x="4419720" y="3962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10080" y="32000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43400" y="31240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86400" y="40384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62520" y="434304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95680" y="403848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19720" y="358128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380988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10080" y="365724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92080" y="324612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343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71800" y="3885840"/>
              <a:ext cx="838080" cy="685800"/>
            </a:xfrm>
            <a:prstGeom prst="rightArrow">
              <a:avLst>
                <a:gd name="adj1" fmla="val 50000"/>
                <a:gd name="adj2" fmla="val 30551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971440" y="3733560"/>
            <a:ext cx="686160" cy="914040"/>
            <a:chOff x="2971440" y="3733560"/>
            <a:chExt cx="686160" cy="914040"/>
          </a:xfrm>
        </p:grpSpPr>
        <p:sp>
          <p:nvSpPr>
            <p:cNvPr id="576" name=""/>
            <p:cNvSpPr/>
            <p:nvPr/>
          </p:nvSpPr>
          <p:spPr>
            <a:xfrm flipV="1">
              <a:off x="297180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297144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743200"/>
            <a:ext cx="807732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exists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We can construct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y using the 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 defines a regular language, so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8080" y="510552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09480" y="2285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Inter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" y="2819520"/>
            <a:ext cx="868680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losed under un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2120" y="33526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95280" y="335268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2120" y="411480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411480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" y="487692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04812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57150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85800" y="121932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" y="1143000"/>
            <a:ext cx="7924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Let a family of languages be closed under union, intersection, and complement. Then, this family represents a </a:t>
            </a:r>
            <a:r>
              <a:rPr b="1" i="1" lang="en-GB" sz="3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" y="34290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327672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a Boolean algebra of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49528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union, intersection, and comple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9480" y="44186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051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288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RL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exis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R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1000" y="3351960"/>
            <a:ext cx="62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4120" y="4114080"/>
            <a:ext cx="8460360" cy="1427760"/>
            <a:chOff x="384120" y="4114080"/>
            <a:chExt cx="8460360" cy="1427760"/>
          </a:xfrm>
        </p:grpSpPr>
        <p:sp>
          <p:nvSpPr>
            <p:cNvPr id="49" name=""/>
            <p:cNvSpPr/>
            <p:nvPr/>
          </p:nvSpPr>
          <p:spPr>
            <a:xfrm>
              <a:off x="384120" y="4114080"/>
              <a:ext cx="489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28800" y="457200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57400" y="4572000"/>
              <a:ext cx="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86000" y="45720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01280" y="45712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95720" y="4144320"/>
              <a:ext cx="364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19400" y="4448880"/>
              <a:ext cx="382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43080" y="4753800"/>
              <a:ext cx="40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31560" y="51044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62960" y="4952160"/>
              <a:ext cx="255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04200" y="5409360"/>
            <a:ext cx="8820360" cy="1450080"/>
            <a:chOff x="304200" y="5409360"/>
            <a:chExt cx="8820360" cy="1450080"/>
          </a:xfrm>
        </p:grpSpPr>
        <p:sp>
          <p:nvSpPr>
            <p:cNvPr id="60" name=""/>
            <p:cNvSpPr/>
            <p:nvPr/>
          </p:nvSpPr>
          <p:spPr>
            <a:xfrm>
              <a:off x="304200" y="5409360"/>
              <a:ext cx="492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52480" y="5867280"/>
              <a:ext cx="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1080" y="5867280"/>
              <a:ext cx="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86000" y="59436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4960" y="59428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19040" y="5409360"/>
              <a:ext cx="400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42720" y="5714280"/>
              <a:ext cx="41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66040" y="6019200"/>
              <a:ext cx="435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07880" y="64220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2247840" y="5753160"/>
              <a:ext cx="76320" cy="3045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9520" y="6080040"/>
              <a:ext cx="94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5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63680" y="6399720"/>
              <a:ext cx="246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1143000"/>
            <a:ext cx="6858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Pumping lemma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demonstrates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an infinite iteration of some substring in RL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7520" y="3725280"/>
            <a:ext cx="64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295280"/>
            <a:ext cx="82296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4. Equivalenc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498240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card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2120" y="580464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52570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5800" y="44197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is algorithm is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668680" y="11422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004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197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648320" y="15238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04800" y="1371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1814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89920" y="1523880"/>
            <a:ext cx="615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10800000">
            <a:off x="4496040" y="1600200"/>
            <a:ext cx="61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7220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 rot="5400000">
            <a:off x="3556800" y="154800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33920" y="129528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1447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flipV="1" rot="16200000">
            <a:off x="5753880" y="154872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6240" y="2056680"/>
            <a:ext cx="40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6880" y="2514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612720" y="3275640"/>
            <a:ext cx="7845480" cy="581400"/>
            <a:chOff x="612720" y="3275640"/>
            <a:chExt cx="7845480" cy="581400"/>
          </a:xfrm>
        </p:grpSpPr>
        <p:sp>
          <p:nvSpPr>
            <p:cNvPr id="664" name=""/>
            <p:cNvSpPr/>
            <p:nvPr/>
          </p:nvSpPr>
          <p:spPr>
            <a:xfrm>
              <a:off x="685800" y="337824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2720" y="3275640"/>
              <a:ext cx="387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57360" y="4799880"/>
            <a:ext cx="58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termin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9240" y="2818440"/>
            <a:ext cx="60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683160"/>
            <a:ext cx="1752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09480" y="4038480"/>
            <a:ext cx="8229600" cy="951480"/>
            <a:chOff x="609480" y="4038480"/>
            <a:chExt cx="8229600" cy="951480"/>
          </a:xfrm>
        </p:grpSpPr>
        <p:sp>
          <p:nvSpPr>
            <p:cNvPr id="670" name=""/>
            <p:cNvSpPr/>
            <p:nvPr/>
          </p:nvSpPr>
          <p:spPr>
            <a:xfrm>
              <a:off x="685800" y="4038480"/>
              <a:ext cx="8153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9480" y="4419720"/>
              <a:ext cx="701064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termina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220400" y="2514240"/>
            <a:ext cx="79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5480" y="2514240"/>
            <a:ext cx="150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43600" y="5606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dable Problem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656640" y="5257080"/>
            <a:ext cx="7801560" cy="581400"/>
            <a:chOff x="656640" y="5257080"/>
            <a:chExt cx="7801560" cy="581400"/>
          </a:xfrm>
        </p:grpSpPr>
        <p:sp>
          <p:nvSpPr>
            <p:cNvPr id="677" name=""/>
            <p:cNvSpPr/>
            <p:nvPr/>
          </p:nvSpPr>
          <p:spPr>
            <a:xfrm>
              <a:off x="685800" y="5302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56640" y="5257080"/>
              <a:ext cx="43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finit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618120" y="6063480"/>
            <a:ext cx="83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791320" y="5606280"/>
            <a:ext cx="2420280" cy="581400"/>
            <a:chOff x="5791320" y="5606280"/>
            <a:chExt cx="2420280" cy="581400"/>
          </a:xfrm>
        </p:grpSpPr>
        <p:sp>
          <p:nvSpPr>
            <p:cNvPr id="681" name=""/>
            <p:cNvSpPr/>
            <p:nvPr/>
          </p:nvSpPr>
          <p:spPr>
            <a:xfrm>
              <a:off x="5791320" y="5683320"/>
              <a:ext cx="17524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26640" y="5606280"/>
              <a:ext cx="188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09480" y="5180400"/>
            <a:ext cx="7804440" cy="1038600"/>
            <a:chOff x="609480" y="5180400"/>
            <a:chExt cx="7804440" cy="1038600"/>
          </a:xfrm>
        </p:grpSpPr>
        <p:sp>
          <p:nvSpPr>
            <p:cNvPr id="684" name=""/>
            <p:cNvSpPr/>
            <p:nvPr/>
          </p:nvSpPr>
          <p:spPr>
            <a:xfrm>
              <a:off x="5486400" y="5180400"/>
              <a:ext cx="292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card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 = 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9480" y="5637600"/>
              <a:ext cx="632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All strings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GB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4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a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bb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quivalenc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0666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wo minimum state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2514600"/>
            <a:ext cx="807732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for the name of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51948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quivalence problem for FA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45712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ce Proble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22080" y="1108440"/>
            <a:ext cx="45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76520" y="22860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rot="5400000">
            <a:off x="3651840" y="2654640"/>
            <a:ext cx="38088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5760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971080" y="2514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047400" y="2590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1981080" y="2057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98108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146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2514240" y="2284920"/>
            <a:ext cx="76212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1938960" y="27090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5400000">
            <a:off x="2016720" y="27025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14600" y="2971800"/>
            <a:ext cx="45720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752480" y="2743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6232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90920" y="2514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7184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rot="10800000">
            <a:off x="5943960" y="2648520"/>
            <a:ext cx="380520" cy="39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1693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1693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6019920" y="2819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10280" y="2895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08660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6629400" y="2971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23040" y="2666880"/>
            <a:ext cx="685800" cy="465120"/>
          </a:xfrm>
          <a:custGeom>
            <a:avLst/>
            <a:gdLst/>
            <a:ahLst/>
            <a:rect l="l" t="t" r="r" b="b"/>
            <a:pathLst>
              <a:path w="432" h="293">
                <a:moveTo>
                  <a:pt x="0" y="0"/>
                </a:moveTo>
                <a:cubicBezTo>
                  <a:pt x="33" y="37"/>
                  <a:pt x="129" y="175"/>
                  <a:pt x="201" y="224"/>
                </a:cubicBezTo>
                <a:cubicBezTo>
                  <a:pt x="273" y="273"/>
                  <a:pt x="384" y="279"/>
                  <a:pt x="432" y="2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rot="5400000">
            <a:off x="7121880" y="24804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rot="16200000">
            <a:off x="7044840" y="24739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7467480" y="2438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85800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0102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866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flipV="1">
            <a:off x="2513880" y="31233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9436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77120" y="2057400"/>
            <a:ext cx="53316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55308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5308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6476400" y="22089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386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81032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676160" y="5180760"/>
            <a:ext cx="6172200" cy="550800"/>
            <a:chOff x="1676160" y="5180760"/>
            <a:chExt cx="6172200" cy="550800"/>
          </a:xfrm>
        </p:grpSpPr>
        <p:sp>
          <p:nvSpPr>
            <p:cNvPr id="734" name=""/>
            <p:cNvSpPr/>
            <p:nvPr/>
          </p:nvSpPr>
          <p:spPr>
            <a:xfrm rot="5400000">
              <a:off x="4685760" y="2171520"/>
              <a:ext cx="152640" cy="61722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60920 h 6172200"/>
                <a:gd name="textAreaBottom" fmla="*/ 6011280 h 617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73600" y="5180760"/>
              <a:ext cx="359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 minimum state F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4724280" y="175248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38280" y="3352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20720" y="3546720"/>
            <a:ext cx="3546360" cy="1530360"/>
            <a:chOff x="720720" y="3546720"/>
            <a:chExt cx="3546360" cy="1530360"/>
          </a:xfrm>
        </p:grpSpPr>
        <p:sp>
          <p:nvSpPr>
            <p:cNvPr id="739" name=""/>
            <p:cNvSpPr/>
            <p:nvPr/>
          </p:nvSpPr>
          <p:spPr>
            <a:xfrm>
              <a:off x="2666880" y="3581280"/>
              <a:ext cx="83844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66680" y="42670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3828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668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312336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200400" y="4419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08840" y="4495680"/>
              <a:ext cx="6148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0800000">
              <a:off x="2514600" y="457200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0988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 rot="5400000">
              <a:off x="1347120" y="451980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600200" y="42670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752480" y="4419720"/>
              <a:ext cx="76212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 flipV="1" rot="16200000">
              <a:off x="3772440" y="452052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0720" y="354672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835520" y="3470760"/>
            <a:ext cx="3699000" cy="1634760"/>
            <a:chOff x="4835520" y="3470760"/>
            <a:chExt cx="3699000" cy="1634760"/>
          </a:xfrm>
        </p:grpSpPr>
        <p:sp>
          <p:nvSpPr>
            <p:cNvPr id="754" name=""/>
            <p:cNvSpPr/>
            <p:nvPr/>
          </p:nvSpPr>
          <p:spPr>
            <a:xfrm>
              <a:off x="6248520" y="3505320"/>
              <a:ext cx="83808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181480" y="4343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00800" y="4038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29400" y="44960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086600" y="4343760"/>
              <a:ext cx="9907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7162920" y="4419720"/>
              <a:ext cx="8380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71360" y="4496040"/>
              <a:ext cx="6148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0800000">
              <a:off x="6477120" y="457236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0773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 rot="5400000">
              <a:off x="5538240" y="452016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1320" y="41911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43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 flipV="1" rot="16200000">
              <a:off x="8039880" y="452088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35520" y="347076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57000" y="5758920"/>
            <a:ext cx="7766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066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regular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80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88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98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8120" y="39625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8080" y="3962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1080" y="3962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66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09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57200" y="5073480"/>
            <a:ext cx="8001000" cy="1785600"/>
            <a:chOff x="457200" y="5073480"/>
            <a:chExt cx="8001000" cy="1785600"/>
          </a:xfrm>
        </p:grpSpPr>
        <p:sp>
          <p:nvSpPr>
            <p:cNvPr id="110" name=""/>
            <p:cNvSpPr/>
            <p:nvPr/>
          </p:nvSpPr>
          <p:spPr>
            <a:xfrm>
              <a:off x="838080" y="52261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52261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9000" y="50734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50734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6400" y="50734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6140520"/>
              <a:ext cx="106668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5987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56833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56833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56833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5530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6140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61405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1080" y="6140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8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9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0120" y="59878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7200" y="4419720"/>
            <a:ext cx="2590920" cy="840600"/>
            <a:chOff x="457200" y="4419720"/>
            <a:chExt cx="2590920" cy="840600"/>
          </a:xfrm>
        </p:grpSpPr>
        <p:sp>
          <p:nvSpPr>
            <p:cNvPr id="134" name=""/>
            <p:cNvSpPr/>
            <p:nvPr/>
          </p:nvSpPr>
          <p:spPr>
            <a:xfrm flipV="1" rot="5400000">
              <a:off x="1828800" y="3732480"/>
              <a:ext cx="228600" cy="2210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812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28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57200" y="4267080"/>
            <a:ext cx="2895480" cy="612360"/>
            <a:chOff x="457200" y="4267080"/>
            <a:chExt cx="2895480" cy="612360"/>
          </a:xfrm>
        </p:grpSpPr>
        <p:sp>
          <p:nvSpPr>
            <p:cNvPr id="139" name=""/>
            <p:cNvSpPr/>
            <p:nvPr/>
          </p:nvSpPr>
          <p:spPr>
            <a:xfrm flipV="1" rot="5400000">
              <a:off x="2400120" y="3922920"/>
              <a:ext cx="228600" cy="1067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62320" y="44197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066680"/>
            <a:ext cx="82296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regular language. Then, there exists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moves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visit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ta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00160" y="5375520"/>
            <a:ext cx="668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065320" y="487656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840" y="49521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438280" y="4266720"/>
            <a:ext cx="14479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114800" y="419076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638680" y="4114440"/>
            <a:ext cx="5335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172200" y="4191120"/>
            <a:ext cx="14479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04920" y="4437720"/>
            <a:ext cx="22089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962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962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962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2040" y="3504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3962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0640" y="2937240"/>
            <a:ext cx="303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3526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0666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(the number of stat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s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or more states. A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there exists a state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isits at least tw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52240" y="5409000"/>
            <a:ext cx="7343640" cy="1072440"/>
            <a:chOff x="552240" y="5409000"/>
            <a:chExt cx="7343640" cy="1072440"/>
          </a:xfrm>
        </p:grpSpPr>
        <p:sp>
          <p:nvSpPr>
            <p:cNvPr id="172" name=""/>
            <p:cNvSpPr/>
            <p:nvPr/>
          </p:nvSpPr>
          <p:spPr>
            <a:xfrm>
              <a:off x="2016360" y="5832720"/>
              <a:ext cx="58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2240" y="540900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03720" y="2971080"/>
            <a:ext cx="63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exis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821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2840" y="3885120"/>
            <a:ext cx="3048120" cy="112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06" y="4547"/>
                </a:moveTo>
                <a:arcTo wR="10800" hR="10800" stAng="-2122687" swAng="6100309"/>
                <a:lnTo>
                  <a:pt x="10800" y="10800"/>
                </a:lnTo>
                <a:close/>
              </a:path>
              <a:path fill="none" w="21600" h="21600">
                <a:moveTo>
                  <a:pt x="19606" y="4547"/>
                </a:moveTo>
                <a:arcTo wR="10800" hR="10800" stAng="-2122687" swAng="610030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28640" y="3772440"/>
            <a:ext cx="3047400" cy="1242360"/>
            <a:chOff x="3428640" y="3772440"/>
            <a:chExt cx="3047400" cy="1242360"/>
          </a:xfrm>
        </p:grpSpPr>
        <p:sp>
          <p:nvSpPr>
            <p:cNvPr id="178" name=""/>
            <p:cNvSpPr/>
            <p:nvPr/>
          </p:nvSpPr>
          <p:spPr>
            <a:xfrm>
              <a:off x="3733920" y="377244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428280" y="3884400"/>
              <a:ext cx="3047400" cy="11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529" y="4441"/>
                  </a:moveTo>
                  <a:arcTo wR="10800" hR="10800" stAng="-2164310" swAng="61419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529" y="4441"/>
                  </a:moveTo>
                  <a:arcTo wR="10800" hR="10800" stAng="-2164310" swAng="6141932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523880" y="4821120"/>
            <a:ext cx="3429000" cy="685800"/>
            <a:chOff x="1523880" y="4821120"/>
            <a:chExt cx="3429000" cy="685800"/>
          </a:xfrm>
        </p:grpSpPr>
        <p:sp>
          <p:nvSpPr>
            <p:cNvPr id="181" name=""/>
            <p:cNvSpPr/>
            <p:nvPr/>
          </p:nvSpPr>
          <p:spPr>
            <a:xfrm>
              <a:off x="426708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51256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5120" y="483912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57600" y="5125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33520" y="512604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952880" y="4821120"/>
            <a:ext cx="3581640" cy="685800"/>
            <a:chOff x="4952880" y="4821120"/>
            <a:chExt cx="3581640" cy="685800"/>
          </a:xfrm>
        </p:grpSpPr>
        <p:sp>
          <p:nvSpPr>
            <p:cNvPr id="187" name=""/>
            <p:cNvSpPr/>
            <p:nvPr/>
          </p:nvSpPr>
          <p:spPr>
            <a:xfrm>
              <a:off x="784872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24680" y="489708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5125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4839120"/>
              <a:ext cx="175284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91520" y="5125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010240" y="4257720"/>
            <a:ext cx="114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61960" y="4295520"/>
            <a:ext cx="117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3488760"/>
            <a:ext cx="3182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 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i + 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050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ere exist mo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" y="2010600"/>
            <a:ext cx="52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16304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2160" y="2772360"/>
            <a:ext cx="8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91000" y="277236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2738880"/>
            <a:ext cx="2209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25448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25448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6600" y="3229560"/>
            <a:ext cx="28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each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9080" y="3991680"/>
            <a:ext cx="12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7400" y="3957840"/>
            <a:ext cx="149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92120" y="3957840"/>
            <a:ext cx="1971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12720" y="3957840"/>
            <a:ext cx="168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39480" y="3957840"/>
            <a:ext cx="112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7480" y="39916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3520" y="4494960"/>
            <a:ext cx="8439840" cy="2269800"/>
            <a:chOff x="533520" y="4494960"/>
            <a:chExt cx="8439840" cy="2269800"/>
          </a:xfrm>
        </p:grpSpPr>
        <p:sp>
          <p:nvSpPr>
            <p:cNvPr id="220" name=""/>
            <p:cNvSpPr/>
            <p:nvPr/>
          </p:nvSpPr>
          <p:spPr>
            <a:xfrm>
              <a:off x="533520" y="449496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7120" y="4846320"/>
              <a:ext cx="8436240" cy="19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ff66ff"/>
                  </a:solidFill>
                  <a:latin typeface="Times New Roman"/>
                </a:rPr>
                <a:t> 1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so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i + 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For eac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0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refore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Q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295280" y="1443240"/>
            <a:ext cx="753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    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  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066680"/>
            <a:ext cx="83822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ased on the pumping lemma, we often make a proof by contradiction to demonstrate that a language is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228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12160" y="3962520"/>
            <a:ext cx="7805880" cy="1571040"/>
            <a:chOff x="812160" y="3962520"/>
            <a:chExt cx="7805880" cy="1571040"/>
          </a:xfrm>
        </p:grpSpPr>
        <p:sp>
          <p:nvSpPr>
            <p:cNvPr id="233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5400" y="4288680"/>
              <a:ext cx="7802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uvw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, show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2160" y="4647240"/>
              <a:ext cx="5438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0320" y="5028120"/>
              <a:ext cx="5373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241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244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248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10760" y="5942880"/>
              <a:ext cx="2689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regula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e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0} is not re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676520"/>
            <a:ext cx="7772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regular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                 pumping 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9718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39880" y="4038480"/>
            <a:ext cx="2741400" cy="992160"/>
            <a:chOff x="839880" y="4038480"/>
            <a:chExt cx="2741400" cy="992160"/>
          </a:xfrm>
        </p:grpSpPr>
        <p:sp>
          <p:nvSpPr>
            <p:cNvPr id="260" name=""/>
            <p:cNvSpPr/>
            <p:nvPr/>
          </p:nvSpPr>
          <p:spPr>
            <a:xfrm flipV="1">
              <a:off x="914400" y="4038480"/>
              <a:ext cx="228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8960" y="4038480"/>
              <a:ext cx="838440" cy="4572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360" y="4038480"/>
              <a:ext cx="14479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952200" y="45338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2781000" y="3924000"/>
              <a:ext cx="152280" cy="1447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1561680" y="4228920"/>
              <a:ext cx="152280" cy="8384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9880" y="457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49000" y="4570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68680" y="4570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834840" y="396144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 rot="16200000">
            <a:off x="1562040" y="323748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5680" y="35042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 rot="16200000">
            <a:off x="2895480" y="3351960"/>
            <a:ext cx="152280" cy="121896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14040" y="4572000"/>
            <a:ext cx="1295640" cy="1359000"/>
            <a:chOff x="914040" y="4572000"/>
            <a:chExt cx="1295640" cy="1359000"/>
          </a:xfrm>
        </p:grpSpPr>
        <p:sp>
          <p:nvSpPr>
            <p:cNvPr id="274" name=""/>
            <p:cNvSpPr/>
            <p:nvPr/>
          </p:nvSpPr>
          <p:spPr>
            <a:xfrm rot="5400000">
              <a:off x="1409040" y="4457520"/>
              <a:ext cx="152640" cy="11430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510552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4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962520" y="3581280"/>
            <a:ext cx="464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01520" y="3885120"/>
            <a:ext cx="1904040" cy="610200"/>
            <a:chOff x="6401520" y="3885120"/>
            <a:chExt cx="1904040" cy="610200"/>
          </a:xfrm>
        </p:grpSpPr>
        <p:sp>
          <p:nvSpPr>
            <p:cNvPr id="280" name=""/>
            <p:cNvSpPr/>
            <p:nvPr/>
          </p:nvSpPr>
          <p:spPr>
            <a:xfrm>
              <a:off x="6401520" y="3885120"/>
              <a:ext cx="146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16200000">
              <a:off x="6667200" y="4152240"/>
              <a:ext cx="152280" cy="533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3680 h 533160"/>
                <a:gd name="textAreaBottom" fmla="*/ 519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16200000">
              <a:off x="7581600" y="3771000"/>
              <a:ext cx="152280" cy="12956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974040" y="4418640"/>
            <a:ext cx="5007960" cy="1068840"/>
            <a:chOff x="3974040" y="4418640"/>
            <a:chExt cx="5007960" cy="1068840"/>
          </a:xfrm>
        </p:grpSpPr>
        <p:sp>
          <p:nvSpPr>
            <p:cNvPr id="284" name=""/>
            <p:cNvSpPr/>
            <p:nvPr/>
          </p:nvSpPr>
          <p:spPr>
            <a:xfrm flipV="1">
              <a:off x="6477120" y="4494960"/>
              <a:ext cx="2286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81680" y="4495680"/>
              <a:ext cx="15242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25280" y="4418640"/>
              <a:ext cx="25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 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6514920" y="4990680"/>
              <a:ext cx="151920" cy="2286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7467840" y="4343040"/>
              <a:ext cx="151920" cy="152424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02600" y="502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7000" y="502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74040" y="4419000"/>
              <a:ext cx="2298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GB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809880" y="3657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191120" y="4952880"/>
            <a:ext cx="2438280" cy="947160"/>
            <a:chOff x="4191120" y="4952880"/>
            <a:chExt cx="2438280" cy="947160"/>
          </a:xfrm>
        </p:grpSpPr>
        <p:sp>
          <p:nvSpPr>
            <p:cNvPr id="294" name=""/>
            <p:cNvSpPr/>
            <p:nvPr/>
          </p:nvSpPr>
          <p:spPr>
            <a:xfrm>
              <a:off x="4572000" y="4952880"/>
              <a:ext cx="1371600" cy="533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91120" y="5410080"/>
              <a:ext cx="2438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</a:rPr>
                <a:t>ontradiction!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62120" y="6019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not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te on Use of Pumping Lem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5680" y="106632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mping lem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8200" y="1923120"/>
            <a:ext cx="203724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6200" y="1828080"/>
            <a:ext cx="4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205740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4680" y="1923120"/>
            <a:ext cx="306540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 and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2520" y="15994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93600" y="3580920"/>
            <a:ext cx="8780760" cy="2791800"/>
            <a:chOff x="93600" y="3580920"/>
            <a:chExt cx="8780760" cy="2791800"/>
          </a:xfrm>
        </p:grpSpPr>
        <p:sp>
          <p:nvSpPr>
            <p:cNvPr id="306" name=""/>
            <p:cNvSpPr/>
            <p:nvPr/>
          </p:nvSpPr>
          <p:spPr>
            <a:xfrm>
              <a:off x="6186960" y="4437720"/>
              <a:ext cx="203724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regul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76920" y="464832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62160" y="4437720"/>
              <a:ext cx="306540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ist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k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0 and 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4360" y="4342680"/>
              <a:ext cx="49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00600" y="419004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3600" y="3580920"/>
              <a:ext cx="878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However, the next implication is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incorrec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3520" y="5181480"/>
              <a:ext cx="815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We 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</a:rPr>
                <a:t>cannot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use the pumping lemma to prove that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is regular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60520" y="4419360"/>
            <a:ext cx="8229600" cy="609840"/>
            <a:chOff x="560520" y="4419360"/>
            <a:chExt cx="8229600" cy="609840"/>
          </a:xfrm>
        </p:grpSpPr>
        <p:sp>
          <p:nvSpPr>
            <p:cNvPr id="314" name=""/>
            <p:cNvSpPr/>
            <p:nvPr/>
          </p:nvSpPr>
          <p:spPr>
            <a:xfrm flipV="1">
              <a:off x="560520" y="441936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0520" y="441972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33520" y="2590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in application of the pumping lem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roof by contradiction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regu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1:54Z</dcterms:modified>
  <cp:revision>144</cp:revision>
  <dc:subject/>
  <dc:title>Properties of Regular Languages</dc:title>
</cp:coreProperties>
</file>