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E6E-CD62-4E13-BD74-807EA6E7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F62-127D-4D99-BD34-B151F20E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4FC-1F50-4ECC-A328-6C2AEC4D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327-AE09-4477-9DAE-CE2029CF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91D-6BCB-4E85-8BD0-885E6EF6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E91-6561-491E-B91F-2094D457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448-1598-4B1E-8637-813D61DD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3BC-4F83-4B56-B152-55DA81A8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DD5-3C88-47F3-8054-F4397537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BB4-D7E4-4BFF-9048-6A19B9F1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0DA-B91B-4B88-95F8-B0A4E570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81A-2C52-4844-AE97-4957FA84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A148-A33E-4098-8D33-F291CE55FD4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0:41Z</dcterms:modified>
  <cp:revision>289</cp:revision>
  <dc:subject/>
  <dc:title>Bottom-Up Parsing</dc:title>
</cp:coreProperties>
</file>