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916-E0D8-4A36-8C34-742027B6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CAA-4467-4527-BA46-6BF2A219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44D-079B-4BDC-840D-B86CF1FA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1C7-79D9-4F58-9B6B-7B17EA90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BC1-BABD-44F8-9CB3-F580DF1E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941-8271-4AE5-AAB4-AB7BC830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5FA-CD23-479E-AF4A-0C9A33B1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5E8-6081-4D7E-AB16-E940B250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672-47D9-4A7E-8D8F-C65A074F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1CF-5A57-4D91-8C15-46E6EF14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038-B5BC-4C3B-8C0E-AB5F4C5F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B8F-6382-4530-B71D-4EF167E8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252E-FBD0-4AF9-9A4B-FE8C7263322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746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3716280"/>
            <a:ext cx="61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an Luk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á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3:56:08Z</dcterms:modified>
  <cp:revision>151</cp:revision>
  <dc:subject/>
  <dc:title>Alphabets, Strings, and Languages</dc:title>
</cp:coreProperties>
</file>