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1F55-3271-4385-A068-DFE0C887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672C-A014-44A4-B76D-32C7A929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94A-383F-4638-A447-9A1F1BC8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B2B-F0A1-42A8-8E4C-0A6CAAAE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D4AD-D40D-4EB1-929D-D15087A7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3264-1173-4665-B16B-5942DEB8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8CF-2B35-4A7D-B66D-79BA2603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3D0-CA74-4E67-BF89-028B89B9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68B5-E86D-4E92-B105-B0454EB8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2D9-52EB-4348-AF74-000DCF2E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57B-EB81-4EF4-BD93-FF0F84D2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E00F-6AD8-4228-8C3C-AD5FD599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EB16-FFBB-4FA9-8BAF-5E1F3C013EC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exical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1219320"/>
            <a:ext cx="84312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get_Next_Tok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var TOKEN: ...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declaration, ...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''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string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S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ctual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pea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mbol = getchar(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next charact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a'..'z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1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dentifi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31720" y="5401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59520" y="5448240"/>
            <a:ext cx="676080" cy="717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230800" y="5529240"/>
            <a:ext cx="52704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rot="14620200">
            <a:off x="4726800" y="5782680"/>
            <a:ext cx="452160" cy="6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266160" y="525888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213360" y="59068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76600" y="5442120"/>
            <a:ext cx="376560" cy="39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680240" y="5157720"/>
            <a:ext cx="27648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54468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844960" y="580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0'..'9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2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411600" y="480852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7360" y="509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720" y="5274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66400" y="5122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942720" y="519912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552920" y="5438520"/>
            <a:ext cx="1387440" cy="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2720" y="458964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896360" y="474120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64120" y="44362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2000" y="535140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3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219320"/>
            <a:ext cx="8431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: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q3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ssignment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736960" y="3645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9272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13960" y="51912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69064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062240" y="4437000"/>
            <a:ext cx="1230480" cy="9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368600" y="43520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68136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300480" y="5572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378240" y="503784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50160" y="519048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81160" y="53434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4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+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ADDI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*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MULTIPLICA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716360" y="562572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8360" y="53006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745240" y="3859920"/>
            <a:ext cx="2989800" cy="1524960"/>
            <a:chOff x="5745240" y="3859920"/>
            <a:chExt cx="2989800" cy="1524960"/>
          </a:xfrm>
        </p:grpSpPr>
        <p:sp>
          <p:nvSpPr>
            <p:cNvPr id="822" name=""/>
            <p:cNvSpPr/>
            <p:nvPr/>
          </p:nvSpPr>
          <p:spPr>
            <a:xfrm>
              <a:off x="7040520" y="386064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16840" y="39369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745240" y="4394160"/>
              <a:ext cx="13716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56880" y="4317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877880" y="40132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37960" y="3859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821200" y="4622400"/>
            <a:ext cx="2925720" cy="914760"/>
            <a:chOff x="5821200" y="4622400"/>
            <a:chExt cx="2925720" cy="914760"/>
          </a:xfrm>
        </p:grpSpPr>
        <p:sp>
          <p:nvSpPr>
            <p:cNvPr id="829" name=""/>
            <p:cNvSpPr/>
            <p:nvPr/>
          </p:nvSpPr>
          <p:spPr>
            <a:xfrm>
              <a:off x="6964200" y="4699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40520" y="4775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821200" y="5156280"/>
              <a:ext cx="11430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08800" y="469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77880" y="477504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37600" y="4622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5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l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{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p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s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651280" y="357336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96000" y="3693240"/>
            <a:ext cx="3027960" cy="762840"/>
            <a:chOff x="5796000" y="3693240"/>
            <a:chExt cx="3027960" cy="762840"/>
          </a:xfrm>
        </p:grpSpPr>
        <p:sp>
          <p:nvSpPr>
            <p:cNvPr id="841" name=""/>
            <p:cNvSpPr/>
            <p:nvPr/>
          </p:nvSpPr>
          <p:spPr>
            <a:xfrm>
              <a:off x="5796000" y="4149720"/>
              <a:ext cx="1485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0040" y="36932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1720" y="3770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58040" y="38466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43840" y="39225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26880" y="38458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91360" y="4226760"/>
            <a:ext cx="1066320" cy="2227320"/>
            <a:chOff x="6291360" y="4226760"/>
            <a:chExt cx="1066320" cy="2227320"/>
          </a:xfrm>
        </p:grpSpPr>
        <p:sp>
          <p:nvSpPr>
            <p:cNvPr id="848" name=""/>
            <p:cNvSpPr/>
            <p:nvPr/>
          </p:nvSpPr>
          <p:spPr>
            <a:xfrm>
              <a:off x="6750720" y="4226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9136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7680" y="4913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5400000">
              <a:off x="6442920" y="559872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94240" y="5903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824520" y="430380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281720" y="4379040"/>
            <a:ext cx="780120" cy="2075040"/>
            <a:chOff x="7281720" y="4379040"/>
            <a:chExt cx="780120" cy="2075040"/>
          </a:xfrm>
        </p:grpSpPr>
        <p:sp>
          <p:nvSpPr>
            <p:cNvPr id="855" name=""/>
            <p:cNvSpPr/>
            <p:nvPr/>
          </p:nvSpPr>
          <p:spPr>
            <a:xfrm>
              <a:off x="7662600" y="4456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4760" y="4379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8172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57680" y="4913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83880" y="590328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7434000" y="5599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V="1">
            <a:off x="4276800" y="5682240"/>
            <a:ext cx="3805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81600" y="4364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94520" y="5156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53360" y="57074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4160" y="5022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6"/>
            <a:endCxn id="839" idx="4"/>
          </p:cNvCxnSpPr>
          <p:nvPr/>
        </p:nvCxnSpPr>
        <p:spPr>
          <a:xfrm flipV="1">
            <a:off x="4828680" y="4638600"/>
            <a:ext cx="624600" cy="727560"/>
          </a:xfrm>
          <a:prstGeom prst="curvedConnector2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0"/>
            <a:endCxn id="839" idx="2"/>
          </p:cNvCxnSpPr>
          <p:nvPr/>
        </p:nvCxnSpPr>
        <p:spPr>
          <a:xfrm flipH="1" flipV="1" rot="5400000">
            <a:off x="4415400" y="4327560"/>
            <a:ext cx="727560" cy="6246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6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8431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1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a'..'z', 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is_keywor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str) th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keyword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get_keyword(str)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1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63720" y="53870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5590440" y="5433840"/>
            <a:ext cx="676440" cy="717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661720" y="5514840"/>
            <a:ext cx="52740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rot="14620200">
            <a:off x="5159880" y="5769000"/>
            <a:ext cx="45180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697800" y="524484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645360" y="58924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08600" y="5427720"/>
            <a:ext cx="376200" cy="398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11880" y="514368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7640" y="5432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76600" y="57913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2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conversion value of str to 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2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895880" y="4950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51640" y="5238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53000" y="541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350680" y="52642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427720" y="534024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037200" y="5580000"/>
            <a:ext cx="1387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427000" y="473076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380640" y="488232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49120" y="45777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86280" y="54928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8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219320"/>
            <a:ext cx="84312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q3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q3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743520" y="3573360"/>
            <a:ext cx="276120" cy="31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99280" y="38624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620520" y="511956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69720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068800" y="4365720"/>
            <a:ext cx="1230480" cy="90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375160" y="4280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68792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307040" y="5500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384800" y="49665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6720" y="511884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87720" y="5272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9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219320"/>
            <a:ext cx="84312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6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=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g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N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&g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 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T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6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3800" y="1268280"/>
            <a:ext cx="466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0720" y="1268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059600" y="1627920"/>
            <a:ext cx="1542240" cy="1243800"/>
            <a:chOff x="7059600" y="1627920"/>
            <a:chExt cx="1542240" cy="1243800"/>
          </a:xfrm>
        </p:grpSpPr>
        <p:sp>
          <p:nvSpPr>
            <p:cNvPr id="914" name=""/>
            <p:cNvSpPr/>
            <p:nvPr/>
          </p:nvSpPr>
          <p:spPr>
            <a:xfrm flipH="1">
              <a:off x="7596360" y="1916280"/>
              <a:ext cx="28872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10880" y="1627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59600" y="218592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920" y="2262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821720" y="23385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4760" y="22615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068880" y="2642400"/>
            <a:ext cx="1067040" cy="2227320"/>
            <a:chOff x="6068880" y="2642400"/>
            <a:chExt cx="1067040" cy="2227320"/>
          </a:xfrm>
        </p:grpSpPr>
        <p:sp>
          <p:nvSpPr>
            <p:cNvPr id="921" name=""/>
            <p:cNvSpPr/>
            <p:nvPr/>
          </p:nvSpPr>
          <p:spPr>
            <a:xfrm>
              <a:off x="6528240" y="264240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6888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5200" y="3328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5400000">
              <a:off x="6221160" y="4014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1760" y="431892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602400" y="2719440"/>
              <a:ext cx="5335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059600" y="2795040"/>
            <a:ext cx="780120" cy="2074680"/>
            <a:chOff x="7059600" y="2795040"/>
            <a:chExt cx="780120" cy="2074680"/>
          </a:xfrm>
        </p:grpSpPr>
        <p:sp>
          <p:nvSpPr>
            <p:cNvPr id="928" name=""/>
            <p:cNvSpPr/>
            <p:nvPr/>
          </p:nvSpPr>
          <p:spPr>
            <a:xfrm>
              <a:off x="7440480" y="28717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42640" y="2795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60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5920" y="33289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61760" y="43189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5400000">
              <a:off x="7211160" y="40143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0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1219320"/>
            <a:ext cx="84312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com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}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 := 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start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p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til 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973480" y="306864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3240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99000" y="517788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3800" y="38595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16720" y="4651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74120" y="520272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720" y="4518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43" idx="6"/>
            <a:endCxn id="938" idx="4"/>
          </p:cNvCxnSpPr>
          <p:nvPr/>
        </p:nvCxnSpPr>
        <p:spPr>
          <a:xfrm flipV="1">
            <a:off x="5151240" y="4133880"/>
            <a:ext cx="624600" cy="727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43" idx="0"/>
            <a:endCxn id="938" idx="2"/>
          </p:cNvCxnSpPr>
          <p:nvPr/>
        </p:nvCxnSpPr>
        <p:spPr>
          <a:xfrm flipH="1" flipV="1" rot="5400000">
            <a:off x="4737600" y="3822840"/>
            <a:ext cx="727560" cy="624600"/>
          </a:xfrm>
          <a:prstGeom prst="curvedConnector2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4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7180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8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2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1952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6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60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048120"/>
            <a:ext cx="3276720" cy="3200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11880" y="3580200"/>
            <a:ext cx="2593440" cy="1602720"/>
            <a:chOff x="5411880" y="3580200"/>
            <a:chExt cx="2593440" cy="1602720"/>
          </a:xfrm>
        </p:grpSpPr>
        <p:sp>
          <p:nvSpPr>
            <p:cNvPr id="70" name=""/>
            <p:cNvSpPr/>
            <p:nvPr/>
          </p:nvSpPr>
          <p:spPr>
            <a:xfrm>
              <a:off x="6324480" y="4038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784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6960" y="4723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03848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358020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720" y="4037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680" y="40384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31200" y="4342320"/>
            <a:ext cx="1983600" cy="916920"/>
            <a:chOff x="6631200" y="4342320"/>
            <a:chExt cx="1983600" cy="916920"/>
          </a:xfrm>
        </p:grpSpPr>
        <p:sp>
          <p:nvSpPr>
            <p:cNvPr id="78" name=""/>
            <p:cNvSpPr/>
            <p:nvPr/>
          </p:nvSpPr>
          <p:spPr>
            <a:xfrm>
              <a:off x="7469280" y="479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1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4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391160" y="449604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0120" y="449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49604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774560" y="4723200"/>
            <a:ext cx="773640" cy="459720"/>
            <a:chOff x="7774560" y="4723200"/>
            <a:chExt cx="773640" cy="459720"/>
          </a:xfrm>
        </p:grpSpPr>
        <p:sp>
          <p:nvSpPr>
            <p:cNvPr id="85" name=""/>
            <p:cNvSpPr/>
            <p:nvPr/>
          </p:nvSpPr>
          <p:spPr>
            <a:xfrm>
              <a:off x="7774560" y="472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83120" y="4723200"/>
            <a:ext cx="435240" cy="459720"/>
            <a:chOff x="6783120" y="4723200"/>
            <a:chExt cx="435240" cy="459720"/>
          </a:xfrm>
        </p:grpSpPr>
        <p:sp>
          <p:nvSpPr>
            <p:cNvPr id="88" name=""/>
            <p:cNvSpPr/>
            <p:nvPr/>
          </p:nvSpPr>
          <p:spPr>
            <a:xfrm>
              <a:off x="678312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1028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4572000"/>
            <a:ext cx="22860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1447920" cy="762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98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90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71800" y="5486400"/>
            <a:ext cx="3048120" cy="685800"/>
            <a:chOff x="2971800" y="5486400"/>
            <a:chExt cx="304812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5334120" y="5486400"/>
              <a:ext cx="685800" cy="685800"/>
              <a:chOff x="5334120" y="5486400"/>
              <a:chExt cx="68580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4120" y="5486400"/>
                <a:ext cx="685800" cy="6858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586764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563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5400000">
            <a:off x="2476080" y="5676840"/>
            <a:ext cx="1219320" cy="228600"/>
          </a:xfrm>
          <a:custGeom>
            <a:avLst/>
            <a:gdLst>
              <a:gd name="textAreaLeft" fmla="*/ 186840 w 1219320"/>
              <a:gd name="textAreaRight" fmla="*/ 1032480 w 1219320"/>
              <a:gd name="textAreaTop" fmla="*/ 34920 h 228600"/>
              <a:gd name="textAreaBottom" fmla="*/ 193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3" y="21600"/>
                </a:lnTo>
                <a:lnTo>
                  <a:pt x="2807" y="216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486400"/>
            <a:ext cx="99072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90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6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040" y="5333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86728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800" y="5486400"/>
            <a:ext cx="3505320" cy="685800"/>
            <a:chOff x="2971800" y="5486400"/>
            <a:chExt cx="3505320" cy="685800"/>
          </a:xfrm>
        </p:grpSpPr>
        <p:sp>
          <p:nvSpPr>
            <p:cNvPr id="110" name=""/>
            <p:cNvSpPr/>
            <p:nvPr/>
          </p:nvSpPr>
          <p:spPr>
            <a:xfrm>
              <a:off x="6095880" y="5486400"/>
              <a:ext cx="3812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586764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25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16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71800" y="5486400"/>
            <a:ext cx="4419720" cy="685800"/>
            <a:chOff x="2971800" y="5486400"/>
            <a:chExt cx="4419720" cy="685800"/>
          </a:xfrm>
        </p:grpSpPr>
        <p:sp>
          <p:nvSpPr>
            <p:cNvPr id="120" name=""/>
            <p:cNvSpPr/>
            <p:nvPr/>
          </p:nvSpPr>
          <p:spPr>
            <a:xfrm>
              <a:off x="6553080" y="5486400"/>
              <a:ext cx="8384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586764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486400"/>
            <a:ext cx="11430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64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486400"/>
            <a:ext cx="4724280" cy="685800"/>
            <a:chOff x="2971800" y="548640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7467480" y="5486400"/>
              <a:ext cx="2286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867640"/>
              <a:ext cx="76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47920" y="5842080"/>
            <a:ext cx="685800" cy="291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2960" y="533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71800" y="5486400"/>
            <a:ext cx="5410080" cy="685800"/>
            <a:chOff x="2971800" y="5486400"/>
            <a:chExt cx="5410080" cy="685800"/>
          </a:xfrm>
        </p:grpSpPr>
        <p:sp>
          <p:nvSpPr>
            <p:cNvPr id="137" name=""/>
            <p:cNvSpPr/>
            <p:nvPr/>
          </p:nvSpPr>
          <p:spPr>
            <a:xfrm>
              <a:off x="7772400" y="5486400"/>
              <a:ext cx="6094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48720" y="586764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0"/>
            <a:ext cx="3353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000" y="281880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568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1800" cy="3812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190512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0512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95480" y="205740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Get nex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144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d next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818800"/>
            <a:ext cx="8229600" cy="3733920"/>
            <a:chOff x="533520" y="2818800"/>
            <a:chExt cx="8229600" cy="3733920"/>
          </a:xfrm>
        </p:grpSpPr>
        <p:sp>
          <p:nvSpPr>
            <p:cNvPr id="177" name=""/>
            <p:cNvSpPr/>
            <p:nvPr/>
          </p:nvSpPr>
          <p:spPr>
            <a:xfrm>
              <a:off x="533520" y="2895480"/>
              <a:ext cx="8229600" cy="36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33560"/>
              <a:ext cx="228600" cy="380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047760"/>
              <a:ext cx="3276720" cy="3200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40384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7840" y="441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6960" y="441792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403848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357984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6120" y="4189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8680" y="4038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4571640"/>
              <a:ext cx="2286000" cy="1676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5333760"/>
              <a:ext cx="1447920" cy="761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571640"/>
              <a:ext cx="2133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xical analy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5181480"/>
              <a:ext cx="68580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556236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5638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181480"/>
              <a:ext cx="38124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556236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3760" y="5256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57146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5790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Source progra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00" y="2818800"/>
              <a:ext cx="17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047760"/>
              <a:ext cx="289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Syntax analyz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365652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Pos := Rate*6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2560" y="5637600"/>
              <a:ext cx="132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4880" y="5638680"/>
              <a:ext cx="3670200" cy="474120"/>
            </a:xfrm>
            <a:custGeom>
              <a:avLst/>
              <a:gdLst/>
              <a:ahLst/>
              <a:rect l="l" t="t" r="r" b="b"/>
              <a:pathLst>
                <a:path w="2312" h="299">
                  <a:moveTo>
                    <a:pt x="2312" y="0"/>
                  </a:moveTo>
                  <a:cubicBezTo>
                    <a:pt x="2273" y="43"/>
                    <a:pt x="2292" y="213"/>
                    <a:pt x="2080" y="256"/>
                  </a:cubicBezTo>
                  <a:cubicBezTo>
                    <a:pt x="1868" y="299"/>
                    <a:pt x="1387" y="269"/>
                    <a:pt x="1040" y="256"/>
                  </a:cubicBezTo>
                  <a:cubicBezTo>
                    <a:pt x="693" y="243"/>
                    <a:pt x="217" y="193"/>
                    <a:pt x="0" y="1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181480"/>
              <a:ext cx="990720" cy="68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5760" y="4228920"/>
              <a:ext cx="1549440" cy="990360"/>
            </a:xfrm>
            <a:custGeom>
              <a:avLst/>
              <a:gdLst/>
              <a:ahLst/>
              <a:rect l="l" t="t" r="r" b="b"/>
              <a:pathLst>
                <a:path w="976" h="624">
                  <a:moveTo>
                    <a:pt x="0" y="624"/>
                  </a:moveTo>
                  <a:cubicBezTo>
                    <a:pt x="109" y="607"/>
                    <a:pt x="517" y="601"/>
                    <a:pt x="656" y="520"/>
                  </a:cubicBezTo>
                  <a:cubicBezTo>
                    <a:pt x="795" y="439"/>
                    <a:pt x="779" y="223"/>
                    <a:pt x="832" y="136"/>
                  </a:cubicBezTo>
                  <a:cubicBezTo>
                    <a:pt x="885" y="49"/>
                    <a:pt x="946" y="28"/>
                    <a:pt x="9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265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5520" y="3884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3560" y="40374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6760" y="54849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74320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09480" y="2895480"/>
            <a:ext cx="7848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 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ken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8120" y="3885840"/>
            <a:ext cx="120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9040" y="3885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361600" y="373356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51433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53800" y="3885840"/>
            <a:ext cx="12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69721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1143000"/>
            <a:ext cx="8305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okens represent every SP lexeme in a uniform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 general, their form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800" spc="-1" strike="noStrike">
                <a:solidFill>
                  <a:srgbClr val="ff9933"/>
                </a:solidFill>
                <a:latin typeface="Times New Roman"/>
              </a:rPr>
              <a:t>typ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8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56386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ractice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ten use tokens whose attributes va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44197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4952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44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44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576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76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008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1560" y="1828080"/>
            <a:ext cx="13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 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16765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44197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7238520" y="167616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05120" y="2286000"/>
            <a:ext cx="1143000" cy="2057400"/>
            <a:chOff x="1905120" y="2286000"/>
            <a:chExt cx="1143000" cy="2057400"/>
          </a:xfrm>
        </p:grpSpPr>
        <p:sp>
          <p:nvSpPr>
            <p:cNvPr id="984" name=""/>
            <p:cNvSpPr/>
            <p:nvPr/>
          </p:nvSpPr>
          <p:spPr>
            <a:xfrm rot="5400000">
              <a:off x="19810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8120" y="2590560"/>
              <a:ext cx="0" cy="1752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590920" y="43434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574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0574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2286000"/>
            <a:ext cx="381240" cy="761760"/>
            <a:chOff x="1371240" y="2286000"/>
            <a:chExt cx="381240" cy="761760"/>
          </a:xfrm>
        </p:grpSpPr>
        <p:sp>
          <p:nvSpPr>
            <p:cNvPr id="990" name=""/>
            <p:cNvSpPr/>
            <p:nvPr/>
          </p:nvSpPr>
          <p:spPr>
            <a:xfrm rot="5400000">
              <a:off x="14475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38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88476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648320" y="2286000"/>
            <a:ext cx="1143000" cy="2514600"/>
            <a:chOff x="4648320" y="2286000"/>
            <a:chExt cx="1143000" cy="2514600"/>
          </a:xfrm>
        </p:grpSpPr>
        <p:sp>
          <p:nvSpPr>
            <p:cNvPr id="995" name=""/>
            <p:cNvSpPr/>
            <p:nvPr/>
          </p:nvSpPr>
          <p:spPr>
            <a:xfrm rot="5400000">
              <a:off x="4724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2590560"/>
              <a:ext cx="0" cy="22100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4120" y="48006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8006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114440" y="2286000"/>
            <a:ext cx="381240" cy="761760"/>
            <a:chOff x="4114440" y="2286000"/>
            <a:chExt cx="381240" cy="761760"/>
          </a:xfrm>
        </p:grpSpPr>
        <p:sp>
          <p:nvSpPr>
            <p:cNvPr id="1001" name=""/>
            <p:cNvSpPr/>
            <p:nvPr/>
          </p:nvSpPr>
          <p:spPr>
            <a:xfrm rot="5400000">
              <a:off x="41907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670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70428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467120" y="2286000"/>
            <a:ext cx="991080" cy="1600200"/>
            <a:chOff x="7467120" y="2286000"/>
            <a:chExt cx="991080" cy="1600200"/>
          </a:xfrm>
        </p:grpSpPr>
        <p:sp>
          <p:nvSpPr>
            <p:cNvPr id="1006" name=""/>
            <p:cNvSpPr/>
            <p:nvPr/>
          </p:nvSpPr>
          <p:spPr>
            <a:xfrm rot="5400000">
              <a:off x="754344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58200" y="2590560"/>
              <a:ext cx="0" cy="1295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01000" y="38862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20120" y="2590560"/>
              <a:ext cx="8380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2012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934320" y="2286000"/>
            <a:ext cx="380880" cy="761760"/>
            <a:chOff x="6934320" y="2286000"/>
            <a:chExt cx="380880" cy="761760"/>
          </a:xfrm>
        </p:grpSpPr>
        <p:sp>
          <p:nvSpPr>
            <p:cNvPr id="1012" name=""/>
            <p:cNvSpPr/>
            <p:nvPr/>
          </p:nvSpPr>
          <p:spPr>
            <a:xfrm rot="5400000">
              <a:off x="7010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8660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8660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440" y="5562000"/>
            <a:ext cx="76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tokens: 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62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726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9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58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856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5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5104080" y="6019920"/>
            <a:ext cx="3155400" cy="534240"/>
            <a:chOff x="5104080" y="6019920"/>
            <a:chExt cx="3155400" cy="534240"/>
          </a:xfrm>
        </p:grpSpPr>
        <p:sp>
          <p:nvSpPr>
            <p:cNvPr id="1023" name=""/>
            <p:cNvSpPr/>
            <p:nvPr/>
          </p:nvSpPr>
          <p:spPr>
            <a:xfrm>
              <a:off x="5104080" y="609444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omogenous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6665760" y="4609800"/>
              <a:ext cx="151920" cy="29718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4876920" y="57150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289548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okens have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1143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tingui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3733920"/>
            <a:ext cx="1447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6920" y="48006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578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38098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3423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keyword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084800" y="5256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4648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0" y="4038480"/>
            <a:ext cx="533160" cy="69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00920" y="4419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3504600"/>
            <a:ext cx="137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048120" y="4724280"/>
            <a:ext cx="1752480" cy="533520"/>
          </a:xfrm>
          <a:prstGeom prst="leftArrow">
            <a:avLst>
              <a:gd name="adj1" fmla="val 50000"/>
              <a:gd name="adj2" fmla="val 821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088760" y="3961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400080" y="41148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297440" y="5256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7440" y="4113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3885480"/>
            <a:ext cx="2222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Is this lexeme in the ta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5200" y="365724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400080" y="53341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01520" y="4876560"/>
            <a:ext cx="67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720" y="243756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table of key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11880" y="6246720"/>
            <a:ext cx="66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8840" y="175176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9712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06600" y="17517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74920" y="16758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03120" y="1751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2940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17517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15000" y="1295280"/>
            <a:ext cx="27432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Identifier Tab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19810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Id1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3868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Pos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1143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al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485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34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77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71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4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29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77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674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467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2.3.4.5.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43600" y="1295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274320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771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057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934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1676520"/>
            <a:ext cx="487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hort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pty spaces in memory (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ong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ngth(Id)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55740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00532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85800" y="3733920"/>
            <a:ext cx="7696080" cy="2867400"/>
            <a:chOff x="685800" y="3733920"/>
            <a:chExt cx="7696080" cy="2867400"/>
          </a:xfrm>
        </p:grpSpPr>
        <p:sp>
          <p:nvSpPr>
            <p:cNvPr id="1098" name=""/>
            <p:cNvSpPr/>
            <p:nvPr/>
          </p:nvSpPr>
          <p:spPr>
            <a:xfrm>
              <a:off x="685800" y="37339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0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67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95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24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53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81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0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8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67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96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34120" y="601992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Courier New"/>
                </a:rPr>
                <a:t>Id1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Pos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848720" y="601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0920" y="3886200"/>
              <a:ext cx="2286000" cy="2286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24080" y="449568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4080" y="487692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457200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3920" y="4952880"/>
              <a:ext cx="3808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14600" y="38862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5257800"/>
              <a:ext cx="83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472428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6400" y="47242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51055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86200" y="5486400"/>
              <a:ext cx="342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15200" y="54864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61920" y="5715000"/>
              <a:ext cx="6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: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many pieces of informatio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in 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0574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, type, length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ype and value of con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number and type of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51880" y="34290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685800" y="3886200"/>
            <a:ext cx="7467480" cy="2593440"/>
            <a:chOff x="685800" y="3886200"/>
            <a:chExt cx="7467480" cy="2593440"/>
          </a:xfrm>
        </p:grpSpPr>
        <p:sp>
          <p:nvSpPr>
            <p:cNvPr id="1134" name=""/>
            <p:cNvSpPr/>
            <p:nvPr/>
          </p:nvSpPr>
          <p:spPr>
            <a:xfrm>
              <a:off x="685800" y="38862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nal structure of the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mbol tab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920" y="60199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3200" y="60199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n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re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.14159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7920" y="55627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3200" y="55627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920" y="5029200"/>
              <a:ext cx="12952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54100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8080" y="60199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38080" y="55627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8080" y="5029200"/>
              <a:ext cx="596880" cy="557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495680"/>
              <a:ext cx="731520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828800"/>
            <a:ext cx="3581280" cy="4038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1905120"/>
            <a:ext cx="213372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21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3276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4572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08120" y="2496960"/>
            <a:ext cx="3865680" cy="1577880"/>
            <a:chOff x="1608120" y="2496960"/>
            <a:chExt cx="3865680" cy="1577880"/>
          </a:xfrm>
        </p:grpSpPr>
        <p:sp>
          <p:nvSpPr>
            <p:cNvPr id="1157" name=""/>
            <p:cNvSpPr/>
            <p:nvPr/>
          </p:nvSpPr>
          <p:spPr>
            <a:xfrm>
              <a:off x="1608120" y="2496960"/>
              <a:ext cx="3840120" cy="1262160"/>
            </a:xfrm>
            <a:custGeom>
              <a:avLst/>
              <a:gdLst/>
              <a:ahLst/>
              <a:rect l="l" t="t" r="r" b="b"/>
              <a:pathLst>
                <a:path w="2419" h="795">
                  <a:moveTo>
                    <a:pt x="75" y="795"/>
                  </a:moveTo>
                  <a:cubicBezTo>
                    <a:pt x="101" y="779"/>
                    <a:pt x="0" y="726"/>
                    <a:pt x="243" y="699"/>
                  </a:cubicBezTo>
                  <a:cubicBezTo>
                    <a:pt x="486" y="672"/>
                    <a:pt x="1260" y="735"/>
                    <a:pt x="1531" y="635"/>
                  </a:cubicBezTo>
                  <a:cubicBezTo>
                    <a:pt x="1802" y="535"/>
                    <a:pt x="1719" y="198"/>
                    <a:pt x="1867" y="99"/>
                  </a:cubicBezTo>
                  <a:cubicBezTo>
                    <a:pt x="2015" y="0"/>
                    <a:pt x="2304" y="55"/>
                    <a:pt x="2419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56080" y="3593880"/>
              <a:ext cx="1917720" cy="480960"/>
            </a:xfrm>
            <a:custGeom>
              <a:avLst/>
              <a:gdLst/>
              <a:ahLst/>
              <a:rect l="l" t="t" r="r" b="b"/>
              <a:pathLst>
                <a:path w="1208" h="303">
                  <a:moveTo>
                    <a:pt x="0" y="0"/>
                  </a:moveTo>
                  <a:cubicBezTo>
                    <a:pt x="81" y="16"/>
                    <a:pt x="351" y="43"/>
                    <a:pt x="480" y="88"/>
                  </a:cubicBezTo>
                  <a:cubicBezTo>
                    <a:pt x="609" y="133"/>
                    <a:pt x="655" y="241"/>
                    <a:pt x="776" y="272"/>
                  </a:cubicBezTo>
                  <a:cubicBezTo>
                    <a:pt x="897" y="303"/>
                    <a:pt x="1118" y="272"/>
                    <a:pt x="1208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52680" y="3352680"/>
              <a:ext cx="53352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603440" y="2633760"/>
            <a:ext cx="3870360" cy="2400120"/>
            <a:chOff x="1603440" y="2633760"/>
            <a:chExt cx="3870360" cy="2400120"/>
          </a:xfrm>
        </p:grpSpPr>
        <p:sp>
          <p:nvSpPr>
            <p:cNvPr id="1161" name=""/>
            <p:cNvSpPr/>
            <p:nvPr/>
          </p:nvSpPr>
          <p:spPr>
            <a:xfrm>
              <a:off x="1603440" y="2633760"/>
              <a:ext cx="3844800" cy="2400120"/>
            </a:xfrm>
            <a:custGeom>
              <a:avLst/>
              <a:gdLst/>
              <a:ahLst/>
              <a:rect l="l" t="t" r="r" b="b"/>
              <a:pathLst>
                <a:path w="2422" h="1512">
                  <a:moveTo>
                    <a:pt x="79" y="1512"/>
                  </a:moveTo>
                  <a:cubicBezTo>
                    <a:pt x="103" y="1496"/>
                    <a:pt x="0" y="1460"/>
                    <a:pt x="223" y="1413"/>
                  </a:cubicBezTo>
                  <a:cubicBezTo>
                    <a:pt x="446" y="1366"/>
                    <a:pt x="1101" y="1433"/>
                    <a:pt x="1414" y="1229"/>
                  </a:cubicBezTo>
                  <a:cubicBezTo>
                    <a:pt x="1727" y="1025"/>
                    <a:pt x="1934" y="378"/>
                    <a:pt x="2102" y="189"/>
                  </a:cubicBezTo>
                  <a:cubicBezTo>
                    <a:pt x="2270" y="0"/>
                    <a:pt x="2355" y="113"/>
                    <a:pt x="2422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72080" y="4179600"/>
              <a:ext cx="1701720" cy="672840"/>
            </a:xfrm>
            <a:custGeom>
              <a:avLst/>
              <a:gdLst/>
              <a:ahLst/>
              <a:rect l="l" t="t" r="r" b="b"/>
              <a:pathLst>
                <a:path w="1072" h="424">
                  <a:moveTo>
                    <a:pt x="0" y="311"/>
                  </a:moveTo>
                  <a:cubicBezTo>
                    <a:pt x="75" y="323"/>
                    <a:pt x="331" y="424"/>
                    <a:pt x="448" y="383"/>
                  </a:cubicBezTo>
                  <a:cubicBezTo>
                    <a:pt x="565" y="342"/>
                    <a:pt x="600" y="126"/>
                    <a:pt x="704" y="63"/>
                  </a:cubicBezTo>
                  <a:cubicBezTo>
                    <a:pt x="808" y="0"/>
                    <a:pt x="995" y="19"/>
                    <a:pt x="1072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05320" y="4343040"/>
              <a:ext cx="53316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486400" y="4267080"/>
            <a:ext cx="2133720" cy="459720"/>
            <a:chOff x="5486400" y="4267080"/>
            <a:chExt cx="2133720" cy="459720"/>
          </a:xfrm>
        </p:grpSpPr>
        <p:sp>
          <p:nvSpPr>
            <p:cNvPr id="1165" name=""/>
            <p:cNvSpPr/>
            <p:nvPr/>
          </p:nvSpPr>
          <p:spPr>
            <a:xfrm>
              <a:off x="6095880" y="42670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86400" y="42670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5486400" y="3809880"/>
            <a:ext cx="2133720" cy="459720"/>
            <a:chOff x="5486400" y="3809880"/>
            <a:chExt cx="2133720" cy="459720"/>
          </a:xfrm>
        </p:grpSpPr>
        <p:sp>
          <p:nvSpPr>
            <p:cNvPr id="1169" name=""/>
            <p:cNvSpPr/>
            <p:nvPr/>
          </p:nvSpPr>
          <p:spPr>
            <a:xfrm>
              <a:off x="6095880" y="38098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2920" y="38098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6400" y="38098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486400" y="3352680"/>
            <a:ext cx="2133720" cy="459720"/>
            <a:chOff x="5486400" y="3352680"/>
            <a:chExt cx="2133720" cy="459720"/>
          </a:xfrm>
        </p:grpSpPr>
        <p:sp>
          <p:nvSpPr>
            <p:cNvPr id="1173" name=""/>
            <p:cNvSpPr/>
            <p:nvPr/>
          </p:nvSpPr>
          <p:spPr>
            <a:xfrm>
              <a:off x="6095880" y="33526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33526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33526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2895480"/>
            <a:ext cx="2133720" cy="459720"/>
            <a:chOff x="5486400" y="2895480"/>
            <a:chExt cx="2133720" cy="459720"/>
          </a:xfrm>
        </p:grpSpPr>
        <p:sp>
          <p:nvSpPr>
            <p:cNvPr id="1177" name=""/>
            <p:cNvSpPr/>
            <p:nvPr/>
          </p:nvSpPr>
          <p:spPr>
            <a:xfrm>
              <a:off x="6095880" y="28954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62920" y="28954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28954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486400" y="2438280"/>
            <a:ext cx="2133720" cy="459720"/>
            <a:chOff x="5486400" y="2438280"/>
            <a:chExt cx="2133720" cy="459720"/>
          </a:xfrm>
        </p:grpSpPr>
        <p:sp>
          <p:nvSpPr>
            <p:cNvPr id="1181" name=""/>
            <p:cNvSpPr/>
            <p:nvPr/>
          </p:nvSpPr>
          <p:spPr>
            <a:xfrm>
              <a:off x="6095880" y="2438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2920" y="24382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86400" y="24382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85800" y="5943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ope 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ck structure of 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685800" y="1219320"/>
            <a:ext cx="3276720" cy="2819160"/>
            <a:chOff x="685800" y="1219320"/>
            <a:chExt cx="3276720" cy="2819160"/>
          </a:xfrm>
        </p:grpSpPr>
        <p:sp>
          <p:nvSpPr>
            <p:cNvPr id="1187" name=""/>
            <p:cNvSpPr/>
            <p:nvPr/>
          </p:nvSpPr>
          <p:spPr>
            <a:xfrm>
              <a:off x="685800" y="1219320"/>
              <a:ext cx="3124080" cy="2819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5800" y="121932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Main Block (B0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38080" y="1752480"/>
            <a:ext cx="2819520" cy="2133720"/>
            <a:chOff x="838080" y="1752480"/>
            <a:chExt cx="2819520" cy="2133720"/>
          </a:xfrm>
        </p:grpSpPr>
        <p:sp>
          <p:nvSpPr>
            <p:cNvPr id="1191" name=""/>
            <p:cNvSpPr/>
            <p:nvPr/>
          </p:nvSpPr>
          <p:spPr>
            <a:xfrm>
              <a:off x="838080" y="1752480"/>
              <a:ext cx="2819520" cy="2133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1752480"/>
              <a:ext cx="243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1 (B1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90720" y="2362320"/>
            <a:ext cx="2514600" cy="990360"/>
            <a:chOff x="990720" y="2362320"/>
            <a:chExt cx="2514600" cy="990360"/>
          </a:xfrm>
        </p:grpSpPr>
        <p:sp>
          <p:nvSpPr>
            <p:cNvPr id="1194" name=""/>
            <p:cNvSpPr/>
            <p:nvPr/>
          </p:nvSpPr>
          <p:spPr>
            <a:xfrm>
              <a:off x="990720" y="2362320"/>
              <a:ext cx="2514600" cy="9903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90720" y="2362320"/>
              <a:ext cx="243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2 (B2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520" y="3916440"/>
            <a:ext cx="8381880" cy="2821320"/>
            <a:chOff x="533520" y="3916440"/>
            <a:chExt cx="8381880" cy="2821320"/>
          </a:xfrm>
        </p:grpSpPr>
        <p:sp>
          <p:nvSpPr>
            <p:cNvPr id="1197" name=""/>
            <p:cNvSpPr/>
            <p:nvPr/>
          </p:nvSpPr>
          <p:spPr>
            <a:xfrm>
              <a:off x="533520" y="391644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Ent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rance of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us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oin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the S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op onto AT-stac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678200"/>
              <a:ext cx="83818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Exit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from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p of B1 Info becomes the ST-stack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the B2 pointer from the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582120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Search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in S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the top towards the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648320" y="13809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414180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467480" y="2514600"/>
            <a:ext cx="1067040" cy="459720"/>
            <a:chOff x="7467480" y="2514600"/>
            <a:chExt cx="1067040" cy="459720"/>
          </a:xfrm>
        </p:grpSpPr>
        <p:sp>
          <p:nvSpPr>
            <p:cNvPr id="1203" name=""/>
            <p:cNvSpPr/>
            <p:nvPr/>
          </p:nvSpPr>
          <p:spPr>
            <a:xfrm>
              <a:off x="7467480" y="2514600"/>
              <a:ext cx="1067040" cy="4597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0120" y="2590920"/>
              <a:ext cx="304560" cy="304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467480" y="3048120"/>
            <a:ext cx="1067040" cy="459720"/>
            <a:chOff x="7467480" y="3048120"/>
            <a:chExt cx="1067040" cy="459720"/>
          </a:xfrm>
        </p:grpSpPr>
        <p:sp>
          <p:nvSpPr>
            <p:cNvPr id="1206" name=""/>
            <p:cNvSpPr/>
            <p:nvPr/>
          </p:nvSpPr>
          <p:spPr>
            <a:xfrm>
              <a:off x="7467480" y="3048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0120" y="3124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467480" y="3581280"/>
            <a:ext cx="1067040" cy="459720"/>
            <a:chOff x="7467480" y="3581280"/>
            <a:chExt cx="1067040" cy="459720"/>
          </a:xfrm>
        </p:grpSpPr>
        <p:sp>
          <p:nvSpPr>
            <p:cNvPr id="1209" name=""/>
            <p:cNvSpPr/>
            <p:nvPr/>
          </p:nvSpPr>
          <p:spPr>
            <a:xfrm>
              <a:off x="7467480" y="3581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0120" y="3657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324480" y="380988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10764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ymbol Table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29528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uxiliary Table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495680" y="2209680"/>
            <a:ext cx="2914560" cy="758520"/>
            <a:chOff x="4495680" y="2209680"/>
            <a:chExt cx="2914560" cy="758520"/>
          </a:xfrm>
        </p:grpSpPr>
        <p:sp>
          <p:nvSpPr>
            <p:cNvPr id="1215" name=""/>
            <p:cNvSpPr/>
            <p:nvPr/>
          </p:nvSpPr>
          <p:spPr>
            <a:xfrm>
              <a:off x="4495680" y="2447640"/>
              <a:ext cx="182880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6343560" y="2209680"/>
              <a:ext cx="1066680" cy="459720"/>
              <a:chOff x="6343560" y="2209680"/>
              <a:chExt cx="1066680" cy="45972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6343560" y="2438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48480" y="2209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4495680" y="1609560"/>
            <a:ext cx="2914560" cy="749160"/>
            <a:chOff x="4495680" y="1609560"/>
            <a:chExt cx="2914560" cy="749160"/>
          </a:xfrm>
        </p:grpSpPr>
        <p:sp>
          <p:nvSpPr>
            <p:cNvPr id="1220" name=""/>
            <p:cNvSpPr/>
            <p:nvPr/>
          </p:nvSpPr>
          <p:spPr>
            <a:xfrm>
              <a:off x="4495680" y="1838160"/>
              <a:ext cx="1828800" cy="520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2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343560" y="1609560"/>
              <a:ext cx="1066680" cy="459720"/>
              <a:chOff x="6343560" y="1609560"/>
              <a:chExt cx="1066680" cy="459720"/>
            </a:xfrm>
          </p:grpSpPr>
          <p:sp>
            <p:nvSpPr>
              <p:cNvPr id="1222" name=""/>
              <p:cNvSpPr/>
              <p:nvPr/>
            </p:nvSpPr>
            <p:spPr>
              <a:xfrm flipH="1">
                <a:off x="6343560" y="18381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48480" y="16095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6353280" y="218124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495680" y="2828880"/>
            <a:ext cx="2923920" cy="1175760"/>
            <a:chOff x="4495680" y="2828880"/>
            <a:chExt cx="2923920" cy="1175760"/>
          </a:xfrm>
        </p:grpSpPr>
        <p:sp>
          <p:nvSpPr>
            <p:cNvPr id="1226" name=""/>
            <p:cNvSpPr/>
            <p:nvPr/>
          </p:nvSpPr>
          <p:spPr>
            <a:xfrm>
              <a:off x="4495680" y="3057480"/>
              <a:ext cx="1828800" cy="947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352920" y="2828880"/>
              <a:ext cx="1066680" cy="459720"/>
              <a:chOff x="6352920" y="2828880"/>
              <a:chExt cx="1066680" cy="4597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352920" y="3057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2828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353280" y="283860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6324480" y="2971440"/>
            <a:ext cx="14385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6324480" y="2362320"/>
            <a:ext cx="14479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62920" y="20574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636000" y="1828800"/>
            <a:ext cx="972360" cy="2247840"/>
            <a:chOff x="3636000" y="1828800"/>
            <a:chExt cx="972360" cy="2247840"/>
          </a:xfrm>
        </p:grpSpPr>
        <p:sp>
          <p:nvSpPr>
            <p:cNvPr id="1235" name=""/>
            <p:cNvSpPr/>
            <p:nvPr/>
          </p:nvSpPr>
          <p:spPr>
            <a:xfrm>
              <a:off x="3960720" y="1828800"/>
              <a:ext cx="622440" cy="2247840"/>
            </a:xfrm>
            <a:prstGeom prst="downArrow">
              <a:avLst>
                <a:gd name="adj1" fmla="val 54083"/>
                <a:gd name="adj2" fmla="val 94363"/>
              </a:avLst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36000" y="2247840"/>
              <a:ext cx="972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1295280"/>
            <a:ext cx="396252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2514600"/>
            <a:ext cx="3505320" cy="1371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Rul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907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90720" y="1676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90720" y="2743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65240" y="2982960"/>
            <a:ext cx="2924280" cy="183960"/>
          </a:xfrm>
          <a:custGeom>
            <a:avLst/>
            <a:gdLst/>
            <a:ahLst/>
            <a:rect l="l" t="t" r="r" b="b"/>
            <a:pathLst>
              <a:path w="1842" h="116">
                <a:moveTo>
                  <a:pt x="37" y="116"/>
                </a:moveTo>
                <a:cubicBezTo>
                  <a:pt x="52" y="101"/>
                  <a:pt x="0" y="44"/>
                  <a:pt x="130" y="25"/>
                </a:cubicBezTo>
                <a:cubicBezTo>
                  <a:pt x="260" y="6"/>
                  <a:pt x="627" y="0"/>
                  <a:pt x="818" y="1"/>
                </a:cubicBezTo>
                <a:cubicBezTo>
                  <a:pt x="1009" y="2"/>
                  <a:pt x="1103" y="18"/>
                  <a:pt x="1274" y="33"/>
                </a:cubicBezTo>
                <a:cubicBezTo>
                  <a:pt x="1445" y="48"/>
                  <a:pt x="1724" y="77"/>
                  <a:pt x="1842" y="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08080" y="4227480"/>
            <a:ext cx="2868840" cy="255600"/>
          </a:xfrm>
          <a:custGeom>
            <a:avLst/>
            <a:gdLst/>
            <a:ahLst/>
            <a:rect l="l" t="t" r="r" b="b"/>
            <a:pathLst>
              <a:path w="1807" h="161">
                <a:moveTo>
                  <a:pt x="14" y="145"/>
                </a:moveTo>
                <a:cubicBezTo>
                  <a:pt x="30" y="128"/>
                  <a:pt x="0" y="65"/>
                  <a:pt x="111" y="41"/>
                </a:cubicBezTo>
                <a:cubicBezTo>
                  <a:pt x="222" y="17"/>
                  <a:pt x="492" y="2"/>
                  <a:pt x="679" y="1"/>
                </a:cubicBezTo>
                <a:cubicBezTo>
                  <a:pt x="866" y="0"/>
                  <a:pt x="1043" y="6"/>
                  <a:pt x="1231" y="33"/>
                </a:cubicBezTo>
                <a:cubicBezTo>
                  <a:pt x="1419" y="60"/>
                  <a:pt x="1687" y="134"/>
                  <a:pt x="1807" y="1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00600" y="533412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467480" y="4191120"/>
            <a:ext cx="1067040" cy="459720"/>
            <a:chOff x="7467480" y="4191120"/>
            <a:chExt cx="1067040" cy="459720"/>
          </a:xfrm>
        </p:grpSpPr>
        <p:sp>
          <p:nvSpPr>
            <p:cNvPr id="1251" name=""/>
            <p:cNvSpPr/>
            <p:nvPr/>
          </p:nvSpPr>
          <p:spPr>
            <a:xfrm>
              <a:off x="7467480" y="4191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467480" y="4724280"/>
            <a:ext cx="1067040" cy="459720"/>
            <a:chOff x="7467480" y="4724280"/>
            <a:chExt cx="1067040" cy="459720"/>
          </a:xfrm>
        </p:grpSpPr>
        <p:sp>
          <p:nvSpPr>
            <p:cNvPr id="1254" name=""/>
            <p:cNvSpPr/>
            <p:nvPr/>
          </p:nvSpPr>
          <p:spPr>
            <a:xfrm>
              <a:off x="7467480" y="4724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20120" y="4800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086600" y="2057400"/>
            <a:ext cx="1752480" cy="1557000"/>
            <a:chOff x="7086600" y="2057400"/>
            <a:chExt cx="1752480" cy="1557000"/>
          </a:xfrm>
        </p:grpSpPr>
        <p:sp>
          <p:nvSpPr>
            <p:cNvPr id="1257" name=""/>
            <p:cNvSpPr/>
            <p:nvPr/>
          </p:nvSpPr>
          <p:spPr>
            <a:xfrm>
              <a:off x="7086600" y="2438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6600" y="205740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his part is removed to permanen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876920" y="2438280"/>
            <a:ext cx="2133000" cy="459720"/>
            <a:chOff x="4876920" y="2438280"/>
            <a:chExt cx="2133000" cy="459720"/>
          </a:xfrm>
        </p:grpSpPr>
        <p:sp>
          <p:nvSpPr>
            <p:cNvPr id="1260" name=""/>
            <p:cNvSpPr/>
            <p:nvPr/>
          </p:nvSpPr>
          <p:spPr>
            <a:xfrm>
              <a:off x="5486040" y="24382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3080" y="24382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24382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876920" y="2895480"/>
            <a:ext cx="2133000" cy="459720"/>
            <a:chOff x="4876920" y="2895480"/>
            <a:chExt cx="2133000" cy="459720"/>
          </a:xfrm>
        </p:grpSpPr>
        <p:sp>
          <p:nvSpPr>
            <p:cNvPr id="1264" name=""/>
            <p:cNvSpPr/>
            <p:nvPr/>
          </p:nvSpPr>
          <p:spPr>
            <a:xfrm>
              <a:off x="5486040" y="28954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53080" y="28954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6920" y="28954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880" y="2514240"/>
            <a:ext cx="2057400" cy="762480"/>
            <a:chOff x="4952880" y="2514240"/>
            <a:chExt cx="2057400" cy="762480"/>
          </a:xfrm>
        </p:grpSpPr>
        <p:sp>
          <p:nvSpPr>
            <p:cNvPr id="1268" name=""/>
            <p:cNvSpPr/>
            <p:nvPr/>
          </p:nvSpPr>
          <p:spPr>
            <a:xfrm flipV="1">
              <a:off x="4952880" y="2514240"/>
              <a:ext cx="20574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2880" y="2514600"/>
              <a:ext cx="19814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724280" y="1828800"/>
            <a:ext cx="4114800" cy="2133720"/>
            <a:chOff x="4724280" y="1828800"/>
            <a:chExt cx="4114800" cy="2133720"/>
          </a:xfrm>
        </p:grpSpPr>
        <p:sp>
          <p:nvSpPr>
            <p:cNvPr id="1271" name=""/>
            <p:cNvSpPr/>
            <p:nvPr/>
          </p:nvSpPr>
          <p:spPr>
            <a:xfrm>
              <a:off x="6858000" y="1905120"/>
              <a:ext cx="19810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4876920" y="2438280"/>
              <a:ext cx="2133000" cy="916920"/>
              <a:chOff x="4876920" y="2438280"/>
              <a:chExt cx="2133000" cy="91692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876920" y="2438280"/>
                <a:ext cx="2133000" cy="459720"/>
                <a:chOff x="4876920" y="2438280"/>
                <a:chExt cx="2133000" cy="4597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4382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553080" y="24382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76920" y="24382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5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876920" y="2895480"/>
                <a:ext cx="2133000" cy="459720"/>
                <a:chOff x="4876920" y="2895480"/>
                <a:chExt cx="2133000" cy="459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486040" y="28954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553080" y="28954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76920" y="28954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4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4724280" y="1828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mbol 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876920" y="3352680"/>
            <a:ext cx="2133000" cy="459720"/>
            <a:chOff x="4876920" y="3352680"/>
            <a:chExt cx="2133000" cy="459720"/>
          </a:xfrm>
        </p:grpSpPr>
        <p:sp>
          <p:nvSpPr>
            <p:cNvPr id="1283" name=""/>
            <p:cNvSpPr/>
            <p:nvPr/>
          </p:nvSpPr>
          <p:spPr>
            <a:xfrm>
              <a:off x="5486040" y="33526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53080" y="33526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6920" y="33526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876920" y="3809880"/>
            <a:ext cx="2133000" cy="459720"/>
            <a:chOff x="4876920" y="3809880"/>
            <a:chExt cx="2133000" cy="459720"/>
          </a:xfrm>
        </p:grpSpPr>
        <p:sp>
          <p:nvSpPr>
            <p:cNvPr id="1287" name=""/>
            <p:cNvSpPr/>
            <p:nvPr/>
          </p:nvSpPr>
          <p:spPr>
            <a:xfrm>
              <a:off x="5486040" y="38098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53080" y="38098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38098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876920" y="4267080"/>
            <a:ext cx="2133000" cy="459720"/>
            <a:chOff x="4876920" y="4267080"/>
            <a:chExt cx="2133000" cy="459720"/>
          </a:xfrm>
        </p:grpSpPr>
        <p:sp>
          <p:nvSpPr>
            <p:cNvPr id="1291" name=""/>
            <p:cNvSpPr/>
            <p:nvPr/>
          </p:nvSpPr>
          <p:spPr>
            <a:xfrm>
              <a:off x="5486040" y="42670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53080" y="42670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6920" y="42670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76920" y="4724280"/>
            <a:ext cx="2133360" cy="4899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934320" y="31237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 flipV="1">
            <a:off x="6934320" y="44956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onstruc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 compiler and Lex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403848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91120" y="3352680"/>
            <a:ext cx="990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54864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909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1460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 (scan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2120" y="2895480"/>
            <a:ext cx="25905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520" y="1143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x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lar representation of a DFA constructed from REs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it of sca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0" y="1143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4343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6658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th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it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symbol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0656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M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tion and classification of lex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ing lexemes by thei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88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lation to Models for 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47920"/>
            <a:ext cx="7772400" cy="11912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ular expres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pecify lex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F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e scan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Lex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gular Expressions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0" y="58672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58672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+ 1 + 2 + …+ 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0" y="53341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a-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53341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 + b + c + …+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0" y="48006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48006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86000" y="42670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33920" y="42670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0" y="37339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3920" y="37339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0" y="32004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|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33920" y="32004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26668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6668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.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1337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21337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295280"/>
            <a:ext cx="14479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 in 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33920" y="1295280"/>
            <a:ext cx="3429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RE in theory of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981080" y="198108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480" y="1066680"/>
            <a:ext cx="79250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of manifest constants = token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based on R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r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28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ference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762120" y="3505320"/>
            <a:ext cx="7696080" cy="3112560"/>
            <a:chOff x="762120" y="3505320"/>
            <a:chExt cx="7696080" cy="3112560"/>
          </a:xfrm>
        </p:grpSpPr>
        <p:sp>
          <p:nvSpPr>
            <p:cNvPr id="1360" name=""/>
            <p:cNvSpPr/>
            <p:nvPr/>
          </p:nvSpPr>
          <p:spPr>
            <a:xfrm>
              <a:off x="762120" y="350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4038480"/>
              <a:ext cx="7696080" cy="2579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F   256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F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THEN 257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THEN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D   258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D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cs-CZ" sz="2400" spc="-1" strike="noStrike">
                  <a:solidFill>
                    <a:srgbClr val="339933"/>
                  </a:solidFill>
                  <a:latin typeface="Courier New"/>
                </a:rPr>
                <a:t>INT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  259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NUM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letter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a-z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digi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0-9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letter}({letter}|{digit})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digit}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1430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program routine that specifies w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o when a lexeme is specified by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85800" y="3048120"/>
            <a:ext cx="8001000" cy="3309120"/>
            <a:chOff x="685800" y="3048120"/>
            <a:chExt cx="8001000" cy="3309120"/>
          </a:xfrm>
        </p:grpSpPr>
        <p:sp>
          <p:nvSpPr>
            <p:cNvPr id="1368" name=""/>
            <p:cNvSpPr/>
            <p:nvPr/>
          </p:nvSpPr>
          <p:spPr>
            <a:xfrm>
              <a:off x="762120" y="3048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2120" y="3581280"/>
              <a:ext cx="7696080" cy="2288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F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the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THE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d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nteger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nt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NT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5800" y="5867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yylva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: value returned by install_id() = attribute of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are need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762120" y="1600200"/>
            <a:ext cx="7696080" cy="4650840"/>
            <a:chOff x="762120" y="1600200"/>
            <a:chExt cx="7696080" cy="4650840"/>
          </a:xfrm>
        </p:grpSpPr>
        <p:sp>
          <p:nvSpPr>
            <p:cNvPr id="1376" name=""/>
            <p:cNvSpPr/>
            <p:nvPr/>
          </p:nvSpPr>
          <p:spPr>
            <a:xfrm>
              <a:off x="762120" y="1600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2120" y="2133720"/>
              <a:ext cx="7696080" cy="4117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 yylval =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stall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Courier New"/>
                </a:rPr>
                <a:t>nt </a:t>
              </a:r>
              <a:r>
                <a:rPr b="1" lang="cs-CZ" sz="2400" spc="-1" strike="noStrike">
                  <a:solidFill>
                    <a:srgbClr val="ff0000"/>
                  </a:solidFill>
                  <a:latin typeface="Courier New"/>
                </a:rPr>
                <a:t>install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Procedure to install the lexeme into the symbol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table and return a pointer thereto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09960" y="2908440"/>
              <a:ext cx="2639880" cy="1473120"/>
            </a:xfrm>
            <a:custGeom>
              <a:avLst/>
              <a:gdLst/>
              <a:ahLst/>
              <a:rect l="l" t="t" r="r" b="b"/>
              <a:pathLst>
                <a:path w="1663" h="928">
                  <a:moveTo>
                    <a:pt x="1648" y="0"/>
                  </a:moveTo>
                  <a:cubicBezTo>
                    <a:pt x="1612" y="68"/>
                    <a:pt x="1663" y="313"/>
                    <a:pt x="1432" y="408"/>
                  </a:cubicBezTo>
                  <a:cubicBezTo>
                    <a:pt x="1201" y="503"/>
                    <a:pt x="503" y="481"/>
                    <a:pt x="264" y="568"/>
                  </a:cubicBezTo>
                  <a:cubicBezTo>
                    <a:pt x="25" y="655"/>
                    <a:pt x="55" y="853"/>
                    <a:pt x="0" y="9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ource Program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3352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F   256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F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THEN 257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THEN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D   258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D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</a:t>
            </a:r>
            <a:r>
              <a:rPr b="1" lang="cs-CZ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  259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NUM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int yylval;        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* yylval is visible for parser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a-z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0-9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(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|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)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nteger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then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THE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    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nt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nt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1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5812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ognition 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ing D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9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4320" y="2133000"/>
            <a:ext cx="18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dentifi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69240" y="29710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51388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8040" y="2133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g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08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3840" y="29710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840" y="25138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246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0" y="2133000"/>
            <a:ext cx="221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ssign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520" y="2894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8000" y="4037760"/>
            <a:ext cx="21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+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960" y="2894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8200" y="4037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*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2080" y="4037760"/>
            <a:ext cx="265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5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=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7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&g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096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4494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46483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508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5612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73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208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604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6080" y="63244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9432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7704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63244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096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368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1625760"/>
            <a:ext cx="6438960" cy="2259000"/>
            <a:chOff x="990720" y="1625760"/>
            <a:chExt cx="6438960" cy="2259000"/>
          </a:xfrm>
        </p:grpSpPr>
        <p:sp>
          <p:nvSpPr>
            <p:cNvPr id="315" name=""/>
            <p:cNvSpPr/>
            <p:nvPr/>
          </p:nvSpPr>
          <p:spPr>
            <a:xfrm>
              <a:off x="990720" y="1625760"/>
              <a:ext cx="6438960" cy="2259000"/>
            </a:xfrm>
            <a:custGeom>
              <a:avLst/>
              <a:gdLst/>
              <a:ahLst/>
              <a:rect l="l" t="t" r="r" b="b"/>
              <a:pathLst>
                <a:path w="4056" h="1423">
                  <a:moveTo>
                    <a:pt x="1088" y="80"/>
                  </a:moveTo>
                  <a:cubicBezTo>
                    <a:pt x="1245" y="80"/>
                    <a:pt x="1460" y="107"/>
                    <a:pt x="1904" y="112"/>
                  </a:cubicBezTo>
                  <a:cubicBezTo>
                    <a:pt x="2348" y="117"/>
                    <a:pt x="3448" y="0"/>
                    <a:pt x="3752" y="112"/>
                  </a:cubicBezTo>
                  <a:cubicBezTo>
                    <a:pt x="4056" y="224"/>
                    <a:pt x="3855" y="685"/>
                    <a:pt x="3728" y="784"/>
                  </a:cubicBezTo>
                  <a:cubicBezTo>
                    <a:pt x="3601" y="883"/>
                    <a:pt x="3233" y="707"/>
                    <a:pt x="2992" y="704"/>
                  </a:cubicBezTo>
                  <a:cubicBezTo>
                    <a:pt x="2751" y="701"/>
                    <a:pt x="2621" y="755"/>
                    <a:pt x="2280" y="768"/>
                  </a:cubicBezTo>
                  <a:cubicBezTo>
                    <a:pt x="1939" y="781"/>
                    <a:pt x="1257" y="688"/>
                    <a:pt x="944" y="784"/>
                  </a:cubicBezTo>
                  <a:cubicBezTo>
                    <a:pt x="631" y="880"/>
                    <a:pt x="548" y="1263"/>
                    <a:pt x="400" y="1343"/>
                  </a:cubicBezTo>
                  <a:cubicBezTo>
                    <a:pt x="252" y="1423"/>
                    <a:pt x="112" y="1330"/>
                    <a:pt x="56" y="1263"/>
                  </a:cubicBezTo>
                  <a:cubicBezTo>
                    <a:pt x="0" y="1196"/>
                    <a:pt x="9" y="1015"/>
                    <a:pt x="64" y="943"/>
                  </a:cubicBezTo>
                  <a:cubicBezTo>
                    <a:pt x="119" y="871"/>
                    <a:pt x="277" y="870"/>
                    <a:pt x="384" y="832"/>
                  </a:cubicBezTo>
                  <a:cubicBezTo>
                    <a:pt x="491" y="794"/>
                    <a:pt x="628" y="816"/>
                    <a:pt x="704" y="712"/>
                  </a:cubicBezTo>
                  <a:lnTo>
                    <a:pt x="840" y="208"/>
                  </a:lnTo>
                  <a:lnTo>
                    <a:pt x="952" y="104"/>
                  </a:lnTo>
                  <a:lnTo>
                    <a:pt x="1088" y="8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168984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1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22400" y="2949480"/>
            <a:ext cx="6178680" cy="1277640"/>
            <a:chOff x="1022400" y="2949480"/>
            <a:chExt cx="6178680" cy="1277640"/>
          </a:xfrm>
        </p:grpSpPr>
        <p:sp>
          <p:nvSpPr>
            <p:cNvPr id="318" name=""/>
            <p:cNvSpPr/>
            <p:nvPr/>
          </p:nvSpPr>
          <p:spPr>
            <a:xfrm>
              <a:off x="1022400" y="2949480"/>
              <a:ext cx="6178680" cy="1277640"/>
            </a:xfrm>
            <a:custGeom>
              <a:avLst/>
              <a:gdLst/>
              <a:ahLst/>
              <a:rect l="l" t="t" r="r" b="b"/>
              <a:pathLst>
                <a:path w="3892" h="805">
                  <a:moveTo>
                    <a:pt x="1060" y="70"/>
                  </a:moveTo>
                  <a:cubicBezTo>
                    <a:pt x="1183" y="25"/>
                    <a:pt x="1939" y="75"/>
                    <a:pt x="2284" y="78"/>
                  </a:cubicBezTo>
                  <a:cubicBezTo>
                    <a:pt x="2629" y="81"/>
                    <a:pt x="2881" y="82"/>
                    <a:pt x="3132" y="86"/>
                  </a:cubicBezTo>
                  <a:cubicBezTo>
                    <a:pt x="3383" y="90"/>
                    <a:pt x="3684" y="0"/>
                    <a:pt x="3788" y="102"/>
                  </a:cubicBezTo>
                  <a:cubicBezTo>
                    <a:pt x="3892" y="204"/>
                    <a:pt x="3887" y="597"/>
                    <a:pt x="3755" y="701"/>
                  </a:cubicBezTo>
                  <a:cubicBezTo>
                    <a:pt x="3623" y="805"/>
                    <a:pt x="3229" y="718"/>
                    <a:pt x="2995" y="725"/>
                  </a:cubicBezTo>
                  <a:cubicBezTo>
                    <a:pt x="2761" y="732"/>
                    <a:pt x="2570" y="743"/>
                    <a:pt x="2348" y="742"/>
                  </a:cubicBezTo>
                  <a:cubicBezTo>
                    <a:pt x="2126" y="741"/>
                    <a:pt x="1856" y="747"/>
                    <a:pt x="1660" y="718"/>
                  </a:cubicBezTo>
                  <a:cubicBezTo>
                    <a:pt x="1464" y="689"/>
                    <a:pt x="1415" y="597"/>
                    <a:pt x="1172" y="566"/>
                  </a:cubicBezTo>
                  <a:cubicBezTo>
                    <a:pt x="929" y="535"/>
                    <a:pt x="397" y="598"/>
                    <a:pt x="204" y="534"/>
                  </a:cubicBezTo>
                  <a:cubicBezTo>
                    <a:pt x="11" y="470"/>
                    <a:pt x="0" y="266"/>
                    <a:pt x="12" y="182"/>
                  </a:cubicBezTo>
                  <a:cubicBezTo>
                    <a:pt x="24" y="98"/>
                    <a:pt x="159" y="31"/>
                    <a:pt x="276" y="30"/>
                  </a:cubicBezTo>
                  <a:cubicBezTo>
                    <a:pt x="393" y="29"/>
                    <a:pt x="585" y="167"/>
                    <a:pt x="716" y="174"/>
                  </a:cubicBezTo>
                  <a:lnTo>
                    <a:pt x="1060" y="7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4600" y="298476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44640" y="2922480"/>
            <a:ext cx="6383160" cy="2936880"/>
            <a:chOff x="944640" y="2922480"/>
            <a:chExt cx="6383160" cy="2936880"/>
          </a:xfrm>
        </p:grpSpPr>
        <p:sp>
          <p:nvSpPr>
            <p:cNvPr id="321" name=""/>
            <p:cNvSpPr/>
            <p:nvPr/>
          </p:nvSpPr>
          <p:spPr>
            <a:xfrm>
              <a:off x="944640" y="2922480"/>
              <a:ext cx="6383160" cy="2936880"/>
            </a:xfrm>
            <a:custGeom>
              <a:avLst/>
              <a:gdLst/>
              <a:ahLst/>
              <a:rect l="l" t="t" r="r" b="b"/>
              <a:pathLst>
                <a:path w="4021" h="1850">
                  <a:moveTo>
                    <a:pt x="1653" y="951"/>
                  </a:moveTo>
                  <a:cubicBezTo>
                    <a:pt x="1932" y="988"/>
                    <a:pt x="2262" y="982"/>
                    <a:pt x="2565" y="991"/>
                  </a:cubicBezTo>
                  <a:cubicBezTo>
                    <a:pt x="2868" y="1000"/>
                    <a:pt x="3245" y="990"/>
                    <a:pt x="3469" y="1007"/>
                  </a:cubicBezTo>
                  <a:cubicBezTo>
                    <a:pt x="3693" y="1024"/>
                    <a:pt x="3839" y="983"/>
                    <a:pt x="3909" y="1095"/>
                  </a:cubicBezTo>
                  <a:cubicBezTo>
                    <a:pt x="3979" y="1207"/>
                    <a:pt x="4021" y="1578"/>
                    <a:pt x="3891" y="1679"/>
                  </a:cubicBezTo>
                  <a:cubicBezTo>
                    <a:pt x="3761" y="1780"/>
                    <a:pt x="3480" y="1690"/>
                    <a:pt x="3131" y="1703"/>
                  </a:cubicBezTo>
                  <a:cubicBezTo>
                    <a:pt x="2782" y="1716"/>
                    <a:pt x="2163" y="1850"/>
                    <a:pt x="1797" y="1759"/>
                  </a:cubicBezTo>
                  <a:cubicBezTo>
                    <a:pt x="1431" y="1668"/>
                    <a:pt x="1137" y="1346"/>
                    <a:pt x="933" y="1159"/>
                  </a:cubicBezTo>
                  <a:cubicBezTo>
                    <a:pt x="729" y="972"/>
                    <a:pt x="701" y="740"/>
                    <a:pt x="573" y="639"/>
                  </a:cubicBezTo>
                  <a:cubicBezTo>
                    <a:pt x="445" y="538"/>
                    <a:pt x="257" y="622"/>
                    <a:pt x="165" y="551"/>
                  </a:cubicBezTo>
                  <a:cubicBezTo>
                    <a:pt x="73" y="480"/>
                    <a:pt x="0" y="304"/>
                    <a:pt x="21" y="215"/>
                  </a:cubicBezTo>
                  <a:cubicBezTo>
                    <a:pt x="42" y="126"/>
                    <a:pt x="186" y="0"/>
                    <a:pt x="293" y="15"/>
                  </a:cubicBezTo>
                  <a:cubicBezTo>
                    <a:pt x="400" y="30"/>
                    <a:pt x="561" y="178"/>
                    <a:pt x="661" y="303"/>
                  </a:cubicBezTo>
                  <a:cubicBezTo>
                    <a:pt x="761" y="428"/>
                    <a:pt x="728" y="659"/>
                    <a:pt x="893" y="767"/>
                  </a:cubicBezTo>
                  <a:lnTo>
                    <a:pt x="1653" y="951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4326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14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ccepts all lexe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1675440"/>
            <a:ext cx="1848600" cy="3583800"/>
            <a:chOff x="609480" y="1675440"/>
            <a:chExt cx="1848600" cy="3583800"/>
          </a:xfrm>
        </p:grpSpPr>
        <p:sp>
          <p:nvSpPr>
            <p:cNvPr id="327" name=""/>
            <p:cNvSpPr/>
            <p:nvPr/>
          </p:nvSpPr>
          <p:spPr>
            <a:xfrm>
              <a:off x="685800" y="34290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514600"/>
              <a:ext cx="53316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80" y="1675440"/>
              <a:ext cx="16002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Space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Tab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EoLn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 </a:t>
              </a:r>
              <a:r>
                <a:rPr b="1" lang="cs-CZ" sz="3000" spc="-1" strike="noStrike">
                  <a:solidFill>
                    <a:srgbClr val="808080"/>
                  </a:solidFill>
                  <a:latin typeface="Times New Roman"/>
                </a:rPr>
                <a:t>...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19320" y="4774680"/>
              <a:ext cx="3805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954360" y="3769560"/>
              <a:ext cx="5331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1360080" y="3799080"/>
              <a:ext cx="53316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7440" y="35802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8160" y="388512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5880" y="4799520"/>
              <a:ext cx="8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 –</a:t>
              </a: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048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4114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275640"/>
            <a:ext cx="5257800" cy="762480"/>
            <a:chOff x="1752480" y="3275640"/>
            <a:chExt cx="5257800" cy="762480"/>
          </a:xfrm>
        </p:grpSpPr>
        <p:sp>
          <p:nvSpPr>
            <p:cNvPr id="339" name=""/>
            <p:cNvSpPr/>
            <p:nvPr/>
          </p:nvSpPr>
          <p:spPr>
            <a:xfrm>
              <a:off x="1752480" y="3428640"/>
              <a:ext cx="1676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95880" y="38854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4286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733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34286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114800" y="350460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38858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3733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5400" y="327564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920" y="5181480"/>
            <a:ext cx="3352680" cy="1265760"/>
            <a:chOff x="304920" y="5181480"/>
            <a:chExt cx="3352680" cy="1265760"/>
          </a:xfrm>
        </p:grpSpPr>
        <p:sp>
          <p:nvSpPr>
            <p:cNvPr id="351" name=""/>
            <p:cNvSpPr/>
            <p:nvPr/>
          </p:nvSpPr>
          <p:spPr>
            <a:xfrm>
              <a:off x="304920" y="52560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ments and whitespaces are skipped before a new lexe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402560" y="4312440"/>
              <a:ext cx="152640" cy="1890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8960 h 1890720"/>
                <a:gd name="textAreaBottom" fmla="*/ 184176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6280" y="4113720"/>
            <a:ext cx="3243600" cy="437400"/>
            <a:chOff x="5336280" y="4113720"/>
            <a:chExt cx="3243600" cy="437400"/>
          </a:xfrm>
        </p:grpSpPr>
        <p:sp>
          <p:nvSpPr>
            <p:cNvPr id="354" name=""/>
            <p:cNvSpPr/>
            <p:nvPr/>
          </p:nvSpPr>
          <p:spPr>
            <a:xfrm>
              <a:off x="53362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08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6600" y="2055960"/>
            <a:ext cx="1828800" cy="825480"/>
            <a:chOff x="7086600" y="2055960"/>
            <a:chExt cx="1828800" cy="825480"/>
          </a:xfrm>
        </p:grpSpPr>
        <p:sp>
          <p:nvSpPr>
            <p:cNvPr id="357" name=""/>
            <p:cNvSpPr/>
            <p:nvPr/>
          </p:nvSpPr>
          <p:spPr>
            <a:xfrm>
              <a:off x="7391520" y="2055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1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86600" y="2285640"/>
              <a:ext cx="380880" cy="45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86600" y="3275280"/>
            <a:ext cx="1828800" cy="825480"/>
            <a:chOff x="7086600" y="3275280"/>
            <a:chExt cx="1828800" cy="825480"/>
          </a:xfrm>
        </p:grpSpPr>
        <p:sp>
          <p:nvSpPr>
            <p:cNvPr id="360" name=""/>
            <p:cNvSpPr/>
            <p:nvPr/>
          </p:nvSpPr>
          <p:spPr>
            <a:xfrm>
              <a:off x="7391520" y="32752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2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3505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86600" y="4722840"/>
            <a:ext cx="1828800" cy="825480"/>
            <a:chOff x="7086600" y="4722840"/>
            <a:chExt cx="1828800" cy="825480"/>
          </a:xfrm>
        </p:grpSpPr>
        <p:sp>
          <p:nvSpPr>
            <p:cNvPr id="363" name=""/>
            <p:cNvSpPr/>
            <p:nvPr/>
          </p:nvSpPr>
          <p:spPr>
            <a:xfrm>
              <a:off x="7391520" y="4722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701720" y="3543480"/>
            <a:ext cx="5308560" cy="2019240"/>
            <a:chOff x="1701720" y="3543480"/>
            <a:chExt cx="5308560" cy="2019240"/>
          </a:xfrm>
        </p:grpSpPr>
        <p:sp>
          <p:nvSpPr>
            <p:cNvPr id="366" name=""/>
            <p:cNvSpPr/>
            <p:nvPr/>
          </p:nvSpPr>
          <p:spPr>
            <a:xfrm>
              <a:off x="632448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95880" y="54100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953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5257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9532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50292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4104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4800" y="5257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5400" y="472392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3543480"/>
              <a:ext cx="1714680" cy="1587600"/>
            </a:xfrm>
            <a:custGeom>
              <a:avLst/>
              <a:gdLst/>
              <a:ahLst/>
              <a:rect l="l" t="t" r="r" b="b"/>
              <a:pathLst>
                <a:path w="1080" h="1000">
                  <a:moveTo>
                    <a:pt x="1080" y="1000"/>
                  </a:moveTo>
                  <a:cubicBezTo>
                    <a:pt x="999" y="968"/>
                    <a:pt x="772" y="975"/>
                    <a:pt x="592" y="808"/>
                  </a:cubicBezTo>
                  <a:cubicBezTo>
                    <a:pt x="412" y="641"/>
                    <a:pt x="123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1980360"/>
            <a:ext cx="5257800" cy="1296000"/>
            <a:chOff x="1752480" y="1980360"/>
            <a:chExt cx="5257800" cy="1296000"/>
          </a:xfrm>
        </p:grpSpPr>
        <p:sp>
          <p:nvSpPr>
            <p:cNvPr id="378" name=""/>
            <p:cNvSpPr/>
            <p:nvPr/>
          </p:nvSpPr>
          <p:spPr>
            <a:xfrm>
              <a:off x="632448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095880" y="266652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22096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2514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220968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114800" y="228564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8480" y="26668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2514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5400" y="198036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230200"/>
              <a:ext cx="1689120" cy="1046160"/>
            </a:xfrm>
            <a:custGeom>
              <a:avLst/>
              <a:gdLst/>
              <a:ahLst/>
              <a:rect l="l" t="t" r="r" b="b"/>
              <a:pathLst>
                <a:path w="1064" h="659">
                  <a:moveTo>
                    <a:pt x="1064" y="67"/>
                  </a:moveTo>
                  <a:cubicBezTo>
                    <a:pt x="1004" y="74"/>
                    <a:pt x="881" y="0"/>
                    <a:pt x="704" y="99"/>
                  </a:cubicBezTo>
                  <a:cubicBezTo>
                    <a:pt x="527" y="198"/>
                    <a:pt x="147" y="542"/>
                    <a:pt x="0" y="6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48320" y="5657040"/>
            <a:ext cx="4038480" cy="855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inal stat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rresponds to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type of lex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579400" y="3657600"/>
            <a:ext cx="4175280" cy="2958120"/>
            <a:chOff x="2579400" y="3657600"/>
            <a:chExt cx="4175280" cy="2958120"/>
          </a:xfrm>
        </p:grpSpPr>
        <p:sp>
          <p:nvSpPr>
            <p:cNvPr id="392" name=""/>
            <p:cNvSpPr/>
            <p:nvPr/>
          </p:nvSpPr>
          <p:spPr>
            <a:xfrm>
              <a:off x="5334120" y="3657600"/>
              <a:ext cx="53316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79400" y="6095160"/>
              <a:ext cx="4175280" cy="520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t thi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F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333760" y="5410080"/>
              <a:ext cx="228600" cy="7621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 for Lexemes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14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xem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0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5040" y="2285280"/>
            <a:ext cx="3577320" cy="1600920"/>
            <a:chOff x="545040" y="2285280"/>
            <a:chExt cx="3577320" cy="1600920"/>
          </a:xfrm>
        </p:grpSpPr>
        <p:sp>
          <p:nvSpPr>
            <p:cNvPr id="418" name=""/>
            <p:cNvSpPr/>
            <p:nvPr/>
          </p:nvSpPr>
          <p:spPr>
            <a:xfrm>
              <a:off x="54504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42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43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44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00600" y="4037760"/>
            <a:ext cx="3892680" cy="1143720"/>
            <a:chOff x="4800600" y="4037760"/>
            <a:chExt cx="3892680" cy="1143720"/>
          </a:xfrm>
        </p:grpSpPr>
        <p:sp>
          <p:nvSpPr>
            <p:cNvPr id="451" name=""/>
            <p:cNvSpPr/>
            <p:nvPr/>
          </p:nvSpPr>
          <p:spPr>
            <a:xfrm>
              <a:off x="4800600" y="411480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928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2240" y="4037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800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4495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572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43600" y="4495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695360" y="46479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79840" y="4571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00600" y="4191120"/>
            <a:ext cx="3988440" cy="1904400"/>
            <a:chOff x="4800600" y="4191120"/>
            <a:chExt cx="3988440" cy="1904400"/>
          </a:xfrm>
        </p:grpSpPr>
        <p:sp>
          <p:nvSpPr>
            <p:cNvPr id="461" name=""/>
            <p:cNvSpPr/>
            <p:nvPr/>
          </p:nvSpPr>
          <p:spPr>
            <a:xfrm>
              <a:off x="6479280" y="52567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4191120"/>
              <a:ext cx="12193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2240" y="4570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771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54100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4360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79480" y="54853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695360" y="5562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471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s for Lexeme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06596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ivalent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8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9720" y="2285280"/>
            <a:ext cx="3572640" cy="1600920"/>
            <a:chOff x="549720" y="2285280"/>
            <a:chExt cx="3572640" cy="1600920"/>
          </a:xfrm>
        </p:grpSpPr>
        <p:sp>
          <p:nvSpPr>
            <p:cNvPr id="498" name=""/>
            <p:cNvSpPr/>
            <p:nvPr/>
          </p:nvSpPr>
          <p:spPr>
            <a:xfrm>
              <a:off x="54972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50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51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52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4114080"/>
            <a:ext cx="1066320" cy="2227320"/>
            <a:chOff x="5943600" y="4114080"/>
            <a:chExt cx="1066320" cy="2227320"/>
          </a:xfrm>
        </p:grpSpPr>
        <p:sp>
          <p:nvSpPr>
            <p:cNvPr id="531" name=""/>
            <p:cNvSpPr/>
            <p:nvPr/>
          </p:nvSpPr>
          <p:spPr>
            <a:xfrm>
              <a:off x="6402960" y="41140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5400000">
              <a:off x="6095160" y="548604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6480" y="579060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76760" y="4191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934320" y="4266360"/>
            <a:ext cx="780120" cy="2075040"/>
            <a:chOff x="6934320" y="4266360"/>
            <a:chExt cx="780120" cy="2075040"/>
          </a:xfrm>
        </p:grpSpPr>
        <p:sp>
          <p:nvSpPr>
            <p:cNvPr id="538" name=""/>
            <p:cNvSpPr/>
            <p:nvPr/>
          </p:nvSpPr>
          <p:spPr>
            <a:xfrm>
              <a:off x="73152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736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432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02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6480" y="579060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5400000">
              <a:off x="7086600" y="5486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545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114300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the source-program lexe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termination of th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lexem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133720"/>
            <a:ext cx="8153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haracter)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a move 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respondin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the lexical error (write messag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143000" y="5562000"/>
            <a:ext cx="838080" cy="838800"/>
            <a:chOff x="1143000" y="5562000"/>
            <a:chExt cx="838080" cy="838800"/>
          </a:xfrm>
        </p:grpSpPr>
        <p:sp>
          <p:nvSpPr>
            <p:cNvPr id="577" name=""/>
            <p:cNvSpPr/>
            <p:nvPr/>
          </p:nvSpPr>
          <p:spPr>
            <a:xfrm>
              <a:off x="1143000" y="5638680"/>
              <a:ext cx="8380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60199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67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480" y="3275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952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4462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56040" y="3048120"/>
            <a:ext cx="12873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45480" y="25909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38840" y="27424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767240" y="24375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8320" y="19040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8120" y="1828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6748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320796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67408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353040" y="198036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94920" y="129456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1981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904400" y="41911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810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52680" y="3200400"/>
            <a:ext cx="1067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9040" y="33519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97180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668680" y="4037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600" y="419040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343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1219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295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952880" y="17524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564880" y="1675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1371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960" y="1218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40840" y="25902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26668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923960" y="28195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8080" y="274248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560" y="31233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5400000">
            <a:off x="6323760" y="4495320"/>
            <a:ext cx="38124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5080" y="4799880"/>
            <a:ext cx="6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705360" y="3200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5960" y="3276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6292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5080" y="47998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00000">
            <a:off x="7314840" y="44953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72200" y="20574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133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029200" y="25146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0" y="2057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086600" y="2133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5600" y="198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372680" y="5105520"/>
            <a:ext cx="1141920" cy="1357920"/>
            <a:chOff x="1372680" y="5105520"/>
            <a:chExt cx="1141920" cy="1357920"/>
          </a:xfrm>
        </p:grpSpPr>
        <p:sp>
          <p:nvSpPr>
            <p:cNvPr id="641" name=""/>
            <p:cNvSpPr/>
            <p:nvPr/>
          </p:nvSpPr>
          <p:spPr>
            <a:xfrm>
              <a:off x="2286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26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601280" y="5105520"/>
            <a:ext cx="1141920" cy="1357920"/>
            <a:chOff x="1601280" y="5105520"/>
            <a:chExt cx="1141920" cy="1357920"/>
          </a:xfrm>
        </p:grpSpPr>
        <p:sp>
          <p:nvSpPr>
            <p:cNvPr id="644" name=""/>
            <p:cNvSpPr/>
            <p:nvPr/>
          </p:nvSpPr>
          <p:spPr>
            <a:xfrm>
              <a:off x="2514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12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5320" y="2208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0240" y="35805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43828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2133720"/>
            <a:ext cx="53280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29420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4393800"/>
            <a:ext cx="3808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16200000">
            <a:off x="4231080" y="3387600"/>
            <a:ext cx="5328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636800" y="3417840"/>
            <a:ext cx="53280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0280" y="342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4520" y="35042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2600" y="44186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685800" cy="685800"/>
          </a:xfrm>
          <a:prstGeom prst="ellipse">
            <a:avLst/>
          </a:prstGeom>
          <a:solidFill>
            <a:srgbClr val="00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2666880"/>
            <a:ext cx="3886200" cy="2819520"/>
            <a:chOff x="1143000" y="2666880"/>
            <a:chExt cx="3886200" cy="2819520"/>
          </a:xfrm>
        </p:grpSpPr>
        <p:sp>
          <p:nvSpPr>
            <p:cNvPr id="662" name=""/>
            <p:cNvSpPr/>
            <p:nvPr/>
          </p:nvSpPr>
          <p:spPr>
            <a:xfrm>
              <a:off x="1143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600200" y="2666880"/>
            <a:ext cx="3429000" cy="2819520"/>
            <a:chOff x="1600200" y="2666880"/>
            <a:chExt cx="3429000" cy="2819520"/>
          </a:xfrm>
        </p:grpSpPr>
        <p:sp>
          <p:nvSpPr>
            <p:cNvPr id="666" name=""/>
            <p:cNvSpPr/>
            <p:nvPr/>
          </p:nvSpPr>
          <p:spPr>
            <a:xfrm>
              <a:off x="1600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144080" y="1828800"/>
            <a:ext cx="3885120" cy="4634640"/>
            <a:chOff x="1144080" y="1828800"/>
            <a:chExt cx="3885120" cy="4634640"/>
          </a:xfrm>
        </p:grpSpPr>
        <p:sp>
          <p:nvSpPr>
            <p:cNvPr id="670" name=""/>
            <p:cNvSpPr/>
            <p:nvPr/>
          </p:nvSpPr>
          <p:spPr>
            <a:xfrm>
              <a:off x="2057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4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057400" y="1828800"/>
            <a:ext cx="2971800" cy="4876920"/>
            <a:chOff x="2057400" y="1828800"/>
            <a:chExt cx="2971800" cy="4876920"/>
          </a:xfrm>
        </p:grpSpPr>
        <p:grpSp>
          <p:nvGrpSpPr>
            <p:cNvPr id="677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574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058480" y="2666880"/>
            <a:ext cx="2970720" cy="3796560"/>
            <a:chOff x="2058480" y="2666880"/>
            <a:chExt cx="2970720" cy="3796560"/>
          </a:xfrm>
        </p:grpSpPr>
        <p:sp>
          <p:nvSpPr>
            <p:cNvPr id="685" name=""/>
            <p:cNvSpPr/>
            <p:nvPr/>
          </p:nvSpPr>
          <p:spPr>
            <a:xfrm>
              <a:off x="20584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1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904760" y="4191120"/>
            <a:ext cx="1600560" cy="2272320"/>
            <a:chOff x="1904760" y="4191120"/>
            <a:chExt cx="1600560" cy="2272320"/>
          </a:xfrm>
        </p:grpSpPr>
        <p:sp>
          <p:nvSpPr>
            <p:cNvPr id="690" name=""/>
            <p:cNvSpPr/>
            <p:nvPr/>
          </p:nvSpPr>
          <p:spPr>
            <a:xfrm>
              <a:off x="2287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0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1440" y="426708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133720" y="5562000"/>
            <a:ext cx="533160" cy="838800"/>
            <a:chOff x="2133720" y="5562000"/>
            <a:chExt cx="533160" cy="838800"/>
          </a:xfrm>
        </p:grpSpPr>
        <p:sp>
          <p:nvSpPr>
            <p:cNvPr id="697" name=""/>
            <p:cNvSpPr/>
            <p:nvPr/>
          </p:nvSpPr>
          <p:spPr>
            <a:xfrm>
              <a:off x="2133720" y="5638680"/>
              <a:ext cx="53316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9680" y="601992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5520" y="5562000"/>
              <a:ext cx="5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904760" y="2666880"/>
            <a:ext cx="3581640" cy="4038840"/>
            <a:chOff x="1904760" y="2666880"/>
            <a:chExt cx="3581640" cy="4038840"/>
          </a:xfrm>
        </p:grpSpPr>
        <p:sp>
          <p:nvSpPr>
            <p:cNvPr id="702" name=""/>
            <p:cNvSpPr/>
            <p:nvPr/>
          </p:nvSpPr>
          <p:spPr>
            <a:xfrm>
              <a:off x="27432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981080" y="426744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19520" y="5562000"/>
            <a:ext cx="1066680" cy="838800"/>
            <a:chOff x="2819520" y="5562000"/>
            <a:chExt cx="1066680" cy="838800"/>
          </a:xfrm>
        </p:grpSpPr>
        <p:sp>
          <p:nvSpPr>
            <p:cNvPr id="708" name=""/>
            <p:cNvSpPr/>
            <p:nvPr/>
          </p:nvSpPr>
          <p:spPr>
            <a:xfrm>
              <a:off x="2819520" y="5638680"/>
              <a:ext cx="10666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255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590560" y="1828800"/>
            <a:ext cx="2438640" cy="4634640"/>
            <a:chOff x="2590560" y="1828800"/>
            <a:chExt cx="2438640" cy="4634640"/>
          </a:xfrm>
        </p:grpSpPr>
        <p:sp>
          <p:nvSpPr>
            <p:cNvPr id="712" name=""/>
            <p:cNvSpPr/>
            <p:nvPr/>
          </p:nvSpPr>
          <p:spPr>
            <a:xfrm>
              <a:off x="3657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06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572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49200" y="5105520"/>
            <a:ext cx="1065600" cy="1357920"/>
            <a:chOff x="3049200" y="5105520"/>
            <a:chExt cx="1065600" cy="1357920"/>
          </a:xfrm>
        </p:grpSpPr>
        <p:sp>
          <p:nvSpPr>
            <p:cNvPr id="720" name=""/>
            <p:cNvSpPr/>
            <p:nvPr/>
          </p:nvSpPr>
          <p:spPr>
            <a:xfrm>
              <a:off x="3886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92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277800" y="5105520"/>
            <a:ext cx="1065600" cy="1357920"/>
            <a:chOff x="3277800" y="5105520"/>
            <a:chExt cx="1065600" cy="1357920"/>
          </a:xfrm>
        </p:grpSpPr>
        <p:sp>
          <p:nvSpPr>
            <p:cNvPr id="723" name=""/>
            <p:cNvSpPr/>
            <p:nvPr/>
          </p:nvSpPr>
          <p:spPr>
            <a:xfrm>
              <a:off x="4114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778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506400" y="5105520"/>
            <a:ext cx="1065600" cy="1357920"/>
            <a:chOff x="3506400" y="5105520"/>
            <a:chExt cx="1065600" cy="1357920"/>
          </a:xfrm>
        </p:grpSpPr>
        <p:sp>
          <p:nvSpPr>
            <p:cNvPr id="726" name=""/>
            <p:cNvSpPr/>
            <p:nvPr/>
          </p:nvSpPr>
          <p:spPr>
            <a:xfrm>
              <a:off x="4343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06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403848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90560" y="1828800"/>
            <a:ext cx="4115160" cy="4876920"/>
            <a:chOff x="2590560" y="1828800"/>
            <a:chExt cx="4115160" cy="4876920"/>
          </a:xfrm>
        </p:grpSpPr>
        <p:sp>
          <p:nvSpPr>
            <p:cNvPr id="730" name=""/>
            <p:cNvSpPr/>
            <p:nvPr/>
          </p:nvSpPr>
          <p:spPr>
            <a:xfrm>
              <a:off x="396252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039920" y="2057400"/>
            <a:ext cx="2818080" cy="4406040"/>
            <a:chOff x="4039920" y="2057400"/>
            <a:chExt cx="2818080" cy="4406040"/>
          </a:xfrm>
        </p:grpSpPr>
        <p:grpSp>
          <p:nvGrpSpPr>
            <p:cNvPr id="736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37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248520" y="213336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72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992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038480" y="5637960"/>
            <a:ext cx="381240" cy="762840"/>
            <a:chOff x="4038480" y="5637960"/>
            <a:chExt cx="381240" cy="762840"/>
          </a:xfrm>
        </p:grpSpPr>
        <p:sp>
          <p:nvSpPr>
            <p:cNvPr id="743" name=""/>
            <p:cNvSpPr/>
            <p:nvPr/>
          </p:nvSpPr>
          <p:spPr>
            <a:xfrm>
              <a:off x="4038480" y="5638680"/>
              <a:ext cx="38124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60199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9920" y="56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57200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343400" y="2057400"/>
            <a:ext cx="2895480" cy="4648320"/>
            <a:chOff x="4343400" y="2057400"/>
            <a:chExt cx="2895480" cy="4648320"/>
          </a:xfrm>
        </p:grpSpPr>
        <p:sp>
          <p:nvSpPr>
            <p:cNvPr id="748" name=""/>
            <p:cNvSpPr/>
            <p:nvPr/>
          </p:nvSpPr>
          <p:spPr>
            <a:xfrm>
              <a:off x="449568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8160" y="213372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72000" y="5562000"/>
            <a:ext cx="762120" cy="838800"/>
            <a:chOff x="4572000" y="5562000"/>
            <a:chExt cx="762120" cy="838800"/>
          </a:xfrm>
        </p:grpSpPr>
        <p:sp>
          <p:nvSpPr>
            <p:cNvPr id="754" name=""/>
            <p:cNvSpPr/>
            <p:nvPr/>
          </p:nvSpPr>
          <p:spPr>
            <a:xfrm>
              <a:off x="4572000" y="5638680"/>
              <a:ext cx="76212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601992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9760" y="5562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78000" y="5105520"/>
            <a:ext cx="394200" cy="1357920"/>
            <a:chOff x="4878000" y="5105520"/>
            <a:chExt cx="394200" cy="1357920"/>
          </a:xfrm>
        </p:grpSpPr>
        <p:sp>
          <p:nvSpPr>
            <p:cNvPr id="758" name=""/>
            <p:cNvSpPr/>
            <p:nvPr/>
          </p:nvSpPr>
          <p:spPr>
            <a:xfrm>
              <a:off x="5029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780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361960" y="2666880"/>
            <a:ext cx="2681640" cy="3796560"/>
            <a:chOff x="2361960" y="2666880"/>
            <a:chExt cx="2681640" cy="3796560"/>
          </a:xfrm>
        </p:grpSpPr>
        <p:sp>
          <p:nvSpPr>
            <p:cNvPr id="761" name=""/>
            <p:cNvSpPr/>
            <p:nvPr/>
          </p:nvSpPr>
          <p:spPr>
            <a:xfrm>
              <a:off x="4800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361960" y="3124080"/>
              <a:ext cx="685800" cy="685800"/>
              <a:chOff x="2361960" y="3124080"/>
              <a:chExt cx="685800" cy="68580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361600" y="312408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38280" y="32004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4649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5257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410080" y="5334120"/>
            <a:ext cx="2133360" cy="825120"/>
            <a:chOff x="5410080" y="5334120"/>
            <a:chExt cx="2133360" cy="825120"/>
          </a:xfrm>
        </p:grpSpPr>
        <p:sp>
          <p:nvSpPr>
            <p:cNvPr id="769" name=""/>
            <p:cNvSpPr/>
            <p:nvPr/>
          </p:nvSpPr>
          <p:spPr>
            <a:xfrm>
              <a:off x="5562360" y="5638680"/>
              <a:ext cx="198108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nd of 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0080" y="533412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6668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{1} </a:t>
            </a: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61960" y="3124080"/>
            <a:ext cx="685800" cy="685800"/>
            <a:chOff x="2361960" y="3124080"/>
            <a:chExt cx="685800" cy="685800"/>
          </a:xfrm>
        </p:grpSpPr>
        <p:sp>
          <p:nvSpPr>
            <p:cNvPr id="773" name=""/>
            <p:cNvSpPr/>
            <p:nvPr/>
          </p:nvSpPr>
          <p:spPr>
            <a:xfrm flipH="1">
              <a:off x="2361600" y="3124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437920" y="3200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25Z</dcterms:modified>
  <cp:revision>131</cp:revision>
  <dc:subject/>
  <dc:title>Lexical Analysis</dc:title>
</cp:coreProperties>
</file>