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78C-7630-4125-A8F6-0A3C8543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A37-ABCC-45C0-A3C9-F14552A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EA4-A2B7-434D-81C6-48D54442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B28-04A8-407F-B897-989B85A7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C8F-EA66-4892-A968-61903CA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01F-5EF1-46DB-B555-D6F0F9B1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397-E5B7-4D89-9D50-AEBC4AE8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CB1-FC06-4236-8024-FE49D38E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23C-E688-4DEA-A64F-1754876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7E7-2C42-43A2-B009-30BAAF7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4E8-F3F8-49F4-8381-08BFFCC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67C-FFC2-4F64-AACB-54AEFDB7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0E2-A5E8-4760-B331-2A031987818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Part II.</a:t>
            </a:r>
            <a:br>
              <a:rPr sz="6000"/>
            </a:b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2133720"/>
            <a:ext cx="815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nalyzer checks semantic aspect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ich may imp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s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for exampl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-to-rea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hecking declaration of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tax-Directed Transl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contr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ion of syntax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962520" y="2362320"/>
            <a:ext cx="4190760" cy="304560"/>
            <a:chOff x="3962520" y="2362320"/>
            <a:chExt cx="4190760" cy="304560"/>
          </a:xfrm>
        </p:grpSpPr>
        <p:grpSp>
          <p:nvGrpSpPr>
            <p:cNvPr id="316" name=""/>
            <p:cNvGrpSpPr/>
            <p:nvPr/>
          </p:nvGrpSpPr>
          <p:grpSpPr>
            <a:xfrm>
              <a:off x="3962520" y="2362320"/>
              <a:ext cx="838080" cy="304560"/>
              <a:chOff x="3962520" y="2362320"/>
              <a:chExt cx="838080" cy="30456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791320" y="2362320"/>
              <a:ext cx="838080" cy="304560"/>
              <a:chOff x="5791320" y="2362320"/>
              <a:chExt cx="838080" cy="304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15200" y="2362320"/>
              <a:ext cx="838080" cy="304560"/>
              <a:chOff x="7315200" y="2362320"/>
              <a:chExt cx="838080" cy="3045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2362320"/>
                <a:ext cx="838080" cy="30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 flipH="1">
            <a:off x="1904760" y="1676520"/>
            <a:ext cx="106668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676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4680" y="14472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676520"/>
            <a:ext cx="12193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yntax-Directed Translation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2819520"/>
            <a:ext cx="19047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2819520"/>
            <a:ext cx="5335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2819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2819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2819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2819520"/>
            <a:ext cx="9144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3276720"/>
            <a:ext cx="1752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3276720"/>
            <a:ext cx="380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3276720"/>
            <a:ext cx="1447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91320" y="327672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276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276720"/>
            <a:ext cx="609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4480" y="11422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800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8920" y="17517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419720" y="19810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98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19810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312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40680" y="220896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22096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209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2209680"/>
            <a:ext cx="3808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20" y="1234080"/>
            <a:ext cx="1090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666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72160" y="1397880"/>
            <a:ext cx="608760" cy="147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181480" y="1752480"/>
            <a:ext cx="456840" cy="110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629400" y="2107800"/>
            <a:ext cx="456840" cy="73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8" y="828"/>
                </a:moveTo>
                <a:arcTo wR="10800" hR="10800" stAng="-4044979" swAng="6837518"/>
                <a:lnTo>
                  <a:pt x="10800" y="10800"/>
                </a:lnTo>
                <a:close/>
              </a:path>
              <a:path fill="none" w="21600" h="21600">
                <a:moveTo>
                  <a:pt x="14948" y="828"/>
                </a:moveTo>
                <a:arcTo wR="10800" hR="10800" stAng="-4044979" swAng="6837518"/>
              </a:path>
            </a:pathLst>
          </a:custGeom>
          <a:noFill/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38000" y="1294920"/>
            <a:ext cx="1578240" cy="1750680"/>
            <a:chOff x="7038000" y="1294920"/>
            <a:chExt cx="1578240" cy="1750680"/>
          </a:xfrm>
        </p:grpSpPr>
        <p:sp>
          <p:nvSpPr>
            <p:cNvPr id="363" name=""/>
            <p:cNvSpPr/>
            <p:nvPr/>
          </p:nvSpPr>
          <p:spPr>
            <a:xfrm flipV="1">
              <a:off x="7692120" y="1751760"/>
              <a:ext cx="610200" cy="12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8" y="828"/>
                  </a:moveTo>
                  <a:arcTo wR="10800" hR="10800" stAng="-4044979" swAng="14284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8" y="828"/>
                  </a:moveTo>
                  <a:arcTo wR="10800" hR="10800" stAng="-4044979" swAng="1428486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38000" y="1294920"/>
              <a:ext cx="157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30360" y="3642120"/>
            <a:ext cx="6676920" cy="2758680"/>
            <a:chOff x="630360" y="3642120"/>
            <a:chExt cx="6676920" cy="2758680"/>
          </a:xfrm>
        </p:grpSpPr>
        <p:sp>
          <p:nvSpPr>
            <p:cNvPr id="366" name=""/>
            <p:cNvSpPr/>
            <p:nvPr/>
          </p:nvSpPr>
          <p:spPr>
            <a:xfrm>
              <a:off x="914400" y="5943600"/>
              <a:ext cx="19051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95480" y="3809880"/>
              <a:ext cx="5335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5943600"/>
              <a:ext cx="16002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5680" y="441972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943600"/>
              <a:ext cx="99072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38680" y="4952880"/>
              <a:ext cx="3812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67280" y="5943600"/>
              <a:ext cx="91440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9040" y="5333760"/>
              <a:ext cx="1398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600" spc="-1" strike="noStrike">
                  <a:solidFill>
                    <a:srgbClr val="ff0000"/>
                  </a:solidFill>
                  <a:latin typeface="Times New Roman"/>
                </a:rPr>
                <a:t>IntToR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24480" y="5791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752120" y="4038480"/>
              <a:ext cx="11430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9000" y="4038480"/>
              <a:ext cx="1295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33920" y="4724280"/>
              <a:ext cx="7617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181480" y="5181480"/>
              <a:ext cx="457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9920" y="518148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6920" y="4648320"/>
              <a:ext cx="99036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360" y="3642120"/>
              <a:ext cx="14180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Abstrac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Synta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ree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106704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bstract 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ntax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21337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mediate code generator produce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version of target program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se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 translation to target program is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icult and “r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19520" y="4724280"/>
            <a:ext cx="5486400" cy="1676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Interme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code generato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9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3581280"/>
            <a:ext cx="19047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1447920"/>
            <a:ext cx="533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581280"/>
            <a:ext cx="16002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205740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81280"/>
            <a:ext cx="9907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2590920"/>
            <a:ext cx="38088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581280"/>
            <a:ext cx="914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4196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640" y="3047760"/>
            <a:ext cx="163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imes New Roman"/>
              </a:rPr>
              <a:t>IntToR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5053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040" y="1676520"/>
            <a:ext cx="11430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676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038120" y="2362320"/>
            <a:ext cx="7621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486400" y="2819520"/>
            <a:ext cx="45720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24480" y="2819520"/>
            <a:ext cx="3812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2286000"/>
            <a:ext cx="9907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5320" y="1066320"/>
            <a:ext cx="159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Abstr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14800" y="4191120"/>
            <a:ext cx="10666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705720" y="2608920"/>
            <a:ext cx="1155240" cy="781200"/>
            <a:chOff x="6705720" y="2608920"/>
            <a:chExt cx="1155240" cy="781200"/>
          </a:xfrm>
        </p:grpSpPr>
        <p:sp>
          <p:nvSpPr>
            <p:cNvPr id="410" name=""/>
            <p:cNvSpPr/>
            <p:nvPr/>
          </p:nvSpPr>
          <p:spPr>
            <a:xfrm>
              <a:off x="6705720" y="260892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86600" y="2741400"/>
              <a:ext cx="774360" cy="64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3" y="0"/>
                  </a:moveTo>
                  <a:arcTo wR="10800" hR="10800" stAng="-5383181" swAng="107123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3" y="0"/>
                  </a:moveTo>
                  <a:arcTo wR="10800" hR="10800" stAng="-5383181" swAng="10712313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91320" y="1847160"/>
            <a:ext cx="761760" cy="840240"/>
            <a:chOff x="5791320" y="1847160"/>
            <a:chExt cx="761760" cy="840240"/>
          </a:xfrm>
        </p:grpSpPr>
        <p:sp>
          <p:nvSpPr>
            <p:cNvPr id="413" name=""/>
            <p:cNvSpPr/>
            <p:nvPr/>
          </p:nvSpPr>
          <p:spPr>
            <a:xfrm>
              <a:off x="5791320" y="184716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202080" y="231084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527960" y="537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3400" y="472356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3640" y="510444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4360" y="548568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6800" y="5866560"/>
            <a:ext cx="36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09720" y="2739960"/>
            <a:ext cx="1295640" cy="1383840"/>
            <a:chOff x="5409720" y="2739960"/>
            <a:chExt cx="1295640" cy="1383840"/>
          </a:xfrm>
        </p:grpSpPr>
        <p:sp>
          <p:nvSpPr>
            <p:cNvPr id="421" name=""/>
            <p:cNvSpPr/>
            <p:nvPr/>
          </p:nvSpPr>
          <p:spPr>
            <a:xfrm flipH="1" flipV="1">
              <a:off x="5409360" y="2739960"/>
              <a:ext cx="1066680" cy="138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6324120" y="2818800"/>
              <a:ext cx="3812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48320" y="1313280"/>
            <a:ext cx="761760" cy="840240"/>
            <a:chOff x="4648320" y="1313280"/>
            <a:chExt cx="761760" cy="840240"/>
          </a:xfrm>
        </p:grpSpPr>
        <p:sp>
          <p:nvSpPr>
            <p:cNvPr id="424" name=""/>
            <p:cNvSpPr/>
            <p:nvPr/>
          </p:nvSpPr>
          <p:spPr>
            <a:xfrm>
              <a:off x="4648320" y="1313280"/>
              <a:ext cx="76176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059080" y="1776960"/>
              <a:ext cx="350640" cy="37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46" y="502"/>
                  </a:moveTo>
                  <a:arcTo wR="10800" hR="10800" stAng="-6452038" swAng="924457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46" y="502"/>
                  </a:moveTo>
                  <a:arcTo wR="10800" hR="10800" stAng="-6452038" swAng="9244577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809520" y="2286000"/>
            <a:ext cx="1981800" cy="2184480"/>
            <a:chOff x="3809520" y="2286000"/>
            <a:chExt cx="1981800" cy="2184480"/>
          </a:xfrm>
        </p:grpSpPr>
        <p:sp>
          <p:nvSpPr>
            <p:cNvPr id="427" name=""/>
            <p:cNvSpPr/>
            <p:nvPr/>
          </p:nvSpPr>
          <p:spPr>
            <a:xfrm flipH="1" flipV="1">
              <a:off x="3809160" y="2286000"/>
              <a:ext cx="1981080" cy="21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91" y="9266"/>
                  </a:moveTo>
                  <a:arcTo wR="10800" hR="10800" stAng="-489945" swAng="58899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91" y="9266"/>
                  </a:moveTo>
                  <a:arcTo wR="10800" hR="10800" stAng="-489945" swAng="5889945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5181480" y="2286000"/>
              <a:ext cx="60984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3733920" y="1600200"/>
            <a:ext cx="9144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80000" y="1600200"/>
            <a:ext cx="2438280" cy="346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91" y="9266"/>
                </a:moveTo>
                <a:arcTo wR="10800" hR="10800" stAng="-489945" swAng="5889945"/>
                <a:lnTo>
                  <a:pt x="10800" y="10800"/>
                </a:lnTo>
                <a:close/>
              </a:path>
              <a:path fill="none" w="21600" h="21600">
                <a:moveTo>
                  <a:pt x="21491" y="9266"/>
                </a:moveTo>
                <a:arcTo wR="10800" hR="10800" stAng="-489945" swAng="5889945"/>
              </a:path>
            </a:pathLst>
          </a:custGeom>
          <a:noFill/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7120" y="472392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2133720"/>
            <a:ext cx="84582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Optimizer makes more efficient version o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ntermediate code called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optimized intermediate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nstant propagation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a := 1; b := 2; c := a + b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 := 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a, b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Copy propag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b := a; c := b; d := c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d := 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5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i="1" lang="en-GB" sz="2500" spc="-1" strike="noStrike">
                <a:solidFill>
                  <a:srgbClr val="000000"/>
                </a:solidFill>
                <a:latin typeface="Times New Roman"/>
              </a:rPr>
              <a:t> Variables b, c have no next u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</a:rPr>
              <a:t>Dead code elimination</a:t>
            </a:r>
            <a:r>
              <a:rPr b="1" lang="cs-CZ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false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noth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943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me compilers have no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823480" y="5486400"/>
            <a:ext cx="637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666880" y="4800600"/>
            <a:ext cx="5791320" cy="10666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1295280"/>
            <a:ext cx="5562720" cy="2590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72200" y="3962520"/>
            <a:ext cx="106668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5680" y="13708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1 :=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IntToReal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5920" y="198036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7000" y="2589840"/>
            <a:ext cx="50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3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 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58920" y="319968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:= T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9400" y="1371240"/>
            <a:ext cx="229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Intermedi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4266360"/>
            <a:ext cx="58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048120" y="1447920"/>
            <a:ext cx="4266720" cy="1143000"/>
            <a:chOff x="3048120" y="1447920"/>
            <a:chExt cx="4266720" cy="1143000"/>
          </a:xfrm>
        </p:grpSpPr>
        <p:sp>
          <p:nvSpPr>
            <p:cNvPr id="452" name=""/>
            <p:cNvSpPr/>
            <p:nvPr/>
          </p:nvSpPr>
          <p:spPr>
            <a:xfrm>
              <a:off x="3048120" y="1447920"/>
              <a:ext cx="82044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94400" y="2057760"/>
              <a:ext cx="820440" cy="533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1829160"/>
              <a:ext cx="270756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971800" y="2590920"/>
            <a:ext cx="3429000" cy="1143000"/>
            <a:chOff x="2971800" y="2590920"/>
            <a:chExt cx="3429000" cy="1143000"/>
          </a:xfrm>
        </p:grpSpPr>
        <p:sp>
          <p:nvSpPr>
            <p:cNvPr id="456" name=""/>
            <p:cNvSpPr/>
            <p:nvPr/>
          </p:nvSpPr>
          <p:spPr>
            <a:xfrm>
              <a:off x="2971800" y="259092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8680" y="3200400"/>
              <a:ext cx="762120" cy="5335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600" y="3048120"/>
              <a:ext cx="198108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35400" y="487584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 * 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41880" y="5333040"/>
            <a:ext cx="59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828800"/>
            <a:ext cx="2133360" cy="0"/>
          </a:xfrm>
          <a:prstGeom prst="line">
            <a:avLst/>
          </a:prstGeom>
          <a:ln w="5724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ptimiz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media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21337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timized intermediate code is conver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get program is written in target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reality, target language is assembly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209680" y="3962520"/>
            <a:ext cx="4953240" cy="21333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76520" y="1752480"/>
            <a:ext cx="5790960" cy="10670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2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28954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66000" y="1828080"/>
            <a:ext cx="44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6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95960" y="22852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siton := </a:t>
            </a: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1" lang="cs-CZ" sz="3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3519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arget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1422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ptimized intermediate co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282040" y="2060640"/>
            <a:ext cx="5870880" cy="2863440"/>
            <a:chOff x="2282040" y="2060640"/>
            <a:chExt cx="5870880" cy="2863440"/>
          </a:xfrm>
        </p:grpSpPr>
        <p:sp>
          <p:nvSpPr>
            <p:cNvPr id="477" name=""/>
            <p:cNvSpPr/>
            <p:nvPr/>
          </p:nvSpPr>
          <p:spPr>
            <a:xfrm>
              <a:off x="2282040" y="3961800"/>
              <a:ext cx="38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2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20720" y="4342680"/>
              <a:ext cx="359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ul R2, #60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48520" y="403884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6280" y="2060640"/>
              <a:ext cx="371664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204" y="119"/>
                  </a:moveTo>
                  <a:arcTo wR="10800" hR="10800" stAng="-5909927" swAng="10756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9204" y="119"/>
                  </a:moveTo>
                  <a:arcTo wR="10800" hR="10800" stAng="-5909927" swAng="10756632"/>
                </a:path>
              </a:pathLst>
            </a:custGeom>
            <a:noFill/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55520" y="3523680"/>
              <a:ext cx="1488240" cy="5205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3120" y="2343600"/>
            <a:ext cx="5976360" cy="3723480"/>
            <a:chOff x="2283120" y="2343600"/>
            <a:chExt cx="5976360" cy="3723480"/>
          </a:xfrm>
        </p:grpSpPr>
        <p:sp>
          <p:nvSpPr>
            <p:cNvPr id="483" name=""/>
            <p:cNvSpPr/>
            <p:nvPr/>
          </p:nvSpPr>
          <p:spPr>
            <a:xfrm>
              <a:off x="2283120" y="4723560"/>
              <a:ext cx="456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R3,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9640" y="510480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add R2, R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6840" y="5485680"/>
              <a:ext cx="431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fmov </a:t>
              </a:r>
              <a:r>
                <a:rPr b="1" lang="cs-CZ" sz="2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Position,R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81680" y="4800600"/>
              <a:ext cx="228600" cy="1143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41760" y="2343600"/>
              <a:ext cx="3717720" cy="316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442" y="1591"/>
                  </a:moveTo>
                  <a:arcTo wR="10800" hR="10800" stAng="-3510213" swAng="7580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442" y="1591"/>
                  </a:moveTo>
                  <a:arcTo wR="10800" hR="10800" stAng="-3510213" swAng="7580488"/>
                </a:path>
              </a:pathLst>
            </a:custGeom>
            <a:noFill/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arge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ompiler rea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ce language) and translates them 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arget progra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in target langua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and target programs a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uncti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5168880"/>
            <a:ext cx="2971800" cy="139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7804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88288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79064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42900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648320"/>
            <a:ext cx="396252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635360"/>
            <a:ext cx="29718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962520"/>
            <a:ext cx="39625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1280" y="396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 * 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1280" y="419004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04000"/>
            <a:ext cx="2971800" cy="51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*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5423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ul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#6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565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3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I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5181480"/>
            <a:ext cx="3962520" cy="138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, Id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80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dd R2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1088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mov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416400"/>
            <a:ext cx="2971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01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3645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87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022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64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873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10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21896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6450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16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3336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38736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410220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92240" y="504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52833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81160" y="55119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574056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62040" y="5283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924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4160" y="6197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5220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6080" y="52833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40940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6660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55119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24160" y="57405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74056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IntToRe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52760" y="61214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0560" y="22849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1  := IntToReal(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1280" y="251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2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1280" y="2742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3  :=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360" y="2970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= 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08640" y="2324160"/>
            <a:ext cx="3949560" cy="102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505680" y="1359000"/>
            <a:ext cx="30384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506040" y="1969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506040" y="2578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506040" y="311220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05680" y="4331160"/>
            <a:ext cx="38088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506040" y="4864680"/>
            <a:ext cx="380520" cy="5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6200000">
            <a:off x="4265280" y="2059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4265280" y="312588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rot="16200000">
            <a:off x="4265280" y="36594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4265280" y="4345200"/>
            <a:ext cx="38052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264920" y="4877640"/>
            <a:ext cx="380880" cy="53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" y="11781"/>
                </a:moveTo>
                <a:arcTo wR="10800" hR="10800" stAng="10487201" swAng="11615442"/>
                <a:lnTo>
                  <a:pt x="10800" y="10800"/>
                </a:lnTo>
                <a:close/>
              </a:path>
              <a:path fill="none" w="21600" h="21600">
                <a:moveTo>
                  <a:pt x="45" y="11781"/>
                </a:moveTo>
                <a:arcTo wR="10800" hR="10800" stAng="10487201" swAng="11615442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5000" y="1887480"/>
            <a:ext cx="850680" cy="4538880"/>
          </a:xfrm>
          <a:custGeom>
            <a:avLst/>
            <a:gdLst/>
            <a:ahLst/>
            <a:rect l="l" t="t" r="r" b="b"/>
            <a:pathLst>
              <a:path w="576" h="2843">
                <a:moveTo>
                  <a:pt x="0" y="2843"/>
                </a:moveTo>
                <a:cubicBezTo>
                  <a:pt x="44" y="2798"/>
                  <a:pt x="216" y="2819"/>
                  <a:pt x="264" y="2571"/>
                </a:cubicBezTo>
                <a:cubicBezTo>
                  <a:pt x="312" y="2323"/>
                  <a:pt x="284" y="1700"/>
                  <a:pt x="288" y="1355"/>
                </a:cubicBezTo>
                <a:cubicBezTo>
                  <a:pt x="292" y="1010"/>
                  <a:pt x="276" y="711"/>
                  <a:pt x="288" y="499"/>
                </a:cubicBezTo>
                <a:cubicBezTo>
                  <a:pt x="300" y="287"/>
                  <a:pt x="312" y="166"/>
                  <a:pt x="360" y="83"/>
                </a:cubicBezTo>
                <a:cubicBezTo>
                  <a:pt x="408" y="0"/>
                  <a:pt x="531" y="20"/>
                  <a:pt x="576" y="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943600" y="1219320"/>
            <a:ext cx="2514600" cy="3657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13716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3716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2960" y="13716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4120" y="2666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Syntax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65760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Optimized intermediat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5562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arge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3716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1828800"/>
            <a:ext cx="1568520" cy="3794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1752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743200"/>
            <a:ext cx="22100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9718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27432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971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rmediate code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148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42670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486400"/>
            <a:ext cx="220968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5638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209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Compiler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160" y="2286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124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153280" y="2286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038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yntax-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ore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1337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a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743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actica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76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...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191120"/>
            <a:ext cx="70106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begin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=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73392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asca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Language 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81480"/>
            <a:ext cx="327672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Y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rget progra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5181480"/>
            <a:ext cx="4267080" cy="82548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Program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24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472428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s and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ource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81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181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20968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program is broken in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lexem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ly cohesive lexical entiti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dentifiers, numbers, key-words, operator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xemes are represented by uniform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tokens ha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xical analyzer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exical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6920" y="1142280"/>
            <a:ext cx="296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Source progra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Position := Initial + Rate *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15480" y="4038480"/>
            <a:ext cx="7009200" cy="1905120"/>
            <a:chOff x="915480" y="4038480"/>
            <a:chExt cx="7009200" cy="1905120"/>
          </a:xfrm>
        </p:grpSpPr>
        <p:sp>
          <p:nvSpPr>
            <p:cNvPr id="175" name=""/>
            <p:cNvSpPr/>
            <p:nvPr/>
          </p:nvSpPr>
          <p:spPr>
            <a:xfrm>
              <a:off x="3962520" y="4038480"/>
              <a:ext cx="1066680" cy="838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5480" y="4571280"/>
              <a:ext cx="1492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Token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90720" y="5105520"/>
              <a:ext cx="1904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105520"/>
              <a:ext cx="5335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1280" y="5105520"/>
              <a:ext cx="160020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i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5105520"/>
              <a:ext cx="38088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5000" y="5105520"/>
              <a:ext cx="9907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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81680" y="5105520"/>
              <a:ext cx="30492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920" y="5105520"/>
              <a:ext cx="761760" cy="8380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5562720"/>
              <a:ext cx="1752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562720"/>
              <a:ext cx="3808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7600" y="5562720"/>
              <a:ext cx="14479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1320" y="556272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562720"/>
              <a:ext cx="152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556272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4120" y="55627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33040" y="2133720"/>
            <a:ext cx="7015680" cy="1676160"/>
            <a:chOff x="833040" y="2133720"/>
            <a:chExt cx="7015680" cy="1676160"/>
          </a:xfrm>
        </p:grpSpPr>
        <p:sp>
          <p:nvSpPr>
            <p:cNvPr id="192" name=""/>
            <p:cNvSpPr/>
            <p:nvPr/>
          </p:nvSpPr>
          <p:spPr>
            <a:xfrm>
              <a:off x="990720" y="3200400"/>
              <a:ext cx="19047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Posi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71800" y="3200400"/>
              <a:ext cx="5335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: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3200400"/>
              <a:ext cx="16002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Init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57800" y="3200400"/>
              <a:ext cx="38088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200400"/>
              <a:ext cx="9907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81680" y="3200400"/>
              <a:ext cx="30492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2920" y="3200400"/>
              <a:ext cx="68580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Courier New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2520" y="2133720"/>
              <a:ext cx="1066680" cy="83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3040" y="2666160"/>
              <a:ext cx="172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000" spc="-1" strike="noStrike">
                  <a:solidFill>
                    <a:srgbClr val="3333cc"/>
                  </a:solidFill>
                  <a:latin typeface="Times New Roman"/>
                </a:rPr>
                <a:t>Lexeme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In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Output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0958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ser verifies that the string of 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presents a syntactically well-form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it finds a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arse t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or the string,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rrect; otherwise, it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struction of tree is based on gramma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pproach: top-down and botto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0720" y="3048120"/>
            <a:ext cx="6933960" cy="1981080"/>
            <a:chOff x="990720" y="3048120"/>
            <a:chExt cx="6933960" cy="1981080"/>
          </a:xfrm>
        </p:grpSpPr>
        <p:sp>
          <p:nvSpPr>
            <p:cNvPr id="210" name=""/>
            <p:cNvSpPr/>
            <p:nvPr/>
          </p:nvSpPr>
          <p:spPr>
            <a:xfrm>
              <a:off x="990720" y="3048120"/>
              <a:ext cx="6933960" cy="1981080"/>
            </a:xfrm>
            <a:custGeom>
              <a:avLst/>
              <a:gdLst/>
              <a:ahLst/>
              <a:rect l="l" t="t" r="r" b="b"/>
              <a:pathLst>
                <a:path w="4368" h="1296">
                  <a:moveTo>
                    <a:pt x="0" y="1296"/>
                  </a:moveTo>
                  <a:lnTo>
                    <a:pt x="4368" y="1296"/>
                  </a:lnTo>
                  <a:lnTo>
                    <a:pt x="2064" y="0"/>
                  </a:lnTo>
                  <a:lnTo>
                    <a:pt x="1920" y="48"/>
                  </a:lnTo>
                  <a:lnTo>
                    <a:pt x="1152" y="48"/>
                  </a:lnTo>
                  <a:lnTo>
                    <a:pt x="960" y="0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1960" y="3657600"/>
              <a:ext cx="304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reate a parse t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rom a grammatical rules 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5800" y="2590920"/>
            <a:ext cx="7924680" cy="2971800"/>
            <a:chOff x="685800" y="2590920"/>
            <a:chExt cx="7924680" cy="2971800"/>
          </a:xfrm>
        </p:grpSpPr>
        <p:sp>
          <p:nvSpPr>
            <p:cNvPr id="213" name=""/>
            <p:cNvSpPr/>
            <p:nvPr/>
          </p:nvSpPr>
          <p:spPr>
            <a:xfrm>
              <a:off x="685800" y="2971800"/>
              <a:ext cx="7924680" cy="25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981080" y="3048120"/>
              <a:ext cx="99072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76720" y="304812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200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91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426636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: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907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4680" y="289512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3048120"/>
              <a:ext cx="12193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5909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ntax analyz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206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7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87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12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0" y="14468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6160" y="144684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920" y="1065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1219320"/>
            <a:ext cx="38124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000" y="1219320"/>
            <a:ext cx="380880" cy="3808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680" y="2056320"/>
            <a:ext cx="16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428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48920" y="2056320"/>
            <a:ext cx="16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41936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3440" y="205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867280" y="19051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19051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53040" y="2056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78160" y="20563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2800" y="205632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: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3644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2600" y="19051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94000" y="1905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9040" y="6171480"/>
            <a:ext cx="136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ok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4760" y="5105520"/>
            <a:ext cx="19051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6200" y="5105520"/>
            <a:ext cx="5331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: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95680" y="5105520"/>
            <a:ext cx="160020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2200" y="5105520"/>
            <a:ext cx="38088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5105520"/>
            <a:ext cx="99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6080" y="5105520"/>
            <a:ext cx="30492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76960" y="5105520"/>
            <a:ext cx="900360" cy="838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81080" y="5562720"/>
            <a:ext cx="1752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62160" y="55627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72000" y="556272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05360" y="5562720"/>
            <a:ext cx="8384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2400" y="556272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53280" y="5562720"/>
            <a:ext cx="747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48160" y="55627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4464720" y="2559600"/>
            <a:ext cx="152280" cy="7072560"/>
          </a:xfrm>
          <a:custGeom>
            <a:avLst/>
            <a:gdLst>
              <a:gd name="textAreaLeft" fmla="*/ 0 w 152280"/>
              <a:gd name="textAreaRight" fmla="*/ 55080 w 152280"/>
              <a:gd name="textAreaTop" fmla="*/ 184320 h 7072560"/>
              <a:gd name="textAreaBottom" fmla="*/ 6888240 h 707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44"/>
                </a:lnTo>
                <a:cubicBezTo>
                  <a:pt x="10800" y="9944"/>
                  <a:pt x="16200" y="10844"/>
                  <a:pt x="21600" y="10844"/>
                </a:cubicBezTo>
                <a:cubicBezTo>
                  <a:pt x="16200" y="10844"/>
                  <a:pt x="10800" y="11744"/>
                  <a:pt x="10800" y="126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4480" y="251388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88000" y="3048120"/>
            <a:ext cx="3541320" cy="2057400"/>
            <a:chOff x="3888000" y="3048120"/>
            <a:chExt cx="3541320" cy="2057400"/>
          </a:xfrm>
        </p:grpSpPr>
        <p:sp>
          <p:nvSpPr>
            <p:cNvPr id="276" name=""/>
            <p:cNvSpPr/>
            <p:nvPr/>
          </p:nvSpPr>
          <p:spPr>
            <a:xfrm>
              <a:off x="5250240" y="4266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448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800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8920" y="32760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419720" y="342900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4290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3429000"/>
              <a:ext cx="8380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3048120"/>
              <a:ext cx="38124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93120" y="3276720"/>
            <a:ext cx="2397960" cy="1828800"/>
            <a:chOff x="5793120" y="3276720"/>
            <a:chExt cx="2397960" cy="1828800"/>
          </a:xfrm>
        </p:grpSpPr>
        <p:sp>
          <p:nvSpPr>
            <p:cNvPr id="285" name=""/>
            <p:cNvSpPr/>
            <p:nvPr/>
          </p:nvSpPr>
          <p:spPr>
            <a:xfrm>
              <a:off x="6720840" y="4266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9312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0680" y="3733200"/>
              <a:ext cx="95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Ex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733920"/>
              <a:ext cx="228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3810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15200" y="365760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91520" y="32767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130640" y="4114800"/>
            <a:ext cx="898560" cy="990720"/>
            <a:chOff x="4130640" y="4114800"/>
            <a:chExt cx="898560" cy="990720"/>
          </a:xfrm>
        </p:grpSpPr>
        <p:sp>
          <p:nvSpPr>
            <p:cNvPr id="294" name=""/>
            <p:cNvSpPr/>
            <p:nvPr/>
          </p:nvSpPr>
          <p:spPr>
            <a:xfrm>
              <a:off x="41306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78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4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8320" y="4114800"/>
              <a:ext cx="380880" cy="3812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59440" y="4191120"/>
            <a:ext cx="822240" cy="914400"/>
            <a:chOff x="5959440" y="4191120"/>
            <a:chExt cx="822240" cy="914400"/>
          </a:xfrm>
        </p:grpSpPr>
        <p:sp>
          <p:nvSpPr>
            <p:cNvPr id="299" name=""/>
            <p:cNvSpPr/>
            <p:nvPr/>
          </p:nvSpPr>
          <p:spPr>
            <a:xfrm>
              <a:off x="5959440" y="4266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i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86600" y="47246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4191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0800" y="419112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64280" y="2590200"/>
            <a:ext cx="109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Pa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22760" y="4038480"/>
            <a:ext cx="1078200" cy="1066680"/>
            <a:chOff x="7322760" y="4038480"/>
            <a:chExt cx="1078200" cy="1066680"/>
          </a:xfrm>
        </p:grpSpPr>
        <p:sp>
          <p:nvSpPr>
            <p:cNvPr id="305" name=""/>
            <p:cNvSpPr/>
            <p:nvPr/>
          </p:nvSpPr>
          <p:spPr>
            <a:xfrm>
              <a:off x="7322760" y="4190040"/>
              <a:ext cx="6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472428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4190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20080" y="4038480"/>
              <a:ext cx="380880" cy="3808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5-09-29T09:57:10Z</dcterms:modified>
  <cp:revision>125</cp:revision>
  <dc:subject/>
  <dc:title>Introduction to Compilers</dc:title>
</cp:coreProperties>
</file>