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96FD-F7FE-44E6-A981-9E352FF2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C144-66BA-4B2B-B2E0-92012BB8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B102-2DD8-4DFF-A471-C4EA9BAA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347E-1D71-4B13-B9F0-02619372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1B27-E823-4A15-8686-79C067D6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334B-348C-443D-9148-22E5B3E8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5752-68B7-42EF-A32C-A8591A22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E85B-80AA-47C7-A4E6-F3A8E666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B33E-1B84-48C8-B9FE-71CFBCA2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AFEE-2255-4CA7-AD88-A9DB9EC6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6546-7680-4024-87EC-173EFB6A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7645-A8D2-48F9-91E3-1751E5AB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1FBF-1042-449C-9D57-382EA0C5C6F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V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Vari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nts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of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 Finite Automat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1523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free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2438280"/>
            <a:ext cx="800100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’ := {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}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kip all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85800" y="5562720"/>
            <a:ext cx="6934320" cy="1066680"/>
            <a:chOff x="685800" y="5562720"/>
            <a:chExt cx="6934320" cy="1066680"/>
          </a:xfrm>
        </p:grpSpPr>
        <p:sp>
          <p:nvSpPr>
            <p:cNvPr id="282" name=""/>
            <p:cNvSpPr/>
            <p:nvPr/>
          </p:nvSpPr>
          <p:spPr>
            <a:xfrm>
              <a:off x="2895480" y="5562720"/>
              <a:ext cx="3048120" cy="10666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24080" y="57913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280" y="5867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3080" y="58672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57800" y="6095880"/>
              <a:ext cx="1295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9920" y="55627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65760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812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62320" y="58672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86600" y="59436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657600" y="617220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43400" y="6019920"/>
              <a:ext cx="3808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4419720" y="6248160"/>
              <a:ext cx="30456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86200" y="56386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57600" y="5867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6708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43400" y="5638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257800" y="58672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8148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57800" y="6248520"/>
              <a:ext cx="4572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34120" y="59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5800" y="5562720"/>
              <a:ext cx="1905120" cy="4899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57913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108240" y="4876920"/>
            <a:ext cx="4035240" cy="1982160"/>
            <a:chOff x="3108240" y="4876920"/>
            <a:chExt cx="4035240" cy="1982160"/>
          </a:xfrm>
        </p:grpSpPr>
        <p:sp>
          <p:nvSpPr>
            <p:cNvPr id="306" name=""/>
            <p:cNvSpPr/>
            <p:nvPr/>
          </p:nvSpPr>
          <p:spPr>
            <a:xfrm flipH="1">
              <a:off x="3107880" y="4876920"/>
              <a:ext cx="403524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8" y="17748"/>
                  </a:moveTo>
                  <a:arcTo wR="10800" hR="10800" stAng="2402385" swAng="5886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8" y="17748"/>
                  </a:moveTo>
                  <a:arcTo wR="10800" hR="10800" stAng="2402385" swAng="5886570"/>
                </a:path>
              </a:pathLst>
            </a:custGeom>
            <a:noFill/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5880" y="62164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121932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09480" y="3048120"/>
            <a:ext cx="8534520" cy="2865600"/>
            <a:chOff x="609480" y="3048120"/>
            <a:chExt cx="8534520" cy="2865600"/>
          </a:xfrm>
        </p:grpSpPr>
        <p:sp>
          <p:nvSpPr>
            <p:cNvPr id="312" name=""/>
            <p:cNvSpPr/>
            <p:nvPr/>
          </p:nvSpPr>
          <p:spPr>
            <a:xfrm>
              <a:off x="609480" y="3048120"/>
              <a:ext cx="7696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1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5800" y="36576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5800" y="4191120"/>
              <a:ext cx="8458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5800" y="4724280"/>
              <a:ext cx="830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2120" y="533412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339933"/>
                  </a:solidFill>
                  <a:latin typeface="Times New Roman"/>
                </a:rPr>
                <a:t>,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609480" y="1066680"/>
            <a:ext cx="8229600" cy="1570320"/>
            <a:chOff x="609480" y="1066680"/>
            <a:chExt cx="8229600" cy="1570320"/>
          </a:xfrm>
        </p:grpSpPr>
        <p:sp>
          <p:nvSpPr>
            <p:cNvPr id="320" name=""/>
            <p:cNvSpPr/>
            <p:nvPr/>
          </p:nvSpPr>
          <p:spPr>
            <a:xfrm>
              <a:off x="609480" y="1066680"/>
              <a:ext cx="6782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2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9480" y="160020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9480" y="205740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5800" y="2590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09480" y="2590920"/>
            <a:ext cx="7848720" cy="1569960"/>
            <a:chOff x="609480" y="2590920"/>
            <a:chExt cx="7848720" cy="1569960"/>
          </a:xfrm>
        </p:grpSpPr>
        <p:sp>
          <p:nvSpPr>
            <p:cNvPr id="325" name=""/>
            <p:cNvSpPr/>
            <p:nvPr/>
          </p:nvSpPr>
          <p:spPr>
            <a:xfrm>
              <a:off x="609480" y="2590920"/>
              <a:ext cx="7315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3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480" y="3124080"/>
              <a:ext cx="7696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9480" y="358128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5800" y="41148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09480" y="4114800"/>
            <a:ext cx="8077320" cy="1447920"/>
            <a:chOff x="609480" y="4114800"/>
            <a:chExt cx="8077320" cy="1447920"/>
          </a:xfrm>
        </p:grpSpPr>
        <p:sp>
          <p:nvSpPr>
            <p:cNvPr id="330" name=""/>
            <p:cNvSpPr/>
            <p:nvPr/>
          </p:nvSpPr>
          <p:spPr>
            <a:xfrm>
              <a:off x="609480" y="4114800"/>
              <a:ext cx="701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4) for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9480" y="464832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9480" y="5029200"/>
              <a:ext cx="685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5800" y="55627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09480" y="5486400"/>
            <a:ext cx="7848720" cy="960480"/>
            <a:chOff x="609480" y="5486400"/>
            <a:chExt cx="7848720" cy="960480"/>
          </a:xfrm>
        </p:grpSpPr>
        <p:sp>
          <p:nvSpPr>
            <p:cNvPr id="335" name=""/>
            <p:cNvSpPr/>
            <p:nvPr/>
          </p:nvSpPr>
          <p:spPr>
            <a:xfrm>
              <a:off x="609480" y="548640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19320" y="5867280"/>
              <a:ext cx="6858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457200" y="106668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144792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1828800"/>
            <a:ext cx="7315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2209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= 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15200" y="12193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67480" y="17524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480" y="2936880"/>
            <a:ext cx="7620120" cy="3679560"/>
            <a:chOff x="609480" y="2936880"/>
            <a:chExt cx="7620120" cy="3679560"/>
          </a:xfrm>
        </p:grpSpPr>
        <p:sp>
          <p:nvSpPr>
            <p:cNvPr id="347" name=""/>
            <p:cNvSpPr/>
            <p:nvPr/>
          </p:nvSpPr>
          <p:spPr>
            <a:xfrm>
              <a:off x="2133720" y="40384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66680" y="4038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480" y="42670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09680" y="30481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00400" y="39625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1600200" y="3809880"/>
              <a:ext cx="533520" cy="520560"/>
              <a:chOff x="1600200" y="3809880"/>
              <a:chExt cx="533520" cy="520560"/>
            </a:xfrm>
          </p:grpSpPr>
          <p:sp>
            <p:nvSpPr>
              <p:cNvPr id="353" name=""/>
              <p:cNvSpPr/>
              <p:nvPr/>
            </p:nvSpPr>
            <p:spPr>
              <a:xfrm>
                <a:off x="1697040" y="380988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600200" y="4267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2666880" y="4495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76520" y="4495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71600" y="4572000"/>
              <a:ext cx="7621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2666880" y="4572000"/>
              <a:ext cx="6098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548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76720" y="403848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90720" y="35402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43000" y="304812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57400" y="35053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33720" y="4952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352680" y="29718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2666880" y="3809880"/>
              <a:ext cx="533520" cy="520560"/>
              <a:chOff x="2666880" y="3809880"/>
              <a:chExt cx="533520" cy="520560"/>
            </a:xfrm>
          </p:grpSpPr>
          <p:sp>
            <p:nvSpPr>
              <p:cNvPr id="367" name=""/>
              <p:cNvSpPr/>
              <p:nvPr/>
            </p:nvSpPr>
            <p:spPr>
              <a:xfrm>
                <a:off x="2763720" y="380988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66880" y="4267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3200400" y="34290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2057400" y="537084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77120" y="400356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410080" y="40035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52880" y="423216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53080" y="30132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43800" y="3927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5943600" y="3774960"/>
              <a:ext cx="533520" cy="520560"/>
              <a:chOff x="5943600" y="3774960"/>
              <a:chExt cx="533520" cy="520560"/>
            </a:xfrm>
          </p:grpSpPr>
          <p:sp>
            <p:nvSpPr>
              <p:cNvPr id="377" name=""/>
              <p:cNvSpPr/>
              <p:nvPr/>
            </p:nvSpPr>
            <p:spPr>
              <a:xfrm>
                <a:off x="6040440" y="377496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43600" y="423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6019920" y="5486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05720" y="6095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400356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34120" y="35053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86400" y="301320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00800" y="34704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553080" y="55627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96080" y="29368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010280" y="3774960"/>
              <a:ext cx="533520" cy="520560"/>
              <a:chOff x="7010280" y="3774960"/>
              <a:chExt cx="533520" cy="520560"/>
            </a:xfrm>
          </p:grpSpPr>
          <p:sp>
            <p:nvSpPr>
              <p:cNvPr id="388" name=""/>
              <p:cNvSpPr/>
              <p:nvPr/>
            </p:nvSpPr>
            <p:spPr>
              <a:xfrm>
                <a:off x="7107120" y="3774960"/>
                <a:ext cx="24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010280" y="423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7543800" y="33940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477120" y="59814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91320" y="4495680"/>
              <a:ext cx="1904760" cy="4572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3080" y="44956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15000" y="4572000"/>
              <a:ext cx="2057400" cy="83808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29400" y="4952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562720" y="4494960"/>
              <a:ext cx="990360" cy="16002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7086600" y="4571280"/>
              <a:ext cx="990720" cy="16002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38880" y="5562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57600" y="4800600"/>
              <a:ext cx="1676520" cy="533520"/>
            </a:xfrm>
            <a:prstGeom prst="rightArrow">
              <a:avLst>
                <a:gd name="adj1" fmla="val 50000"/>
                <a:gd name="adj2" fmla="val 7855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 to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: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76520" y="106668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 DFA, make states from all subsets of states in </a:t>
            </a:r>
            <a:r>
              <a:rPr b="1" lang="en-GB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F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nd move between them so that all possible states of </a:t>
            </a:r>
            <a:r>
              <a:rPr b="1" lang="en-GB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F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are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simultaneously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simulat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80880" y="2895480"/>
            <a:ext cx="8305920" cy="3678120"/>
            <a:chOff x="380880" y="2895480"/>
            <a:chExt cx="8305920" cy="3678120"/>
          </a:xfrm>
        </p:grpSpPr>
        <p:sp>
          <p:nvSpPr>
            <p:cNvPr id="407" name=""/>
            <p:cNvSpPr/>
            <p:nvPr/>
          </p:nvSpPr>
          <p:spPr>
            <a:xfrm>
              <a:off x="1905120" y="42116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38080" y="42670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80880" y="44956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81080" y="32767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71800" y="4191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71600" y="405936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7160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47920" y="54309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00200" y="60404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48120" y="4267080"/>
              <a:ext cx="53316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62120" y="37688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14400" y="327672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28800" y="373392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81080" y="5583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24080" y="32004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35120" y="4038480"/>
              <a:ext cx="2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38280" y="4495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971800" y="365760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1905120" y="6004800"/>
              <a:ext cx="68544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19320" y="4694400"/>
              <a:ext cx="1790640" cy="379080"/>
            </a:xfrm>
            <a:custGeom>
              <a:avLst/>
              <a:gdLst/>
              <a:ahLst/>
              <a:rect l="l" t="t" r="r" b="b"/>
              <a:pathLst>
                <a:path w="1128" h="239">
                  <a:moveTo>
                    <a:pt x="0" y="41"/>
                  </a:moveTo>
                  <a:cubicBezTo>
                    <a:pt x="108" y="73"/>
                    <a:pt x="460" y="239"/>
                    <a:pt x="648" y="232"/>
                  </a:cubicBezTo>
                  <a:cubicBezTo>
                    <a:pt x="836" y="225"/>
                    <a:pt x="1028" y="48"/>
                    <a:pt x="11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62320" y="45165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43000" y="4835520"/>
              <a:ext cx="2057400" cy="6714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38280" y="482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990720" y="4758480"/>
              <a:ext cx="990360" cy="1281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14600" y="4846680"/>
              <a:ext cx="851040" cy="1103400"/>
            </a:xfrm>
            <a:custGeom>
              <a:avLst/>
              <a:gdLst/>
              <a:ahLst/>
              <a:rect l="l" t="t" r="r" b="b"/>
              <a:pathLst>
                <a:path w="536" h="695">
                  <a:moveTo>
                    <a:pt x="536" y="0"/>
                  </a:moveTo>
                  <a:cubicBezTo>
                    <a:pt x="492" y="98"/>
                    <a:pt x="361" y="479"/>
                    <a:pt x="272" y="587"/>
                  </a:cubicBezTo>
                  <a:cubicBezTo>
                    <a:pt x="183" y="695"/>
                    <a:pt x="57" y="636"/>
                    <a:pt x="0" y="6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90920" y="54100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289548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09880" y="2971800"/>
              <a:ext cx="4876920" cy="17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102320" y="3942000"/>
            <a:ext cx="5831640" cy="1460880"/>
            <a:chOff x="1102320" y="3942000"/>
            <a:chExt cx="5831640" cy="1460880"/>
          </a:xfrm>
        </p:grpSpPr>
        <p:sp>
          <p:nvSpPr>
            <p:cNvPr id="436" name=""/>
            <p:cNvSpPr/>
            <p:nvPr/>
          </p:nvSpPr>
          <p:spPr>
            <a:xfrm>
              <a:off x="6477120" y="4952880"/>
              <a:ext cx="4568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3080" y="44956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20482200">
              <a:off x="3429000" y="398268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20482200">
              <a:off x="1142640" y="405900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693080" y="4685760"/>
            <a:ext cx="7222320" cy="1762920"/>
            <a:chOff x="1693080" y="4685760"/>
            <a:chExt cx="7222320" cy="1762920"/>
          </a:xfrm>
        </p:grpSpPr>
        <p:sp>
          <p:nvSpPr>
            <p:cNvPr id="441" name=""/>
            <p:cNvSpPr/>
            <p:nvPr/>
          </p:nvSpPr>
          <p:spPr>
            <a:xfrm>
              <a:off x="7086600" y="5837400"/>
              <a:ext cx="241200" cy="26028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858000" y="5791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15200" y="57150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229600" y="5867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3378000">
              <a:off x="1752120" y="573516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2061600">
              <a:off x="2971440" y="47451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548000" y="4235760"/>
            <a:ext cx="7367400" cy="1527120"/>
            <a:chOff x="1548000" y="4235760"/>
            <a:chExt cx="7367400" cy="1527120"/>
          </a:xfrm>
        </p:grpSpPr>
        <p:sp>
          <p:nvSpPr>
            <p:cNvPr id="448" name=""/>
            <p:cNvSpPr/>
            <p:nvPr/>
          </p:nvSpPr>
          <p:spPr>
            <a:xfrm>
              <a:off x="7315200" y="50292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01028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22960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9989600">
              <a:off x="1600200" y="428796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3142800">
              <a:off x="2819520" y="4516560"/>
              <a:ext cx="30456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086600" y="5226840"/>
              <a:ext cx="241200" cy="26028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809880" y="4495680"/>
            <a:ext cx="4267440" cy="2256120"/>
            <a:chOff x="3809880" y="4495680"/>
            <a:chExt cx="4267440" cy="2256120"/>
          </a:xfrm>
        </p:grpSpPr>
        <p:sp>
          <p:nvSpPr>
            <p:cNvPr id="455" name=""/>
            <p:cNvSpPr/>
            <p:nvPr/>
          </p:nvSpPr>
          <p:spPr>
            <a:xfrm>
              <a:off x="380988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48520" y="5334120"/>
              <a:ext cx="9144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09880" y="4495680"/>
              <a:ext cx="289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5400000">
              <a:off x="4365000" y="49291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5400000">
              <a:off x="4365000" y="5767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09880" y="6172200"/>
              <a:ext cx="4267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685800" y="114300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free 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362320"/>
            <a:ext cx="830592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be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’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85800" y="114300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" y="2971800"/>
            <a:ext cx="85345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3886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362320" y="47242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362320" y="521928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38280" y="52578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429000" y="4114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57600" y="4724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4038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819520" y="518148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95480" y="4495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19520" y="426708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29000" y="5334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95480" y="50292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971800" y="5105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96252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03848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28800" y="46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91320" y="464832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57800" y="4648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279800" y="5049720"/>
            <a:ext cx="5044320" cy="1025280"/>
            <a:chOff x="1279800" y="5049720"/>
            <a:chExt cx="5044320" cy="1025280"/>
          </a:xfrm>
        </p:grpSpPr>
        <p:sp>
          <p:nvSpPr>
            <p:cNvPr id="490" name=""/>
            <p:cNvSpPr/>
            <p:nvPr/>
          </p:nvSpPr>
          <p:spPr>
            <a:xfrm flipV="1">
              <a:off x="5867280" y="521928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43600" y="525780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19488600">
              <a:off x="1371600" y="52574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143000" y="3962520"/>
            <a:ext cx="7467480" cy="2057400"/>
            <a:chOff x="1143000" y="3962520"/>
            <a:chExt cx="7467480" cy="2057400"/>
          </a:xfrm>
        </p:grpSpPr>
        <p:sp>
          <p:nvSpPr>
            <p:cNvPr id="494" name=""/>
            <p:cNvSpPr/>
            <p:nvPr/>
          </p:nvSpPr>
          <p:spPr>
            <a:xfrm>
              <a:off x="6934320" y="42674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24480" y="441972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47712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24680" y="40388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4114800" y="39625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4267080" y="47246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143000" y="510552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038480" y="3962520"/>
            <a:ext cx="4572000" cy="2209680"/>
            <a:chOff x="4038480" y="3962520"/>
            <a:chExt cx="4572000" cy="2209680"/>
          </a:xfrm>
        </p:grpSpPr>
        <p:sp>
          <p:nvSpPr>
            <p:cNvPr id="502" name=""/>
            <p:cNvSpPr/>
            <p:nvPr/>
          </p:nvSpPr>
          <p:spPr>
            <a:xfrm flipV="1">
              <a:off x="6324480" y="510480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477120" y="48769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34320" y="49532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924680" y="502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4267080" y="472464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4038480" y="55627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14800" y="3962520"/>
              <a:ext cx="11430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762120" y="4724280"/>
            <a:ext cx="7543800" cy="1789200"/>
            <a:chOff x="762120" y="4724280"/>
            <a:chExt cx="7543800" cy="1789200"/>
          </a:xfrm>
        </p:grpSpPr>
        <p:sp>
          <p:nvSpPr>
            <p:cNvPr id="510" name=""/>
            <p:cNvSpPr/>
            <p:nvPr/>
          </p:nvSpPr>
          <p:spPr>
            <a:xfrm>
              <a:off x="4267080" y="472428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38480" y="556236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72000" y="4800240"/>
              <a:ext cx="685800" cy="533520"/>
            </a:xfrm>
            <a:prstGeom prst="rightArrow">
              <a:avLst>
                <a:gd name="adj1" fmla="val 50000"/>
                <a:gd name="adj2" fmla="val 5594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120" y="5943240"/>
              <a:ext cx="754380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1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609480" y="1143000"/>
            <a:ext cx="274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57400" y="4267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4382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57400" y="4800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90720" y="4495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289548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23880" y="396252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810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00600" y="3352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257800" y="3200400"/>
            <a:ext cx="114300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28120" y="2514600"/>
            <a:ext cx="7701480" cy="1377000"/>
            <a:chOff x="528120" y="2514600"/>
            <a:chExt cx="7701480" cy="1377000"/>
          </a:xfrm>
        </p:grpSpPr>
        <p:sp>
          <p:nvSpPr>
            <p:cNvPr id="528" name=""/>
            <p:cNvSpPr/>
            <p:nvPr/>
          </p:nvSpPr>
          <p:spPr>
            <a:xfrm>
              <a:off x="6934320" y="259092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43800" y="2514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248520" y="251460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18900000">
              <a:off x="609480" y="304812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324480" y="281952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533520" y="1752480"/>
            <a:ext cx="7772400" cy="4267080"/>
            <a:chOff x="533520" y="1752480"/>
            <a:chExt cx="7772400" cy="4267080"/>
          </a:xfrm>
        </p:grpSpPr>
        <p:sp>
          <p:nvSpPr>
            <p:cNvPr id="534" name=""/>
            <p:cNvSpPr/>
            <p:nvPr/>
          </p:nvSpPr>
          <p:spPr>
            <a:xfrm>
              <a:off x="7162920" y="32000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53080" y="2971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400800" y="35049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3200400" y="17524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3505320" y="25142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 rot="5400000">
              <a:off x="1371600" y="52574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676520" y="5410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flipV="1" rot="5400000">
              <a:off x="2286000" y="52574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590920" y="541008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3520" y="2971440"/>
              <a:ext cx="914400" cy="8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447920" y="1752480"/>
            <a:ext cx="7162560" cy="4343400"/>
            <a:chOff x="1447920" y="1752480"/>
            <a:chExt cx="7162560" cy="4343400"/>
          </a:xfrm>
        </p:grpSpPr>
        <p:sp>
          <p:nvSpPr>
            <p:cNvPr id="545" name=""/>
            <p:cNvSpPr/>
            <p:nvPr/>
          </p:nvSpPr>
          <p:spPr>
            <a:xfrm>
              <a:off x="1447920" y="5105160"/>
              <a:ext cx="175248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924680" y="39621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934320" y="38858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324480" y="3657240"/>
              <a:ext cx="6098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77120" y="3581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3505320" y="2514240"/>
              <a:ext cx="914400" cy="60984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3200400" y="327636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200400" y="1752480"/>
              <a:ext cx="1143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304920" y="2514600"/>
            <a:ext cx="8610480" cy="3161160"/>
            <a:chOff x="304920" y="2514600"/>
            <a:chExt cx="8610480" cy="3161160"/>
          </a:xfrm>
        </p:grpSpPr>
        <p:sp>
          <p:nvSpPr>
            <p:cNvPr id="554" name=""/>
            <p:cNvSpPr/>
            <p:nvPr/>
          </p:nvSpPr>
          <p:spPr>
            <a:xfrm>
              <a:off x="3124080" y="3276720"/>
              <a:ext cx="106632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429000" y="2514600"/>
              <a:ext cx="990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38480" y="2590920"/>
              <a:ext cx="685440" cy="1676520"/>
            </a:xfrm>
            <a:prstGeom prst="rightArrow">
              <a:avLst>
                <a:gd name="adj1" fmla="val 50000"/>
                <a:gd name="adj2" fmla="val 4351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4920" y="5105520"/>
              <a:ext cx="861048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152388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523880" y="30096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00200" y="30481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590920" y="19051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981080" y="2971800"/>
            <a:ext cx="60984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057400" y="2286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81080" y="2057400"/>
            <a:ext cx="60984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90920" y="31240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57400" y="28195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33720" y="2895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1240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288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0720" y="2438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20040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2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48600" y="2438280"/>
            <a:ext cx="6223680" cy="1904760"/>
            <a:chOff x="48600" y="2438280"/>
            <a:chExt cx="6223680" cy="1904760"/>
          </a:xfrm>
        </p:grpSpPr>
        <p:sp>
          <p:nvSpPr>
            <p:cNvPr id="576" name=""/>
            <p:cNvSpPr/>
            <p:nvPr/>
          </p:nvSpPr>
          <p:spPr>
            <a:xfrm rot="18900000">
              <a:off x="152280" y="2764800"/>
              <a:ext cx="762120" cy="609480"/>
            </a:xfrm>
            <a:prstGeom prst="rightArrow">
              <a:avLst>
                <a:gd name="adj1" fmla="val 50000"/>
                <a:gd name="adj2" fmla="val 31261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29200" y="3581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200400" y="358128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352680" y="3809880"/>
              <a:ext cx="609840" cy="5331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962520" y="3657240"/>
              <a:ext cx="114300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6200000">
              <a:off x="5586480" y="2514240"/>
              <a:ext cx="761760" cy="609840"/>
            </a:xfrm>
            <a:prstGeom prst="rightArrow">
              <a:avLst>
                <a:gd name="adj1" fmla="val 50000"/>
                <a:gd name="adj2" fmla="val 31228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52280" y="1676520"/>
            <a:ext cx="6248520" cy="3276000"/>
            <a:chOff x="152280" y="1676520"/>
            <a:chExt cx="6248520" cy="3276000"/>
          </a:xfrm>
        </p:grpSpPr>
        <p:sp>
          <p:nvSpPr>
            <p:cNvPr id="583" name=""/>
            <p:cNvSpPr/>
            <p:nvPr/>
          </p:nvSpPr>
          <p:spPr>
            <a:xfrm>
              <a:off x="4267080" y="43430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7600" y="4114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505320" y="46479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2590200" y="167652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2818800" y="228564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16200000">
              <a:off x="37339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6200000">
              <a:off x="46483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2280" y="2666880"/>
              <a:ext cx="83844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62720" y="2361960"/>
              <a:ext cx="83808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590920" y="1676520"/>
            <a:ext cx="5638680" cy="3961800"/>
            <a:chOff x="2590920" y="1676520"/>
            <a:chExt cx="5638680" cy="3961800"/>
          </a:xfrm>
        </p:grpSpPr>
        <p:sp>
          <p:nvSpPr>
            <p:cNvPr id="593" name=""/>
            <p:cNvSpPr/>
            <p:nvPr/>
          </p:nvSpPr>
          <p:spPr>
            <a:xfrm>
              <a:off x="3606840" y="2882520"/>
              <a:ext cx="1676520" cy="7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590920" y="1676520"/>
              <a:ext cx="838080" cy="60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962520" y="502884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352680" y="4799520"/>
              <a:ext cx="609840" cy="53316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05320" y="4724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952880" y="48002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6200000">
              <a:off x="67057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6200000">
              <a:off x="7620120" y="2971440"/>
              <a:ext cx="685440" cy="533520"/>
            </a:xfrm>
            <a:prstGeom prst="rightArrow">
              <a:avLst>
                <a:gd name="adj1" fmla="val 50000"/>
                <a:gd name="adj2" fmla="val 3211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2666160" y="304776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2818800" y="2285640"/>
              <a:ext cx="685800" cy="533160"/>
            </a:xfrm>
            <a:prstGeom prst="rightArrow">
              <a:avLst>
                <a:gd name="adj1" fmla="val 50000"/>
                <a:gd name="adj2" fmla="val 3215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762120" y="2209680"/>
            <a:ext cx="7772400" cy="4373640"/>
            <a:chOff x="762120" y="2209680"/>
            <a:chExt cx="7772400" cy="4373640"/>
          </a:xfrm>
        </p:grpSpPr>
        <p:sp>
          <p:nvSpPr>
            <p:cNvPr id="604" name=""/>
            <p:cNvSpPr/>
            <p:nvPr/>
          </p:nvSpPr>
          <p:spPr>
            <a:xfrm>
              <a:off x="762120" y="5562360"/>
              <a:ext cx="7619760" cy="10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     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5400000">
              <a:off x="4514760" y="2419200"/>
              <a:ext cx="571680" cy="1676160"/>
            </a:xfrm>
            <a:prstGeom prst="rightArrow">
              <a:avLst>
                <a:gd name="adj1" fmla="val 50000"/>
                <a:gd name="adj2" fmla="val 43519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743200" y="2209680"/>
              <a:ext cx="8380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90920" y="3047760"/>
              <a:ext cx="83808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29400" y="2895480"/>
              <a:ext cx="175248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943600" y="3736440"/>
              <a:ext cx="2590920" cy="13737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onstruct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other states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alogicall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8088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114300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3434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098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7242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43400" y="2590920"/>
            <a:ext cx="38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2767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5181480" y="2209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09880" y="17524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0532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1440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914400" y="27810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90720" y="281952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981080" y="1676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096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371600" y="27432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47920" y="2057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71600" y="18288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981080" y="2895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25909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523880" y="26668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21932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259020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3152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7816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96080" y="2286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15200" y="2590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2485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8153280" y="2209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81680" y="17524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530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71500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181480" y="1676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6172200" y="1676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15000" y="12952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144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23880" y="4191120"/>
            <a:ext cx="1981440" cy="7617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14600" y="1828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3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570240" y="1032120"/>
            <a:ext cx="784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nal states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09480" y="1951200"/>
            <a:ext cx="7848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9480" y="3780000"/>
            <a:ext cx="80773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7680" y="1523160"/>
            <a:ext cx="215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9480" y="2408400"/>
            <a:ext cx="7848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865600"/>
            <a:ext cx="8001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09480" y="3322800"/>
            <a:ext cx="80010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345200" y="4419360"/>
            <a:ext cx="7898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8580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85800" y="4952880"/>
            <a:ext cx="74674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4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figuration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1905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3124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1676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600200" y="2971800"/>
            <a:ext cx="9144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057400"/>
            <a:ext cx="9144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16765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Configur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2133720"/>
            <a:ext cx="403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1676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2971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ory vs.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2971800"/>
            <a:ext cx="426744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5105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3809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figuration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4495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752480" y="5562000"/>
            <a:ext cx="914400" cy="5331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4648320"/>
            <a:ext cx="914400" cy="5331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105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5410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4197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xt Configu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5715000"/>
            <a:ext cx="4267080" cy="10076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ory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ractice: </a:t>
            </a:r>
            <a:r>
              <a:rPr b="1" lang="cs-CZ" sz="30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4876920"/>
            <a:ext cx="2057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q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4267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5562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2590920" y="4267080"/>
            <a:ext cx="15238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67280" y="2514600"/>
            <a:ext cx="152424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257800" y="3962520"/>
            <a:ext cx="1752480" cy="76176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19720" y="3429000"/>
            <a:ext cx="10666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848720" y="5257800"/>
            <a:ext cx="761760" cy="7621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629400" y="4572000"/>
            <a:ext cx="1523880" cy="7621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9480" y="4952880"/>
            <a:ext cx="1219320" cy="83844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315200" y="1295280"/>
            <a:ext cx="1219320" cy="7621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91520" y="1371600"/>
            <a:ext cx="10666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85800" y="5029200"/>
            <a:ext cx="10666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81080" y="2209680"/>
            <a:ext cx="13716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990720" y="1371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09880" y="1523880"/>
            <a:ext cx="9144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066680" y="3429000"/>
            <a:ext cx="9144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200400" y="2819520"/>
            <a:ext cx="99072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305920" y="2590920"/>
            <a:ext cx="60948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0880" y="3962520"/>
            <a:ext cx="60984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495680" y="3505320"/>
            <a:ext cx="9144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705720" y="464832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43600" y="259092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666880" y="4343400"/>
            <a:ext cx="1371600" cy="6094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34120" y="4038480"/>
            <a:ext cx="1600200" cy="60984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,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24680" y="5334120"/>
            <a:ext cx="60984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14479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571040" y="2838600"/>
            <a:ext cx="12326400" cy="63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0"/>
                </a:moveTo>
                <a:arcTo wR="10800" hR="10800" stAng="-4338896" swAng="3424848"/>
                <a:lnTo>
                  <a:pt x="10800" y="10800"/>
                </a:lnTo>
                <a:close/>
              </a:path>
              <a:path fill="none" w="21600" h="21600">
                <a:moveTo>
                  <a:pt x="14081" y="510"/>
                </a:moveTo>
                <a:arcTo wR="10800" hR="10800" stAng="-4338896" swAng="34248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424800" y="1294560"/>
            <a:ext cx="795456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18249"/>
                </a:moveTo>
                <a:arcTo wR="10800" hR="10800" stAng="2616307" swAng="5632437"/>
                <a:lnTo>
                  <a:pt x="10800" y="10800"/>
                </a:lnTo>
                <a:close/>
              </a:path>
              <a:path fill="none" w="21600" h="21600">
                <a:moveTo>
                  <a:pt x="18620" y="18249"/>
                </a:moveTo>
                <a:arcTo wR="10800" hR="10800" stAng="2616307" swAng="563243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1294560" y="-361800"/>
            <a:ext cx="965160" cy="47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06"/>
                </a:moveTo>
                <a:arcTo wR="10800" hR="10800" stAng="-157171" swAng="2428780"/>
                <a:lnTo>
                  <a:pt x="10800" y="10800"/>
                </a:lnTo>
                <a:close/>
              </a:path>
              <a:path fill="none" w="21600" h="21600">
                <a:moveTo>
                  <a:pt x="21589" y="10306"/>
                </a:moveTo>
                <a:arcTo wR="10800" hR="10800" stAng="-157171" swAng="242878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-2362320" y="795240"/>
            <a:ext cx="4724280" cy="467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48" y="8996"/>
                </a:moveTo>
                <a:arcTo wR="10800" hR="10800" stAng="-576802" swAng="3696489"/>
                <a:lnTo>
                  <a:pt x="10800" y="10800"/>
                </a:lnTo>
                <a:close/>
              </a:path>
              <a:path fill="none" w="21600" h="21600">
                <a:moveTo>
                  <a:pt x="21448" y="8996"/>
                </a:moveTo>
                <a:arcTo wR="10800" hR="10800" stAng="-576802" swAng="369648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flipV="1" rot="10800000">
            <a:off x="105120" y="1798200"/>
            <a:ext cx="17008920" cy="557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3" y="2311"/>
                </a:moveTo>
                <a:arcTo wR="10800" hR="10800" stAng="-7691173" swAng="1786823"/>
                <a:lnTo>
                  <a:pt x="10800" y="10800"/>
                </a:lnTo>
                <a:close/>
              </a:path>
              <a:path fill="none" w="21600" h="21600">
                <a:moveTo>
                  <a:pt x="4123" y="2311"/>
                </a:moveTo>
                <a:arcTo wR="10800" hR="10800" stAng="-7691173" swAng="178682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 rot="2406600">
            <a:off x="619200" y="1649520"/>
            <a:ext cx="380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21599"/>
                </a:moveTo>
                <a:arcTo wR="10800" hR="10800" stAng="5444291" swAng="20029796"/>
                <a:lnTo>
                  <a:pt x="10800" y="10800"/>
                </a:lnTo>
                <a:close/>
              </a:path>
              <a:path fill="none" w="21600" h="21600">
                <a:moveTo>
                  <a:pt x="10661" y="21599"/>
                </a:moveTo>
                <a:arcTo wR="10800" hR="10800" stAng="5444291" swAng="2002979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1447560" y="18288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 rot="16200000">
            <a:off x="-569160" y="2887560"/>
            <a:ext cx="418572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20" y="18249"/>
                </a:moveTo>
                <a:arcTo wR="10800" hR="10800" stAng="2616307" swAng="5606492"/>
                <a:lnTo>
                  <a:pt x="10800" y="10800"/>
                </a:lnTo>
                <a:close/>
              </a:path>
              <a:path fill="none" w="21600" h="21600">
                <a:moveTo>
                  <a:pt x="18620" y="18249"/>
                </a:moveTo>
                <a:arcTo wR="10800" hR="10800" stAng="2616307" swAng="560649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 flipV="1">
            <a:off x="1294200" y="3736800"/>
            <a:ext cx="965160" cy="17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7" y="6814"/>
                </a:moveTo>
                <a:arcTo wR="10800" hR="10800" stAng="-1299552" swAng="3778311"/>
                <a:lnTo>
                  <a:pt x="10800" y="10800"/>
                </a:lnTo>
                <a:close/>
              </a:path>
              <a:path fill="none" w="21600" h="21600">
                <a:moveTo>
                  <a:pt x="20837" y="6814"/>
                </a:moveTo>
                <a:arcTo wR="10800" hR="10800" stAng="-1299552" swAng="3778311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 rot="5400000">
            <a:off x="2250000" y="154800"/>
            <a:ext cx="964440" cy="40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 rot="16200000">
            <a:off x="5386680" y="-111240"/>
            <a:ext cx="1117080" cy="45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-2764440" y="2644200"/>
            <a:ext cx="7814520" cy="27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7"/>
                </a:moveTo>
                <a:arcTo wR="10800" hR="10800" stAng="359405" swAng="4415515"/>
                <a:lnTo>
                  <a:pt x="10800" y="10800"/>
                </a:lnTo>
                <a:close/>
              </a:path>
              <a:path fill="none" w="21600" h="21600">
                <a:moveTo>
                  <a:pt x="21541" y="11927"/>
                </a:moveTo>
                <a:arcTo wR="10800" hR="10800" stAng="359405" swAng="441551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 flipV="1" rot="10800000">
            <a:off x="237600" y="1902600"/>
            <a:ext cx="15217920" cy="93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4"/>
                </a:moveTo>
                <a:arcTo wR="10800" hR="10800" stAng="-8439555" swAng="2876166"/>
                <a:lnTo>
                  <a:pt x="10800" y="10800"/>
                </a:lnTo>
                <a:close/>
              </a:path>
              <a:path fill="none" w="21600" h="21600">
                <a:moveTo>
                  <a:pt x="2447" y="3954"/>
                </a:moveTo>
                <a:arcTo wR="10800" hR="10800" stAng="-8439555" swAng="287616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600200" y="1981080"/>
            <a:ext cx="2286000" cy="304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733560" y="38862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7162920" y="20574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828800" y="4800600"/>
            <a:ext cx="8380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222000" y="1970280"/>
            <a:ext cx="11844000" cy="60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0" y="364"/>
                </a:moveTo>
                <a:arcTo wR="10800" hR="10800" stAng="-4505085" swAng="3665686"/>
                <a:lnTo>
                  <a:pt x="10800" y="10800"/>
                </a:lnTo>
                <a:close/>
              </a:path>
              <a:path fill="none" w="21600" h="21600">
                <a:moveTo>
                  <a:pt x="13580" y="364"/>
                </a:moveTo>
                <a:arcTo wR="10800" hR="10800" stAng="-4505085" swAng="366568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676520" y="3352680"/>
            <a:ext cx="1752480" cy="175284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1056" y="0"/>
                </a:moveTo>
                <a:cubicBezTo>
                  <a:pt x="904" y="60"/>
                  <a:pt x="752" y="120"/>
                  <a:pt x="576" y="288"/>
                </a:cubicBezTo>
                <a:cubicBezTo>
                  <a:pt x="400" y="456"/>
                  <a:pt x="72" y="872"/>
                  <a:pt x="0" y="10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038480" y="1981080"/>
            <a:ext cx="342900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624"/>
                </a:moveTo>
                <a:cubicBezTo>
                  <a:pt x="112" y="508"/>
                  <a:pt x="224" y="392"/>
                  <a:pt x="576" y="288"/>
                </a:cubicBezTo>
                <a:cubicBezTo>
                  <a:pt x="928" y="184"/>
                  <a:pt x="1520" y="92"/>
                  <a:pt x="211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5257800" y="320004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62120" y="45720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 rot="5400000">
            <a:off x="4978080" y="3482280"/>
            <a:ext cx="559872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42" y="20503"/>
                </a:moveTo>
                <a:arcTo wR="10800" hR="10800" stAng="3837239" swAng="4226180"/>
                <a:lnTo>
                  <a:pt x="10800" y="10800"/>
                </a:lnTo>
                <a:close/>
              </a:path>
              <a:path fill="none" w="21600" h="21600">
                <a:moveTo>
                  <a:pt x="15542" y="20503"/>
                </a:moveTo>
                <a:arcTo wR="10800" hR="10800" stAng="3837239" swAng="4226180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8229240" y="19807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 rot="5400000">
            <a:off x="4613400" y="2075040"/>
            <a:ext cx="5712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22" y="18646"/>
                </a:moveTo>
                <a:arcTo wR="10800" hR="10800" stAng="2795334" swAng="3364901"/>
                <a:lnTo>
                  <a:pt x="10800" y="10800"/>
                </a:lnTo>
                <a:close/>
              </a:path>
              <a:path fill="none" w="21600" h="21600">
                <a:moveTo>
                  <a:pt x="18222" y="18646"/>
                </a:moveTo>
                <a:arcTo wR="10800" hR="10800" stAng="2795334" swAng="336490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 rot="5400000">
            <a:off x="4464360" y="971640"/>
            <a:ext cx="389592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73" y="15178"/>
                </a:moveTo>
                <a:arcTo wR="10800" hR="10800" stAng="1434762" swAng="4725472"/>
                <a:lnTo>
                  <a:pt x="10800" y="10800"/>
                </a:lnTo>
                <a:close/>
              </a:path>
              <a:path fill="none" w="21600" h="21600">
                <a:moveTo>
                  <a:pt x="20673" y="15178"/>
                </a:moveTo>
                <a:arcTo wR="10800" hR="10800" stAng="1434762" swAng="47254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 rot="5400000">
            <a:off x="2912040" y="-932760"/>
            <a:ext cx="3945960" cy="59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3" y="12956"/>
                </a:moveTo>
                <a:arcTo wR="10800" hR="10800" stAng="691074" swAng="4682227"/>
                <a:lnTo>
                  <a:pt x="10800" y="10800"/>
                </a:lnTo>
                <a:close/>
              </a:path>
              <a:path fill="none" w="21600" h="21600">
                <a:moveTo>
                  <a:pt x="21383" y="12956"/>
                </a:moveTo>
                <a:arcTo wR="10800" hR="10800" stAng="691074" swAng="468222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5104800" y="3809520"/>
            <a:ext cx="520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4" y="71"/>
                </a:moveTo>
                <a:arcTo wR="10800" hR="10800" stAng="-5794403" swAng="5794403"/>
                <a:lnTo>
                  <a:pt x="10800" y="10800"/>
                </a:lnTo>
                <a:close/>
              </a:path>
              <a:path fill="none" w="21600" h="21600">
                <a:moveTo>
                  <a:pt x="9564" y="71"/>
                </a:moveTo>
                <a:arcTo wR="10800" hR="10800" stAng="-5794403" swAng="579440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7238160" y="5104800"/>
            <a:ext cx="106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79" y="24"/>
                </a:moveTo>
                <a:arcTo wR="10800" hR="10800" stAng="-5629809" swAng="5629809"/>
                <a:lnTo>
                  <a:pt x="10800" y="10800"/>
                </a:lnTo>
                <a:close/>
              </a:path>
              <a:path fill="none" w="21600" h="21600">
                <a:moveTo>
                  <a:pt x="10079" y="24"/>
                </a:moveTo>
                <a:arcTo wR="10800" hR="10800" stAng="-5629809" swAng="5629809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 rot="2406600">
            <a:off x="4352040" y="3938400"/>
            <a:ext cx="38052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" y="15859"/>
                </a:moveTo>
                <a:arcTo wR="10800" hR="10800" stAng="9124145" swAng="15490226"/>
                <a:lnTo>
                  <a:pt x="10800" y="10800"/>
                </a:lnTo>
                <a:close/>
              </a:path>
              <a:path fill="none" w="21600" h="21600">
                <a:moveTo>
                  <a:pt x="1258" y="15859"/>
                </a:moveTo>
                <a:arcTo wR="10800" hR="10800" stAng="9124145" swAng="1549022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-3189240" y="2811600"/>
            <a:ext cx="8968680" cy="275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3925464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392546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-4029840" y="3809520"/>
            <a:ext cx="10955520" cy="182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4132002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413200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365040" y="4724640"/>
            <a:ext cx="8641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598" y="18272"/>
                </a:moveTo>
                <a:arcTo wR="10800" hR="10800" stAng="2626643" swAng="5660680"/>
                <a:lnTo>
                  <a:pt x="10800" y="10800"/>
                </a:lnTo>
                <a:close/>
              </a:path>
              <a:path fill="none" w="21600" h="21600">
                <a:moveTo>
                  <a:pt x="18598" y="18272"/>
                </a:moveTo>
                <a:arcTo wR="10800" hR="10800" stAng="2626643" swAng="5660680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 flipV="1" rot="19193400">
            <a:off x="8457120" y="1751760"/>
            <a:ext cx="38052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21599"/>
                </a:moveTo>
                <a:arcTo wR="10800" hR="10800" stAng="5444291" swAng="20029796"/>
                <a:lnTo>
                  <a:pt x="10800" y="10800"/>
                </a:lnTo>
                <a:close/>
              </a:path>
              <a:path fill="none" w="21600" h="21600">
                <a:moveTo>
                  <a:pt x="10661" y="21599"/>
                </a:moveTo>
                <a:arcTo wR="10800" hR="10800" stAng="5444291" swAng="2002979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8381880" y="5027760"/>
            <a:ext cx="3060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31" y="560"/>
                </a:moveTo>
                <a:arcTo wR="10800" hR="10800" stAng="-4288488" swAng="15573049"/>
                <a:lnTo>
                  <a:pt x="10800" y="10800"/>
                </a:lnTo>
                <a:close/>
              </a:path>
              <a:path fill="none" w="21600" h="21600">
                <a:moveTo>
                  <a:pt x="14231" y="560"/>
                </a:moveTo>
                <a:arcTo wR="10800" hR="10800" stAng="-4288488" swAng="15573049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3520" y="6095880"/>
            <a:ext cx="5562360" cy="4899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we make DFA smalle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57200" y="19810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23880" y="1066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85800" y="2971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3716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3818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35053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495680" y="5486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44956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81880" y="45720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62120" y="4419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004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8006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505320" y="1752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952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28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9528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3434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562720" y="3429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114800" y="4419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9625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971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952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0102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495680" y="4648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828800" y="1828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200400" y="1905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057400" y="2666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6576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562720" y="2895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0102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00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0968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48640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010280" y="5257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620120" y="41148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4724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free FA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FA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5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6095880"/>
            <a:ext cx="2361960" cy="4899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 flipV="1">
            <a:off x="456480" y="4877640"/>
            <a:ext cx="3056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46" y="6"/>
                </a:moveTo>
                <a:arcTo wR="10800" hR="10800" stAng="-5512753" swAng="15616653"/>
                <a:lnTo>
                  <a:pt x="10800" y="10800"/>
                </a:lnTo>
                <a:close/>
              </a:path>
              <a:path fill="none" w="21600" h="21600">
                <a:moveTo>
                  <a:pt x="10446" y="6"/>
                </a:moveTo>
                <a:arcTo wR="10800" hR="10800" stAng="-5512753" swAng="15616653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571500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19810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19051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 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stat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ccessibl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xist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w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inaccessible.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9718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3434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4191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65760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7913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590920" y="4191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76920" y="41911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09480" y="37339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187800" y="4406760"/>
            <a:ext cx="406440" cy="33516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5812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95480" y="434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419720" y="4343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029200" y="3657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33526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accesible state can be removed from 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ssib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ccessib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a string takes DFA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(the start state) 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4114080" y="441972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609480" y="4800600"/>
            <a:ext cx="8013960" cy="1963800"/>
            <a:chOff x="609480" y="4800600"/>
            <a:chExt cx="8013960" cy="1963800"/>
          </a:xfrm>
        </p:grpSpPr>
        <p:sp>
          <p:nvSpPr>
            <p:cNvPr id="786" name=""/>
            <p:cNvSpPr/>
            <p:nvPr/>
          </p:nvSpPr>
          <p:spPr>
            <a:xfrm>
              <a:off x="609480" y="4800600"/>
              <a:ext cx="731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22440" y="513072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2440" y="547380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accesible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5830920"/>
              <a:ext cx="79376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inaccessible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re is no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254480" y="6184800"/>
              <a:ext cx="3200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such that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 flipH="1" flipV="1" rot="10800000">
            <a:off x="237600" y="1902600"/>
            <a:ext cx="15217920" cy="93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47" y="3954"/>
                </a:moveTo>
                <a:arcTo wR="10800" hR="10800" stAng="-8439555" swAng="2876166"/>
                <a:lnTo>
                  <a:pt x="10800" y="10800"/>
                </a:lnTo>
                <a:close/>
              </a:path>
              <a:path fill="none" w="21600" h="21600">
                <a:moveTo>
                  <a:pt x="2447" y="3954"/>
                </a:moveTo>
                <a:arcTo wR="10800" hR="10800" stAng="-8439555" swAng="2876166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90920" y="4267080"/>
            <a:ext cx="15238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67280" y="2514600"/>
            <a:ext cx="152424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257800" y="3962520"/>
            <a:ext cx="1752480" cy="7617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419720" y="3429000"/>
            <a:ext cx="10666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629400" y="4572000"/>
            <a:ext cx="1523880" cy="7621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981080" y="2209680"/>
            <a:ext cx="13716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809880" y="1523880"/>
            <a:ext cx="9144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066680" y="342900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200400" y="2819520"/>
            <a:ext cx="99072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305920" y="2590920"/>
            <a:ext cx="60948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495680" y="3505320"/>
            <a:ext cx="9144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705720" y="464832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943600" y="259092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666880" y="4343400"/>
            <a:ext cx="137160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334120" y="4038480"/>
            <a:ext cx="1600200" cy="6098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,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1571040" y="2838600"/>
            <a:ext cx="12326400" cy="631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81" y="510"/>
                </a:moveTo>
                <a:arcTo wR="10800" hR="10800" stAng="-4338896" swAng="3424848"/>
                <a:lnTo>
                  <a:pt x="10800" y="10800"/>
                </a:lnTo>
                <a:close/>
              </a:path>
              <a:path fill="none" w="21600" h="21600">
                <a:moveTo>
                  <a:pt x="14081" y="510"/>
                </a:moveTo>
                <a:arcTo wR="10800" hR="10800" stAng="-4338896" swAng="3424848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1294560" y="-361800"/>
            <a:ext cx="965160" cy="47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9" y="10306"/>
                </a:moveTo>
                <a:arcTo wR="10800" hR="10800" stAng="-157171" swAng="2428780"/>
                <a:lnTo>
                  <a:pt x="10800" y="10800"/>
                </a:lnTo>
                <a:close/>
              </a:path>
              <a:path fill="none" w="21600" h="21600">
                <a:moveTo>
                  <a:pt x="21589" y="10306"/>
                </a:moveTo>
                <a:arcTo wR="10800" hR="10800" stAng="-157171" swAng="2428780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 flipV="1" rot="10800000">
            <a:off x="105120" y="1798200"/>
            <a:ext cx="17008920" cy="557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3" y="2311"/>
                </a:moveTo>
                <a:arcTo wR="10800" hR="10800" stAng="-7691173" swAng="1786823"/>
                <a:lnTo>
                  <a:pt x="10800" y="10800"/>
                </a:lnTo>
                <a:close/>
              </a:path>
              <a:path fill="none" w="21600" h="21600">
                <a:moveTo>
                  <a:pt x="4123" y="2311"/>
                </a:moveTo>
                <a:arcTo wR="10800" hR="10800" stAng="-7691173" swAng="1786823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 flipV="1">
            <a:off x="1447560" y="1828800"/>
            <a:ext cx="609480" cy="5335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 flipV="1">
            <a:off x="1294200" y="3736800"/>
            <a:ext cx="965160" cy="177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37" y="6814"/>
                </a:moveTo>
                <a:arcTo wR="10800" hR="10800" stAng="-1299552" swAng="3778311"/>
                <a:lnTo>
                  <a:pt x="10800" y="10800"/>
                </a:lnTo>
                <a:close/>
              </a:path>
              <a:path fill="none" w="21600" h="21600">
                <a:moveTo>
                  <a:pt x="20837" y="6814"/>
                </a:moveTo>
                <a:arcTo wR="10800" hR="10800" stAng="-1299552" swAng="3778311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 flipV="1" rot="5400000">
            <a:off x="2250000" y="154800"/>
            <a:ext cx="964440" cy="40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 rot="16200000">
            <a:off x="5386680" y="-111240"/>
            <a:ext cx="1117080" cy="45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14" y="4286"/>
                </a:moveTo>
                <a:arcTo wR="10800" hR="10800" stAng="-2225747" swAng="4178396"/>
                <a:lnTo>
                  <a:pt x="10800" y="10800"/>
                </a:lnTo>
                <a:close/>
              </a:path>
              <a:path fill="none" w="21600" h="21600">
                <a:moveTo>
                  <a:pt x="19414" y="4286"/>
                </a:moveTo>
                <a:arcTo wR="10800" hR="10800" stAng="-2225747" swAng="417839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-2764440" y="2644200"/>
            <a:ext cx="7814520" cy="278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1" y="11927"/>
                </a:moveTo>
                <a:arcTo wR="10800" hR="10800" stAng="359405" swAng="4415515"/>
                <a:lnTo>
                  <a:pt x="10800" y="10800"/>
                </a:lnTo>
                <a:close/>
              </a:path>
              <a:path fill="none" w="21600" h="21600">
                <a:moveTo>
                  <a:pt x="21541" y="11927"/>
                </a:moveTo>
                <a:arcTo wR="10800" hR="10800" stAng="359405" swAng="4415515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1600200" y="1981080"/>
            <a:ext cx="2286000" cy="30481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733560" y="3886200"/>
            <a:ext cx="685800" cy="45720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7162920" y="2057400"/>
            <a:ext cx="609480" cy="5335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1828800" y="4800600"/>
            <a:ext cx="838080" cy="457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3222000" y="1970280"/>
            <a:ext cx="11844000" cy="60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0" y="364"/>
                </a:moveTo>
                <a:arcTo wR="10800" hR="10800" stAng="-4505085" swAng="3665686"/>
                <a:lnTo>
                  <a:pt x="10800" y="10800"/>
                </a:lnTo>
                <a:close/>
              </a:path>
              <a:path fill="none" w="21600" h="21600">
                <a:moveTo>
                  <a:pt x="13580" y="364"/>
                </a:moveTo>
                <a:arcTo wR="10800" hR="10800" stAng="-4505085" swAng="3665686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676520" y="3352680"/>
            <a:ext cx="1752480" cy="1752840"/>
          </a:xfrm>
          <a:custGeom>
            <a:avLst/>
            <a:gdLst/>
            <a:ahLst/>
            <a:rect l="l" t="t" r="r" b="b"/>
            <a:pathLst>
              <a:path w="1056" h="1008">
                <a:moveTo>
                  <a:pt x="1056" y="0"/>
                </a:moveTo>
                <a:cubicBezTo>
                  <a:pt x="904" y="60"/>
                  <a:pt x="752" y="120"/>
                  <a:pt x="576" y="288"/>
                </a:cubicBezTo>
                <a:cubicBezTo>
                  <a:pt x="400" y="456"/>
                  <a:pt x="72" y="872"/>
                  <a:pt x="0" y="1008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038480" y="1981080"/>
            <a:ext cx="3429000" cy="990720"/>
          </a:xfrm>
          <a:custGeom>
            <a:avLst/>
            <a:gdLst/>
            <a:ahLst/>
            <a:rect l="l" t="t" r="r" b="b"/>
            <a:pathLst>
              <a:path w="2112" h="624">
                <a:moveTo>
                  <a:pt x="0" y="624"/>
                </a:moveTo>
                <a:cubicBezTo>
                  <a:pt x="112" y="508"/>
                  <a:pt x="224" y="392"/>
                  <a:pt x="576" y="288"/>
                </a:cubicBezTo>
                <a:cubicBezTo>
                  <a:pt x="928" y="184"/>
                  <a:pt x="1520" y="92"/>
                  <a:pt x="2112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257800" y="3200040"/>
            <a:ext cx="838080" cy="3049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2120" y="4572000"/>
            <a:ext cx="152280" cy="4572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 flipV="1">
            <a:off x="8229240" y="1980720"/>
            <a:ext cx="228600" cy="6858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 rot="5400000">
            <a:off x="4613400" y="2075040"/>
            <a:ext cx="5712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222" y="18646"/>
                </a:moveTo>
                <a:arcTo wR="10800" hR="10800" stAng="2795334" swAng="3364901"/>
                <a:lnTo>
                  <a:pt x="10800" y="10800"/>
                </a:lnTo>
                <a:close/>
              </a:path>
              <a:path fill="none" w="21600" h="21600">
                <a:moveTo>
                  <a:pt x="18222" y="18646"/>
                </a:moveTo>
                <a:arcTo wR="10800" hR="10800" stAng="2795334" swAng="3364901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 rot="5400000">
            <a:off x="4464360" y="971640"/>
            <a:ext cx="389592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73" y="15178"/>
                </a:moveTo>
                <a:arcTo wR="10800" hR="10800" stAng="1434762" swAng="4725472"/>
                <a:lnTo>
                  <a:pt x="10800" y="10800"/>
                </a:lnTo>
                <a:close/>
              </a:path>
              <a:path fill="none" w="21600" h="21600">
                <a:moveTo>
                  <a:pt x="20673" y="15178"/>
                </a:moveTo>
                <a:arcTo wR="10800" hR="10800" stAng="1434762" swAng="472547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 rot="5400000">
            <a:off x="2912040" y="-932760"/>
            <a:ext cx="3945960" cy="59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3" y="12956"/>
                </a:moveTo>
                <a:arcTo wR="10800" hR="10800" stAng="691074" swAng="4682227"/>
                <a:lnTo>
                  <a:pt x="10800" y="10800"/>
                </a:lnTo>
                <a:close/>
              </a:path>
              <a:path fill="none" w="21600" h="21600">
                <a:moveTo>
                  <a:pt x="21383" y="12956"/>
                </a:moveTo>
                <a:arcTo wR="10800" hR="10800" stAng="691074" swAng="4682227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5104800" y="3809520"/>
            <a:ext cx="5209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64" y="71"/>
                </a:moveTo>
                <a:arcTo wR="10800" hR="10800" stAng="-5794403" swAng="5794403"/>
                <a:lnTo>
                  <a:pt x="10800" y="10800"/>
                </a:lnTo>
                <a:close/>
              </a:path>
              <a:path fill="none" w="21600" h="21600">
                <a:moveTo>
                  <a:pt x="9564" y="71"/>
                </a:moveTo>
                <a:arcTo wR="10800" hR="10800" stAng="-5794403" swAng="5794403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7238160" y="5104800"/>
            <a:ext cx="1065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79" y="24"/>
                </a:moveTo>
                <a:arcTo wR="10800" hR="10800" stAng="-5629809" swAng="5629809"/>
                <a:lnTo>
                  <a:pt x="10800" y="10800"/>
                </a:lnTo>
                <a:close/>
              </a:path>
              <a:path fill="none" w="21600" h="21600">
                <a:moveTo>
                  <a:pt x="10079" y="24"/>
                </a:moveTo>
                <a:arcTo wR="10800" hR="10800" stAng="-5629809" swAng="5629809"/>
              </a:path>
            </a:pathLst>
          </a:custGeom>
          <a:noFill/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 rot="2406600">
            <a:off x="4352040" y="3938400"/>
            <a:ext cx="380520" cy="55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8" y="15859"/>
                </a:moveTo>
                <a:arcTo wR="10800" hR="10800" stAng="9124145" swAng="15490226"/>
                <a:lnTo>
                  <a:pt x="10800" y="10800"/>
                </a:lnTo>
                <a:close/>
              </a:path>
              <a:path fill="none" w="21600" h="21600">
                <a:moveTo>
                  <a:pt x="1258" y="15859"/>
                </a:moveTo>
                <a:arcTo wR="10800" hR="10800" stAng="9124145" swAng="15490226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-3189240" y="2811600"/>
            <a:ext cx="8968680" cy="275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3925464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3925464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-4029840" y="3809520"/>
            <a:ext cx="10955520" cy="182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15" y="14305"/>
                </a:moveTo>
                <a:arcTo wR="10800" hR="10800" stAng="1136405" swAng="4132002"/>
                <a:lnTo>
                  <a:pt x="10800" y="10800"/>
                </a:lnTo>
                <a:close/>
              </a:path>
              <a:path fill="none" w="21600" h="21600">
                <a:moveTo>
                  <a:pt x="21015" y="14305"/>
                </a:moveTo>
                <a:arcTo wR="10800" hR="10800" stAng="1136405" swAng="4132002"/>
              </a:path>
            </a:pathLst>
          </a:custGeom>
          <a:noFill/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3818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62120" y="44197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004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800600" y="1219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505320" y="1752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29528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28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9528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3434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562720" y="3429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14800" y="4419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962520" y="24382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971800" y="3048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952880" y="4343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0102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495680" y="4648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828800" y="1828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200400" y="1905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057400" y="2666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6576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562720" y="289548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010280" y="21337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200400" y="38098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209680" y="44956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486400" y="2590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010280" y="5257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0120" y="41148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472428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80880" y="3962520"/>
            <a:ext cx="609840" cy="6094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151920" y="1371240"/>
            <a:ext cx="8839440" cy="5230080"/>
            <a:chOff x="151920" y="1371240"/>
            <a:chExt cx="8839440" cy="5230080"/>
          </a:xfrm>
        </p:grpSpPr>
        <p:grpSp>
          <p:nvGrpSpPr>
            <p:cNvPr id="864" name=""/>
            <p:cNvGrpSpPr/>
            <p:nvPr/>
          </p:nvGrpSpPr>
          <p:grpSpPr>
            <a:xfrm>
              <a:off x="151920" y="1371240"/>
              <a:ext cx="8839440" cy="4038120"/>
              <a:chOff x="151920" y="1371240"/>
              <a:chExt cx="8839440" cy="4038120"/>
            </a:xfrm>
          </p:grpSpPr>
          <p:grpSp>
            <p:nvGrpSpPr>
              <p:cNvPr id="865" name=""/>
              <p:cNvGrpSpPr/>
              <p:nvPr/>
            </p:nvGrpSpPr>
            <p:grpSpPr>
              <a:xfrm>
                <a:off x="2133360" y="2056680"/>
                <a:ext cx="990720" cy="914040"/>
                <a:chOff x="2133360" y="2056680"/>
                <a:chExt cx="990720" cy="914040"/>
              </a:xfrm>
            </p:grpSpPr>
            <p:sp>
              <p:nvSpPr>
                <p:cNvPr id="866" name=""/>
                <p:cNvSpPr/>
                <p:nvPr/>
              </p:nvSpPr>
              <p:spPr>
                <a:xfrm flipV="1">
                  <a:off x="2133720" y="20566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 flipV="1">
                  <a:off x="2133360" y="20566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3809520" y="1371240"/>
                <a:ext cx="990720" cy="914040"/>
                <a:chOff x="3809520" y="1371240"/>
                <a:chExt cx="990720" cy="914040"/>
              </a:xfrm>
            </p:grpSpPr>
            <p:sp>
              <p:nvSpPr>
                <p:cNvPr id="869" name=""/>
                <p:cNvSpPr/>
                <p:nvPr/>
              </p:nvSpPr>
              <p:spPr>
                <a:xfrm flipV="1">
                  <a:off x="3809880" y="137124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 flipV="1">
                  <a:off x="3809520" y="137124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1066320" y="3276000"/>
                <a:ext cx="990720" cy="914040"/>
                <a:chOff x="1066320" y="3276000"/>
                <a:chExt cx="990720" cy="914040"/>
              </a:xfrm>
            </p:grpSpPr>
            <p:sp>
              <p:nvSpPr>
                <p:cNvPr id="872" name=""/>
                <p:cNvSpPr/>
                <p:nvPr/>
              </p:nvSpPr>
              <p:spPr>
                <a:xfrm flipV="1">
                  <a:off x="1066680" y="32760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H="1" flipV="1">
                  <a:off x="1066320" y="32760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151920" y="3733200"/>
                <a:ext cx="990720" cy="914040"/>
                <a:chOff x="151920" y="3733200"/>
                <a:chExt cx="990720" cy="914040"/>
              </a:xfrm>
            </p:grpSpPr>
            <p:sp>
              <p:nvSpPr>
                <p:cNvPr id="875" name=""/>
                <p:cNvSpPr/>
                <p:nvPr/>
              </p:nvSpPr>
              <p:spPr>
                <a:xfrm flipV="1">
                  <a:off x="152280" y="37332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H="1" flipV="1">
                  <a:off x="151920" y="37332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3200040" y="2666520"/>
                <a:ext cx="990720" cy="914040"/>
                <a:chOff x="3200040" y="2666520"/>
                <a:chExt cx="990720" cy="914040"/>
              </a:xfrm>
            </p:grpSpPr>
            <p:sp>
              <p:nvSpPr>
                <p:cNvPr id="878" name=""/>
                <p:cNvSpPr/>
                <p:nvPr/>
              </p:nvSpPr>
              <p:spPr>
                <a:xfrm flipV="1">
                  <a:off x="3200400" y="26665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 flipV="1">
                  <a:off x="3200040" y="26665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2895120" y="4266720"/>
                <a:ext cx="990720" cy="914040"/>
                <a:chOff x="2895120" y="4266720"/>
                <a:chExt cx="990720" cy="914040"/>
              </a:xfrm>
            </p:grpSpPr>
            <p:sp>
              <p:nvSpPr>
                <p:cNvPr id="881" name=""/>
                <p:cNvSpPr/>
                <p:nvPr/>
              </p:nvSpPr>
              <p:spPr>
                <a:xfrm flipV="1">
                  <a:off x="2895480" y="42667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H="1" flipV="1">
                  <a:off x="2895120" y="42667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6171840" y="2437920"/>
                <a:ext cx="990720" cy="914040"/>
                <a:chOff x="6171840" y="2437920"/>
                <a:chExt cx="990720" cy="914040"/>
              </a:xfrm>
            </p:grpSpPr>
            <p:sp>
              <p:nvSpPr>
                <p:cNvPr id="884" name=""/>
                <p:cNvSpPr/>
                <p:nvPr/>
              </p:nvSpPr>
              <p:spPr>
                <a:xfrm flipV="1">
                  <a:off x="6172200" y="24379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H="1" flipV="1">
                  <a:off x="6171840" y="24379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4495320" y="3428280"/>
                <a:ext cx="990720" cy="914040"/>
                <a:chOff x="4495320" y="3428280"/>
                <a:chExt cx="990720" cy="914040"/>
              </a:xfrm>
            </p:grpSpPr>
            <p:sp>
              <p:nvSpPr>
                <p:cNvPr id="887" name=""/>
                <p:cNvSpPr/>
                <p:nvPr/>
              </p:nvSpPr>
              <p:spPr>
                <a:xfrm flipV="1">
                  <a:off x="4495680" y="34282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H="1" flipV="1">
                  <a:off x="4495320" y="34282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5638320" y="3885480"/>
                <a:ext cx="990720" cy="914040"/>
                <a:chOff x="5638320" y="3885480"/>
                <a:chExt cx="990720" cy="914040"/>
              </a:xfrm>
            </p:grpSpPr>
            <p:sp>
              <p:nvSpPr>
                <p:cNvPr id="890" name=""/>
                <p:cNvSpPr/>
                <p:nvPr/>
              </p:nvSpPr>
              <p:spPr>
                <a:xfrm flipV="1">
                  <a:off x="5638680" y="38854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 flipV="1">
                  <a:off x="5638320" y="388548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6857640" y="4495320"/>
                <a:ext cx="990720" cy="914040"/>
                <a:chOff x="6857640" y="4495320"/>
                <a:chExt cx="990720" cy="914040"/>
              </a:xfrm>
            </p:grpSpPr>
            <p:sp>
              <p:nvSpPr>
                <p:cNvPr id="893" name=""/>
                <p:cNvSpPr/>
                <p:nvPr/>
              </p:nvSpPr>
              <p:spPr>
                <a:xfrm flipV="1">
                  <a:off x="6858000" y="44953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H="1" flipV="1">
                  <a:off x="6857640" y="449532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8000640" y="2361600"/>
                <a:ext cx="990720" cy="914040"/>
                <a:chOff x="8000640" y="2361600"/>
                <a:chExt cx="990720" cy="914040"/>
              </a:xfrm>
            </p:grpSpPr>
            <p:sp>
              <p:nvSpPr>
                <p:cNvPr id="896" name=""/>
                <p:cNvSpPr/>
                <p:nvPr/>
              </p:nvSpPr>
              <p:spPr>
                <a:xfrm flipV="1">
                  <a:off x="8001000" y="23616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 flipV="1">
                  <a:off x="8000640" y="2361600"/>
                  <a:ext cx="99036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8" name=""/>
            <p:cNvSpPr/>
            <p:nvPr/>
          </p:nvSpPr>
          <p:spPr>
            <a:xfrm>
              <a:off x="2133720" y="6019920"/>
              <a:ext cx="5257800" cy="58140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y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naccessible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states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304920" y="1066680"/>
            <a:ext cx="8702280" cy="5748120"/>
            <a:chOff x="304920" y="1066680"/>
            <a:chExt cx="8702280" cy="5748120"/>
          </a:xfrm>
        </p:grpSpPr>
        <p:sp>
          <p:nvSpPr>
            <p:cNvPr id="901" name=""/>
            <p:cNvSpPr/>
            <p:nvPr/>
          </p:nvSpPr>
          <p:spPr>
            <a:xfrm>
              <a:off x="7848720" y="5257440"/>
              <a:ext cx="76176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09480" y="4952880"/>
              <a:ext cx="1219320" cy="8380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315200" y="1295280"/>
              <a:ext cx="1219320" cy="7617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391520" y="1371240"/>
              <a:ext cx="106668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85800" y="5028840"/>
              <a:ext cx="10666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90720" y="1371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924680" y="5333760"/>
              <a:ext cx="60984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09480" y="1447560"/>
              <a:ext cx="4572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411120" y="1294560"/>
              <a:ext cx="805932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20" y="18249"/>
                  </a:moveTo>
                  <a:arcTo wR="10800" hR="10800" stAng="2616307" swAng="5606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20" y="18249"/>
                  </a:moveTo>
                  <a:arcTo wR="10800" hR="10800" stAng="2616307" swAng="56064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 rot="2406600">
              <a:off x="619200" y="1649160"/>
              <a:ext cx="380520" cy="56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1" y="21599"/>
                  </a:moveTo>
                  <a:arcTo wR="10800" hR="10800" stAng="5444291" swAng="200297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1" y="21599"/>
                  </a:moveTo>
                  <a:arcTo wR="10800" hR="10800" stAng="5444291" swAng="2002979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 rot="16200000">
              <a:off x="-569520" y="2886840"/>
              <a:ext cx="418644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20" y="18249"/>
                  </a:moveTo>
                  <a:arcTo wR="10800" hR="10800" stAng="2616307" swAng="56064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20" y="18249"/>
                  </a:moveTo>
                  <a:arcTo wR="10800" hR="10800" stAng="2616307" swAng="56064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 rot="5400000">
              <a:off x="4978080" y="3481920"/>
              <a:ext cx="559872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2" y="20503"/>
                  </a:moveTo>
                  <a:arcTo wR="10800" hR="10800" stAng="3837239" swAng="42261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2" y="20503"/>
                  </a:moveTo>
                  <a:arcTo wR="10800" hR="10800" stAng="3837239" swAng="4226180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365040" y="4724280"/>
              <a:ext cx="86418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598" y="18272"/>
                  </a:moveTo>
                  <a:arcTo wR="10800" hR="10800" stAng="2626643" swAng="56606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8598" y="18272"/>
                  </a:moveTo>
                  <a:arcTo wR="10800" hR="10800" stAng="2626643" swAng="566068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 rot="19193400">
              <a:off x="8457840" y="1752480"/>
              <a:ext cx="380520" cy="55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1" y="21599"/>
                  </a:moveTo>
                  <a:arcTo wR="10800" hR="10800" stAng="5444291" swAng="200297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1" y="21599"/>
                  </a:moveTo>
                  <a:arcTo wR="10800" hR="10800" stAng="5444291" swAng="20029796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57200" y="19810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23880" y="10666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5800" y="29714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534520" y="137124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05920" y="350496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495680" y="54860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8381880" y="5028840"/>
              <a:ext cx="306000" cy="45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31" y="560"/>
                  </a:moveTo>
                  <a:arcTo wR="10800" hR="10800" stAng="-4288488" swAng="155730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31" y="560"/>
                  </a:moveTo>
                  <a:arcTo wR="10800" hR="10800" stAng="-4288488" swAng="15573049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04920" y="449712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381880" y="45734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flipV="1">
              <a:off x="456480" y="4879080"/>
              <a:ext cx="305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46" y="6"/>
                  </a:moveTo>
                  <a:arcTo wR="10800" hR="10800" stAng="-5512753" swAng="156166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46" y="6"/>
                  </a:moveTo>
                  <a:arcTo wR="10800" hR="10800" stAng="-5512753" swAng="1561665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 II: </a:t>
            </a: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76520" y="10666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nalogy to the previous algorithm except that only sets of accessible states are introduc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380880" y="2494080"/>
            <a:ext cx="5334120" cy="3677760"/>
            <a:chOff x="380880" y="2494080"/>
            <a:chExt cx="5334120" cy="3677760"/>
          </a:xfrm>
        </p:grpSpPr>
        <p:sp>
          <p:nvSpPr>
            <p:cNvPr id="931" name=""/>
            <p:cNvSpPr/>
            <p:nvPr/>
          </p:nvSpPr>
          <p:spPr>
            <a:xfrm>
              <a:off x="1981080" y="287496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914400" y="2874960"/>
              <a:ext cx="2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279864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05120" y="38098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38080" y="38656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880" y="40942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971800" y="37893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371600" y="36576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371600" y="4094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4792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600200" y="563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048120" y="3865680"/>
              <a:ext cx="53316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62120" y="33670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828800" y="33321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981080" y="51814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535120" y="3637080"/>
              <a:ext cx="2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38280" y="4094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971800" y="325584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1905120" y="5603040"/>
              <a:ext cx="68544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219320" y="4292640"/>
              <a:ext cx="1790640" cy="379440"/>
            </a:xfrm>
            <a:custGeom>
              <a:avLst/>
              <a:gdLst/>
              <a:ahLst/>
              <a:rect l="l" t="t" r="r" b="b"/>
              <a:pathLst>
                <a:path w="1128" h="239">
                  <a:moveTo>
                    <a:pt x="0" y="41"/>
                  </a:moveTo>
                  <a:cubicBezTo>
                    <a:pt x="108" y="73"/>
                    <a:pt x="460" y="239"/>
                    <a:pt x="648" y="232"/>
                  </a:cubicBezTo>
                  <a:cubicBezTo>
                    <a:pt x="836" y="225"/>
                    <a:pt x="1028" y="48"/>
                    <a:pt x="112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3623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143000" y="4433760"/>
              <a:ext cx="2057400" cy="67176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38280" y="44197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990720" y="4357800"/>
              <a:ext cx="990360" cy="128088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514600" y="4444920"/>
              <a:ext cx="851040" cy="1103400"/>
            </a:xfrm>
            <a:custGeom>
              <a:avLst/>
              <a:gdLst/>
              <a:ahLst/>
              <a:rect l="l" t="t" r="r" b="b"/>
              <a:pathLst>
                <a:path w="536" h="695">
                  <a:moveTo>
                    <a:pt x="536" y="0"/>
                  </a:moveTo>
                  <a:cubicBezTo>
                    <a:pt x="492" y="98"/>
                    <a:pt x="361" y="479"/>
                    <a:pt x="272" y="587"/>
                  </a:cubicBezTo>
                  <a:cubicBezTo>
                    <a:pt x="183" y="695"/>
                    <a:pt x="57" y="636"/>
                    <a:pt x="0" y="6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590920" y="500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9480" y="249408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Illustration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809880" y="266688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DF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1102320" y="2590920"/>
            <a:ext cx="5221800" cy="1412280"/>
            <a:chOff x="1102320" y="2590920"/>
            <a:chExt cx="5221800" cy="1412280"/>
          </a:xfrm>
        </p:grpSpPr>
        <p:sp>
          <p:nvSpPr>
            <p:cNvPr id="960" name=""/>
            <p:cNvSpPr/>
            <p:nvPr/>
          </p:nvSpPr>
          <p:spPr>
            <a:xfrm>
              <a:off x="5943600" y="3048120"/>
              <a:ext cx="380520" cy="38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6422392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642239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943600" y="259092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rot="20482200">
              <a:off x="1143000" y="365724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3809880" y="3373560"/>
            <a:ext cx="2743200" cy="609480"/>
            <a:chOff x="3809880" y="3373560"/>
            <a:chExt cx="2743200" cy="609480"/>
          </a:xfrm>
        </p:grpSpPr>
        <p:sp>
          <p:nvSpPr>
            <p:cNvPr id="964" name=""/>
            <p:cNvSpPr/>
            <p:nvPr/>
          </p:nvSpPr>
          <p:spPr>
            <a:xfrm>
              <a:off x="5943600" y="337356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09880" y="3449520"/>
              <a:ext cx="221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3809880" y="436392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new states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3809880" y="4821120"/>
            <a:ext cx="3886200" cy="1905120"/>
            <a:chOff x="3809880" y="4821120"/>
            <a:chExt cx="3886200" cy="1905120"/>
          </a:xfrm>
        </p:grpSpPr>
        <p:sp>
          <p:nvSpPr>
            <p:cNvPr id="968" name=""/>
            <p:cNvSpPr/>
            <p:nvPr/>
          </p:nvSpPr>
          <p:spPr>
            <a:xfrm>
              <a:off x="3809880" y="482112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rot="5400000">
              <a:off x="4213080" y="60926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809880" y="520236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 state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809880" y="573552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 new states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1548000" y="2819520"/>
            <a:ext cx="7062480" cy="1661400"/>
            <a:chOff x="1548000" y="2819520"/>
            <a:chExt cx="7062480" cy="1661400"/>
          </a:xfrm>
        </p:grpSpPr>
        <p:sp>
          <p:nvSpPr>
            <p:cNvPr id="973" name=""/>
            <p:cNvSpPr/>
            <p:nvPr/>
          </p:nvSpPr>
          <p:spPr>
            <a:xfrm>
              <a:off x="7010280" y="304812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553080" y="2819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rot="19989600">
              <a:off x="1600200" y="388620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rot="3142800">
              <a:off x="2819160" y="411480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6477120" y="3267000"/>
              <a:ext cx="533160" cy="23832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001000" y="3200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1693080" y="3657600"/>
            <a:ext cx="6917400" cy="2040120"/>
            <a:chOff x="1693080" y="3657600"/>
            <a:chExt cx="6917400" cy="2040120"/>
          </a:xfrm>
        </p:grpSpPr>
        <p:sp>
          <p:nvSpPr>
            <p:cNvPr id="980" name=""/>
            <p:cNvSpPr/>
            <p:nvPr/>
          </p:nvSpPr>
          <p:spPr>
            <a:xfrm>
              <a:off x="6477120" y="3876840"/>
              <a:ext cx="639720" cy="334800"/>
            </a:xfrm>
            <a:custGeom>
              <a:avLst/>
              <a:gdLst/>
              <a:ahLst/>
              <a:rect l="l" t="t" r="r" b="b"/>
              <a:pathLst>
                <a:path w="424" h="193">
                  <a:moveTo>
                    <a:pt x="0" y="0"/>
                  </a:moveTo>
                  <a:cubicBezTo>
                    <a:pt x="33" y="26"/>
                    <a:pt x="126" y="137"/>
                    <a:pt x="197" y="165"/>
                  </a:cubicBezTo>
                  <a:cubicBezTo>
                    <a:pt x="268" y="193"/>
                    <a:pt x="386" y="185"/>
                    <a:pt x="424" y="16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629400" y="3657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010280" y="373392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3378000">
              <a:off x="1752120" y="5333760"/>
              <a:ext cx="30456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2061600">
              <a:off x="2971440" y="4343400"/>
              <a:ext cx="30492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001000" y="38862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609480" y="1062000"/>
            <a:ext cx="830592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re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accessible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ac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}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= 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 II: </a:t>
            </a: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685800" y="1143000"/>
            <a:ext cx="784872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09480" y="297180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09480" y="3505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362320" y="43434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2362320" y="48384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438280" y="487692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429000" y="3733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657600" y="4343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666880" y="3657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2819520" y="48006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895480" y="4114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819520" y="3886200"/>
            <a:ext cx="60948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429000" y="4952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89548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971800" y="4724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962520" y="3886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4038480" y="4648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288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791320" y="4267080"/>
            <a:ext cx="609480" cy="60984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1279800" y="3581280"/>
            <a:ext cx="5044320" cy="2112480"/>
            <a:chOff x="1279800" y="3581280"/>
            <a:chExt cx="5044320" cy="2112480"/>
          </a:xfrm>
        </p:grpSpPr>
        <p:sp>
          <p:nvSpPr>
            <p:cNvPr id="1013" name=""/>
            <p:cNvSpPr/>
            <p:nvPr/>
          </p:nvSpPr>
          <p:spPr>
            <a:xfrm>
              <a:off x="5867280" y="373356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562720" y="35812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rot="19488600">
              <a:off x="1371600" y="48762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143000" y="3581280"/>
            <a:ext cx="7467480" cy="2057400"/>
            <a:chOff x="1143000" y="3581280"/>
            <a:chExt cx="7467480" cy="2057400"/>
          </a:xfrm>
        </p:grpSpPr>
        <p:sp>
          <p:nvSpPr>
            <p:cNvPr id="1017" name=""/>
            <p:cNvSpPr/>
            <p:nvPr/>
          </p:nvSpPr>
          <p:spPr>
            <a:xfrm>
              <a:off x="6934320" y="38862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324480" y="403848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477120" y="3581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924680" y="365760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4114800" y="35812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4267080" y="43434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143000" y="4724280"/>
              <a:ext cx="11430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4038480" y="3581280"/>
            <a:ext cx="4572000" cy="2209680"/>
            <a:chOff x="4038480" y="3581280"/>
            <a:chExt cx="4572000" cy="2209680"/>
          </a:xfrm>
        </p:grpSpPr>
        <p:sp>
          <p:nvSpPr>
            <p:cNvPr id="1025" name=""/>
            <p:cNvSpPr/>
            <p:nvPr/>
          </p:nvSpPr>
          <p:spPr>
            <a:xfrm flipV="1">
              <a:off x="6324480" y="4723560"/>
              <a:ext cx="660600" cy="3049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477120" y="4495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34320" y="4572000"/>
              <a:ext cx="114300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924680" y="464796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4267080" y="434340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4038480" y="5181480"/>
              <a:ext cx="914400" cy="609480"/>
            </a:xfrm>
            <a:prstGeom prst="rightArrow">
              <a:avLst>
                <a:gd name="adj1" fmla="val 50000"/>
                <a:gd name="adj2" fmla="val 3750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14800" y="3581280"/>
              <a:ext cx="11430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762120" y="4343400"/>
            <a:ext cx="7543800" cy="2214360"/>
            <a:chOff x="762120" y="4343400"/>
            <a:chExt cx="7543800" cy="2214360"/>
          </a:xfrm>
        </p:grpSpPr>
        <p:sp>
          <p:nvSpPr>
            <p:cNvPr id="1033" name=""/>
            <p:cNvSpPr/>
            <p:nvPr/>
          </p:nvSpPr>
          <p:spPr>
            <a:xfrm>
              <a:off x="4267080" y="434340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038480" y="5181480"/>
              <a:ext cx="9907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572000" y="4419360"/>
              <a:ext cx="685800" cy="533520"/>
            </a:xfrm>
            <a:prstGeom prst="rightArrow">
              <a:avLst>
                <a:gd name="adj1" fmla="val 50000"/>
                <a:gd name="adj2" fmla="val 5594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62120" y="5562360"/>
              <a:ext cx="75438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548640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" name=""/>
          <p:cNvGrpSpPr/>
          <p:nvPr/>
        </p:nvGrpSpPr>
        <p:grpSpPr>
          <a:xfrm>
            <a:off x="3429000" y="1295280"/>
            <a:ext cx="5029200" cy="2133360"/>
            <a:chOff x="3429000" y="1295280"/>
            <a:chExt cx="5029200" cy="2133360"/>
          </a:xfrm>
        </p:grpSpPr>
        <p:sp>
          <p:nvSpPr>
            <p:cNvPr id="1041" name=""/>
            <p:cNvSpPr/>
            <p:nvPr/>
          </p:nvSpPr>
          <p:spPr>
            <a:xfrm rot="16200000">
              <a:off x="3352680" y="281880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848720" y="213372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7619400" y="1752480"/>
              <a:ext cx="533160" cy="381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696080" y="1295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8380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5800" y="10666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86400" y="205740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486400" y="15238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81480" y="13716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19920" y="190512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1992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958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143000" y="1066680"/>
            <a:ext cx="6095520" cy="2438280"/>
            <a:chOff x="1143000" y="1066680"/>
            <a:chExt cx="6095520" cy="2438280"/>
          </a:xfrm>
        </p:grpSpPr>
        <p:sp>
          <p:nvSpPr>
            <p:cNvPr id="1054" name=""/>
            <p:cNvSpPr/>
            <p:nvPr/>
          </p:nvSpPr>
          <p:spPr>
            <a:xfrm rot="16200000">
              <a:off x="1066680" y="281844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rot="16200000">
              <a:off x="1981080" y="281844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781680" y="121896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477120" y="10666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352680" y="274284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9" name=""/>
          <p:cNvSpPr/>
          <p:nvPr/>
        </p:nvSpPr>
        <p:spPr>
          <a:xfrm>
            <a:off x="51814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400800" y="1600200"/>
            <a:ext cx="1295280" cy="685800"/>
            <a:chOff x="6400800" y="1600200"/>
            <a:chExt cx="1295280" cy="685800"/>
          </a:xfrm>
        </p:grpSpPr>
        <p:sp>
          <p:nvSpPr>
            <p:cNvPr id="1061" name=""/>
            <p:cNvSpPr/>
            <p:nvPr/>
          </p:nvSpPr>
          <p:spPr>
            <a:xfrm>
              <a:off x="6400800" y="1600200"/>
              <a:ext cx="12952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504120" y="160812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6400800" y="2379600"/>
            <a:ext cx="1295280" cy="591840"/>
            <a:chOff x="6400800" y="2379600"/>
            <a:chExt cx="1295280" cy="591840"/>
          </a:xfrm>
        </p:grpSpPr>
        <p:sp>
          <p:nvSpPr>
            <p:cNvPr id="1064" name=""/>
            <p:cNvSpPr/>
            <p:nvPr/>
          </p:nvSpPr>
          <p:spPr>
            <a:xfrm>
              <a:off x="6400800" y="2437920"/>
              <a:ext cx="129528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504120" y="237960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 flipV="1">
            <a:off x="6019920" y="251388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676520" y="1905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1430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0574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676520" y="2438280"/>
            <a:ext cx="3808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094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25146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143000" y="16002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4290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9548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388620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429000" y="1600200"/>
            <a:ext cx="4568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124080" y="1523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5980320" y="1676520"/>
            <a:ext cx="2777760" cy="2057760"/>
            <a:chOff x="5980320" y="1676520"/>
            <a:chExt cx="2777760" cy="2057760"/>
          </a:xfrm>
        </p:grpSpPr>
        <p:sp>
          <p:nvSpPr>
            <p:cNvPr id="1080" name=""/>
            <p:cNvSpPr/>
            <p:nvPr/>
          </p:nvSpPr>
          <p:spPr>
            <a:xfrm>
              <a:off x="5980320" y="3154680"/>
              <a:ext cx="277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477120" y="1676520"/>
              <a:ext cx="114300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533520" y="3657600"/>
            <a:ext cx="7924680" cy="1980720"/>
            <a:chOff x="533520" y="3657600"/>
            <a:chExt cx="7924680" cy="1980720"/>
          </a:xfrm>
        </p:grpSpPr>
        <p:sp>
          <p:nvSpPr>
            <p:cNvPr id="1083" name=""/>
            <p:cNvSpPr/>
            <p:nvPr/>
          </p:nvSpPr>
          <p:spPr>
            <a:xfrm>
              <a:off x="685800" y="373356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400800" y="3657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5800" y="365760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600200" y="45716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666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9810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600200" y="5105160"/>
              <a:ext cx="3808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335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2438280" y="4724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066680" y="4267080"/>
              <a:ext cx="45684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62120" y="4190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52680" y="480024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819520" y="47242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3809880" y="4724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52680" y="4267080"/>
              <a:ext cx="456840" cy="6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048120" y="4190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772400" y="4571640"/>
              <a:ext cx="609480" cy="60948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7543800" y="4343040"/>
              <a:ext cx="53352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620120" y="3885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705720" y="38098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410080" y="4647960"/>
              <a:ext cx="609840" cy="609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410080" y="411444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105520" y="396216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943600" y="4495680"/>
              <a:ext cx="38088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943600" y="39621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01992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105520" y="50288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0" name=""/>
            <p:cNvGrpSpPr/>
            <p:nvPr/>
          </p:nvGrpSpPr>
          <p:grpSpPr>
            <a:xfrm>
              <a:off x="6324480" y="4190760"/>
              <a:ext cx="1295280" cy="685440"/>
              <a:chOff x="6324480" y="4190760"/>
              <a:chExt cx="1295280" cy="685440"/>
            </a:xfrm>
          </p:grpSpPr>
          <p:sp>
            <p:nvSpPr>
              <p:cNvPr id="1111" name=""/>
              <p:cNvSpPr/>
              <p:nvPr/>
            </p:nvSpPr>
            <p:spPr>
              <a:xfrm>
                <a:off x="6324480" y="4190760"/>
                <a:ext cx="1295280" cy="68544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427800" y="4198320"/>
                <a:ext cx="109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6324480" y="4952880"/>
              <a:ext cx="1295280" cy="685440"/>
              <a:chOff x="6324480" y="4952880"/>
              <a:chExt cx="1295280" cy="685440"/>
            </a:xfrm>
          </p:grpSpPr>
          <p:sp>
            <p:nvSpPr>
              <p:cNvPr id="1114" name=""/>
              <p:cNvSpPr/>
              <p:nvPr/>
            </p:nvSpPr>
            <p:spPr>
              <a:xfrm>
                <a:off x="6324480" y="4952880"/>
                <a:ext cx="1295280" cy="68544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427800" y="4960440"/>
                <a:ext cx="109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8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8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6" name=""/>
            <p:cNvSpPr/>
            <p:nvPr/>
          </p:nvSpPr>
          <p:spPr>
            <a:xfrm flipV="1">
              <a:off x="5943600" y="5105160"/>
              <a:ext cx="380880" cy="22824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400800" y="4267080"/>
              <a:ext cx="1143000" cy="532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289800" y="2057400"/>
            <a:ext cx="7025400" cy="1676520"/>
            <a:chOff x="289800" y="2057400"/>
            <a:chExt cx="7025400" cy="1676520"/>
          </a:xfrm>
        </p:grpSpPr>
        <p:grpSp>
          <p:nvGrpSpPr>
            <p:cNvPr id="1119" name=""/>
            <p:cNvGrpSpPr/>
            <p:nvPr/>
          </p:nvGrpSpPr>
          <p:grpSpPr>
            <a:xfrm>
              <a:off x="289800" y="2742840"/>
              <a:ext cx="7025400" cy="991080"/>
              <a:chOff x="289800" y="2742840"/>
              <a:chExt cx="7025400" cy="991080"/>
            </a:xfrm>
          </p:grpSpPr>
          <p:sp>
            <p:nvSpPr>
              <p:cNvPr id="1120" name=""/>
              <p:cNvSpPr/>
              <p:nvPr/>
            </p:nvSpPr>
            <p:spPr>
              <a:xfrm>
                <a:off x="990720" y="2742840"/>
                <a:ext cx="1676160" cy="83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80880" y="2818800"/>
                <a:ext cx="6934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= R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i="1" lang="cs-CZ" sz="2600" spc="-1" strike="noStrike">
                    <a:solidFill>
                      <a:srgbClr val="ff9933"/>
                    </a:solidFill>
                    <a:latin typeface="Times New Roman"/>
                  </a:rPr>
                  <a:t>a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, 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i="1" lang="cs-CZ" sz="26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89800" y="3154320"/>
                <a:ext cx="5952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en-US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new</a:t>
                </a:r>
                <a:r>
                  <a:rPr b="0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, {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i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cs-CZ" sz="2600" spc="-1" strike="noStrike" baseline="-25000">
                    <a:solidFill>
                      <a:srgbClr val="000000"/>
                    </a:solidFill>
                    <a:latin typeface="Times New Roman"/>
                  </a:rPr>
                  <a:t>d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0" lang="cs-CZ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cs-CZ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lang="cs-CZ" sz="2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i="1" lang="cs-CZ" sz="26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0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3" name=""/>
            <p:cNvSpPr/>
            <p:nvPr/>
          </p:nvSpPr>
          <p:spPr>
            <a:xfrm>
              <a:off x="4419720" y="2057400"/>
              <a:ext cx="533160" cy="6854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3352680" y="5181120"/>
            <a:ext cx="4800600" cy="914400"/>
            <a:chOff x="3352680" y="5181120"/>
            <a:chExt cx="4800600" cy="914400"/>
          </a:xfrm>
        </p:grpSpPr>
        <p:sp>
          <p:nvSpPr>
            <p:cNvPr id="1125" name=""/>
            <p:cNvSpPr/>
            <p:nvPr/>
          </p:nvSpPr>
          <p:spPr>
            <a:xfrm flipH="1" flipV="1">
              <a:off x="7620120" y="5180760"/>
              <a:ext cx="4572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69608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rot="16200000">
              <a:off x="32763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8" name=""/>
          <p:cNvGrpSpPr/>
          <p:nvPr/>
        </p:nvGrpSpPr>
        <p:grpSpPr>
          <a:xfrm>
            <a:off x="1066680" y="5409720"/>
            <a:ext cx="6553440" cy="838440"/>
            <a:chOff x="1066680" y="5409720"/>
            <a:chExt cx="6553440" cy="838440"/>
          </a:xfrm>
        </p:grpSpPr>
        <p:sp>
          <p:nvSpPr>
            <p:cNvPr id="1129" name=""/>
            <p:cNvSpPr/>
            <p:nvPr/>
          </p:nvSpPr>
          <p:spPr>
            <a:xfrm rot="16200000">
              <a:off x="9903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rot="16200000">
              <a:off x="1904760" y="548568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6705720" y="561276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162920" y="54860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200400" y="5410080"/>
              <a:ext cx="8380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5180760" y="5029200"/>
            <a:ext cx="2814480" cy="1524960"/>
            <a:chOff x="5180760" y="5029200"/>
            <a:chExt cx="2814480" cy="1524960"/>
          </a:xfrm>
        </p:grpSpPr>
        <p:sp>
          <p:nvSpPr>
            <p:cNvPr id="1135" name=""/>
            <p:cNvSpPr/>
            <p:nvPr/>
          </p:nvSpPr>
          <p:spPr>
            <a:xfrm>
              <a:off x="6400800" y="5029200"/>
              <a:ext cx="114300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180760" y="5974560"/>
              <a:ext cx="281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380880" y="4648320"/>
            <a:ext cx="6934320" cy="1905840"/>
            <a:chOff x="380880" y="4648320"/>
            <a:chExt cx="6934320" cy="1905840"/>
          </a:xfrm>
        </p:grpSpPr>
        <p:sp>
          <p:nvSpPr>
            <p:cNvPr id="1138" name=""/>
            <p:cNvSpPr/>
            <p:nvPr/>
          </p:nvSpPr>
          <p:spPr>
            <a:xfrm>
              <a:off x="984240" y="5410440"/>
              <a:ext cx="167652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80880" y="5639040"/>
              <a:ext cx="693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25880" y="5974560"/>
              <a:ext cx="4905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419720" y="464832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/>
          <p:nvPr/>
        </p:nvSpPr>
        <p:spPr>
          <a:xfrm>
            <a:off x="1295280" y="2133720"/>
            <a:ext cx="44460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62120" y="205740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1752480" y="2057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295280" y="1600200"/>
            <a:ext cx="38088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990720" y="15238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85800" y="106668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33412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05720" y="19810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6476400" y="1752480"/>
            <a:ext cx="53316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55308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638680" y="1219320"/>
            <a:ext cx="4568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343400" y="2057400"/>
            <a:ext cx="609480" cy="6094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343400" y="1523880"/>
            <a:ext cx="4568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038480" y="137160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876920" y="190512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87692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03848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257800" y="1600200"/>
            <a:ext cx="12952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361120" y="1608120"/>
            <a:ext cx="109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57800" y="2362320"/>
            <a:ext cx="129528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361120" y="2370240"/>
            <a:ext cx="109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876920" y="2513880"/>
            <a:ext cx="38088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334120" y="1676520"/>
            <a:ext cx="114300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 flipV="1">
            <a:off x="6476400" y="2666160"/>
            <a:ext cx="53316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629400" y="2666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5638680" y="3022200"/>
            <a:ext cx="4568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334120" y="2895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334120" y="2438280"/>
            <a:ext cx="11430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1295280" y="1523880"/>
            <a:ext cx="6553440" cy="1904400"/>
            <a:chOff x="1295280" y="1523880"/>
            <a:chExt cx="6553440" cy="1904400"/>
          </a:xfrm>
        </p:grpSpPr>
        <p:sp>
          <p:nvSpPr>
            <p:cNvPr id="1174" name=""/>
            <p:cNvSpPr/>
            <p:nvPr/>
          </p:nvSpPr>
          <p:spPr>
            <a:xfrm rot="16200000">
              <a:off x="1174680" y="2863080"/>
              <a:ext cx="685800" cy="444600"/>
            </a:xfrm>
            <a:prstGeom prst="rightArrow">
              <a:avLst>
                <a:gd name="adj1" fmla="val 50000"/>
                <a:gd name="adj2" fmla="val 3856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rot="5400000">
              <a:off x="7341120" y="208260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91520" y="1523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6108480" y="2057400"/>
            <a:ext cx="2387880" cy="1676880"/>
            <a:chOff x="6108480" y="2057400"/>
            <a:chExt cx="2387880" cy="1676880"/>
          </a:xfrm>
        </p:grpSpPr>
        <p:sp>
          <p:nvSpPr>
            <p:cNvPr id="1178" name=""/>
            <p:cNvSpPr/>
            <p:nvPr/>
          </p:nvSpPr>
          <p:spPr>
            <a:xfrm>
              <a:off x="6781680" y="2057400"/>
              <a:ext cx="53352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108480" y="3154680"/>
              <a:ext cx="238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: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74200" y="1981080"/>
            <a:ext cx="4106160" cy="1753560"/>
            <a:chOff x="574200" y="1981080"/>
            <a:chExt cx="4106160" cy="1753560"/>
          </a:xfrm>
        </p:grpSpPr>
        <p:sp>
          <p:nvSpPr>
            <p:cNvPr id="1181" name=""/>
            <p:cNvSpPr/>
            <p:nvPr/>
          </p:nvSpPr>
          <p:spPr>
            <a:xfrm>
              <a:off x="2819520" y="198108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143000" y="2742840"/>
              <a:ext cx="6858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85800" y="2819160"/>
              <a:ext cx="3505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i="1" lang="cs-CZ" sz="26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74200" y="3155040"/>
              <a:ext cx="410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609480" y="3687840"/>
            <a:ext cx="8077320" cy="3019680"/>
            <a:chOff x="609480" y="3687840"/>
            <a:chExt cx="8077320" cy="3019680"/>
          </a:xfrm>
        </p:grpSpPr>
        <p:sp>
          <p:nvSpPr>
            <p:cNvPr id="1186" name=""/>
            <p:cNvSpPr/>
            <p:nvPr/>
          </p:nvSpPr>
          <p:spPr>
            <a:xfrm>
              <a:off x="2209680" y="376416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43000" y="376416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352680" y="36878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133720" y="475452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066680" y="47545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09480" y="498312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200400" y="46785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697040" y="449604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60020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676520" y="5639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752480" y="6126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276720" y="475452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990720" y="425628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057400" y="42213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209680" y="58975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763720" y="449604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666880" y="5029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200400" y="414504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>
              <a:off x="2057400" y="6209280"/>
              <a:ext cx="914040" cy="45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447920" y="5246640"/>
              <a:ext cx="1904760" cy="19368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676520" y="4876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371600" y="5322960"/>
              <a:ext cx="2057400" cy="498600"/>
            </a:xfrm>
            <a:custGeom>
              <a:avLst/>
              <a:gdLst/>
              <a:ahLst/>
              <a:rect l="l" t="t" r="r" b="b"/>
              <a:pathLst>
                <a:path w="1152" h="192">
                  <a:moveTo>
                    <a:pt x="0" y="0"/>
                  </a:moveTo>
                  <a:cubicBezTo>
                    <a:pt x="216" y="96"/>
                    <a:pt x="432" y="192"/>
                    <a:pt x="624" y="192"/>
                  </a:cubicBezTo>
                  <a:cubicBezTo>
                    <a:pt x="816" y="192"/>
                    <a:pt x="1056" y="40"/>
                    <a:pt x="115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286000" y="5334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1219320" y="5245920"/>
              <a:ext cx="990360" cy="9558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 flipV="1">
              <a:off x="2743200" y="5322240"/>
              <a:ext cx="990720" cy="87948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971800" y="5668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85800" y="3840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191120" y="5059440"/>
              <a:ext cx="53316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172200" y="3992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543800" y="49071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7315200" y="4678560"/>
              <a:ext cx="53352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391520" y="42213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477120" y="414504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181480" y="4983120"/>
              <a:ext cx="609840" cy="6098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81480" y="4449960"/>
              <a:ext cx="4568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876920" y="42973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15000" y="4830840"/>
              <a:ext cx="38088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715000" y="4297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91320" y="5059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876920" y="53643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095880" y="4525920"/>
              <a:ext cx="12956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199200" y="453384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095880" y="5288040"/>
              <a:ext cx="12956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199200" y="5295960"/>
              <a:ext cx="109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5715000" y="5439600"/>
              <a:ext cx="38088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172200" y="4602240"/>
              <a:ext cx="114300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 flipV="1">
              <a:off x="7315200" y="5592240"/>
              <a:ext cx="53352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467480" y="5592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6477120" y="594792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72200" y="58215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172200" y="5364360"/>
              <a:ext cx="114300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rot="5400000">
              <a:off x="8179200" y="5008680"/>
              <a:ext cx="45684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229600" y="4449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620120" y="498312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962520" y="376308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free FA to DFA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685800" y="1981080"/>
            <a:ext cx="7772400" cy="1371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85800" y="1905120"/>
            <a:ext cx="800100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DFA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terminat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w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with 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otherwis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nonterminating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715000" y="3733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97180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43400" y="3809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50532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65760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791320" y="38098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590920" y="4114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876920" y="4114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09480" y="3657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581280" y="42670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02920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609480" y="4708440"/>
            <a:ext cx="8382240" cy="2276640"/>
            <a:chOff x="609480" y="4708440"/>
            <a:chExt cx="8382240" cy="2276640"/>
          </a:xfrm>
        </p:grpSpPr>
        <p:sp>
          <p:nvSpPr>
            <p:cNvPr id="1258" name=""/>
            <p:cNvSpPr/>
            <p:nvPr/>
          </p:nvSpPr>
          <p:spPr>
            <a:xfrm>
              <a:off x="609480" y="470844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: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s</a:t>
              </a:r>
              <a:r>
                <a:rPr b="1" i="1" lang="cs-CZ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09480" y="5089680"/>
              <a:ext cx="800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09480" y="5470560"/>
              <a:ext cx="8001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 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terminating: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f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09480" y="5851440"/>
              <a:ext cx="838224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cs-CZ" sz="3000" spc="-1" strike="noStrike">
                  <a:solidFill>
                    <a:srgbClr val="ff0000"/>
                  </a:solidFill>
                  <a:latin typeface="Times New Roman"/>
                </a:rPr>
                <a:t>nonterminating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there is no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 such that </a:t>
              </a:r>
              <a:r>
                <a:rPr b="1" i="1" lang="cs-CZ" sz="30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30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q </a:t>
              </a:r>
              <a:r>
                <a:rPr b="0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2" name=""/>
          <p:cNvSpPr/>
          <p:nvPr/>
        </p:nvSpPr>
        <p:spPr>
          <a:xfrm>
            <a:off x="533520" y="327672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nonterminating state can be removed from DF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rminating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676520" y="10666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tat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erminating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a string takes DFA 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to a final st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187800" y="433080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89548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4197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4114080" y="4343400"/>
            <a:ext cx="406440" cy="334800"/>
          </a:xfrm>
          <a:custGeom>
            <a:avLst/>
            <a:gdLst/>
            <a:ahLst/>
            <a:rect l="l" t="t" r="r" b="b"/>
            <a:pathLst>
              <a:path w="256" h="211">
                <a:moveTo>
                  <a:pt x="256" y="208"/>
                </a:moveTo>
                <a:cubicBezTo>
                  <a:pt x="231" y="203"/>
                  <a:pt x="147" y="211"/>
                  <a:pt x="104" y="176"/>
                </a:cubicBezTo>
                <a:cubicBezTo>
                  <a:pt x="61" y="141"/>
                  <a:pt x="22" y="3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"/>
          <p:cNvSpPr/>
          <p:nvPr/>
        </p:nvSpPr>
        <p:spPr>
          <a:xfrm>
            <a:off x="685800" y="121932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85800" y="2362320"/>
            <a:ext cx="84582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Removal of nont. stat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4038480" y="4648320"/>
            <a:ext cx="4343400" cy="1571760"/>
            <a:chOff x="4038480" y="4648320"/>
            <a:chExt cx="4343400" cy="1571760"/>
          </a:xfrm>
        </p:grpSpPr>
        <p:sp>
          <p:nvSpPr>
            <p:cNvPr id="83" name=""/>
            <p:cNvSpPr/>
            <p:nvPr/>
          </p:nvSpPr>
          <p:spPr>
            <a:xfrm>
              <a:off x="7924680" y="4648320"/>
              <a:ext cx="4572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38480" y="5334120"/>
              <a:ext cx="3810240" cy="8859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Answer: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600" spc="-1" strike="noStrike">
                  <a:solidFill>
                    <a:srgbClr val="ff0000"/>
                  </a:solidFill>
                  <a:latin typeface="Times New Roman"/>
                </a:rPr>
                <a:t>YE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5334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7848720" y="57913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609480" y="114300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imul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on o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possible 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rom every configur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81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6765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952880" y="2971800"/>
            <a:ext cx="1524240" cy="1676520"/>
            <a:chOff x="4952880" y="2971800"/>
            <a:chExt cx="1524240" cy="1676520"/>
          </a:xfrm>
        </p:grpSpPr>
        <p:sp>
          <p:nvSpPr>
            <p:cNvPr id="91" name=""/>
            <p:cNvSpPr/>
            <p:nvPr/>
          </p:nvSpPr>
          <p:spPr>
            <a:xfrm>
              <a:off x="5105520" y="2971800"/>
              <a:ext cx="1295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05520" y="3505320"/>
              <a:ext cx="1371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05520" y="40388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52880" y="3124440"/>
              <a:ext cx="152640" cy="15238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209680" y="3505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35053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7339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514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4290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676520" y="3276720"/>
            <a:ext cx="533160" cy="520560"/>
            <a:chOff x="1676520" y="3276720"/>
            <a:chExt cx="533160" cy="520560"/>
          </a:xfrm>
        </p:grpSpPr>
        <p:sp>
          <p:nvSpPr>
            <p:cNvPr id="101" name=""/>
            <p:cNvSpPr/>
            <p:nvPr/>
          </p:nvSpPr>
          <p:spPr>
            <a:xfrm>
              <a:off x="1773360" y="3276720"/>
              <a:ext cx="24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6520" y="37339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743200" y="3962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39625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038480"/>
            <a:ext cx="76176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743200" y="403848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029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350532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300672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2514600"/>
            <a:ext cx="24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297180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24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43200" y="3276720"/>
            <a:ext cx="533520" cy="520560"/>
            <a:chOff x="2743200" y="3276720"/>
            <a:chExt cx="533520" cy="520560"/>
          </a:xfrm>
        </p:grpSpPr>
        <p:sp>
          <p:nvSpPr>
            <p:cNvPr id="115" name=""/>
            <p:cNvSpPr/>
            <p:nvPr/>
          </p:nvSpPr>
          <p:spPr>
            <a:xfrm>
              <a:off x="2840040" y="3276720"/>
              <a:ext cx="2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3733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276720" y="289548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133720" y="491364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5562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391520" y="4038480"/>
            <a:ext cx="1066680" cy="1190880"/>
            <a:chOff x="7391520" y="4038480"/>
            <a:chExt cx="1066680" cy="1190880"/>
          </a:xfrm>
        </p:grpSpPr>
        <p:sp>
          <p:nvSpPr>
            <p:cNvPr id="122" name=""/>
            <p:cNvSpPr/>
            <p:nvPr/>
          </p:nvSpPr>
          <p:spPr>
            <a:xfrm>
              <a:off x="7391520" y="4190760"/>
              <a:ext cx="228600" cy="990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43800" y="4038480"/>
              <a:ext cx="914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43800" y="46479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172200" y="3809880"/>
            <a:ext cx="1295280" cy="1181880"/>
            <a:chOff x="6172200" y="3809880"/>
            <a:chExt cx="1295280" cy="1181880"/>
          </a:xfrm>
        </p:grpSpPr>
        <p:sp>
          <p:nvSpPr>
            <p:cNvPr id="126" name=""/>
            <p:cNvSpPr/>
            <p:nvPr/>
          </p:nvSpPr>
          <p:spPr>
            <a:xfrm>
              <a:off x="6324480" y="380988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24480" y="4343040"/>
              <a:ext cx="1143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2200" y="3962160"/>
              <a:ext cx="228600" cy="9144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09480" y="2133720"/>
            <a:ext cx="5029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defined 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248520" y="1828800"/>
            <a:ext cx="2209680" cy="1371600"/>
            <a:chOff x="6248520" y="1828800"/>
            <a:chExt cx="2209680" cy="1371600"/>
          </a:xfrm>
        </p:grpSpPr>
        <p:sp>
          <p:nvSpPr>
            <p:cNvPr id="131" name=""/>
            <p:cNvSpPr/>
            <p:nvPr/>
          </p:nvSpPr>
          <p:spPr>
            <a:xfrm>
              <a:off x="6248520" y="1828800"/>
              <a:ext cx="2209680" cy="11430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o nex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324480" y="281952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 flipV="1">
            <a:off x="6324480" y="2895120"/>
            <a:ext cx="45720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086600" y="2971800"/>
            <a:ext cx="1522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7772040" y="2895120"/>
            <a:ext cx="304920" cy="129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e of FA in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685800" y="114300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85800" y="15238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s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6212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85800" y="594360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3200400" y="6095520"/>
            <a:ext cx="609480" cy="305280"/>
            <a:chOff x="3200400" y="6095520"/>
            <a:chExt cx="609480" cy="305280"/>
          </a:xfrm>
        </p:grpSpPr>
        <p:sp>
          <p:nvSpPr>
            <p:cNvPr id="1281" name=""/>
            <p:cNvSpPr/>
            <p:nvPr/>
          </p:nvSpPr>
          <p:spPr>
            <a:xfrm flipV="1">
              <a:off x="3200400" y="609552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609588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4648320" y="6095520"/>
            <a:ext cx="609480" cy="305280"/>
            <a:chOff x="4648320" y="6095520"/>
            <a:chExt cx="609480" cy="305280"/>
          </a:xfrm>
        </p:grpSpPr>
        <p:sp>
          <p:nvSpPr>
            <p:cNvPr id="1284" name=""/>
            <p:cNvSpPr/>
            <p:nvPr/>
          </p:nvSpPr>
          <p:spPr>
            <a:xfrm flipV="1">
              <a:off x="4648320" y="609552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648320" y="6095880"/>
              <a:ext cx="609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ont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erminating</a:t>
            </a:r>
            <a:r>
              <a:rPr b="0" lang="cs-CZ" sz="43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3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685800" y="1981080"/>
            <a:ext cx="7848720" cy="579600"/>
            <a:chOff x="685800" y="1981080"/>
            <a:chExt cx="7848720" cy="579600"/>
          </a:xfrm>
        </p:grpSpPr>
        <p:sp>
          <p:nvSpPr>
            <p:cNvPr id="1288" name=""/>
            <p:cNvSpPr/>
            <p:nvPr/>
          </p:nvSpPr>
          <p:spPr>
            <a:xfrm>
              <a:off x="685800" y="198108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62120" y="2514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685800" y="2438280"/>
            <a:ext cx="7924680" cy="960840"/>
            <a:chOff x="685800" y="2438280"/>
            <a:chExt cx="7924680" cy="960840"/>
          </a:xfrm>
        </p:grpSpPr>
        <p:sp>
          <p:nvSpPr>
            <p:cNvPr id="1291" name=""/>
            <p:cNvSpPr/>
            <p:nvPr/>
          </p:nvSpPr>
          <p:spPr>
            <a:xfrm>
              <a:off x="685800" y="2438280"/>
              <a:ext cx="79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85800" y="2819520"/>
              <a:ext cx="441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62120" y="3352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685800" y="3276720"/>
            <a:ext cx="8001000" cy="1265400"/>
            <a:chOff x="685800" y="3276720"/>
            <a:chExt cx="8001000" cy="1265400"/>
          </a:xfrm>
        </p:grpSpPr>
        <p:sp>
          <p:nvSpPr>
            <p:cNvPr id="1295" name=""/>
            <p:cNvSpPr/>
            <p:nvPr/>
          </p:nvSpPr>
          <p:spPr>
            <a:xfrm>
              <a:off x="685800" y="327672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85800" y="35812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85800" y="3962520"/>
              <a:ext cx="510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62120" y="4495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685800" y="4419720"/>
            <a:ext cx="8229600" cy="1569960"/>
            <a:chOff x="685800" y="4419720"/>
            <a:chExt cx="8229600" cy="1569960"/>
          </a:xfrm>
        </p:grpSpPr>
        <p:sp>
          <p:nvSpPr>
            <p:cNvPr id="1300" name=""/>
            <p:cNvSpPr/>
            <p:nvPr/>
          </p:nvSpPr>
          <p:spPr>
            <a:xfrm>
              <a:off x="685800" y="441972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85800" y="4724280"/>
              <a:ext cx="8001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85800" y="5029200"/>
              <a:ext cx="800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d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 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none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85800" y="541008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62120" y="59436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4495680" y="1676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06668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819520" y="17524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600200" y="2057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572000" y="1752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8580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352680" y="20574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85800" y="1066680"/>
            <a:ext cx="4876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Inaccessible state 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 rot="16200000">
            <a:off x="2743200" y="2362320"/>
            <a:ext cx="457200" cy="30456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286000" y="2514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666880" y="2057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733920" y="2438280"/>
            <a:ext cx="434340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exists 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start state to this inaccessible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286000"/>
            <a:ext cx="609480" cy="380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743200" y="2971800"/>
            <a:ext cx="9907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98108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65760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1676520" y="21333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H="1" flipV="1">
            <a:off x="1676520" y="21333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620120" y="4343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191120" y="44197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94360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724280" y="4724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696080" y="4419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809880" y="47242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477120" y="47242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3886200"/>
            <a:ext cx="5181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Nonterminating state 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6248520" y="4952880"/>
            <a:ext cx="457200" cy="5335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705720" y="51814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324480" y="4800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7315200" y="5028840"/>
            <a:ext cx="533520" cy="3049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H="1">
            <a:off x="5029200" y="5638680"/>
            <a:ext cx="1752480" cy="381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10552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78168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7315200" y="48765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H="1" flipV="1">
            <a:off x="7315200" y="487656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85800" y="5029200"/>
            <a:ext cx="434340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re exists n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this nonterminating state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inal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mmary: States to Re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"/>
          <p:cNvSpPr/>
          <p:nvPr/>
        </p:nvSpPr>
        <p:spPr>
          <a:xfrm>
            <a:off x="668160" y="160020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85800" y="1600200"/>
            <a:ext cx="769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1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DF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f for any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of the for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wise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5800" y="373392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702000" y="6277680"/>
            <a:ext cx="22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084320" y="403848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008000" y="505944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50800" y="5334120"/>
            <a:ext cx="4572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075040" y="49831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151000" y="5059440"/>
            <a:ext cx="5335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932040" y="4525920"/>
            <a:ext cx="68544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638360" y="4800600"/>
            <a:ext cx="2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541520" y="53341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075040" y="4449600"/>
            <a:ext cx="685440" cy="61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47" y="19745"/>
                </a:moveTo>
                <a:arcTo wR="10800" hR="10800" stAng="7445125" swAng="17812081"/>
                <a:lnTo>
                  <a:pt x="10800" y="10800"/>
                </a:lnTo>
                <a:close/>
              </a:path>
              <a:path fill="none" w="21600" h="21600">
                <a:moveTo>
                  <a:pt x="4747" y="19745"/>
                </a:moveTo>
                <a:arcTo wR="10800" hR="10800" stAng="7445125" swAng="17812081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379600" y="3992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33520" y="373284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Conversion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complete 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1312920" y="4495680"/>
            <a:ext cx="2437920" cy="1752480"/>
            <a:chOff x="1312920" y="4495680"/>
            <a:chExt cx="2437920" cy="1752480"/>
          </a:xfrm>
        </p:grpSpPr>
        <p:sp>
          <p:nvSpPr>
            <p:cNvPr id="1361" name=""/>
            <p:cNvSpPr/>
            <p:nvPr/>
          </p:nvSpPr>
          <p:spPr>
            <a:xfrm>
              <a:off x="1998360" y="57146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760480" y="44956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60480" y="51051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541160" y="548604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1312920" y="5562360"/>
              <a:ext cx="685440" cy="53352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760480" y="4952880"/>
              <a:ext cx="45684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>
              <a:off x="2760480" y="5485320"/>
              <a:ext cx="45684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217680" y="472428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217680" y="5410080"/>
              <a:ext cx="53316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0" name=""/>
          <p:cNvGrpSpPr/>
          <p:nvPr/>
        </p:nvGrpSpPr>
        <p:grpSpPr>
          <a:xfrm>
            <a:off x="5808600" y="5257800"/>
            <a:ext cx="606960" cy="884160"/>
            <a:chOff x="5808600" y="5257800"/>
            <a:chExt cx="606960" cy="884160"/>
          </a:xfrm>
        </p:grpSpPr>
        <p:sp>
          <p:nvSpPr>
            <p:cNvPr id="1371" name=""/>
            <p:cNvSpPr/>
            <p:nvPr/>
          </p:nvSpPr>
          <p:spPr>
            <a:xfrm>
              <a:off x="5808600" y="5440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5810040" y="5257800"/>
              <a:ext cx="60552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2" y="13376"/>
                  </a:moveTo>
                  <a:arcTo wR="10800" hR="10800" stAng="9971972" swAng="5298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2" y="13376"/>
                  </a:moveTo>
                  <a:arcTo wR="10800" hR="10800" stAng="9971972" swAng="529820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6495480" y="5380200"/>
            <a:ext cx="1523160" cy="757800"/>
            <a:chOff x="6495480" y="5380200"/>
            <a:chExt cx="1523160" cy="757800"/>
          </a:xfrm>
        </p:grpSpPr>
        <p:sp>
          <p:nvSpPr>
            <p:cNvPr id="1374" name=""/>
            <p:cNvSpPr/>
            <p:nvPr/>
          </p:nvSpPr>
          <p:spPr>
            <a:xfrm>
              <a:off x="7104240" y="54403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 flipV="1">
              <a:off x="6495120" y="5379840"/>
              <a:ext cx="606600" cy="75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2" y="13376"/>
                  </a:moveTo>
                  <a:arcTo wR="10800" hR="10800" stAng="9971972" swAng="52982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12" y="13376"/>
                  </a:moveTo>
                  <a:arcTo wR="10800" hR="10800" stAng="9971972" swAng="529820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6" name=""/>
          <p:cNvGrpSpPr/>
          <p:nvPr/>
        </p:nvGrpSpPr>
        <p:grpSpPr>
          <a:xfrm>
            <a:off x="5961240" y="5862960"/>
            <a:ext cx="2590200" cy="920520"/>
            <a:chOff x="5961240" y="5862960"/>
            <a:chExt cx="2590200" cy="920520"/>
          </a:xfrm>
        </p:grpSpPr>
        <p:grpSp>
          <p:nvGrpSpPr>
            <p:cNvPr id="1377" name=""/>
            <p:cNvGrpSpPr/>
            <p:nvPr/>
          </p:nvGrpSpPr>
          <p:grpSpPr>
            <a:xfrm>
              <a:off x="5961240" y="5862960"/>
              <a:ext cx="990360" cy="719640"/>
              <a:chOff x="5961240" y="5862960"/>
              <a:chExt cx="990360" cy="719640"/>
            </a:xfrm>
          </p:grpSpPr>
          <p:sp>
            <p:nvSpPr>
              <p:cNvPr id="1378" name=""/>
              <p:cNvSpPr/>
              <p:nvPr/>
            </p:nvSpPr>
            <p:spPr>
              <a:xfrm>
                <a:off x="5961240" y="5973480"/>
                <a:ext cx="990360" cy="60912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994000" y="5862960"/>
                <a:ext cx="840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200" spc="-1" strike="noStrike">
                    <a:solidFill>
                      <a:srgbClr val="ff0000"/>
                    </a:solidFill>
                    <a:latin typeface="Times New Roman"/>
                  </a:rPr>
                  <a:t>q</a:t>
                </a:r>
                <a:r>
                  <a:rPr b="1" i="1" lang="cs-CZ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fal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 flipH="1" flipV="1" rot="16200000">
              <a:off x="6999120" y="6042960"/>
              <a:ext cx="400680" cy="56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8350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8350415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332480" y="620208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4284720" y="3717000"/>
            <a:ext cx="3744720" cy="1951920"/>
            <a:chOff x="4284720" y="3717000"/>
            <a:chExt cx="3744720" cy="1951920"/>
          </a:xfrm>
        </p:grpSpPr>
        <p:sp>
          <p:nvSpPr>
            <p:cNvPr id="1383" name=""/>
            <p:cNvSpPr/>
            <p:nvPr/>
          </p:nvSpPr>
          <p:spPr>
            <a:xfrm>
              <a:off x="5562720" y="3717000"/>
              <a:ext cx="24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Complete DF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210360" y="4800600"/>
              <a:ext cx="2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113520" y="533412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284720" y="4983120"/>
              <a:ext cx="53352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656320" y="403884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580360" y="50594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123160" y="5334120"/>
              <a:ext cx="457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647040" y="498312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504040" y="4525920"/>
              <a:ext cx="685440" cy="61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647040" y="4449960"/>
              <a:ext cx="685440" cy="61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747" y="19745"/>
                  </a:moveTo>
                  <a:arcTo wR="10800" hR="10800" stAng="7445125" swAng="178120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747" y="19745"/>
                  </a:moveTo>
                  <a:arcTo wR="10800" hR="10800" stAng="7445125" swAng="17812081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723360" y="3992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33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723360" y="5059440"/>
              <a:ext cx="53316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te D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0948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Complete DFA cannot get st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/>
          <p:nvPr/>
        </p:nvSpPr>
        <p:spPr>
          <a:xfrm>
            <a:off x="685800" y="1752480"/>
            <a:ext cx="80773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complet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mplete D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2971800"/>
            <a:ext cx="830592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DFA to Complete DF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Add a “trap”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/>
          <p:nvPr/>
        </p:nvSpPr>
        <p:spPr>
          <a:xfrm>
            <a:off x="685800" y="121932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85800" y="1143000"/>
            <a:ext cx="77724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1" lang="cs-CZ" sz="3000" spc="-1" strike="noStrike" u="sng">
                <a:solidFill>
                  <a:srgbClr val="ff0000"/>
                </a:solidFill>
                <a:uFillTx/>
                <a:latin typeface="Times New Roman"/>
              </a:rPr>
              <a:t>complete DF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well-specified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WSFA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f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has no inaccessible stat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has no more than one nonterminating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85800" y="3200400"/>
            <a:ext cx="7924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well-specified FA has one nonterminating state, then it i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rom the 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85800" y="4267080"/>
            <a:ext cx="7772400" cy="10670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85800" y="4191120"/>
            <a:ext cx="79246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ere is an equivalent WS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4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09480" y="52578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ell-Specified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"/>
          <p:cNvSpPr/>
          <p:nvPr/>
        </p:nvSpPr>
        <p:spPr>
          <a:xfrm>
            <a:off x="533520" y="1143000"/>
            <a:ext cx="76341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85800" y="2209680"/>
            <a:ext cx="7634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33520" y="2209680"/>
            <a:ext cx="8458200" cy="51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f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D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accessibl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DFA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nonterminating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cs-CZ" sz="3200" spc="-1" strike="noStrike" baseline="-25000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 equivalent complet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w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o more than one nonterminating state in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3416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WS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85800" y="25909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85800" y="2590920"/>
            <a:ext cx="82296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) be a WSFA, and let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.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States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if there exist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that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w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1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w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i="1" lang="cs-CZ" sz="31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, where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or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);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therwis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states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indistinguishab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tinguishable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676520" y="10666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String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distinguishe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states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if WSFA reaches a final state from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Times New Roman"/>
              </a:rPr>
              <a:t>precisel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one of configuratio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qw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/>
          <p:nvPr/>
        </p:nvSpPr>
        <p:spPr>
          <a:xfrm>
            <a:off x="3200400" y="1676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19112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495216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5029200" y="1371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209680" y="2209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4952160" y="20574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>
            <a:off x="502920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019920" y="1295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2514600" y="2350800"/>
            <a:ext cx="456840" cy="39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13372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733920" y="18288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H="1" flipV="1" rot="16200000">
            <a:off x="5595120" y="224172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178160" y="1601640"/>
            <a:ext cx="1515240" cy="7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48029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48029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51460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419720" y="1981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tinguishable State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380880" y="2819520"/>
            <a:ext cx="8077320" cy="1523880"/>
            <a:chOff x="380880" y="2819520"/>
            <a:chExt cx="8077320" cy="1523880"/>
          </a:xfrm>
        </p:grpSpPr>
        <p:sp>
          <p:nvSpPr>
            <p:cNvPr id="1444" name=""/>
            <p:cNvSpPr/>
            <p:nvPr/>
          </p:nvSpPr>
          <p:spPr>
            <a:xfrm>
              <a:off x="380880" y="2819520"/>
              <a:ext cx="784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ar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distinguishabl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 because for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124080" y="3276720"/>
              <a:ext cx="327672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9933"/>
                  </a:solidFill>
                  <a:latin typeface="Times New Roman"/>
                </a:rPr>
                <a:t>  </a:t>
              </a:r>
              <a:r>
                <a:rPr b="1" i="1" lang="en-US" sz="3000" spc="-1" strike="noStrike">
                  <a:solidFill>
                    <a:srgbClr val="339933"/>
                  </a:solidFill>
                  <a:latin typeface="Times New Roman"/>
                </a:rPr>
                <a:t>s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s 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124080" y="3657600"/>
              <a:ext cx="297180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339933"/>
                  </a:solidFill>
                  <a:latin typeface="Times New Roman"/>
                </a:rPr>
                <a:t>1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85800" y="4343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3048120" y="2133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4177080" y="1748880"/>
            <a:ext cx="1514880" cy="76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0" y="7167"/>
                </a:moveTo>
                <a:arcTo wR="10800" hR="10800" stAng="-9620462" swAng="4297162"/>
                <a:lnTo>
                  <a:pt x="10800" y="10800"/>
                </a:lnTo>
                <a:close/>
              </a:path>
              <a:path fill="none" w="21600" h="21600">
                <a:moveTo>
                  <a:pt x="630" y="7167"/>
                </a:moveTo>
                <a:arcTo wR="10800" hR="10800" stAng="-9620462" swAng="429716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 flipV="1" rot="16200000">
            <a:off x="5595120" y="1403640"/>
            <a:ext cx="456840" cy="3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948148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948148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019920" y="2133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380880" y="4343400"/>
            <a:ext cx="8763120" cy="1388880"/>
            <a:chOff x="380880" y="4343400"/>
            <a:chExt cx="8763120" cy="1388880"/>
          </a:xfrm>
        </p:grpSpPr>
        <p:sp>
          <p:nvSpPr>
            <p:cNvPr id="1453" name=""/>
            <p:cNvSpPr/>
            <p:nvPr/>
          </p:nvSpPr>
          <p:spPr>
            <a:xfrm>
              <a:off x="380880" y="4343400"/>
              <a:ext cx="8763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r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indistinguishabl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becaus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each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124080" y="4724280"/>
              <a:ext cx="3276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339933"/>
                  </a:solidFill>
                  <a:latin typeface="Times New Roman"/>
                </a:rPr>
                <a:t>2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85800" y="57150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124080" y="5105520"/>
              <a:ext cx="327672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000" spc="-1" strike="noStrike">
                  <a:solidFill>
                    <a:srgbClr val="339933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339933"/>
                  </a:solidFill>
                  <a:latin typeface="Times New Roman"/>
                </a:rPr>
                <a:t>3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|–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cs-CZ" sz="3000" spc="-1" strike="noStrike" baseline="30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30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7" name=""/>
          <p:cNvSpPr/>
          <p:nvPr/>
        </p:nvSpPr>
        <p:spPr>
          <a:xfrm>
            <a:off x="380880" y="5715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ther pairs of states are triviall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"/>
          <p:cNvSpPr/>
          <p:nvPr/>
        </p:nvSpPr>
        <p:spPr>
          <a:xfrm>
            <a:off x="685800" y="121932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1143000"/>
            <a:ext cx="7848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 a </a:t>
            </a:r>
            <a:r>
              <a:rPr b="1" lang="en-US" sz="3400" spc="-1" strike="noStrike" u="sng">
                <a:solidFill>
                  <a:srgbClr val="ff0000"/>
                </a:solidFill>
                <a:uFillTx/>
                <a:latin typeface="Times New Roman"/>
              </a:rPr>
              <a:t>WS</a:t>
            </a:r>
            <a:r>
              <a:rPr b="1" lang="cs-CZ" sz="3400" spc="-1" strike="noStrike" u="sng">
                <a:solidFill>
                  <a:srgbClr val="ff0000"/>
                </a:solidFill>
                <a:uFillTx/>
                <a:latin typeface="Times New Roman"/>
              </a:rPr>
              <a:t>FA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. Then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inimum-state 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if 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contains only distinguishable state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685800" y="3124080"/>
            <a:ext cx="7772400" cy="1219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85800" y="3124080"/>
            <a:ext cx="76960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WS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, there is an equivalent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minimum-state FA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3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um-State 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09480" y="4343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n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/>
          <p:nvPr/>
        </p:nvSpPr>
        <p:spPr>
          <a:xfrm>
            <a:off x="457200" y="1143000"/>
            <a:ext cx="868680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Minim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e 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there exi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 division is possib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p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6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gorithm: WSFA to Min-State F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1143000"/>
            <a:ext cx="8686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Preference in practice:</a:t>
            </a: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eterminictic F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(DFA) that makes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o more tha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on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ove from every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configur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85800" y="4191120"/>
            <a:ext cx="7772400" cy="2057400"/>
            <a:chOff x="685800" y="4191120"/>
            <a:chExt cx="7772400" cy="2057400"/>
          </a:xfrm>
        </p:grpSpPr>
        <p:sp>
          <p:nvSpPr>
            <p:cNvPr id="141" name=""/>
            <p:cNvSpPr/>
            <p:nvPr/>
          </p:nvSpPr>
          <p:spPr>
            <a:xfrm>
              <a:off x="685800" y="4191120"/>
              <a:ext cx="7772400" cy="205740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2120" y="4191120"/>
              <a:ext cx="76197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 be 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F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is an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-free finite automato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if for all rule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a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 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where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FA to DFA in Essence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25909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26668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2971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267080" y="2743200"/>
            <a:ext cx="380880" cy="457200"/>
            <a:chOff x="4267080" y="2743200"/>
            <a:chExt cx="380880" cy="457200"/>
          </a:xfrm>
        </p:grpSpPr>
        <p:sp>
          <p:nvSpPr>
            <p:cNvPr id="153" name=""/>
            <p:cNvSpPr/>
            <p:nvPr/>
          </p:nvSpPr>
          <p:spPr>
            <a:xfrm>
              <a:off x="42670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2670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672000" y="1753200"/>
            <a:ext cx="3126960" cy="1708560"/>
            <a:chOff x="3672000" y="1753200"/>
            <a:chExt cx="3126960" cy="1708560"/>
          </a:xfrm>
        </p:grpSpPr>
        <p:sp>
          <p:nvSpPr>
            <p:cNvPr id="156" name=""/>
            <p:cNvSpPr/>
            <p:nvPr/>
          </p:nvSpPr>
          <p:spPr>
            <a:xfrm flipH="1">
              <a:off x="3672000" y="1753200"/>
              <a:ext cx="3126960" cy="167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8" y="17748"/>
                  </a:moveTo>
                  <a:arcTo wR="10800" hR="10800" stAng="2402385" swAng="5886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8" y="17748"/>
                  </a:moveTo>
                  <a:arcTo wR="10800" hR="10800" stAng="2402385" swAng="5886570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47960" y="281916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531520" y="2133720"/>
            <a:ext cx="4026600" cy="1709280"/>
            <a:chOff x="2531520" y="2133720"/>
            <a:chExt cx="4026600" cy="1709280"/>
          </a:xfrm>
        </p:grpSpPr>
        <p:sp>
          <p:nvSpPr>
            <p:cNvPr id="159" name=""/>
            <p:cNvSpPr/>
            <p:nvPr/>
          </p:nvSpPr>
          <p:spPr>
            <a:xfrm flipH="1">
              <a:off x="2531160" y="2133720"/>
              <a:ext cx="4026600" cy="167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83" y="13398"/>
                  </a:moveTo>
                  <a:arcTo wR="10800" hR="10800" stAng="835055" swAng="8980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83" y="13398"/>
                  </a:moveTo>
                  <a:arcTo wR="10800" hR="10800" stAng="835055" swAng="898049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6200" y="32004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895480" y="2743200"/>
            <a:ext cx="380880" cy="457200"/>
            <a:chOff x="2895480" y="2743200"/>
            <a:chExt cx="380880" cy="457200"/>
          </a:xfrm>
        </p:grpSpPr>
        <p:sp>
          <p:nvSpPr>
            <p:cNvPr id="162" name=""/>
            <p:cNvSpPr/>
            <p:nvPr/>
          </p:nvSpPr>
          <p:spPr>
            <a:xfrm>
              <a:off x="28954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895480" y="2743200"/>
              <a:ext cx="3808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1148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057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Removal of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-m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198108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590920" y="990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057400" y="13716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819520" y="1371600"/>
            <a:ext cx="2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60020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752480" y="1447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 flipV="1">
            <a:off x="3733200" y="236160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rot="5400000">
            <a:off x="4748760" y="1854360"/>
            <a:ext cx="45684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369972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3699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8006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06668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05740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3199680" y="12952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H="1">
            <a:off x="3276000" y="1371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4267080" y="1828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3276000" y="22096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661840" y="1447920"/>
            <a:ext cx="53820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rot="10800000">
            <a:off x="2667240" y="1600200"/>
            <a:ext cx="5382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81952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743200" y="220968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584440" y="2286000"/>
            <a:ext cx="6919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0800000">
            <a:off x="2590920" y="2440080"/>
            <a:ext cx="69192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 rot="16200000">
            <a:off x="659880" y="1855080"/>
            <a:ext cx="456840" cy="40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369972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36997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858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8288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96252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41972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65760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rot="5400000">
            <a:off x="3591000" y="1875960"/>
            <a:ext cx="531000" cy="43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V="1" rot="10800000">
            <a:off x="3885840" y="159912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1447920" y="236160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1143000" y="1295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 rot="16200000">
            <a:off x="1780920" y="1877040"/>
            <a:ext cx="531000" cy="435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2"/>
                </a:moveTo>
                <a:arcTo wR="10800" hR="10800" stAng="10646603" swAng="11696882"/>
                <a:lnTo>
                  <a:pt x="10800" y="10800"/>
                </a:lnTo>
                <a:close/>
              </a:path>
              <a:path fill="none" w="21600" h="21600">
                <a:moveTo>
                  <a:pt x="11" y="11282"/>
                </a:moveTo>
                <a:arcTo wR="10800" hR="10800" stAng="10646603" swAng="11696882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H="1" flipV="1" rot="10800000">
            <a:off x="1294200" y="1599120"/>
            <a:ext cx="685800" cy="22860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685800" y="1066680"/>
            <a:ext cx="7924680" cy="1828800"/>
            <a:chOff x="685800" y="1066680"/>
            <a:chExt cx="7924680" cy="1828800"/>
          </a:xfrm>
        </p:grpSpPr>
        <p:sp>
          <p:nvSpPr>
            <p:cNvPr id="1505" name=""/>
            <p:cNvSpPr/>
            <p:nvPr/>
          </p:nvSpPr>
          <p:spPr>
            <a:xfrm>
              <a:off x="685800" y="2895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572000" y="1066680"/>
              <a:ext cx="40384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, 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410080" y="1922040"/>
              <a:ext cx="106704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inal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29400" y="1922040"/>
              <a:ext cx="152388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Other 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rot="16200000">
              <a:off x="5829120" y="1485000"/>
              <a:ext cx="152280" cy="5335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rot="16200000">
              <a:off x="7277040" y="102780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1" name=""/>
          <p:cNvGrpSpPr/>
          <p:nvPr/>
        </p:nvGrpSpPr>
        <p:grpSpPr>
          <a:xfrm>
            <a:off x="533520" y="2819520"/>
            <a:ext cx="5181480" cy="1281600"/>
            <a:chOff x="533520" y="2819520"/>
            <a:chExt cx="5181480" cy="1281600"/>
          </a:xfrm>
        </p:grpSpPr>
        <p:sp>
          <p:nvSpPr>
            <p:cNvPr id="1512" name=""/>
            <p:cNvSpPr/>
            <p:nvPr/>
          </p:nvSpPr>
          <p:spPr>
            <a:xfrm>
              <a:off x="533520" y="2819520"/>
              <a:ext cx="5181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243160" y="32760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243160" y="358056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990720" y="327672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6" name=""/>
          <p:cNvSpPr/>
          <p:nvPr/>
        </p:nvSpPr>
        <p:spPr>
          <a:xfrm>
            <a:off x="664920" y="5917320"/>
            <a:ext cx="323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vis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400" spc="-1" strike="noStrike" baseline="-25000">
                <a:solidFill>
                  <a:srgbClr val="00cc99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6575400" y="4629240"/>
            <a:ext cx="2416320" cy="704880"/>
            <a:chOff x="6575400" y="4629240"/>
            <a:chExt cx="2416320" cy="704880"/>
          </a:xfrm>
        </p:grpSpPr>
        <p:sp>
          <p:nvSpPr>
            <p:cNvPr id="1519" name=""/>
            <p:cNvSpPr/>
            <p:nvPr/>
          </p:nvSpPr>
          <p:spPr>
            <a:xfrm>
              <a:off x="6575400" y="4629240"/>
              <a:ext cx="442800" cy="7048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010280" y="5016600"/>
              <a:ext cx="2206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162920" y="4788000"/>
              <a:ext cx="1828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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2" name=""/>
          <p:cNvGrpSpPr/>
          <p:nvPr/>
        </p:nvGrpSpPr>
        <p:grpSpPr>
          <a:xfrm>
            <a:off x="6324480" y="5365800"/>
            <a:ext cx="2590920" cy="1240200"/>
            <a:chOff x="6324480" y="5365800"/>
            <a:chExt cx="2590920" cy="1240200"/>
          </a:xfrm>
        </p:grpSpPr>
        <p:sp>
          <p:nvSpPr>
            <p:cNvPr id="1523" name=""/>
            <p:cNvSpPr/>
            <p:nvPr/>
          </p:nvSpPr>
          <p:spPr>
            <a:xfrm>
              <a:off x="6575400" y="5365800"/>
              <a:ext cx="442800" cy="66528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781680" y="6019920"/>
              <a:ext cx="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324480" y="6095880"/>
              <a:ext cx="2590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2895480" y="2895480"/>
            <a:ext cx="1981440" cy="1143000"/>
            <a:chOff x="2895480" y="2895480"/>
            <a:chExt cx="1981440" cy="1143000"/>
          </a:xfrm>
        </p:grpSpPr>
        <p:sp>
          <p:nvSpPr>
            <p:cNvPr id="1527" name=""/>
            <p:cNvSpPr/>
            <p:nvPr/>
          </p:nvSpPr>
          <p:spPr>
            <a:xfrm>
              <a:off x="3048120" y="3352680"/>
              <a:ext cx="4572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505320" y="34290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895480" y="28954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962520" y="327672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685800" y="2895480"/>
            <a:ext cx="7772400" cy="1295640"/>
            <a:chOff x="685800" y="2895480"/>
            <a:chExt cx="7772400" cy="1295640"/>
          </a:xfrm>
        </p:grpSpPr>
        <p:sp>
          <p:nvSpPr>
            <p:cNvPr id="1532" name=""/>
            <p:cNvSpPr/>
            <p:nvPr/>
          </p:nvSpPr>
          <p:spPr>
            <a:xfrm>
              <a:off x="685800" y="4191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3" name=""/>
            <p:cNvGrpSpPr/>
            <p:nvPr/>
          </p:nvGrpSpPr>
          <p:grpSpPr>
            <a:xfrm>
              <a:off x="6248520" y="2895480"/>
              <a:ext cx="1981080" cy="1219320"/>
              <a:chOff x="6248520" y="2895480"/>
              <a:chExt cx="1981080" cy="1219320"/>
            </a:xfrm>
          </p:grpSpPr>
          <p:sp>
            <p:nvSpPr>
              <p:cNvPr id="1534" name=""/>
              <p:cNvSpPr/>
              <p:nvPr/>
            </p:nvSpPr>
            <p:spPr>
              <a:xfrm>
                <a:off x="6400800" y="3352680"/>
                <a:ext cx="457200" cy="76212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248520" y="289548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cc99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858000" y="3429000"/>
                <a:ext cx="45720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315200" y="3276720"/>
                <a:ext cx="0" cy="15228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8" name=""/>
          <p:cNvGrpSpPr/>
          <p:nvPr/>
        </p:nvGrpSpPr>
        <p:grpSpPr>
          <a:xfrm>
            <a:off x="533520" y="4114800"/>
            <a:ext cx="3352680" cy="1920960"/>
            <a:chOff x="533520" y="4114800"/>
            <a:chExt cx="3352680" cy="1920960"/>
          </a:xfrm>
        </p:grpSpPr>
        <p:sp>
          <p:nvSpPr>
            <p:cNvPr id="1539" name=""/>
            <p:cNvSpPr/>
            <p:nvPr/>
          </p:nvSpPr>
          <p:spPr>
            <a:xfrm>
              <a:off x="2259720" y="45417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33520" y="4114800"/>
              <a:ext cx="3352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259720" y="484668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259720" y="515124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259720" y="54561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990720" y="457200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4289400" y="4541760"/>
            <a:ext cx="2721600" cy="1494000"/>
            <a:chOff x="4289400" y="4541760"/>
            <a:chExt cx="2721600" cy="1494000"/>
          </a:xfrm>
        </p:grpSpPr>
        <p:sp>
          <p:nvSpPr>
            <p:cNvPr id="1546" name=""/>
            <p:cNvSpPr/>
            <p:nvPr/>
          </p:nvSpPr>
          <p:spPr>
            <a:xfrm>
              <a:off x="5560200" y="484668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535000" y="515124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535000" y="5456160"/>
              <a:ext cx="147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527800" y="454176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289400" y="456552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1" name=""/>
          <p:cNvGrpSpPr/>
          <p:nvPr/>
        </p:nvGrpSpPr>
        <p:grpSpPr>
          <a:xfrm>
            <a:off x="4267080" y="3246480"/>
            <a:ext cx="2549160" cy="884160"/>
            <a:chOff x="4267080" y="3246480"/>
            <a:chExt cx="2549160" cy="884160"/>
          </a:xfrm>
        </p:grpSpPr>
        <p:sp>
          <p:nvSpPr>
            <p:cNvPr id="1552" name=""/>
            <p:cNvSpPr/>
            <p:nvPr/>
          </p:nvSpPr>
          <p:spPr>
            <a:xfrm>
              <a:off x="5483520" y="324648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483880" y="355104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267080" y="3276720"/>
              <a:ext cx="137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5" name=""/>
          <p:cNvGrpSpPr/>
          <p:nvPr/>
        </p:nvGrpSpPr>
        <p:grpSpPr>
          <a:xfrm>
            <a:off x="3352680" y="4267080"/>
            <a:ext cx="2438640" cy="1752840"/>
            <a:chOff x="3352680" y="4267080"/>
            <a:chExt cx="2438640" cy="1752840"/>
          </a:xfrm>
        </p:grpSpPr>
        <p:sp>
          <p:nvSpPr>
            <p:cNvPr id="1556" name=""/>
            <p:cNvSpPr/>
            <p:nvPr/>
          </p:nvSpPr>
          <p:spPr>
            <a:xfrm>
              <a:off x="3352680" y="4724280"/>
              <a:ext cx="457200" cy="129564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809880" y="42670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809880" y="4800600"/>
              <a:ext cx="45720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267080" y="4648320"/>
              <a:ext cx="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3824640" y="4794120"/>
            <a:ext cx="2651400" cy="2228400"/>
            <a:chOff x="3824640" y="4794120"/>
            <a:chExt cx="2651400" cy="2228400"/>
          </a:xfrm>
        </p:grpSpPr>
        <p:sp>
          <p:nvSpPr>
            <p:cNvPr id="1561" name=""/>
            <p:cNvSpPr/>
            <p:nvPr/>
          </p:nvSpPr>
          <p:spPr>
            <a:xfrm>
              <a:off x="5432400" y="4794120"/>
              <a:ext cx="147600" cy="57492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14760 h 574920"/>
                <a:gd name="textAreaBottom" fmla="*/ 560160 h 57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4343400" y="5105520"/>
              <a:ext cx="2132640" cy="191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824640" y="5906160"/>
              <a:ext cx="110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rot="5400000">
              <a:off x="4228560" y="605772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114800" y="6400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4815360" y="5403960"/>
            <a:ext cx="1031040" cy="1506960"/>
            <a:chOff x="4815360" y="5403960"/>
            <a:chExt cx="1031040" cy="1506960"/>
          </a:xfrm>
        </p:grpSpPr>
        <p:sp>
          <p:nvSpPr>
            <p:cNvPr id="1567" name=""/>
            <p:cNvSpPr/>
            <p:nvPr/>
          </p:nvSpPr>
          <p:spPr>
            <a:xfrm>
              <a:off x="5432400" y="5403960"/>
              <a:ext cx="147600" cy="59040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15120 h 590400"/>
                <a:gd name="textAreaBottom" fmla="*/ 575280 h 59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5181480" y="5715000"/>
              <a:ext cx="456480" cy="65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815360" y="5898960"/>
              <a:ext cx="1031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rot="5400000">
              <a:off x="5218920" y="605772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105520" y="64008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3" name=""/>
          <p:cNvGrpSpPr/>
          <p:nvPr/>
        </p:nvGrpSpPr>
        <p:grpSpPr>
          <a:xfrm>
            <a:off x="609480" y="1600200"/>
            <a:ext cx="5181840" cy="1281960"/>
            <a:chOff x="609480" y="1600200"/>
            <a:chExt cx="5181840" cy="1281960"/>
          </a:xfrm>
        </p:grpSpPr>
        <p:sp>
          <p:nvSpPr>
            <p:cNvPr id="1574" name=""/>
            <p:cNvSpPr/>
            <p:nvPr/>
          </p:nvSpPr>
          <p:spPr>
            <a:xfrm>
              <a:off x="609480" y="1600200"/>
              <a:ext cx="5181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243160" y="205668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243160" y="2361600"/>
              <a:ext cx="116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990720" y="2057400"/>
              <a:ext cx="1295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8" name=""/>
          <p:cNvSpPr/>
          <p:nvPr/>
        </p:nvSpPr>
        <p:spPr>
          <a:xfrm>
            <a:off x="609480" y="1066680"/>
            <a:ext cx="4419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9" name=""/>
          <p:cNvGrpSpPr/>
          <p:nvPr/>
        </p:nvGrpSpPr>
        <p:grpSpPr>
          <a:xfrm>
            <a:off x="4495680" y="2027160"/>
            <a:ext cx="2517480" cy="884520"/>
            <a:chOff x="4495680" y="2027160"/>
            <a:chExt cx="2517480" cy="884520"/>
          </a:xfrm>
        </p:grpSpPr>
        <p:sp>
          <p:nvSpPr>
            <p:cNvPr id="1580" name=""/>
            <p:cNvSpPr/>
            <p:nvPr/>
          </p:nvSpPr>
          <p:spPr>
            <a:xfrm>
              <a:off x="5680440" y="2027160"/>
              <a:ext cx="133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680800" y="2332080"/>
              <a:ext cx="1312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495680" y="2057400"/>
              <a:ext cx="1479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3" name=""/>
          <p:cNvGrpSpPr/>
          <p:nvPr/>
        </p:nvGrpSpPr>
        <p:grpSpPr>
          <a:xfrm>
            <a:off x="609480" y="2971800"/>
            <a:ext cx="5181840" cy="1235160"/>
            <a:chOff x="609480" y="2971800"/>
            <a:chExt cx="5181840" cy="1235160"/>
          </a:xfrm>
        </p:grpSpPr>
        <p:sp>
          <p:nvSpPr>
            <p:cNvPr id="1584" name=""/>
            <p:cNvSpPr/>
            <p:nvPr/>
          </p:nvSpPr>
          <p:spPr>
            <a:xfrm>
              <a:off x="609480" y="2971800"/>
              <a:ext cx="5181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289600" y="33224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289600" y="362736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09480" y="3352680"/>
              <a:ext cx="221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4068720" y="3322440"/>
            <a:ext cx="3092400" cy="884520"/>
            <a:chOff x="4068720" y="3322440"/>
            <a:chExt cx="3092400" cy="884520"/>
          </a:xfrm>
        </p:grpSpPr>
        <p:sp>
          <p:nvSpPr>
            <p:cNvPr id="1589" name=""/>
            <p:cNvSpPr/>
            <p:nvPr/>
          </p:nvSpPr>
          <p:spPr>
            <a:xfrm>
              <a:off x="5745240" y="3322440"/>
              <a:ext cx="141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745240" y="3627360"/>
              <a:ext cx="1396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068720" y="335268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579600" y="4267080"/>
            <a:ext cx="5211720" cy="1235160"/>
            <a:chOff x="579600" y="4267080"/>
            <a:chExt cx="5211720" cy="1235160"/>
          </a:xfrm>
        </p:grpSpPr>
        <p:sp>
          <p:nvSpPr>
            <p:cNvPr id="1593" name=""/>
            <p:cNvSpPr/>
            <p:nvPr/>
          </p:nvSpPr>
          <p:spPr>
            <a:xfrm>
              <a:off x="609480" y="4267080"/>
              <a:ext cx="5181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229480" y="46180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229480" y="49226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79600" y="464832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7" name=""/>
          <p:cNvGrpSpPr/>
          <p:nvPr/>
        </p:nvGrpSpPr>
        <p:grpSpPr>
          <a:xfrm>
            <a:off x="4119480" y="4618080"/>
            <a:ext cx="3109320" cy="884160"/>
            <a:chOff x="4119480" y="4618080"/>
            <a:chExt cx="3109320" cy="884160"/>
          </a:xfrm>
        </p:grpSpPr>
        <p:sp>
          <p:nvSpPr>
            <p:cNvPr id="1598" name=""/>
            <p:cNvSpPr/>
            <p:nvPr/>
          </p:nvSpPr>
          <p:spPr>
            <a:xfrm>
              <a:off x="5841000" y="461808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3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831280" y="4922640"/>
              <a:ext cx="138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ff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4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cc99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119480" y="4648320"/>
              <a:ext cx="2210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cs-CZ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1" name=""/>
          <p:cNvSpPr/>
          <p:nvPr/>
        </p:nvSpPr>
        <p:spPr>
          <a:xfrm>
            <a:off x="2839680" y="5809680"/>
            <a:ext cx="4080600" cy="642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No next divisions 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2895480" y="1676520"/>
            <a:ext cx="1981440" cy="1143000"/>
            <a:chOff x="2895480" y="1676520"/>
            <a:chExt cx="1981440" cy="1143000"/>
          </a:xfrm>
        </p:grpSpPr>
        <p:sp>
          <p:nvSpPr>
            <p:cNvPr id="1605" name=""/>
            <p:cNvSpPr/>
            <p:nvPr/>
          </p:nvSpPr>
          <p:spPr>
            <a:xfrm>
              <a:off x="3048120" y="2133720"/>
              <a:ext cx="4572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505320" y="220968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895480" y="16765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962520" y="205740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9" name=""/>
          <p:cNvGrpSpPr/>
          <p:nvPr/>
        </p:nvGrpSpPr>
        <p:grpSpPr>
          <a:xfrm>
            <a:off x="685800" y="1676520"/>
            <a:ext cx="7772400" cy="1371600"/>
            <a:chOff x="685800" y="1676520"/>
            <a:chExt cx="7772400" cy="1371600"/>
          </a:xfrm>
        </p:grpSpPr>
        <p:sp>
          <p:nvSpPr>
            <p:cNvPr id="1610" name=""/>
            <p:cNvSpPr/>
            <p:nvPr/>
          </p:nvSpPr>
          <p:spPr>
            <a:xfrm>
              <a:off x="685800" y="30481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1" name=""/>
            <p:cNvGrpSpPr/>
            <p:nvPr/>
          </p:nvGrpSpPr>
          <p:grpSpPr>
            <a:xfrm>
              <a:off x="6324480" y="1676520"/>
              <a:ext cx="1981440" cy="1218960"/>
              <a:chOff x="6324480" y="1676520"/>
              <a:chExt cx="1981440" cy="1218960"/>
            </a:xfrm>
          </p:grpSpPr>
          <p:sp>
            <p:nvSpPr>
              <p:cNvPr id="1612" name=""/>
              <p:cNvSpPr/>
              <p:nvPr/>
            </p:nvSpPr>
            <p:spPr>
              <a:xfrm>
                <a:off x="6553080" y="2133720"/>
                <a:ext cx="457200" cy="761760"/>
              </a:xfrm>
              <a:prstGeom prst="rect">
                <a:avLst/>
              </a:prstGeom>
              <a:noFill/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010280" y="2209680"/>
                <a:ext cx="381240" cy="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324480" y="1676520"/>
                <a:ext cx="198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66ff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391520" y="2057400"/>
                <a:ext cx="0" cy="15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6" name=""/>
          <p:cNvGrpSpPr/>
          <p:nvPr/>
        </p:nvGrpSpPr>
        <p:grpSpPr>
          <a:xfrm>
            <a:off x="3078000" y="3048120"/>
            <a:ext cx="1981440" cy="1143000"/>
            <a:chOff x="3078000" y="3048120"/>
            <a:chExt cx="1981440" cy="1143000"/>
          </a:xfrm>
        </p:grpSpPr>
        <p:sp>
          <p:nvSpPr>
            <p:cNvPr id="1617" name=""/>
            <p:cNvSpPr/>
            <p:nvPr/>
          </p:nvSpPr>
          <p:spPr>
            <a:xfrm>
              <a:off x="3276720" y="3505320"/>
              <a:ext cx="457200" cy="68580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733920" y="3581280"/>
              <a:ext cx="4111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078000" y="30481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99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145040" y="3429000"/>
              <a:ext cx="0" cy="1522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1" name=""/>
          <p:cNvGrpSpPr/>
          <p:nvPr/>
        </p:nvGrpSpPr>
        <p:grpSpPr>
          <a:xfrm>
            <a:off x="716040" y="3048120"/>
            <a:ext cx="7924680" cy="1295280"/>
            <a:chOff x="716040" y="3048120"/>
            <a:chExt cx="7924680" cy="1295280"/>
          </a:xfrm>
        </p:grpSpPr>
        <p:sp>
          <p:nvSpPr>
            <p:cNvPr id="1622" name=""/>
            <p:cNvSpPr/>
            <p:nvPr/>
          </p:nvSpPr>
          <p:spPr>
            <a:xfrm>
              <a:off x="716040" y="434340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3" name=""/>
            <p:cNvGrpSpPr/>
            <p:nvPr/>
          </p:nvGrpSpPr>
          <p:grpSpPr>
            <a:xfrm>
              <a:off x="6659640" y="3048120"/>
              <a:ext cx="1981080" cy="1143000"/>
              <a:chOff x="6659640" y="3048120"/>
              <a:chExt cx="1981080" cy="1143000"/>
            </a:xfrm>
          </p:grpSpPr>
          <p:sp>
            <p:nvSpPr>
              <p:cNvPr id="1624" name=""/>
              <p:cNvSpPr/>
              <p:nvPr/>
            </p:nvSpPr>
            <p:spPr>
              <a:xfrm>
                <a:off x="6811920" y="3505320"/>
                <a:ext cx="456840" cy="68580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269120" y="3581640"/>
                <a:ext cx="456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6659640" y="30481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726320" y="3429360"/>
                <a:ext cx="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8" name=""/>
          <p:cNvGrpSpPr/>
          <p:nvPr/>
        </p:nvGrpSpPr>
        <p:grpSpPr>
          <a:xfrm>
            <a:off x="3048120" y="4343400"/>
            <a:ext cx="1981080" cy="1143000"/>
            <a:chOff x="3048120" y="4343400"/>
            <a:chExt cx="1981080" cy="1143000"/>
          </a:xfrm>
        </p:grpSpPr>
        <p:sp>
          <p:nvSpPr>
            <p:cNvPr id="1629" name=""/>
            <p:cNvSpPr/>
            <p:nvPr/>
          </p:nvSpPr>
          <p:spPr>
            <a:xfrm>
              <a:off x="3246480" y="4800600"/>
              <a:ext cx="457200" cy="685800"/>
            </a:xfrm>
            <a:prstGeom prst="rect">
              <a:avLst/>
            </a:pr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703680" y="4876920"/>
              <a:ext cx="41112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048120" y="43434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66ff"/>
                  </a:solidFill>
                  <a:latin typeface="Times New Roman"/>
                </a:rPr>
                <a:t>From one 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114800" y="4724280"/>
              <a:ext cx="0" cy="1526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85800" y="4343400"/>
            <a:ext cx="7954920" cy="1295280"/>
            <a:chOff x="685800" y="4343400"/>
            <a:chExt cx="7954920" cy="1295280"/>
          </a:xfrm>
        </p:grpSpPr>
        <p:sp>
          <p:nvSpPr>
            <p:cNvPr id="1634" name=""/>
            <p:cNvSpPr/>
            <p:nvPr/>
          </p:nvSpPr>
          <p:spPr>
            <a:xfrm>
              <a:off x="685800" y="56386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5" name=""/>
            <p:cNvGrpSpPr/>
            <p:nvPr/>
          </p:nvGrpSpPr>
          <p:grpSpPr>
            <a:xfrm>
              <a:off x="6659640" y="4343400"/>
              <a:ext cx="1981080" cy="1143000"/>
              <a:chOff x="6659640" y="4343400"/>
              <a:chExt cx="1981080" cy="1143000"/>
            </a:xfrm>
          </p:grpSpPr>
          <p:sp>
            <p:nvSpPr>
              <p:cNvPr id="1636" name=""/>
              <p:cNvSpPr/>
              <p:nvPr/>
            </p:nvSpPr>
            <p:spPr>
              <a:xfrm>
                <a:off x="6858000" y="4800600"/>
                <a:ext cx="457200" cy="685800"/>
              </a:xfrm>
              <a:prstGeom prst="rect">
                <a:avLst/>
              </a:prstGeom>
              <a:noFill/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315200" y="4876920"/>
                <a:ext cx="41112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6659640" y="434340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00cc99"/>
                    </a:solidFill>
                    <a:latin typeface="Times New Roman"/>
                  </a:rPr>
                  <a:t>From one 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726320" y="4724280"/>
                <a:ext cx="0" cy="15264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609480" y="10666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00120" y="1614240"/>
            <a:ext cx="23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3733920" y="1717920"/>
            <a:ext cx="4495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09480" y="1904760"/>
            <a:ext cx="237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09480" y="2258280"/>
            <a:ext cx="24750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09480" y="2563200"/>
            <a:ext cx="26672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09480" y="302040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810600" y="308952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09480" y="3324960"/>
            <a:ext cx="2895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794040" y="2403720"/>
            <a:ext cx="4162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09480" y="3782160"/>
            <a:ext cx="2579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733920" y="3927960"/>
            <a:ext cx="4800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19200" y="4072680"/>
            <a:ext cx="2554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19200" y="452988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19200" y="4834800"/>
            <a:ext cx="26668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19200" y="5292000"/>
            <a:ext cx="2657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810600" y="545184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32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19200" y="5596920"/>
            <a:ext cx="28954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810600" y="4689720"/>
            <a:ext cx="410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32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18288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666880" y="25146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2666880" y="32004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666880" y="39625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666880" y="480060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666880" y="55627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04812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048120" y="2590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2767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048120" y="40384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048120" y="4876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048120" y="56386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"/>
          <p:cNvSpPr/>
          <p:nvPr/>
        </p:nvSpPr>
        <p:spPr>
          <a:xfrm>
            <a:off x="609480" y="1064160"/>
            <a:ext cx="4953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85800" y="2438280"/>
            <a:ext cx="822960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en-US" sz="26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2600" spc="-1" strike="noStrike">
                <a:solidFill>
                  <a:srgbClr val="ff66ff"/>
                </a:solidFill>
                <a:latin typeface="Times New Roman"/>
              </a:rPr>
              <a:t>q</a:t>
            </a:r>
            <a:r>
              <a:rPr b="1" lang="cs-CZ" sz="2600" spc="-1" strike="noStrike" baseline="-25000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i="1" lang="cs-CZ" sz="2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600" spc="-1" strike="noStrike">
                <a:solidFill>
                  <a:srgbClr val="00cc99"/>
                </a:solidFill>
                <a:latin typeface="Times New Roman"/>
              </a:rPr>
              <a:t>q</a:t>
            </a:r>
            <a:r>
              <a:rPr b="1" lang="en-US" sz="26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85800" y="4191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nimization: Example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62840" y="1676160"/>
            <a:ext cx="110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752480" y="1828800"/>
            <a:ext cx="152640" cy="533520"/>
          </a:xfrm>
          <a:custGeom>
            <a:avLst/>
            <a:gdLst>
              <a:gd name="textAreaLeft" fmla="*/ 0 w 152640"/>
              <a:gd name="textAreaRight" fmla="*/ 55080 w 15264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984040" y="1717920"/>
            <a:ext cx="1878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62480" y="1980720"/>
            <a:ext cx="100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2362320" y="1219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2362320" y="1905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762120" y="4114080"/>
            <a:ext cx="7772400" cy="2410920"/>
            <a:chOff x="762120" y="4114080"/>
            <a:chExt cx="7772400" cy="2410920"/>
          </a:xfrm>
        </p:grpSpPr>
        <p:sp>
          <p:nvSpPr>
            <p:cNvPr id="1689" name=""/>
            <p:cNvSpPr/>
            <p:nvPr/>
          </p:nvSpPr>
          <p:spPr>
            <a:xfrm>
              <a:off x="8077320" y="5943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070680" y="5230800"/>
              <a:ext cx="91440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05740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133720" y="48006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895480" y="4800600"/>
              <a:ext cx="2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67652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828800" y="48769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 flipV="1">
              <a:off x="3809160" y="579060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rot="5400000">
              <a:off x="4825080" y="528336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8769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1430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133720" y="563868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327600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33526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43434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3352680" y="56386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738160" y="4876920"/>
              <a:ext cx="5382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rot="10800000">
              <a:off x="2743560" y="5029200"/>
              <a:ext cx="5382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89548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819520" y="563868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660400" y="5715000"/>
              <a:ext cx="691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rot="10800000">
              <a:off x="2666880" y="5869080"/>
              <a:ext cx="69192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 rot="16200000">
              <a:off x="736200" y="52840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621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90512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038480" y="5486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49568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73392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rot="5400000">
              <a:off x="3667680" y="5305320"/>
              <a:ext cx="531000" cy="4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V="1" rot="10800000">
              <a:off x="3962160" y="502812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V="1">
              <a:off x="1523880" y="579060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1219320" y="4724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 rot="16200000">
              <a:off x="1857240" y="5306040"/>
              <a:ext cx="531000" cy="4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1282"/>
                  </a:moveTo>
                  <a:arcTo wR="10800" hR="10800" stAng="10646603" swAng="11696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1282"/>
                  </a:moveTo>
                  <a:arcTo wR="10800" hR="10800" stAng="10646603" swAng="1169688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H="1" flipV="1" rot="10800000">
              <a:off x="1370520" y="5028120"/>
              <a:ext cx="685800" cy="228600"/>
            </a:xfrm>
            <a:custGeom>
              <a:avLst/>
              <a:gdLst/>
              <a:ahLst/>
              <a:rect l="l" t="t" r="r" b="b"/>
              <a:pathLst>
                <a:path w="528" h="224">
                  <a:moveTo>
                    <a:pt x="0" y="224"/>
                  </a:moveTo>
                  <a:cubicBezTo>
                    <a:pt x="76" y="144"/>
                    <a:pt x="152" y="64"/>
                    <a:pt x="240" y="32"/>
                  </a:cubicBezTo>
                  <a:cubicBezTo>
                    <a:pt x="328" y="0"/>
                    <a:pt x="480" y="8"/>
                    <a:pt x="528" y="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017400" y="5306400"/>
              <a:ext cx="1049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410080" y="5105520"/>
              <a:ext cx="533520" cy="685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505320" y="4114080"/>
              <a:ext cx="203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Summary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467480" y="5257800"/>
              <a:ext cx="914400" cy="7621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414560" y="5333400"/>
              <a:ext cx="1049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cs-CZ" sz="2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781680" y="4648320"/>
              <a:ext cx="9144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781680" y="4723920"/>
              <a:ext cx="857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858000" y="4724280"/>
              <a:ext cx="7621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553080" y="4495680"/>
              <a:ext cx="3812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467480" y="4114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6248520" y="592524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7696080" y="600156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705720" y="58672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rot="10800000">
              <a:off x="6934320" y="5487120"/>
              <a:ext cx="6148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8697"/>
                  </a:moveTo>
                  <a:arcTo wR="10800" hR="10800" stAng="-10126267" swAng="10126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8697"/>
                  </a:moveTo>
                  <a:arcTo wR="10800" hR="10800" stAng="-10126267" swAng="10126267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086600" y="5562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867280" y="4648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V="1" rot="10800000">
              <a:off x="7451640" y="4876920"/>
              <a:ext cx="784440" cy="49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937" swAng="9258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937" swAng="9258625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001000" y="4419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010280" y="4267080"/>
              <a:ext cx="45684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72" y="20605"/>
                  </a:moveTo>
                  <a:arcTo wR="10800" hR="10800" stAng="6887234" swAng="18369972"/>
                  <a:lnTo>
                    <a:pt x="10800" y="10800"/>
                  </a:lnTo>
                  <a:close/>
                </a:path>
                <a:path fill="none" w="21600" h="21600">
                  <a:moveTo>
                    <a:pt x="6272" y="20605"/>
                  </a:moveTo>
                  <a:arcTo wR="10800" hR="10800" stAng="6887234" swAng="18369972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 flipV="1" rot="10800000">
              <a:off x="6171480" y="4876200"/>
              <a:ext cx="894600" cy="49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937" swAng="92586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937" swAng="9258625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819520" y="4419720"/>
              <a:ext cx="24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ants of FA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685800" y="3124080"/>
            <a:ext cx="4191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rules of the form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 where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 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5800" y="3962520"/>
            <a:ext cx="4267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rules of the form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,  for </a:t>
            </a:r>
            <a:r>
              <a:rPr b="0" lang="cs-CZ" sz="21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i="1" lang="cs-CZ" sz="21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3333cc"/>
                </a:solidFill>
                <a:latin typeface="Symbol"/>
                <a:ea typeface="Symbol"/>
              </a:rPr>
              <a:t>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4724280"/>
            <a:ext cx="3886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inaccessible sta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85800" y="5181480"/>
            <a:ext cx="4114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nonterminating sta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85800" y="5638680"/>
            <a:ext cx="4114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Number of this FAs for </a:t>
            </a:r>
            <a:r>
              <a:rPr b="0" lang="cs-CZ" sz="2100" spc="-1" strike="noStrike">
                <a:solidFill>
                  <a:srgbClr val="3333cc"/>
                </a:solidFill>
                <a:latin typeface="Times New Roman"/>
              </a:rPr>
              <a:t>any</a:t>
            </a:r>
            <a:r>
              <a:rPr b="0" lang="en-US" sz="2100" spc="-1" strike="noStrike">
                <a:solidFill>
                  <a:srgbClr val="3333cc"/>
                </a:solidFill>
                <a:latin typeface="Times New Roman"/>
              </a:rPr>
              <a:t> regular languag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rot="16200000">
            <a:off x="4649400" y="24368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rot="16200000">
            <a:off x="5030280" y="22082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fre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rot="16200000">
            <a:off x="5830560" y="2398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rot="16200000">
            <a:off x="5945040" y="1903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let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rot="16200000">
            <a:off x="7011720" y="2360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S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rot="16200000">
            <a:off x="7164000" y="1903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in-State 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84582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84872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6294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23888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541008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01992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8006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H="1">
            <a:off x="685800" y="1219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 flipH="1"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5800" y="121932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H="1">
            <a:off x="685800" y="4724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H="1"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H="1">
            <a:off x="685800" y="6400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48006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8006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8006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006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8769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5627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5410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54100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4100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54864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1722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0199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0199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0199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0958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7816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781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6294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6294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67057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3915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3915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39152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2388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3152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99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800100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80010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8001000" y="47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84872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800100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3581280"/>
            <a:ext cx="7772400" cy="2514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358128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n </a:t>
            </a:r>
            <a:r>
              <a:rPr b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-fre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F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deterministi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DFA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ach rule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holds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ontains no rule with the left-hand side equal to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FA to DFA in Essence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Removal of nodetermi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600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1523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057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2438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752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22096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9051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25146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cs-CZ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752480" y="2666160"/>
            <a:ext cx="660600" cy="3049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1981080"/>
            <a:ext cx="660600" cy="304920"/>
          </a:xfrm>
          <a:custGeom>
            <a:avLst/>
            <a:gdLst/>
            <a:ahLst/>
            <a:rect l="l" t="t" r="r" b="b"/>
            <a:pathLst>
              <a:path w="528" h="224">
                <a:moveTo>
                  <a:pt x="0" y="224"/>
                </a:moveTo>
                <a:cubicBezTo>
                  <a:pt x="76" y="144"/>
                  <a:pt x="152" y="64"/>
                  <a:pt x="240" y="32"/>
                </a:cubicBezTo>
                <a:cubicBezTo>
                  <a:pt x="328" y="0"/>
                  <a:pt x="480" y="8"/>
                  <a:pt x="528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2286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9933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657600" y="1676520"/>
            <a:ext cx="4724280" cy="1600200"/>
            <a:chOff x="3657600" y="1676520"/>
            <a:chExt cx="4724280" cy="1600200"/>
          </a:xfrm>
        </p:grpSpPr>
        <p:sp>
          <p:nvSpPr>
            <p:cNvPr id="187" name=""/>
            <p:cNvSpPr/>
            <p:nvPr/>
          </p:nvSpPr>
          <p:spPr>
            <a:xfrm>
              <a:off x="3657600" y="2438280"/>
              <a:ext cx="914400" cy="533520"/>
            </a:xfrm>
            <a:prstGeom prst="rightArrow">
              <a:avLst>
                <a:gd name="adj1" fmla="val 50000"/>
                <a:gd name="adj2" fmla="val 73793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29200" y="266688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91320" y="23623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6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00800" y="2590920"/>
              <a:ext cx="129528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1" lang="cs-CZ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2720" y="297180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25146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96080" y="25146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34120" y="1676520"/>
              <a:ext cx="1828800" cy="5205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ew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6781680" y="2209320"/>
              <a:ext cx="2383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0948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1219320"/>
            <a:ext cx="7772400" cy="609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219320"/>
            <a:ext cx="7925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there is an equivalent DF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 thes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conver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2819520"/>
            <a:ext cx="4495680" cy="5205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3962520"/>
            <a:ext cx="4495680" cy="5205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-free 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5105520"/>
            <a:ext cx="4495680" cy="5796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FA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4290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457200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4114800"/>
            <a:ext cx="2361960" cy="520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62720" y="5257800"/>
            <a:ext cx="2361960" cy="579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905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1219320" y="3124080"/>
            <a:ext cx="4835520" cy="2791440"/>
            <a:chOff x="1219320" y="3124080"/>
            <a:chExt cx="4835520" cy="2791440"/>
          </a:xfrm>
        </p:grpSpPr>
        <p:sp>
          <p:nvSpPr>
            <p:cNvPr id="212" name=""/>
            <p:cNvSpPr/>
            <p:nvPr/>
          </p:nvSpPr>
          <p:spPr>
            <a:xfrm>
              <a:off x="2286000" y="3124080"/>
              <a:ext cx="3768840" cy="19814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19320" y="533412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133720" y="4648320"/>
              <a:ext cx="466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209680" y="3352680"/>
            <a:ext cx="3733560" cy="3324600"/>
            <a:chOff x="2209680" y="3352680"/>
            <a:chExt cx="3733560" cy="3324600"/>
          </a:xfrm>
        </p:grpSpPr>
        <p:sp>
          <p:nvSpPr>
            <p:cNvPr id="216" name=""/>
            <p:cNvSpPr/>
            <p:nvPr/>
          </p:nvSpPr>
          <p:spPr>
            <a:xfrm>
              <a:off x="3657240" y="3352680"/>
              <a:ext cx="2286000" cy="1524240"/>
            </a:xfrm>
            <a:prstGeom prst="ellipse">
              <a:avLst/>
            </a:prstGeom>
            <a:solidFill>
              <a:srgbClr val="99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09680" y="609588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3885840" y="4800600"/>
              <a:ext cx="4572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876920" y="3581280"/>
            <a:ext cx="2438280" cy="3096000"/>
            <a:chOff x="4876920" y="3581280"/>
            <a:chExt cx="2438280" cy="3096000"/>
          </a:xfrm>
        </p:grpSpPr>
        <p:sp>
          <p:nvSpPr>
            <p:cNvPr id="220" name=""/>
            <p:cNvSpPr/>
            <p:nvPr/>
          </p:nvSpPr>
          <p:spPr>
            <a:xfrm>
              <a:off x="4876920" y="3581280"/>
              <a:ext cx="914400" cy="10670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76920" y="609588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34120" y="4648320"/>
              <a:ext cx="228600" cy="144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943600" y="3581280"/>
            <a:ext cx="2438280" cy="2257920"/>
            <a:chOff x="5943600" y="3581280"/>
            <a:chExt cx="2438280" cy="2257920"/>
          </a:xfrm>
        </p:grpSpPr>
        <p:sp>
          <p:nvSpPr>
            <p:cNvPr id="224" name=""/>
            <p:cNvSpPr/>
            <p:nvPr/>
          </p:nvSpPr>
          <p:spPr>
            <a:xfrm>
              <a:off x="6400440" y="3581280"/>
              <a:ext cx="838080" cy="10670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91040" y="4648320"/>
              <a:ext cx="5234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3600" y="5257800"/>
              <a:ext cx="2438280" cy="581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-closure(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85800" y="205740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98108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w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048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771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54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05520" y="38862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670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197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530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199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4191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1066680"/>
            <a:ext cx="77724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in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-closure(</a:t>
            </a: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if FA can reach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from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without read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0948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2438280"/>
            <a:ext cx="80010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0;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: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hm: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1523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q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19051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ask: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closure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closure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85800" y="2362320"/>
            <a:ext cx="7772400" cy="579600"/>
            <a:chOff x="685800" y="2362320"/>
            <a:chExt cx="7772400" cy="579600"/>
          </a:xfrm>
        </p:grpSpPr>
        <p:sp>
          <p:nvSpPr>
            <p:cNvPr id="257" name=""/>
            <p:cNvSpPr/>
            <p:nvPr/>
          </p:nvSpPr>
          <p:spPr>
            <a:xfrm>
              <a:off x="685800" y="236232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" y="2895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85800" y="2819520"/>
            <a:ext cx="7924680" cy="960480"/>
            <a:chOff x="685800" y="2819520"/>
            <a:chExt cx="7924680" cy="960480"/>
          </a:xfrm>
        </p:grpSpPr>
        <p:sp>
          <p:nvSpPr>
            <p:cNvPr id="260" name=""/>
            <p:cNvSpPr/>
            <p:nvPr/>
          </p:nvSpPr>
          <p:spPr>
            <a:xfrm>
              <a:off x="685800" y="2819520"/>
              <a:ext cx="792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5800" y="3200400"/>
              <a:ext cx="441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5800" y="3733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85800" y="3657600"/>
            <a:ext cx="7772400" cy="1265400"/>
            <a:chOff x="685800" y="3657600"/>
            <a:chExt cx="7772400" cy="1265400"/>
          </a:xfrm>
        </p:grpSpPr>
        <p:sp>
          <p:nvSpPr>
            <p:cNvPr id="264" name=""/>
            <p:cNvSpPr/>
            <p:nvPr/>
          </p:nvSpPr>
          <p:spPr>
            <a:xfrm>
              <a:off x="685800" y="3657600"/>
              <a:ext cx="762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5800" y="3962520"/>
              <a:ext cx="769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5800" y="4343400"/>
              <a:ext cx="4724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" y="4876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5800" y="4800600"/>
            <a:ext cx="8229600" cy="1570320"/>
            <a:chOff x="685800" y="4800600"/>
            <a:chExt cx="8229600" cy="1570320"/>
          </a:xfrm>
        </p:grpSpPr>
        <p:sp>
          <p:nvSpPr>
            <p:cNvPr id="269" name=""/>
            <p:cNvSpPr/>
            <p:nvPr/>
          </p:nvSpPr>
          <p:spPr>
            <a:xfrm>
              <a:off x="685800" y="4800600"/>
              <a:ext cx="723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5800" y="510552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5800" y="5410080"/>
              <a:ext cx="701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;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n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" y="5791320"/>
              <a:ext cx="822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-closure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5800" y="63244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8:58Z</dcterms:modified>
  <cp:revision>130</cp:revision>
  <dc:subject/>
  <dc:title>Variants of Finite Automata</dc:title>
</cp:coreProperties>
</file>