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C3F-8BA6-4B41-AA72-03DA9659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1E5-B576-415E-A411-EE713A6F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B50-C5A1-47D6-97E4-E2406C5F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76B-C360-42F8-A2A6-472DB770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21D-78F2-47E2-8EAD-4E18C0E6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5EA-0CE6-4514-8E95-45FCF811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9BA-D7B0-4710-ABA1-1142E445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D56-C7AD-4254-ADB4-DE77A095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379-12D5-4606-95B9-470410E3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B1B-90C4-4DBC-A6DA-5ACCAD93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A1F-F5A6-46BA-BF55-ED524646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AD4-526E-4B7B-82CB-4EA9FC26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39D7-55E7-417F-B325-4EEEF9E3100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5:20Z</dcterms:modified>
  <cp:revision>209</cp:revision>
  <dc:subject/>
  <dc:title>Syntax Directed Translation and Intermediate Code</dc:title>
</cp:coreProperties>
</file>