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744-74EE-4E6D-B567-DFD8A46A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E7E-5BD8-46BA-92E4-460097F9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6EE-1FD9-454B-B3D1-5941EE46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36B-2889-42F4-93C8-CE354EB1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8FD-7B58-467A-8033-A209DA18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40F-AFDC-4313-9623-1CFBF67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970-B159-4354-A18A-701CA58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849-B55B-4DDF-ADDB-7BCD3B7E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405-1143-4CD7-8375-0ED82152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240-6E76-4424-A910-8510191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31E-75AF-46A7-8B81-7D1571D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463-247A-4461-95A0-C18FA17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D9E5-BCC4-4033-91B9-A6DCED36165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Part IX.</a:t>
            </a:r>
            <a:br>
              <a:rPr sz="7200"/>
            </a:br>
            <a:r>
              <a:rPr b="1" lang="cs-CZ" sz="7200" spc="-1" strike="noStrike">
                <a:solidFill>
                  <a:srgbClr val="3333cc"/>
                </a:solidFill>
                <a:latin typeface="Times New Roman"/>
              </a:rPr>
              <a:t>Bottom-Up Pars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600880" y="5578560"/>
            <a:ext cx="266688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505640" y="3263760"/>
            <a:ext cx="38124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3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2280" y="191304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81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81760" y="37497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62640" y="32637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43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2476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05640" y="3263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86880" y="326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00880" y="3749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0880" y="4206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00880" y="4635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00880" y="5092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00880" y="55785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00880" y="6035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81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6264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476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505640" y="3718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05640" y="4175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05640" y="4648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505640" y="6019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886880" y="55468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447920"/>
            <a:ext cx="8001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2280" y="1447920"/>
            <a:ext cx="1218960" cy="4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438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276800"/>
            <a:ext cx="483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preced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305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76240" y="591984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ay follow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640" y="484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i</a:t>
            </a:r>
            <a:r>
              <a:rPr b="1" i="1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383868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955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81360" y="54514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05640" y="5578560"/>
            <a:ext cx="38124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867280" y="5000760"/>
            <a:ext cx="266724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3600360"/>
            <a:ext cx="762120" cy="326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5000760"/>
            <a:ext cx="76212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28600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le 4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1523880"/>
            <a:ext cx="5867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ir of parenthes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ce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1905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5909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304812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40863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6003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91520" y="360036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72400" y="3600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153280" y="3600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4086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45435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50007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545796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59151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637236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1028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1028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10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91520" y="4054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511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152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5883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4984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153280" y="539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505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42900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1523880"/>
            <a:ext cx="990720" cy="396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4267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*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51055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prece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00400" y="4800600"/>
            <a:ext cx="0" cy="30492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280" y="5562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(((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+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71600" y="642456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follow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60958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5457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391520" y="4086000"/>
            <a:ext cx="0" cy="27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581280" y="5438880"/>
            <a:ext cx="1524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24280" y="4010040"/>
            <a:ext cx="381240" cy="191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cedence Table 5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nd Marke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4479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ny operator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2133720"/>
            <a:ext cx="289548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4495680"/>
            <a:ext cx="1143000" cy="142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24280" y="401004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581280" y="5438880"/>
            <a:ext cx="3812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889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724280" y="44323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54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343400" y="4010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81280" y="44956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95288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1295280"/>
            <a:ext cx="0" cy="523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562720" y="1143000"/>
            <a:ext cx="2895480" cy="4678200"/>
            <a:chOff x="5562720" y="1143000"/>
            <a:chExt cx="2895480" cy="4678200"/>
          </a:xfrm>
        </p:grpSpPr>
        <p:sp>
          <p:nvSpPr>
            <p:cNvPr id="596" name=""/>
            <p:cNvSpPr/>
            <p:nvPr/>
          </p:nvSpPr>
          <p:spPr>
            <a:xfrm>
              <a:off x="6095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5880" y="3000240"/>
              <a:ext cx="2286000" cy="277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77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38880" y="2514600"/>
              <a:ext cx="3812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01000" y="251460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15000" y="3000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4574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9146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43718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15000" y="48290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5286240"/>
              <a:ext cx="3808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5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5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95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477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47712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7712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77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8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5800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3888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3888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3888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3888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2012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012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20120" y="38988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20120" y="527040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01000" y="29685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34257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01000" y="430992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01000" y="4797360"/>
              <a:ext cx="457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9933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62720" y="114300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281952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-mark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90720" y="4267080"/>
            <a:ext cx="1044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$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4800600"/>
            <a:ext cx="1067040" cy="503280"/>
          </a:xfrm>
          <a:prstGeom prst="rightArrow">
            <a:avLst>
              <a:gd name="adj1" fmla="val 50000"/>
              <a:gd name="adj2" fmla="val 5300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438880"/>
            <a:ext cx="381240" cy="485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1143000"/>
            <a:ext cx="85345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13372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R-parser is 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ith stat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,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wher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 start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based on LR table that has these two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ction par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o-to p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art &amp; Go-to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21002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4434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5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21002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986200"/>
            <a:ext cx="32004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572000"/>
            <a:ext cx="3810240" cy="2144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ft,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uce,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7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29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900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16146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19520" y="16146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5248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16146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16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19320" y="2100240"/>
            <a:ext cx="32004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29862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32148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11430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ction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0120" y="15526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20858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3429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514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085840"/>
            <a:ext cx="533520" cy="22860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2971800"/>
            <a:ext cx="266688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57800" y="4557600"/>
            <a:ext cx="3200400" cy="1352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6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700" spc="-1" strike="noStrike">
                <a:solidFill>
                  <a:srgbClr val="ff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bl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57800" y="3886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i="1" lang="en-US" sz="2400" spc="-1" strike="noStrike" baseline="-25000">
                <a:solidFill>
                  <a:srgbClr val="339933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91320" y="16002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1520" y="16002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1600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924680" y="16002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91320" y="2085840"/>
            <a:ext cx="266688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0" y="29718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162920" y="3200400"/>
            <a:ext cx="0" cy="13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2860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-to P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69040" y="15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609480" y="4114800"/>
            <a:ext cx="8384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520" y="10666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R-tabl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190512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20" y="1889280"/>
            <a:ext cx="86104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onto pushd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ush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ing &amp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66ccff"/>
                </a:solidFill>
                <a:latin typeface="Times New Roman"/>
              </a:rPr>
              <a:t>… 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&gt;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p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] &amp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500" spc="-1" strike="noStrike" baseline="-25000">
                <a:solidFill>
                  <a:srgbClr val="66cc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…&lt;</a:t>
            </a:r>
            <a:r>
              <a:rPr b="1" i="1" lang="en-US" sz="25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i="1" lang="cs-CZ" sz="2500" spc="-1" strike="noStrike" baseline="-25000">
                <a:solidFill>
                  <a:srgbClr val="66ccff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ith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500" spc="-1" strike="noStrike">
                <a:solidFill>
                  <a:srgbClr val="339933"/>
                </a:solidFill>
                <a:latin typeface="Times New Roman"/>
              </a:rPr>
              <a:t>stat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the pushdown &amp; write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blank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lang="en-US" sz="2500" spc="-1" strike="noStrike">
                <a:solidFill>
                  <a:srgbClr val="339933"/>
                </a:solidFill>
                <a:latin typeface="Times New Roman"/>
              </a:rPr>
              <a:t>success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3962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22360" y="4572000"/>
            <a:ext cx="1320840" cy="152280"/>
          </a:xfrm>
          <a:custGeom>
            <a:avLst/>
            <a:gdLst/>
            <a:ahLst/>
            <a:rect l="l" t="t" r="r" b="b"/>
            <a:pathLst>
              <a:path w="784" h="296">
                <a:moveTo>
                  <a:pt x="16" y="40"/>
                </a:moveTo>
                <a:cubicBezTo>
                  <a:pt x="8" y="20"/>
                  <a:pt x="0" y="0"/>
                  <a:pt x="64" y="40"/>
                </a:cubicBezTo>
                <a:cubicBezTo>
                  <a:pt x="128" y="80"/>
                  <a:pt x="280" y="264"/>
                  <a:pt x="400" y="280"/>
                </a:cubicBezTo>
                <a:cubicBezTo>
                  <a:pt x="520" y="296"/>
                  <a:pt x="652" y="216"/>
                  <a:pt x="784" y="13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1143000"/>
            <a:ext cx="7848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2286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22096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666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3048120"/>
            <a:ext cx="5331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048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2120" y="66294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337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193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6252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3048120"/>
            <a:ext cx="53316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3048120"/>
            <a:ext cx="53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048120" y="304812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04812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162920" y="3048120"/>
            <a:ext cx="3045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0120" y="3048120"/>
            <a:ext cx="30456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304812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629400" y="304812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294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010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458200" y="26668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6629400" y="6629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6629400" y="3048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553080" y="2590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29400" y="2666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80988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19720" y="4876920"/>
            <a:ext cx="1752480" cy="875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-to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86200" y="3809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172200" y="4952880"/>
            <a:ext cx="533520" cy="83844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-Parser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543564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47640" y="1130400"/>
            <a:ext cx="792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198108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52560"/>
                <a:tab algn="l" pos="3238560"/>
                <a:tab algn="l" pos="3619440"/>
                <a:tab algn="l" pos="4762440"/>
                <a:tab algn="l" pos="6578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055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6629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458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0574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3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441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5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5029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7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0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5638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i="1" lang="en-US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2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66cc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238560"/>
                <a:tab algn="l" pos="3720960"/>
                <a:tab algn="l" pos="438156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$,0&gt;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6019920"/>
            <a:ext cx="2286000" cy="610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646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81680" y="2514600"/>
            <a:ext cx="0" cy="358128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 Table: 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ne parsing algorith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many algorithms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struction of L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Basic algorith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struction of LR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85800" y="2666880"/>
            <a:ext cx="807732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Simple LR (S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ew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Canonical L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Lookahead LR (LALR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because the most powerfu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the same number of states as S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Extended Grammar with a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Dummy Rule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520" y="44956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1600200"/>
            <a:ext cx="7772400" cy="1295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600200"/>
            <a:ext cx="80769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xtended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with specia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arting ru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40384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2819520"/>
            <a:ext cx="8610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dummy rule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used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 token is endmarker, then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syntax analys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is successfully complet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5521320"/>
            <a:ext cx="8381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ded grammar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3581280" y="2438280"/>
            <a:ext cx="2438640" cy="990720"/>
          </a:xfrm>
          <a:custGeom>
            <a:avLst/>
            <a:gdLst>
              <a:gd name="textAreaLeft" fmla="*/ 309600 w 2438640"/>
              <a:gd name="textAreaRight" fmla="*/ 2129040 w 243864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arsing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Two or more rules have the sam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hand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505320"/>
            <a:ext cx="76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nd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righ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han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side of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ru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190760" y="1600200"/>
            <a:ext cx="1219320" cy="838080"/>
            <a:chOff x="4190760" y="1600200"/>
            <a:chExt cx="1219320" cy="838080"/>
          </a:xfrm>
        </p:grpSpPr>
        <p:sp>
          <p:nvSpPr>
            <p:cNvPr id="54" name=""/>
            <p:cNvSpPr/>
            <p:nvPr/>
          </p:nvSpPr>
          <p:spPr>
            <a:xfrm>
              <a:off x="449568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1600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90760" y="20574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47960" y="20574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2428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006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76520"/>
            <a:ext cx="3581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cs-CZ" sz="30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: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2133720"/>
            <a:ext cx="3581280" cy="1069200"/>
            <a:chOff x="762120" y="2133720"/>
            <a:chExt cx="3581280" cy="1069200"/>
          </a:xfrm>
        </p:grpSpPr>
        <p:sp>
          <p:nvSpPr>
            <p:cNvPr id="62" name=""/>
            <p:cNvSpPr/>
            <p:nvPr/>
          </p:nvSpPr>
          <p:spPr>
            <a:xfrm>
              <a:off x="762120" y="2133720"/>
              <a:ext cx="3581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30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cs-CZ" sz="30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133360" y="2666880"/>
              <a:ext cx="1600200" cy="536040"/>
              <a:chOff x="2133360" y="2666880"/>
              <a:chExt cx="1600200" cy="536040"/>
            </a:xfrm>
          </p:grpSpPr>
          <p:sp>
            <p:nvSpPr>
              <p:cNvPr id="64" name=""/>
              <p:cNvSpPr/>
              <p:nvPr/>
            </p:nvSpPr>
            <p:spPr>
              <a:xfrm rot="5400000">
                <a:off x="2856960" y="1942920"/>
                <a:ext cx="152640" cy="16002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6000" y="27432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hand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3581280" y="350532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2438280"/>
            <a:ext cx="2438280" cy="990720"/>
          </a:xfrm>
          <a:custGeom>
            <a:avLst/>
            <a:gdLst>
              <a:gd name="textAreaLeft" fmla="*/ 309600 w 2438280"/>
              <a:gd name="textAreaRight" fmla="*/ 2128680 w 2438280"/>
              <a:gd name="textAreaTop" fmla="*/ 125640 h 990720"/>
              <a:gd name="textAreaBottom" fmla="*/ 865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11" y="21600"/>
                </a:lnTo>
                <a:lnTo>
                  <a:pt x="1789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3623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3623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0" y="1600200"/>
            <a:ext cx="1219320" cy="838080"/>
            <a:chOff x="6858000" y="1600200"/>
            <a:chExt cx="1219320" cy="838080"/>
          </a:xfrm>
        </p:grpSpPr>
        <p:sp>
          <p:nvSpPr>
            <p:cNvPr id="76" name=""/>
            <p:cNvSpPr/>
            <p:nvPr/>
          </p:nvSpPr>
          <p:spPr>
            <a:xfrm>
              <a:off x="7162920" y="16002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62920" y="16002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858000" y="20574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15200" y="20574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91520" y="205740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467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0532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029200" y="1600200"/>
            <a:ext cx="2057400" cy="782280"/>
            <a:chOff x="5029200" y="1600200"/>
            <a:chExt cx="2057400" cy="782280"/>
          </a:xfrm>
        </p:grpSpPr>
        <p:sp>
          <p:nvSpPr>
            <p:cNvPr id="85" name=""/>
            <p:cNvSpPr/>
            <p:nvPr/>
          </p:nvSpPr>
          <p:spPr>
            <a:xfrm>
              <a:off x="5410080" y="1600200"/>
              <a:ext cx="1295640" cy="78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i="1" lang="cs-CZ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2920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5720" y="19051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9480" y="3886200"/>
            <a:ext cx="8305920" cy="3096000"/>
            <a:chOff x="609480" y="3886200"/>
            <a:chExt cx="8305920" cy="3096000"/>
          </a:xfrm>
        </p:grpSpPr>
        <p:sp>
          <p:nvSpPr>
            <p:cNvPr id="89" name=""/>
            <p:cNvSpPr/>
            <p:nvPr/>
          </p:nvSpPr>
          <p:spPr>
            <a:xfrm>
              <a:off x="838080" y="39625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5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34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01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1520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2960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000640" y="563868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571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6400" y="5715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6172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5715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0080" y="56386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10080" y="56386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105520" y="56386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038480"/>
              <a:ext cx="3809880" cy="395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Which of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hese tre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create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3886200"/>
              <a:ext cx="807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 Ambiguous gramma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4495680"/>
              <a:ext cx="4648320" cy="16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67480" y="4495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0100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91520" y="49528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9528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4952880"/>
              <a:ext cx="5335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4572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6400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6324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9920" y="6324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78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86400" y="50292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50292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920" y="5029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24816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4495680"/>
              <a:ext cx="53316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nstruction of LR Table: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205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cs-CZ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3124080"/>
            <a:ext cx="80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tems f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1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cs-CZ" sz="31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1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9480" y="1066680"/>
            <a:ext cx="777240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tem is a rule of CFG with </a:t>
            </a:r>
            <a:r>
              <a:rPr b="0" lang="cs-CZ" sz="31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the right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ide of rule.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4572000"/>
            <a:ext cx="7696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if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on the pushdown top and a prefix of the input is eventually reduced to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duced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0948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9480" y="30481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following rule unti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not be chang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osur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09480" y="114300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losur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520" y="228600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48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819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3200400"/>
            <a:ext cx="83059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948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4343400"/>
            <a:ext cx="7696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48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09480" y="5486400"/>
            <a:ext cx="8382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480" y="6553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of Item: Example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520" y="2362320"/>
            <a:ext cx="861048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520" y="3657600"/>
            <a:ext cx="830556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9480" y="4952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029200"/>
            <a:ext cx="8305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6705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/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05740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" y="205740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CF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&lt;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an i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480" y="31240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106668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t of all prefixes of the right-hand sides of rule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5812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426708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7692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0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5410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09480" y="5378400"/>
            <a:ext cx="784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5835600"/>
            <a:ext cx="8077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175248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5400000">
            <a:off x="4190760" y="514980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6895440" y="4806720"/>
            <a:ext cx="152640" cy="2971800"/>
          </a:xfrm>
          <a:custGeom>
            <a:avLst/>
            <a:gdLst>
              <a:gd name="textAreaLeft" fmla="*/ 0 w 152640"/>
              <a:gd name="textAreaRight" fmla="*/ 5508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560" y="6369120"/>
            <a:ext cx="2073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6369120"/>
            <a:ext cx="2055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28520" y="6369120"/>
            <a:ext cx="3360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Grammar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22860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2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3520" y="274320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5400000">
            <a:off x="2247480" y="26287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5400000">
            <a:off x="4609440" y="26287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400000">
            <a:off x="6857280" y="26668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08440" y="3276720"/>
            <a:ext cx="22629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98640" y="3276720"/>
            <a:ext cx="2221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137280" y="3276720"/>
            <a:ext cx="2183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48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380988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 o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length 3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4267080"/>
            <a:ext cx="8076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+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T*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(</a:t>
            </a:r>
            <a:r>
              <a:rPr b="1" i="1" lang="cs-CZ" sz="2400" spc="-1" strike="noStrike" u="sng">
                <a:solidFill>
                  <a:srgbClr val="339933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5400000">
            <a:off x="2247480" y="415296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400000">
            <a:off x="4609800" y="41529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6857640" y="4191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08000" y="4800600"/>
            <a:ext cx="246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588840" y="4800600"/>
            <a:ext cx="2442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081840" y="4800600"/>
            <a:ext cx="2293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5257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520" y="571500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Times New Roman"/>
              </a:rPr>
              <a:t>G’expr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219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1905120"/>
            <a:ext cx="77724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2895480"/>
            <a:ext cx="861048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</a:t>
            </a:r>
            <a:r>
              <a:rPr b="1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x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et of items  defined by the following algorithm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143000"/>
            <a:ext cx="8381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33520" y="228600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’expr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+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3124080"/>
            <a:ext cx="85345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5800" y="3657600"/>
            <a:ext cx="7772400" cy="1333080"/>
            <a:chOff x="685800" y="3657600"/>
            <a:chExt cx="7772400" cy="1333080"/>
          </a:xfrm>
        </p:grpSpPr>
        <p:sp>
          <p:nvSpPr>
            <p:cNvPr id="883" name=""/>
            <p:cNvSpPr/>
            <p:nvPr/>
          </p:nvSpPr>
          <p:spPr>
            <a:xfrm>
              <a:off x="685800" y="41148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38080" y="3657600"/>
              <a:ext cx="304560" cy="304560"/>
              <a:chOff x="838080" y="3657600"/>
              <a:chExt cx="30456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838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939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685800" y="3657600"/>
            <a:ext cx="7772400" cy="2171160"/>
            <a:chOff x="685800" y="3657600"/>
            <a:chExt cx="7772400" cy="2171160"/>
          </a:xfrm>
        </p:grpSpPr>
        <p:sp>
          <p:nvSpPr>
            <p:cNvPr id="888" name=""/>
            <p:cNvSpPr/>
            <p:nvPr/>
          </p:nvSpPr>
          <p:spPr>
            <a:xfrm>
              <a:off x="685800" y="49528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1981080" y="3657600"/>
              <a:ext cx="304560" cy="304560"/>
              <a:chOff x="1981080" y="3657600"/>
              <a:chExt cx="304560" cy="304560"/>
            </a:xfrm>
          </p:grpSpPr>
          <p:sp>
            <p:nvSpPr>
              <p:cNvPr id="890" name=""/>
              <p:cNvSpPr/>
              <p:nvPr/>
            </p:nvSpPr>
            <p:spPr>
              <a:xfrm>
                <a:off x="198108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208260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85800" y="3657600"/>
            <a:ext cx="7772400" cy="3085560"/>
            <a:chOff x="685800" y="3657600"/>
            <a:chExt cx="7772400" cy="3085560"/>
          </a:xfrm>
        </p:grpSpPr>
        <p:sp>
          <p:nvSpPr>
            <p:cNvPr id="893" name=""/>
            <p:cNvSpPr/>
            <p:nvPr/>
          </p:nvSpPr>
          <p:spPr>
            <a:xfrm>
              <a:off x="685800" y="586728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3429000" y="3657600"/>
              <a:ext cx="304560" cy="304560"/>
              <a:chOff x="3429000" y="3657600"/>
              <a:chExt cx="304560" cy="304560"/>
            </a:xfrm>
          </p:grpSpPr>
          <p:sp>
            <p:nvSpPr>
              <p:cNvPr id="895" name=""/>
              <p:cNvSpPr/>
              <p:nvPr/>
            </p:nvSpPr>
            <p:spPr>
              <a:xfrm>
                <a:off x="3429000" y="38606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3530520" y="36576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1600200"/>
            <a:ext cx="8534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38080" y="2133360"/>
            <a:ext cx="304560" cy="304560"/>
            <a:chOff x="838080" y="2133360"/>
            <a:chExt cx="304560" cy="304560"/>
          </a:xfrm>
        </p:grpSpPr>
        <p:sp>
          <p:nvSpPr>
            <p:cNvPr id="901" name=""/>
            <p:cNvSpPr/>
            <p:nvPr/>
          </p:nvSpPr>
          <p:spPr>
            <a:xfrm>
              <a:off x="838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939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981080" y="2133360"/>
            <a:ext cx="304560" cy="304560"/>
            <a:chOff x="1981080" y="2133360"/>
            <a:chExt cx="304560" cy="304560"/>
          </a:xfrm>
        </p:grpSpPr>
        <p:sp>
          <p:nvSpPr>
            <p:cNvPr id="904" name=""/>
            <p:cNvSpPr/>
            <p:nvPr/>
          </p:nvSpPr>
          <p:spPr>
            <a:xfrm>
              <a:off x="19810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0826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52680" y="2133360"/>
            <a:ext cx="304560" cy="304560"/>
            <a:chOff x="3352680" y="2133360"/>
            <a:chExt cx="304560" cy="304560"/>
          </a:xfrm>
        </p:grpSpPr>
        <p:sp>
          <p:nvSpPr>
            <p:cNvPr id="907" name=""/>
            <p:cNvSpPr/>
            <p:nvPr/>
          </p:nvSpPr>
          <p:spPr>
            <a:xfrm>
              <a:off x="3352680" y="2336400"/>
              <a:ext cx="10152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454200" y="2133360"/>
              <a:ext cx="203040" cy="30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85800" y="2133360"/>
            <a:ext cx="7772400" cy="1257120"/>
            <a:chOff x="685800" y="2133360"/>
            <a:chExt cx="7772400" cy="1257120"/>
          </a:xfrm>
        </p:grpSpPr>
        <p:sp>
          <p:nvSpPr>
            <p:cNvPr id="910" name=""/>
            <p:cNvSpPr/>
            <p:nvPr/>
          </p:nvSpPr>
          <p:spPr>
            <a:xfrm>
              <a:off x="685800" y="25146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419360" y="2133360"/>
              <a:ext cx="304560" cy="304560"/>
              <a:chOff x="4419360" y="2133360"/>
              <a:chExt cx="304560" cy="304560"/>
            </a:xfrm>
          </p:grpSpPr>
          <p:sp>
            <p:nvSpPr>
              <p:cNvPr id="912" name=""/>
              <p:cNvSpPr/>
              <p:nvPr/>
            </p:nvSpPr>
            <p:spPr>
              <a:xfrm>
                <a:off x="441936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4520880" y="21333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685800" y="2133720"/>
            <a:ext cx="7772400" cy="2095200"/>
            <a:chOff x="685800" y="2133720"/>
            <a:chExt cx="7772400" cy="2095200"/>
          </a:xfrm>
        </p:grpSpPr>
        <p:sp>
          <p:nvSpPr>
            <p:cNvPr id="915" name=""/>
            <p:cNvSpPr/>
            <p:nvPr/>
          </p:nvSpPr>
          <p:spPr>
            <a:xfrm>
              <a:off x="685800" y="335304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5715000" y="2133720"/>
              <a:ext cx="304200" cy="304560"/>
              <a:chOff x="5715000" y="2133720"/>
              <a:chExt cx="304200" cy="304560"/>
            </a:xfrm>
          </p:grpSpPr>
          <p:sp>
            <p:nvSpPr>
              <p:cNvPr id="917" name=""/>
              <p:cNvSpPr/>
              <p:nvPr/>
            </p:nvSpPr>
            <p:spPr>
              <a:xfrm>
                <a:off x="571500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5816520" y="213372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685800" y="2133720"/>
            <a:ext cx="7772400" cy="3375360"/>
            <a:chOff x="685800" y="2133720"/>
            <a:chExt cx="7772400" cy="3375360"/>
          </a:xfrm>
        </p:grpSpPr>
        <p:sp>
          <p:nvSpPr>
            <p:cNvPr id="920" name=""/>
            <p:cNvSpPr/>
            <p:nvPr/>
          </p:nvSpPr>
          <p:spPr>
            <a:xfrm>
              <a:off x="685800" y="4267440"/>
              <a:ext cx="77724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6781680" y="2133720"/>
              <a:ext cx="304560" cy="304560"/>
              <a:chOff x="6781680" y="2133720"/>
              <a:chExt cx="304560" cy="304560"/>
            </a:xfrm>
          </p:grpSpPr>
          <p:sp>
            <p:nvSpPr>
              <p:cNvPr id="922" name=""/>
              <p:cNvSpPr/>
              <p:nvPr/>
            </p:nvSpPr>
            <p:spPr>
              <a:xfrm>
                <a:off x="6781680" y="233676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6883200" y="213372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85800" y="2133360"/>
            <a:ext cx="7772400" cy="4228920"/>
            <a:chOff x="685800" y="2133360"/>
            <a:chExt cx="7772400" cy="4228920"/>
          </a:xfrm>
        </p:grpSpPr>
        <p:grpSp>
          <p:nvGrpSpPr>
            <p:cNvPr id="925" name=""/>
            <p:cNvGrpSpPr/>
            <p:nvPr/>
          </p:nvGrpSpPr>
          <p:grpSpPr>
            <a:xfrm>
              <a:off x="8001000" y="2133360"/>
              <a:ext cx="304200" cy="304560"/>
              <a:chOff x="8001000" y="2133360"/>
              <a:chExt cx="304200" cy="304560"/>
            </a:xfrm>
          </p:grpSpPr>
          <p:sp>
            <p:nvSpPr>
              <p:cNvPr id="926" name=""/>
              <p:cNvSpPr/>
              <p:nvPr/>
            </p:nvSpPr>
            <p:spPr>
              <a:xfrm>
                <a:off x="8001000" y="23364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02520" y="2133360"/>
                <a:ext cx="20268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5800" y="5486400"/>
              <a:ext cx="77724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= 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 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 rot="5400000">
            <a:off x="3946320" y="1157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480" y="4419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520" y="403848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480" y="4800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4419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5181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4800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55627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51814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480" y="5943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5627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63244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3520" y="59436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957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-Up Par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343400"/>
            <a:ext cx="2971800" cy="990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267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862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352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3809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962520"/>
            <a:ext cx="167616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886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able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5840" y="3352680"/>
            <a:ext cx="106668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3352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32520" y="3352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860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7720" y="3352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352680"/>
            <a:ext cx="106704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46483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46483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48006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8006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098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2670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18148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715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419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1547280" y="4623840"/>
            <a:ext cx="5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4038480"/>
            <a:ext cx="1219320" cy="83844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47242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410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74200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quence of rules used 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ightmost der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d 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st powerful, but simple &amp; easy-to-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5909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l of Bottom-Up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51055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2578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2578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4100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4100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55627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724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5627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LR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20968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5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295280"/>
            <a:ext cx="7924680" cy="2135160"/>
            <a:chOff x="533520" y="1295280"/>
            <a:chExt cx="7924680" cy="2135160"/>
          </a:xfrm>
        </p:grpSpPr>
        <p:grpSp>
          <p:nvGrpSpPr>
            <p:cNvPr id="963" name=""/>
            <p:cNvGrpSpPr/>
            <p:nvPr/>
          </p:nvGrpSpPr>
          <p:grpSpPr>
            <a:xfrm>
              <a:off x="533520" y="1295280"/>
              <a:ext cx="7924680" cy="2080080"/>
              <a:chOff x="533520" y="1295280"/>
              <a:chExt cx="7924680" cy="2080080"/>
            </a:xfrm>
          </p:grpSpPr>
          <p:sp>
            <p:nvSpPr>
              <p:cNvPr id="964" name=""/>
              <p:cNvSpPr/>
              <p:nvPr/>
            </p:nvSpPr>
            <p:spPr>
              <a:xfrm>
                <a:off x="533520" y="2133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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4572000" y="1295280"/>
                <a:ext cx="304560" cy="304560"/>
                <a:chOff x="4572000" y="1295280"/>
                <a:chExt cx="304560" cy="3045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457200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467352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8" name=""/>
            <p:cNvSpPr/>
            <p:nvPr/>
          </p:nvSpPr>
          <p:spPr>
            <a:xfrm>
              <a:off x="609480" y="3429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3429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33520" y="3581280"/>
            <a:ext cx="7924680" cy="2135160"/>
            <a:chOff x="533520" y="3581280"/>
            <a:chExt cx="7924680" cy="2135160"/>
          </a:xfrm>
        </p:grpSpPr>
        <p:grpSp>
          <p:nvGrpSpPr>
            <p:cNvPr id="971" name=""/>
            <p:cNvGrpSpPr/>
            <p:nvPr/>
          </p:nvGrpSpPr>
          <p:grpSpPr>
            <a:xfrm>
              <a:off x="533520" y="3581280"/>
              <a:ext cx="7924680" cy="2080080"/>
              <a:chOff x="533520" y="3581280"/>
              <a:chExt cx="7924680" cy="2080080"/>
            </a:xfrm>
          </p:grpSpPr>
          <p:sp>
            <p:nvSpPr>
              <p:cNvPr id="972" name=""/>
              <p:cNvSpPr/>
              <p:nvPr/>
            </p:nvSpPr>
            <p:spPr>
              <a:xfrm>
                <a:off x="533520" y="4419720"/>
                <a:ext cx="7924680" cy="12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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osur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{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}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ent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&lt;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4419720" y="3581280"/>
                <a:ext cx="304200" cy="304560"/>
                <a:chOff x="4419720" y="3581280"/>
                <a:chExt cx="304200" cy="30456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4419720" y="3784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4521240" y="358128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6" name=""/>
            <p:cNvSpPr/>
            <p:nvPr/>
          </p:nvSpPr>
          <p:spPr>
            <a:xfrm>
              <a:off x="609480" y="57150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33520" y="1295280"/>
            <a:ext cx="7619760" cy="840960"/>
            <a:chOff x="533520" y="1295280"/>
            <a:chExt cx="7619760" cy="840960"/>
          </a:xfrm>
        </p:grpSpPr>
        <p:grpSp>
          <p:nvGrpSpPr>
            <p:cNvPr id="979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980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533520" y="1676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33520" y="3581280"/>
            <a:ext cx="7619760" cy="764640"/>
            <a:chOff x="533520" y="3581280"/>
            <a:chExt cx="7619760" cy="764640"/>
          </a:xfrm>
        </p:grpSpPr>
        <p:grpSp>
          <p:nvGrpSpPr>
            <p:cNvPr id="984" name=""/>
            <p:cNvGrpSpPr/>
            <p:nvPr/>
          </p:nvGrpSpPr>
          <p:grpSpPr>
            <a:xfrm>
              <a:off x="3352680" y="3581280"/>
              <a:ext cx="304560" cy="304560"/>
              <a:chOff x="3352680" y="3581280"/>
              <a:chExt cx="304560" cy="304560"/>
            </a:xfrm>
          </p:grpSpPr>
          <p:sp>
            <p:nvSpPr>
              <p:cNvPr id="985" name=""/>
              <p:cNvSpPr/>
              <p:nvPr/>
            </p:nvSpPr>
            <p:spPr>
              <a:xfrm>
                <a:off x="3352680" y="3784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3454200" y="3581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>
              <a:off x="533520" y="388620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533520" y="5867280"/>
            <a:ext cx="7848360" cy="839880"/>
            <a:chOff x="533520" y="5867280"/>
            <a:chExt cx="7848360" cy="839880"/>
          </a:xfrm>
        </p:grpSpPr>
        <p:sp>
          <p:nvSpPr>
            <p:cNvPr id="989" name=""/>
            <p:cNvSpPr/>
            <p:nvPr/>
          </p:nvSpPr>
          <p:spPr>
            <a:xfrm>
              <a:off x="60948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520" y="5867280"/>
              <a:ext cx="7619760" cy="764640"/>
              <a:chOff x="533520" y="5867280"/>
              <a:chExt cx="7619760" cy="76464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3352680" y="5867280"/>
                <a:ext cx="304560" cy="304560"/>
                <a:chOff x="3352680" y="5867280"/>
                <a:chExt cx="304560" cy="3045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52680" y="6070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3454200" y="5867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533520" y="6172200"/>
                <a:ext cx="761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1143000"/>
            <a:ext cx="861048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999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01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04" name=""/>
            <p:cNvGrpSpPr/>
            <p:nvPr/>
          </p:nvGrpSpPr>
          <p:grpSpPr>
            <a:xfrm>
              <a:off x="1981080" y="1600200"/>
              <a:ext cx="304560" cy="304560"/>
              <a:chOff x="1981080" y="1600200"/>
              <a:chExt cx="304560" cy="304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810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20826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+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609480" y="1600200"/>
            <a:ext cx="8229600" cy="2491200"/>
            <a:chOff x="609480" y="1600200"/>
            <a:chExt cx="8229600" cy="2491200"/>
          </a:xfrm>
        </p:grpSpPr>
        <p:sp>
          <p:nvSpPr>
            <p:cNvPr id="1009" name=""/>
            <p:cNvSpPr/>
            <p:nvPr/>
          </p:nvSpPr>
          <p:spPr>
            <a:xfrm>
              <a:off x="609480" y="3581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52680" y="1600200"/>
              <a:ext cx="304560" cy="304560"/>
              <a:chOff x="3352680" y="1600200"/>
              <a:chExt cx="304560" cy="304560"/>
            </a:xfrm>
          </p:grpSpPr>
          <p:sp>
            <p:nvSpPr>
              <p:cNvPr id="1011" name=""/>
              <p:cNvSpPr/>
              <p:nvPr/>
            </p:nvSpPr>
            <p:spPr>
              <a:xfrm>
                <a:off x="3352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3454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609480" y="1600200"/>
            <a:ext cx="8229600" cy="2872440"/>
            <a:chOff x="609480" y="1600200"/>
            <a:chExt cx="8229600" cy="2872440"/>
          </a:xfrm>
        </p:grpSpPr>
        <p:sp>
          <p:nvSpPr>
            <p:cNvPr id="1014" name=""/>
            <p:cNvSpPr/>
            <p:nvPr/>
          </p:nvSpPr>
          <p:spPr>
            <a:xfrm>
              <a:off x="609480" y="39625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419720" y="1600200"/>
              <a:ext cx="304200" cy="304560"/>
              <a:chOff x="4419720" y="1600200"/>
              <a:chExt cx="304200" cy="3045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419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4521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609480" y="1600200"/>
            <a:ext cx="8229600" cy="3253320"/>
            <a:chOff x="609480" y="1600200"/>
            <a:chExt cx="8229600" cy="3253320"/>
          </a:xfrm>
        </p:grpSpPr>
        <p:sp>
          <p:nvSpPr>
            <p:cNvPr id="1019" name=""/>
            <p:cNvSpPr/>
            <p:nvPr/>
          </p:nvSpPr>
          <p:spPr>
            <a:xfrm>
              <a:off x="609480" y="43434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791320" y="1600200"/>
              <a:ext cx="304200" cy="304560"/>
              <a:chOff x="5791320" y="1600200"/>
              <a:chExt cx="304200" cy="304560"/>
            </a:xfrm>
          </p:grpSpPr>
          <p:sp>
            <p:nvSpPr>
              <p:cNvPr id="1021" name=""/>
              <p:cNvSpPr/>
              <p:nvPr/>
            </p:nvSpPr>
            <p:spPr>
              <a:xfrm>
                <a:off x="5791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5892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609480" y="1600200"/>
            <a:ext cx="8229600" cy="3634200"/>
            <a:chOff x="609480" y="1600200"/>
            <a:chExt cx="8229600" cy="3634200"/>
          </a:xfrm>
        </p:grpSpPr>
        <p:sp>
          <p:nvSpPr>
            <p:cNvPr id="1024" name=""/>
            <p:cNvSpPr/>
            <p:nvPr/>
          </p:nvSpPr>
          <p:spPr>
            <a:xfrm>
              <a:off x="609480" y="4724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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781680" y="1600200"/>
              <a:ext cx="304560" cy="304560"/>
              <a:chOff x="6781680" y="1600200"/>
              <a:chExt cx="304560" cy="304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6781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83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8" name=""/>
          <p:cNvSpPr/>
          <p:nvPr/>
        </p:nvSpPr>
        <p:spPr>
          <a:xfrm>
            <a:off x="609480" y="5638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9480" y="5790960"/>
            <a:ext cx="7848720" cy="839880"/>
            <a:chOff x="609480" y="5790960"/>
            <a:chExt cx="7848720" cy="839880"/>
          </a:xfrm>
        </p:grpSpPr>
        <p:sp>
          <p:nvSpPr>
            <p:cNvPr id="1030" name=""/>
            <p:cNvSpPr/>
            <p:nvPr/>
          </p:nvSpPr>
          <p:spPr>
            <a:xfrm>
              <a:off x="685800" y="662940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609480" y="5790960"/>
              <a:ext cx="7620120" cy="764640"/>
              <a:chOff x="609480" y="5790960"/>
              <a:chExt cx="7620120" cy="76464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3200400" y="5790960"/>
                <a:ext cx="304560" cy="304560"/>
                <a:chOff x="3200400" y="5790960"/>
                <a:chExt cx="304560" cy="3045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3200400" y="59940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301920" y="5790960"/>
                  <a:ext cx="20304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9480" y="6095880"/>
                <a:ext cx="76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609480" y="1600200"/>
            <a:ext cx="8229600" cy="4040280"/>
            <a:chOff x="609480" y="1600200"/>
            <a:chExt cx="8229600" cy="4040280"/>
          </a:xfrm>
        </p:grpSpPr>
        <p:grpSp>
          <p:nvGrpSpPr>
            <p:cNvPr id="1037" name=""/>
            <p:cNvGrpSpPr/>
            <p:nvPr/>
          </p:nvGrpSpPr>
          <p:grpSpPr>
            <a:xfrm>
              <a:off x="609480" y="1600200"/>
              <a:ext cx="8229600" cy="4015440"/>
              <a:chOff x="609480" y="1600200"/>
              <a:chExt cx="8229600" cy="4015440"/>
            </a:xfrm>
          </p:grpSpPr>
          <p:sp>
            <p:nvSpPr>
              <p:cNvPr id="1038" name=""/>
              <p:cNvSpPr/>
              <p:nvPr/>
            </p:nvSpPr>
            <p:spPr>
              <a:xfrm>
                <a:off x="609480" y="5105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 </a:t>
                </a:r>
                <a:r>
                  <a:rPr b="1" lang="en-US" sz="24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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"/>
              <p:cNvGrpSpPr/>
              <p:nvPr/>
            </p:nvGrpSpPr>
            <p:grpSpPr>
              <a:xfrm>
                <a:off x="8077320" y="1600200"/>
                <a:ext cx="304200" cy="304560"/>
                <a:chOff x="8077320" y="1600200"/>
                <a:chExt cx="304200" cy="3045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807732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178840" y="16002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685800" y="56386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070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073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076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079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082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085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" y="1143000"/>
            <a:ext cx="830556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609480" y="1600200"/>
            <a:ext cx="8229600" cy="1180800"/>
            <a:chOff x="609480" y="1600200"/>
            <a:chExt cx="8229600" cy="1180800"/>
          </a:xfrm>
        </p:grpSpPr>
        <p:sp>
          <p:nvSpPr>
            <p:cNvPr id="1091" name=""/>
            <p:cNvSpPr/>
            <p:nvPr/>
          </p:nvSpPr>
          <p:spPr>
            <a:xfrm>
              <a:off x="609480" y="19051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62120" y="1600200"/>
              <a:ext cx="304200" cy="304560"/>
              <a:chOff x="762120" y="1600200"/>
              <a:chExt cx="304200" cy="304560"/>
            </a:xfrm>
          </p:grpSpPr>
          <p:sp>
            <p:nvSpPr>
              <p:cNvPr id="1093" name=""/>
              <p:cNvSpPr/>
              <p:nvPr/>
            </p:nvSpPr>
            <p:spPr>
              <a:xfrm>
                <a:off x="7621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8636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609480" y="1600200"/>
            <a:ext cx="8229600" cy="2018880"/>
            <a:chOff x="609480" y="1600200"/>
            <a:chExt cx="8229600" cy="2018880"/>
          </a:xfrm>
        </p:grpSpPr>
        <p:grpSp>
          <p:nvGrpSpPr>
            <p:cNvPr id="1096" name=""/>
            <p:cNvGrpSpPr/>
            <p:nvPr/>
          </p:nvGrpSpPr>
          <p:grpSpPr>
            <a:xfrm>
              <a:off x="2133720" y="1600200"/>
              <a:ext cx="304200" cy="304560"/>
              <a:chOff x="2133720" y="1600200"/>
              <a:chExt cx="304200" cy="304560"/>
            </a:xfrm>
          </p:grpSpPr>
          <p:sp>
            <p:nvSpPr>
              <p:cNvPr id="1097" name=""/>
              <p:cNvSpPr/>
              <p:nvPr/>
            </p:nvSpPr>
            <p:spPr>
              <a:xfrm>
                <a:off x="21337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22352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09480" y="2743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*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 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609480" y="1600200"/>
            <a:ext cx="8229600" cy="2415240"/>
            <a:chOff x="609480" y="1600200"/>
            <a:chExt cx="8229600" cy="2415240"/>
          </a:xfrm>
        </p:grpSpPr>
        <p:sp>
          <p:nvSpPr>
            <p:cNvPr id="1101" name=""/>
            <p:cNvSpPr/>
            <p:nvPr/>
          </p:nvSpPr>
          <p:spPr>
            <a:xfrm>
              <a:off x="609480" y="350532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505320" y="1600200"/>
              <a:ext cx="304200" cy="304560"/>
              <a:chOff x="3505320" y="1600200"/>
              <a:chExt cx="304200" cy="304560"/>
            </a:xfrm>
          </p:grpSpPr>
          <p:sp>
            <p:nvSpPr>
              <p:cNvPr id="1103" name=""/>
              <p:cNvSpPr/>
              <p:nvPr/>
            </p:nvSpPr>
            <p:spPr>
              <a:xfrm>
                <a:off x="350532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3606840" y="1600200"/>
                <a:ext cx="2026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609480" y="1600200"/>
            <a:ext cx="8229600" cy="2796120"/>
            <a:chOff x="609480" y="1600200"/>
            <a:chExt cx="8229600" cy="2796120"/>
          </a:xfrm>
        </p:grpSpPr>
        <p:sp>
          <p:nvSpPr>
            <p:cNvPr id="1106" name=""/>
            <p:cNvSpPr/>
            <p:nvPr/>
          </p:nvSpPr>
          <p:spPr>
            <a:xfrm>
              <a:off x="609480" y="388620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+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495680" y="1600200"/>
              <a:ext cx="304560" cy="304560"/>
              <a:chOff x="4495680" y="1600200"/>
              <a:chExt cx="304560" cy="304560"/>
            </a:xfrm>
          </p:grpSpPr>
          <p:sp>
            <p:nvSpPr>
              <p:cNvPr id="1108" name=""/>
              <p:cNvSpPr/>
              <p:nvPr/>
            </p:nvSpPr>
            <p:spPr>
              <a:xfrm>
                <a:off x="4495680" y="18032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597200" y="16002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0" name=""/>
          <p:cNvGrpSpPr/>
          <p:nvPr/>
        </p:nvGrpSpPr>
        <p:grpSpPr>
          <a:xfrm>
            <a:off x="609480" y="1600200"/>
            <a:ext cx="8229600" cy="3177000"/>
            <a:chOff x="609480" y="1600200"/>
            <a:chExt cx="8229600" cy="3177000"/>
          </a:xfrm>
        </p:grpSpPr>
        <p:grpSp>
          <p:nvGrpSpPr>
            <p:cNvPr id="1111" name=""/>
            <p:cNvGrpSpPr/>
            <p:nvPr/>
          </p:nvGrpSpPr>
          <p:grpSpPr>
            <a:xfrm>
              <a:off x="609480" y="1600200"/>
              <a:ext cx="8229600" cy="3177000"/>
              <a:chOff x="609480" y="1600200"/>
              <a:chExt cx="8229600" cy="3177000"/>
            </a:xfrm>
          </p:grpSpPr>
          <p:sp>
            <p:nvSpPr>
              <p:cNvPr id="1112" name=""/>
              <p:cNvSpPr/>
              <p:nvPr/>
            </p:nvSpPr>
            <p:spPr>
              <a:xfrm>
                <a:off x="609480" y="426708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+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5715000" y="1600200"/>
                <a:ext cx="304560" cy="304560"/>
                <a:chOff x="5715000" y="1600200"/>
                <a:chExt cx="304560" cy="304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715000" y="18032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flipV="1">
                  <a:off x="5816520" y="16002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685800" y="472428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09480" y="4724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480" y="4876560"/>
            <a:ext cx="8229600" cy="1104840"/>
            <a:chOff x="609480" y="4876560"/>
            <a:chExt cx="8229600" cy="1104840"/>
          </a:xfrm>
        </p:grpSpPr>
        <p:sp>
          <p:nvSpPr>
            <p:cNvPr id="1119" name=""/>
            <p:cNvSpPr/>
            <p:nvPr/>
          </p:nvSpPr>
          <p:spPr>
            <a:xfrm>
              <a:off x="609480" y="510552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429000" y="4876560"/>
              <a:ext cx="304560" cy="304560"/>
              <a:chOff x="3429000" y="4876560"/>
              <a:chExt cx="304560" cy="304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290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5305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609480" y="4876560"/>
            <a:ext cx="8229600" cy="1500840"/>
            <a:chOff x="609480" y="4876560"/>
            <a:chExt cx="8229600" cy="1500840"/>
          </a:xfrm>
        </p:grpSpPr>
        <p:sp>
          <p:nvSpPr>
            <p:cNvPr id="1124" name=""/>
            <p:cNvSpPr/>
            <p:nvPr/>
          </p:nvSpPr>
          <p:spPr>
            <a:xfrm>
              <a:off x="609480" y="586728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*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4800600" y="4876560"/>
              <a:ext cx="304560" cy="304560"/>
              <a:chOff x="4800600" y="4876560"/>
              <a:chExt cx="304560" cy="3045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800600" y="507960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02120" y="4876560"/>
                <a:ext cx="20304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09480" y="4876560"/>
            <a:ext cx="8229600" cy="1882080"/>
            <a:chOff x="609480" y="4876560"/>
            <a:chExt cx="8229600" cy="1882080"/>
          </a:xfrm>
        </p:grpSpPr>
        <p:grpSp>
          <p:nvGrpSpPr>
            <p:cNvPr id="1129" name=""/>
            <p:cNvGrpSpPr/>
            <p:nvPr/>
          </p:nvGrpSpPr>
          <p:grpSpPr>
            <a:xfrm>
              <a:off x="609480" y="4876560"/>
              <a:ext cx="8229600" cy="1882080"/>
              <a:chOff x="609480" y="4876560"/>
              <a:chExt cx="8229600" cy="188208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480" y="62485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cs-CZ" sz="2400" spc="-1" strike="noStrike">
                    <a:solidFill>
                      <a:srgbClr val="3333cc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*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19920" y="4876560"/>
                <a:ext cx="304200" cy="304560"/>
                <a:chOff x="6019920" y="4876560"/>
                <a:chExt cx="304200" cy="3045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019920" y="507960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V="1">
                  <a:off x="6121440" y="4876560"/>
                  <a:ext cx="202680" cy="304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4" name=""/>
            <p:cNvSpPr/>
            <p:nvPr/>
          </p:nvSpPr>
          <p:spPr>
            <a:xfrm>
              <a:off x="685800" y="67057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1295280"/>
            <a:ext cx="8229600" cy="1180800"/>
            <a:chOff x="533520" y="1295280"/>
            <a:chExt cx="8229600" cy="1180800"/>
          </a:xfrm>
        </p:grpSpPr>
        <p:sp>
          <p:nvSpPr>
            <p:cNvPr id="1139" name=""/>
            <p:cNvSpPr/>
            <p:nvPr/>
          </p:nvSpPr>
          <p:spPr>
            <a:xfrm>
              <a:off x="533520" y="1600200"/>
              <a:ext cx="8229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en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’expr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losur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ent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&lt;</a:t>
              </a: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2680" y="1295280"/>
              <a:ext cx="304560" cy="304560"/>
              <a:chOff x="3352680" y="1295280"/>
              <a:chExt cx="304560" cy="304560"/>
            </a:xfrm>
          </p:grpSpPr>
          <p:sp>
            <p:nvSpPr>
              <p:cNvPr id="1141" name=""/>
              <p:cNvSpPr/>
              <p:nvPr/>
            </p:nvSpPr>
            <p:spPr>
              <a:xfrm>
                <a:off x="3352680" y="149832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454200" y="129528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3" name=""/>
          <p:cNvGrpSpPr/>
          <p:nvPr/>
        </p:nvGrpSpPr>
        <p:grpSpPr>
          <a:xfrm>
            <a:off x="533520" y="1295280"/>
            <a:ext cx="8229600" cy="1577160"/>
            <a:chOff x="533520" y="1295280"/>
            <a:chExt cx="8229600" cy="1577160"/>
          </a:xfrm>
        </p:grpSpPr>
        <p:grpSp>
          <p:nvGrpSpPr>
            <p:cNvPr id="1144" name=""/>
            <p:cNvGrpSpPr/>
            <p:nvPr/>
          </p:nvGrpSpPr>
          <p:grpSpPr>
            <a:xfrm>
              <a:off x="533520" y="1295280"/>
              <a:ext cx="8229600" cy="1577160"/>
              <a:chOff x="533520" y="1295280"/>
              <a:chExt cx="8229600" cy="1577160"/>
            </a:xfrm>
          </p:grpSpPr>
          <p:sp>
            <p:nvSpPr>
              <p:cNvPr id="1145" name=""/>
              <p:cNvSpPr/>
              <p:nvPr/>
            </p:nvSpPr>
            <p:spPr>
              <a:xfrm>
                <a:off x="533520" y="236232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(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4724280" y="1295280"/>
                <a:ext cx="304560" cy="304560"/>
                <a:chOff x="4724280" y="1295280"/>
                <a:chExt cx="304560" cy="3045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724280" y="149832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V="1">
                  <a:off x="4825800" y="129528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609480" y="2819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5335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533520" y="2971800"/>
            <a:ext cx="8229600" cy="764640"/>
            <a:chOff x="533520" y="2971800"/>
            <a:chExt cx="8229600" cy="764640"/>
          </a:xfrm>
        </p:grpSpPr>
        <p:sp>
          <p:nvSpPr>
            <p:cNvPr id="1152" name=""/>
            <p:cNvSpPr/>
            <p:nvPr/>
          </p:nvSpPr>
          <p:spPr>
            <a:xfrm>
              <a:off x="533520" y="32767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581280" y="2971800"/>
              <a:ext cx="304560" cy="304560"/>
              <a:chOff x="3581280" y="2971800"/>
              <a:chExt cx="304560" cy="304560"/>
            </a:xfrm>
          </p:grpSpPr>
          <p:sp>
            <p:nvSpPr>
              <p:cNvPr id="1154" name=""/>
              <p:cNvSpPr/>
              <p:nvPr/>
            </p:nvSpPr>
            <p:spPr>
              <a:xfrm>
                <a:off x="3581280" y="3174840"/>
                <a:ext cx="101520" cy="101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682800" y="2971800"/>
                <a:ext cx="20304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6" name=""/>
          <p:cNvGrpSpPr/>
          <p:nvPr/>
        </p:nvGrpSpPr>
        <p:grpSpPr>
          <a:xfrm>
            <a:off x="533520" y="2971800"/>
            <a:ext cx="8229600" cy="1220760"/>
            <a:chOff x="533520" y="2971800"/>
            <a:chExt cx="8229600" cy="1220760"/>
          </a:xfrm>
        </p:grpSpPr>
        <p:grpSp>
          <p:nvGrpSpPr>
            <p:cNvPr id="1157" name=""/>
            <p:cNvGrpSpPr/>
            <p:nvPr/>
          </p:nvGrpSpPr>
          <p:grpSpPr>
            <a:xfrm>
              <a:off x="533520" y="2971800"/>
              <a:ext cx="8229600" cy="1195920"/>
              <a:chOff x="533520" y="2971800"/>
              <a:chExt cx="8229600" cy="1195920"/>
            </a:xfrm>
          </p:grpSpPr>
          <p:sp>
            <p:nvSpPr>
              <p:cNvPr id="1158" name=""/>
              <p:cNvSpPr/>
              <p:nvPr/>
            </p:nvSpPr>
            <p:spPr>
              <a:xfrm>
                <a:off x="533520" y="3657600"/>
                <a:ext cx="8229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Content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u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r>
                  <a:rPr b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+</a:t>
                </a:r>
                <a:r>
                  <a:rPr b="1" i="1" lang="cs-CZ" sz="2400" spc="-1" strike="noStrike">
                    <a:solidFill>
                      <a:srgbClr val="339933"/>
                    </a:solidFill>
                    <a:latin typeface="Times New Roman"/>
                  </a:rPr>
                  <a:t>T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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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G’exp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"/>
              <p:cNvGrpSpPr/>
              <p:nvPr/>
            </p:nvGrpSpPr>
            <p:grpSpPr>
              <a:xfrm>
                <a:off x="5105520" y="2971800"/>
                <a:ext cx="304200" cy="304560"/>
                <a:chOff x="5105520" y="2971800"/>
                <a:chExt cx="304200" cy="30456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5105520" y="3174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V="1">
                  <a:off x="5207040" y="29718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2" name=""/>
            <p:cNvSpPr/>
            <p:nvPr/>
          </p:nvSpPr>
          <p:spPr>
            <a:xfrm>
              <a:off x="609480" y="41911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35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33520" y="4343400"/>
            <a:ext cx="8229600" cy="764640"/>
            <a:chOff x="533520" y="4343400"/>
            <a:chExt cx="8229600" cy="76464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4343400"/>
              <a:ext cx="8229600" cy="764640"/>
              <a:chOff x="533520" y="4343400"/>
              <a:chExt cx="8229600" cy="76464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46483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3733920" y="4343400"/>
                <a:ext cx="304200" cy="304560"/>
                <a:chOff x="3733920" y="4343400"/>
                <a:chExt cx="304200" cy="3045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733920" y="45464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V="1">
                  <a:off x="3835440" y="4343400"/>
                  <a:ext cx="20268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0" name=""/>
            <p:cNvSpPr/>
            <p:nvPr/>
          </p:nvSpPr>
          <p:spPr>
            <a:xfrm>
              <a:off x="609480" y="51055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335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33520" y="5257800"/>
            <a:ext cx="8229600" cy="764640"/>
            <a:chOff x="533520" y="5257800"/>
            <a:chExt cx="8229600" cy="764640"/>
          </a:xfrm>
        </p:grpSpPr>
        <p:grpSp>
          <p:nvGrpSpPr>
            <p:cNvPr id="1173" name=""/>
            <p:cNvGrpSpPr/>
            <p:nvPr/>
          </p:nvGrpSpPr>
          <p:grpSpPr>
            <a:xfrm>
              <a:off x="533520" y="5257800"/>
              <a:ext cx="8229600" cy="764640"/>
              <a:chOff x="533520" y="5257800"/>
              <a:chExt cx="8229600" cy="764640"/>
            </a:xfrm>
          </p:grpSpPr>
          <p:sp>
            <p:nvSpPr>
              <p:cNvPr id="1174" name=""/>
              <p:cNvSpPr/>
              <p:nvPr/>
            </p:nvSpPr>
            <p:spPr>
              <a:xfrm>
                <a:off x="533520" y="5562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5" name=""/>
              <p:cNvGrpSpPr/>
              <p:nvPr/>
            </p:nvGrpSpPr>
            <p:grpSpPr>
              <a:xfrm>
                <a:off x="3581280" y="5257800"/>
                <a:ext cx="304560" cy="304560"/>
                <a:chOff x="3581280" y="5257800"/>
                <a:chExt cx="304560" cy="3045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581280" y="5460840"/>
                  <a:ext cx="101520" cy="101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V="1">
                  <a:off x="3682800" y="5257800"/>
                  <a:ext cx="20304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"/>
            <p:cNvSpPr/>
            <p:nvPr/>
          </p:nvSpPr>
          <p:spPr>
            <a:xfrm>
              <a:off x="609480" y="6019920"/>
              <a:ext cx="7772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 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1828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114300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520" y="2209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948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948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48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3520" y="2971800"/>
            <a:ext cx="822960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80" y="4724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520" y="4038480"/>
            <a:ext cx="81532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9480" y="5105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3520" y="4724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9480" y="5486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5105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9480" y="5867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48640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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6248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520" y="586728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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*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6294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3520" y="6248520"/>
            <a:ext cx="784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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04920" y="1219320"/>
            <a:ext cx="304200" cy="304560"/>
            <a:chOff x="304920" y="1219320"/>
            <a:chExt cx="304200" cy="304560"/>
          </a:xfrm>
        </p:grpSpPr>
        <p:sp>
          <p:nvSpPr>
            <p:cNvPr id="1206" name=""/>
            <p:cNvSpPr/>
            <p:nvPr/>
          </p:nvSpPr>
          <p:spPr>
            <a:xfrm>
              <a:off x="304920" y="14223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06080" y="12193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304920" y="1905120"/>
            <a:ext cx="304200" cy="304560"/>
            <a:chOff x="304920" y="1905120"/>
            <a:chExt cx="304200" cy="304560"/>
          </a:xfrm>
        </p:grpSpPr>
        <p:sp>
          <p:nvSpPr>
            <p:cNvPr id="1209" name=""/>
            <p:cNvSpPr/>
            <p:nvPr/>
          </p:nvSpPr>
          <p:spPr>
            <a:xfrm>
              <a:off x="304920" y="21081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06080" y="19051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2285640"/>
            <a:ext cx="304200" cy="305280"/>
            <a:chOff x="304920" y="2285640"/>
            <a:chExt cx="304200" cy="305280"/>
          </a:xfrm>
        </p:grpSpPr>
        <p:sp>
          <p:nvSpPr>
            <p:cNvPr id="1212" name=""/>
            <p:cNvSpPr/>
            <p:nvPr/>
          </p:nvSpPr>
          <p:spPr>
            <a:xfrm>
              <a:off x="304920" y="24894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06080" y="22856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04920" y="2590920"/>
            <a:ext cx="304200" cy="304560"/>
            <a:chOff x="304920" y="2590920"/>
            <a:chExt cx="304200" cy="304560"/>
          </a:xfrm>
        </p:grpSpPr>
        <p:sp>
          <p:nvSpPr>
            <p:cNvPr id="1215" name=""/>
            <p:cNvSpPr/>
            <p:nvPr/>
          </p:nvSpPr>
          <p:spPr>
            <a:xfrm>
              <a:off x="304920" y="2793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06080" y="2590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04920" y="2971440"/>
            <a:ext cx="304200" cy="305280"/>
            <a:chOff x="304920" y="2971440"/>
            <a:chExt cx="304200" cy="305280"/>
          </a:xfrm>
        </p:grpSpPr>
        <p:sp>
          <p:nvSpPr>
            <p:cNvPr id="1218" name=""/>
            <p:cNvSpPr/>
            <p:nvPr/>
          </p:nvSpPr>
          <p:spPr>
            <a:xfrm>
              <a:off x="304920" y="3175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06080" y="2971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4920" y="3733920"/>
            <a:ext cx="304200" cy="304560"/>
            <a:chOff x="304920" y="3733920"/>
            <a:chExt cx="304200" cy="304560"/>
          </a:xfrm>
        </p:grpSpPr>
        <p:sp>
          <p:nvSpPr>
            <p:cNvPr id="1221" name=""/>
            <p:cNvSpPr/>
            <p:nvPr/>
          </p:nvSpPr>
          <p:spPr>
            <a:xfrm>
              <a:off x="304920" y="39369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06080" y="37339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04920" y="4114440"/>
            <a:ext cx="304200" cy="305280"/>
            <a:chOff x="304920" y="4114440"/>
            <a:chExt cx="304200" cy="305280"/>
          </a:xfrm>
        </p:grpSpPr>
        <p:sp>
          <p:nvSpPr>
            <p:cNvPr id="1224" name=""/>
            <p:cNvSpPr/>
            <p:nvPr/>
          </p:nvSpPr>
          <p:spPr>
            <a:xfrm>
              <a:off x="304920" y="43182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06080" y="41144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304920" y="4800240"/>
            <a:ext cx="304200" cy="305280"/>
            <a:chOff x="304920" y="4800240"/>
            <a:chExt cx="304200" cy="305280"/>
          </a:xfrm>
        </p:grpSpPr>
        <p:sp>
          <p:nvSpPr>
            <p:cNvPr id="1227" name=""/>
            <p:cNvSpPr/>
            <p:nvPr/>
          </p:nvSpPr>
          <p:spPr>
            <a:xfrm>
              <a:off x="304920" y="5004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06080" y="4800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04920" y="5181120"/>
            <a:ext cx="304200" cy="305280"/>
            <a:chOff x="304920" y="5181120"/>
            <a:chExt cx="304200" cy="305280"/>
          </a:xfrm>
        </p:grpSpPr>
        <p:sp>
          <p:nvSpPr>
            <p:cNvPr id="1230" name=""/>
            <p:cNvSpPr/>
            <p:nvPr/>
          </p:nvSpPr>
          <p:spPr>
            <a:xfrm>
              <a:off x="304920" y="5384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06080" y="5181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304920" y="5562720"/>
            <a:ext cx="304200" cy="304560"/>
            <a:chOff x="304920" y="5562720"/>
            <a:chExt cx="304200" cy="304560"/>
          </a:xfrm>
        </p:grpSpPr>
        <p:sp>
          <p:nvSpPr>
            <p:cNvPr id="1233" name=""/>
            <p:cNvSpPr/>
            <p:nvPr/>
          </p:nvSpPr>
          <p:spPr>
            <a:xfrm>
              <a:off x="304920" y="5765760"/>
              <a:ext cx="101160" cy="10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6080" y="5562720"/>
              <a:ext cx="2030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04920" y="5943240"/>
            <a:ext cx="304200" cy="305280"/>
            <a:chOff x="304920" y="5943240"/>
            <a:chExt cx="304200" cy="305280"/>
          </a:xfrm>
        </p:grpSpPr>
        <p:sp>
          <p:nvSpPr>
            <p:cNvPr id="1236" name=""/>
            <p:cNvSpPr/>
            <p:nvPr/>
          </p:nvSpPr>
          <p:spPr>
            <a:xfrm>
              <a:off x="304920" y="614700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06080" y="594324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04920" y="6324120"/>
            <a:ext cx="304200" cy="305280"/>
            <a:chOff x="304920" y="6324120"/>
            <a:chExt cx="304200" cy="305280"/>
          </a:xfrm>
        </p:grpSpPr>
        <p:sp>
          <p:nvSpPr>
            <p:cNvPr id="1239" name=""/>
            <p:cNvSpPr/>
            <p:nvPr/>
          </p:nvSpPr>
          <p:spPr>
            <a:xfrm>
              <a:off x="304920" y="6527880"/>
              <a:ext cx="10116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06080" y="6324120"/>
              <a:ext cx="20304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33520" y="1143000"/>
            <a:ext cx="830556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LR-tabl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Action part,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Go-to par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33520" y="2286000"/>
            <a:ext cx="861048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Of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tarting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at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6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66cc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66ccff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p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label of rul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Construction of LR-table: Algorith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7524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739880" y="3048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752480" y="3809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57200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33412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248520" y="2819520"/>
            <a:ext cx="374400" cy="635040"/>
          </a:xfrm>
          <a:custGeom>
            <a:avLst/>
            <a:gdLst/>
            <a:ahLst/>
            <a:rect l="l" t="t" r="r" b="b"/>
            <a:pathLst>
              <a:path w="236" h="400">
                <a:moveTo>
                  <a:pt x="216" y="400"/>
                </a:moveTo>
                <a:cubicBezTo>
                  <a:pt x="213" y="376"/>
                  <a:pt x="236" y="331"/>
                  <a:pt x="200" y="264"/>
                </a:cubicBezTo>
                <a:cubicBezTo>
                  <a:pt x="164" y="197"/>
                  <a:pt x="42" y="55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2857680"/>
            <a:ext cx="757080" cy="1295280"/>
          </a:xfrm>
          <a:custGeom>
            <a:avLst/>
            <a:gdLst/>
            <a:ahLst/>
            <a:rect l="l" t="t" r="r" b="b"/>
            <a:pathLst>
              <a:path w="477" h="816">
                <a:moveTo>
                  <a:pt x="416" y="816"/>
                </a:moveTo>
                <a:cubicBezTo>
                  <a:pt x="416" y="745"/>
                  <a:pt x="477" y="528"/>
                  <a:pt x="408" y="392"/>
                </a:cubicBezTo>
                <a:cubicBezTo>
                  <a:pt x="339" y="256"/>
                  <a:pt x="85" y="82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137360" y="2819520"/>
            <a:ext cx="639720" cy="2958840"/>
          </a:xfrm>
          <a:custGeom>
            <a:avLst/>
            <a:gdLst/>
            <a:ahLst/>
            <a:rect l="l" t="t" r="r" b="b"/>
            <a:pathLst>
              <a:path w="403" h="1864">
                <a:moveTo>
                  <a:pt x="0" y="1864"/>
                </a:moveTo>
                <a:cubicBezTo>
                  <a:pt x="63" y="1720"/>
                  <a:pt x="381" y="1311"/>
                  <a:pt x="392" y="1000"/>
                </a:cubicBezTo>
                <a:cubicBezTo>
                  <a:pt x="403" y="689"/>
                  <a:pt x="132" y="208"/>
                  <a:pt x="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08760" y="2819520"/>
            <a:ext cx="563760" cy="2222280"/>
          </a:xfrm>
          <a:custGeom>
            <a:avLst/>
            <a:gdLst/>
            <a:ahLst/>
            <a:rect l="l" t="t" r="r" b="b"/>
            <a:pathLst>
              <a:path w="355" h="1400">
                <a:moveTo>
                  <a:pt x="0" y="1400"/>
                </a:moveTo>
                <a:cubicBezTo>
                  <a:pt x="57" y="1337"/>
                  <a:pt x="317" y="1257"/>
                  <a:pt x="336" y="1024"/>
                </a:cubicBezTo>
                <a:cubicBezTo>
                  <a:pt x="355" y="791"/>
                  <a:pt x="159" y="213"/>
                  <a:pt x="112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52480" y="6095880"/>
            <a:ext cx="57913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46920" y="2895480"/>
            <a:ext cx="1471680" cy="3708360"/>
          </a:xfrm>
          <a:custGeom>
            <a:avLst/>
            <a:gdLst/>
            <a:ahLst/>
            <a:rect l="l" t="t" r="r" b="b"/>
            <a:pathLst>
              <a:path w="927" h="2336">
                <a:moveTo>
                  <a:pt x="0" y="2336"/>
                </a:moveTo>
                <a:cubicBezTo>
                  <a:pt x="135" y="2152"/>
                  <a:pt x="705" y="1621"/>
                  <a:pt x="816" y="1232"/>
                </a:cubicBezTo>
                <a:cubicBezTo>
                  <a:pt x="927" y="843"/>
                  <a:pt x="696" y="257"/>
                  <a:pt x="664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685800" y="2514600"/>
            <a:ext cx="7772400" cy="3049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09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956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04812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6728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10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458200" y="1676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52480" y="3581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752480" y="41148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52480" y="502920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267080" y="2895480"/>
            <a:ext cx="2565360" cy="1549440"/>
          </a:xfrm>
          <a:custGeom>
            <a:avLst/>
            <a:gdLst/>
            <a:ahLst/>
            <a:rect l="l" t="t" r="r" b="b"/>
            <a:pathLst>
              <a:path w="1616" h="976">
                <a:moveTo>
                  <a:pt x="1616" y="976"/>
                </a:moveTo>
                <a:cubicBezTo>
                  <a:pt x="1565" y="893"/>
                  <a:pt x="1581" y="643"/>
                  <a:pt x="1312" y="480"/>
                </a:cubicBezTo>
                <a:cubicBezTo>
                  <a:pt x="1043" y="317"/>
                  <a:pt x="273" y="10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55880" y="2882880"/>
            <a:ext cx="6195960" cy="2514600"/>
          </a:xfrm>
          <a:custGeom>
            <a:avLst/>
            <a:gdLst/>
            <a:ahLst/>
            <a:rect l="l" t="t" r="r" b="b"/>
            <a:pathLst>
              <a:path w="3903" h="1584">
                <a:moveTo>
                  <a:pt x="2936" y="1584"/>
                </a:moveTo>
                <a:cubicBezTo>
                  <a:pt x="3033" y="1469"/>
                  <a:pt x="3903" y="1107"/>
                  <a:pt x="3520" y="896"/>
                </a:cubicBezTo>
                <a:cubicBezTo>
                  <a:pt x="3137" y="685"/>
                  <a:pt x="1227" y="469"/>
                  <a:pt x="640" y="320"/>
                </a:cubicBezTo>
                <a:cubicBezTo>
                  <a:pt x="53" y="171"/>
                  <a:pt x="133" y="6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685800" y="2819520"/>
            <a:ext cx="777240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3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52480" y="3657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52480" y="4114800"/>
            <a:ext cx="739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752480" y="487692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51640" y="3111480"/>
            <a:ext cx="1511280" cy="1015920"/>
          </a:xfrm>
          <a:custGeom>
            <a:avLst/>
            <a:gdLst/>
            <a:ahLst/>
            <a:rect l="l" t="t" r="r" b="b"/>
            <a:pathLst>
              <a:path w="896" h="640">
                <a:moveTo>
                  <a:pt x="896" y="640"/>
                </a:moveTo>
                <a:cubicBezTo>
                  <a:pt x="852" y="584"/>
                  <a:pt x="789" y="411"/>
                  <a:pt x="640" y="304"/>
                </a:cubicBezTo>
                <a:cubicBezTo>
                  <a:pt x="491" y="197"/>
                  <a:pt x="133" y="63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55800" y="3137040"/>
            <a:ext cx="5473800" cy="2044440"/>
          </a:xfrm>
          <a:custGeom>
            <a:avLst/>
            <a:gdLst/>
            <a:ahLst/>
            <a:rect l="l" t="t" r="r" b="b"/>
            <a:pathLst>
              <a:path w="3421" h="1232">
                <a:moveTo>
                  <a:pt x="2888" y="1232"/>
                </a:moveTo>
                <a:cubicBezTo>
                  <a:pt x="2928" y="1109"/>
                  <a:pt x="3421" y="632"/>
                  <a:pt x="3128" y="488"/>
                </a:cubicBezTo>
                <a:cubicBezTo>
                  <a:pt x="2835" y="344"/>
                  <a:pt x="1649" y="449"/>
                  <a:pt x="1128" y="368"/>
                </a:cubicBezTo>
                <a:cubicBezTo>
                  <a:pt x="607" y="287"/>
                  <a:pt x="235" y="77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or-Precedence Par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143000"/>
            <a:ext cx="8001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two distinct nonterminals have the same hand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ru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45744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8006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8862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457440"/>
            <a:ext cx="533520" cy="2743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4343400"/>
            <a:ext cx="3200400" cy="4827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743200"/>
            <a:ext cx="4419720" cy="544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blan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cedence-t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9810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CFG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3434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257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99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150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2971800"/>
            <a:ext cx="5331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2971800"/>
            <a:ext cx="5335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971800"/>
            <a:ext cx="53316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971800"/>
            <a:ext cx="533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57440"/>
            <a:ext cx="3200400" cy="2743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434340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 of meaning of &lt;, =, &gt;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35053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50532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038480"/>
            <a:ext cx="10288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4956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449568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240" y="3276720"/>
            <a:ext cx="1981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4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264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7920" y="480060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00640" y="51814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541008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4680" y="5791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695720" y="5791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43800" y="57913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5943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76920" y="51814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1814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5257800"/>
            <a:ext cx="53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5867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410080" y="56386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181120" y="56386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502920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4100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629040" y="54100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400800" y="541008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685800" y="3098880"/>
            <a:ext cx="7772400" cy="266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4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0200" y="21337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33520" y="251460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002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25146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791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956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47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10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7339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791320" y="2514600"/>
            <a:ext cx="914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77120" y="2514600"/>
            <a:ext cx="121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67480" y="2514600"/>
            <a:ext cx="10670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2080" y="1066680"/>
            <a:ext cx="3975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543800" y="2133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16765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00200" y="167652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971800" y="1523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477120" y="15238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752480" y="36576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2480" y="4114800"/>
            <a:ext cx="73915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: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rule with lab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5410080"/>
            <a:ext cx="73915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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200" spc="-1" strike="noStrike">
                <a:solidFill>
                  <a:srgbClr val="66ccff"/>
                </a:solidFill>
                <a:latin typeface="Symbol"/>
                <a:ea typeface="Symbol"/>
              </a:rPr>
              <a:t>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= 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57600" y="3352680"/>
            <a:ext cx="5275440" cy="2438640"/>
          </a:xfrm>
          <a:custGeom>
            <a:avLst/>
            <a:gdLst/>
            <a:ahLst/>
            <a:rect l="l" t="t" r="r" b="b"/>
            <a:pathLst>
              <a:path w="3323" h="1536">
                <a:moveTo>
                  <a:pt x="2416" y="1536"/>
                </a:moveTo>
                <a:cubicBezTo>
                  <a:pt x="2532" y="1357"/>
                  <a:pt x="3323" y="656"/>
                  <a:pt x="3120" y="472"/>
                </a:cubicBezTo>
                <a:cubicBezTo>
                  <a:pt x="2917" y="288"/>
                  <a:pt x="1720" y="511"/>
                  <a:pt x="1200" y="432"/>
                </a:cubicBezTo>
                <a:cubicBezTo>
                  <a:pt x="680" y="353"/>
                  <a:pt x="250" y="90"/>
                  <a:pt x="0" y="0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257800" y="274320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133720" y="28195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2209680" y="3048120"/>
            <a:ext cx="3886200" cy="361800"/>
            <a:chOff x="2209680" y="3048120"/>
            <a:chExt cx="3886200" cy="361800"/>
          </a:xfrm>
        </p:grpSpPr>
        <p:sp>
          <p:nvSpPr>
            <p:cNvPr id="1386" name=""/>
            <p:cNvSpPr/>
            <p:nvPr/>
          </p:nvSpPr>
          <p:spPr>
            <a:xfrm>
              <a:off x="2209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4956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81480" y="3048120"/>
              <a:ext cx="914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2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971800" y="3048120"/>
            <a:ext cx="1066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641680" y="3365640"/>
            <a:ext cx="5742000" cy="1307880"/>
            <a:chOff x="2641680" y="3365640"/>
            <a:chExt cx="5742000" cy="1307880"/>
          </a:xfrm>
        </p:grpSpPr>
        <p:sp>
          <p:nvSpPr>
            <p:cNvPr id="1391" name=""/>
            <p:cNvSpPr/>
            <p:nvPr/>
          </p:nvSpPr>
          <p:spPr>
            <a:xfrm>
              <a:off x="5676840" y="3365640"/>
              <a:ext cx="2706840" cy="1307880"/>
            </a:xfrm>
            <a:custGeom>
              <a:avLst/>
              <a:gdLst/>
              <a:ahLst/>
              <a:rect l="l" t="t" r="r" b="b"/>
              <a:pathLst>
                <a:path w="1705" h="824">
                  <a:moveTo>
                    <a:pt x="640" y="824"/>
                  </a:moveTo>
                  <a:cubicBezTo>
                    <a:pt x="800" y="796"/>
                    <a:pt x="1511" y="752"/>
                    <a:pt x="1608" y="656"/>
                  </a:cubicBezTo>
                  <a:cubicBezTo>
                    <a:pt x="1705" y="560"/>
                    <a:pt x="1384" y="341"/>
                    <a:pt x="1224" y="248"/>
                  </a:cubicBezTo>
                  <a:cubicBezTo>
                    <a:pt x="1064" y="155"/>
                    <a:pt x="852" y="137"/>
                    <a:pt x="648" y="96"/>
                  </a:cubicBezTo>
                  <a:cubicBezTo>
                    <a:pt x="444" y="55"/>
                    <a:pt x="13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978440" y="3365640"/>
              <a:ext cx="1600200" cy="241200"/>
            </a:xfrm>
            <a:custGeom>
              <a:avLst/>
              <a:gdLst/>
              <a:ahLst/>
              <a:rect l="l" t="t" r="r" b="b"/>
              <a:pathLst>
                <a:path w="1008" h="152">
                  <a:moveTo>
                    <a:pt x="1008" y="96"/>
                  </a:moveTo>
                  <a:cubicBezTo>
                    <a:pt x="925" y="103"/>
                    <a:pt x="672" y="152"/>
                    <a:pt x="504" y="136"/>
                  </a:cubicBezTo>
                  <a:cubicBezTo>
                    <a:pt x="336" y="120"/>
                    <a:pt x="105" y="28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641680" y="3403440"/>
              <a:ext cx="3962160" cy="500400"/>
            </a:xfrm>
            <a:custGeom>
              <a:avLst/>
              <a:gdLst/>
              <a:ahLst/>
              <a:rect l="l" t="t" r="r" b="b"/>
              <a:pathLst>
                <a:path w="2496" h="315">
                  <a:moveTo>
                    <a:pt x="2496" y="64"/>
                  </a:moveTo>
                  <a:cubicBezTo>
                    <a:pt x="2257" y="104"/>
                    <a:pt x="1480" y="315"/>
                    <a:pt x="1064" y="304"/>
                  </a:cubicBezTo>
                  <a:cubicBezTo>
                    <a:pt x="648" y="293"/>
                    <a:pt x="222" y="63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752480" y="6172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Construction of LR-table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5/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243828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33520" y="2819520"/>
            <a:ext cx="1295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600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195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09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4956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4812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862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447920" y="2819520"/>
            <a:ext cx="91440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05740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86728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10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2819520"/>
            <a:ext cx="1143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733920" y="2819520"/>
            <a:ext cx="91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43400" y="2819520"/>
            <a:ext cx="121932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410080" y="2819520"/>
            <a:ext cx="6098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791320" y="2819520"/>
            <a:ext cx="914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77120" y="2819520"/>
            <a:ext cx="12189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2819520"/>
            <a:ext cx="10670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752480" y="2438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      *        (        )     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      T   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50520" y="1143000"/>
            <a:ext cx="388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ble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5530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380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458200" y="182880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600200" y="1828800"/>
            <a:ext cx="685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1752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4771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 th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71800" y="2133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7180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971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71800" y="25146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971800" y="60958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86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434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0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578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343400" y="2514600"/>
            <a:ext cx="5335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00600" y="2514600"/>
            <a:ext cx="5335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57800" y="2514600"/>
            <a:ext cx="6094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715000" y="2514600"/>
            <a:ext cx="6094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086600" y="2514600"/>
            <a:ext cx="304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543800" y="2514600"/>
            <a:ext cx="3049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001000" y="2514600"/>
            <a:ext cx="457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954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  *     (     )   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5530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530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4674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9246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8188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6553080" y="6095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655308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477120" y="2057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   T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530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8120" y="1371600"/>
            <a:ext cx="4419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137160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able for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expr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th the renamed st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6688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120" y="1143000"/>
            <a:ext cx="167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name the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2438280"/>
            <a:ext cx="12956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+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*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752480" y="2514600"/>
            <a:ext cx="5335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 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623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212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67652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l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gh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981080"/>
            <a:ext cx="86104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topmos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termi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able[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=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the pushdown &amp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 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e p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us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p string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place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blank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perator-Precedence Parser: Algorith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Operator-Precedence Parser: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981080"/>
            <a:ext cx="4038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ecedence-table for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228840"/>
            <a:ext cx="2286000" cy="27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8229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7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7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981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perator associativity and precedence rules underlie the precedence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267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15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29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86240" y="40384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91520" y="40384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1520" y="403848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2468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6957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410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486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800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00600" y="5257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181480" y="411480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114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1148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724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47242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800240" y="4724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274320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7432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3228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860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1432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46004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5057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55148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0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4320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41274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49900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31971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05320" y="36543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05320" y="4538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025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311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pu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-850320" y="4203000"/>
            <a:ext cx="365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ush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cs-CZ" sz="2200" spc="-1" strike="noStrike">
                <a:solidFill>
                  <a:srgbClr val="ff9933"/>
                </a:solidFill>
                <a:latin typeface="Times New Roman"/>
              </a:rPr>
              <a:t>down</a:t>
            </a: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 topmost to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5867280"/>
            <a:ext cx="18288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952520" y="6629400"/>
            <a:ext cx="83844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162920" y="6629400"/>
            <a:ext cx="838080" cy="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4191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532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15200" y="4038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95680" y="198108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ong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Operator-Precedence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arsing: 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879800"/>
            <a:ext cx="22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* 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228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58200" y="16765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16765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601992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19051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5791320"/>
            <a:ext cx="274320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4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05720" y="2057400"/>
            <a:ext cx="0" cy="3657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704960"/>
            <a:ext cx="2286000" cy="27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8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121932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704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1621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6193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765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5337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399096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7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0968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0968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0968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6035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9751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16732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71800" y="21304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3014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350208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220968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2971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3276720"/>
            <a:ext cx="510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3657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5320" y="4038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4800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5181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25760"/>
                <a:tab algn="l" pos="209556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1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2193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143000"/>
            <a:ext cx="84582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37339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819520"/>
            <a:ext cx="7467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…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re identifi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Precedence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opera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" y="4038480"/>
            <a:ext cx="7620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igher prece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27080" y="456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72000"/>
            <a:ext cx="380988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012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0120" y="5743440"/>
            <a:ext cx="76176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01000" y="525780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238880" y="57434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38880" y="6200640"/>
            <a:ext cx="38124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61689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01000" y="571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105520"/>
            <a:ext cx="6553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precedence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6035760"/>
            <a:ext cx="10447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*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 of Pre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ced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able 2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Associativi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2703600"/>
            <a:ext cx="762012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ight associ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538164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5867280"/>
            <a:ext cx="762120" cy="9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5381640"/>
            <a:ext cx="3812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5867280"/>
            <a:ext cx="3808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6324480"/>
            <a:ext cx="38088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9933"/>
                </a:solidFill>
                <a:latin typeface="Times New Roman"/>
              </a:rPr>
              <a:t>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5851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63086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1539720"/>
            <a:ext cx="777240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lef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right-associati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70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365760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g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4648320"/>
            <a:ext cx="3810240" cy="544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&lt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op</a:t>
            </a:r>
            <a:r>
              <a:rPr b="1" i="1" lang="cs-CZ" sz="26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610884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left-assoc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72200" y="6095880"/>
            <a:ext cx="1066680" cy="503280"/>
          </a:xfrm>
          <a:prstGeom prst="rightArrow">
            <a:avLst>
              <a:gd name="adj1" fmla="val 50000"/>
              <a:gd name="adj2" fmla="val 52986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2120" y="5257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81480"/>
            <a:ext cx="6781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Precedence-tab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derived fr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ssociativity of opera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4:00:41Z</dcterms:modified>
  <cp:revision>289</cp:revision>
  <dc:subject/>
  <dc:title>Bottom-Up Parsing</dc:title>
</cp:coreProperties>
</file>