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C411-B1F4-4B21-8FE5-A9B9BCA8A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E9FA-46BC-4CCF-8B05-B4C71B3DD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CDE3-AA88-40D3-AA5B-4E9063CC3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1C05-062E-48B1-AD99-2577E35F1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45E6-C4D0-4F7C-9645-662C69912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D4F2-E39A-4862-B719-B72158577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D1BA-DC61-4E66-B63E-6D72D48E0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09A1-BA3D-4C01-9A8B-2B03E7E7C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F5C6-E4BA-4586-9464-CED594DF9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9E35-E63F-4084-9DE1-172640D7B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24A4-9F57-4DA9-A5FD-B37CD9138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40C8-9A94-45B1-94C8-A2741914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619AA-0DA8-485D-BE93-0FD1156F58F7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III.</a:t>
            </a:r>
            <a:br>
              <a:rPr sz="6000"/>
            </a:b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Models for Regular Languag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85800" y="1295280"/>
            <a:ext cx="7772400" cy="2057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14400" y="1295280"/>
            <a:ext cx="7315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lumn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ember of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Row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tes o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irst row: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start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Underscored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inal st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981080" y="3581280"/>
            <a:ext cx="91440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895480" y="3581280"/>
            <a:ext cx="914400" cy="459720"/>
          </a:xfrm>
          <a:prstGeom prst="rect">
            <a:avLst/>
          </a:prstGeom>
          <a:solidFill>
            <a:srgbClr val="00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9880" y="3581280"/>
            <a:ext cx="91440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724280" y="3581280"/>
            <a:ext cx="91440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066680" y="4064040"/>
            <a:ext cx="9144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066680" y="5435640"/>
            <a:ext cx="9144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066680" y="4521240"/>
            <a:ext cx="9144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66680" y="4978440"/>
            <a:ext cx="914400" cy="459720"/>
          </a:xfrm>
          <a:prstGeom prst="rect">
            <a:avLst/>
          </a:prstGeom>
          <a:solidFill>
            <a:srgbClr val="00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066680" y="5892840"/>
            <a:ext cx="9144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895480" y="49784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352680" y="406404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81080" y="520704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333440" y="632448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895480" y="4064040"/>
            <a:ext cx="914400" cy="23112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981080" y="4978440"/>
            <a:ext cx="3657600" cy="482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81080" y="4064040"/>
            <a:ext cx="3657600" cy="2311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895480" y="4965840"/>
            <a:ext cx="914400" cy="459720"/>
          </a:xfrm>
          <a:prstGeom prst="rect">
            <a:avLst/>
          </a:prstGeom>
          <a:solidFill>
            <a:srgbClr val="00c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962520" y="5638680"/>
            <a:ext cx="4495680" cy="5814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3809520" y="5283000"/>
            <a:ext cx="1219320" cy="355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abular 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7238880" y="1905120"/>
            <a:ext cx="91440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762120" y="1905120"/>
            <a:ext cx="6476760" cy="1053720"/>
            <a:chOff x="762120" y="1905120"/>
            <a:chExt cx="6476760" cy="1053720"/>
          </a:xfrm>
        </p:grpSpPr>
        <p:sp>
          <p:nvSpPr>
            <p:cNvPr id="262" name=""/>
            <p:cNvSpPr/>
            <p:nvPr/>
          </p:nvSpPr>
          <p:spPr>
            <a:xfrm>
              <a:off x="4495680" y="190512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410080" y="190512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324480" y="190512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62120" y="2438280"/>
              <a:ext cx="259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 {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685800" y="1219320"/>
            <a:ext cx="3124080" cy="5181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38080" y="11430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15238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4495680" y="2390760"/>
            <a:ext cx="3657600" cy="1923480"/>
            <a:chOff x="4495680" y="2390760"/>
            <a:chExt cx="3657600" cy="1923480"/>
          </a:xfrm>
        </p:grpSpPr>
        <p:sp>
          <p:nvSpPr>
            <p:cNvPr id="270" name=""/>
            <p:cNvSpPr/>
            <p:nvPr/>
          </p:nvSpPr>
          <p:spPr>
            <a:xfrm>
              <a:off x="4495680" y="23986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410080" y="239724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324480" y="23907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238880" y="23986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495680" y="3854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410080" y="3854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324480" y="3854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238880" y="3854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495680" y="28828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410080" y="28828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324480" y="2884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238880" y="288144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495680" y="3368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410080" y="3370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324480" y="3368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238880" y="33670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abular Representat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762120" y="1981080"/>
            <a:ext cx="3733560" cy="2333160"/>
            <a:chOff x="762120" y="1981080"/>
            <a:chExt cx="3733560" cy="2333160"/>
          </a:xfrm>
        </p:grpSpPr>
        <p:sp>
          <p:nvSpPr>
            <p:cNvPr id="288" name=""/>
            <p:cNvSpPr/>
            <p:nvPr/>
          </p:nvSpPr>
          <p:spPr>
            <a:xfrm>
              <a:off x="3962520" y="2398680"/>
              <a:ext cx="53316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962520" y="3854520"/>
              <a:ext cx="53316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962520" y="2882880"/>
              <a:ext cx="53316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962520" y="3368520"/>
              <a:ext cx="53316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62120" y="198108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8120" y="1600200"/>
            <a:ext cx="106668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762120" y="2397240"/>
            <a:ext cx="4647960" cy="941040"/>
            <a:chOff x="762120" y="2397240"/>
            <a:chExt cx="4647960" cy="941040"/>
          </a:xfrm>
        </p:grpSpPr>
        <p:sp>
          <p:nvSpPr>
            <p:cNvPr id="295" name=""/>
            <p:cNvSpPr/>
            <p:nvPr/>
          </p:nvSpPr>
          <p:spPr>
            <a:xfrm>
              <a:off x="762120" y="2817720"/>
              <a:ext cx="259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495680" y="239724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1701720" y="2884320"/>
            <a:ext cx="4622760" cy="1217520"/>
            <a:chOff x="1701720" y="2884320"/>
            <a:chExt cx="4622760" cy="1217520"/>
          </a:xfrm>
        </p:grpSpPr>
        <p:sp>
          <p:nvSpPr>
            <p:cNvPr id="298" name=""/>
            <p:cNvSpPr/>
            <p:nvPr/>
          </p:nvSpPr>
          <p:spPr>
            <a:xfrm>
              <a:off x="1701720" y="358128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410080" y="2884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1663560" y="3852720"/>
            <a:ext cx="3746520" cy="2149200"/>
            <a:chOff x="1663560" y="3852720"/>
            <a:chExt cx="3746520" cy="2149200"/>
          </a:xfrm>
        </p:grpSpPr>
        <p:sp>
          <p:nvSpPr>
            <p:cNvPr id="301" name=""/>
            <p:cNvSpPr/>
            <p:nvPr/>
          </p:nvSpPr>
          <p:spPr>
            <a:xfrm>
              <a:off x="1663560" y="548136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495680" y="38527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1752480" y="2390760"/>
            <a:ext cx="6400800" cy="1330200"/>
            <a:chOff x="1752480" y="2390760"/>
            <a:chExt cx="6400800" cy="1330200"/>
          </a:xfrm>
        </p:grpSpPr>
        <p:sp>
          <p:nvSpPr>
            <p:cNvPr id="304" name=""/>
            <p:cNvSpPr/>
            <p:nvPr/>
          </p:nvSpPr>
          <p:spPr>
            <a:xfrm>
              <a:off x="1752480" y="32004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238880" y="23907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1701720" y="2884320"/>
            <a:ext cx="4622760" cy="1598760"/>
            <a:chOff x="1701720" y="2884320"/>
            <a:chExt cx="4622760" cy="1598760"/>
          </a:xfrm>
        </p:grpSpPr>
        <p:sp>
          <p:nvSpPr>
            <p:cNvPr id="307" name=""/>
            <p:cNvSpPr/>
            <p:nvPr/>
          </p:nvSpPr>
          <p:spPr>
            <a:xfrm>
              <a:off x="1701720" y="3962520"/>
              <a:ext cx="12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410080" y="2884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4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0" i="1" lang="cs-CZ" sz="2400" spc="-1" strike="noStrike">
                  <a:solidFill>
                    <a:srgbClr val="339966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1727280" y="3370320"/>
            <a:ext cx="5511600" cy="1849320"/>
            <a:chOff x="1727280" y="3370320"/>
            <a:chExt cx="5511600" cy="1849320"/>
          </a:xfrm>
        </p:grpSpPr>
        <p:sp>
          <p:nvSpPr>
            <p:cNvPr id="310" name=""/>
            <p:cNvSpPr/>
            <p:nvPr/>
          </p:nvSpPr>
          <p:spPr>
            <a:xfrm>
              <a:off x="1727280" y="469908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324480" y="3370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q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1727280" y="3370320"/>
            <a:ext cx="5511600" cy="2255760"/>
            <a:chOff x="1727280" y="3370320"/>
            <a:chExt cx="5511600" cy="2255760"/>
          </a:xfrm>
        </p:grpSpPr>
        <p:sp>
          <p:nvSpPr>
            <p:cNvPr id="313" name=""/>
            <p:cNvSpPr/>
            <p:nvPr/>
          </p:nvSpPr>
          <p:spPr>
            <a:xfrm>
              <a:off x="1727280" y="510552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324480" y="3370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q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1739880" y="2398680"/>
            <a:ext cx="6413400" cy="2476440"/>
            <a:chOff x="1739880" y="2398680"/>
            <a:chExt cx="6413400" cy="2476440"/>
          </a:xfrm>
        </p:grpSpPr>
        <p:sp>
          <p:nvSpPr>
            <p:cNvPr id="316" name=""/>
            <p:cNvSpPr/>
            <p:nvPr/>
          </p:nvSpPr>
          <p:spPr>
            <a:xfrm>
              <a:off x="1739880" y="435456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38880" y="23986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q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838080" y="4289400"/>
            <a:ext cx="3614760" cy="2098440"/>
            <a:chOff x="838080" y="4289400"/>
            <a:chExt cx="3614760" cy="2098440"/>
          </a:xfrm>
        </p:grpSpPr>
        <p:sp>
          <p:nvSpPr>
            <p:cNvPr id="319" name=""/>
            <p:cNvSpPr/>
            <p:nvPr/>
          </p:nvSpPr>
          <p:spPr>
            <a:xfrm>
              <a:off x="838080" y="5867280"/>
              <a:ext cx="17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 =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071960" y="4289400"/>
              <a:ext cx="3808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981080" y="2819520"/>
            <a:ext cx="3200400" cy="2057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3048120" y="5410080"/>
            <a:ext cx="4268160" cy="510120"/>
            <a:chOff x="3048120" y="5410080"/>
            <a:chExt cx="4268160" cy="510120"/>
          </a:xfrm>
        </p:grpSpPr>
        <p:grpSp>
          <p:nvGrpSpPr>
            <p:cNvPr id="324" name=""/>
            <p:cNvGrpSpPr/>
            <p:nvPr/>
          </p:nvGrpSpPr>
          <p:grpSpPr>
            <a:xfrm>
              <a:off x="5181480" y="5410080"/>
              <a:ext cx="534600" cy="510120"/>
              <a:chOff x="5181480" y="5410080"/>
              <a:chExt cx="534600" cy="510120"/>
            </a:xfrm>
          </p:grpSpPr>
          <p:sp>
            <p:nvSpPr>
              <p:cNvPr id="325" name=""/>
              <p:cNvSpPr/>
              <p:nvPr/>
            </p:nvSpPr>
            <p:spPr>
              <a:xfrm>
                <a:off x="5181480" y="5410080"/>
                <a:ext cx="53460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274360" y="5410080"/>
                <a:ext cx="381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6781680" y="5410080"/>
              <a:ext cx="534600" cy="510120"/>
              <a:chOff x="6781680" y="5410080"/>
              <a:chExt cx="534600" cy="510120"/>
            </a:xfrm>
          </p:grpSpPr>
          <p:sp>
            <p:nvSpPr>
              <p:cNvPr id="328" name=""/>
              <p:cNvSpPr/>
              <p:nvPr/>
            </p:nvSpPr>
            <p:spPr>
              <a:xfrm>
                <a:off x="6781680" y="5410080"/>
                <a:ext cx="53460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782760" y="5410080"/>
                <a:ext cx="531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5715000" y="5410080"/>
              <a:ext cx="1066320" cy="459720"/>
              <a:chOff x="5715000" y="5410080"/>
              <a:chExt cx="1066320" cy="459720"/>
            </a:xfrm>
          </p:grpSpPr>
          <p:sp>
            <p:nvSpPr>
              <p:cNvPr id="331" name=""/>
              <p:cNvSpPr/>
              <p:nvPr/>
            </p:nvSpPr>
            <p:spPr>
              <a:xfrm>
                <a:off x="5715000" y="5410080"/>
                <a:ext cx="106632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715000" y="5410080"/>
                <a:ext cx="1066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3048120" y="5410080"/>
              <a:ext cx="534600" cy="510120"/>
              <a:chOff x="3048120" y="5410080"/>
              <a:chExt cx="534600" cy="510120"/>
            </a:xfrm>
          </p:grpSpPr>
          <p:sp>
            <p:nvSpPr>
              <p:cNvPr id="334" name=""/>
              <p:cNvSpPr/>
              <p:nvPr/>
            </p:nvSpPr>
            <p:spPr>
              <a:xfrm>
                <a:off x="3048120" y="5410080"/>
                <a:ext cx="53460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560" y="541008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3579840" y="5410080"/>
              <a:ext cx="534600" cy="510120"/>
              <a:chOff x="3579840" y="5410080"/>
              <a:chExt cx="534600" cy="510120"/>
            </a:xfrm>
          </p:grpSpPr>
          <p:sp>
            <p:nvSpPr>
              <p:cNvPr id="337" name=""/>
              <p:cNvSpPr/>
              <p:nvPr/>
            </p:nvSpPr>
            <p:spPr>
              <a:xfrm>
                <a:off x="3579840" y="5410080"/>
                <a:ext cx="53460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581280" y="541008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4114800" y="5410080"/>
              <a:ext cx="1066320" cy="459720"/>
              <a:chOff x="4114800" y="5410080"/>
              <a:chExt cx="1066320" cy="459720"/>
            </a:xfrm>
          </p:grpSpPr>
          <p:sp>
            <p:nvSpPr>
              <p:cNvPr id="340" name=""/>
              <p:cNvSpPr/>
              <p:nvPr/>
            </p:nvSpPr>
            <p:spPr>
              <a:xfrm>
                <a:off x="4114800" y="5410080"/>
                <a:ext cx="106632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114800" y="5410080"/>
                <a:ext cx="1066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2" name=""/>
          <p:cNvSpPr/>
          <p:nvPr/>
        </p:nvSpPr>
        <p:spPr>
          <a:xfrm>
            <a:off x="5562720" y="495288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666880" y="5029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133720" y="39625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209680" y="3276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895480" y="2971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962520" y="31240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4956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3505320" y="3657240"/>
            <a:ext cx="609480" cy="7621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81080" y="44197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Sta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rot="900000">
            <a:off x="3504960" y="28954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rot="3600000">
            <a:off x="4365720" y="348156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4495680" y="2819520"/>
            <a:ext cx="2971800" cy="520560"/>
            <a:chOff x="4495680" y="2819520"/>
            <a:chExt cx="2971800" cy="520560"/>
          </a:xfrm>
        </p:grpSpPr>
        <p:sp>
          <p:nvSpPr>
            <p:cNvPr id="354" name=""/>
            <p:cNvSpPr/>
            <p:nvPr/>
          </p:nvSpPr>
          <p:spPr>
            <a:xfrm>
              <a:off x="5333760" y="2819520"/>
              <a:ext cx="2133720" cy="52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urrent st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4495680" y="3048120"/>
              <a:ext cx="83808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5486400" y="50292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657600" y="50292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657600" y="48769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523520" y="5867280"/>
            <a:ext cx="5791320" cy="749160"/>
            <a:chOff x="1523520" y="5867280"/>
            <a:chExt cx="5791320" cy="749160"/>
          </a:xfrm>
        </p:grpSpPr>
        <p:sp>
          <p:nvSpPr>
            <p:cNvPr id="360" name=""/>
            <p:cNvSpPr/>
            <p:nvPr/>
          </p:nvSpPr>
          <p:spPr>
            <a:xfrm>
              <a:off x="2362320" y="6095880"/>
              <a:ext cx="2971800" cy="5205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Configur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rot="5400000">
              <a:off x="6095520" y="4952520"/>
              <a:ext cx="304560" cy="213372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55440 h 2133720"/>
                <a:gd name="textAreaBottom" fmla="*/ 2078280 h 213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 flipV="1">
              <a:off x="1523520" y="6171480"/>
              <a:ext cx="83844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5334120" y="6171480"/>
              <a:ext cx="8380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85800" y="16002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" y="15238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a F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 configur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str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990720" y="3505320"/>
            <a:ext cx="5712480" cy="4876200"/>
            <a:chOff x="990720" y="3505320"/>
            <a:chExt cx="5712480" cy="4876200"/>
          </a:xfrm>
        </p:grpSpPr>
        <p:sp>
          <p:nvSpPr>
            <p:cNvPr id="369" name=""/>
            <p:cNvSpPr/>
            <p:nvPr/>
          </p:nvSpPr>
          <p:spPr>
            <a:xfrm>
              <a:off x="990720" y="5867640"/>
              <a:ext cx="533160" cy="523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1216800" y="3505320"/>
              <a:ext cx="5486040" cy="487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2724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272416"/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Instance description of F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85800" y="1600200"/>
            <a:ext cx="7772400" cy="2286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85800" y="1523880"/>
            <a:ext cx="77724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figurations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Let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be a rule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ccording to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 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or, simply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09480" y="4343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9480" y="38098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no input symbol is 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405440" y="5181480"/>
            <a:ext cx="209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Computational step of F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373040" y="4572000"/>
            <a:ext cx="245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figur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484520" y="4572000"/>
            <a:ext cx="2527560" cy="533520"/>
            <a:chOff x="4484520" y="4572000"/>
            <a:chExt cx="2527560" cy="533520"/>
          </a:xfrm>
        </p:grpSpPr>
        <p:sp>
          <p:nvSpPr>
            <p:cNvPr id="383" name=""/>
            <p:cNvSpPr/>
            <p:nvPr/>
          </p:nvSpPr>
          <p:spPr>
            <a:xfrm>
              <a:off x="5105520" y="464832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84520" y="4572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638680" y="464832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095880" y="4648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553080" y="4648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095880" y="49532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553080" y="49532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1374120" y="5181480"/>
            <a:ext cx="5636160" cy="1295280"/>
            <a:chOff x="1374120" y="5181480"/>
            <a:chExt cx="5636160" cy="1295280"/>
          </a:xfrm>
        </p:grpSpPr>
        <p:sp>
          <p:nvSpPr>
            <p:cNvPr id="391" name=""/>
            <p:cNvSpPr/>
            <p:nvPr/>
          </p:nvSpPr>
          <p:spPr>
            <a:xfrm>
              <a:off x="1374120" y="5867280"/>
              <a:ext cx="311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ew configuration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495680" y="59432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181480" y="5181480"/>
              <a:ext cx="1828800" cy="685800"/>
            </a:xfrm>
            <a:prstGeom prst="parallelogram">
              <a:avLst>
                <a:gd name="adj" fmla="val 6921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495680" y="5181480"/>
              <a:ext cx="1067040" cy="685800"/>
            </a:xfrm>
            <a:custGeom>
              <a:avLst/>
              <a:gdLst/>
              <a:ahLst/>
              <a:rect l="l" t="t" r="r" b="b"/>
              <a:pathLst>
                <a:path w="720" h="432">
                  <a:moveTo>
                    <a:pt x="0" y="0"/>
                  </a:moveTo>
                  <a:lnTo>
                    <a:pt x="720" y="0"/>
                  </a:lnTo>
                  <a:lnTo>
                    <a:pt x="384" y="432"/>
                  </a:lnTo>
                  <a:lnTo>
                    <a:pt x="0" y="432"/>
                  </a:lnTo>
                  <a:lnTo>
                    <a:pt x="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5409720" y="5257440"/>
              <a:ext cx="38124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6324120" y="5257440"/>
              <a:ext cx="38124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724280" y="5333760"/>
              <a:ext cx="38124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791320" y="525744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105520" y="594324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562720" y="594324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19920" y="594324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562720" y="624816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019920" y="624816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685800" y="16765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configuration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ero mov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symbols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simply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85800" y="3352680"/>
            <a:ext cx="7772400" cy="3124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85800" y="3276720"/>
            <a:ext cx="784872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...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sequence of configurations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an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for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, ..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that i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600200" y="4724280"/>
            <a:ext cx="6324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…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5334120"/>
            <a:ext cx="7696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mov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85800" y="579132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or, simply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Move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33520" y="10666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Several consecutive computational st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85800" y="3276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685800" y="1295280"/>
            <a:ext cx="7772400" cy="2286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85800" y="1219320"/>
            <a:ext cx="7848720" cy="25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th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, th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85800" y="3733920"/>
            <a:ext cx="7848720" cy="25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nsi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 and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9966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9966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.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9966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9966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9966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Move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685800" y="2590920"/>
            <a:ext cx="7772400" cy="19810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85800" y="2514600"/>
            <a:ext cx="784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anguage accepted b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fined a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ccepted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85800" y="4648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06960" y="4647240"/>
            <a:ext cx="33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622440" y="5710680"/>
            <a:ext cx="6684480" cy="1148400"/>
            <a:chOff x="622440" y="5710680"/>
            <a:chExt cx="6684480" cy="1148400"/>
          </a:xfrm>
        </p:grpSpPr>
        <p:sp>
          <p:nvSpPr>
            <p:cNvPr id="427" name=""/>
            <p:cNvSpPr/>
            <p:nvPr/>
          </p:nvSpPr>
          <p:spPr>
            <a:xfrm>
              <a:off x="622440" y="5710680"/>
              <a:ext cx="6684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0" i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-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449360" y="62776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 rot="16200000">
              <a:off x="1562040" y="5630040"/>
              <a:ext cx="152280" cy="1447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" name=""/>
          <p:cNvSpPr/>
          <p:nvPr/>
        </p:nvSpPr>
        <p:spPr>
          <a:xfrm flipH="1">
            <a:off x="837720" y="5181480"/>
            <a:ext cx="221004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 flipV="1">
            <a:off x="3504960" y="5181120"/>
            <a:ext cx="342900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762440" y="4713480"/>
            <a:ext cx="3675240" cy="1006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w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wise, 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w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600200" y="1066680"/>
            <a:ext cx="693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accept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if it can completely rea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by a sequence of moves from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to a final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1219320" y="2514600"/>
            <a:ext cx="6019560" cy="2590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67652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895480" y="5715000"/>
            <a:ext cx="5320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429000" y="5715000"/>
            <a:ext cx="5317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27672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143000" y="5715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75248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 flipV="1">
            <a:off x="2209320" y="4495680"/>
            <a:ext cx="68580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523880" y="28954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inite State Contro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200400" y="53341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2895120" y="53341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895480" y="51055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 rot="16200000">
            <a:off x="2780280" y="3848040"/>
            <a:ext cx="228600" cy="121932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4290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743200" y="3962520"/>
            <a:ext cx="38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V="1" rot="16200000">
            <a:off x="2781000" y="3085200"/>
            <a:ext cx="228600" cy="137160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743200" y="32004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371600" y="41148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5800" y="11430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800600" y="3809880"/>
            <a:ext cx="1981080" cy="5814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819520" y="24382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Automaton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5800" y="15238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, qb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85800" y="19810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029200" y="57150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: Example 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191120" y="32004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Configu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1219320" y="2514600"/>
            <a:ext cx="6019560" cy="2590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67652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895480" y="5715000"/>
            <a:ext cx="532080" cy="52056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429000" y="5715000"/>
            <a:ext cx="5317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73392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143000" y="5715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75248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2895480" y="4495680"/>
            <a:ext cx="68580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447920" y="289548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inite State Contro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657600" y="53341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2895120" y="53341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895480" y="51055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H="1" rot="16200000">
            <a:off x="2780280" y="3848040"/>
            <a:ext cx="228600" cy="121932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4290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666880" y="3124080"/>
            <a:ext cx="38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 rot="16200000">
            <a:off x="2781000" y="3085200"/>
            <a:ext cx="228600" cy="137160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743200" y="40384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71600" y="41148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85800" y="11430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800600" y="3809880"/>
            <a:ext cx="1981080" cy="5814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819520" y="24382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Automaton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85800" y="15238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, qb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029200" y="57150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: Example 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191120" y="32004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Configu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85800" y="19810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1219320" y="2514600"/>
            <a:ext cx="6019560" cy="2590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67652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895480" y="5715000"/>
            <a:ext cx="532080" cy="52056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429000" y="5715000"/>
            <a:ext cx="531720" cy="52056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143000" y="5715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75248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flipV="1">
            <a:off x="2209320" y="4495680"/>
            <a:ext cx="68580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523880" y="28954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inite State Contro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16200000">
            <a:off x="2780280" y="3848040"/>
            <a:ext cx="228600" cy="121932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4290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743200" y="40384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 rot="16200000">
            <a:off x="2781000" y="3085200"/>
            <a:ext cx="228600" cy="137160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743200" y="32004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371600" y="41148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85800" y="11430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191120" y="32004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Configu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800600" y="3809880"/>
            <a:ext cx="1981080" cy="5814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819520" y="24382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Automaton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85800" y="15238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, qb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11480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038480" y="53341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2895120" y="53341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895480" y="51055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638680" y="4343400"/>
            <a:ext cx="2819520" cy="13737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Y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, because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029200" y="57150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: Example 3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85800" y="19810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Regular Expressions 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(RE): Defin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438280"/>
            <a:ext cx="7772400" cy="4267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3880" y="1066680"/>
            <a:ext cx="685800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Expressions with operators ., +, and *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that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denote concatenation, union, and iteration, respectively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362320"/>
            <a:ext cx="792468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Definit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on: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be an alphabet. The </a:t>
            </a:r>
            <a:r>
              <a:rPr b="1" i="1" lang="en-GB" sz="2900" spc="-1" strike="noStrike">
                <a:solidFill>
                  <a:srgbClr val="000000"/>
                </a:solidFill>
                <a:latin typeface="Times New Roman"/>
              </a:rPr>
              <a:t>regular</a:t>
            </a:r>
            <a:r>
              <a:rPr b="1" i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900" spc="-1" strike="noStrike">
                <a:solidFill>
                  <a:srgbClr val="000000"/>
                </a:solidFill>
                <a:latin typeface="Times New Roman"/>
              </a:rPr>
              <a:t>expressions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over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and the </a:t>
            </a:r>
            <a:r>
              <a:rPr b="1" i="1" lang="en-GB" sz="2900" spc="-1" strike="noStrike">
                <a:solidFill>
                  <a:srgbClr val="000000"/>
                </a:solidFill>
                <a:latin typeface="Times New Roman"/>
              </a:rPr>
              <a:t>languages they denot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are defined as follows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RE denoting the empty 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RE denoting 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s a RE denoting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gular expressions denoting th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anguag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espectively;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is a RE denoting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is a RE denoting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is a RE denoting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09480" y="4461120"/>
            <a:ext cx="6324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quivalent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600200" y="3809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quivalent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11430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wo models for languages, such as FAs, are equivalent if they both specify the same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09480" y="26668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219320" y="3124080"/>
            <a:ext cx="914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00600" y="3124080"/>
            <a:ext cx="914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rot="5400000">
            <a:off x="2662560" y="3645000"/>
            <a:ext cx="38052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696265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696265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590920" y="3200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981080" y="35053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057400" y="35812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486400" y="35053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562720" y="35812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781680" y="35053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858000" y="35812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105520" y="3809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095880" y="3048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324480" y="358128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166440" y="3581280"/>
            <a:ext cx="61488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rot="10800000">
            <a:off x="6172200" y="3657600"/>
            <a:ext cx="61488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85800" y="5208480"/>
            <a:ext cx="7772400" cy="1203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swer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e equival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c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609480" y="2057400"/>
            <a:ext cx="85345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the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09480" y="3276720"/>
            <a:ext cx="83059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the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 F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9480" y="5029200"/>
            <a:ext cx="8534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the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 FA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ff9933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562720" y="60199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867280" y="54864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09480" y="2708640"/>
            <a:ext cx="3829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8580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09480" y="4156560"/>
            <a:ext cx="3829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85800" y="4800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029200" y="2743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648320" y="30481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029200" y="5715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648320" y="60199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56386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705720" y="57150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09480" y="5680440"/>
            <a:ext cx="3829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 baseline="-25000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44197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867280" y="38862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029200" y="4114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629400" y="40384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705720" y="41148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648320" y="44197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Conversion of RE to FA: Basics 1/5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600200" y="1066680"/>
            <a:ext cx="69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lgorithm that converts any RE to an equivalent FA (lex in UNIX)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9" name=""/>
          <p:cNvGrpSpPr/>
          <p:nvPr/>
        </p:nvGrpSpPr>
        <p:grpSpPr>
          <a:xfrm>
            <a:off x="914400" y="4722120"/>
            <a:ext cx="7391520" cy="1907280"/>
            <a:chOff x="914400" y="4722120"/>
            <a:chExt cx="7391520" cy="1907280"/>
          </a:xfrm>
        </p:grpSpPr>
        <p:sp>
          <p:nvSpPr>
            <p:cNvPr id="570" name=""/>
            <p:cNvSpPr/>
            <p:nvPr/>
          </p:nvSpPr>
          <p:spPr>
            <a:xfrm>
              <a:off x="914400" y="4724280"/>
              <a:ext cx="7391520" cy="190512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990720" y="4722120"/>
              <a:ext cx="1218960" cy="6019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.t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Concatenation 2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09480" y="1066680"/>
            <a:ext cx="8153640" cy="23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over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over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 for the 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ere exists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r.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85800" y="3022560"/>
            <a:ext cx="39625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718920" y="4003920"/>
            <a:ext cx="7282080" cy="2472840"/>
            <a:chOff x="718920" y="4003920"/>
            <a:chExt cx="7282080" cy="2472840"/>
          </a:xfrm>
        </p:grpSpPr>
        <p:sp>
          <p:nvSpPr>
            <p:cNvPr id="577" name=""/>
            <p:cNvSpPr/>
            <p:nvPr/>
          </p:nvSpPr>
          <p:spPr>
            <a:xfrm>
              <a:off x="718920" y="4003920"/>
              <a:ext cx="4381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.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= (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219320" y="5333760"/>
              <a:ext cx="2895480" cy="11430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295280" y="601956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105520" y="5333760"/>
              <a:ext cx="2895480" cy="11430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181480" y="601956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3048120" y="6171840"/>
              <a:ext cx="30456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048120" y="5714640"/>
              <a:ext cx="3045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971800" y="601956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1629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6934320" y="6171840"/>
              <a:ext cx="30456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352680" y="5714640"/>
              <a:ext cx="5335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934320" y="5714640"/>
              <a:ext cx="3045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858000" y="601956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238880" y="5714640"/>
              <a:ext cx="5335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2362320" y="5790960"/>
              <a:ext cx="30456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286000" y="617184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362320" y="601956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515320" y="571392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446920" y="5227200"/>
              <a:ext cx="695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6765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6248520" y="5790960"/>
              <a:ext cx="30456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172200" y="617184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248520" y="601956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401520" y="571392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343920" y="5227200"/>
              <a:ext cx="672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5627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4" name=""/>
          <p:cNvGrpSpPr/>
          <p:nvPr/>
        </p:nvGrpSpPr>
        <p:grpSpPr>
          <a:xfrm>
            <a:off x="1295280" y="5638680"/>
            <a:ext cx="6553440" cy="685800"/>
            <a:chOff x="1295280" y="5638680"/>
            <a:chExt cx="6553440" cy="685800"/>
          </a:xfrm>
        </p:grpSpPr>
        <p:sp>
          <p:nvSpPr>
            <p:cNvPr id="605" name=""/>
            <p:cNvSpPr/>
            <p:nvPr/>
          </p:nvSpPr>
          <p:spPr>
            <a:xfrm>
              <a:off x="1295280" y="5790960"/>
              <a:ext cx="362160" cy="3808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162400" y="5829120"/>
              <a:ext cx="381240" cy="3049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2767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1629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990720" y="4003920"/>
            <a:ext cx="6635880" cy="2015640"/>
            <a:chOff x="990720" y="4003920"/>
            <a:chExt cx="6635880" cy="2015640"/>
          </a:xfrm>
        </p:grpSpPr>
        <p:sp>
          <p:nvSpPr>
            <p:cNvPr id="610" name=""/>
            <p:cNvSpPr/>
            <p:nvPr/>
          </p:nvSpPr>
          <p:spPr>
            <a:xfrm>
              <a:off x="7093800" y="4003920"/>
              <a:ext cx="5328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990720" y="6019560"/>
              <a:ext cx="6858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3962520" y="4003920"/>
            <a:ext cx="3145320" cy="2048040"/>
            <a:chOff x="3962520" y="4003920"/>
            <a:chExt cx="3145320" cy="2048040"/>
          </a:xfrm>
        </p:grpSpPr>
        <p:sp>
          <p:nvSpPr>
            <p:cNvPr id="613" name=""/>
            <p:cNvSpPr/>
            <p:nvPr/>
          </p:nvSpPr>
          <p:spPr>
            <a:xfrm>
              <a:off x="5088960" y="4003920"/>
              <a:ext cx="20188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962520" y="6019560"/>
              <a:ext cx="1600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422960" y="540936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7238880" y="4003920"/>
            <a:ext cx="1209960" cy="2244240"/>
            <a:chOff x="7238880" y="4003920"/>
            <a:chExt cx="1209960" cy="2244240"/>
          </a:xfrm>
        </p:grpSpPr>
        <p:sp>
          <p:nvSpPr>
            <p:cNvPr id="617" name=""/>
            <p:cNvSpPr/>
            <p:nvPr/>
          </p:nvSpPr>
          <p:spPr>
            <a:xfrm>
              <a:off x="7563960" y="4003920"/>
              <a:ext cx="8848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238880" y="5714640"/>
              <a:ext cx="53352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85800" y="36576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tru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1" name=""/>
          <p:cNvGrpSpPr/>
          <p:nvPr/>
        </p:nvGrpSpPr>
        <p:grpSpPr>
          <a:xfrm>
            <a:off x="1609560" y="4766040"/>
            <a:ext cx="6095880" cy="1953360"/>
            <a:chOff x="1609560" y="4766040"/>
            <a:chExt cx="6095880" cy="1953360"/>
          </a:xfrm>
        </p:grpSpPr>
        <p:sp>
          <p:nvSpPr>
            <p:cNvPr id="622" name=""/>
            <p:cNvSpPr/>
            <p:nvPr/>
          </p:nvSpPr>
          <p:spPr>
            <a:xfrm>
              <a:off x="1609560" y="4814640"/>
              <a:ext cx="6095880" cy="190476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621440" y="4766040"/>
              <a:ext cx="968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+t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4" name=""/>
          <p:cNvSpPr/>
          <p:nvPr/>
        </p:nvSpPr>
        <p:spPr>
          <a:xfrm>
            <a:off x="609480" y="1066680"/>
            <a:ext cx="8153640" cy="23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over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RE over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 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ere exists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r+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85800" y="3022560"/>
            <a:ext cx="84582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1685880" y="4204080"/>
            <a:ext cx="4481280" cy="1524960"/>
            <a:chOff x="1685880" y="4204080"/>
            <a:chExt cx="4481280" cy="1524960"/>
          </a:xfrm>
        </p:grpSpPr>
        <p:sp>
          <p:nvSpPr>
            <p:cNvPr id="628" name=""/>
            <p:cNvSpPr/>
            <p:nvPr/>
          </p:nvSpPr>
          <p:spPr>
            <a:xfrm>
              <a:off x="5725800" y="4204080"/>
              <a:ext cx="441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685880" y="5729040"/>
              <a:ext cx="457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738000" y="3789720"/>
            <a:ext cx="6738840" cy="2839680"/>
            <a:chOff x="738000" y="3789720"/>
            <a:chExt cx="6738840" cy="2839680"/>
          </a:xfrm>
        </p:grpSpPr>
        <p:sp>
          <p:nvSpPr>
            <p:cNvPr id="631" name=""/>
            <p:cNvSpPr/>
            <p:nvPr/>
          </p:nvSpPr>
          <p:spPr>
            <a:xfrm>
              <a:off x="738000" y="3789720"/>
              <a:ext cx="5869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+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= (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265200" y="4876920"/>
              <a:ext cx="312444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648040" y="4967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633480" y="535320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265200" y="5791320"/>
              <a:ext cx="312444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638520" y="626292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V="1">
              <a:off x="5398920" y="548640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398920" y="502920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322600" y="53341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648040" y="5881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>
              <a:off x="5398920" y="640080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724360" y="5043600"/>
              <a:ext cx="5335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398920" y="594360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322600" y="62485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724360" y="5958000"/>
              <a:ext cx="5335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4713120" y="510552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636800" y="548640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713120" y="53341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866480" y="502848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292200" y="4787280"/>
              <a:ext cx="6591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027320" y="49532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V="1">
              <a:off x="4713120" y="601992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636800" y="640080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713120" y="62485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866480" y="594288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301920" y="5701680"/>
              <a:ext cx="63792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027320" y="58676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143080" y="54244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791040" y="54244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3551400" y="4967280"/>
            <a:ext cx="2782800" cy="1600200"/>
            <a:chOff x="3551400" y="4967280"/>
            <a:chExt cx="2782800" cy="1600200"/>
          </a:xfrm>
        </p:grpSpPr>
        <p:sp>
          <p:nvSpPr>
            <p:cNvPr id="661" name=""/>
            <p:cNvSpPr/>
            <p:nvPr/>
          </p:nvSpPr>
          <p:spPr>
            <a:xfrm>
              <a:off x="3567240" y="5345280"/>
              <a:ext cx="457200" cy="0"/>
            </a:xfrm>
            <a:prstGeom prst="line">
              <a:avLst/>
            </a:prstGeom>
            <a:ln w="76320">
              <a:solidFill>
                <a:srgbClr val="cc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551400" y="6264360"/>
              <a:ext cx="476280" cy="0"/>
            </a:xfrm>
            <a:prstGeom prst="line">
              <a:avLst/>
            </a:prstGeom>
            <a:ln w="76320">
              <a:solidFill>
                <a:srgbClr val="cc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648400" y="4967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648400" y="5881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6034320" y="4170600"/>
            <a:ext cx="1366560" cy="1863360"/>
            <a:chOff x="6034320" y="4170600"/>
            <a:chExt cx="1366560" cy="1863360"/>
          </a:xfrm>
        </p:grpSpPr>
        <p:sp>
          <p:nvSpPr>
            <p:cNvPr id="666" name=""/>
            <p:cNvSpPr/>
            <p:nvPr/>
          </p:nvSpPr>
          <p:spPr>
            <a:xfrm>
              <a:off x="6034320" y="4170600"/>
              <a:ext cx="878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867360" y="5500440"/>
              <a:ext cx="53352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2747160" y="3789720"/>
            <a:ext cx="5583960" cy="2013480"/>
            <a:chOff x="2747160" y="3789720"/>
            <a:chExt cx="5583960" cy="2013480"/>
          </a:xfrm>
        </p:grpSpPr>
        <p:sp>
          <p:nvSpPr>
            <p:cNvPr id="669" name=""/>
            <p:cNvSpPr/>
            <p:nvPr/>
          </p:nvSpPr>
          <p:spPr>
            <a:xfrm>
              <a:off x="6527160" y="3789720"/>
              <a:ext cx="1803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rot="16200000">
              <a:off x="3723480" y="4373640"/>
              <a:ext cx="453240" cy="2405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104" y="79"/>
                  </a:moveTo>
                  <a:arcTo wR="10800" hR="10800" stAng="-4983816" swAng="526288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104" y="79"/>
                  </a:moveTo>
                  <a:arcTo wR="10800" hR="10800" stAng="-4983816" swAng="5262887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756160" y="489024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1959480" y="4170600"/>
            <a:ext cx="3134160" cy="2100240"/>
            <a:chOff x="1959480" y="4170600"/>
            <a:chExt cx="3134160" cy="2100240"/>
          </a:xfrm>
        </p:grpSpPr>
        <p:sp>
          <p:nvSpPr>
            <p:cNvPr id="673" name=""/>
            <p:cNvSpPr/>
            <p:nvPr/>
          </p:nvSpPr>
          <p:spPr>
            <a:xfrm>
              <a:off x="1959480" y="4170600"/>
              <a:ext cx="1157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V="1" rot="5400000">
              <a:off x="3660840" y="4837680"/>
              <a:ext cx="453240" cy="241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104" y="79"/>
                  </a:moveTo>
                  <a:arcTo wR="10800" hR="10800" stAng="-4983816" swAng="5394333"/>
                  <a:lnTo>
                    <a:pt x="10800" y="10800"/>
                  </a:lnTo>
                  <a:close/>
                </a:path>
                <a:path fill="none" w="21600" h="21600">
                  <a:moveTo>
                    <a:pt x="12104" y="79"/>
                  </a:moveTo>
                  <a:arcTo wR="10800" hR="10800" stAng="-4983816" swAng="5394333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756160" y="557604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4321080" y="4170600"/>
            <a:ext cx="2693880" cy="2276640"/>
            <a:chOff x="4321080" y="4170600"/>
            <a:chExt cx="2693880" cy="2276640"/>
          </a:xfrm>
        </p:grpSpPr>
        <p:sp>
          <p:nvSpPr>
            <p:cNvPr id="677" name=""/>
            <p:cNvSpPr/>
            <p:nvPr/>
          </p:nvSpPr>
          <p:spPr>
            <a:xfrm>
              <a:off x="4321080" y="4170600"/>
              <a:ext cx="13636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V="1">
              <a:off x="6292440" y="5984640"/>
              <a:ext cx="722520" cy="36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55" y="5747"/>
                  </a:moveTo>
                  <a:arcTo wR="10800" hR="10800" stAng="-9126164" swAng="102201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55" y="5747"/>
                  </a:moveTo>
                  <a:arcTo wR="10800" hR="10800" stAng="-9126164" swAng="10220177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414120" y="580464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0" name=""/>
          <p:cNvGrpSpPr/>
          <p:nvPr/>
        </p:nvGrpSpPr>
        <p:grpSpPr>
          <a:xfrm>
            <a:off x="3179880" y="4170600"/>
            <a:ext cx="3835080" cy="1387440"/>
            <a:chOff x="3179880" y="4170600"/>
            <a:chExt cx="3835080" cy="1387440"/>
          </a:xfrm>
        </p:grpSpPr>
        <p:sp>
          <p:nvSpPr>
            <p:cNvPr id="681" name=""/>
            <p:cNvSpPr/>
            <p:nvPr/>
          </p:nvSpPr>
          <p:spPr>
            <a:xfrm>
              <a:off x="3179880" y="4170600"/>
              <a:ext cx="1092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292440" y="5195520"/>
              <a:ext cx="722520" cy="36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55" y="5747"/>
                  </a:moveTo>
                  <a:arcTo wR="10800" hR="10800" stAng="-9126164" swAng="102201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55" y="5747"/>
                  </a:moveTo>
                  <a:arcTo wR="10800" hR="10800" stAng="-9126164" swAng="10220177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490080" y="466164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Union 3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85800" y="35053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tru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7" name=""/>
          <p:cNvGrpSpPr/>
          <p:nvPr/>
        </p:nvGrpSpPr>
        <p:grpSpPr>
          <a:xfrm>
            <a:off x="914400" y="4689720"/>
            <a:ext cx="7391520" cy="1939680"/>
            <a:chOff x="914400" y="4689720"/>
            <a:chExt cx="7391520" cy="1939680"/>
          </a:xfrm>
        </p:grpSpPr>
        <p:sp>
          <p:nvSpPr>
            <p:cNvPr id="688" name=""/>
            <p:cNvSpPr/>
            <p:nvPr/>
          </p:nvSpPr>
          <p:spPr>
            <a:xfrm>
              <a:off x="914400" y="4724280"/>
              <a:ext cx="7391520" cy="190512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066680" y="4689720"/>
              <a:ext cx="1219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*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609480" y="1143000"/>
            <a:ext cx="8153640" cy="15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over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he 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ere exists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85800" y="2413080"/>
            <a:ext cx="59436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711720" y="3318120"/>
            <a:ext cx="7060680" cy="2701800"/>
            <a:chOff x="711720" y="3318120"/>
            <a:chExt cx="7060680" cy="2701800"/>
          </a:xfrm>
        </p:grpSpPr>
        <p:sp>
          <p:nvSpPr>
            <p:cNvPr id="694" name=""/>
            <p:cNvSpPr/>
            <p:nvPr/>
          </p:nvSpPr>
          <p:spPr>
            <a:xfrm>
              <a:off x="711720" y="3318120"/>
              <a:ext cx="40816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*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= (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,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5" name=""/>
            <p:cNvGrpSpPr/>
            <p:nvPr/>
          </p:nvGrpSpPr>
          <p:grpSpPr>
            <a:xfrm>
              <a:off x="3352680" y="4770360"/>
              <a:ext cx="2895840" cy="1249560"/>
              <a:chOff x="3352680" y="4770360"/>
              <a:chExt cx="2895840" cy="1249560"/>
            </a:xfrm>
          </p:grpSpPr>
          <p:sp>
            <p:nvSpPr>
              <p:cNvPr id="696" name=""/>
              <p:cNvSpPr/>
              <p:nvPr/>
            </p:nvSpPr>
            <p:spPr>
              <a:xfrm>
                <a:off x="3352680" y="4876920"/>
                <a:ext cx="2895840" cy="11430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410080" y="5181480"/>
                <a:ext cx="685800" cy="68580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3429000" y="556272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V="1">
                <a:off x="5181480" y="5715000"/>
                <a:ext cx="304920" cy="76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181480" y="5257800"/>
                <a:ext cx="30492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105520" y="5562720"/>
                <a:ext cx="30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486400" y="5257800"/>
                <a:ext cx="533520" cy="5335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V="1">
                <a:off x="4495680" y="5333760"/>
                <a:ext cx="304920" cy="75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4419720" y="5715000"/>
                <a:ext cx="30456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4495680" y="5562720"/>
                <a:ext cx="304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4649040" y="5257080"/>
                <a:ext cx="487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32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4580640" y="4770360"/>
                <a:ext cx="6955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r>
                  <a:rPr b="1" i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3809880" y="5181480"/>
                <a:ext cx="685800" cy="68580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9" name=""/>
            <p:cNvSpPr/>
            <p:nvPr/>
          </p:nvSpPr>
          <p:spPr>
            <a:xfrm>
              <a:off x="2133720" y="51814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086600" y="51814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4725720" y="3809160"/>
            <a:ext cx="2970360" cy="1982160"/>
            <a:chOff x="4725720" y="3809160"/>
            <a:chExt cx="2970360" cy="1982160"/>
          </a:xfrm>
        </p:grpSpPr>
        <p:sp>
          <p:nvSpPr>
            <p:cNvPr id="712" name=""/>
            <p:cNvSpPr/>
            <p:nvPr/>
          </p:nvSpPr>
          <p:spPr>
            <a:xfrm>
              <a:off x="4725720" y="3809160"/>
              <a:ext cx="819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162920" y="5257800"/>
              <a:ext cx="53316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6095880" y="3318120"/>
            <a:ext cx="1519200" cy="2200680"/>
            <a:chOff x="6095880" y="3318120"/>
            <a:chExt cx="1519200" cy="2200680"/>
          </a:xfrm>
        </p:grpSpPr>
        <p:sp>
          <p:nvSpPr>
            <p:cNvPr id="715" name=""/>
            <p:cNvSpPr/>
            <p:nvPr/>
          </p:nvSpPr>
          <p:spPr>
            <a:xfrm>
              <a:off x="6404400" y="487620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095880" y="5486400"/>
              <a:ext cx="990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522840" y="3318120"/>
              <a:ext cx="1092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8" name=""/>
          <p:cNvGrpSpPr/>
          <p:nvPr/>
        </p:nvGrpSpPr>
        <p:grpSpPr>
          <a:xfrm>
            <a:off x="1880640" y="3775320"/>
            <a:ext cx="3911040" cy="2657880"/>
            <a:chOff x="1880640" y="3775320"/>
            <a:chExt cx="3911040" cy="2657880"/>
          </a:xfrm>
        </p:grpSpPr>
        <p:sp>
          <p:nvSpPr>
            <p:cNvPr id="719" name=""/>
            <p:cNvSpPr/>
            <p:nvPr/>
          </p:nvSpPr>
          <p:spPr>
            <a:xfrm flipV="1">
              <a:off x="4103280" y="5257440"/>
              <a:ext cx="1688400" cy="106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1" y="8998"/>
                  </a:moveTo>
                  <a:arcTo wR="10800" hR="10800" stAng="-10223775" swAng="9542303"/>
                  <a:lnTo>
                    <a:pt x="10800" y="10800"/>
                  </a:lnTo>
                  <a:close/>
                </a:path>
                <a:path fill="none" w="21600" h="21600">
                  <a:moveTo>
                    <a:pt x="151" y="8998"/>
                  </a:moveTo>
                  <a:arcTo wR="10800" hR="10800" stAng="-10223775" swAng="9542303"/>
                </a:path>
              </a:pathLst>
            </a:custGeom>
            <a:noFill/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804200" y="579060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880640" y="3775320"/>
              <a:ext cx="1229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"/>
          <p:cNvGrpSpPr/>
          <p:nvPr/>
        </p:nvGrpSpPr>
        <p:grpSpPr>
          <a:xfrm>
            <a:off x="2467800" y="3775320"/>
            <a:ext cx="4804560" cy="2701080"/>
            <a:chOff x="2467800" y="3775320"/>
            <a:chExt cx="4804560" cy="2701080"/>
          </a:xfrm>
        </p:grpSpPr>
        <p:sp>
          <p:nvSpPr>
            <p:cNvPr id="723" name=""/>
            <p:cNvSpPr/>
            <p:nvPr/>
          </p:nvSpPr>
          <p:spPr>
            <a:xfrm flipH="1" flipV="1">
              <a:off x="2467800" y="4952160"/>
              <a:ext cx="4804560" cy="152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7" y="9435"/>
                  </a:moveTo>
                  <a:arcTo wR="10800" hR="10800" stAng="-10364475" swAng="9683003"/>
                  <a:lnTo>
                    <a:pt x="10800" y="10800"/>
                  </a:lnTo>
                  <a:close/>
                </a:path>
                <a:path fill="none" w="21600" h="21600">
                  <a:moveTo>
                    <a:pt x="87" y="9435"/>
                  </a:moveTo>
                  <a:arcTo wR="10800" hR="10800" stAng="-10364475" swAng="9683003"/>
                </a:path>
              </a:pathLst>
            </a:custGeom>
            <a:noFill/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899080" y="563832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087720" y="3775320"/>
              <a:ext cx="1445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,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1371600" y="3809160"/>
            <a:ext cx="3490920" cy="1677240"/>
            <a:chOff x="1371600" y="3809160"/>
            <a:chExt cx="3490920" cy="1677240"/>
          </a:xfrm>
        </p:grpSpPr>
        <p:sp>
          <p:nvSpPr>
            <p:cNvPr id="727" name=""/>
            <p:cNvSpPr/>
            <p:nvPr/>
          </p:nvSpPr>
          <p:spPr>
            <a:xfrm>
              <a:off x="1371600" y="5486400"/>
              <a:ext cx="7621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421160" y="3809160"/>
              <a:ext cx="441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3429000" y="5181480"/>
            <a:ext cx="2666520" cy="685800"/>
            <a:chOff x="3429000" y="5181480"/>
            <a:chExt cx="2666520" cy="685800"/>
          </a:xfrm>
        </p:grpSpPr>
        <p:sp>
          <p:nvSpPr>
            <p:cNvPr id="730" name=""/>
            <p:cNvSpPr/>
            <p:nvPr/>
          </p:nvSpPr>
          <p:spPr>
            <a:xfrm>
              <a:off x="5410080" y="5181480"/>
              <a:ext cx="68544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5410080"/>
              <a:ext cx="361800" cy="3049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2819520" y="3318120"/>
            <a:ext cx="3673440" cy="2200680"/>
            <a:chOff x="2819520" y="3318120"/>
            <a:chExt cx="3673440" cy="2200680"/>
          </a:xfrm>
        </p:grpSpPr>
        <p:sp>
          <p:nvSpPr>
            <p:cNvPr id="733" name=""/>
            <p:cNvSpPr/>
            <p:nvPr/>
          </p:nvSpPr>
          <p:spPr>
            <a:xfrm>
              <a:off x="4689000" y="3318120"/>
              <a:ext cx="1803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899080" y="487620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819520" y="5486400"/>
              <a:ext cx="9903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Iteration 4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85800" y="28954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tru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Completion 5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85800" y="1143000"/>
            <a:ext cx="8077320" cy="61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om “inside” of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repeatedly use the nex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s to construct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RE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struct F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RE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struct F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construct F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RE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re already exist FA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espectively;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.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construct F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r.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see 2/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 +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+ 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see 3/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struct F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r*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see 4/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019920" y="3276720"/>
            <a:ext cx="228600" cy="1371600"/>
          </a:xfrm>
          <a:custGeom>
            <a:avLst/>
            <a:gdLst>
              <a:gd name="textAreaLeft" fmla="*/ 0 w 228600"/>
              <a:gd name="textAreaRight" fmla="*/ 8244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316280" y="3657600"/>
            <a:ext cx="14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see 1/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400800" y="3962520"/>
            <a:ext cx="9144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xampl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59440" y="1156680"/>
            <a:ext cx="801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ransform 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+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)</a:t>
            </a:r>
            <a:r>
              <a:rPr b="0" lang="cs-CZ" sz="2800" spc="-1" strike="noStrike" baseline="30000">
                <a:solidFill>
                  <a:srgbClr val="000000"/>
                </a:solidFill>
                <a:latin typeface="Times New Roman"/>
              </a:rPr>
              <a:t>*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equivalen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8" name=""/>
          <p:cNvGrpSpPr/>
          <p:nvPr/>
        </p:nvGrpSpPr>
        <p:grpSpPr>
          <a:xfrm>
            <a:off x="514080" y="1649880"/>
            <a:ext cx="3829320" cy="1016640"/>
            <a:chOff x="514080" y="1649880"/>
            <a:chExt cx="3829320" cy="1016640"/>
          </a:xfrm>
        </p:grpSpPr>
        <p:sp>
          <p:nvSpPr>
            <p:cNvPr id="749" name=""/>
            <p:cNvSpPr/>
            <p:nvPr/>
          </p:nvSpPr>
          <p:spPr>
            <a:xfrm>
              <a:off x="2057400" y="1752480"/>
              <a:ext cx="2286000" cy="914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14080" y="1980360"/>
              <a:ext cx="160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048120" y="228564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124080" y="175248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514600" y="198108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133720" y="228564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581280" y="190476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657600" y="198108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065320" y="1649880"/>
              <a:ext cx="642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4641480" y="1649880"/>
            <a:ext cx="3816720" cy="1016640"/>
            <a:chOff x="4641480" y="1649880"/>
            <a:chExt cx="3816720" cy="1016640"/>
          </a:xfrm>
        </p:grpSpPr>
        <p:sp>
          <p:nvSpPr>
            <p:cNvPr id="759" name=""/>
            <p:cNvSpPr/>
            <p:nvPr/>
          </p:nvSpPr>
          <p:spPr>
            <a:xfrm>
              <a:off x="6172200" y="1752480"/>
              <a:ext cx="2286000" cy="914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641480" y="1980360"/>
              <a:ext cx="160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162920" y="228564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238880" y="175248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629400" y="198108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248520" y="228564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696080" y="190476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772400" y="198108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180120" y="1649880"/>
              <a:ext cx="642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8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525600" y="4191120"/>
            <a:ext cx="3817800" cy="914400"/>
            <a:chOff x="525600" y="4191120"/>
            <a:chExt cx="3817800" cy="914400"/>
          </a:xfrm>
        </p:grpSpPr>
        <p:sp>
          <p:nvSpPr>
            <p:cNvPr id="770" name=""/>
            <p:cNvSpPr/>
            <p:nvPr/>
          </p:nvSpPr>
          <p:spPr>
            <a:xfrm>
              <a:off x="2057400" y="419112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25600" y="4419000"/>
              <a:ext cx="158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048120" y="4724640"/>
              <a:ext cx="5331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124080" y="4191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514600" y="4419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133720" y="472464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581280" y="43434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657600" y="4419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8" name=""/>
          <p:cNvGrpSpPr/>
          <p:nvPr/>
        </p:nvGrpSpPr>
        <p:grpSpPr>
          <a:xfrm>
            <a:off x="4641480" y="4191120"/>
            <a:ext cx="3816720" cy="914400"/>
            <a:chOff x="4641480" y="4191120"/>
            <a:chExt cx="3816720" cy="914400"/>
          </a:xfrm>
        </p:grpSpPr>
        <p:sp>
          <p:nvSpPr>
            <p:cNvPr id="779" name=""/>
            <p:cNvSpPr/>
            <p:nvPr/>
          </p:nvSpPr>
          <p:spPr>
            <a:xfrm>
              <a:off x="6172200" y="419112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641480" y="4419000"/>
              <a:ext cx="160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162920" y="4724640"/>
              <a:ext cx="5331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238880" y="4191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629400" y="4419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248520" y="472464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696080" y="43434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772400" y="4419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2286000" y="5303880"/>
            <a:ext cx="6172200" cy="1173240"/>
            <a:chOff x="2286000" y="5303880"/>
            <a:chExt cx="6172200" cy="1173240"/>
          </a:xfrm>
        </p:grpSpPr>
        <p:sp>
          <p:nvSpPr>
            <p:cNvPr id="788" name=""/>
            <p:cNvSpPr/>
            <p:nvPr/>
          </p:nvSpPr>
          <p:spPr>
            <a:xfrm>
              <a:off x="2286000" y="5410440"/>
              <a:ext cx="6172200" cy="106668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286000" y="5303880"/>
              <a:ext cx="1219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8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685800" y="2865240"/>
            <a:ext cx="7772400" cy="1251000"/>
            <a:chOff x="685800" y="2865240"/>
            <a:chExt cx="7772400" cy="1251000"/>
          </a:xfrm>
        </p:grpSpPr>
        <p:sp>
          <p:nvSpPr>
            <p:cNvPr id="791" name=""/>
            <p:cNvSpPr/>
            <p:nvPr/>
          </p:nvSpPr>
          <p:spPr>
            <a:xfrm>
              <a:off x="685800" y="4114440"/>
              <a:ext cx="777240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286000" y="2971440"/>
              <a:ext cx="6172200" cy="106704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286000" y="2865240"/>
              <a:ext cx="1219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8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4" name=""/>
          <p:cNvGrpSpPr/>
          <p:nvPr/>
        </p:nvGrpSpPr>
        <p:grpSpPr>
          <a:xfrm>
            <a:off x="3124080" y="2666880"/>
            <a:ext cx="5257800" cy="1295280"/>
            <a:chOff x="3124080" y="2666880"/>
            <a:chExt cx="5257800" cy="1295280"/>
          </a:xfrm>
        </p:grpSpPr>
        <p:sp>
          <p:nvSpPr>
            <p:cNvPr id="795" name=""/>
            <p:cNvSpPr/>
            <p:nvPr/>
          </p:nvSpPr>
          <p:spPr>
            <a:xfrm>
              <a:off x="6095880" y="304776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124080" y="304776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114800" y="3581280"/>
              <a:ext cx="6094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191120" y="304776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581280" y="32763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200400" y="358128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724280" y="32763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086600" y="3581280"/>
              <a:ext cx="5335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162920" y="304776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553080" y="32763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620120" y="32000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696080" y="32763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132000" y="2945160"/>
              <a:ext cx="642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103800" y="2945160"/>
              <a:ext cx="642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581280" y="2666880"/>
              <a:ext cx="533520" cy="380880"/>
            </a:xfrm>
            <a:prstGeom prst="downArrow">
              <a:avLst>
                <a:gd name="adj1" fmla="val 50000"/>
                <a:gd name="adj2" fmla="val 5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086600" y="2666880"/>
              <a:ext cx="533520" cy="380880"/>
            </a:xfrm>
            <a:prstGeom prst="downArrow">
              <a:avLst>
                <a:gd name="adj1" fmla="val 50000"/>
                <a:gd name="adj2" fmla="val 5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3124080" y="5105520"/>
            <a:ext cx="5257800" cy="1295280"/>
            <a:chOff x="3124080" y="5105520"/>
            <a:chExt cx="5257800" cy="1295280"/>
          </a:xfrm>
        </p:grpSpPr>
        <p:sp>
          <p:nvSpPr>
            <p:cNvPr id="812" name=""/>
            <p:cNvSpPr/>
            <p:nvPr/>
          </p:nvSpPr>
          <p:spPr>
            <a:xfrm>
              <a:off x="6095880" y="548640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086600" y="6019920"/>
              <a:ext cx="5335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162920" y="54864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553080" y="5715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620120" y="56390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696080" y="5715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103800" y="5384160"/>
              <a:ext cx="642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124080" y="548640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114800" y="6019920"/>
              <a:ext cx="6094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191120" y="54864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581280" y="5715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200400" y="601992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724280" y="5715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138120" y="5384160"/>
              <a:ext cx="632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581280" y="5105520"/>
              <a:ext cx="533520" cy="380880"/>
            </a:xfrm>
            <a:prstGeom prst="downArrow">
              <a:avLst>
                <a:gd name="adj1" fmla="val 50000"/>
                <a:gd name="adj2" fmla="val 5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086600" y="5105520"/>
              <a:ext cx="533520" cy="380880"/>
            </a:xfrm>
            <a:prstGeom prst="downArrow">
              <a:avLst>
                <a:gd name="adj1" fmla="val 50000"/>
                <a:gd name="adj2" fmla="val 5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8" name=""/>
          <p:cNvGrpSpPr/>
          <p:nvPr/>
        </p:nvGrpSpPr>
        <p:grpSpPr>
          <a:xfrm>
            <a:off x="536040" y="3048120"/>
            <a:ext cx="6017040" cy="672120"/>
            <a:chOff x="536040" y="3048120"/>
            <a:chExt cx="6017040" cy="672120"/>
          </a:xfrm>
        </p:grpSpPr>
        <p:sp>
          <p:nvSpPr>
            <p:cNvPr id="829" name=""/>
            <p:cNvSpPr/>
            <p:nvPr/>
          </p:nvSpPr>
          <p:spPr>
            <a:xfrm>
              <a:off x="536040" y="3199680"/>
              <a:ext cx="178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562720" y="30481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57800" y="3581640"/>
              <a:ext cx="129528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547560" y="5486400"/>
            <a:ext cx="6005520" cy="672120"/>
            <a:chOff x="547560" y="5486400"/>
            <a:chExt cx="6005520" cy="672120"/>
          </a:xfrm>
        </p:grpSpPr>
        <p:sp>
          <p:nvSpPr>
            <p:cNvPr id="833" name=""/>
            <p:cNvSpPr/>
            <p:nvPr/>
          </p:nvSpPr>
          <p:spPr>
            <a:xfrm>
              <a:off x="547560" y="5637960"/>
              <a:ext cx="175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257800" y="6019560"/>
              <a:ext cx="1295280" cy="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562720" y="54864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7" name=""/>
          <p:cNvGrpSpPr/>
          <p:nvPr/>
        </p:nvGrpSpPr>
        <p:grpSpPr>
          <a:xfrm>
            <a:off x="1905120" y="3859560"/>
            <a:ext cx="6553080" cy="2464920"/>
            <a:chOff x="1905120" y="3859560"/>
            <a:chExt cx="6553080" cy="2464920"/>
          </a:xfrm>
        </p:grpSpPr>
        <p:sp>
          <p:nvSpPr>
            <p:cNvPr id="838" name=""/>
            <p:cNvSpPr/>
            <p:nvPr/>
          </p:nvSpPr>
          <p:spPr>
            <a:xfrm>
              <a:off x="1905120" y="3886200"/>
              <a:ext cx="6553080" cy="243828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905120" y="3859560"/>
              <a:ext cx="129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0" name=""/>
          <p:cNvGrpSpPr/>
          <p:nvPr/>
        </p:nvGrpSpPr>
        <p:grpSpPr>
          <a:xfrm>
            <a:off x="611280" y="3961800"/>
            <a:ext cx="7770600" cy="2105280"/>
            <a:chOff x="611280" y="3961800"/>
            <a:chExt cx="7770600" cy="2105280"/>
          </a:xfrm>
        </p:grpSpPr>
        <p:sp>
          <p:nvSpPr>
            <p:cNvPr id="841" name=""/>
            <p:cNvSpPr/>
            <p:nvPr/>
          </p:nvSpPr>
          <p:spPr>
            <a:xfrm>
              <a:off x="7696080" y="48006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772400" y="4876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438280" y="4876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057400" y="518184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623000" y="533340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140600" y="4419720"/>
              <a:ext cx="936360" cy="600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74" y="95"/>
                  </a:moveTo>
                  <a:arcTo wR="10800" hR="10800" stAng="-5855347" swAng="6782101"/>
                  <a:lnTo>
                    <a:pt x="10800" y="10800"/>
                  </a:lnTo>
                  <a:close/>
                </a:path>
                <a:path fill="none" w="21600" h="21600">
                  <a:moveTo>
                    <a:pt x="9374" y="95"/>
                  </a:moveTo>
                  <a:arcTo wR="10800" hR="10800" stAng="-5855347" swAng="6782101"/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775280" y="396180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V="1">
              <a:off x="7134840" y="5265000"/>
              <a:ext cx="942120" cy="60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74" y="95"/>
                  </a:moveTo>
                  <a:arcTo wR="10800" hR="10800" stAng="-5855347" swAng="6782101"/>
                  <a:lnTo>
                    <a:pt x="10800" y="10800"/>
                  </a:lnTo>
                  <a:close/>
                </a:path>
                <a:path fill="none" w="21600" h="21600">
                  <a:moveTo>
                    <a:pt x="9374" y="95"/>
                  </a:moveTo>
                  <a:arcTo wR="10800" hR="10800" stAng="-5855347" swAng="6782101"/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2742840" y="4496040"/>
              <a:ext cx="161568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74" y="95"/>
                  </a:moveTo>
                  <a:arcTo wR="10800" hR="10800" stAng="-5855347" swAng="5525832"/>
                  <a:lnTo>
                    <a:pt x="10800" y="10800"/>
                  </a:lnTo>
                  <a:close/>
                </a:path>
                <a:path fill="none" w="21600" h="21600">
                  <a:moveTo>
                    <a:pt x="9374" y="95"/>
                  </a:moveTo>
                  <a:arcTo wR="10800" hR="10800" stAng="-5855347" swAng="5525832"/>
                </a:path>
              </a:pathLst>
            </a:custGeom>
            <a:noFill/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669760" y="411408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 flipV="1">
              <a:off x="2739600" y="4799880"/>
              <a:ext cx="1615680" cy="106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74" y="95"/>
                  </a:moveTo>
                  <a:arcTo wR="10800" hR="10800" stAng="-5855347" swAng="5525832"/>
                  <a:lnTo>
                    <a:pt x="10800" y="10800"/>
                  </a:lnTo>
                  <a:close/>
                </a:path>
                <a:path fill="none" w="21600" h="21600">
                  <a:moveTo>
                    <a:pt x="9374" y="95"/>
                  </a:moveTo>
                  <a:arcTo wR="10800" hR="10800" stAng="-5855347" swAng="5525832"/>
                </a:path>
              </a:pathLst>
            </a:custGeom>
            <a:noFill/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593800" y="548568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11280" y="4495680"/>
              <a:ext cx="1370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3048120" y="2133720"/>
            <a:ext cx="4572000" cy="4114800"/>
            <a:chOff x="3048120" y="2133720"/>
            <a:chExt cx="4572000" cy="4114800"/>
          </a:xfrm>
        </p:grpSpPr>
        <p:sp>
          <p:nvSpPr>
            <p:cNvPr id="855" name=""/>
            <p:cNvSpPr/>
            <p:nvPr/>
          </p:nvSpPr>
          <p:spPr>
            <a:xfrm>
              <a:off x="5715000" y="3353040"/>
              <a:ext cx="1295280" cy="1981080"/>
            </a:xfrm>
            <a:prstGeom prst="downArrow">
              <a:avLst>
                <a:gd name="adj1" fmla="val 53926"/>
                <a:gd name="adj2" fmla="val 2708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048120" y="3962520"/>
              <a:ext cx="4572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191120" y="4496040"/>
              <a:ext cx="6094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267080" y="39625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657600" y="41911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800600" y="41911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477120" y="4496040"/>
              <a:ext cx="5331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553080" y="39625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943600" y="41911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334120" y="449604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010280" y="41911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410080" y="39625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048120" y="393624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048120" y="5334120"/>
              <a:ext cx="4572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191120" y="5867640"/>
              <a:ext cx="6094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267080" y="5334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657600" y="5562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800600" y="5562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477120" y="5867640"/>
              <a:ext cx="5331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553080" y="5334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943600" y="5562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334120" y="586764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10280" y="5562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410080" y="5334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048120" y="530784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429000" y="2133720"/>
              <a:ext cx="1295280" cy="1828800"/>
            </a:xfrm>
            <a:prstGeom prst="downArrow">
              <a:avLst>
                <a:gd name="adj1" fmla="val 53926"/>
                <a:gd name="adj2" fmla="val 25002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1" name=""/>
          <p:cNvGrpSpPr/>
          <p:nvPr/>
        </p:nvGrpSpPr>
        <p:grpSpPr>
          <a:xfrm>
            <a:off x="688320" y="1193040"/>
            <a:ext cx="6779160" cy="940680"/>
            <a:chOff x="688320" y="1193040"/>
            <a:chExt cx="6779160" cy="940680"/>
          </a:xfrm>
        </p:grpSpPr>
        <p:sp>
          <p:nvSpPr>
            <p:cNvPr id="882" name=""/>
            <p:cNvSpPr/>
            <p:nvPr/>
          </p:nvSpPr>
          <p:spPr>
            <a:xfrm>
              <a:off x="2743200" y="1219320"/>
              <a:ext cx="472428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88320" y="1370880"/>
              <a:ext cx="178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886200" y="1752840"/>
              <a:ext cx="6094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962520" y="12193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352680" y="1447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971800" y="175284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495680" y="1447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172200" y="1752840"/>
              <a:ext cx="5335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248520" y="12193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638680" y="1447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029200" y="175284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705720" y="13716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781680" y="1447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105520" y="12193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743200" y="119304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7" name=""/>
          <p:cNvGrpSpPr/>
          <p:nvPr/>
        </p:nvGrpSpPr>
        <p:grpSpPr>
          <a:xfrm>
            <a:off x="699840" y="2412000"/>
            <a:ext cx="6767640" cy="940680"/>
            <a:chOff x="699840" y="2412000"/>
            <a:chExt cx="6767640" cy="940680"/>
          </a:xfrm>
        </p:grpSpPr>
        <p:sp>
          <p:nvSpPr>
            <p:cNvPr id="898" name=""/>
            <p:cNvSpPr/>
            <p:nvPr/>
          </p:nvSpPr>
          <p:spPr>
            <a:xfrm>
              <a:off x="2743200" y="2438280"/>
              <a:ext cx="472428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99840" y="2589840"/>
              <a:ext cx="175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886200" y="2971440"/>
              <a:ext cx="6094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962520" y="24382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352680" y="26668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971800" y="2971440"/>
              <a:ext cx="3808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495680" y="26668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172200" y="2971440"/>
              <a:ext cx="5335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248520" y="24382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638680" y="26668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029200" y="297144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705720" y="25905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781680" y="26668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105520" y="24382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743200" y="241200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xampl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5" name=""/>
          <p:cNvGrpSpPr/>
          <p:nvPr/>
        </p:nvGrpSpPr>
        <p:grpSpPr>
          <a:xfrm>
            <a:off x="687600" y="1269000"/>
            <a:ext cx="7008480" cy="1931040"/>
            <a:chOff x="687600" y="1269000"/>
            <a:chExt cx="7008480" cy="1931040"/>
          </a:xfrm>
        </p:grpSpPr>
        <p:sp>
          <p:nvSpPr>
            <p:cNvPr id="916" name=""/>
            <p:cNvSpPr/>
            <p:nvPr/>
          </p:nvSpPr>
          <p:spPr>
            <a:xfrm>
              <a:off x="2057400" y="1295280"/>
              <a:ext cx="5638680" cy="19047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809880" y="19047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809880" y="137124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276720" y="15998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267080" y="15998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791320" y="19047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791320" y="13712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257800" y="15998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800600" y="19047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248520" y="15998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800600" y="13712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934320" y="19810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010280" y="20570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743200" y="20570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362320" y="236196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flipH="1" flipV="1">
              <a:off x="2970720" y="2284920"/>
              <a:ext cx="56052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669760" y="152280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057400" y="1269000"/>
              <a:ext cx="129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87600" y="1752120"/>
              <a:ext cx="1370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809880" y="28191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809880" y="228564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3276720" y="25142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267080" y="25142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791320" y="28191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5791320" y="22856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257800" y="25142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800600" y="28191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248520" y="25142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800600" y="22856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flipH="1">
              <a:off x="2970720" y="1752480"/>
              <a:ext cx="56052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669760" y="251352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 flipV="1">
              <a:off x="6528960" y="2284920"/>
              <a:ext cx="56124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528960" y="1752480"/>
              <a:ext cx="56124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860880" y="129420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860880" y="258984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1" name=""/>
          <p:cNvGrpSpPr/>
          <p:nvPr/>
        </p:nvGrpSpPr>
        <p:grpSpPr>
          <a:xfrm>
            <a:off x="685800" y="3859920"/>
            <a:ext cx="7772400" cy="2617200"/>
            <a:chOff x="685800" y="3859920"/>
            <a:chExt cx="7772400" cy="2617200"/>
          </a:xfrm>
        </p:grpSpPr>
        <p:sp>
          <p:nvSpPr>
            <p:cNvPr id="952" name=""/>
            <p:cNvSpPr/>
            <p:nvPr/>
          </p:nvSpPr>
          <p:spPr>
            <a:xfrm>
              <a:off x="685800" y="3886200"/>
              <a:ext cx="7772400" cy="259092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85800" y="3859920"/>
              <a:ext cx="160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)*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4" name=""/>
          <p:cNvGrpSpPr/>
          <p:nvPr/>
        </p:nvGrpSpPr>
        <p:grpSpPr>
          <a:xfrm>
            <a:off x="2057400" y="3200400"/>
            <a:ext cx="5334120" cy="2743200"/>
            <a:chOff x="2057400" y="3200400"/>
            <a:chExt cx="5334120" cy="2743200"/>
          </a:xfrm>
        </p:grpSpPr>
        <p:sp>
          <p:nvSpPr>
            <p:cNvPr id="955" name=""/>
            <p:cNvSpPr/>
            <p:nvPr/>
          </p:nvSpPr>
          <p:spPr>
            <a:xfrm>
              <a:off x="2057400" y="4038480"/>
              <a:ext cx="5334120" cy="19051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581280" y="4648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581280" y="411480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048120" y="43434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038480" y="43434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562720" y="4648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562720" y="41148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029200" y="43434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572000" y="4648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019920" y="43434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572000" y="41148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6781680" y="48006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514600" y="48006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 flipH="1" flipV="1">
              <a:off x="2742120" y="5028840"/>
              <a:ext cx="56052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441160" y="426636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057400" y="4012200"/>
              <a:ext cx="129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581280" y="55627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581280" y="502920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048120" y="52578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038480" y="52578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562720" y="55627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562720" y="50292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029200" y="52578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572000" y="55627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6019920" y="52578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572000" y="50292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 flipH="1">
              <a:off x="2742120" y="4495680"/>
              <a:ext cx="56052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441160" y="525708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flipV="1">
              <a:off x="6300360" y="4876200"/>
              <a:ext cx="56124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6300360" y="4495680"/>
              <a:ext cx="561240" cy="76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632280" y="403776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480000" y="495216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105520" y="3200400"/>
              <a:ext cx="1218960" cy="838080"/>
            </a:xfrm>
            <a:prstGeom prst="downArrow">
              <a:avLst>
                <a:gd name="adj1" fmla="val 53926"/>
                <a:gd name="adj2" fmla="val 46593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xampl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0" name=""/>
          <p:cNvGrpSpPr/>
          <p:nvPr/>
        </p:nvGrpSpPr>
        <p:grpSpPr>
          <a:xfrm>
            <a:off x="685800" y="3351960"/>
            <a:ext cx="7696080" cy="3048480"/>
            <a:chOff x="685800" y="3351960"/>
            <a:chExt cx="7696080" cy="3048480"/>
          </a:xfrm>
        </p:grpSpPr>
        <p:sp>
          <p:nvSpPr>
            <p:cNvPr id="991" name=""/>
            <p:cNvSpPr/>
            <p:nvPr/>
          </p:nvSpPr>
          <p:spPr>
            <a:xfrm>
              <a:off x="1676520" y="5105520"/>
              <a:ext cx="83808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7696080" y="4724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772400" y="48006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143000" y="487692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62120" y="5181480"/>
              <a:ext cx="3808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flipV="1">
              <a:off x="2362320" y="4831920"/>
              <a:ext cx="4943160" cy="141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94" y="15103"/>
                  </a:moveTo>
                  <a:arcTo wR="10800" hR="10800" stAng="9391384" swAng="13359304"/>
                  <a:lnTo>
                    <a:pt x="10800" y="10800"/>
                  </a:lnTo>
                  <a:close/>
                </a:path>
                <a:path fill="none" w="21600" h="21600">
                  <a:moveTo>
                    <a:pt x="894" y="15103"/>
                  </a:moveTo>
                  <a:arcTo wR="10800" hR="10800" stAng="9391384" swAng="13359304"/>
                </a:path>
              </a:pathLst>
            </a:custGeom>
            <a:noFill/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H="1" flipV="1">
              <a:off x="1304280" y="4115160"/>
              <a:ext cx="6798960" cy="228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0" y="9196"/>
                  </a:moveTo>
                  <a:arcTo wR="10800" hR="10800" stAng="-10287678" swAng="9802535"/>
                  <a:lnTo>
                    <a:pt x="10800" y="10800"/>
                  </a:lnTo>
                  <a:close/>
                </a:path>
                <a:path fill="none" w="21600" h="21600">
                  <a:moveTo>
                    <a:pt x="120" y="9196"/>
                  </a:moveTo>
                  <a:arcTo wR="10800" hR="10800" stAng="-10287678" swAng="9802535"/>
                </a:path>
              </a:pathLst>
            </a:custGeom>
            <a:noFill/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679400" y="533304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679400" y="457128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7394400" y="449496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7315200" y="510552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685800" y="3351960"/>
              <a:ext cx="449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a final RE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860880" y="533304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"/>
          <p:cNvSpPr/>
          <p:nvPr/>
        </p:nvSpPr>
        <p:spPr>
          <a:xfrm>
            <a:off x="685800" y="449568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dels for Regular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09480" y="22096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based o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evious algorith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685800" y="114300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is an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685800" y="281952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609480" y="38862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210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685800" y="281952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F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is an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h tha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68580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762120" y="449496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nclusion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undamental models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gular languages 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682920" y="5409360"/>
            <a:ext cx="41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Regular expr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4949640" y="5409360"/>
            <a:ext cx="348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Finite Automat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gular Expressions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1430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+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)) the regul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ver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209680" y="2438280"/>
            <a:ext cx="3124440" cy="947520"/>
            <a:chOff x="2209680" y="2438280"/>
            <a:chExt cx="3124440" cy="947520"/>
          </a:xfrm>
        </p:grpSpPr>
        <p:sp>
          <p:nvSpPr>
            <p:cNvPr id="53" name=""/>
            <p:cNvSpPr/>
            <p:nvPr/>
          </p:nvSpPr>
          <p:spPr>
            <a:xfrm>
              <a:off x="2209680" y="2743200"/>
              <a:ext cx="76212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590920" y="2438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590920" y="2438280"/>
              <a:ext cx="2743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3809880" y="2514600"/>
            <a:ext cx="1524240" cy="871200"/>
            <a:chOff x="3809880" y="2514600"/>
            <a:chExt cx="1524240" cy="871200"/>
          </a:xfrm>
        </p:grpSpPr>
        <p:sp>
          <p:nvSpPr>
            <p:cNvPr id="57" name=""/>
            <p:cNvSpPr/>
            <p:nvPr/>
          </p:nvSpPr>
          <p:spPr>
            <a:xfrm>
              <a:off x="3809880" y="2743200"/>
              <a:ext cx="76212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191120" y="25146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191120" y="251460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4723920" y="2895120"/>
            <a:ext cx="686160" cy="1296000"/>
            <a:chOff x="4723920" y="2895120"/>
            <a:chExt cx="686160" cy="1296000"/>
          </a:xfrm>
        </p:grpSpPr>
        <p:sp>
          <p:nvSpPr>
            <p:cNvPr id="61" name=""/>
            <p:cNvSpPr/>
            <p:nvPr/>
          </p:nvSpPr>
          <p:spPr>
            <a:xfrm flipH="1">
              <a:off x="4723920" y="419112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5410080" y="2895120"/>
              <a:ext cx="0" cy="129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572000" y="2895480"/>
            <a:ext cx="914400" cy="2286000"/>
            <a:chOff x="4572000" y="2895480"/>
            <a:chExt cx="914400" cy="2286000"/>
          </a:xfrm>
        </p:grpSpPr>
        <p:sp>
          <p:nvSpPr>
            <p:cNvPr id="64" name=""/>
            <p:cNvSpPr/>
            <p:nvPr/>
          </p:nvSpPr>
          <p:spPr>
            <a:xfrm flipH="1">
              <a:off x="4572000" y="51814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5486400" y="2895480"/>
              <a:ext cx="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3809880" y="2895120"/>
            <a:ext cx="1828800" cy="3048480"/>
            <a:chOff x="3809880" y="2895120"/>
            <a:chExt cx="1828800" cy="3048480"/>
          </a:xfrm>
        </p:grpSpPr>
        <p:sp>
          <p:nvSpPr>
            <p:cNvPr id="67" name=""/>
            <p:cNvSpPr/>
            <p:nvPr/>
          </p:nvSpPr>
          <p:spPr>
            <a:xfrm flipH="1">
              <a:off x="3809880" y="5943600"/>
              <a:ext cx="18288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5638680" y="2895120"/>
              <a:ext cx="0" cy="30481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685800" y="2286000"/>
            <a:ext cx="7772400" cy="1099800"/>
            <a:chOff x="685800" y="2286000"/>
            <a:chExt cx="7772400" cy="1099800"/>
          </a:xfrm>
        </p:grpSpPr>
        <p:sp>
          <p:nvSpPr>
            <p:cNvPr id="70" name=""/>
            <p:cNvSpPr/>
            <p:nvPr/>
          </p:nvSpPr>
          <p:spPr>
            <a:xfrm>
              <a:off x="685800" y="2743200"/>
              <a:ext cx="76212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66680" y="2362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066680" y="2362320"/>
              <a:ext cx="4267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334120" y="2286000"/>
              <a:ext cx="3124080" cy="581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Is a RE over </a:t>
              </a: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3657600" y="3429000"/>
            <a:ext cx="1066680" cy="1023480"/>
            <a:chOff x="3657600" y="3429000"/>
            <a:chExt cx="1066680" cy="1023480"/>
          </a:xfrm>
        </p:grpSpPr>
        <p:sp>
          <p:nvSpPr>
            <p:cNvPr id="75" name=""/>
            <p:cNvSpPr/>
            <p:nvPr/>
          </p:nvSpPr>
          <p:spPr>
            <a:xfrm>
              <a:off x="3657600" y="3809880"/>
              <a:ext cx="106668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(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i="1" lang="cs-CZ" sz="3600" spc="-1" strike="noStrike" baseline="30000">
                  <a:solidFill>
                    <a:srgbClr val="339966"/>
                  </a:solidFill>
                  <a:latin typeface="Times New Roman"/>
                </a:rPr>
                <a:t>*</a:t>
              </a: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191120" y="34290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2590920" y="3429000"/>
            <a:ext cx="1981080" cy="2014200"/>
            <a:chOff x="2590920" y="3429000"/>
            <a:chExt cx="1981080" cy="2014200"/>
          </a:xfrm>
        </p:grpSpPr>
        <p:sp>
          <p:nvSpPr>
            <p:cNvPr id="78" name=""/>
            <p:cNvSpPr/>
            <p:nvPr/>
          </p:nvSpPr>
          <p:spPr>
            <a:xfrm>
              <a:off x="2666880" y="4800600"/>
              <a:ext cx="190512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(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i="1" lang="cs-CZ" sz="3600" spc="-1" strike="noStrike" baseline="30000">
                  <a:solidFill>
                    <a:srgbClr val="339966"/>
                  </a:solidFill>
                  <a:latin typeface="Times New Roman"/>
                </a:rPr>
                <a:t>*</a:t>
              </a: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)</a:t>
              </a:r>
              <a:r>
                <a:rPr b="1" lang="cs-CZ" sz="36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90920" y="3429000"/>
              <a:ext cx="53316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3885840" y="4495680"/>
              <a:ext cx="22860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762120" y="3429000"/>
            <a:ext cx="3047760" cy="3004920"/>
            <a:chOff x="762120" y="3429000"/>
            <a:chExt cx="3047760" cy="3004920"/>
          </a:xfrm>
        </p:grpSpPr>
        <p:sp>
          <p:nvSpPr>
            <p:cNvPr id="82" name=""/>
            <p:cNvSpPr/>
            <p:nvPr/>
          </p:nvSpPr>
          <p:spPr>
            <a:xfrm>
              <a:off x="762120" y="5791320"/>
              <a:ext cx="304776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(</a:t>
              </a: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6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(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cs-CZ" sz="3600" spc="-1" strike="noStrike" baseline="30000">
                  <a:solidFill>
                    <a:srgbClr val="339966"/>
                  </a:solidFill>
                  <a:latin typeface="Times New Roman"/>
                </a:rPr>
                <a:t>*</a:t>
              </a: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)</a:t>
              </a:r>
              <a:r>
                <a:rPr b="1" lang="cs-CZ" sz="36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3200040" y="5486400"/>
              <a:ext cx="15228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066680" y="3429000"/>
              <a:ext cx="228600" cy="2362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3886200" y="5029200"/>
            <a:ext cx="4572000" cy="1523880"/>
            <a:chOff x="3886200" y="5029200"/>
            <a:chExt cx="4572000" cy="1523880"/>
          </a:xfrm>
        </p:grpSpPr>
        <p:sp>
          <p:nvSpPr>
            <p:cNvPr id="86" name=""/>
            <p:cNvSpPr/>
            <p:nvPr/>
          </p:nvSpPr>
          <p:spPr>
            <a:xfrm>
              <a:off x="6095880" y="5029200"/>
              <a:ext cx="2362320" cy="13737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Answer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+ 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)) is the RE over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886200" y="6095880"/>
              <a:ext cx="2133720" cy="457200"/>
            </a:xfrm>
            <a:prstGeom prst="rightArrow">
              <a:avLst>
                <a:gd name="adj1" fmla="val 55556"/>
                <a:gd name="adj2" fmla="val 8556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209680" y="1752480"/>
            <a:ext cx="4114800" cy="703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recede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4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 &gt; . &gt; 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3505320"/>
            <a:ext cx="8305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cs-CZ" sz="3200" spc="-1" strike="noStrike">
                <a:solidFill>
                  <a:srgbClr val="339966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339966"/>
                </a:solidFill>
                <a:latin typeface="Times New Roman"/>
              </a:rPr>
              <a:t>)</a:t>
            </a:r>
            <a:r>
              <a:rPr b="1" lang="cs-CZ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cs-CZ" sz="3200" spc="-1" strike="noStrike">
                <a:solidFill>
                  <a:srgbClr val="339966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339966"/>
                </a:solidFill>
                <a:latin typeface="Times New Roman"/>
              </a:rPr>
              <a:t>)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an be written a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an be written a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du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on o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number of parenthes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28954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3) Expressio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r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simplified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3505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impl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2438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2) Expressio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simplified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rot="16200000">
            <a:off x="4821840" y="2188080"/>
            <a:ext cx="304920" cy="5376960"/>
          </a:xfrm>
          <a:custGeom>
            <a:avLst/>
            <a:gdLst/>
            <a:ahLst/>
            <a:rect l="l" t="t" r="r" b="b"/>
            <a:pathLst>
              <a:path w="576" h="2843">
                <a:moveTo>
                  <a:pt x="0" y="2843"/>
                </a:moveTo>
                <a:cubicBezTo>
                  <a:pt x="44" y="2798"/>
                  <a:pt x="216" y="2819"/>
                  <a:pt x="264" y="2571"/>
                </a:cubicBezTo>
                <a:cubicBezTo>
                  <a:pt x="312" y="2323"/>
                  <a:pt x="284" y="1700"/>
                  <a:pt x="288" y="1355"/>
                </a:cubicBezTo>
                <a:cubicBezTo>
                  <a:pt x="292" y="1010"/>
                  <a:pt x="276" y="711"/>
                  <a:pt x="288" y="499"/>
                </a:cubicBezTo>
                <a:cubicBezTo>
                  <a:pt x="300" y="287"/>
                  <a:pt x="312" y="166"/>
                  <a:pt x="360" y="83"/>
                </a:cubicBezTo>
                <a:cubicBezTo>
                  <a:pt x="408" y="0"/>
                  <a:pt x="531" y="20"/>
                  <a:pt x="576" y="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5400000">
            <a:off x="7543440" y="3581640"/>
            <a:ext cx="228600" cy="1904760"/>
          </a:xfrm>
          <a:custGeom>
            <a:avLst/>
            <a:gdLst>
              <a:gd name="textAreaLeft" fmla="*/ 0 w 228600"/>
              <a:gd name="textAreaRight" fmla="*/ 82440 w 22860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5800" y="16765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1676520"/>
            <a:ext cx="7772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a language.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egular languag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(RL) if there exists a regular expression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denote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35812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4038480"/>
            <a:ext cx="777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 + ba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enote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b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4495680"/>
            <a:ext cx="8610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2800" spc="-1" strike="noStrike" baseline="4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denote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1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4952880"/>
            <a:ext cx="8610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 + 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denote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prefix of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95280" y="6019920"/>
            <a:ext cx="6629400" cy="579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are regular languages over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3200040"/>
            <a:ext cx="7772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enotati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 means the language denoted by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gular Languag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(RL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Every RE denotes a regular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410080"/>
            <a:ext cx="8915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denote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substring of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794640" y="5638680"/>
            <a:ext cx="10666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971800" y="2743200"/>
            <a:ext cx="3200400" cy="2362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9880" y="28195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31240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685800" y="2743200"/>
            <a:ext cx="3200400" cy="533520"/>
            <a:chOff x="685800" y="2743200"/>
            <a:chExt cx="3200400" cy="533520"/>
          </a:xfrm>
        </p:grpSpPr>
        <p:sp>
          <p:nvSpPr>
            <p:cNvPr id="117" name=""/>
            <p:cNvSpPr/>
            <p:nvPr/>
          </p:nvSpPr>
          <p:spPr>
            <a:xfrm>
              <a:off x="685800" y="2743200"/>
              <a:ext cx="2133720" cy="52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inal stat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819520" y="297180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19520" y="3124080"/>
              <a:ext cx="380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6248520" y="5638680"/>
            <a:ext cx="53496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861320" y="5638680"/>
            <a:ext cx="53496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14800" y="5638680"/>
            <a:ext cx="534960" cy="45720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46520" y="5638680"/>
            <a:ext cx="534960" cy="45720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181480" y="5638680"/>
            <a:ext cx="1067040" cy="4572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553080" y="5181480"/>
            <a:ext cx="16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638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2408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0040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86200" y="28954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52880" y="30481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4495680" y="3580920"/>
            <a:ext cx="609840" cy="7621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71800" y="45720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Sta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900000">
            <a:off x="4494960" y="2819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3600000">
            <a:off x="5355720" y="34052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5486400" y="2743200"/>
            <a:ext cx="3048120" cy="520560"/>
            <a:chOff x="5486400" y="2743200"/>
            <a:chExt cx="3048120" cy="520560"/>
          </a:xfrm>
        </p:grpSpPr>
        <p:sp>
          <p:nvSpPr>
            <p:cNvPr id="137" name=""/>
            <p:cNvSpPr/>
            <p:nvPr/>
          </p:nvSpPr>
          <p:spPr>
            <a:xfrm>
              <a:off x="6346800" y="2743200"/>
              <a:ext cx="2187720" cy="52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Current st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5486400" y="2971800"/>
              <a:ext cx="8604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685800" y="4419360"/>
            <a:ext cx="2590920" cy="673560"/>
            <a:chOff x="685800" y="4419360"/>
            <a:chExt cx="2590920" cy="673560"/>
          </a:xfrm>
        </p:grpSpPr>
        <p:sp>
          <p:nvSpPr>
            <p:cNvPr id="140" name=""/>
            <p:cNvSpPr/>
            <p:nvPr/>
          </p:nvSpPr>
          <p:spPr>
            <a:xfrm>
              <a:off x="685800" y="4572360"/>
              <a:ext cx="2133720" cy="52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Start st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2819520" y="4419360"/>
              <a:ext cx="4572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6477120" y="52578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648320" y="5257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483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inite Automata (F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1066680"/>
            <a:ext cx="693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The simplest model of computation based on a finite set of states and computational ru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24480" y="624852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2485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5800" y="1219320"/>
            <a:ext cx="7772400" cy="3657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143000"/>
            <a:ext cx="784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 finite automato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FA)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 a 5-tu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160020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4400" y="2057400"/>
            <a:ext cx="73915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ite set of sta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alphab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of ru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form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t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 sta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inite Automat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51055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ctly mathematically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relation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)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ead of 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however, we write the rule as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5943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58672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s that with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n move from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no symbol is 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48006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athematic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ote o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ul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9320" y="27432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1295280"/>
            <a:ext cx="7772400" cy="2362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02600" y="1371600"/>
            <a:ext cx="375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a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02240" y="2057400"/>
            <a:ext cx="48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the start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914400" y="2361960"/>
            <a:ext cx="380880" cy="1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01520" y="2819520"/>
            <a:ext cx="446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a final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613320" y="3886200"/>
            <a:ext cx="352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3809880"/>
            <a:ext cx="7772400" cy="838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95280" y="1447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9528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2819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952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8954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828800" y="42670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33720" y="38098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raphical  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85800" y="1219320"/>
            <a:ext cx="3124080" cy="5181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11430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701720" y="1600200"/>
            <a:ext cx="5308200" cy="2425680"/>
            <a:chOff x="1701720" y="1600200"/>
            <a:chExt cx="5308200" cy="2425680"/>
          </a:xfrm>
        </p:grpSpPr>
        <p:sp>
          <p:nvSpPr>
            <p:cNvPr id="182" name=""/>
            <p:cNvSpPr/>
            <p:nvPr/>
          </p:nvSpPr>
          <p:spPr>
            <a:xfrm>
              <a:off x="1701720" y="350532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5943600" y="1600200"/>
              <a:ext cx="1066320" cy="1522440"/>
              <a:chOff x="5943600" y="1600200"/>
              <a:chExt cx="1066320" cy="1522440"/>
            </a:xfrm>
          </p:grpSpPr>
          <p:sp>
            <p:nvSpPr>
              <p:cNvPr id="184" name=""/>
              <p:cNvSpPr/>
              <p:nvPr/>
            </p:nvSpPr>
            <p:spPr>
              <a:xfrm>
                <a:off x="5943600" y="2057400"/>
                <a:ext cx="1066320" cy="1065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324480" y="16002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6" name=""/>
          <p:cNvGrpSpPr/>
          <p:nvPr/>
        </p:nvGrpSpPr>
        <p:grpSpPr>
          <a:xfrm>
            <a:off x="1701720" y="2819520"/>
            <a:ext cx="5918400" cy="1587240"/>
            <a:chOff x="1701720" y="2819520"/>
            <a:chExt cx="5918400" cy="1587240"/>
          </a:xfrm>
        </p:grpSpPr>
        <p:sp>
          <p:nvSpPr>
            <p:cNvPr id="187" name=""/>
            <p:cNvSpPr/>
            <p:nvPr/>
          </p:nvSpPr>
          <p:spPr>
            <a:xfrm>
              <a:off x="1701720" y="3886200"/>
              <a:ext cx="12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6781680" y="2819520"/>
              <a:ext cx="838440" cy="520560"/>
              <a:chOff x="6781680" y="2819520"/>
              <a:chExt cx="838440" cy="520560"/>
            </a:xfrm>
          </p:grpSpPr>
          <p:sp>
            <p:nvSpPr>
              <p:cNvPr id="189" name=""/>
              <p:cNvSpPr/>
              <p:nvPr/>
            </p:nvSpPr>
            <p:spPr>
              <a:xfrm>
                <a:off x="6781680" y="3276720"/>
                <a:ext cx="838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010280" y="2819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1" name=""/>
          <p:cNvGrpSpPr/>
          <p:nvPr/>
        </p:nvGrpSpPr>
        <p:grpSpPr>
          <a:xfrm>
            <a:off x="1752480" y="2819520"/>
            <a:ext cx="4343400" cy="825120"/>
            <a:chOff x="1752480" y="2819520"/>
            <a:chExt cx="4343400" cy="825120"/>
          </a:xfrm>
        </p:grpSpPr>
        <p:grpSp>
          <p:nvGrpSpPr>
            <p:cNvPr id="192" name=""/>
            <p:cNvGrpSpPr/>
            <p:nvPr/>
          </p:nvGrpSpPr>
          <p:grpSpPr>
            <a:xfrm>
              <a:off x="5257800" y="2819520"/>
              <a:ext cx="838080" cy="520560"/>
              <a:chOff x="5257800" y="2819520"/>
              <a:chExt cx="838080" cy="520560"/>
            </a:xfrm>
          </p:grpSpPr>
          <p:sp>
            <p:nvSpPr>
              <p:cNvPr id="193" name=""/>
              <p:cNvSpPr/>
              <p:nvPr/>
            </p:nvSpPr>
            <p:spPr>
              <a:xfrm>
                <a:off x="5410080" y="2819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257800" y="3276360"/>
                <a:ext cx="838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1752480" y="312408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1739880" y="3505320"/>
            <a:ext cx="4432320" cy="1282320"/>
            <a:chOff x="1739880" y="3505320"/>
            <a:chExt cx="4432320" cy="1282320"/>
          </a:xfrm>
        </p:grpSpPr>
        <p:sp>
          <p:nvSpPr>
            <p:cNvPr id="197" name=""/>
            <p:cNvSpPr/>
            <p:nvPr/>
          </p:nvSpPr>
          <p:spPr>
            <a:xfrm>
              <a:off x="1739880" y="426708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5105520" y="3505320"/>
              <a:ext cx="1066680" cy="914040"/>
              <a:chOff x="5105520" y="3505320"/>
              <a:chExt cx="1066680" cy="914040"/>
            </a:xfrm>
          </p:grpSpPr>
          <p:sp>
            <p:nvSpPr>
              <p:cNvPr id="199" name=""/>
              <p:cNvSpPr/>
              <p:nvPr/>
            </p:nvSpPr>
            <p:spPr>
              <a:xfrm>
                <a:off x="5638680" y="358128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105520" y="3505320"/>
                <a:ext cx="1066680" cy="914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1" name=""/>
          <p:cNvGrpSpPr/>
          <p:nvPr/>
        </p:nvGrpSpPr>
        <p:grpSpPr>
          <a:xfrm>
            <a:off x="1727280" y="3505320"/>
            <a:ext cx="6045120" cy="2044440"/>
            <a:chOff x="1727280" y="3505320"/>
            <a:chExt cx="6045120" cy="2044440"/>
          </a:xfrm>
        </p:grpSpPr>
        <p:sp>
          <p:nvSpPr>
            <p:cNvPr id="202" name=""/>
            <p:cNvSpPr/>
            <p:nvPr/>
          </p:nvSpPr>
          <p:spPr>
            <a:xfrm>
              <a:off x="1727280" y="50292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6705720" y="3505320"/>
              <a:ext cx="1066680" cy="914400"/>
              <a:chOff x="6705720" y="3505320"/>
              <a:chExt cx="1066680" cy="914400"/>
            </a:xfrm>
          </p:grpSpPr>
          <p:sp>
            <p:nvSpPr>
              <p:cNvPr id="204" name=""/>
              <p:cNvSpPr/>
              <p:nvPr/>
            </p:nvSpPr>
            <p:spPr>
              <a:xfrm flipV="1">
                <a:off x="6705720" y="3505320"/>
                <a:ext cx="106668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934320" y="3505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6" name=""/>
          <p:cNvGrpSpPr/>
          <p:nvPr/>
        </p:nvGrpSpPr>
        <p:grpSpPr>
          <a:xfrm>
            <a:off x="1663560" y="1600200"/>
            <a:ext cx="6870240" cy="4330440"/>
            <a:chOff x="1663560" y="1600200"/>
            <a:chExt cx="6870240" cy="4330440"/>
          </a:xfrm>
        </p:grpSpPr>
        <p:grpSp>
          <p:nvGrpSpPr>
            <p:cNvPr id="207" name=""/>
            <p:cNvGrpSpPr/>
            <p:nvPr/>
          </p:nvGrpSpPr>
          <p:grpSpPr>
            <a:xfrm>
              <a:off x="7467480" y="1600200"/>
              <a:ext cx="1066320" cy="1521720"/>
              <a:chOff x="7467480" y="1600200"/>
              <a:chExt cx="1066320" cy="1521720"/>
            </a:xfrm>
          </p:grpSpPr>
          <p:sp>
            <p:nvSpPr>
              <p:cNvPr id="208" name=""/>
              <p:cNvSpPr/>
              <p:nvPr/>
            </p:nvSpPr>
            <p:spPr>
              <a:xfrm>
                <a:off x="7467480" y="2057040"/>
                <a:ext cx="1066320" cy="1064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848360" y="16002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1663560" y="541008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727280" y="4622760"/>
            <a:ext cx="5282640" cy="1239840"/>
            <a:chOff x="1727280" y="4622760"/>
            <a:chExt cx="5282640" cy="1239840"/>
          </a:xfrm>
        </p:grpSpPr>
        <p:sp>
          <p:nvSpPr>
            <p:cNvPr id="212" name=""/>
            <p:cNvSpPr/>
            <p:nvPr/>
          </p:nvSpPr>
          <p:spPr>
            <a:xfrm>
              <a:off x="1727280" y="462276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5943600" y="4733280"/>
              <a:ext cx="1066320" cy="1129320"/>
              <a:chOff x="5943600" y="4733280"/>
              <a:chExt cx="1066320" cy="1129320"/>
            </a:xfrm>
          </p:grpSpPr>
          <p:sp>
            <p:nvSpPr>
              <p:cNvPr id="214" name=""/>
              <p:cNvSpPr/>
              <p:nvPr/>
            </p:nvSpPr>
            <p:spPr>
              <a:xfrm flipV="1">
                <a:off x="5943600" y="4732920"/>
                <a:ext cx="1066320" cy="1065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324480" y="5342040"/>
                <a:ext cx="380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6" name=""/>
          <p:cNvGrpSpPr/>
          <p:nvPr/>
        </p:nvGrpSpPr>
        <p:grpSpPr>
          <a:xfrm>
            <a:off x="762120" y="1905120"/>
            <a:ext cx="7543800" cy="3047400"/>
            <a:chOff x="762120" y="1905120"/>
            <a:chExt cx="7543800" cy="3047400"/>
          </a:xfrm>
        </p:grpSpPr>
        <p:sp>
          <p:nvSpPr>
            <p:cNvPr id="217" name=""/>
            <p:cNvSpPr/>
            <p:nvPr/>
          </p:nvSpPr>
          <p:spPr>
            <a:xfrm>
              <a:off x="6095880" y="28954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095880" y="42670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572000" y="28954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620120" y="28954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62120" y="190512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762120" y="236232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762120" y="1523880"/>
            <a:ext cx="4723920" cy="1739520"/>
            <a:chOff x="762120" y="1523880"/>
            <a:chExt cx="4723920" cy="1739520"/>
          </a:xfrm>
        </p:grpSpPr>
        <p:grpSp>
          <p:nvGrpSpPr>
            <p:cNvPr id="224" name=""/>
            <p:cNvGrpSpPr/>
            <p:nvPr/>
          </p:nvGrpSpPr>
          <p:grpSpPr>
            <a:xfrm>
              <a:off x="4419720" y="1523880"/>
              <a:ext cx="1066320" cy="1521720"/>
              <a:chOff x="4419720" y="1523880"/>
              <a:chExt cx="1066320" cy="1521720"/>
            </a:xfrm>
          </p:grpSpPr>
          <p:sp>
            <p:nvSpPr>
              <p:cNvPr id="225" name=""/>
              <p:cNvSpPr/>
              <p:nvPr/>
            </p:nvSpPr>
            <p:spPr>
              <a:xfrm>
                <a:off x="4419720" y="1980720"/>
                <a:ext cx="1066320" cy="1064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800600" y="15238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>
              <a:off x="762120" y="2742840"/>
              <a:ext cx="259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838080" y="15238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048120" y="1600200"/>
            <a:ext cx="1523880" cy="1676520"/>
            <a:chOff x="3048120" y="1600200"/>
            <a:chExt cx="1523880" cy="1676520"/>
          </a:xfrm>
        </p:grpSpPr>
        <p:sp>
          <p:nvSpPr>
            <p:cNvPr id="230" name=""/>
            <p:cNvSpPr/>
            <p:nvPr/>
          </p:nvSpPr>
          <p:spPr>
            <a:xfrm>
              <a:off x="4114800" y="3276720"/>
              <a:ext cx="457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048120" y="1600200"/>
              <a:ext cx="1218960" cy="1600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Graphical Representation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838080" y="2971800"/>
            <a:ext cx="7391520" cy="3340080"/>
            <a:chOff x="838080" y="2971800"/>
            <a:chExt cx="7391520" cy="3340080"/>
          </a:xfrm>
        </p:grpSpPr>
        <p:sp>
          <p:nvSpPr>
            <p:cNvPr id="234" name=""/>
            <p:cNvSpPr/>
            <p:nvPr/>
          </p:nvSpPr>
          <p:spPr>
            <a:xfrm>
              <a:off x="7696080" y="2971800"/>
              <a:ext cx="53352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38080" y="5791320"/>
              <a:ext cx="17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 =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5-09-29T09:48:04Z</dcterms:modified>
  <cp:revision>139</cp:revision>
  <dc:subject/>
  <dc:title>Models for Regular Languages</dc:title>
</cp:coreProperties>
</file>