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915-39AB-48A6-897E-B61E2291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1A5-3D7B-4772-B38E-12F33EA8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82C-2978-46DD-A3ED-46F09C35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D34-B417-4182-B1D5-88BF0D8C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FDA-894C-4535-9390-DC97232A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653-24F5-4DE3-A480-D8B6E2F0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802-2DE0-42DD-B347-49770C50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660-B1A8-42F5-864E-48E3FADC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A23-2FDA-4DEE-A471-99549805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3F2-1F55-48DE-AC28-6F109300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DA6-8803-4C4B-9183-4C345E30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C5B-8658-42B5-9A67-71D90423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B641-1D14-4515-AA2D-B9D4D1F6305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5:20Z</dcterms:modified>
  <cp:revision>209</cp:revision>
  <dc:subject/>
  <dc:title>Syntax Directed Translation and Intermediate Code</dc:title>
</cp:coreProperties>
</file>