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BD50-D321-4012-819E-C79852012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1CCD-2E30-45CC-B28F-3E399E1BD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E188-6E3A-4770-A4C9-0A4869019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AA1D-2921-4B25-B296-B82B8EBAC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AB31-2334-4C00-B396-D08F4A7FB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298F-3EAF-411F-86EB-1A5FE4530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D2B8-1DD1-4CEA-B284-FC0E657CD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D7F9-ACB9-4133-A631-5146DFAEB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28FB-313B-485C-9DE7-667727E21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256D-7C31-4B56-9EA1-E8743EDB1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167E-6964-4227-A6E3-D9F1739B2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9CA8-F78E-4641-80D7-FEA24BA70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DF7A5-6ABC-484D-A339-E11D62BA797C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1080"/>
            <a:ext cx="784872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Part V.</a:t>
            </a:r>
            <a:br>
              <a:rPr sz="6000"/>
            </a:b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Properties of Regular Languag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685800" y="4343400"/>
            <a:ext cx="7772400" cy="4572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85800" y="2590920"/>
            <a:ext cx="7772400" cy="13716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Pumping Lemma: Application II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 1/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85800" y="1066680"/>
            <a:ext cx="792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e can use the pumping lemma to pr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me other theore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85800" y="2057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09480" y="204228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85800" y="2521800"/>
            <a:ext cx="8077320" cy="14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be a DFA and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b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pumping lemma cons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th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number of states in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. The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) is infinite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there exists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09120" y="3885480"/>
            <a:ext cx="129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22800" y="4280400"/>
            <a:ext cx="79084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there exists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z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7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L</a:t>
            </a:r>
            <a:r>
              <a:rPr b="1" lang="cs-CZ" sz="27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i="1" lang="cs-CZ" sz="27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lang="cs-CZ" sz="27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7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ff0000"/>
                </a:solidFill>
                <a:latin typeface="Symbol"/>
                <a:ea typeface="Symbol"/>
              </a:rPr>
              <a:t>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ff0000"/>
                </a:solidFill>
                <a:latin typeface="Times New Roman"/>
              </a:rPr>
              <a:t>|</a:t>
            </a:r>
            <a:r>
              <a:rPr b="1" i="1" lang="en-GB" sz="27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1" lang="en-US" sz="2700" spc="-1" strike="noStrike">
                <a:solidFill>
                  <a:srgbClr val="ff0000"/>
                </a:solidFill>
                <a:latin typeface="Times New Roman"/>
              </a:rPr>
              <a:t>|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7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7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) is infinite</a:t>
            </a:r>
            <a:r>
              <a:rPr b="1" lang="cs-CZ" sz="27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09480" y="4723920"/>
            <a:ext cx="83059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z </a:t>
            </a:r>
            <a:r>
              <a:rPr b="1" lang="cs-CZ" sz="30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 L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0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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|</a:t>
            </a:r>
            <a:r>
              <a:rPr b="1" i="1" lang="en-GB" sz="30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|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, then by PL: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z = uvw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, and for each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0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uv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2133360" y="5638680"/>
            <a:ext cx="6019560" cy="797760"/>
            <a:chOff x="2133360" y="5638680"/>
            <a:chExt cx="6019560" cy="797760"/>
          </a:xfrm>
        </p:grpSpPr>
        <p:sp>
          <p:nvSpPr>
            <p:cNvPr id="329" name=""/>
            <p:cNvSpPr/>
            <p:nvPr/>
          </p:nvSpPr>
          <p:spPr>
            <a:xfrm rot="5400000">
              <a:off x="2475720" y="5295960"/>
              <a:ext cx="152640" cy="83772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21600 h 837720"/>
                <a:gd name="textAreaBottom" fmla="*/ 816120 h 837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rot="5400000">
              <a:off x="6552720" y="4191120"/>
              <a:ext cx="152640" cy="304776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79200 h 3047760"/>
                <a:gd name="textAreaBottom" fmla="*/ 2968560 h 3047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276360" y="5885640"/>
              <a:ext cx="2590560" cy="5508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30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) is infinite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590560" y="5867280"/>
              <a:ext cx="68544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5866920" y="5867280"/>
              <a:ext cx="76140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685800" y="1219320"/>
            <a:ext cx="7772400" cy="4572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Pumping Lemma: Application II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/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73560" y="1156320"/>
            <a:ext cx="7835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7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7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) is infinite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there exists </a:t>
            </a:r>
            <a:r>
              <a:rPr b="0" i="1" lang="cs-CZ" sz="27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7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7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cs-CZ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GB" sz="27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GB" sz="27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80880" y="4647600"/>
            <a:ext cx="8610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Assum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500" spc="-1" strike="noStrike">
                <a:solidFill>
                  <a:srgbClr val="339933"/>
                </a:solidFill>
                <a:latin typeface="Times New Roman"/>
              </a:rPr>
              <a:t>L</a:t>
            </a:r>
            <a:r>
              <a:rPr b="1" lang="cs-CZ" sz="25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i="1" lang="cs-CZ" sz="2500" spc="-1" strike="noStrike">
                <a:solidFill>
                  <a:srgbClr val="339933"/>
                </a:solidFill>
                <a:latin typeface="Times New Roman"/>
              </a:rPr>
              <a:t>M</a:t>
            </a:r>
            <a:r>
              <a:rPr b="1" lang="cs-CZ" sz="2500" spc="-1" strike="noStrike">
                <a:solidFill>
                  <a:srgbClr val="339933"/>
                </a:solidFill>
                <a:latin typeface="Times New Roman"/>
              </a:rPr>
              <a:t>)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500" spc="-1" strike="noStrike">
                <a:solidFill>
                  <a:srgbClr val="339933"/>
                </a:solidFill>
                <a:latin typeface="Times New Roman"/>
              </a:rPr>
              <a:t>is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500" spc="-1" strike="noStrike">
                <a:solidFill>
                  <a:srgbClr val="339933"/>
                </a:solidFill>
                <a:latin typeface="Times New Roman"/>
              </a:rPr>
              <a:t>infinite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there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exists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GB" sz="25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33520" y="3809520"/>
            <a:ext cx="784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a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ove by contradiction th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) is infinite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there exists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57720" y="1675800"/>
            <a:ext cx="490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We prove by contradiction, t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09560" y="2228040"/>
            <a:ext cx="2504880" cy="5508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 is infinit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36960" y="2228040"/>
            <a:ext cx="4548600" cy="5508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there exists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975680" y="3218760"/>
            <a:ext cx="5315040" cy="5508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there exists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| &lt;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276720" y="2590920"/>
            <a:ext cx="685800" cy="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791320" y="2819520"/>
            <a:ext cx="0" cy="38088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354120" y="205668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259600" y="274248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85800" y="3886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4774680" y="5181480"/>
            <a:ext cx="3836160" cy="618840"/>
            <a:chOff x="4774680" y="5181480"/>
            <a:chExt cx="3836160" cy="618840"/>
          </a:xfrm>
        </p:grpSpPr>
        <p:sp>
          <p:nvSpPr>
            <p:cNvPr id="350" name=""/>
            <p:cNvSpPr/>
            <p:nvPr/>
          </p:nvSpPr>
          <p:spPr>
            <a:xfrm>
              <a:off x="4774680" y="5325480"/>
              <a:ext cx="383616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for all </a:t>
              </a:r>
              <a:r>
                <a:rPr b="0" i="1" lang="cs-CZ" sz="2500" spc="-1" strike="noStrike">
                  <a:solidFill>
                    <a:srgbClr val="000000"/>
                  </a:solidFill>
                  <a:latin typeface="Times New Roman"/>
                </a:rPr>
                <a:t>z </a:t>
              </a:r>
              <a:r>
                <a:rPr b="0" lang="cs-CZ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cs-CZ" sz="2500" spc="-1" strike="noStrike">
                  <a:solidFill>
                    <a:srgbClr val="000000"/>
                  </a:solidFill>
                  <a:latin typeface="Times New Roman"/>
                </a:rPr>
                <a:t> L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5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) holds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GB" sz="25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| &lt; </a:t>
              </a:r>
              <a:r>
                <a:rPr b="0" i="1" lang="en-US" sz="25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620120" y="5181480"/>
              <a:ext cx="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6635160" y="5791320"/>
            <a:ext cx="2020320" cy="702720"/>
            <a:chOff x="6635160" y="5791320"/>
            <a:chExt cx="2020320" cy="702720"/>
          </a:xfrm>
        </p:grpSpPr>
        <p:sp>
          <p:nvSpPr>
            <p:cNvPr id="353" name=""/>
            <p:cNvSpPr/>
            <p:nvPr/>
          </p:nvSpPr>
          <p:spPr>
            <a:xfrm>
              <a:off x="6635160" y="6019200"/>
              <a:ext cx="202032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5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r>
                <a:rPr b="1" lang="cs-CZ" sz="25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cs-CZ" sz="2500" spc="-1" strike="noStrike">
                  <a:solidFill>
                    <a:srgbClr val="ff0000"/>
                  </a:solidFill>
                  <a:latin typeface="Times New Roman"/>
                </a:rPr>
                <a:t>M</a:t>
              </a:r>
              <a:r>
                <a:rPr b="1" lang="cs-CZ" sz="2500" spc="-1" strike="noStrike">
                  <a:solidFill>
                    <a:srgbClr val="ff0000"/>
                  </a:solidFill>
                  <a:latin typeface="Times New Roman"/>
                </a:rPr>
                <a:t>) is finite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620120" y="5791320"/>
              <a:ext cx="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630360" y="5181480"/>
            <a:ext cx="6062400" cy="1148400"/>
            <a:chOff x="630360" y="5181480"/>
            <a:chExt cx="6062400" cy="1148400"/>
          </a:xfrm>
        </p:grpSpPr>
        <p:sp>
          <p:nvSpPr>
            <p:cNvPr id="356" name=""/>
            <p:cNvSpPr/>
            <p:nvPr/>
          </p:nvSpPr>
          <p:spPr>
            <a:xfrm>
              <a:off x="630360" y="5809320"/>
              <a:ext cx="2523240" cy="52056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Contradiction !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200400" y="5181480"/>
              <a:ext cx="812880" cy="787680"/>
            </a:xfrm>
            <a:custGeom>
              <a:avLst/>
              <a:gdLst/>
              <a:ahLst/>
              <a:rect l="l" t="t" r="r" b="b"/>
              <a:pathLst>
                <a:path w="504" h="496">
                  <a:moveTo>
                    <a:pt x="0" y="496"/>
                  </a:moveTo>
                  <a:cubicBezTo>
                    <a:pt x="67" y="459"/>
                    <a:pt x="332" y="347"/>
                    <a:pt x="416" y="264"/>
                  </a:cubicBezTo>
                  <a:cubicBezTo>
                    <a:pt x="500" y="181"/>
                    <a:pt x="486" y="55"/>
                    <a:pt x="504" y="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200400" y="5837400"/>
              <a:ext cx="3492360" cy="385560"/>
            </a:xfrm>
            <a:custGeom>
              <a:avLst/>
              <a:gdLst/>
              <a:ahLst/>
              <a:rect l="l" t="t" r="r" b="b"/>
              <a:pathLst>
                <a:path w="2168" h="243">
                  <a:moveTo>
                    <a:pt x="0" y="179"/>
                  </a:moveTo>
                  <a:cubicBezTo>
                    <a:pt x="120" y="151"/>
                    <a:pt x="367" y="0"/>
                    <a:pt x="728" y="11"/>
                  </a:cubicBezTo>
                  <a:cubicBezTo>
                    <a:pt x="1089" y="22"/>
                    <a:pt x="1868" y="195"/>
                    <a:pt x="2168" y="243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Pumping Lemma: </a:t>
            </a:r>
            <a:r>
              <a:rPr b="0" lang="en-GB" sz="41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 II. 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/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85800" y="3782880"/>
            <a:ext cx="6934320" cy="9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z</a:t>
            </a:r>
            <a:r>
              <a:rPr b="1" lang="en-US" sz="2500" spc="-1" strike="noStrike" baseline="-25000">
                <a:solidFill>
                  <a:srgbClr val="3333cc"/>
                </a:solidFill>
                <a:latin typeface="Times New Roman"/>
              </a:rPr>
              <a:t>0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1" i="1" lang="cs-CZ" sz="2500" spc="-1" strike="noStrike">
                <a:solidFill>
                  <a:srgbClr val="3333cc"/>
                </a:solidFill>
                <a:latin typeface="Times New Roman"/>
              </a:rPr>
              <a:t> L</a:t>
            </a:r>
            <a:r>
              <a:rPr b="1" lang="cs-CZ" sz="25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i="1" lang="cs-CZ" sz="25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lang="cs-CZ" sz="25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and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1" i="1" lang="en-GB" sz="2500" spc="-1" strike="noStrike">
                <a:solidFill>
                  <a:srgbClr val="3333cc"/>
                </a:solidFill>
                <a:latin typeface="Times New Roman"/>
              </a:rPr>
              <a:t>z</a:t>
            </a:r>
            <a:r>
              <a:rPr b="1" lang="en-US" sz="2500" spc="-1" strike="noStrike" baseline="-25000">
                <a:solidFill>
                  <a:srgbClr val="3333cc"/>
                </a:solidFill>
                <a:latin typeface="Times New Roman"/>
              </a:rPr>
              <a:t>0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| </a:t>
            </a:r>
            <a:r>
              <a:rPr b="1" lang="en-US" sz="2500" spc="-1" strike="noStrike">
                <a:solidFill>
                  <a:srgbClr val="3333cc"/>
                </a:solidFill>
                <a:latin typeface="Symbol"/>
                <a:ea typeface="Symbol"/>
              </a:rPr>
              <a:t>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k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the PL implies:  </a:t>
            </a:r>
            <a:r>
              <a:rPr b="0" i="1" lang="en-GB" sz="25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uvw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500" spc="-1" strike="noStrike">
                <a:solidFill>
                  <a:srgbClr val="ff66ff"/>
                </a:solidFill>
                <a:latin typeface="Times New Roman"/>
              </a:rPr>
              <a:t>|</a:t>
            </a:r>
            <a:r>
              <a:rPr b="1" i="1" lang="cs-CZ" sz="2500" spc="-1" strike="noStrike">
                <a:solidFill>
                  <a:srgbClr val="ff66ff"/>
                </a:solidFill>
                <a:latin typeface="Times New Roman"/>
              </a:rPr>
              <a:t>u</a:t>
            </a:r>
            <a:r>
              <a:rPr b="1" i="1" lang="en-GB" sz="2500" spc="-1" strike="noStrike">
                <a:solidFill>
                  <a:srgbClr val="ff66ff"/>
                </a:solidFill>
                <a:latin typeface="Times New Roman"/>
              </a:rPr>
              <a:t>v</a:t>
            </a:r>
            <a:r>
              <a:rPr b="1" lang="en-US" sz="2500" spc="-1" strike="noStrike">
                <a:solidFill>
                  <a:srgbClr val="ff66ff"/>
                </a:solidFill>
                <a:latin typeface="Times New Roman"/>
              </a:rPr>
              <a:t>| </a:t>
            </a:r>
            <a:r>
              <a:rPr b="1" lang="en-US" sz="2500" spc="-1" strike="noStrike">
                <a:solidFill>
                  <a:srgbClr val="ff66ff"/>
                </a:solidFill>
                <a:latin typeface="Symbol"/>
                <a:ea typeface="Symbol"/>
              </a:rPr>
              <a:t></a:t>
            </a:r>
            <a:r>
              <a:rPr b="1" lang="en-GB" sz="25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i="1" lang="en-GB" sz="2500" spc="-1" strike="noStrike">
                <a:solidFill>
                  <a:srgbClr val="ff66ff"/>
                </a:solidFill>
                <a:latin typeface="Times New Roman"/>
              </a:rPr>
              <a:t>k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and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 for each </a:t>
            </a:r>
            <a:r>
              <a:rPr b="0" i="1" lang="en-GB" sz="25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5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 0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uv</a:t>
            </a:r>
            <a:r>
              <a:rPr b="0" i="1" lang="en-US" sz="25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en-GB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5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09480" y="106596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b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ove by contradi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431640" y="3492360"/>
            <a:ext cx="5541480" cy="3142440"/>
            <a:chOff x="431640" y="3492360"/>
            <a:chExt cx="5541480" cy="3142440"/>
          </a:xfrm>
        </p:grpSpPr>
        <p:sp>
          <p:nvSpPr>
            <p:cNvPr id="364" name=""/>
            <p:cNvSpPr/>
            <p:nvPr/>
          </p:nvSpPr>
          <p:spPr>
            <a:xfrm>
              <a:off x="3449880" y="6114240"/>
              <a:ext cx="2523240" cy="52056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Contradiction !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31640" y="3492360"/>
              <a:ext cx="2971800" cy="3073680"/>
            </a:xfrm>
            <a:custGeom>
              <a:avLst/>
              <a:gdLst/>
              <a:ahLst/>
              <a:rect l="l" t="t" r="r" b="b"/>
              <a:pathLst>
                <a:path w="1872" h="1936">
                  <a:moveTo>
                    <a:pt x="1872" y="1936"/>
                  </a:moveTo>
                  <a:cubicBezTo>
                    <a:pt x="1609" y="1908"/>
                    <a:pt x="592" y="1933"/>
                    <a:pt x="296" y="1768"/>
                  </a:cubicBezTo>
                  <a:cubicBezTo>
                    <a:pt x="0" y="1603"/>
                    <a:pt x="113" y="1207"/>
                    <a:pt x="96" y="944"/>
                  </a:cubicBezTo>
                  <a:cubicBezTo>
                    <a:pt x="79" y="681"/>
                    <a:pt x="113" y="349"/>
                    <a:pt x="192" y="192"/>
                  </a:cubicBezTo>
                  <a:cubicBezTo>
                    <a:pt x="271" y="35"/>
                    <a:pt x="490" y="40"/>
                    <a:pt x="568" y="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133720" y="6019920"/>
              <a:ext cx="1282680" cy="317520"/>
            </a:xfrm>
            <a:custGeom>
              <a:avLst/>
              <a:gdLst/>
              <a:ahLst/>
              <a:rect l="l" t="t" r="r" b="b"/>
              <a:pathLst>
                <a:path w="808" h="200">
                  <a:moveTo>
                    <a:pt x="808" y="200"/>
                  </a:moveTo>
                  <a:cubicBezTo>
                    <a:pt x="699" y="192"/>
                    <a:pt x="287" y="185"/>
                    <a:pt x="152" y="152"/>
                  </a:cubicBezTo>
                  <a:cubicBezTo>
                    <a:pt x="17" y="119"/>
                    <a:pt x="32" y="32"/>
                    <a:pt x="0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685800" y="2285280"/>
            <a:ext cx="7696080" cy="610200"/>
            <a:chOff x="685800" y="2285280"/>
            <a:chExt cx="7696080" cy="610200"/>
          </a:xfrm>
        </p:grpSpPr>
        <p:sp>
          <p:nvSpPr>
            <p:cNvPr id="368" name=""/>
            <p:cNvSpPr/>
            <p:nvPr/>
          </p:nvSpPr>
          <p:spPr>
            <a:xfrm>
              <a:off x="685800" y="2285280"/>
              <a:ext cx="533412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Assume that </a:t>
              </a:r>
              <a:r>
                <a:rPr b="1" lang="en-US" sz="2500" spc="-1" strike="noStrike">
                  <a:solidFill>
                    <a:srgbClr val="339933"/>
                  </a:solidFill>
                  <a:latin typeface="Times New Roman"/>
                </a:rPr>
                <a:t>there is</a:t>
              </a:r>
              <a:r>
                <a:rPr b="1" lang="cs-CZ" sz="25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i="1" lang="cs-CZ" sz="2500" spc="-1" strike="noStrike">
                  <a:solidFill>
                    <a:srgbClr val="339933"/>
                  </a:solidFill>
                  <a:latin typeface="Times New Roman"/>
                </a:rPr>
                <a:t>z </a:t>
              </a:r>
              <a:r>
                <a:rPr b="1" lang="cs-CZ" sz="25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</a:t>
              </a:r>
              <a:r>
                <a:rPr b="1" i="1" lang="cs-CZ" sz="2500" spc="-1" strike="noStrike">
                  <a:solidFill>
                    <a:srgbClr val="339933"/>
                  </a:solidFill>
                  <a:latin typeface="Times New Roman"/>
                </a:rPr>
                <a:t> L</a:t>
              </a:r>
              <a:r>
                <a:rPr b="1" lang="cs-CZ" sz="2500" spc="-1" strike="noStrike">
                  <a:solidFill>
                    <a:srgbClr val="339933"/>
                  </a:solidFill>
                  <a:latin typeface="Times New Roman"/>
                </a:rPr>
                <a:t>(</a:t>
              </a:r>
              <a:r>
                <a:rPr b="1" i="1" lang="cs-CZ" sz="2500" spc="-1" strike="noStrike">
                  <a:solidFill>
                    <a:srgbClr val="339933"/>
                  </a:solidFill>
                  <a:latin typeface="Times New Roman"/>
                </a:rPr>
                <a:t>M</a:t>
              </a:r>
              <a:r>
                <a:rPr b="1" lang="cs-CZ" sz="2500" spc="-1" strike="noStrike">
                  <a:solidFill>
                    <a:srgbClr val="339933"/>
                  </a:solidFill>
                  <a:latin typeface="Times New Roman"/>
                </a:rPr>
                <a:t>), </a:t>
              </a:r>
              <a:r>
                <a:rPr b="1" lang="en-US" sz="2500" spc="-1" strike="noStrike">
                  <a:solidFill>
                    <a:srgbClr val="339933"/>
                  </a:solidFill>
                  <a:latin typeface="Times New Roman"/>
                </a:rPr>
                <a:t>|</a:t>
              </a:r>
              <a:r>
                <a:rPr b="1" i="1" lang="en-GB" sz="2500" spc="-1" strike="noStrike">
                  <a:solidFill>
                    <a:srgbClr val="339933"/>
                  </a:solidFill>
                  <a:latin typeface="Times New Roman"/>
                </a:rPr>
                <a:t>z</a:t>
              </a:r>
              <a:r>
                <a:rPr b="1" lang="en-US" sz="2500" spc="-1" strike="noStrike">
                  <a:solidFill>
                    <a:srgbClr val="339933"/>
                  </a:solidFill>
                  <a:latin typeface="Times New Roman"/>
                </a:rPr>
                <a:t>| </a:t>
              </a:r>
              <a:r>
                <a:rPr b="1" lang="en-US" sz="25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</a:t>
              </a:r>
              <a:r>
                <a:rPr b="1" lang="en-US" sz="25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i="1" lang="en-US" sz="2500" spc="-1" strike="noStrike">
                  <a:solidFill>
                    <a:srgbClr val="339933"/>
                  </a:solidFill>
                  <a:latin typeface="Times New Roman"/>
                </a:rPr>
                <a:t>k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019920" y="2819520"/>
              <a:ext cx="2361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172200" y="27432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097320" y="22852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544880" y="2285280"/>
              <a:ext cx="537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553080" y="2743200"/>
              <a:ext cx="152640" cy="15228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934320" y="2743200"/>
              <a:ext cx="152280" cy="15228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315200" y="2743200"/>
              <a:ext cx="152280" cy="15228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696080" y="2743200"/>
              <a:ext cx="152640" cy="15228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8077320" y="2743200"/>
              <a:ext cx="152280" cy="15228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621720" y="4882320"/>
            <a:ext cx="2183400" cy="61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uw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500" spc="-1" strike="noStrike">
                <a:solidFill>
                  <a:srgbClr val="ff9933"/>
                </a:solidFill>
                <a:latin typeface="Times New Roman"/>
              </a:rPr>
              <a:t>|</a:t>
            </a:r>
            <a:r>
              <a:rPr b="1" i="1" lang="en-GB" sz="2500" spc="-1" strike="noStrike">
                <a:solidFill>
                  <a:srgbClr val="ff9933"/>
                </a:solidFill>
                <a:latin typeface="Times New Roman"/>
              </a:rPr>
              <a:t>z</a:t>
            </a:r>
            <a:r>
              <a:rPr b="1" lang="en-US" sz="2500" spc="-1" strike="noStrike" baseline="-25000">
                <a:solidFill>
                  <a:srgbClr val="ff9933"/>
                </a:solidFill>
                <a:latin typeface="Times New Roman"/>
              </a:rPr>
              <a:t>0</a:t>
            </a:r>
            <a:r>
              <a:rPr b="1" lang="en-US" sz="2500" spc="-1" strike="noStrike">
                <a:solidFill>
                  <a:srgbClr val="ff9933"/>
                </a:solidFill>
                <a:latin typeface="Times New Roman"/>
              </a:rPr>
              <a:t>|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66ff"/>
                </a:solidFill>
                <a:latin typeface="Times New Roman"/>
              </a:rPr>
              <a:t>|</a:t>
            </a:r>
            <a:r>
              <a:rPr b="1" i="1" lang="en-GB" sz="2500" spc="-1" strike="noStrike">
                <a:solidFill>
                  <a:srgbClr val="ff66ff"/>
                </a:solidFill>
                <a:latin typeface="Times New Roman"/>
              </a:rPr>
              <a:t>v</a:t>
            </a:r>
            <a:r>
              <a:rPr b="1" lang="en-US" sz="2500" spc="-1" strike="noStrike">
                <a:solidFill>
                  <a:srgbClr val="ff66ff"/>
                </a:solidFill>
                <a:latin typeface="Times New Roman"/>
              </a:rPr>
              <a:t>|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4416480" y="4648320"/>
            <a:ext cx="4377960" cy="808920"/>
            <a:chOff x="4416480" y="4648320"/>
            <a:chExt cx="4377960" cy="808920"/>
          </a:xfrm>
        </p:grpSpPr>
        <p:sp>
          <p:nvSpPr>
            <p:cNvPr id="380" name=""/>
            <p:cNvSpPr/>
            <p:nvPr/>
          </p:nvSpPr>
          <p:spPr>
            <a:xfrm>
              <a:off x="5943600" y="46483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6480" y="4875840"/>
              <a:ext cx="4377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for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= 0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i="1" lang="en-US" sz="2500" spc="-1" strike="noStrike">
                  <a:solidFill>
                    <a:srgbClr val="000000"/>
                  </a:solidFill>
                  <a:latin typeface="Times New Roman"/>
                </a:rPr>
                <a:t> uv</a:t>
              </a:r>
              <a:r>
                <a:rPr b="0" i="1" lang="en-US" sz="2500" spc="-1" strike="noStrike" baseline="30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i="1" lang="en-US" sz="2500" spc="-1" strike="noStrike">
                  <a:solidFill>
                    <a:srgbClr val="000000"/>
                  </a:solidFill>
                  <a:latin typeface="Times New Roman"/>
                </a:rPr>
                <a:t>w =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uw </a:t>
              </a: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2" name=""/>
          <p:cNvSpPr/>
          <p:nvPr/>
        </p:nvSpPr>
        <p:spPr>
          <a:xfrm>
            <a:off x="685800" y="5307120"/>
            <a:ext cx="815328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Summary: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uw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uw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uw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| &lt; |</a:t>
            </a:r>
            <a:r>
              <a:rPr b="0" i="1" lang="en-GB" sz="25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lang="cs-CZ" sz="25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728640" y="5611680"/>
            <a:ext cx="744084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1" lang="en-US" sz="2500" spc="-1" strike="noStrike" baseline="-25000">
                <a:solidFill>
                  <a:srgbClr val="ff0000"/>
                </a:solidFill>
                <a:latin typeface="Times New Roman"/>
              </a:rPr>
              <a:t>0</a:t>
            </a: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 is not the shortest string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satisfying </a:t>
            </a:r>
            <a:r>
              <a:rPr b="0" i="1" lang="en-GB" sz="25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GB" sz="25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1487520" y="4571280"/>
            <a:ext cx="1431720" cy="534240"/>
            <a:chOff x="1487520" y="4571280"/>
            <a:chExt cx="1431720" cy="534240"/>
          </a:xfrm>
        </p:grpSpPr>
        <p:sp>
          <p:nvSpPr>
            <p:cNvPr id="385" name=""/>
            <p:cNvSpPr/>
            <p:nvPr/>
          </p:nvSpPr>
          <p:spPr>
            <a:xfrm rot="5400000">
              <a:off x="2476080" y="4838760"/>
              <a:ext cx="152640" cy="380880"/>
            </a:xfrm>
            <a:custGeom>
              <a:avLst/>
              <a:gdLst>
                <a:gd name="textAreaLeft" fmla="*/ 97560 w 152640"/>
                <a:gd name="textAreaRight" fmla="*/ 153000 w 152640"/>
                <a:gd name="textAreaTop" fmla="*/ 9720 h 380880"/>
                <a:gd name="textAreaBottom" fmla="*/ 37116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rot="5400000">
              <a:off x="1828440" y="4800600"/>
              <a:ext cx="152640" cy="457200"/>
            </a:xfrm>
            <a:custGeom>
              <a:avLst/>
              <a:gdLst>
                <a:gd name="textAreaLeft" fmla="*/ 97560 w 152640"/>
                <a:gd name="textAreaRight" fmla="*/ 153000 w 152640"/>
                <a:gd name="textAreaTop" fmla="*/ 11880 h 457200"/>
                <a:gd name="textAreaBottom" fmla="*/ 4453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487520" y="4571280"/>
              <a:ext cx="90756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9933"/>
                  </a:solidFill>
                  <a:latin typeface="Symbol"/>
                  <a:ea typeface="Symbol"/>
                </a:rPr>
                <a:t></a:t>
              </a:r>
              <a:r>
                <a:rPr b="1" lang="en-US" sz="2500" spc="-1" strike="noStrike">
                  <a:solidFill>
                    <a:srgbClr val="ff9933"/>
                  </a:solidFill>
                  <a:latin typeface="Times New Roman"/>
                </a:rPr>
                <a:t> </a:t>
              </a:r>
              <a:r>
                <a:rPr b="1" lang="en-US" sz="2500" spc="-1" strike="noStrike">
                  <a:solidFill>
                    <a:srgbClr val="ff9933"/>
                  </a:solidFill>
                  <a:latin typeface="Times New Roman"/>
                </a:rPr>
                <a:t>2</a:t>
              </a:r>
              <a:r>
                <a:rPr b="1" i="1" lang="en-US" sz="2500" spc="-1" strike="noStrike">
                  <a:solidFill>
                    <a:srgbClr val="ff9933"/>
                  </a:solidFill>
                  <a:latin typeface="Times New Roman"/>
                </a:rPr>
                <a:t>k</a:t>
              </a:r>
              <a:r>
                <a:rPr b="0" i="1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249280" y="4571280"/>
              <a:ext cx="66996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66ff"/>
                  </a:solidFill>
                  <a:latin typeface="Symbol"/>
                  <a:ea typeface="Symbol"/>
                </a:rPr>
                <a:t></a:t>
              </a:r>
              <a:r>
                <a:rPr b="1" lang="en-US" sz="2500" spc="-1" strike="noStrike">
                  <a:solidFill>
                    <a:srgbClr val="ff66ff"/>
                  </a:solidFill>
                  <a:latin typeface="Times New Roman"/>
                </a:rPr>
                <a:t> </a:t>
              </a:r>
              <a:r>
                <a:rPr b="1" i="1" lang="en-US" sz="2500" spc="-1" strike="noStrike">
                  <a:solidFill>
                    <a:srgbClr val="ff66ff"/>
                  </a:solidFill>
                  <a:latin typeface="Times New Roman"/>
                </a:rPr>
                <a:t>k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9" name=""/>
          <p:cNvGrpSpPr/>
          <p:nvPr/>
        </p:nvGrpSpPr>
        <p:grpSpPr>
          <a:xfrm>
            <a:off x="689040" y="3021120"/>
            <a:ext cx="8033040" cy="908280"/>
            <a:chOff x="689040" y="3021120"/>
            <a:chExt cx="8033040" cy="908280"/>
          </a:xfrm>
        </p:grpSpPr>
        <p:sp>
          <p:nvSpPr>
            <p:cNvPr id="390" name=""/>
            <p:cNvSpPr/>
            <p:nvPr/>
          </p:nvSpPr>
          <p:spPr>
            <a:xfrm>
              <a:off x="689040" y="3021120"/>
              <a:ext cx="7642440" cy="52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Let </a:t>
              </a:r>
              <a:r>
                <a:rPr b="1" i="1" lang="en-US" sz="2500" spc="-1" strike="noStrike">
                  <a:solidFill>
                    <a:srgbClr val="339933"/>
                  </a:solidFill>
                  <a:latin typeface="Times New Roman"/>
                </a:rPr>
                <a:t>z</a:t>
              </a:r>
              <a:r>
                <a:rPr b="1" lang="en-US" sz="2500" spc="-1" strike="noStrike" baseline="-25000">
                  <a:solidFill>
                    <a:srgbClr val="339933"/>
                  </a:solidFill>
                  <a:latin typeface="Times New Roman"/>
                </a:rPr>
                <a:t>0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be </a:t>
              </a:r>
              <a:r>
                <a:rPr b="1" lang="en-US" sz="2500" spc="-1" strike="noStrike">
                  <a:solidFill>
                    <a:srgbClr val="339933"/>
                  </a:solidFill>
                  <a:latin typeface="Times New Roman"/>
                </a:rPr>
                <a:t>the</a:t>
              </a:r>
              <a:r>
                <a:rPr b="0" lang="en-US" sz="25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US" sz="2500" spc="-1" strike="noStrike">
                  <a:solidFill>
                    <a:srgbClr val="339933"/>
                  </a:solidFill>
                  <a:latin typeface="Times New Roman"/>
                </a:rPr>
                <a:t>shortest string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satisfying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500" spc="-1" strike="noStrike">
                  <a:solidFill>
                    <a:srgbClr val="3333cc"/>
                  </a:solidFill>
                  <a:latin typeface="Times New Roman"/>
                </a:rPr>
                <a:t>z</a:t>
              </a:r>
              <a:r>
                <a:rPr b="1" lang="en-US" sz="2500" spc="-1" strike="noStrike" baseline="-25000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1" lang="en-US" sz="25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5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</a:t>
              </a:r>
              <a:r>
                <a:rPr b="1" i="1" lang="cs-CZ" sz="2500" spc="-1" strike="noStrike">
                  <a:solidFill>
                    <a:srgbClr val="3333cc"/>
                  </a:solidFill>
                  <a:latin typeface="Times New Roman"/>
                </a:rPr>
                <a:t> L</a:t>
              </a:r>
              <a:r>
                <a:rPr b="1" lang="cs-CZ" sz="2500" spc="-1" strike="noStrike">
                  <a:solidFill>
                    <a:srgbClr val="3333cc"/>
                  </a:solidFill>
                  <a:latin typeface="Times New Roman"/>
                </a:rPr>
                <a:t>(</a:t>
              </a:r>
              <a:r>
                <a:rPr b="1" i="1" lang="cs-CZ" sz="2500" spc="-1" strike="noStrike">
                  <a:solidFill>
                    <a:srgbClr val="3333cc"/>
                  </a:solidFill>
                  <a:latin typeface="Times New Roman"/>
                </a:rPr>
                <a:t>M</a:t>
              </a:r>
              <a:r>
                <a:rPr b="1" lang="cs-CZ" sz="2500" spc="-1" strike="noStrike">
                  <a:solidFill>
                    <a:srgbClr val="3333cc"/>
                  </a:solidFill>
                  <a:latin typeface="Times New Roman"/>
                </a:rPr>
                <a:t>)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500" spc="-1" strike="noStrike">
                  <a:solidFill>
                    <a:srgbClr val="3333cc"/>
                  </a:solidFill>
                  <a:latin typeface="Times New Roman"/>
                </a:rPr>
                <a:t>|</a:t>
              </a:r>
              <a:r>
                <a:rPr b="1" i="1" lang="en-GB" sz="2500" spc="-1" strike="noStrike">
                  <a:solidFill>
                    <a:srgbClr val="3333cc"/>
                  </a:solidFill>
                  <a:latin typeface="Times New Roman"/>
                </a:rPr>
                <a:t>z</a:t>
              </a:r>
              <a:r>
                <a:rPr b="1" lang="en-US" sz="2500" spc="-1" strike="noStrike" baseline="-25000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1" lang="en-US" sz="2500" spc="-1" strike="noStrike">
                  <a:solidFill>
                    <a:srgbClr val="3333cc"/>
                  </a:solidFill>
                  <a:latin typeface="Times New Roman"/>
                </a:rPr>
                <a:t>| </a:t>
              </a:r>
              <a:r>
                <a:rPr b="1" lang="en-US" sz="25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</a:t>
              </a:r>
              <a:r>
                <a:rPr b="1" lang="en-US" sz="25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500" spc="-1" strike="noStrike">
                  <a:solidFill>
                    <a:srgbClr val="3333cc"/>
                  </a:solidFill>
                  <a:latin typeface="Times New Roman"/>
                </a:rPr>
                <a:t>k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141560" y="3402000"/>
              <a:ext cx="7580520" cy="52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Because 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there exists no </a:t>
              </a:r>
              <a:r>
                <a:rPr b="0" i="1" lang="cs-CZ" sz="2500" spc="-1" strike="noStrike">
                  <a:solidFill>
                    <a:srgbClr val="000000"/>
                  </a:solidFill>
                  <a:latin typeface="Times New Roman"/>
                </a:rPr>
                <a:t>z </a:t>
              </a:r>
              <a:r>
                <a:rPr b="0" lang="cs-CZ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cs-CZ" sz="2500" spc="-1" strike="noStrike">
                  <a:solidFill>
                    <a:srgbClr val="000000"/>
                  </a:solidFill>
                  <a:latin typeface="Times New Roman"/>
                </a:rPr>
                <a:t> L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5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), </a:t>
              </a:r>
              <a:r>
                <a:rPr b="0" i="1" lang="en-GB" sz="25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|</a:t>
              </a:r>
              <a:r>
                <a:rPr b="0" i="1" lang="en-GB" sz="25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| &lt;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</a:rPr>
                <a:t> 2</a:t>
              </a:r>
              <a:r>
                <a:rPr b="0" i="1" lang="en-GB" sz="25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</a:rPr>
                <a:t>, so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500" spc="-1" strike="noStrike">
                  <a:solidFill>
                    <a:srgbClr val="ff9933"/>
                  </a:solidFill>
                  <a:latin typeface="Times New Roman"/>
                </a:rPr>
                <a:t>|</a:t>
              </a:r>
              <a:r>
                <a:rPr b="1" i="1" lang="en-US" sz="2500" spc="-1" strike="noStrike">
                  <a:solidFill>
                    <a:srgbClr val="ff9933"/>
                  </a:solidFill>
                  <a:latin typeface="Times New Roman"/>
                </a:rPr>
                <a:t>z</a:t>
              </a:r>
              <a:r>
                <a:rPr b="1" lang="en-US" sz="2500" spc="-1" strike="noStrike" baseline="-25000">
                  <a:solidFill>
                    <a:srgbClr val="ff9933"/>
                  </a:solidFill>
                  <a:latin typeface="Times New Roman"/>
                </a:rPr>
                <a:t>0</a:t>
              </a:r>
              <a:r>
                <a:rPr b="1" lang="en-US" sz="2500" spc="-1" strike="noStrike">
                  <a:solidFill>
                    <a:srgbClr val="ff9933"/>
                  </a:solidFill>
                  <a:latin typeface="Times New Roman"/>
                </a:rPr>
                <a:t>| </a:t>
              </a:r>
              <a:r>
                <a:rPr b="1" lang="en-US" sz="2500" spc="-1" strike="noStrike">
                  <a:solidFill>
                    <a:srgbClr val="ff9933"/>
                  </a:solidFill>
                  <a:latin typeface="Symbol"/>
                  <a:ea typeface="Symbol"/>
                </a:rPr>
                <a:t></a:t>
              </a:r>
              <a:r>
                <a:rPr b="1" lang="en-US" sz="2500" spc="-1" strike="noStrike">
                  <a:solidFill>
                    <a:srgbClr val="ff9933"/>
                  </a:solidFill>
                  <a:latin typeface="Times New Roman"/>
                </a:rPr>
                <a:t> 2</a:t>
              </a:r>
              <a:r>
                <a:rPr b="1" i="1" lang="en-US" sz="2500" spc="-1" strike="noStrike">
                  <a:solidFill>
                    <a:srgbClr val="ff9933"/>
                  </a:solidFill>
                  <a:latin typeface="Times New Roman"/>
                </a:rPr>
                <a:t>k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608040" y="2590200"/>
            <a:ext cx="7775640" cy="474840"/>
            <a:chOff x="608040" y="2590200"/>
            <a:chExt cx="7775640" cy="474840"/>
          </a:xfrm>
        </p:grpSpPr>
        <p:grpSp>
          <p:nvGrpSpPr>
            <p:cNvPr id="393" name=""/>
            <p:cNvGrpSpPr/>
            <p:nvPr/>
          </p:nvGrpSpPr>
          <p:grpSpPr>
            <a:xfrm>
              <a:off x="7240680" y="2667240"/>
              <a:ext cx="304560" cy="304200"/>
              <a:chOff x="7240680" y="2667240"/>
              <a:chExt cx="304560" cy="304200"/>
            </a:xfrm>
          </p:grpSpPr>
          <p:sp>
            <p:nvSpPr>
              <p:cNvPr id="394" name=""/>
              <p:cNvSpPr/>
              <p:nvPr/>
            </p:nvSpPr>
            <p:spPr>
              <a:xfrm>
                <a:off x="7240680" y="2667240"/>
                <a:ext cx="304560" cy="3042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flipH="1">
                <a:off x="7240680" y="2667240"/>
                <a:ext cx="304560" cy="3042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6" name=""/>
            <p:cNvGrpSpPr/>
            <p:nvPr/>
          </p:nvGrpSpPr>
          <p:grpSpPr>
            <a:xfrm>
              <a:off x="6097680" y="2667240"/>
              <a:ext cx="304560" cy="304200"/>
              <a:chOff x="6097680" y="2667240"/>
              <a:chExt cx="304560" cy="304200"/>
            </a:xfrm>
          </p:grpSpPr>
          <p:sp>
            <p:nvSpPr>
              <p:cNvPr id="397" name=""/>
              <p:cNvSpPr/>
              <p:nvPr/>
            </p:nvSpPr>
            <p:spPr>
              <a:xfrm>
                <a:off x="6097680" y="2667240"/>
                <a:ext cx="304560" cy="3042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flipH="1">
                <a:off x="6097680" y="2667240"/>
                <a:ext cx="304560" cy="3042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9" name=""/>
            <p:cNvGrpSpPr/>
            <p:nvPr/>
          </p:nvGrpSpPr>
          <p:grpSpPr>
            <a:xfrm>
              <a:off x="6859440" y="2667240"/>
              <a:ext cx="304560" cy="304200"/>
              <a:chOff x="6859440" y="2667240"/>
              <a:chExt cx="304560" cy="304200"/>
            </a:xfrm>
          </p:grpSpPr>
          <p:sp>
            <p:nvSpPr>
              <p:cNvPr id="400" name=""/>
              <p:cNvSpPr/>
              <p:nvPr/>
            </p:nvSpPr>
            <p:spPr>
              <a:xfrm>
                <a:off x="6859800" y="2667240"/>
                <a:ext cx="304200" cy="3042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flipH="1">
                <a:off x="6859440" y="2667240"/>
                <a:ext cx="304200" cy="3042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2" name=""/>
            <p:cNvGrpSpPr/>
            <p:nvPr/>
          </p:nvGrpSpPr>
          <p:grpSpPr>
            <a:xfrm>
              <a:off x="6478560" y="2667240"/>
              <a:ext cx="304560" cy="304200"/>
              <a:chOff x="6478560" y="2667240"/>
              <a:chExt cx="304560" cy="304200"/>
            </a:xfrm>
          </p:grpSpPr>
          <p:sp>
            <p:nvSpPr>
              <p:cNvPr id="403" name=""/>
              <p:cNvSpPr/>
              <p:nvPr/>
            </p:nvSpPr>
            <p:spPr>
              <a:xfrm>
                <a:off x="6478560" y="2667240"/>
                <a:ext cx="304560" cy="3042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flipH="1">
                <a:off x="6478560" y="2667240"/>
                <a:ext cx="304560" cy="3042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5" name=""/>
            <p:cNvSpPr/>
            <p:nvPr/>
          </p:nvSpPr>
          <p:spPr>
            <a:xfrm>
              <a:off x="7697880" y="2971800"/>
              <a:ext cx="685800" cy="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08040" y="2590200"/>
              <a:ext cx="504540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and</a:t>
              </a:r>
              <a:r>
                <a:rPr b="1" lang="en-GB" sz="2500" spc="-1" strike="noStrike">
                  <a:solidFill>
                    <a:srgbClr val="000000"/>
                  </a:solidFill>
                  <a:latin typeface="Times New Roman"/>
                </a:rPr>
                <a:t> there is no</a:t>
              </a:r>
              <a:r>
                <a:rPr b="1" lang="cs-CZ" sz="25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2500" spc="-1" strike="noStrike">
                  <a:solidFill>
                    <a:srgbClr val="ff0000"/>
                  </a:solidFill>
                  <a:latin typeface="Times New Roman"/>
                </a:rPr>
                <a:t>z </a:t>
              </a:r>
              <a:r>
                <a:rPr b="1" lang="cs-CZ" sz="25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</a:t>
              </a:r>
              <a:r>
                <a:rPr b="1" i="1" lang="cs-CZ" sz="2500" spc="-1" strike="noStrike">
                  <a:solidFill>
                    <a:srgbClr val="ff0000"/>
                  </a:solidFill>
                  <a:latin typeface="Times New Roman"/>
                </a:rPr>
                <a:t> L</a:t>
              </a:r>
              <a:r>
                <a:rPr b="1" lang="cs-CZ" sz="25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cs-CZ" sz="2500" spc="-1" strike="noStrike">
                  <a:solidFill>
                    <a:srgbClr val="ff0000"/>
                  </a:solidFill>
                  <a:latin typeface="Times New Roman"/>
                </a:rPr>
                <a:t>M</a:t>
              </a:r>
              <a:r>
                <a:rPr b="1" lang="cs-CZ" sz="2500" spc="-1" strike="noStrike">
                  <a:solidFill>
                    <a:srgbClr val="ff0000"/>
                  </a:solidFill>
                  <a:latin typeface="Times New Roman"/>
                </a:rPr>
                <a:t>), </a:t>
              </a:r>
              <a:r>
                <a:rPr b="1" i="1" lang="en-GB" sz="25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r>
                <a:rPr b="1" lang="en-US" sz="25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5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</a:t>
              </a:r>
              <a:r>
                <a:rPr b="1" lang="en-US" sz="2500" spc="-1" strike="noStrike">
                  <a:solidFill>
                    <a:srgbClr val="ff0000"/>
                  </a:solidFill>
                  <a:latin typeface="Times New Roman"/>
                </a:rPr>
                <a:t> |</a:t>
              </a:r>
              <a:r>
                <a:rPr b="1" i="1" lang="cs-CZ" sz="2500" spc="-1" strike="noStrike">
                  <a:solidFill>
                    <a:srgbClr val="ff0000"/>
                  </a:solidFill>
                  <a:latin typeface="Times New Roman"/>
                </a:rPr>
                <a:t>z</a:t>
              </a:r>
              <a:r>
                <a:rPr b="1" lang="en-US" sz="2500" spc="-1" strike="noStrike">
                  <a:solidFill>
                    <a:srgbClr val="ff0000"/>
                  </a:solidFill>
                  <a:latin typeface="Times New Roman"/>
                </a:rPr>
                <a:t>| &lt;</a:t>
              </a:r>
              <a:r>
                <a:rPr b="1" lang="en-GB" sz="2500" spc="-1" strike="noStrike">
                  <a:solidFill>
                    <a:srgbClr val="ff0000"/>
                  </a:solidFill>
                  <a:latin typeface="Times New Roman"/>
                </a:rPr>
                <a:t> 2</a:t>
              </a:r>
              <a:r>
                <a:rPr b="1" i="1" lang="en-GB" sz="25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>
            <a:off x="2694600" y="4875840"/>
            <a:ext cx="81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38080" y="1828800"/>
            <a:ext cx="60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there exists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09480" y="144792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there exists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1" name=""/>
          <p:cNvGrpSpPr/>
          <p:nvPr/>
        </p:nvGrpSpPr>
        <p:grpSpPr>
          <a:xfrm>
            <a:off x="609480" y="3123360"/>
            <a:ext cx="8305920" cy="2363040"/>
            <a:chOff x="609480" y="3123360"/>
            <a:chExt cx="8305920" cy="2363040"/>
          </a:xfrm>
        </p:grpSpPr>
        <p:sp>
          <p:nvSpPr>
            <p:cNvPr id="412" name=""/>
            <p:cNvSpPr/>
            <p:nvPr/>
          </p:nvSpPr>
          <p:spPr>
            <a:xfrm>
              <a:off x="2438280" y="4419720"/>
              <a:ext cx="2743200" cy="10666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629320" y="4267080"/>
              <a:ext cx="2981160" cy="100764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The family of regular language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09480" y="3123360"/>
              <a:ext cx="7848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Illustration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09480" y="3505320"/>
              <a:ext cx="8305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The family of regular languages is closed under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800" spc="-1" strike="noStrike">
                  <a:solidFill>
                    <a:srgbClr val="000000"/>
                  </a:solidFill>
                  <a:latin typeface="Times New Roman"/>
                </a:rPr>
                <a:t>union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915480" y="3885480"/>
              <a:ext cx="1492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It means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V="1">
              <a:off x="5105520" y="4571640"/>
              <a:ext cx="5238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8" name=""/>
          <p:cNvSpPr/>
          <p:nvPr/>
        </p:nvSpPr>
        <p:spPr>
          <a:xfrm>
            <a:off x="685800" y="1219320"/>
            <a:ext cx="7772400" cy="19047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85800" y="1143000"/>
            <a:ext cx="7696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family of regular languages is closed under 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operation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language resulting from the application of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any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regular languag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also regul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losure properties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1523880" y="4952880"/>
            <a:ext cx="1660320" cy="1334520"/>
            <a:chOff x="1523880" y="4952880"/>
            <a:chExt cx="1660320" cy="1334520"/>
          </a:xfrm>
        </p:grpSpPr>
        <p:sp>
          <p:nvSpPr>
            <p:cNvPr id="423" name=""/>
            <p:cNvSpPr/>
            <p:nvPr/>
          </p:nvSpPr>
          <p:spPr>
            <a:xfrm>
              <a:off x="1523880" y="5638680"/>
              <a:ext cx="914400" cy="648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1980720" y="4952880"/>
              <a:ext cx="120348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5" name=""/>
          <p:cNvGrpSpPr/>
          <p:nvPr/>
        </p:nvGrpSpPr>
        <p:grpSpPr>
          <a:xfrm>
            <a:off x="3276720" y="4724280"/>
            <a:ext cx="914400" cy="1563120"/>
            <a:chOff x="3276720" y="4724280"/>
            <a:chExt cx="914400" cy="1563120"/>
          </a:xfrm>
        </p:grpSpPr>
        <p:sp>
          <p:nvSpPr>
            <p:cNvPr id="426" name=""/>
            <p:cNvSpPr/>
            <p:nvPr/>
          </p:nvSpPr>
          <p:spPr>
            <a:xfrm>
              <a:off x="3276720" y="5638680"/>
              <a:ext cx="914400" cy="648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733920" y="4724280"/>
              <a:ext cx="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8" name=""/>
          <p:cNvGrpSpPr/>
          <p:nvPr/>
        </p:nvGrpSpPr>
        <p:grpSpPr>
          <a:xfrm>
            <a:off x="2590920" y="5638680"/>
            <a:ext cx="2286000" cy="581400"/>
            <a:chOff x="2590920" y="5638680"/>
            <a:chExt cx="2286000" cy="581400"/>
          </a:xfrm>
        </p:grpSpPr>
        <p:sp>
          <p:nvSpPr>
            <p:cNvPr id="429" name=""/>
            <p:cNvSpPr/>
            <p:nvPr/>
          </p:nvSpPr>
          <p:spPr>
            <a:xfrm>
              <a:off x="2590920" y="5638680"/>
              <a:ext cx="533160" cy="581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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343400" y="5638680"/>
              <a:ext cx="533520" cy="581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"/>
          <p:cNvGrpSpPr/>
          <p:nvPr/>
        </p:nvGrpSpPr>
        <p:grpSpPr>
          <a:xfrm>
            <a:off x="4267080" y="4952880"/>
            <a:ext cx="1676520" cy="1334520"/>
            <a:chOff x="4267080" y="4952880"/>
            <a:chExt cx="1676520" cy="1334520"/>
          </a:xfrm>
        </p:grpSpPr>
        <p:sp>
          <p:nvSpPr>
            <p:cNvPr id="432" name=""/>
            <p:cNvSpPr/>
            <p:nvPr/>
          </p:nvSpPr>
          <p:spPr>
            <a:xfrm>
              <a:off x="5029200" y="5638680"/>
              <a:ext cx="914400" cy="648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267080" y="4952880"/>
              <a:ext cx="120348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609480" y="220896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85800" y="1219320"/>
            <a:ext cx="7772400" cy="9903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85800" y="1143000"/>
            <a:ext cx="7924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he family of regular languages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losed unde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unio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concatenatio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teratio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losure properties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8580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09480" y="2666880"/>
            <a:ext cx="8153640" cy="33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be two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regular langu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n, there exist two REs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efinition of regular expression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s a RE denoting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s a RE denoting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s a RE denoting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very RE denotes regular language, 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762840" y="5608440"/>
            <a:ext cx="649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800" spc="-1" strike="noStrike" baseline="-25000">
                <a:solidFill>
                  <a:srgbClr val="ff0000"/>
                </a:solidFill>
                <a:latin typeface="Times New Roman"/>
              </a:rPr>
              <a:t> 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28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e a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regular langu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685800" y="2666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85800" y="1066680"/>
            <a:ext cx="845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lete FA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Complete FA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85800" y="2590920"/>
            <a:ext cx="563868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 :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A for Compl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369880" y="2132640"/>
            <a:ext cx="242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886200" y="2209680"/>
            <a:ext cx="838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09480" y="358056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752480" y="4648320"/>
            <a:ext cx="24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276720" y="396252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286000" y="491796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219320" y="491796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762120" y="514656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352680" y="48420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371600" y="4114800"/>
            <a:ext cx="2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429000" y="4917960"/>
            <a:ext cx="533520" cy="53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916360" y="4659480"/>
            <a:ext cx="24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819520" y="519264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85800" y="3657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2438280" y="4114800"/>
            <a:ext cx="24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2" name=""/>
          <p:cNvGrpSpPr/>
          <p:nvPr/>
        </p:nvGrpSpPr>
        <p:grpSpPr>
          <a:xfrm>
            <a:off x="1218960" y="5486400"/>
            <a:ext cx="2895840" cy="732960"/>
            <a:chOff x="1218960" y="5486400"/>
            <a:chExt cx="2895840" cy="732960"/>
          </a:xfrm>
        </p:grpSpPr>
        <p:sp>
          <p:nvSpPr>
            <p:cNvPr id="463" name=""/>
            <p:cNvSpPr/>
            <p:nvPr/>
          </p:nvSpPr>
          <p:spPr>
            <a:xfrm rot="5400000">
              <a:off x="1904760" y="4800600"/>
              <a:ext cx="228600" cy="160020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41400 h 1600200"/>
                <a:gd name="textAreaBottom" fmla="*/ 1558800 h 160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 rot="5400000">
              <a:off x="3619440" y="5219640"/>
              <a:ext cx="152640" cy="83808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21600 h 838080"/>
                <a:gd name="textAreaBottom" fmla="*/ 816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448280" y="5561640"/>
              <a:ext cx="1154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430800" y="563796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7" name=""/>
          <p:cNvSpPr/>
          <p:nvPr/>
        </p:nvSpPr>
        <p:spPr>
          <a:xfrm>
            <a:off x="611280" y="4114080"/>
            <a:ext cx="67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8" name=""/>
          <p:cNvGrpSpPr/>
          <p:nvPr/>
        </p:nvGrpSpPr>
        <p:grpSpPr>
          <a:xfrm>
            <a:off x="5409720" y="5486400"/>
            <a:ext cx="2099880" cy="656640"/>
            <a:chOff x="5409720" y="5486400"/>
            <a:chExt cx="2099880" cy="656640"/>
          </a:xfrm>
        </p:grpSpPr>
        <p:sp>
          <p:nvSpPr>
            <p:cNvPr id="469" name=""/>
            <p:cNvSpPr/>
            <p:nvPr/>
          </p:nvSpPr>
          <p:spPr>
            <a:xfrm rot="5400000">
              <a:off x="6324120" y="4800600"/>
              <a:ext cx="228600" cy="160020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41400 h 1600200"/>
                <a:gd name="textAreaBottom" fmla="*/ 1558800 h 160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409720" y="5561640"/>
              <a:ext cx="2099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F 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’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 Q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–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1" name=""/>
          <p:cNvSpPr/>
          <p:nvPr/>
        </p:nvSpPr>
        <p:spPr>
          <a:xfrm>
            <a:off x="268200" y="6094800"/>
            <a:ext cx="902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bstring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;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bstring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295280" y="4572000"/>
            <a:ext cx="456840" cy="39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948148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948148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362320" y="4572000"/>
            <a:ext cx="456840" cy="39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948148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948148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429000" y="4495680"/>
            <a:ext cx="456840" cy="391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948148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948148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752480" y="518148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6" name=""/>
          <p:cNvGrpSpPr/>
          <p:nvPr/>
        </p:nvGrpSpPr>
        <p:grpSpPr>
          <a:xfrm>
            <a:off x="4419720" y="3962520"/>
            <a:ext cx="4190760" cy="1600200"/>
            <a:chOff x="4419720" y="3962520"/>
            <a:chExt cx="4190760" cy="1600200"/>
          </a:xfrm>
        </p:grpSpPr>
        <p:sp>
          <p:nvSpPr>
            <p:cNvPr id="477" name=""/>
            <p:cNvSpPr/>
            <p:nvPr/>
          </p:nvSpPr>
          <p:spPr>
            <a:xfrm>
              <a:off x="4419720" y="4876920"/>
              <a:ext cx="533160" cy="6858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248520" y="4648320"/>
              <a:ext cx="24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7772400" y="396252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924680" y="487692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105520" y="5181480"/>
              <a:ext cx="45720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5715000" y="3962520"/>
              <a:ext cx="2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467480" y="4648320"/>
              <a:ext cx="2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391520" y="5181480"/>
              <a:ext cx="53316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934320" y="3962520"/>
              <a:ext cx="24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878000" y="4114080"/>
              <a:ext cx="813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562720" y="480060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638680" y="4876920"/>
              <a:ext cx="533520" cy="53316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705720" y="480060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781680" y="4876920"/>
              <a:ext cx="533520" cy="53316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924680" y="4495680"/>
              <a:ext cx="456840" cy="391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72" y="20605"/>
                  </a:moveTo>
                  <a:arcTo wR="10800" hR="10800" stAng="6887234" swAng="18948148"/>
                  <a:lnTo>
                    <a:pt x="10800" y="10800"/>
                  </a:lnTo>
                  <a:close/>
                </a:path>
                <a:path fill="none" w="21600" h="21600">
                  <a:moveTo>
                    <a:pt x="6272" y="20605"/>
                  </a:moveTo>
                  <a:arcTo wR="10800" hR="10800" stAng="6887234" swAng="18948148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858000" y="4419720"/>
              <a:ext cx="456840" cy="39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72" y="20605"/>
                  </a:moveTo>
                  <a:arcTo wR="10800" hR="10800" stAng="6887234" swAng="18948148"/>
                  <a:lnTo>
                    <a:pt x="10800" y="10800"/>
                  </a:lnTo>
                  <a:close/>
                </a:path>
                <a:path fill="none" w="21600" h="21600">
                  <a:moveTo>
                    <a:pt x="6272" y="20605"/>
                  </a:moveTo>
                  <a:arcTo wR="10800" hR="10800" stAng="6887234" swAng="18948148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638680" y="4419720"/>
              <a:ext cx="456840" cy="39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72" y="20605"/>
                  </a:moveTo>
                  <a:arcTo wR="10800" hR="10800" stAng="6887234" swAng="18948148"/>
                  <a:lnTo>
                    <a:pt x="10800" y="10800"/>
                  </a:lnTo>
                  <a:close/>
                </a:path>
                <a:path fill="none" w="21600" h="21600">
                  <a:moveTo>
                    <a:pt x="6272" y="20605"/>
                  </a:moveTo>
                  <a:arcTo wR="10800" hR="10800" stAng="6887234" swAng="18948148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248520" y="518148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A for Complement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80880" y="1066680"/>
            <a:ext cx="861084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revious algorithm require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complet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F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incomplete FA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hen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must be converted t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mplete FA before w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us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revious algorith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295280" y="3048120"/>
            <a:ext cx="24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1143000" y="3886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85800" y="4191120"/>
            <a:ext cx="457200" cy="1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057400" y="38098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133720" y="3886200"/>
            <a:ext cx="533160" cy="53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066680" y="3505320"/>
            <a:ext cx="685440" cy="450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676520" y="3657600"/>
            <a:ext cx="24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676520" y="41911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057400" y="3429000"/>
            <a:ext cx="685440" cy="450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286000" y="297180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09120" y="2818440"/>
            <a:ext cx="232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ncomplete DF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533520" y="4419720"/>
            <a:ext cx="3962160" cy="2105280"/>
            <a:chOff x="533520" y="4419720"/>
            <a:chExt cx="3962160" cy="2105280"/>
          </a:xfrm>
        </p:grpSpPr>
        <p:sp>
          <p:nvSpPr>
            <p:cNvPr id="510" name=""/>
            <p:cNvSpPr/>
            <p:nvPr/>
          </p:nvSpPr>
          <p:spPr>
            <a:xfrm>
              <a:off x="1600200" y="59436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514600" y="548640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2" name=""/>
            <p:cNvGrpSpPr/>
            <p:nvPr/>
          </p:nvGrpSpPr>
          <p:grpSpPr>
            <a:xfrm>
              <a:off x="3124080" y="5528160"/>
              <a:ext cx="990720" cy="720360"/>
              <a:chOff x="3124080" y="5528160"/>
              <a:chExt cx="990720" cy="720360"/>
            </a:xfrm>
          </p:grpSpPr>
          <p:sp>
            <p:nvSpPr>
              <p:cNvPr id="513" name=""/>
              <p:cNvSpPr/>
              <p:nvPr/>
            </p:nvSpPr>
            <p:spPr>
              <a:xfrm>
                <a:off x="3124080" y="5639040"/>
                <a:ext cx="990720" cy="60948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3156840" y="5528160"/>
                <a:ext cx="84060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32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1" i="1" lang="cs-CZ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fals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5" name=""/>
            <p:cNvSpPr/>
            <p:nvPr/>
          </p:nvSpPr>
          <p:spPr>
            <a:xfrm>
              <a:off x="3276720" y="4800600"/>
              <a:ext cx="121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86160" y="4799520"/>
              <a:ext cx="213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Complete DFA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1523880" y="5486400"/>
              <a:ext cx="2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523880" y="601992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rot="5400000">
              <a:off x="1713960" y="4305240"/>
              <a:ext cx="457200" cy="6858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838080" y="4953240"/>
              <a:ext cx="24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990720" y="571500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33520" y="5989680"/>
              <a:ext cx="45720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905120" y="563904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914400" y="5410440"/>
              <a:ext cx="685440" cy="368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905120" y="5334120"/>
              <a:ext cx="685440" cy="368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752480" y="495324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1981080" y="5715000"/>
              <a:ext cx="533520" cy="53352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276720" y="5334120"/>
              <a:ext cx="837720" cy="368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2590920" y="6019920"/>
              <a:ext cx="533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 flipH="1" rot="10800000">
              <a:off x="1350720" y="6019920"/>
              <a:ext cx="207756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1" y="9977"/>
                  </a:moveTo>
                  <a:arcTo wR="10800" hR="10800" stAng="-10537919" swAng="10537919"/>
                  <a:lnTo>
                    <a:pt x="10800" y="10800"/>
                  </a:lnTo>
                  <a:close/>
                </a:path>
                <a:path fill="none" w="21600" h="21600">
                  <a:moveTo>
                    <a:pt x="31" y="9977"/>
                  </a:moveTo>
                  <a:arcTo wR="10800" hR="10800" stAng="-10537919" swAng="10537919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1" name=""/>
          <p:cNvSpPr/>
          <p:nvPr/>
        </p:nvSpPr>
        <p:spPr>
          <a:xfrm>
            <a:off x="535320" y="3199680"/>
            <a:ext cx="61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11280" y="2437560"/>
            <a:ext cx="164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4" name=""/>
          <p:cNvGrpSpPr/>
          <p:nvPr/>
        </p:nvGrpSpPr>
        <p:grpSpPr>
          <a:xfrm>
            <a:off x="4267080" y="4800600"/>
            <a:ext cx="4572000" cy="1724400"/>
            <a:chOff x="4267080" y="4800600"/>
            <a:chExt cx="4572000" cy="1724400"/>
          </a:xfrm>
        </p:grpSpPr>
        <p:sp>
          <p:nvSpPr>
            <p:cNvPr id="535" name=""/>
            <p:cNvSpPr/>
            <p:nvPr/>
          </p:nvSpPr>
          <p:spPr>
            <a:xfrm>
              <a:off x="6095880" y="59436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010280" y="548640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620120" y="4800600"/>
              <a:ext cx="121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334120" y="4800600"/>
              <a:ext cx="24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400800" y="48769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772400" y="5334120"/>
              <a:ext cx="837720" cy="368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086600" y="601992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 flipH="1" rot="10800000">
              <a:off x="5847120" y="6019920"/>
              <a:ext cx="207720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1" y="9977"/>
                  </a:moveTo>
                  <a:arcTo wR="10800" hR="10800" stAng="-10537919" swAng="10537919"/>
                  <a:lnTo>
                    <a:pt x="10800" y="10800"/>
                  </a:lnTo>
                  <a:close/>
                </a:path>
                <a:path fill="none" w="21600" h="21600">
                  <a:moveTo>
                    <a:pt x="31" y="9977"/>
                  </a:moveTo>
                  <a:arcTo wR="10800" hR="10800" stAng="-10537919" swAng="10537919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553080" y="57150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876920" y="6019920"/>
              <a:ext cx="457200" cy="1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5334120" y="563904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410080" y="5715000"/>
              <a:ext cx="533520" cy="53352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334120" y="5257800"/>
              <a:ext cx="685440" cy="450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019920" y="5562720"/>
              <a:ext cx="242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019920" y="6019920"/>
              <a:ext cx="53316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477120" y="5334120"/>
              <a:ext cx="685440" cy="450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7620120" y="5639040"/>
              <a:ext cx="1066680" cy="6778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728840" y="5528160"/>
              <a:ext cx="8406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i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fals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696080" y="5715000"/>
              <a:ext cx="914400" cy="53352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582800" y="4923000"/>
              <a:ext cx="837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267080" y="5639040"/>
              <a:ext cx="457200" cy="6858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6" name=""/>
          <p:cNvGrpSpPr/>
          <p:nvPr/>
        </p:nvGrpSpPr>
        <p:grpSpPr>
          <a:xfrm>
            <a:off x="6432840" y="4332240"/>
            <a:ext cx="2245320" cy="579600"/>
            <a:chOff x="6432840" y="4332240"/>
            <a:chExt cx="2245320" cy="579600"/>
          </a:xfrm>
        </p:grpSpPr>
        <p:sp>
          <p:nvSpPr>
            <p:cNvPr id="557" name=""/>
            <p:cNvSpPr/>
            <p:nvPr/>
          </p:nvSpPr>
          <p:spPr>
            <a:xfrm>
              <a:off x="6432840" y="4332240"/>
              <a:ext cx="2245320" cy="5796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848720" y="4419720"/>
              <a:ext cx="6760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9" name=""/>
          <p:cNvGrpSpPr/>
          <p:nvPr/>
        </p:nvGrpSpPr>
        <p:grpSpPr>
          <a:xfrm>
            <a:off x="3200400" y="2660400"/>
            <a:ext cx="5486400" cy="630360"/>
            <a:chOff x="3200400" y="2660400"/>
            <a:chExt cx="5486400" cy="630360"/>
          </a:xfrm>
        </p:grpSpPr>
        <p:sp>
          <p:nvSpPr>
            <p:cNvPr id="560" name=""/>
            <p:cNvSpPr/>
            <p:nvPr/>
          </p:nvSpPr>
          <p:spPr>
            <a:xfrm>
              <a:off x="3200400" y="2660400"/>
              <a:ext cx="5486400" cy="6303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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!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- 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, </a:t>
              </a:r>
              <a:r>
                <a:rPr b="1" i="1" lang="cs-CZ" sz="24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’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724280" y="281916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2971800" y="3124080"/>
            <a:ext cx="3123720" cy="1523880"/>
            <a:chOff x="2971800" y="3124080"/>
            <a:chExt cx="3123720" cy="1523880"/>
          </a:xfrm>
        </p:grpSpPr>
        <p:sp>
          <p:nvSpPr>
            <p:cNvPr id="563" name=""/>
            <p:cNvSpPr/>
            <p:nvPr/>
          </p:nvSpPr>
          <p:spPr>
            <a:xfrm>
              <a:off x="4419720" y="396216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410080" y="320004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4343400" y="3124080"/>
              <a:ext cx="24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486400" y="403848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962520" y="4343040"/>
              <a:ext cx="45720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495680" y="4038480"/>
              <a:ext cx="533520" cy="53316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419720" y="3581280"/>
              <a:ext cx="685440" cy="450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105520" y="3809880"/>
              <a:ext cx="242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410080" y="3657240"/>
              <a:ext cx="685440" cy="450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592080" y="3246120"/>
              <a:ext cx="837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105520" y="434304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971800" y="3885840"/>
              <a:ext cx="838080" cy="685800"/>
            </a:xfrm>
            <a:prstGeom prst="rightArrow">
              <a:avLst>
                <a:gd name="adj1" fmla="val 50000"/>
                <a:gd name="adj2" fmla="val 30551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5" name=""/>
          <p:cNvGrpSpPr/>
          <p:nvPr/>
        </p:nvGrpSpPr>
        <p:grpSpPr>
          <a:xfrm>
            <a:off x="2971440" y="3733560"/>
            <a:ext cx="686160" cy="914040"/>
            <a:chOff x="2971440" y="3733560"/>
            <a:chExt cx="686160" cy="914040"/>
          </a:xfrm>
        </p:grpSpPr>
        <p:sp>
          <p:nvSpPr>
            <p:cNvPr id="576" name=""/>
            <p:cNvSpPr/>
            <p:nvPr/>
          </p:nvSpPr>
          <p:spPr>
            <a:xfrm flipV="1">
              <a:off x="2971800" y="3733560"/>
              <a:ext cx="685800" cy="9140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flipH="1" flipV="1">
              <a:off x="2971440" y="3733560"/>
              <a:ext cx="685800" cy="9140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/>
          <p:nvPr/>
        </p:nvSpPr>
        <p:spPr>
          <a:xfrm>
            <a:off x="609480" y="220896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685800" y="1219320"/>
            <a:ext cx="7772400" cy="9903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85800" y="11430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he family of regular languages is closed under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complemen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losure properties: Compl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68580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457200" y="2743200"/>
            <a:ext cx="8077320" cy="28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GB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be a </a:t>
            </a:r>
            <a:r>
              <a:rPr b="1" lang="en-GB" sz="3000" spc="-1" strike="noStrike">
                <a:solidFill>
                  <a:srgbClr val="3333cc"/>
                </a:solidFill>
                <a:latin typeface="Times New Roman"/>
              </a:rPr>
              <a:t>regular languag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Then, there exists a complete DFA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We can construct a complete DFA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by using the previous algorith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Every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FA defines a regular language, so  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s a 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regular languag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8153280" y="3733920"/>
            <a:ext cx="3812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838080" y="5105520"/>
            <a:ext cx="3812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/>
          <p:nvPr/>
        </p:nvSpPr>
        <p:spPr>
          <a:xfrm>
            <a:off x="609480" y="22852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losure properties: Inters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457200" y="2819520"/>
            <a:ext cx="8686800" cy="366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be two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regular langu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are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regular langu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(the family of regular languages is closed under complement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regular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(the family of regular languages is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closed under union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regular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(the family of regular languages is closed under complement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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</a:rPr>
              <a:t>2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s a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regular languag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(DeMorg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 la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762120" y="335268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295280" y="3352680"/>
            <a:ext cx="3812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62120" y="411480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1523880" y="4114800"/>
            <a:ext cx="3812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685800" y="495288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1447920" y="495288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685800" y="4876920"/>
            <a:ext cx="1143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286000" y="579132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048120" y="579132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2286000" y="5715000"/>
            <a:ext cx="1143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85800" y="1219320"/>
            <a:ext cx="7772400" cy="9903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685800" y="11430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he family of regular languages is closed under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intersectio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68580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"/>
          <p:cNvSpPr/>
          <p:nvPr/>
        </p:nvSpPr>
        <p:spPr>
          <a:xfrm>
            <a:off x="685800" y="1219320"/>
            <a:ext cx="7772400" cy="2057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685800" y="1143000"/>
            <a:ext cx="7924680" cy="21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GB" sz="3400" spc="-1" strike="noStrike">
                <a:solidFill>
                  <a:srgbClr val="000000"/>
                </a:solidFill>
                <a:latin typeface="Times New Roman"/>
              </a:rPr>
              <a:t> Let a family of languages be closed under union, intersection, and complement. Then, this family represents a </a:t>
            </a:r>
            <a:r>
              <a:rPr b="1" i="1" lang="en-GB" sz="3400" spc="-1" strike="noStrike">
                <a:solidFill>
                  <a:srgbClr val="000000"/>
                </a:solidFill>
                <a:latin typeface="Times New Roman"/>
              </a:rPr>
              <a:t>Boolean algebra of languages</a:t>
            </a:r>
            <a:r>
              <a:rPr b="0" lang="en-GB" sz="3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Boolean Algebra of Langu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85800" y="3352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685800" y="342900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685800" y="3276720"/>
            <a:ext cx="7696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family of regular languages is a Boolean algebra of langua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609480" y="495288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family of regular languages is closed under union, intersection, and complement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9480" y="441864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1905120"/>
            <a:ext cx="7772400" cy="13716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1828800"/>
            <a:ext cx="792468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be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 RL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Then, there is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1 such th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re exist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u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uvw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for each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0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uv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umping Lemma for R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3429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21000" y="3351960"/>
            <a:ext cx="625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or RE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is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regul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384120" y="4114080"/>
            <a:ext cx="8460360" cy="1427760"/>
            <a:chOff x="384120" y="4114080"/>
            <a:chExt cx="8460360" cy="1427760"/>
          </a:xfrm>
        </p:grpSpPr>
        <p:sp>
          <p:nvSpPr>
            <p:cNvPr id="49" name=""/>
            <p:cNvSpPr/>
            <p:nvPr/>
          </p:nvSpPr>
          <p:spPr>
            <a:xfrm>
              <a:off x="384120" y="4114080"/>
              <a:ext cx="4892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&amp;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828800" y="4572000"/>
              <a:ext cx="0" cy="22860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057400" y="4572000"/>
              <a:ext cx="0" cy="2286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286000" y="4572000"/>
              <a:ext cx="0" cy="22860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601280" y="4571280"/>
              <a:ext cx="9867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u v w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995720" y="4144320"/>
              <a:ext cx="3644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uv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w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919400" y="4448880"/>
              <a:ext cx="382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uv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w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843080" y="4753800"/>
              <a:ext cx="4001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uv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w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b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631560" y="5104440"/>
              <a:ext cx="729000" cy="43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362960" y="4952160"/>
              <a:ext cx="255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|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04200" y="5409360"/>
            <a:ext cx="8820360" cy="1450080"/>
            <a:chOff x="304200" y="5409360"/>
            <a:chExt cx="8820360" cy="1450080"/>
          </a:xfrm>
        </p:grpSpPr>
        <p:sp>
          <p:nvSpPr>
            <p:cNvPr id="60" name=""/>
            <p:cNvSpPr/>
            <p:nvPr/>
          </p:nvSpPr>
          <p:spPr>
            <a:xfrm>
              <a:off x="304200" y="5409360"/>
              <a:ext cx="492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bc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cs-CZ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cs-CZ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&amp;</a:t>
              </a:r>
              <a:r>
                <a:rPr b="0" lang="cs-CZ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lang="cs-CZ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cs-CZ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752480" y="5867280"/>
              <a:ext cx="0" cy="30492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981080" y="5867280"/>
              <a:ext cx="0" cy="3049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286000" y="5943600"/>
              <a:ext cx="0" cy="22860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524960" y="5942880"/>
              <a:ext cx="9867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u v w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919040" y="5409360"/>
              <a:ext cx="400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uv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w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b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b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42720" y="5714280"/>
              <a:ext cx="4179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uv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w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b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b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766040" y="6019200"/>
              <a:ext cx="4358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uv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w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b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b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b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707880" y="6422040"/>
              <a:ext cx="729000" cy="43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rot="5400000">
              <a:off x="2247840" y="5753160"/>
              <a:ext cx="76320" cy="304560"/>
            </a:xfrm>
            <a:custGeom>
              <a:avLst/>
              <a:gdLst>
                <a:gd name="textAreaLeft" fmla="*/ 0 w 76320"/>
                <a:gd name="textAreaRight" fmla="*/ 27360 w 76320"/>
                <a:gd name="textAreaTop" fmla="*/ 7920 h 304560"/>
                <a:gd name="textAreaBottom" fmla="*/ 29664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49520" y="6080040"/>
              <a:ext cx="9421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spAutoFit/>
            </a:bodyPr>
            <a:p>
              <a:pPr algn="ctr">
                <a:spcBef>
                  <a:spcPts val="3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50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5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363680" y="6399720"/>
              <a:ext cx="246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|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45720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523880" y="1143000"/>
            <a:ext cx="685800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Pumping lemma </a:t>
            </a: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demonstrates</a:t>
            </a: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 an infinite iteration of some substring in RLs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87520" y="3725280"/>
            <a:ext cx="642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cs-CZ" sz="2800" spc="-1" strike="noStrike">
                <a:solidFill>
                  <a:srgbClr val="ff0000"/>
                </a:solidFill>
                <a:latin typeface="Times New Roman"/>
              </a:rPr>
              <a:t> = 3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hol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"/>
          <p:cNvSpPr/>
          <p:nvPr/>
        </p:nvSpPr>
        <p:spPr>
          <a:xfrm>
            <a:off x="685800" y="502920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685800" y="380988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85800" y="2590920"/>
            <a:ext cx="7772400" cy="9903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685800" y="137160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ain Decidable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685800" y="1295280"/>
            <a:ext cx="8229600" cy="48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1. Membership problem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Instance: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FA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2. Emptiness proble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Instance: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FA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3. Finiteness proble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Instance: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FA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Question: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) finite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4. Equivalence proble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Instance: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: Membership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8580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609480" y="1066680"/>
            <a:ext cx="8153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DFA 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609480" y="2666880"/>
            <a:ext cx="8001000" cy="16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sw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GB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write (’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write (’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685800" y="4343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685800" y="4982400"/>
            <a:ext cx="7772400" cy="550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The membership problem for F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is decidab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609480" y="4342680"/>
            <a:ext cx="203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: Emptiness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68580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609480" y="1066680"/>
            <a:ext cx="8153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A 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609480" y="2666880"/>
            <a:ext cx="8001000" cy="16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s nonterminating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write (’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write (’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685800" y="4343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685800" y="4966200"/>
            <a:ext cx="7772400" cy="581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emptiness problem for F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decid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609480" y="4342680"/>
            <a:ext cx="203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: Finiteness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68580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09480" y="1066680"/>
            <a:ext cx="8153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DFA 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is finite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is infin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609480" y="2514600"/>
            <a:ext cx="8382240" cy="192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= card(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there exist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| &lt;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write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(’</a:t>
            </a:r>
            <a:r>
              <a:rPr b="1" lang="en-GB" sz="29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write (’</a:t>
            </a:r>
            <a:r>
              <a:rPr b="1" lang="en-GB" sz="29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762120" y="4419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762120" y="5804640"/>
            <a:ext cx="7772400" cy="581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finiteness problem for F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decid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685800" y="5257080"/>
            <a:ext cx="203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685800" y="4419720"/>
            <a:ext cx="78487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This algorithm is based on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) is infinite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there exists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GB" sz="2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i="1" lang="en-GB" sz="26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| &lt;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0" i="1" lang="en-GB" sz="26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762120" y="5334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"/>
          <p:cNvSpPr/>
          <p:nvPr/>
        </p:nvSpPr>
        <p:spPr>
          <a:xfrm>
            <a:off x="685800" y="2133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2668680" y="1142280"/>
            <a:ext cx="67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200400" y="13716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419720" y="10666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648320" y="1523880"/>
            <a:ext cx="24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H="1">
            <a:off x="5104800" y="13716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 flipH="1">
            <a:off x="5181480" y="14479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489920" y="1523880"/>
            <a:ext cx="61524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101262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101262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 rot="10800000">
            <a:off x="4496040" y="1600200"/>
            <a:ext cx="61524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101262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101262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6172200" y="14479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 flipV="1" rot="5400000">
            <a:off x="3556800" y="1548000"/>
            <a:ext cx="456840" cy="40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948148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948148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3733920" y="1295280"/>
            <a:ext cx="3045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962520" y="1447920"/>
            <a:ext cx="53316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 flipH="1" flipV="1" rot="16200000">
            <a:off x="5753880" y="1548720"/>
            <a:ext cx="456840" cy="40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948148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948148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06240" y="2056680"/>
            <a:ext cx="402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686880" y="2514240"/>
            <a:ext cx="640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3" name=""/>
          <p:cNvGrpSpPr/>
          <p:nvPr/>
        </p:nvGrpSpPr>
        <p:grpSpPr>
          <a:xfrm>
            <a:off x="612720" y="3275640"/>
            <a:ext cx="7845480" cy="581400"/>
            <a:chOff x="612720" y="3275640"/>
            <a:chExt cx="7845480" cy="581400"/>
          </a:xfrm>
        </p:grpSpPr>
        <p:sp>
          <p:nvSpPr>
            <p:cNvPr id="664" name=""/>
            <p:cNvSpPr/>
            <p:nvPr/>
          </p:nvSpPr>
          <p:spPr>
            <a:xfrm>
              <a:off x="685800" y="337824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12720" y="3275640"/>
              <a:ext cx="3879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Question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GB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6" name=""/>
          <p:cNvSpPr/>
          <p:nvPr/>
        </p:nvSpPr>
        <p:spPr>
          <a:xfrm>
            <a:off x="657360" y="4799880"/>
            <a:ext cx="587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Answer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cause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s termina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69240" y="2818440"/>
            <a:ext cx="607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Answer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cause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609480" y="3683160"/>
            <a:ext cx="17528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9" name=""/>
          <p:cNvGrpSpPr/>
          <p:nvPr/>
        </p:nvGrpSpPr>
        <p:grpSpPr>
          <a:xfrm>
            <a:off x="609480" y="4038480"/>
            <a:ext cx="8229600" cy="951480"/>
            <a:chOff x="609480" y="4038480"/>
            <a:chExt cx="8229600" cy="951480"/>
          </a:xfrm>
        </p:grpSpPr>
        <p:sp>
          <p:nvSpPr>
            <p:cNvPr id="670" name=""/>
            <p:cNvSpPr/>
            <p:nvPr/>
          </p:nvSpPr>
          <p:spPr>
            <a:xfrm>
              <a:off x="685800" y="4038480"/>
              <a:ext cx="81532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1.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a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609480" y="4419720"/>
              <a:ext cx="7010640" cy="57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{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 = 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is terminatin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2" name=""/>
          <p:cNvSpPr/>
          <p:nvPr/>
        </p:nvSpPr>
        <p:spPr>
          <a:xfrm>
            <a:off x="1220400" y="2514240"/>
            <a:ext cx="796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905480" y="2514240"/>
            <a:ext cx="1508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943600" y="560628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cidable Problems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6" name=""/>
          <p:cNvGrpSpPr/>
          <p:nvPr/>
        </p:nvGrpSpPr>
        <p:grpSpPr>
          <a:xfrm>
            <a:off x="656640" y="5257080"/>
            <a:ext cx="7801560" cy="581400"/>
            <a:chOff x="656640" y="5257080"/>
            <a:chExt cx="7801560" cy="581400"/>
          </a:xfrm>
        </p:grpSpPr>
        <p:sp>
          <p:nvSpPr>
            <p:cNvPr id="677" name=""/>
            <p:cNvSpPr/>
            <p:nvPr/>
          </p:nvSpPr>
          <p:spPr>
            <a:xfrm>
              <a:off x="685800" y="530208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656640" y="5257080"/>
              <a:ext cx="4376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Question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 Is </a:t>
              </a:r>
              <a:r>
                <a:rPr b="0" i="1" lang="en-GB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GB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) finite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9" name=""/>
          <p:cNvSpPr/>
          <p:nvPr/>
        </p:nvSpPr>
        <p:spPr>
          <a:xfrm>
            <a:off x="618120" y="6063480"/>
            <a:ext cx="832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Answer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caus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is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&lt;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5791320" y="5606280"/>
            <a:ext cx="2420280" cy="581400"/>
            <a:chOff x="5791320" y="5606280"/>
            <a:chExt cx="2420280" cy="581400"/>
          </a:xfrm>
        </p:grpSpPr>
        <p:sp>
          <p:nvSpPr>
            <p:cNvPr id="681" name=""/>
            <p:cNvSpPr/>
            <p:nvPr/>
          </p:nvSpPr>
          <p:spPr>
            <a:xfrm>
              <a:off x="5791320" y="5683320"/>
              <a:ext cx="175248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6326640" y="5606280"/>
              <a:ext cx="1884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GB" sz="32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GB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3" name=""/>
          <p:cNvGrpSpPr/>
          <p:nvPr/>
        </p:nvGrpSpPr>
        <p:grpSpPr>
          <a:xfrm>
            <a:off x="609480" y="5180400"/>
            <a:ext cx="7804440" cy="1038600"/>
            <a:chOff x="609480" y="5180400"/>
            <a:chExt cx="7804440" cy="1038600"/>
          </a:xfrm>
        </p:grpSpPr>
        <p:sp>
          <p:nvSpPr>
            <p:cNvPr id="684" name=""/>
            <p:cNvSpPr/>
            <p:nvPr/>
          </p:nvSpPr>
          <p:spPr>
            <a:xfrm>
              <a:off x="5486400" y="5180400"/>
              <a:ext cx="2927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= card(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) = 2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09480" y="5637600"/>
              <a:ext cx="632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All strings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z </a:t>
              </a:r>
              <a:r>
                <a:rPr b="0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GB" sz="26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|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| &lt;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4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GB" sz="3200" spc="-1" strike="noStrike">
                  <a:solidFill>
                    <a:srgbClr val="ff9933"/>
                  </a:solidFill>
                  <a:latin typeface="Times New Roman"/>
                </a:rPr>
                <a:t>aa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GB" sz="3200" spc="-1" strike="noStrike">
                  <a:solidFill>
                    <a:srgbClr val="3333cc"/>
                  </a:solidFill>
                  <a:latin typeface="Times New Roman"/>
                </a:rPr>
                <a:t> bb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GB" sz="32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GB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GB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: Equivalence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68580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609480" y="1066680"/>
            <a:ext cx="8153640" cy="175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wo minimum state F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i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609480" y="2514600"/>
            <a:ext cx="8077320" cy="239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incides with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cept for the name of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rite (’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write (’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685800" y="4572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685800" y="5194800"/>
            <a:ext cx="7772400" cy="581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equivalence problem for FA is decid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609480" y="4571280"/>
            <a:ext cx="203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quivalence Problem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22080" y="1108440"/>
            <a:ext cx="45248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1676520" y="228600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 rot="5400000">
            <a:off x="3651840" y="2654640"/>
            <a:ext cx="380880" cy="405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696265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696265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657600" y="21337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H="1">
            <a:off x="2971080" y="25146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flipH="1">
            <a:off x="3047400" y="2590920"/>
            <a:ext cx="53316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 flipH="1">
            <a:off x="1981080" y="20574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 flipH="1">
            <a:off x="1981080" y="31240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2514600" y="18288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 rot="10800000">
            <a:off x="2514240" y="2284920"/>
            <a:ext cx="762120" cy="22860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 rot="16200000">
            <a:off x="1938960" y="2709000"/>
            <a:ext cx="537840" cy="30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101262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101262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 rot="5400000">
            <a:off x="2016720" y="2702520"/>
            <a:ext cx="53784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101262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101262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514600" y="2971800"/>
            <a:ext cx="457200" cy="360360"/>
          </a:xfrm>
          <a:custGeom>
            <a:avLst/>
            <a:gdLst/>
            <a:ahLst/>
            <a:rect l="l" t="t" r="r" b="b"/>
            <a:pathLst>
              <a:path w="528" h="371">
                <a:moveTo>
                  <a:pt x="0" y="371"/>
                </a:moveTo>
                <a:cubicBezTo>
                  <a:pt x="39" y="319"/>
                  <a:pt x="144" y="118"/>
                  <a:pt x="232" y="59"/>
                </a:cubicBezTo>
                <a:cubicBezTo>
                  <a:pt x="320" y="0"/>
                  <a:pt x="466" y="27"/>
                  <a:pt x="528" y="19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1752480" y="27432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362320" y="23623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590920" y="25146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771840" y="1641960"/>
            <a:ext cx="794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 rot="10800000">
            <a:off x="5943960" y="2648520"/>
            <a:ext cx="380520" cy="399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616935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616935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 flipH="1">
            <a:off x="6019920" y="28195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7010280" y="28954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7086600" y="29718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H="1">
            <a:off x="6629400" y="29718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6323040" y="2666880"/>
            <a:ext cx="685800" cy="465120"/>
          </a:xfrm>
          <a:custGeom>
            <a:avLst/>
            <a:gdLst/>
            <a:ahLst/>
            <a:rect l="l" t="t" r="r" b="b"/>
            <a:pathLst>
              <a:path w="432" h="293">
                <a:moveTo>
                  <a:pt x="0" y="0"/>
                </a:moveTo>
                <a:cubicBezTo>
                  <a:pt x="33" y="37"/>
                  <a:pt x="129" y="175"/>
                  <a:pt x="201" y="224"/>
                </a:cubicBezTo>
                <a:cubicBezTo>
                  <a:pt x="273" y="273"/>
                  <a:pt x="384" y="279"/>
                  <a:pt x="432" y="293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 flipH="1" rot="5400000">
            <a:off x="7121880" y="2480400"/>
            <a:ext cx="537840" cy="30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101262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101262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 flipH="1" rot="16200000">
            <a:off x="7044840" y="2473920"/>
            <a:ext cx="53784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101262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101262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 flipH="1">
            <a:off x="7467480" y="24382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 flipH="1">
            <a:off x="6858000" y="22096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7010280" y="16765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7086600" y="17524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 flipH="1" flipV="1">
            <a:off x="2513880" y="3123360"/>
            <a:ext cx="609480" cy="304920"/>
          </a:xfrm>
          <a:custGeom>
            <a:avLst/>
            <a:gdLst/>
            <a:ahLst/>
            <a:rect l="l" t="t" r="r" b="b"/>
            <a:pathLst>
              <a:path w="528" h="371">
                <a:moveTo>
                  <a:pt x="0" y="371"/>
                </a:moveTo>
                <a:cubicBezTo>
                  <a:pt x="39" y="319"/>
                  <a:pt x="144" y="118"/>
                  <a:pt x="232" y="59"/>
                </a:cubicBezTo>
                <a:cubicBezTo>
                  <a:pt x="320" y="0"/>
                  <a:pt x="466" y="27"/>
                  <a:pt x="528" y="19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 flipH="1">
            <a:off x="5943600" y="22096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77120" y="2057400"/>
            <a:ext cx="533160" cy="360360"/>
          </a:xfrm>
          <a:custGeom>
            <a:avLst/>
            <a:gdLst/>
            <a:ahLst/>
            <a:rect l="l" t="t" r="r" b="b"/>
            <a:pathLst>
              <a:path w="528" h="371">
                <a:moveTo>
                  <a:pt x="0" y="371"/>
                </a:moveTo>
                <a:cubicBezTo>
                  <a:pt x="39" y="319"/>
                  <a:pt x="144" y="118"/>
                  <a:pt x="232" y="59"/>
                </a:cubicBezTo>
                <a:cubicBezTo>
                  <a:pt x="320" y="0"/>
                  <a:pt x="466" y="27"/>
                  <a:pt x="528" y="19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553080" y="16002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53080" y="23623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 flipH="1" flipV="1">
            <a:off x="6476400" y="2208960"/>
            <a:ext cx="609480" cy="304920"/>
          </a:xfrm>
          <a:custGeom>
            <a:avLst/>
            <a:gdLst/>
            <a:ahLst/>
            <a:rect l="l" t="t" r="r" b="b"/>
            <a:pathLst>
              <a:path w="528" h="371">
                <a:moveTo>
                  <a:pt x="0" y="371"/>
                </a:moveTo>
                <a:cubicBezTo>
                  <a:pt x="39" y="319"/>
                  <a:pt x="144" y="118"/>
                  <a:pt x="232" y="59"/>
                </a:cubicBezTo>
                <a:cubicBezTo>
                  <a:pt x="320" y="0"/>
                  <a:pt x="466" y="27"/>
                  <a:pt x="528" y="19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5638680" y="243828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4810320" y="1641960"/>
            <a:ext cx="794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3" name=""/>
          <p:cNvGrpSpPr/>
          <p:nvPr/>
        </p:nvGrpSpPr>
        <p:grpSpPr>
          <a:xfrm>
            <a:off x="1676160" y="5180760"/>
            <a:ext cx="6172200" cy="550800"/>
            <a:chOff x="1676160" y="5180760"/>
            <a:chExt cx="6172200" cy="550800"/>
          </a:xfrm>
        </p:grpSpPr>
        <p:sp>
          <p:nvSpPr>
            <p:cNvPr id="734" name=""/>
            <p:cNvSpPr/>
            <p:nvPr/>
          </p:nvSpPr>
          <p:spPr>
            <a:xfrm rot="5400000">
              <a:off x="4685760" y="2171520"/>
              <a:ext cx="152640" cy="61722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160920 h 6172200"/>
                <a:gd name="textAreaBottom" fmla="*/ 6011280 h 6172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973600" y="5180760"/>
              <a:ext cx="3598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A minimum state FA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6" name=""/>
          <p:cNvSpPr/>
          <p:nvPr/>
        </p:nvSpPr>
        <p:spPr>
          <a:xfrm>
            <a:off x="4724280" y="1752480"/>
            <a:ext cx="0" cy="3353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2438280" y="33526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8" name=""/>
          <p:cNvGrpSpPr/>
          <p:nvPr/>
        </p:nvGrpSpPr>
        <p:grpSpPr>
          <a:xfrm>
            <a:off x="720720" y="3546720"/>
            <a:ext cx="3546360" cy="1530360"/>
            <a:chOff x="720720" y="3546720"/>
            <a:chExt cx="3546360" cy="1530360"/>
          </a:xfrm>
        </p:grpSpPr>
        <p:sp>
          <p:nvSpPr>
            <p:cNvPr id="739" name=""/>
            <p:cNvSpPr/>
            <p:nvPr/>
          </p:nvSpPr>
          <p:spPr>
            <a:xfrm>
              <a:off x="2666880" y="3581280"/>
              <a:ext cx="838440" cy="6098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1066680" y="42670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2438280" y="40384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666880" y="4495680"/>
              <a:ext cx="24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 flipH="1">
              <a:off x="3123360" y="434340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 flipH="1">
              <a:off x="3200400" y="441972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08840" y="4495680"/>
              <a:ext cx="61488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" y="8697"/>
                  </a:moveTo>
                  <a:arcTo wR="10800" hR="10800" stAng="-10126267" swAng="1012626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" y="8697"/>
                  </a:moveTo>
                  <a:arcTo wR="10800" hR="10800" stAng="-10126267" swAng="10126267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 rot="10800000">
              <a:off x="2514600" y="4572000"/>
              <a:ext cx="6148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" y="8697"/>
                  </a:moveTo>
                  <a:arcTo wR="10800" hR="10800" stAng="-10126267" swAng="1012626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" y="8697"/>
                  </a:moveTo>
                  <a:arcTo wR="10800" hR="10800" stAng="-10126267" swAng="10126267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809880" y="39625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 flipV="1" rot="5400000">
              <a:off x="1347120" y="4519800"/>
              <a:ext cx="456840" cy="40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72" y="20605"/>
                  </a:moveTo>
                  <a:arcTo wR="10800" hR="10800" stAng="6887234" swAng="18948148"/>
                  <a:lnTo>
                    <a:pt x="10800" y="10800"/>
                  </a:lnTo>
                  <a:close/>
                </a:path>
                <a:path fill="none" w="21600" h="21600">
                  <a:moveTo>
                    <a:pt x="6272" y="20605"/>
                  </a:moveTo>
                  <a:arcTo wR="10800" hR="10800" stAng="6887234" swAng="18948148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600200" y="4267080"/>
              <a:ext cx="30492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1752480" y="4419720"/>
              <a:ext cx="76212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 flipH="1" flipV="1" rot="16200000">
              <a:off x="3772440" y="4520520"/>
              <a:ext cx="456840" cy="40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72" y="20605"/>
                  </a:moveTo>
                  <a:arcTo wR="10800" hR="10800" stAng="6887234" swAng="18948148"/>
                  <a:lnTo>
                    <a:pt x="10800" y="10800"/>
                  </a:lnTo>
                  <a:close/>
                </a:path>
                <a:path fill="none" w="21600" h="21600">
                  <a:moveTo>
                    <a:pt x="6272" y="20605"/>
                  </a:moveTo>
                  <a:arcTo wR="10800" hR="10800" stAng="6887234" swAng="18948148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720720" y="3546720"/>
              <a:ext cx="11743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min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3" name=""/>
          <p:cNvGrpSpPr/>
          <p:nvPr/>
        </p:nvGrpSpPr>
        <p:grpSpPr>
          <a:xfrm>
            <a:off x="4835520" y="3470760"/>
            <a:ext cx="3699000" cy="1634760"/>
            <a:chOff x="4835520" y="3470760"/>
            <a:chExt cx="3699000" cy="1634760"/>
          </a:xfrm>
        </p:grpSpPr>
        <p:sp>
          <p:nvSpPr>
            <p:cNvPr id="754" name=""/>
            <p:cNvSpPr/>
            <p:nvPr/>
          </p:nvSpPr>
          <p:spPr>
            <a:xfrm>
              <a:off x="6248520" y="3505320"/>
              <a:ext cx="838080" cy="6098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5181480" y="434376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6400800" y="403884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6629400" y="4496040"/>
              <a:ext cx="24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flipH="1">
              <a:off x="7086600" y="4343760"/>
              <a:ext cx="990720" cy="7617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 flipH="1">
              <a:off x="7162920" y="4419720"/>
              <a:ext cx="838080" cy="6098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6471360" y="4496040"/>
              <a:ext cx="61488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" y="8697"/>
                  </a:moveTo>
                  <a:arcTo wR="10800" hR="10800" stAng="-10126267" swAng="1012626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" y="8697"/>
                  </a:moveTo>
                  <a:arcTo wR="10800" hR="10800" stAng="-10126267" swAng="10126267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 rot="10800000">
              <a:off x="6477120" y="4572360"/>
              <a:ext cx="6148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" y="8697"/>
                  </a:moveTo>
                  <a:arcTo wR="10800" hR="10800" stAng="-10126267" swAng="1012626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" y="8697"/>
                  </a:moveTo>
                  <a:arcTo wR="10800" hR="10800" stAng="-10126267" swAng="10126267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8077320" y="39625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 flipV="1" rot="5400000">
              <a:off x="5538240" y="4520160"/>
              <a:ext cx="456840" cy="40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72" y="20605"/>
                  </a:moveTo>
                  <a:arcTo wR="10800" hR="10800" stAng="6887234" swAng="18948148"/>
                  <a:lnTo>
                    <a:pt x="10800" y="10800"/>
                  </a:lnTo>
                  <a:close/>
                </a:path>
                <a:path fill="none" w="21600" h="21600">
                  <a:moveTo>
                    <a:pt x="6272" y="20605"/>
                  </a:moveTo>
                  <a:arcTo wR="10800" hR="10800" stAng="6887234" swAng="18948148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5791320" y="4191120"/>
              <a:ext cx="30456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5943600" y="44197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 flipH="1" flipV="1" rot="16200000">
              <a:off x="8039880" y="4520880"/>
              <a:ext cx="456840" cy="40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72" y="20605"/>
                  </a:moveTo>
                  <a:arcTo wR="10800" hR="10800" stAng="6887234" swAng="18948148"/>
                  <a:lnTo>
                    <a:pt x="10800" y="10800"/>
                  </a:lnTo>
                  <a:close/>
                </a:path>
                <a:path fill="none" w="21600" h="21600">
                  <a:moveTo>
                    <a:pt x="6272" y="20605"/>
                  </a:moveTo>
                  <a:arcTo wR="10800" hR="10800" stAng="6887234" swAng="18948148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4835520" y="3470760"/>
              <a:ext cx="11743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min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8" name=""/>
          <p:cNvSpPr/>
          <p:nvPr/>
        </p:nvSpPr>
        <p:spPr>
          <a:xfrm>
            <a:off x="657000" y="5758920"/>
            <a:ext cx="776628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Answer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because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3000" spc="-1" strike="noStrike" baseline="-25000">
                <a:solidFill>
                  <a:srgbClr val="000000"/>
                </a:solidFill>
                <a:latin typeface="Times New Roman"/>
              </a:rPr>
              <a:t>min</a:t>
            </a:r>
            <a:r>
              <a:rPr b="1" lang="cs-CZ" sz="30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incides with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3000" spc="-1" strike="noStrike" baseline="-25000">
                <a:solidFill>
                  <a:srgbClr val="000000"/>
                </a:solidFill>
                <a:latin typeface="Times New Roman"/>
              </a:rPr>
              <a:t>min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umping Lemma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Illust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9480" y="106668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any regular languag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838080" y="2438280"/>
            <a:ext cx="6705720" cy="962640"/>
            <a:chOff x="838080" y="2438280"/>
            <a:chExt cx="6705720" cy="962640"/>
          </a:xfrm>
        </p:grpSpPr>
        <p:sp>
          <p:nvSpPr>
            <p:cNvPr id="80" name=""/>
            <p:cNvSpPr/>
            <p:nvPr/>
          </p:nvSpPr>
          <p:spPr>
            <a:xfrm>
              <a:off x="838080" y="2971800"/>
              <a:ext cx="571500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rot="16200000">
              <a:off x="2590560" y="1066320"/>
              <a:ext cx="152280" cy="36576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95040 h 3657600"/>
                <a:gd name="textAreaBottom" fmla="*/ 3562560 h 365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362320" y="243828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705720" y="281952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05320" y="28195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66ff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495680" y="2971800"/>
              <a:ext cx="0" cy="380880"/>
            </a:xfrm>
            <a:prstGeom prst="line">
              <a:avLst/>
            </a:prstGeom>
            <a:ln w="7632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685800" y="1600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85800" y="1523880"/>
            <a:ext cx="7772400" cy="990720"/>
            <a:chOff x="685800" y="1523880"/>
            <a:chExt cx="7772400" cy="990720"/>
          </a:xfrm>
        </p:grpSpPr>
        <p:sp>
          <p:nvSpPr>
            <p:cNvPr id="88" name=""/>
            <p:cNvSpPr/>
            <p:nvPr/>
          </p:nvSpPr>
          <p:spPr>
            <a:xfrm>
              <a:off x="838080" y="2057400"/>
              <a:ext cx="266724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rot="16200000">
              <a:off x="2590560" y="151920"/>
              <a:ext cx="152280" cy="36576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95040 h 3657600"/>
                <a:gd name="textAreaBottom" fmla="*/ 3562560 h 365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362320" y="152388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828800" y="19051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66ff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00600" y="1905120"/>
              <a:ext cx="685800" cy="380880"/>
            </a:xfrm>
            <a:prstGeom prst="rightArrow">
              <a:avLst>
                <a:gd name="adj1" fmla="val 50000"/>
                <a:gd name="adj2" fmla="val 4501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05320" y="190512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486400" y="1828800"/>
              <a:ext cx="28195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nothing interesting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85800" y="25146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3048120" y="3429000"/>
            <a:ext cx="1523880" cy="380880"/>
          </a:xfrm>
          <a:prstGeom prst="downArrow">
            <a:avLst>
              <a:gd name="adj1" fmla="val 45694"/>
              <a:gd name="adj2" fmla="val 52778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838080" y="3352680"/>
            <a:ext cx="6934320" cy="1145520"/>
            <a:chOff x="838080" y="3352680"/>
            <a:chExt cx="6934320" cy="1145520"/>
          </a:xfrm>
        </p:grpSpPr>
        <p:sp>
          <p:nvSpPr>
            <p:cNvPr id="98" name=""/>
            <p:cNvSpPr/>
            <p:nvPr/>
          </p:nvSpPr>
          <p:spPr>
            <a:xfrm>
              <a:off x="4495680" y="3962520"/>
              <a:ext cx="0" cy="380880"/>
            </a:xfrm>
            <a:prstGeom prst="line">
              <a:avLst/>
            </a:prstGeom>
            <a:ln w="7632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048120" y="3962520"/>
              <a:ext cx="350496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8080" y="3962520"/>
              <a:ext cx="114300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981080" y="3962520"/>
              <a:ext cx="1067040" cy="3808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572000" y="38098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066680" y="380988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16200000">
              <a:off x="2590560" y="2057400"/>
              <a:ext cx="152640" cy="36576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95040 h 3657600"/>
                <a:gd name="textAreaBottom" fmla="*/ 3562560 h 365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495680" y="3962520"/>
              <a:ext cx="0" cy="380880"/>
            </a:xfrm>
            <a:prstGeom prst="line">
              <a:avLst/>
            </a:prstGeom>
            <a:ln w="7632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209680" y="380988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362320" y="335268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477120" y="3733920"/>
              <a:ext cx="12952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4400" spc="-1" strike="noStrike">
                  <a:solidFill>
                    <a:srgbClr val="ff66ff"/>
                  </a:solidFill>
                  <a:latin typeface="Times New Roman"/>
                </a:rPr>
                <a:t>= </a:t>
              </a:r>
              <a:r>
                <a:rPr b="1" i="1" lang="cs-CZ" sz="4000" spc="-1" strike="noStrike">
                  <a:solidFill>
                    <a:srgbClr val="ff66ff"/>
                  </a:solidFill>
                  <a:latin typeface="Times New Roman"/>
                </a:rPr>
                <a:t>z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457200" y="5073480"/>
            <a:ext cx="8001000" cy="1785600"/>
            <a:chOff x="457200" y="5073480"/>
            <a:chExt cx="8001000" cy="1785600"/>
          </a:xfrm>
        </p:grpSpPr>
        <p:sp>
          <p:nvSpPr>
            <p:cNvPr id="110" name=""/>
            <p:cNvSpPr/>
            <p:nvPr/>
          </p:nvSpPr>
          <p:spPr>
            <a:xfrm>
              <a:off x="838080" y="5226120"/>
              <a:ext cx="114300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981080" y="5226120"/>
              <a:ext cx="350532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429000" y="50734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066680" y="507348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486400" y="507348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57200" y="51814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3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48120" y="6140520"/>
              <a:ext cx="1066680" cy="3808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276720" y="59878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38080" y="5683320"/>
              <a:ext cx="114300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048120" y="5683320"/>
              <a:ext cx="350496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981080" y="5683320"/>
              <a:ext cx="1067040" cy="3808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572000" y="55306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209680" y="553068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066680" y="553068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38080" y="6140520"/>
              <a:ext cx="114300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114800" y="6140520"/>
              <a:ext cx="3505320" cy="3808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981080" y="6140520"/>
              <a:ext cx="1067040" cy="3808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638680" y="598788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209680" y="598788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066680" y="598788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553080" y="5530680"/>
              <a:ext cx="83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620120" y="598788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038480" y="6216480"/>
              <a:ext cx="838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457200" y="4419720"/>
            <a:ext cx="2590920" cy="840600"/>
            <a:chOff x="457200" y="4419720"/>
            <a:chExt cx="2590920" cy="840600"/>
          </a:xfrm>
        </p:grpSpPr>
        <p:sp>
          <p:nvSpPr>
            <p:cNvPr id="134" name=""/>
            <p:cNvSpPr/>
            <p:nvPr/>
          </p:nvSpPr>
          <p:spPr>
            <a:xfrm flipV="1" rot="5400000">
              <a:off x="1828800" y="3732480"/>
              <a:ext cx="228600" cy="221004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57600 h 2210040"/>
                <a:gd name="textAreaBottom" fmla="*/ 2152440 h 221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048120" y="4419720"/>
              <a:ext cx="0" cy="304560"/>
            </a:xfrm>
            <a:prstGeom prst="line">
              <a:avLst/>
            </a:prstGeom>
            <a:ln w="38160">
              <a:solidFill>
                <a:srgbClr val="33993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828800" y="48006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</a:t>
              </a:r>
              <a:r>
                <a:rPr b="1" lang="en-GB" sz="24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i="1" lang="en-GB" sz="2400" spc="-1" strike="noStrike">
                  <a:solidFill>
                    <a:srgbClr val="339933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57200" y="4724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9933"/>
                  </a:solidFill>
                  <a:latin typeface="Times New Roman"/>
                </a:rPr>
                <a:t>2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457200" y="4267080"/>
            <a:ext cx="2895480" cy="612360"/>
            <a:chOff x="457200" y="4267080"/>
            <a:chExt cx="2895480" cy="612360"/>
          </a:xfrm>
        </p:grpSpPr>
        <p:sp>
          <p:nvSpPr>
            <p:cNvPr id="139" name=""/>
            <p:cNvSpPr/>
            <p:nvPr/>
          </p:nvSpPr>
          <p:spPr>
            <a:xfrm flipV="1" rot="5400000">
              <a:off x="2400120" y="3922920"/>
              <a:ext cx="228600" cy="106704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27720 h 1067040"/>
                <a:gd name="textAreaBottom" fmla="*/ 1039320 h 1067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362320" y="4419720"/>
              <a:ext cx="99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</a:t>
              </a: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cs-CZ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57200" y="4267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3333cc"/>
                  </a:solidFill>
                  <a:latin typeface="Times New Roman"/>
                </a:rPr>
                <a:t>1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of of Pumping Lemma 1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1066680"/>
            <a:ext cx="822960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be a regular language. Then, there exists </a:t>
            </a:r>
            <a:r>
              <a:rPr b="1" lang="en-GB" sz="3000" spc="-1" strike="noStrike" u="sng">
                <a:solidFill>
                  <a:srgbClr val="ff0000"/>
                </a:solidFill>
                <a:uFillTx/>
                <a:latin typeface="Times New Roman"/>
              </a:rPr>
              <a:t>DFA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, and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makes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| moves and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visits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state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00160" y="5375520"/>
            <a:ext cx="6684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-1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rot="5400000">
            <a:off x="2065320" y="4876560"/>
            <a:ext cx="152280" cy="1371600"/>
          </a:xfrm>
          <a:custGeom>
            <a:avLst/>
            <a:gdLst>
              <a:gd name="textAreaLeft" fmla="*/ 97200 w 152280"/>
              <a:gd name="textAreaRight" fmla="*/ 152640 w 15228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05840" y="4952160"/>
            <a:ext cx="51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2438280" y="4266720"/>
            <a:ext cx="14479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 flipV="1">
            <a:off x="4114800" y="4190760"/>
            <a:ext cx="53352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5638680" y="4114440"/>
            <a:ext cx="53352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6172200" y="4191120"/>
            <a:ext cx="144792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904920" y="4437720"/>
            <a:ext cx="2208960" cy="5814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t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505320" y="35812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981080" y="35812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523880" y="396252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467480" y="35812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666880" y="396252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6576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191120" y="39625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819520" y="3352680"/>
            <a:ext cx="5889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191120" y="3352680"/>
            <a:ext cx="5889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802040" y="350424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095880" y="35812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781680" y="39625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0" y="3352680"/>
            <a:ext cx="5889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562720" y="396252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10640" y="2937240"/>
            <a:ext cx="3038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z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334120" y="3352680"/>
            <a:ext cx="838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of of Pumping Lemma 2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09480" y="1066680"/>
            <a:ext cx="8001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car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 (the number of state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 M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vis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s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k +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 or more states. As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k +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car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there exists a state 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hat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visits at least twi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552240" y="5409000"/>
            <a:ext cx="7343640" cy="1072440"/>
            <a:chOff x="552240" y="5409000"/>
            <a:chExt cx="7343640" cy="1072440"/>
          </a:xfrm>
        </p:grpSpPr>
        <p:sp>
          <p:nvSpPr>
            <p:cNvPr id="172" name=""/>
            <p:cNvSpPr/>
            <p:nvPr/>
          </p:nvSpPr>
          <p:spPr>
            <a:xfrm>
              <a:off x="2016360" y="5832720"/>
              <a:ext cx="587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u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v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w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|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1" i="1" lang="cs-CZ" sz="2800" spc="-1" strike="noStrike" baseline="30000">
                  <a:solidFill>
                    <a:srgbClr val="ff66ff"/>
                  </a:solidFill>
                  <a:latin typeface="Times New Roman"/>
                </a:rPr>
                <a:t>i</a:t>
              </a:r>
              <a:r>
                <a:rPr b="1" i="1" lang="cs-CZ" sz="2800" spc="-1" strike="noStrike" baseline="30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v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w</a:t>
              </a:r>
              <a:r>
                <a:rPr b="0" i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|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1" lang="cs-CZ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 baseline="30000">
                  <a:solidFill>
                    <a:srgbClr val="ff66ff"/>
                  </a:solidFill>
                  <a:latin typeface="Times New Roman"/>
                </a:rPr>
                <a:t>j</a:t>
              </a:r>
              <a:r>
                <a:rPr b="1" lang="en-US" sz="3200" spc="-1" strike="noStrike" baseline="30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w</a:t>
              </a:r>
              <a:r>
                <a:rPr b="0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|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1" lang="en-US" sz="32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 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f </a:t>
              </a: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52240" y="5409000"/>
              <a:ext cx="203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Summary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603720" y="2971080"/>
            <a:ext cx="633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z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exis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u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v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38080" y="48211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742840" y="3885120"/>
            <a:ext cx="3048120" cy="1129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606" y="4547"/>
                </a:moveTo>
                <a:arcTo wR="10800" hR="10800" stAng="-2122687" swAng="6100309"/>
                <a:lnTo>
                  <a:pt x="10800" y="10800"/>
                </a:lnTo>
                <a:close/>
              </a:path>
              <a:path fill="none" w="21600" h="21600">
                <a:moveTo>
                  <a:pt x="19606" y="4547"/>
                </a:moveTo>
                <a:arcTo wR="10800" hR="10800" stAng="-2122687" swAng="6100309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3428640" y="3772440"/>
            <a:ext cx="3047400" cy="1242360"/>
            <a:chOff x="3428640" y="3772440"/>
            <a:chExt cx="3047400" cy="1242360"/>
          </a:xfrm>
        </p:grpSpPr>
        <p:sp>
          <p:nvSpPr>
            <p:cNvPr id="178" name=""/>
            <p:cNvSpPr/>
            <p:nvPr/>
          </p:nvSpPr>
          <p:spPr>
            <a:xfrm>
              <a:off x="3733920" y="3772440"/>
              <a:ext cx="1752480" cy="581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eads</a:t>
              </a: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v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3428280" y="3884400"/>
              <a:ext cx="3047400" cy="1130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529" y="4441"/>
                  </a:moveTo>
                  <a:arcTo wR="10800" hR="10800" stAng="-2164310" swAng="6141932"/>
                  <a:lnTo>
                    <a:pt x="10800" y="10800"/>
                  </a:lnTo>
                  <a:close/>
                </a:path>
                <a:path fill="none" w="21600" h="21600">
                  <a:moveTo>
                    <a:pt x="19529" y="4441"/>
                  </a:moveTo>
                  <a:arcTo wR="10800" hR="10800" stAng="-2164310" swAng="6141932"/>
                </a:path>
              </a:pathLst>
            </a:custGeom>
            <a:noFill/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523880" y="4821120"/>
            <a:ext cx="3429000" cy="685800"/>
            <a:chOff x="1523880" y="4821120"/>
            <a:chExt cx="3429000" cy="685800"/>
          </a:xfrm>
        </p:grpSpPr>
        <p:sp>
          <p:nvSpPr>
            <p:cNvPr id="181" name=""/>
            <p:cNvSpPr/>
            <p:nvPr/>
          </p:nvSpPr>
          <p:spPr>
            <a:xfrm>
              <a:off x="4267080" y="48211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523880" y="51256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905120" y="4839120"/>
              <a:ext cx="1752480" cy="581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eads</a:t>
              </a: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 u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657600" y="512568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533520" y="512604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4952880" y="4821120"/>
            <a:ext cx="3581640" cy="685800"/>
            <a:chOff x="4952880" y="4821120"/>
            <a:chExt cx="3581640" cy="685800"/>
          </a:xfrm>
        </p:grpSpPr>
        <p:sp>
          <p:nvSpPr>
            <p:cNvPr id="187" name=""/>
            <p:cNvSpPr/>
            <p:nvPr/>
          </p:nvSpPr>
          <p:spPr>
            <a:xfrm>
              <a:off x="7848720" y="48211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924680" y="4897080"/>
              <a:ext cx="53352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952880" y="512568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638680" y="4839120"/>
              <a:ext cx="1752840" cy="581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eads</a:t>
              </a: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391520" y="512568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2010240" y="4257720"/>
            <a:ext cx="1149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2800" spc="-1" strike="noStrike">
                <a:solidFill>
                  <a:srgbClr val="ff9933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i="1" lang="cs-CZ" sz="2800" spc="-1" strike="noStrike" baseline="30000">
                <a:solidFill>
                  <a:srgbClr val="ff66ff"/>
                </a:solidFill>
                <a:latin typeface="Times New Roman"/>
              </a:rPr>
              <a:t>i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961960" y="4295520"/>
            <a:ext cx="1177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w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486400" y="3488760"/>
            <a:ext cx="31827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v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cs-CZ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 baseline="30000">
                <a:solidFill>
                  <a:srgbClr val="ff66ff"/>
                </a:solidFill>
                <a:latin typeface="Times New Roman"/>
              </a:rPr>
              <a:t>j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cs-CZ" sz="2800" spc="-1" strike="noStrike">
                <a:solidFill>
                  <a:srgbClr val="ff66ff"/>
                </a:solidFill>
                <a:latin typeface="Times New Roman"/>
              </a:rPr>
              <a:t>j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66ff"/>
                </a:solidFill>
                <a:latin typeface="Symbol"/>
                <a:ea typeface="Symbol"/>
              </a:rPr>
              <a:t></a:t>
            </a:r>
            <a:r>
              <a:rPr b="1" lang="cs-CZ" sz="2800" spc="-1" strike="noStrike">
                <a:solidFill>
                  <a:srgbClr val="ff66ff"/>
                </a:solidFill>
                <a:latin typeface="Times New Roman"/>
              </a:rPr>
              <a:t> 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cs-CZ" sz="2800" spc="-1" strike="noStrike">
                <a:solidFill>
                  <a:srgbClr val="ff66ff"/>
                </a:solidFill>
                <a:latin typeface="Times New Roman"/>
              </a:rPr>
              <a:t>i + j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66ff"/>
                </a:solidFill>
                <a:latin typeface="Symbol"/>
                <a:ea typeface="Symbol"/>
              </a:rPr>
              <a:t></a:t>
            </a:r>
            <a:r>
              <a:rPr b="1" lang="en-GB" sz="28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66ff"/>
                </a:solidFill>
                <a:latin typeface="Times New Roman"/>
              </a:rPr>
              <a:t>k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of of Pumping Lemma 3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9480" y="105012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here exist mov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3880" y="2010600"/>
            <a:ext cx="526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= 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u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v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u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v</a:t>
            </a:r>
            <a:r>
              <a:rPr b="1" lang="cs-CZ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u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914400" y="1630440"/>
            <a:ext cx="38088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048120" y="1630440"/>
            <a:ext cx="38088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952880" y="1630440"/>
            <a:ext cx="38124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992160" y="2772360"/>
            <a:ext cx="83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u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791000" y="2772360"/>
            <a:ext cx="107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i="1" lang="cs-CZ" sz="3200" spc="-1" strike="noStrike" baseline="30000">
                <a:solidFill>
                  <a:srgbClr val="ff66ff"/>
                </a:solidFill>
                <a:latin typeface="Times New Roman"/>
              </a:rPr>
              <a:t>i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819520" y="2738880"/>
            <a:ext cx="22096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f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752480" y="2544840"/>
            <a:ext cx="38124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2544840"/>
            <a:ext cx="38088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06600" y="3229560"/>
            <a:ext cx="288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r each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919080" y="3991680"/>
            <a:ext cx="12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u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v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967400" y="3957840"/>
            <a:ext cx="1499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i="1" lang="cs-CZ" sz="3200" spc="-1" strike="noStrike" baseline="30000">
                <a:solidFill>
                  <a:srgbClr val="ff66ff"/>
                </a:solidFill>
                <a:latin typeface="Times New Roman"/>
              </a:rPr>
              <a:t>i 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v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92120" y="3957840"/>
            <a:ext cx="1971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f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981080" y="3763800"/>
            <a:ext cx="381240" cy="38124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781680" y="3763800"/>
            <a:ext cx="381240" cy="38124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312720" y="3957840"/>
            <a:ext cx="16819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cs-CZ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 baseline="30000">
                <a:solidFill>
                  <a:srgbClr val="ff66ff"/>
                </a:solidFill>
                <a:latin typeface="Times New Roman"/>
              </a:rPr>
              <a:t>j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v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32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cs-CZ" sz="32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276720" y="3763800"/>
            <a:ext cx="380880" cy="38124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739480" y="3957840"/>
            <a:ext cx="1122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cs-CZ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 baseline="30000">
                <a:solidFill>
                  <a:srgbClr val="ff66ff"/>
                </a:solidFill>
                <a:latin typeface="Times New Roman"/>
              </a:rPr>
              <a:t>j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857480" y="3991680"/>
            <a:ext cx="99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cs-CZ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 baseline="30000">
                <a:solidFill>
                  <a:srgbClr val="ff66ff"/>
                </a:solidFill>
                <a:latin typeface="Times New Roman"/>
              </a:rPr>
              <a:t>j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800600" y="3763800"/>
            <a:ext cx="380880" cy="38124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715000" y="3763800"/>
            <a:ext cx="380880" cy="38124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533520" y="4494960"/>
            <a:ext cx="8439840" cy="2269800"/>
            <a:chOff x="533520" y="4494960"/>
            <a:chExt cx="8439840" cy="2269800"/>
          </a:xfrm>
        </p:grpSpPr>
        <p:sp>
          <p:nvSpPr>
            <p:cNvPr id="220" name=""/>
            <p:cNvSpPr/>
            <p:nvPr/>
          </p:nvSpPr>
          <p:spPr>
            <a:xfrm>
              <a:off x="533520" y="4494960"/>
              <a:ext cx="203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Summary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37120" y="4846320"/>
              <a:ext cx="8436240" cy="191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</a:rPr>
                <a:t>1)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v</a:t>
              </a:r>
              <a:r>
                <a:rPr b="0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|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 baseline="30000">
                  <a:solidFill>
                    <a:srgbClr val="ff66ff"/>
                  </a:solidFill>
                  <a:latin typeface="Times New Roman"/>
                </a:rPr>
                <a:t>j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j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ff66ff"/>
                  </a:solidFill>
                  <a:latin typeface="Symbol"/>
                  <a:ea typeface="Symbol"/>
                </a:rPr>
                <a:t></a:t>
              </a:r>
              <a:r>
                <a:rPr b="1" lang="cs-CZ" sz="2800" spc="-1" strike="noStrike">
                  <a:solidFill>
                    <a:srgbClr val="ff66ff"/>
                  </a:solidFill>
                  <a:latin typeface="Times New Roman"/>
                </a:rPr>
                <a:t> 1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; therefore,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v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 1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 so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v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</a:rPr>
                <a:t>2)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u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v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|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1" i="1" lang="cs-CZ" sz="2800" spc="-1" strike="noStrike" baseline="30000">
                  <a:solidFill>
                    <a:srgbClr val="ff66ff"/>
                  </a:solidFill>
                  <a:latin typeface="Times New Roman"/>
                </a:rPr>
                <a:t>i</a:t>
              </a:r>
              <a:r>
                <a:rPr b="1" i="1" lang="cs-CZ" sz="2800" spc="-1" strike="noStrike" baseline="30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v</a:t>
              </a:r>
              <a:r>
                <a:rPr b="0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|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 baseline="30000">
                  <a:solidFill>
                    <a:srgbClr val="ff66ff"/>
                  </a:solidFill>
                  <a:latin typeface="Times New Roman"/>
                </a:rPr>
                <a:t>j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i + j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ff66ff"/>
                  </a:solidFill>
                  <a:latin typeface="Symbol"/>
                  <a:ea typeface="Symbol"/>
                </a:rPr>
                <a:t></a:t>
              </a:r>
              <a:r>
                <a:rPr b="1" lang="en-GB" sz="2800" spc="-1" strike="noStrike">
                  <a:solidFill>
                    <a:srgbClr val="ff66ff"/>
                  </a:solidFill>
                  <a:latin typeface="Times New Roman"/>
                </a:rPr>
                <a:t> </a:t>
              </a:r>
              <a:r>
                <a:rPr b="1" i="1" lang="en-GB" sz="2800" spc="-1" strike="noStrike">
                  <a:solidFill>
                    <a:srgbClr val="ff66ff"/>
                  </a:solidFill>
                  <a:latin typeface="Times New Roman"/>
                </a:rPr>
                <a:t>k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; therefore,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u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v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8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</a:rPr>
                <a:t>3)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For each 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0: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u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v</a:t>
              </a:r>
              <a:r>
                <a:rPr b="1" i="1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cs-CZ" sz="2800" spc="-1" strike="noStrike">
                  <a:solidFill>
                    <a:srgbClr val="339933"/>
                  </a:solidFill>
                  <a:latin typeface="Times New Roman"/>
                </a:rPr>
                <a:t>w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|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*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therefore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u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v</a:t>
              </a:r>
              <a:r>
                <a:rPr b="1" i="1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cs-CZ" sz="2800" spc="-1" strike="noStrike">
                  <a:solidFill>
                    <a:srgbClr val="339933"/>
                  </a:solidFill>
                  <a:latin typeface="Times New Roman"/>
                </a:rPr>
                <a:t>w</a:t>
              </a: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                                        </a:t>
              </a:r>
              <a:r>
                <a:rPr b="1" i="1" lang="en-GB" sz="2800" spc="-1" strike="noStrike">
                  <a:solidFill>
                    <a:srgbClr val="000000"/>
                  </a:solidFill>
                  <a:latin typeface="Times New Roman"/>
                </a:rPr>
                <a:t>QE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1295280" y="1443240"/>
            <a:ext cx="7535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i="1" lang="cs-CZ" sz="3200" spc="-1" strike="noStrike" baseline="30000">
                <a:solidFill>
                  <a:srgbClr val="ff66ff"/>
                </a:solidFill>
                <a:latin typeface="Times New Roman"/>
              </a:rPr>
              <a:t>i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      q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v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cs-CZ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 baseline="30000">
                <a:solidFill>
                  <a:srgbClr val="ff66ff"/>
                </a:solidFill>
                <a:latin typeface="Times New Roman"/>
              </a:rPr>
              <a:t>j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    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w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f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umping Lemma: Application 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9480" y="1066680"/>
            <a:ext cx="838224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Based on the pumping lemma, we often make a proof by contradiction to demonstrate that a language is </a:t>
            </a: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</a:rPr>
              <a:t>not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regula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590920" y="2151720"/>
            <a:ext cx="3886200" cy="520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ssu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a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s regu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829440" y="2666880"/>
            <a:ext cx="7323840" cy="1295640"/>
            <a:chOff x="829440" y="2666880"/>
            <a:chExt cx="7323840" cy="1295640"/>
          </a:xfrm>
        </p:grpSpPr>
        <p:sp>
          <p:nvSpPr>
            <p:cNvPr id="228" name=""/>
            <p:cNvSpPr/>
            <p:nvPr/>
          </p:nvSpPr>
          <p:spPr>
            <a:xfrm>
              <a:off x="1219320" y="3048120"/>
              <a:ext cx="6933960" cy="9144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29440" y="3061800"/>
              <a:ext cx="72918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Consider the PL constant 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and select 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, whose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176480" y="3428640"/>
              <a:ext cx="60343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length depends on 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so 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</a:rPr>
                <a:t>|z|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1" lang="en-GB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GB" sz="2600" spc="-1" strike="noStrike">
                  <a:solidFill>
                    <a:srgbClr val="000000"/>
                  </a:solidFill>
                  <a:latin typeface="Times New Roman"/>
                </a:rPr>
                <a:t> is surely true.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75240" y="2666880"/>
              <a:ext cx="0" cy="381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812160" y="3962520"/>
            <a:ext cx="7805880" cy="1571040"/>
            <a:chOff x="812160" y="3962520"/>
            <a:chExt cx="7805880" cy="1571040"/>
          </a:xfrm>
        </p:grpSpPr>
        <p:sp>
          <p:nvSpPr>
            <p:cNvPr id="233" name=""/>
            <p:cNvSpPr/>
            <p:nvPr/>
          </p:nvSpPr>
          <p:spPr>
            <a:xfrm>
              <a:off x="838080" y="4267080"/>
              <a:ext cx="7696440" cy="12193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815400" y="4288680"/>
              <a:ext cx="780264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</a:rPr>
                <a:t>For </a:t>
              </a:r>
              <a:r>
                <a:rPr b="0" lang="en-GB" sz="25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all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</a:rPr>
                <a:t> decompositions of </a:t>
              </a:r>
              <a:r>
                <a:rPr b="1" i="1" lang="en-GB" sz="25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</a:rPr>
                <a:t> into </a:t>
              </a:r>
              <a:r>
                <a:rPr b="1" i="1" lang="en-GB" sz="2500" spc="-1" strike="noStrike">
                  <a:solidFill>
                    <a:srgbClr val="000000"/>
                  </a:solidFill>
                  <a:latin typeface="Times New Roman"/>
                </a:rPr>
                <a:t>uvw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5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cs-CZ" sz="25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en-GB" sz="25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| </a:t>
              </a:r>
              <a:r>
                <a:rPr b="1" lang="en-US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5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GB" sz="2500" spc="-1" strike="noStrike">
                  <a:solidFill>
                    <a:srgbClr val="000000"/>
                  </a:solidFill>
                  <a:latin typeface="Times New Roman"/>
                </a:rPr>
                <a:t> , show</a:t>
              </a:r>
              <a:r>
                <a:rPr b="0" lang="cs-CZ" sz="25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12160" y="4647240"/>
              <a:ext cx="54388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700" spc="-1" strike="noStrike">
                  <a:solidFill>
                    <a:srgbClr val="000000"/>
                  </a:solidFill>
                  <a:latin typeface="Times New Roman"/>
                </a:rPr>
                <a:t>there exists </a:t>
              </a:r>
              <a:r>
                <a:rPr b="0" i="1" lang="en-GB" sz="27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GB" sz="2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GB" sz="2700" spc="-1" strike="noStrike">
                  <a:solidFill>
                    <a:srgbClr val="000000"/>
                  </a:solidFill>
                  <a:latin typeface="Times New Roman"/>
                </a:rPr>
                <a:t> 0 such that </a:t>
              </a:r>
              <a:r>
                <a:rPr b="1" i="1" lang="en-GB" sz="2700" spc="-1" strike="noStrike">
                  <a:solidFill>
                    <a:srgbClr val="000000"/>
                  </a:solidFill>
                  <a:latin typeface="Times New Roman"/>
                </a:rPr>
                <a:t>uv</a:t>
              </a:r>
              <a:r>
                <a:rPr b="1" i="1" lang="en-GB" sz="2700" spc="-1" strike="noStrike" baseline="30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GB" sz="27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1" lang="en-GB" sz="2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7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</a:t>
              </a:r>
              <a:r>
                <a:rPr b="1" lang="en-GB" sz="2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7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850320" y="5028120"/>
              <a:ext cx="537300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700" spc="-1" strike="noStrike">
                  <a:solidFill>
                    <a:srgbClr val="000000"/>
                  </a:solidFill>
                  <a:latin typeface="Times New Roman"/>
                </a:rPr>
                <a:t>from the pumping lemma,   </a:t>
              </a:r>
              <a:r>
                <a:rPr b="1" i="1" lang="en-GB" sz="2700" spc="-1" strike="noStrike">
                  <a:solidFill>
                    <a:srgbClr val="000000"/>
                  </a:solidFill>
                  <a:latin typeface="Times New Roman"/>
                </a:rPr>
                <a:t>uv</a:t>
              </a:r>
              <a:r>
                <a:rPr b="1" i="1" lang="en-GB" sz="2700" spc="-1" strike="noStrike" baseline="30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GB" sz="27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1" lang="en-GB" sz="2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7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</a:t>
              </a:r>
              <a:r>
                <a:rPr b="1" lang="en-GB" sz="2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7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172200" y="4800600"/>
              <a:ext cx="152280" cy="60948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15840 h 609480"/>
                <a:gd name="textAreaBottom" fmla="*/ 59364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323400" y="4799520"/>
              <a:ext cx="2291400" cy="53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1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900" spc="-1" strike="noStrike">
                  <a:solidFill>
                    <a:srgbClr val="ff0000"/>
                  </a:solidFill>
                  <a:latin typeface="Times New Roman"/>
                </a:rPr>
                <a:t>contradiction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572000" y="3962520"/>
              <a:ext cx="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676800" y="5486400"/>
            <a:ext cx="2779560" cy="843120"/>
            <a:chOff x="676800" y="5486400"/>
            <a:chExt cx="2779560" cy="843120"/>
          </a:xfrm>
        </p:grpSpPr>
        <p:sp>
          <p:nvSpPr>
            <p:cNvPr id="241" name=""/>
            <p:cNvSpPr/>
            <p:nvPr/>
          </p:nvSpPr>
          <p:spPr>
            <a:xfrm>
              <a:off x="676800" y="5808960"/>
              <a:ext cx="2779560" cy="5205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false</a:t>
              </a: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assumption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941120" y="5486400"/>
              <a:ext cx="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685800" y="2361960"/>
            <a:ext cx="1904760" cy="3429000"/>
            <a:chOff x="685800" y="2361960"/>
            <a:chExt cx="1904760" cy="3429000"/>
          </a:xfrm>
        </p:grpSpPr>
        <p:sp>
          <p:nvSpPr>
            <p:cNvPr id="244" name=""/>
            <p:cNvSpPr/>
            <p:nvPr/>
          </p:nvSpPr>
          <p:spPr>
            <a:xfrm flipV="1">
              <a:off x="685800" y="2361960"/>
              <a:ext cx="0" cy="342900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85800" y="2362320"/>
              <a:ext cx="190476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3809880" y="5791320"/>
            <a:ext cx="1676520" cy="457200"/>
          </a:xfrm>
          <a:prstGeom prst="rightArrow">
            <a:avLst>
              <a:gd name="adj1" fmla="val 50000"/>
              <a:gd name="adj2" fmla="val 91673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5638680" y="5562000"/>
            <a:ext cx="2895840" cy="931680"/>
            <a:chOff x="5638680" y="5562000"/>
            <a:chExt cx="2895840" cy="931680"/>
          </a:xfrm>
        </p:grpSpPr>
        <p:sp>
          <p:nvSpPr>
            <p:cNvPr id="248" name=""/>
            <p:cNvSpPr/>
            <p:nvPr/>
          </p:nvSpPr>
          <p:spPr>
            <a:xfrm>
              <a:off x="5638680" y="5653080"/>
              <a:ext cx="2895840" cy="8380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168960" y="5562000"/>
              <a:ext cx="17780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Therefore,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810760" y="5942880"/>
              <a:ext cx="2689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0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</a:rPr>
                <a:t> is not regular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umping Lemma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09480" y="114300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ove that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i="1" lang="en-GB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0} is not regula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09480" y="1676520"/>
            <a:ext cx="777240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Assume that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s regular. Let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1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e the                  pumping lemma constant for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9480" y="25146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GB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GB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GB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en-GB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GB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GB" sz="28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= 2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971800"/>
            <a:ext cx="8077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ll decompositions of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nto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uv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839880" y="4038480"/>
            <a:ext cx="2741400" cy="992160"/>
            <a:chOff x="839880" y="4038480"/>
            <a:chExt cx="2741400" cy="992160"/>
          </a:xfrm>
        </p:grpSpPr>
        <p:sp>
          <p:nvSpPr>
            <p:cNvPr id="260" name=""/>
            <p:cNvSpPr/>
            <p:nvPr/>
          </p:nvSpPr>
          <p:spPr>
            <a:xfrm flipV="1">
              <a:off x="914400" y="4038480"/>
              <a:ext cx="2286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218960" y="4038480"/>
              <a:ext cx="838440" cy="457200"/>
            </a:xfrm>
            <a:prstGeom prst="rect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133360" y="4038480"/>
              <a:ext cx="144792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rot="5400000">
              <a:off x="952200" y="4533840"/>
              <a:ext cx="152280" cy="2286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rot="5400000">
              <a:off x="2781000" y="3924000"/>
              <a:ext cx="152280" cy="144792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37440 h 1447920"/>
                <a:gd name="textAreaBottom" fmla="*/ 1410480 h 144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rot="5400000">
              <a:off x="1561680" y="4228920"/>
              <a:ext cx="152280" cy="83844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21600 h 838440"/>
                <a:gd name="textAreaBottom" fmla="*/ 816840 h 83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39880" y="4570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449000" y="457092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668680" y="45709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834840" y="3961440"/>
            <a:ext cx="283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 a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 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V="1" rot="16200000">
            <a:off x="1562040" y="3237480"/>
            <a:ext cx="152280" cy="1447920"/>
          </a:xfrm>
          <a:custGeom>
            <a:avLst/>
            <a:gdLst>
              <a:gd name="textAreaLeft" fmla="*/ 0 w 152280"/>
              <a:gd name="textAreaRight" fmla="*/ 55080 w 15228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525680" y="3504240"/>
            <a:ext cx="162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k  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     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 rot="16200000">
            <a:off x="2895480" y="3351960"/>
            <a:ext cx="152280" cy="1218960"/>
          </a:xfrm>
          <a:custGeom>
            <a:avLst/>
            <a:gdLst>
              <a:gd name="textAreaLeft" fmla="*/ 0 w 152280"/>
              <a:gd name="textAreaRight" fmla="*/ 55080 w 152280"/>
              <a:gd name="textAreaTop" fmla="*/ 31680 h 1218960"/>
              <a:gd name="textAreaBottom" fmla="*/ 118728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914040" y="4572000"/>
            <a:ext cx="1295640" cy="1359000"/>
            <a:chOff x="914040" y="4572000"/>
            <a:chExt cx="1295640" cy="1359000"/>
          </a:xfrm>
        </p:grpSpPr>
        <p:sp>
          <p:nvSpPr>
            <p:cNvPr id="274" name=""/>
            <p:cNvSpPr/>
            <p:nvPr/>
          </p:nvSpPr>
          <p:spPr>
            <a:xfrm rot="5400000">
              <a:off x="1409040" y="4457520"/>
              <a:ext cx="152640" cy="11430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29520 h 1143000"/>
                <a:gd name="textAreaBottom" fmla="*/ 111348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066680" y="5105520"/>
              <a:ext cx="1143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|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057400" y="457200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914400" y="457200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8" name=""/>
          <p:cNvSpPr/>
          <p:nvPr/>
        </p:nvSpPr>
        <p:spPr>
          <a:xfrm>
            <a:off x="3962520" y="3581280"/>
            <a:ext cx="4647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pumping lemma: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uv</a:t>
            </a:r>
            <a:r>
              <a:rPr b="0" lang="en-GB" sz="3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6401520" y="3885120"/>
            <a:ext cx="1904040" cy="610200"/>
            <a:chOff x="6401520" y="3885120"/>
            <a:chExt cx="1904040" cy="610200"/>
          </a:xfrm>
        </p:grpSpPr>
        <p:sp>
          <p:nvSpPr>
            <p:cNvPr id="280" name=""/>
            <p:cNvSpPr/>
            <p:nvPr/>
          </p:nvSpPr>
          <p:spPr>
            <a:xfrm>
              <a:off x="6401520" y="3885120"/>
              <a:ext cx="1463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k 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 i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  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&lt;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 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V="1" rot="16200000">
              <a:off x="6667200" y="4152240"/>
              <a:ext cx="152280" cy="53316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13680 h 533160"/>
                <a:gd name="textAreaBottom" fmla="*/ 519480 h 533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 rot="16200000">
              <a:off x="7581600" y="3771000"/>
              <a:ext cx="152280" cy="129564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33480 h 1295640"/>
                <a:gd name="textAreaBottom" fmla="*/ 1262160 h 129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3974040" y="4418640"/>
            <a:ext cx="5007960" cy="1068840"/>
            <a:chOff x="3974040" y="4418640"/>
            <a:chExt cx="5007960" cy="1068840"/>
          </a:xfrm>
        </p:grpSpPr>
        <p:sp>
          <p:nvSpPr>
            <p:cNvPr id="284" name=""/>
            <p:cNvSpPr/>
            <p:nvPr/>
          </p:nvSpPr>
          <p:spPr>
            <a:xfrm flipV="1">
              <a:off x="6477120" y="4494960"/>
              <a:ext cx="228600" cy="4568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781680" y="4495680"/>
              <a:ext cx="1524240" cy="4568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425280" y="4418640"/>
              <a:ext cx="2556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 a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b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b </a:t>
              </a:r>
              <a:r>
                <a:rPr b="1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rot="5400000">
              <a:off x="6514920" y="4990680"/>
              <a:ext cx="151920" cy="228600"/>
            </a:xfrm>
            <a:custGeom>
              <a:avLst/>
              <a:gdLst>
                <a:gd name="textAreaLeft" fmla="*/ 0 w 151920"/>
                <a:gd name="textAreaRight" fmla="*/ 54720 w 15192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5400000">
              <a:off x="7467840" y="4343040"/>
              <a:ext cx="151920" cy="1524240"/>
            </a:xfrm>
            <a:custGeom>
              <a:avLst/>
              <a:gdLst>
                <a:gd name="textAreaLeft" fmla="*/ 0 w 151920"/>
                <a:gd name="textAreaRight" fmla="*/ 54720 w 151920"/>
                <a:gd name="textAreaTop" fmla="*/ 39600 h 1524240"/>
                <a:gd name="textAreaBottom" fmla="*/ 1484640 h 152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402600" y="5027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317000" y="502776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974040" y="4419000"/>
              <a:ext cx="22989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3000" spc="-1" strike="noStrike">
                  <a:solidFill>
                    <a:srgbClr val="000000"/>
                  </a:solidFill>
                  <a:latin typeface="Times New Roman"/>
                </a:rPr>
                <a:t>uv</a:t>
              </a:r>
              <a:r>
                <a:rPr b="0" lang="en-GB" sz="30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i="1" lang="en-GB" sz="30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i="1" lang="en-GB" sz="3000" spc="-1" strike="noStrike">
                  <a:solidFill>
                    <a:srgbClr val="000000"/>
                  </a:solidFill>
                  <a:latin typeface="Times New Roman"/>
                </a:rPr>
                <a:t>uw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3809880" y="3657600"/>
            <a:ext cx="228600" cy="1295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4191120" y="4952880"/>
            <a:ext cx="2438280" cy="947160"/>
            <a:chOff x="4191120" y="4952880"/>
            <a:chExt cx="2438280" cy="947160"/>
          </a:xfrm>
        </p:grpSpPr>
        <p:sp>
          <p:nvSpPr>
            <p:cNvPr id="294" name=""/>
            <p:cNvSpPr/>
            <p:nvPr/>
          </p:nvSpPr>
          <p:spPr>
            <a:xfrm>
              <a:off x="4572000" y="4952880"/>
              <a:ext cx="1371600" cy="5331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191120" y="5410080"/>
              <a:ext cx="24382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GB" sz="2600" spc="-1" strike="noStrike">
                  <a:solidFill>
                    <a:srgbClr val="ff0000"/>
                  </a:solidFill>
                  <a:latin typeface="Times New Roman"/>
                </a:rPr>
                <a:t>ontradiction!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6" name=""/>
          <p:cNvSpPr/>
          <p:nvPr/>
        </p:nvSpPr>
        <p:spPr>
          <a:xfrm>
            <a:off x="762120" y="60199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4)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refore,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s not regu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ote on Use of Pumping Lemma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35680" y="1066320"/>
            <a:ext cx="381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Pumping lemma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8200" y="1923120"/>
            <a:ext cx="2037240" cy="5814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regu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916200" y="1828080"/>
            <a:ext cx="49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i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114800" y="2057400"/>
            <a:ext cx="838080" cy="380880"/>
          </a:xfrm>
          <a:prstGeom prst="rightArrow">
            <a:avLst>
              <a:gd name="adj1" fmla="val 50000"/>
              <a:gd name="adj2" fmla="val 5500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224680" y="1923120"/>
            <a:ext cx="3065400" cy="581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ist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k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0 and 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962520" y="159948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85800" y="36576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93600" y="3580920"/>
            <a:ext cx="8780760" cy="2791800"/>
            <a:chOff x="93600" y="3580920"/>
            <a:chExt cx="8780760" cy="2791800"/>
          </a:xfrm>
        </p:grpSpPr>
        <p:sp>
          <p:nvSpPr>
            <p:cNvPr id="306" name=""/>
            <p:cNvSpPr/>
            <p:nvPr/>
          </p:nvSpPr>
          <p:spPr>
            <a:xfrm>
              <a:off x="6186960" y="4437720"/>
              <a:ext cx="2037240" cy="5814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is regula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876920" y="4648320"/>
              <a:ext cx="838080" cy="380880"/>
            </a:xfrm>
            <a:prstGeom prst="rightArrow">
              <a:avLst>
                <a:gd name="adj1" fmla="val 50000"/>
                <a:gd name="adj2" fmla="val 55009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262160" y="4437720"/>
              <a:ext cx="3065400" cy="581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exist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 k </a:t>
              </a:r>
              <a:r>
                <a:rPr b="0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0 and 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84360" y="4342680"/>
              <a:ext cx="491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4000" spc="-1" strike="noStrike">
                  <a:solidFill>
                    <a:srgbClr val="000000"/>
                  </a:solidFill>
                  <a:latin typeface="Times New Roman"/>
                </a:rPr>
                <a:t>if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800600" y="4190040"/>
              <a:ext cx="99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the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93600" y="3580920"/>
              <a:ext cx="8780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2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However, the next implication is </a:t>
              </a: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incorrect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33520" y="5181480"/>
              <a:ext cx="8153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</a:rPr>
                <a:t>We </a:t>
              </a:r>
              <a:r>
                <a:rPr b="1" lang="en-GB" sz="3600" spc="-1" strike="noStrike">
                  <a:solidFill>
                    <a:srgbClr val="ff0000"/>
                  </a:solidFill>
                  <a:latin typeface="Times New Roman"/>
                </a:rPr>
                <a:t>cannot</a:t>
              </a: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</a:rPr>
                <a:t> use the pumping lemma to prove that </a:t>
              </a:r>
              <a:r>
                <a:rPr b="1" i="1" lang="en-GB" sz="3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</a:rPr>
                <a:t> is regular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560520" y="4419360"/>
            <a:ext cx="8229600" cy="609840"/>
            <a:chOff x="560520" y="4419360"/>
            <a:chExt cx="8229600" cy="609840"/>
          </a:xfrm>
        </p:grpSpPr>
        <p:sp>
          <p:nvSpPr>
            <p:cNvPr id="314" name=""/>
            <p:cNvSpPr/>
            <p:nvPr/>
          </p:nvSpPr>
          <p:spPr>
            <a:xfrm flipV="1">
              <a:off x="560520" y="4419360"/>
              <a:ext cx="822960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60520" y="4419720"/>
              <a:ext cx="822960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6" name=""/>
          <p:cNvSpPr/>
          <p:nvPr/>
        </p:nvSpPr>
        <p:spPr>
          <a:xfrm>
            <a:off x="533520" y="2590920"/>
            <a:ext cx="8381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Main application of the pumping lemm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proof by contradiction that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regular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Roman Lukáš</cp:lastModifiedBy>
  <dcterms:modified xsi:type="dcterms:W3CDTF">2005-09-29T09:41:54Z</dcterms:modified>
  <cp:revision>144</cp:revision>
  <dc:subject/>
  <dc:title>Properties of Regular Languages</dc:title>
</cp:coreProperties>
</file>