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F144-EF6D-42EE-B8DD-5165ACB0C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A980-9F85-47DE-BF79-B1228021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FAC8-A514-44BE-A63E-29C65B73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97ED-BC04-44D1-9B04-A1C3A6C0A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FDBB-540A-4360-BDFD-05E8C591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AD37-2C00-4578-A615-780CD1A5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F42F-1F6C-49A6-89E5-C2B15175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03B4-2A42-49B0-AA1A-3D4C1BDE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4879-99FB-4063-A982-5B18CDFC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517-32AB-47D0-9905-036FFCFB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AB81-7E95-4308-8B0D-409C779C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C87-0F4D-4230-85FE-613775D0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6F7B-4D10-41CD-AADE-566CCD08DDC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Introduction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213372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nalyzer checks semantic aspect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ich may imp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for exampl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-to-rea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hecking declaration of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yntax-Directed Transl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contr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neration of s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3962520" y="2362320"/>
            <a:ext cx="4190760" cy="304560"/>
            <a:chOff x="3962520" y="2362320"/>
            <a:chExt cx="4190760" cy="304560"/>
          </a:xfrm>
        </p:grpSpPr>
        <p:grpSp>
          <p:nvGrpSpPr>
            <p:cNvPr id="316" name=""/>
            <p:cNvGrpSpPr/>
            <p:nvPr/>
          </p:nvGrpSpPr>
          <p:grpSpPr>
            <a:xfrm>
              <a:off x="3962520" y="2362320"/>
              <a:ext cx="838080" cy="304560"/>
              <a:chOff x="3962520" y="2362320"/>
              <a:chExt cx="838080" cy="304560"/>
            </a:xfrm>
          </p:grpSpPr>
          <p:sp>
            <p:nvSpPr>
              <p:cNvPr id="317" name=""/>
              <p:cNvSpPr/>
              <p:nvPr/>
            </p:nvSpPr>
            <p:spPr>
              <a:xfrm flipV="1"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791320" y="2362320"/>
              <a:ext cx="838080" cy="304560"/>
              <a:chOff x="5791320" y="2362320"/>
              <a:chExt cx="838080" cy="304560"/>
            </a:xfrm>
          </p:grpSpPr>
          <p:sp>
            <p:nvSpPr>
              <p:cNvPr id="320" name=""/>
              <p:cNvSpPr/>
              <p:nvPr/>
            </p:nvSpPr>
            <p:spPr>
              <a:xfrm flipV="1"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7315200" y="2362320"/>
              <a:ext cx="838080" cy="304560"/>
              <a:chOff x="7315200" y="2362320"/>
              <a:chExt cx="838080" cy="30456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 flipH="1">
            <a:off x="1904760" y="1676520"/>
            <a:ext cx="106668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676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4680" y="14472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1676520"/>
            <a:ext cx="12193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yntax-Directed Translation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2819520"/>
            <a:ext cx="19047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2819520"/>
            <a:ext cx="5335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2819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2819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5000" y="2819520"/>
            <a:ext cx="990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1680" y="2819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62920" y="2819520"/>
            <a:ext cx="9144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3276720"/>
            <a:ext cx="1752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8120" y="3276720"/>
            <a:ext cx="380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57600" y="3276720"/>
            <a:ext cx="1447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91320" y="3276720"/>
            <a:ext cx="8380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3276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38880" y="3276720"/>
            <a:ext cx="609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4480" y="11422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800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8920" y="17517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419720" y="198108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1981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19810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312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4068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48520" y="22096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22096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2209680"/>
            <a:ext cx="3808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34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8320" y="1234080"/>
            <a:ext cx="1090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01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972160" y="1397880"/>
            <a:ext cx="608760" cy="147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181480" y="1752480"/>
            <a:ext cx="456840" cy="110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629400" y="2107800"/>
            <a:ext cx="456840" cy="73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38000" y="1294920"/>
            <a:ext cx="1578240" cy="1750680"/>
            <a:chOff x="7038000" y="1294920"/>
            <a:chExt cx="1578240" cy="1750680"/>
          </a:xfrm>
        </p:grpSpPr>
        <p:sp>
          <p:nvSpPr>
            <p:cNvPr id="363" name=""/>
            <p:cNvSpPr/>
            <p:nvPr/>
          </p:nvSpPr>
          <p:spPr>
            <a:xfrm flipV="1">
              <a:off x="7692120" y="1751760"/>
              <a:ext cx="610200" cy="12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8" y="828"/>
                  </a:moveTo>
                  <a:arcTo wR="10800" hR="10800" stAng="-4044979" swAng="14284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8" y="828"/>
                  </a:moveTo>
                  <a:arcTo wR="10800" hR="10800" stAng="-4044979" swAng="1428486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38000" y="1294920"/>
              <a:ext cx="157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30360" y="3642120"/>
            <a:ext cx="6676920" cy="2758680"/>
            <a:chOff x="630360" y="3642120"/>
            <a:chExt cx="6676920" cy="2758680"/>
          </a:xfrm>
        </p:grpSpPr>
        <p:sp>
          <p:nvSpPr>
            <p:cNvPr id="366" name=""/>
            <p:cNvSpPr/>
            <p:nvPr/>
          </p:nvSpPr>
          <p:spPr>
            <a:xfrm>
              <a:off x="914400" y="5943600"/>
              <a:ext cx="19051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95480" y="3809880"/>
              <a:ext cx="5335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71800" y="5943600"/>
              <a:ext cx="1600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95680" y="441972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24280" y="5943600"/>
              <a:ext cx="9907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38680" y="495288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67280" y="5943600"/>
              <a:ext cx="914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09040" y="5333760"/>
              <a:ext cx="139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24480" y="5791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752120" y="4038480"/>
              <a:ext cx="114300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29000" y="4038480"/>
              <a:ext cx="1295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733920" y="4724280"/>
              <a:ext cx="76176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181480" y="51814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19920" y="518148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6920" y="4648320"/>
              <a:ext cx="9903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0360" y="3642120"/>
              <a:ext cx="1418040" cy="11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Abstrac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Synta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re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24280" y="3809880"/>
              <a:ext cx="10670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2133720"/>
            <a:ext cx="8305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mediate code generator produce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nal version of target program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se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form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rect translation to target program is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icult and “roug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819520" y="4724280"/>
            <a:ext cx="5486400" cy="16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Interme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ate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code generator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3581280"/>
            <a:ext cx="19047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144792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581280"/>
            <a:ext cx="1600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00600" y="205740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3581280"/>
            <a:ext cx="9907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259092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72200" y="3581280"/>
            <a:ext cx="914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41960" y="220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7640" y="3047760"/>
            <a:ext cx="163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tTo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5053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057040" y="1676520"/>
            <a:ext cx="114300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33920" y="1676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038120" y="2362320"/>
            <a:ext cx="76212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486400" y="2819520"/>
            <a:ext cx="4572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28195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81480" y="2286000"/>
            <a:ext cx="9907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5320" y="1066320"/>
            <a:ext cx="1598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bstr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ynta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14800" y="4191120"/>
            <a:ext cx="10666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705720" y="2608920"/>
            <a:ext cx="1155240" cy="781200"/>
            <a:chOff x="6705720" y="2608920"/>
            <a:chExt cx="1155240" cy="781200"/>
          </a:xfrm>
        </p:grpSpPr>
        <p:sp>
          <p:nvSpPr>
            <p:cNvPr id="410" name=""/>
            <p:cNvSpPr/>
            <p:nvPr/>
          </p:nvSpPr>
          <p:spPr>
            <a:xfrm>
              <a:off x="6705720" y="260892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086600" y="2741400"/>
              <a:ext cx="774360" cy="64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53" y="0"/>
                  </a:moveTo>
                  <a:arcTo wR="10800" hR="10800" stAng="-5383181" swAng="107123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53" y="0"/>
                  </a:moveTo>
                  <a:arcTo wR="10800" hR="10800" stAng="-5383181" swAng="1071231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791320" y="1847160"/>
            <a:ext cx="761760" cy="840240"/>
            <a:chOff x="5791320" y="1847160"/>
            <a:chExt cx="761760" cy="840240"/>
          </a:xfrm>
        </p:grpSpPr>
        <p:sp>
          <p:nvSpPr>
            <p:cNvPr id="413" name=""/>
            <p:cNvSpPr/>
            <p:nvPr/>
          </p:nvSpPr>
          <p:spPr>
            <a:xfrm>
              <a:off x="5791320" y="184716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202080" y="231084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527960" y="537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03400" y="472356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3640" y="51044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64360" y="548568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6800" y="5866560"/>
            <a:ext cx="36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409720" y="2739960"/>
            <a:ext cx="1295640" cy="1383840"/>
            <a:chOff x="5409720" y="2739960"/>
            <a:chExt cx="1295640" cy="1383840"/>
          </a:xfrm>
        </p:grpSpPr>
        <p:sp>
          <p:nvSpPr>
            <p:cNvPr id="421" name=""/>
            <p:cNvSpPr/>
            <p:nvPr/>
          </p:nvSpPr>
          <p:spPr>
            <a:xfrm flipH="1" flipV="1">
              <a:off x="5409360" y="2739960"/>
              <a:ext cx="1066680" cy="138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6324120" y="2818800"/>
              <a:ext cx="38124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648320" y="1313280"/>
            <a:ext cx="761760" cy="840240"/>
            <a:chOff x="4648320" y="1313280"/>
            <a:chExt cx="761760" cy="840240"/>
          </a:xfrm>
        </p:grpSpPr>
        <p:sp>
          <p:nvSpPr>
            <p:cNvPr id="424" name=""/>
            <p:cNvSpPr/>
            <p:nvPr/>
          </p:nvSpPr>
          <p:spPr>
            <a:xfrm>
              <a:off x="4648320" y="131328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059080" y="177696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809520" y="2286000"/>
            <a:ext cx="1981800" cy="2184480"/>
            <a:chOff x="3809520" y="2286000"/>
            <a:chExt cx="1981800" cy="2184480"/>
          </a:xfrm>
        </p:grpSpPr>
        <p:sp>
          <p:nvSpPr>
            <p:cNvPr id="427" name=""/>
            <p:cNvSpPr/>
            <p:nvPr/>
          </p:nvSpPr>
          <p:spPr>
            <a:xfrm flipH="1" flipV="1">
              <a:off x="3809160" y="2286000"/>
              <a:ext cx="1981080" cy="218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5181480" y="2286000"/>
              <a:ext cx="609840" cy="76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 flipV="1">
            <a:off x="3733920" y="1600200"/>
            <a:ext cx="914400" cy="7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980000" y="1600200"/>
            <a:ext cx="2438280" cy="346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91" y="9266"/>
                </a:moveTo>
                <a:arcTo wR="10800" hR="10800" stAng="-489945" swAng="5889945"/>
                <a:lnTo>
                  <a:pt x="10800" y="10800"/>
                </a:lnTo>
                <a:close/>
              </a:path>
              <a:path fill="none" w="21600" h="21600">
                <a:moveTo>
                  <a:pt x="21491" y="9266"/>
                </a:moveTo>
                <a:arcTo wR="10800" hR="10800" stAng="-489945" swAng="5889945"/>
              </a:path>
            </a:pathLst>
          </a:custGeom>
          <a:noFill/>
          <a:ln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7120" y="472392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2133720"/>
            <a:ext cx="845820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Optimizer makes more efficient version o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ntermediate code called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optimized intermediate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nstant propagation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a := 1; b := 2; c := a + b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 := 3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a, b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py propag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b := a; c := b; d := c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 := 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b, c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Dead code elimin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fals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nothing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me compilers have no optim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823480" y="5486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666880" y="4800600"/>
            <a:ext cx="5791320" cy="106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1295280"/>
            <a:ext cx="5562720" cy="2590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72200" y="3962520"/>
            <a:ext cx="106668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55680" y="13708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15920" y="198036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17000" y="258984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58920" y="319968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9400" y="137124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4266360"/>
            <a:ext cx="58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048120" y="1447920"/>
            <a:ext cx="4266720" cy="1143000"/>
            <a:chOff x="3048120" y="1447920"/>
            <a:chExt cx="4266720" cy="1143000"/>
          </a:xfrm>
        </p:grpSpPr>
        <p:sp>
          <p:nvSpPr>
            <p:cNvPr id="452" name=""/>
            <p:cNvSpPr/>
            <p:nvPr/>
          </p:nvSpPr>
          <p:spPr>
            <a:xfrm>
              <a:off x="3048120" y="1447920"/>
              <a:ext cx="82044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94400" y="2057760"/>
              <a:ext cx="820440" cy="5331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68560" y="1829160"/>
              <a:ext cx="270756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971800" y="2590920"/>
            <a:ext cx="3429000" cy="1143000"/>
            <a:chOff x="2971800" y="2590920"/>
            <a:chExt cx="3429000" cy="1143000"/>
          </a:xfrm>
        </p:grpSpPr>
        <p:sp>
          <p:nvSpPr>
            <p:cNvPr id="456" name=""/>
            <p:cNvSpPr/>
            <p:nvPr/>
          </p:nvSpPr>
          <p:spPr>
            <a:xfrm>
              <a:off x="2971800" y="259092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38680" y="320040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600" y="3048120"/>
              <a:ext cx="1981080" cy="3049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35400" y="4875840"/>
            <a:ext cx="48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41880" y="5333040"/>
            <a:ext cx="59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48320" y="1828800"/>
            <a:ext cx="2133360" cy="0"/>
          </a:xfrm>
          <a:prstGeom prst="line">
            <a:avLst/>
          </a:prstGeom>
          <a:ln w="5724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21337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timized intermediate code is convert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rget program is written in target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reality, target language is assembly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209680" y="3962520"/>
            <a:ext cx="4953240" cy="2133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76520" y="1752480"/>
            <a:ext cx="5790960" cy="10670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6200" y="2895480"/>
            <a:ext cx="1066680" cy="99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66000" y="182808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95960" y="2285280"/>
            <a:ext cx="57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335196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arget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1142280"/>
            <a:ext cx="58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282040" y="2060640"/>
            <a:ext cx="5870880" cy="2863440"/>
            <a:chOff x="2282040" y="2060640"/>
            <a:chExt cx="5870880" cy="2863440"/>
          </a:xfrm>
        </p:grpSpPr>
        <p:sp>
          <p:nvSpPr>
            <p:cNvPr id="477" name=""/>
            <p:cNvSpPr/>
            <p:nvPr/>
          </p:nvSpPr>
          <p:spPr>
            <a:xfrm>
              <a:off x="2282040" y="3961800"/>
              <a:ext cx="382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2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20720" y="4342680"/>
              <a:ext cx="359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ul R2, #60.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48520" y="4038840"/>
              <a:ext cx="228600" cy="685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36280" y="2060640"/>
              <a:ext cx="371664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204" y="119"/>
                  </a:moveTo>
                  <a:arcTo wR="10800" hR="10800" stAng="-5909927" swAng="10756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204" y="119"/>
                  </a:moveTo>
                  <a:arcTo wR="10800" hR="10800" stAng="-5909927" swAng="10756632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55520" y="3523680"/>
              <a:ext cx="148824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R2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283120" y="2343600"/>
            <a:ext cx="5976360" cy="3723480"/>
            <a:chOff x="2283120" y="2343600"/>
            <a:chExt cx="5976360" cy="3723480"/>
          </a:xfrm>
        </p:grpSpPr>
        <p:sp>
          <p:nvSpPr>
            <p:cNvPr id="483" name=""/>
            <p:cNvSpPr/>
            <p:nvPr/>
          </p:nvSpPr>
          <p:spPr>
            <a:xfrm>
              <a:off x="2283120" y="4723560"/>
              <a:ext cx="456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3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19640" y="510480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add R2, R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526840" y="5485680"/>
              <a:ext cx="431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Position,R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81680" y="4800600"/>
              <a:ext cx="228600" cy="11430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41760" y="2343600"/>
              <a:ext cx="3717720" cy="316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442" y="1591"/>
                  </a:moveTo>
                  <a:arcTo wR="10800" hR="10800" stAng="-3510213" swAng="7580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442" y="1591"/>
                  </a:moveTo>
                  <a:arcTo wR="10800" hR="10800" stAng="-3510213" swAng="7580488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337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ompiler rea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ce language) and translates them i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 target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and target programs a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unction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5168880"/>
            <a:ext cx="2971800" cy="139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7804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88288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179064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42900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64832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Ph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63536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962520"/>
            <a:ext cx="39625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1280" y="396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 * 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1280" y="41900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304000"/>
            <a:ext cx="2971800" cy="510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5423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ul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#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565164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3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I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5181480"/>
            <a:ext cx="3962520" cy="138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Id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58802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dd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61088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416400"/>
            <a:ext cx="29718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301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3645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87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41022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645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3873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102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21896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67616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13336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92240" y="504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960" y="52833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81160" y="55119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38360" y="57405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62040" y="52833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19240" y="55119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24160" y="6197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5220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8608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40940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6660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6696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2416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95560" y="574056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IntToRe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52760" y="6121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0560" y="2284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IntToReal(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1280" y="25135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2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1280" y="27421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3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360" y="2970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08640" y="2324160"/>
            <a:ext cx="3949560" cy="102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505680" y="1359000"/>
            <a:ext cx="3038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506040" y="1969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3506040" y="2578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506040" y="3112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05680" y="4331160"/>
            <a:ext cx="38088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506040" y="4864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rot="16200000">
            <a:off x="4265280" y="2059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rot="16200000">
            <a:off x="4265280" y="312588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rot="16200000">
            <a:off x="4265280" y="36594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6200000">
            <a:off x="4265280" y="4345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rot="16200000">
            <a:off x="4264920" y="4877640"/>
            <a:ext cx="38088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45000" y="1887480"/>
            <a:ext cx="850680" cy="453888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943600" y="1219320"/>
            <a:ext cx="2514600" cy="3657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13716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3716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82960" y="13716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4120" y="2666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65760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5029200"/>
            <a:ext cx="449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Optimized 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5562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13716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1371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1752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43400" y="20574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27432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2971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828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27432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971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41148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42670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54864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56386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676520" y="58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20968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160" y="22860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ars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343400" y="31240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429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15328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40384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1337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7432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ac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276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, ...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191120"/>
            <a:ext cx="70106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73392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Language 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5181480"/>
            <a:ext cx="327672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Y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rget progra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5181480"/>
            <a:ext cx="426708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O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65724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s and Compi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20968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program is broken int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exem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ically cohesive lexical entitie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identifiers, numbers, key-words, operato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xemes are represented by uniform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tokens hav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6920" y="1142280"/>
            <a:ext cx="296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1600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15480" y="4038480"/>
            <a:ext cx="7009200" cy="1905120"/>
            <a:chOff x="915480" y="4038480"/>
            <a:chExt cx="7009200" cy="1905120"/>
          </a:xfrm>
        </p:grpSpPr>
        <p:sp>
          <p:nvSpPr>
            <p:cNvPr id="175" name=""/>
            <p:cNvSpPr/>
            <p:nvPr/>
          </p:nvSpPr>
          <p:spPr>
            <a:xfrm>
              <a:off x="3962520" y="4038480"/>
              <a:ext cx="1066680" cy="838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5480" y="4571280"/>
              <a:ext cx="1492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oken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90720" y="5105520"/>
              <a:ext cx="1904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1800" y="5105520"/>
              <a:ext cx="5335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1280" y="5105520"/>
              <a:ext cx="160020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5105520"/>
              <a:ext cx="380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5000" y="5105520"/>
              <a:ext cx="9907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81680" y="5105520"/>
              <a:ext cx="3049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62920" y="5105520"/>
              <a:ext cx="761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6680" y="5562720"/>
              <a:ext cx="1752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8120" y="556272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57600" y="5562720"/>
              <a:ext cx="14479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1320" y="556272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0" y="5562720"/>
              <a:ext cx="152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8880" y="5562720"/>
              <a:ext cx="609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4120" y="55627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833040" y="2133720"/>
            <a:ext cx="7015680" cy="1676160"/>
            <a:chOff x="833040" y="2133720"/>
            <a:chExt cx="7015680" cy="1676160"/>
          </a:xfrm>
        </p:grpSpPr>
        <p:sp>
          <p:nvSpPr>
            <p:cNvPr id="192" name=""/>
            <p:cNvSpPr/>
            <p:nvPr/>
          </p:nvSpPr>
          <p:spPr>
            <a:xfrm>
              <a:off x="990720" y="3200400"/>
              <a:ext cx="1904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osi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71800" y="3200400"/>
              <a:ext cx="5335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1280" y="3200400"/>
              <a:ext cx="1600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57800" y="3200400"/>
              <a:ext cx="38088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320040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81680" y="3200400"/>
              <a:ext cx="3049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3200400"/>
              <a:ext cx="6858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62520" y="2133720"/>
              <a:ext cx="1066680" cy="838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3040" y="2666160"/>
              <a:ext cx="172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Lexeme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6095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213372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verifies that the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s a syntactically well-formed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it fin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arse t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 string, 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rect; otherwise, it i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struction of tree is based on gramma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approach: top-down and botto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990720" y="3048120"/>
            <a:ext cx="6933960" cy="1981080"/>
            <a:chOff x="990720" y="3048120"/>
            <a:chExt cx="6933960" cy="1981080"/>
          </a:xfrm>
        </p:grpSpPr>
        <p:sp>
          <p:nvSpPr>
            <p:cNvPr id="210" name=""/>
            <p:cNvSpPr/>
            <p:nvPr/>
          </p:nvSpPr>
          <p:spPr>
            <a:xfrm>
              <a:off x="990720" y="3048120"/>
              <a:ext cx="6933960" cy="1981080"/>
            </a:xfrm>
            <a:custGeom>
              <a:avLst/>
              <a:gdLst/>
              <a:ahLst/>
              <a:rect l="l" t="t" r="r" b="b"/>
              <a:pathLst>
                <a:path w="4368" h="1296">
                  <a:moveTo>
                    <a:pt x="0" y="1296"/>
                  </a:moveTo>
                  <a:lnTo>
                    <a:pt x="4368" y="1296"/>
                  </a:lnTo>
                  <a:lnTo>
                    <a:pt x="2064" y="0"/>
                  </a:lnTo>
                  <a:lnTo>
                    <a:pt x="1920" y="48"/>
                  </a:lnTo>
                  <a:lnTo>
                    <a:pt x="1152" y="48"/>
                  </a:lnTo>
                  <a:lnTo>
                    <a:pt x="960" y="0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1960" y="3657600"/>
              <a:ext cx="304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reate a parse tr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rom a grammatical rules 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85800" y="2590920"/>
            <a:ext cx="7924680" cy="2971800"/>
            <a:chOff x="685800" y="2590920"/>
            <a:chExt cx="7924680" cy="2971800"/>
          </a:xfrm>
        </p:grpSpPr>
        <p:sp>
          <p:nvSpPr>
            <p:cNvPr id="213" name=""/>
            <p:cNvSpPr/>
            <p:nvPr/>
          </p:nvSpPr>
          <p:spPr>
            <a:xfrm>
              <a:off x="685800" y="2971800"/>
              <a:ext cx="7924680" cy="25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981080" y="3048120"/>
              <a:ext cx="99072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76720" y="304812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200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191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3240" y="4266360"/>
              <a:ext cx="5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907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4680" y="289512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3048120"/>
              <a:ext cx="12193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206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97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87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3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6160" y="144684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0920" y="10656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100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680" y="2056320"/>
            <a:ext cx="16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7428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48920" y="2056320"/>
            <a:ext cx="16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41936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3440" y="20563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867280" y="190512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190512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53040" y="2056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78160" y="20563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2800" y="205632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0364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26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94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49040" y="6171480"/>
            <a:ext cx="136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04760" y="5105520"/>
            <a:ext cx="19051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86200" y="5105520"/>
            <a:ext cx="5331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95680" y="5105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72200" y="5105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9400" y="5105520"/>
            <a:ext cx="99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96080" y="5105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76960" y="5105520"/>
            <a:ext cx="90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81080" y="5562720"/>
            <a:ext cx="1752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62160" y="5562720"/>
            <a:ext cx="381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72000" y="5562720"/>
            <a:ext cx="1447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05360" y="5562720"/>
            <a:ext cx="8384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72400" y="5562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53280" y="5562720"/>
            <a:ext cx="747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48160" y="5562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4464720" y="2559600"/>
            <a:ext cx="152280" cy="7072560"/>
          </a:xfrm>
          <a:custGeom>
            <a:avLst/>
            <a:gdLst>
              <a:gd name="textAreaLeft" fmla="*/ 0 w 152280"/>
              <a:gd name="textAreaRight" fmla="*/ 55080 w 152280"/>
              <a:gd name="textAreaTop" fmla="*/ 184320 h 7072560"/>
              <a:gd name="textAreaBottom" fmla="*/ 6888240 h 707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44"/>
                </a:lnTo>
                <a:cubicBezTo>
                  <a:pt x="10800" y="9944"/>
                  <a:pt x="16200" y="10844"/>
                  <a:pt x="21600" y="10844"/>
                </a:cubicBezTo>
                <a:cubicBezTo>
                  <a:pt x="16200" y="10844"/>
                  <a:pt x="10800" y="11744"/>
                  <a:pt x="10800" y="126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4480" y="25138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88000" y="3048120"/>
            <a:ext cx="3541320" cy="2057400"/>
            <a:chOff x="3888000" y="3048120"/>
            <a:chExt cx="3541320" cy="2057400"/>
          </a:xfrm>
        </p:grpSpPr>
        <p:sp>
          <p:nvSpPr>
            <p:cNvPr id="276" name=""/>
            <p:cNvSpPr/>
            <p:nvPr/>
          </p:nvSpPr>
          <p:spPr>
            <a:xfrm>
              <a:off x="5250240" y="4266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2448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8800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8920" y="32760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419720" y="342900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10080" y="34290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5000" y="3429000"/>
              <a:ext cx="838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67280" y="30481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793120" y="3276720"/>
            <a:ext cx="2397960" cy="1828800"/>
            <a:chOff x="5793120" y="3276720"/>
            <a:chExt cx="2397960" cy="1828800"/>
          </a:xfrm>
        </p:grpSpPr>
        <p:sp>
          <p:nvSpPr>
            <p:cNvPr id="285" name=""/>
            <p:cNvSpPr/>
            <p:nvPr/>
          </p:nvSpPr>
          <p:spPr>
            <a:xfrm>
              <a:off x="6720840" y="4266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483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9312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4068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476760" y="373392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3810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15200" y="365760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91520" y="32767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130640" y="4114800"/>
            <a:ext cx="898560" cy="990720"/>
            <a:chOff x="4130640" y="4114800"/>
            <a:chExt cx="898560" cy="990720"/>
          </a:xfrm>
        </p:grpSpPr>
        <p:sp>
          <p:nvSpPr>
            <p:cNvPr id="294" name=""/>
            <p:cNvSpPr/>
            <p:nvPr/>
          </p:nvSpPr>
          <p:spPr>
            <a:xfrm>
              <a:off x="41306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578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434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8320" y="4114800"/>
              <a:ext cx="380880" cy="3812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959440" y="4191120"/>
            <a:ext cx="822240" cy="914400"/>
            <a:chOff x="5959440" y="4191120"/>
            <a:chExt cx="822240" cy="914400"/>
          </a:xfrm>
        </p:grpSpPr>
        <p:sp>
          <p:nvSpPr>
            <p:cNvPr id="299" name=""/>
            <p:cNvSpPr/>
            <p:nvPr/>
          </p:nvSpPr>
          <p:spPr>
            <a:xfrm>
              <a:off x="59594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866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722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00800" y="41911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64280" y="2590200"/>
            <a:ext cx="1090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22760" y="4038480"/>
            <a:ext cx="1078200" cy="1066680"/>
            <a:chOff x="7322760" y="4038480"/>
            <a:chExt cx="1078200" cy="1066680"/>
          </a:xfrm>
        </p:grpSpPr>
        <p:sp>
          <p:nvSpPr>
            <p:cNvPr id="305" name=""/>
            <p:cNvSpPr/>
            <p:nvPr/>
          </p:nvSpPr>
          <p:spPr>
            <a:xfrm>
              <a:off x="7322760" y="419004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0120" y="472428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20120" y="4190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0080" y="403848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57:10Z</dcterms:modified>
  <cp:revision>125</cp:revision>
  <dc:subject/>
  <dc:title>Introduction to Compilers</dc:title>
</cp:coreProperties>
</file>