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5EB-51B8-40EF-BE83-714E0D06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B38-A473-4D39-B649-0B9DA424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3AD-BF08-49A7-B2D9-AA295771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B43-6231-4CC8-8DF2-D694BA6F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B8A-ED14-4606-A331-1A43AF4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F31-AAAE-4B8F-935B-A7FF192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4CB-204A-40A2-8389-7211D29A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655-FD12-44A3-8019-123F417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B16-0C2A-4694-BB6A-FFCBF40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151-96AC-44D6-AD8E-862D60F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7D-F241-4657-B58F-D6AEFFC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E9B-A426-4F88-AA80-24F090A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2B7D-F5F5-4ED7-8E64-12A167502B0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46840" cy="20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rmal Languages and Compil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3716280"/>
            <a:ext cx="61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lexander Medu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man Luk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á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581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pre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19320" y="4648320"/>
            <a:ext cx="2971800" cy="1752480"/>
            <a:chOff x="1219320" y="4648320"/>
            <a:chExt cx="2971800" cy="1752480"/>
          </a:xfrm>
        </p:grpSpPr>
        <p:sp>
          <p:nvSpPr>
            <p:cNvPr id="235" name=""/>
            <p:cNvSpPr/>
            <p:nvPr/>
          </p:nvSpPr>
          <p:spPr>
            <a:xfrm>
              <a:off x="3886200" y="4648320"/>
              <a:ext cx="304920" cy="17524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525780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952880" y="4952880"/>
            <a:ext cx="2895840" cy="1066680"/>
            <a:chOff x="4952880" y="4952880"/>
            <a:chExt cx="2895840" cy="1066680"/>
          </a:xfrm>
        </p:grpSpPr>
        <p:sp>
          <p:nvSpPr>
            <p:cNvPr id="238" name=""/>
            <p:cNvSpPr/>
            <p:nvPr/>
          </p:nvSpPr>
          <p:spPr>
            <a:xfrm>
              <a:off x="4952880" y="4952880"/>
              <a:ext cx="304920" cy="10666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502920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pre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91120" y="4267080"/>
            <a:ext cx="456840" cy="733680"/>
            <a:chOff x="4191120" y="4267080"/>
            <a:chExt cx="456840" cy="733680"/>
          </a:xfrm>
        </p:grpSpPr>
        <p:sp>
          <p:nvSpPr>
            <p:cNvPr id="241" name=""/>
            <p:cNvSpPr/>
            <p:nvPr/>
          </p:nvSpPr>
          <p:spPr>
            <a:xfrm>
              <a:off x="4191120" y="441936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364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191120" y="4267080"/>
            <a:ext cx="380880" cy="1114920"/>
            <a:chOff x="4191120" y="4267080"/>
            <a:chExt cx="380880" cy="1114920"/>
          </a:xfrm>
        </p:grpSpPr>
        <p:sp>
          <p:nvSpPr>
            <p:cNvPr id="244" name=""/>
            <p:cNvSpPr/>
            <p:nvPr/>
          </p:nvSpPr>
          <p:spPr>
            <a:xfrm>
              <a:off x="4191120" y="48006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191120" y="4267080"/>
            <a:ext cx="685800" cy="1495800"/>
            <a:chOff x="4191120" y="4267080"/>
            <a:chExt cx="685800" cy="1495800"/>
          </a:xfrm>
        </p:grpSpPr>
        <p:sp>
          <p:nvSpPr>
            <p:cNvPr id="247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191120" y="4267080"/>
            <a:ext cx="838080" cy="1876680"/>
            <a:chOff x="4191120" y="4267080"/>
            <a:chExt cx="838080" cy="1876680"/>
          </a:xfrm>
        </p:grpSpPr>
        <p:sp>
          <p:nvSpPr>
            <p:cNvPr id="250" name=""/>
            <p:cNvSpPr/>
            <p:nvPr/>
          </p:nvSpPr>
          <p:spPr>
            <a:xfrm>
              <a:off x="4191120" y="556236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91120" y="4267080"/>
            <a:ext cx="1066680" cy="2257920"/>
            <a:chOff x="4191120" y="4267080"/>
            <a:chExt cx="1066680" cy="2257920"/>
          </a:xfrm>
        </p:grpSpPr>
        <p:sp>
          <p:nvSpPr>
            <p:cNvPr id="253" name=""/>
            <p:cNvSpPr/>
            <p:nvPr/>
          </p:nvSpPr>
          <p:spPr>
            <a:xfrm>
              <a:off x="4191120" y="5943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4267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pre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175248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676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is a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124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3657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ffixe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4724280"/>
            <a:ext cx="2971800" cy="1752840"/>
            <a:chOff x="1219320" y="4724280"/>
            <a:chExt cx="2971800" cy="1752840"/>
          </a:xfrm>
        </p:grpSpPr>
        <p:sp>
          <p:nvSpPr>
            <p:cNvPr id="264" name=""/>
            <p:cNvSpPr/>
            <p:nvPr/>
          </p:nvSpPr>
          <p:spPr>
            <a:xfrm>
              <a:off x="3886200" y="4724280"/>
              <a:ext cx="304920" cy="1752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53341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105520" y="5029200"/>
            <a:ext cx="2895120" cy="1066680"/>
            <a:chOff x="5105520" y="5029200"/>
            <a:chExt cx="2895120" cy="1066680"/>
          </a:xfrm>
        </p:grpSpPr>
        <p:sp>
          <p:nvSpPr>
            <p:cNvPr id="267" name=""/>
            <p:cNvSpPr/>
            <p:nvPr/>
          </p:nvSpPr>
          <p:spPr>
            <a:xfrm>
              <a:off x="5105520" y="5029200"/>
              <a:ext cx="304560" cy="10666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0080" y="510552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er suffixes of 1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4419720"/>
            <a:ext cx="990360" cy="657360"/>
            <a:chOff x="4191120" y="4419720"/>
            <a:chExt cx="990360" cy="657360"/>
          </a:xfrm>
        </p:grpSpPr>
        <p:sp>
          <p:nvSpPr>
            <p:cNvPr id="270" name=""/>
            <p:cNvSpPr/>
            <p:nvPr/>
          </p:nvSpPr>
          <p:spPr>
            <a:xfrm>
              <a:off x="4191120" y="44956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24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191120" y="4343400"/>
            <a:ext cx="989640" cy="1114920"/>
            <a:chOff x="4191120" y="4343400"/>
            <a:chExt cx="989640" cy="1114920"/>
          </a:xfrm>
        </p:grpSpPr>
        <p:sp>
          <p:nvSpPr>
            <p:cNvPr id="273" name=""/>
            <p:cNvSpPr/>
            <p:nvPr/>
          </p:nvSpPr>
          <p:spPr>
            <a:xfrm>
              <a:off x="4191120" y="4876920"/>
              <a:ext cx="98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76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199040" y="4343400"/>
            <a:ext cx="990360" cy="1495800"/>
            <a:chOff x="4199040" y="4343400"/>
            <a:chExt cx="990360" cy="1495800"/>
          </a:xfrm>
        </p:grpSpPr>
        <p:sp>
          <p:nvSpPr>
            <p:cNvPr id="276" name=""/>
            <p:cNvSpPr/>
            <p:nvPr/>
          </p:nvSpPr>
          <p:spPr>
            <a:xfrm>
              <a:off x="4199040" y="525780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64120" y="4343400"/>
            <a:ext cx="1017360" cy="1876680"/>
            <a:chOff x="4164120" y="4343400"/>
            <a:chExt cx="1017360" cy="1876680"/>
          </a:xfrm>
        </p:grpSpPr>
        <p:sp>
          <p:nvSpPr>
            <p:cNvPr id="279" name=""/>
            <p:cNvSpPr/>
            <p:nvPr/>
          </p:nvSpPr>
          <p:spPr>
            <a:xfrm>
              <a:off x="4164120" y="5638680"/>
              <a:ext cx="101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4343400"/>
              <a:ext cx="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191120" y="4343400"/>
            <a:ext cx="1066680" cy="2257920"/>
            <a:chOff x="4191120" y="4343400"/>
            <a:chExt cx="1066680" cy="2257920"/>
          </a:xfrm>
        </p:grpSpPr>
        <p:sp>
          <p:nvSpPr>
            <p:cNvPr id="282" name=""/>
            <p:cNvSpPr/>
            <p:nvPr/>
          </p:nvSpPr>
          <p:spPr>
            <a:xfrm>
              <a:off x="4191120" y="6019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3400" y="4343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ffix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ffix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429000" y="5257800"/>
            <a:ext cx="533520" cy="6094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9880" y="4876920"/>
            <a:ext cx="45720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81480" y="4905360"/>
            <a:ext cx="45720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4572000"/>
            <a:ext cx="4267080" cy="2057400"/>
            <a:chOff x="762120" y="4572000"/>
            <a:chExt cx="4267080" cy="2057400"/>
          </a:xfrm>
        </p:grpSpPr>
        <p:sp>
          <p:nvSpPr>
            <p:cNvPr id="291" name=""/>
            <p:cNvSpPr/>
            <p:nvPr/>
          </p:nvSpPr>
          <p:spPr>
            <a:xfrm>
              <a:off x="3200400" y="4572000"/>
              <a:ext cx="1828800" cy="20574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62120" y="4572000"/>
              <a:ext cx="2361600" cy="2057040"/>
              <a:chOff x="762120" y="4572000"/>
              <a:chExt cx="2361600" cy="2057040"/>
            </a:xfrm>
          </p:grpSpPr>
          <p:sp>
            <p:nvSpPr>
              <p:cNvPr id="293" name=""/>
              <p:cNvSpPr/>
              <p:nvPr/>
            </p:nvSpPr>
            <p:spPr>
              <a:xfrm>
                <a:off x="2881440" y="4572000"/>
                <a:ext cx="242280" cy="2057040"/>
              </a:xfrm>
              <a:custGeom>
                <a:avLst/>
                <a:gdLst>
                  <a:gd name="textAreaLeft" fmla="*/ 154800 w 242280"/>
                  <a:gd name="textAreaRight" fmla="*/ 242640 w 242280"/>
                  <a:gd name="textAreaTop" fmla="*/ 53640 h 2057040"/>
                  <a:gd name="textAreaBottom" fmla="*/ 2003400 h 20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120" y="5287680"/>
                <a:ext cx="2181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3429000" y="4952880"/>
            <a:ext cx="5126040" cy="1219320"/>
            <a:chOff x="3429000" y="4952880"/>
            <a:chExt cx="5126040" cy="1219320"/>
          </a:xfrm>
        </p:grpSpPr>
        <p:sp>
          <p:nvSpPr>
            <p:cNvPr id="296" name=""/>
            <p:cNvSpPr/>
            <p:nvPr/>
          </p:nvSpPr>
          <p:spPr>
            <a:xfrm>
              <a:off x="3429000" y="4952880"/>
              <a:ext cx="1752480" cy="121932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257800" y="4952880"/>
              <a:ext cx="3297240" cy="1218960"/>
              <a:chOff x="5257800" y="4952880"/>
              <a:chExt cx="3297240" cy="121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57800" y="495288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86400" y="5040000"/>
                <a:ext cx="3068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roper substrings of 1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45259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30840" y="3990960"/>
            <a:ext cx="3045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3540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0320" y="3990960"/>
            <a:ext cx="3049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92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840" y="3990960"/>
            <a:ext cx="6094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5400" y="3990960"/>
            <a:ext cx="6098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2592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30840" y="3990960"/>
            <a:ext cx="91440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25920" y="3990960"/>
            <a:ext cx="12193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3962520"/>
            <a:ext cx="1266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re are two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, 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x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0481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er 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3505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3429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10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substrings of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 0 1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5334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29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4876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5257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5257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5638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5638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6095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is a substring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xz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1600200"/>
            <a:ext cx="7772400" cy="9381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5238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enote the set of all string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Every subs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2438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note the s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62120" y="3071880"/>
            <a:ext cx="7848360" cy="2146320"/>
            <a:chOff x="762120" y="3071880"/>
            <a:chExt cx="7848360" cy="2146320"/>
          </a:xfrm>
        </p:grpSpPr>
        <p:sp>
          <p:nvSpPr>
            <p:cNvPr id="335" name=""/>
            <p:cNvSpPr/>
            <p:nvPr/>
          </p:nvSpPr>
          <p:spPr>
            <a:xfrm>
              <a:off x="762120" y="3478320"/>
              <a:ext cx="7619760" cy="17398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91520" y="3071880"/>
              <a:ext cx="12189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S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53280" y="3681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905120" y="6172200"/>
            <a:ext cx="5486400" cy="5796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are languages ov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934320" y="4495680"/>
            <a:ext cx="1600200" cy="960480"/>
            <a:chOff x="6934320" y="4495680"/>
            <a:chExt cx="1600200" cy="960480"/>
          </a:xfrm>
        </p:grpSpPr>
        <p:sp>
          <p:nvSpPr>
            <p:cNvPr id="340" name=""/>
            <p:cNvSpPr/>
            <p:nvPr/>
          </p:nvSpPr>
          <p:spPr>
            <a:xfrm>
              <a:off x="7238880" y="4876560"/>
              <a:ext cx="129564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4495680"/>
              <a:ext cx="685800" cy="2286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0120" y="464796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09480" y="4062240"/>
            <a:ext cx="1600200" cy="1417680"/>
            <a:chOff x="609480" y="4062240"/>
            <a:chExt cx="1600200" cy="1417680"/>
          </a:xfrm>
        </p:grpSpPr>
        <p:sp>
          <p:nvSpPr>
            <p:cNvPr id="344" name=""/>
            <p:cNvSpPr/>
            <p:nvPr/>
          </p:nvSpPr>
          <p:spPr>
            <a:xfrm>
              <a:off x="1143000" y="4062240"/>
              <a:ext cx="609480" cy="68580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4900320"/>
              <a:ext cx="1600200" cy="579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914400" y="4519440"/>
              <a:ext cx="239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743200" y="3962520"/>
            <a:ext cx="5791320" cy="2153880"/>
            <a:chOff x="2743200" y="3962520"/>
            <a:chExt cx="5791320" cy="2153880"/>
          </a:xfrm>
        </p:grpSpPr>
        <p:sp>
          <p:nvSpPr>
            <p:cNvPr id="348" name=""/>
            <p:cNvSpPr/>
            <p:nvPr/>
          </p:nvSpPr>
          <p:spPr>
            <a:xfrm>
              <a:off x="2743200" y="4114440"/>
              <a:ext cx="3276720" cy="99036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5486040"/>
              <a:ext cx="426744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486400" y="4952880"/>
              <a:ext cx="53352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96252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371600" y="3733920"/>
            <a:ext cx="2743200" cy="2382480"/>
            <a:chOff x="1371600" y="3733920"/>
            <a:chExt cx="2743200" cy="2382480"/>
          </a:xfrm>
        </p:grpSpPr>
        <p:sp>
          <p:nvSpPr>
            <p:cNvPr id="353" name=""/>
            <p:cNvSpPr/>
            <p:nvPr/>
          </p:nvSpPr>
          <p:spPr>
            <a:xfrm>
              <a:off x="1752480" y="3733920"/>
              <a:ext cx="1219320" cy="8377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5486040"/>
              <a:ext cx="2743200" cy="63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438280" y="4571280"/>
              <a:ext cx="15264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094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295280" y="3505320"/>
            <a:ext cx="7391520" cy="1434600"/>
            <a:chOff x="1295280" y="3505320"/>
            <a:chExt cx="7391520" cy="1434600"/>
          </a:xfrm>
        </p:grpSpPr>
        <p:sp>
          <p:nvSpPr>
            <p:cNvPr id="358" name=""/>
            <p:cNvSpPr/>
            <p:nvPr/>
          </p:nvSpPr>
          <p:spPr>
            <a:xfrm>
              <a:off x="5334120" y="35812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5280" y="41144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6200" y="3505320"/>
              <a:ext cx="6858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24080" y="3581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8120" y="434304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8320" y="350532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200" y="37335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4267080"/>
              <a:ext cx="76176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080" y="3581280"/>
              <a:ext cx="99072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6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441936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10280" y="3885840"/>
              <a:ext cx="7621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388584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2133720"/>
            <a:ext cx="7772400" cy="9144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20574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 languag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ntains a finite number of strings; otherwise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971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 a set; card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the number of its memb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09840" y="3352680"/>
            <a:ext cx="7772040" cy="3292200"/>
            <a:chOff x="609840" y="3352680"/>
            <a:chExt cx="7772040" cy="3292200"/>
          </a:xfrm>
        </p:grpSpPr>
        <p:sp>
          <p:nvSpPr>
            <p:cNvPr id="380" name=""/>
            <p:cNvSpPr/>
            <p:nvPr/>
          </p:nvSpPr>
          <p:spPr>
            <a:xfrm>
              <a:off x="609840" y="3352680"/>
              <a:ext cx="201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1000" y="3886200"/>
              <a:ext cx="556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cs-CZ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400" y="4343400"/>
              <a:ext cx="5866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7080"/>
              <a:ext cx="754380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finite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1" lang="cs-CZ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638680"/>
              <a:ext cx="76960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ubstring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= {10, 010, 100, … }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2800" spc="-1" strike="noStrike">
                  <a:solidFill>
                    <a:srgbClr val="ff0000"/>
                  </a:solidFill>
                  <a:latin typeface="Times New Roman"/>
                </a:rPr>
                <a:t>infin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ite and Infinite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finit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anguage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contains a finite number of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600200"/>
            <a:ext cx="800100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9480" y="3124080"/>
            <a:ext cx="8072640" cy="1639440"/>
            <a:chOff x="609480" y="3124080"/>
            <a:chExt cx="8072640" cy="1639440"/>
          </a:xfrm>
        </p:grpSpPr>
        <p:sp>
          <p:nvSpPr>
            <p:cNvPr id="392" name=""/>
            <p:cNvSpPr/>
            <p:nvPr/>
          </p:nvSpPr>
          <p:spPr>
            <a:xfrm>
              <a:off x="609480" y="3124080"/>
              <a:ext cx="80726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4114800"/>
              <a:ext cx="358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395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28840" y="3809880"/>
              <a:ext cx="243864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4836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5812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487692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4419360" y="4114800"/>
              <a:ext cx="2666880" cy="1206360"/>
              <a:chOff x="4419360" y="4114800"/>
              <a:chExt cx="2666880" cy="120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9360" y="48006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09720" y="48006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7676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Un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666880" y="3809880"/>
            <a:ext cx="5333760" cy="2630160"/>
            <a:chOff x="2666880" y="3809880"/>
            <a:chExt cx="5333760" cy="2630160"/>
          </a:xfrm>
        </p:grpSpPr>
        <p:grpSp>
          <p:nvGrpSpPr>
            <p:cNvPr id="412" name=""/>
            <p:cNvGrpSpPr/>
            <p:nvPr/>
          </p:nvGrpSpPr>
          <p:grpSpPr>
            <a:xfrm>
              <a:off x="2666880" y="3809880"/>
              <a:ext cx="5333760" cy="2630160"/>
              <a:chOff x="2666880" y="3809880"/>
              <a:chExt cx="5333760" cy="263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666880" y="5791320"/>
                <a:ext cx="533376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, 1, 00, 01, 10, 1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962160" y="3809880"/>
                <a:ext cx="3504960" cy="1828800"/>
                <a:chOff x="3962160" y="3809880"/>
                <a:chExt cx="3504960" cy="18288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028840" y="3809880"/>
                  <a:ext cx="2438280" cy="1828800"/>
                </a:xfrm>
                <a:prstGeom prst="ellipse">
                  <a:avLst/>
                </a:pr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962160" y="3809880"/>
                  <a:ext cx="24382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4419360" y="4114800"/>
              <a:ext cx="2666880" cy="1206000"/>
              <a:chOff x="4419360" y="4114800"/>
              <a:chExt cx="2666880" cy="1206000"/>
            </a:xfrm>
          </p:grpSpPr>
          <p:sp>
            <p:nvSpPr>
              <p:cNvPr id="420" name=""/>
              <p:cNvSpPr/>
              <p:nvPr/>
            </p:nvSpPr>
            <p:spPr>
              <a:xfrm>
                <a:off x="4419360" y="411480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9720" y="411480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76760" y="41148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520560" y="3124080"/>
            <a:ext cx="7848720" cy="1639440"/>
            <a:chOff x="520560" y="3124080"/>
            <a:chExt cx="7848720" cy="1639440"/>
          </a:xfrm>
        </p:grpSpPr>
        <p:sp>
          <p:nvSpPr>
            <p:cNvPr id="428" name=""/>
            <p:cNvSpPr/>
            <p:nvPr/>
          </p:nvSpPr>
          <p:spPr>
            <a:xfrm>
              <a:off x="520560" y="312408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41148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895480" y="3809880"/>
            <a:ext cx="5638680" cy="1828800"/>
            <a:chOff x="2895480" y="3809880"/>
            <a:chExt cx="5638680" cy="1828800"/>
          </a:xfrm>
        </p:grpSpPr>
        <p:sp>
          <p:nvSpPr>
            <p:cNvPr id="431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62160" y="3809880"/>
              <a:ext cx="243864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3809880"/>
              <a:ext cx="24382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548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48360" y="472428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5812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67480" y="4724280"/>
              <a:ext cx="3808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419360" y="4114440"/>
              <a:ext cx="2666880" cy="1206360"/>
              <a:chOff x="4419360" y="4114440"/>
              <a:chExt cx="2666880" cy="1206360"/>
            </a:xfrm>
          </p:grpSpPr>
          <p:sp>
            <p:nvSpPr>
              <p:cNvPr id="439" name=""/>
              <p:cNvSpPr/>
              <p:nvPr/>
            </p:nvSpPr>
            <p:spPr>
              <a:xfrm>
                <a:off x="4419360" y="41144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19360" y="48002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9720" y="41144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09720" y="48002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476760" y="41144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6760" y="48002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sec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961800" y="3784320"/>
            <a:ext cx="3505680" cy="2655720"/>
            <a:chOff x="3961800" y="3784320"/>
            <a:chExt cx="3505680" cy="2655720"/>
          </a:xfrm>
        </p:grpSpPr>
        <p:grpSp>
          <p:nvGrpSpPr>
            <p:cNvPr id="447" name=""/>
            <p:cNvGrpSpPr/>
            <p:nvPr/>
          </p:nvGrpSpPr>
          <p:grpSpPr>
            <a:xfrm>
              <a:off x="3961800" y="3784320"/>
              <a:ext cx="3505680" cy="2655720"/>
              <a:chOff x="3961800" y="3784320"/>
              <a:chExt cx="3505680" cy="2655720"/>
            </a:xfrm>
          </p:grpSpPr>
          <p:sp>
            <p:nvSpPr>
              <p:cNvPr id="448" name=""/>
              <p:cNvSpPr/>
              <p:nvPr/>
            </p:nvSpPr>
            <p:spPr>
              <a:xfrm>
                <a:off x="4038480" y="5791320"/>
                <a:ext cx="3429000" cy="648720"/>
              </a:xfrm>
              <a:prstGeom prst="rect">
                <a:avLst/>
              </a:prstGeom>
              <a:noFill/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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cs-CZ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{00, 01}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3961800" y="3784320"/>
                <a:ext cx="3504240" cy="1888200"/>
                <a:chOff x="3961800" y="3784320"/>
                <a:chExt cx="3504240" cy="18882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3961800" y="3784320"/>
                  <a:ext cx="243828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5028120" y="3784320"/>
                  <a:ext cx="2437560" cy="188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85" y="1168"/>
                      </a:moveTo>
                      <a:arcTo wR="10800" hR="10800" stAng="-3786548" swAng="76095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85" y="1168"/>
                      </a:moveTo>
                      <a:arcTo wR="10800" hR="10800" stAng="-3786548" swAng="7609503"/>
                    </a:path>
                  </a:pathLst>
                </a:custGeom>
                <a:solidFill>
                  <a:srgbClr val="33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71464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5410080" y="41148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008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Intersection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1600200"/>
            <a:ext cx="807732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Th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1600200"/>
            <a:ext cx="7772400" cy="14479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523880"/>
            <a:ext cx="8001000" cy="1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09480" y="3048120"/>
            <a:ext cx="7848720" cy="1639440"/>
            <a:chOff x="609480" y="3048120"/>
            <a:chExt cx="7848720" cy="1639440"/>
          </a:xfrm>
        </p:grpSpPr>
        <p:sp>
          <p:nvSpPr>
            <p:cNvPr id="464" name=""/>
            <p:cNvSpPr/>
            <p:nvPr/>
          </p:nvSpPr>
          <p:spPr>
            <a:xfrm>
              <a:off x="609480" y="3048120"/>
              <a:ext cx="784872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s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0, 01}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0, 01, 10, 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9480" y="4038840"/>
              <a:ext cx="327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95480" y="3733920"/>
            <a:ext cx="5638680" cy="1828800"/>
            <a:chOff x="2895480" y="3733920"/>
            <a:chExt cx="5638680" cy="1828800"/>
          </a:xfrm>
        </p:grpSpPr>
        <p:sp>
          <p:nvSpPr>
            <p:cNvPr id="467" name=""/>
            <p:cNvSpPr/>
            <p:nvPr/>
          </p:nvSpPr>
          <p:spPr>
            <a:xfrm>
              <a:off x="3962160" y="3733920"/>
              <a:ext cx="243828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895480" y="3733920"/>
              <a:ext cx="5638680" cy="1828800"/>
              <a:chOff x="2895480" y="3733920"/>
              <a:chExt cx="5638680" cy="1828800"/>
            </a:xfrm>
          </p:grpSpPr>
          <p:sp>
            <p:nvSpPr>
              <p:cNvPr id="469" name=""/>
              <p:cNvSpPr/>
              <p:nvPr/>
            </p:nvSpPr>
            <p:spPr>
              <a:xfrm>
                <a:off x="289548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581280" y="464796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3733920"/>
                <a:ext cx="2438280" cy="182880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62160" y="3733920"/>
                <a:ext cx="243864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48360" y="4648320"/>
                <a:ext cx="685800" cy="64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67480" y="4648320"/>
                <a:ext cx="3808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419360" y="4038840"/>
              <a:ext cx="2666880" cy="1206360"/>
              <a:chOff x="4419360" y="4038840"/>
              <a:chExt cx="2666880" cy="1206360"/>
            </a:xfrm>
          </p:grpSpPr>
          <p:sp>
            <p:nvSpPr>
              <p:cNvPr id="476" name=""/>
              <p:cNvSpPr/>
              <p:nvPr/>
            </p:nvSpPr>
            <p:spPr>
              <a:xfrm>
                <a:off x="4419360" y="40388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19360" y="4724640"/>
                <a:ext cx="4572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09720" y="40388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09720" y="472464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76760" y="40388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76760" y="472464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Differenc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809880" y="3708000"/>
            <a:ext cx="3656520" cy="2731680"/>
            <a:chOff x="3809880" y="3708000"/>
            <a:chExt cx="3656520" cy="2731680"/>
          </a:xfrm>
        </p:grpSpPr>
        <p:sp>
          <p:nvSpPr>
            <p:cNvPr id="485" name=""/>
            <p:cNvSpPr/>
            <p:nvPr/>
          </p:nvSpPr>
          <p:spPr>
            <a:xfrm>
              <a:off x="3809880" y="5790960"/>
              <a:ext cx="2819520" cy="64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{0, 1}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1480" y="5562360"/>
              <a:ext cx="0" cy="2282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62520" y="3733920"/>
              <a:ext cx="2438280" cy="1828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19720" y="40384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19720" y="4724280"/>
              <a:ext cx="457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962160" y="3708000"/>
              <a:ext cx="3504240" cy="1887840"/>
              <a:chOff x="3962160" y="3708000"/>
              <a:chExt cx="3504240" cy="1887840"/>
            </a:xfrm>
          </p:grpSpPr>
          <p:sp>
            <p:nvSpPr>
              <p:cNvPr id="491" name=""/>
              <p:cNvSpPr/>
              <p:nvPr/>
            </p:nvSpPr>
            <p:spPr>
              <a:xfrm>
                <a:off x="3962160" y="3708000"/>
                <a:ext cx="243828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028480" y="3708000"/>
                <a:ext cx="2437560" cy="188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685" y="1168"/>
                    </a:moveTo>
                    <a:arcTo wR="10800" hR="10800" stAng="-3786548" swAng="76095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685" y="1168"/>
                    </a:moveTo>
                    <a:arcTo wR="10800" hR="10800" stAng="-3786548" swAng="7609503"/>
                  </a:path>
                </a:pathLst>
              </a:cu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5410080" y="40384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10080" y="4724280"/>
              <a:ext cx="60984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26668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3124080"/>
            <a:ext cx="7848720" cy="1114920"/>
            <a:chOff x="609480" y="3124080"/>
            <a:chExt cx="7848720" cy="1114920"/>
          </a:xfrm>
        </p:grpSpPr>
        <p:sp>
          <p:nvSpPr>
            <p:cNvPr id="502" name=""/>
            <p:cNvSpPr/>
            <p:nvPr/>
          </p:nvSpPr>
          <p:spPr>
            <a:xfrm>
              <a:off x="609480" y="31240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, 1, 01, 10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09480" y="3657600"/>
              <a:ext cx="2667240" cy="581400"/>
              <a:chOff x="609480" y="3657600"/>
              <a:chExt cx="2667240" cy="581400"/>
            </a:xfrm>
          </p:grpSpPr>
          <p:sp>
            <p:nvSpPr>
              <p:cNvPr id="504" name=""/>
              <p:cNvSpPr/>
              <p:nvPr/>
            </p:nvSpPr>
            <p:spPr>
              <a:xfrm>
                <a:off x="609480" y="3657600"/>
                <a:ext cx="266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ask: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05120" y="3759120"/>
                <a:ext cx="304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14400" y="3657600"/>
            <a:ext cx="7502040" cy="2286000"/>
            <a:chOff x="914400" y="3657600"/>
            <a:chExt cx="7502040" cy="2286000"/>
          </a:xfrm>
        </p:grpSpPr>
        <p:sp>
          <p:nvSpPr>
            <p:cNvPr id="507" name=""/>
            <p:cNvSpPr/>
            <p:nvPr/>
          </p:nvSpPr>
          <p:spPr>
            <a:xfrm flipH="1">
              <a:off x="8076960" y="4267440"/>
              <a:ext cx="759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914400" y="3657600"/>
              <a:ext cx="7502040" cy="2286000"/>
              <a:chOff x="914400" y="3657600"/>
              <a:chExt cx="7502040" cy="2286000"/>
            </a:xfrm>
          </p:grpSpPr>
          <p:sp>
            <p:nvSpPr>
              <p:cNvPr id="509" name=""/>
              <p:cNvSpPr/>
              <p:nvPr/>
            </p:nvSpPr>
            <p:spPr>
              <a:xfrm>
                <a:off x="914400" y="4114800"/>
                <a:ext cx="739152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77520" y="3657600"/>
                <a:ext cx="53892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219320" y="4191120"/>
              <a:ext cx="7010280" cy="1510920"/>
              <a:chOff x="1219320" y="4191120"/>
              <a:chExt cx="7010280" cy="15109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7280" y="44197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193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743200" y="449568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29000" y="480060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105520" y="4191120"/>
                <a:ext cx="60948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340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181480" y="510552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9920" y="518148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05120" y="472428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62320" y="4800600"/>
                <a:ext cx="3045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ment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 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219320"/>
            <a:ext cx="304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914400" y="4114800"/>
            <a:ext cx="7380000" cy="2257920"/>
            <a:chOff x="914400" y="4114800"/>
            <a:chExt cx="7380000" cy="2257920"/>
          </a:xfrm>
        </p:grpSpPr>
        <p:grpSp>
          <p:nvGrpSpPr>
            <p:cNvPr id="529" name=""/>
            <p:cNvGrpSpPr/>
            <p:nvPr/>
          </p:nvGrpSpPr>
          <p:grpSpPr>
            <a:xfrm>
              <a:off x="914400" y="4114800"/>
              <a:ext cx="7380000" cy="2257920"/>
              <a:chOff x="914400" y="4114800"/>
              <a:chExt cx="7380000" cy="2257920"/>
            </a:xfrm>
          </p:grpSpPr>
          <p:sp>
            <p:nvSpPr>
              <p:cNvPr id="530" name=""/>
              <p:cNvSpPr/>
              <p:nvPr/>
            </p:nvSpPr>
            <p:spPr>
              <a:xfrm>
                <a:off x="914400" y="4114800"/>
                <a:ext cx="7380000" cy="1828800"/>
              </a:xfrm>
              <a:prstGeom prst="ellipse">
                <a:avLst/>
              </a:prstGeom>
              <a:solidFill>
                <a:srgbClr val="33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19760" y="556272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2" name=""/>
              <p:cNvGrpSpPr/>
              <p:nvPr/>
            </p:nvGrpSpPr>
            <p:grpSpPr>
              <a:xfrm>
                <a:off x="7314840" y="5791320"/>
                <a:ext cx="609120" cy="581400"/>
                <a:chOff x="7314840" y="5791320"/>
                <a:chExt cx="609120" cy="581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7314840" y="5791320"/>
                  <a:ext cx="609120" cy="58140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7466760" y="5892840"/>
                  <a:ext cx="30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5" name=""/>
            <p:cNvGrpSpPr/>
            <p:nvPr/>
          </p:nvGrpSpPr>
          <p:grpSpPr>
            <a:xfrm>
              <a:off x="1218960" y="4191120"/>
              <a:ext cx="7010640" cy="1510920"/>
              <a:chOff x="1218960" y="4191120"/>
              <a:chExt cx="7010640" cy="1510920"/>
            </a:xfrm>
          </p:grpSpPr>
          <p:sp>
            <p:nvSpPr>
              <p:cNvPr id="536" name=""/>
              <p:cNvSpPr/>
              <p:nvPr/>
            </p:nvSpPr>
            <p:spPr>
              <a:xfrm>
                <a:off x="7238880" y="4495680"/>
                <a:ext cx="99072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6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6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7280" y="44193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218960" y="4724280"/>
                <a:ext cx="3049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43400" y="4267080"/>
                <a:ext cx="68580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105160" y="4191120"/>
                <a:ext cx="60984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57200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43400" y="5105160"/>
                <a:ext cx="76176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81480" y="510516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9560" y="5181480"/>
                <a:ext cx="762120" cy="52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800" spc="-1" strike="noStrike">
                    <a:solidFill>
                      <a:srgbClr val="000000"/>
                    </a:solidFill>
                    <a:latin typeface="Times New Roman"/>
                  </a:rPr>
                  <a:t>0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914400" y="4419720"/>
            <a:ext cx="3429000" cy="1952640"/>
            <a:chOff x="914400" y="4419720"/>
            <a:chExt cx="3429000" cy="1952640"/>
          </a:xfrm>
        </p:grpSpPr>
        <p:sp>
          <p:nvSpPr>
            <p:cNvPr id="546" name=""/>
            <p:cNvSpPr/>
            <p:nvPr/>
          </p:nvSpPr>
          <p:spPr>
            <a:xfrm>
              <a:off x="1600200" y="4419720"/>
              <a:ext cx="2743200" cy="11426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4400" y="5790960"/>
              <a:ext cx="60948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523880" y="5486400"/>
              <a:ext cx="68580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743200" y="449568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4800600"/>
              <a:ext cx="60948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4760" y="472428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61960" y="4800600"/>
              <a:ext cx="30492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2971800" y="4114800"/>
            <a:ext cx="4114800" cy="2286000"/>
            <a:chOff x="2971800" y="4114800"/>
            <a:chExt cx="4114800" cy="2286000"/>
          </a:xfrm>
        </p:grpSpPr>
        <p:sp>
          <p:nvSpPr>
            <p:cNvPr id="555" name=""/>
            <p:cNvSpPr/>
            <p:nvPr/>
          </p:nvSpPr>
          <p:spPr>
            <a:xfrm>
              <a:off x="2971800" y="4419720"/>
              <a:ext cx="3048120" cy="198108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715000" y="45716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920" y="4114800"/>
              <a:ext cx="106668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85800" y="16765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480" y="1600200"/>
            <a:ext cx="81536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4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 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47242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94240" y="47322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5410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94240" y="54180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8320" y="47242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84600" y="47322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54100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84600" y="541800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25780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09480" y="4876920"/>
            <a:ext cx="2133720" cy="1676160"/>
            <a:chOff x="609480" y="4876920"/>
            <a:chExt cx="2133720" cy="1676160"/>
          </a:xfrm>
        </p:grpSpPr>
        <p:sp>
          <p:nvSpPr>
            <p:cNvPr id="572" name=""/>
            <p:cNvSpPr/>
            <p:nvPr/>
          </p:nvSpPr>
          <p:spPr>
            <a:xfrm>
              <a:off x="1523880" y="4952880"/>
              <a:ext cx="1219320" cy="1600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480" y="487692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95280" y="518148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05120" y="51055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05120" y="5791320"/>
              <a:ext cx="4572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7086600" y="5105520"/>
            <a:ext cx="2057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48520" y="4572000"/>
            <a:ext cx="2286000" cy="1981080"/>
            <a:chOff x="6248520" y="4572000"/>
            <a:chExt cx="2286000" cy="1981080"/>
          </a:xfrm>
        </p:grpSpPr>
        <p:sp>
          <p:nvSpPr>
            <p:cNvPr id="579" name=""/>
            <p:cNvSpPr/>
            <p:nvPr/>
          </p:nvSpPr>
          <p:spPr>
            <a:xfrm>
              <a:off x="7848720" y="4572000"/>
              <a:ext cx="685800" cy="6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15200" y="48769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4876920"/>
              <a:ext cx="1371600" cy="16761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29400" y="51055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629400" y="579132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609480" y="35053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languag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 1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0, 01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962520"/>
            <a:ext cx="29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06668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1430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lecture notes are bas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utomata and Languag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exander Meduna, Springer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4438440" y="4267080"/>
            <a:ext cx="3791160" cy="2286000"/>
            <a:chOff x="4438440" y="4267080"/>
            <a:chExt cx="3791160" cy="2286000"/>
          </a:xfrm>
        </p:grpSpPr>
        <p:sp>
          <p:nvSpPr>
            <p:cNvPr id="590" name=""/>
            <p:cNvSpPr/>
            <p:nvPr/>
          </p:nvSpPr>
          <p:spPr>
            <a:xfrm>
              <a:off x="6553080" y="4647960"/>
              <a:ext cx="1676520" cy="190512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38440" y="4267080"/>
              <a:ext cx="20145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8960" y="4736880"/>
              <a:ext cx="342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85800" y="16765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62120" y="4572000"/>
            <a:ext cx="2286000" cy="2057400"/>
            <a:chOff x="762120" y="4572000"/>
            <a:chExt cx="2286000" cy="2057400"/>
          </a:xfrm>
        </p:grpSpPr>
        <p:sp>
          <p:nvSpPr>
            <p:cNvPr id="597" name=""/>
            <p:cNvSpPr/>
            <p:nvPr/>
          </p:nvSpPr>
          <p:spPr>
            <a:xfrm>
              <a:off x="1676520" y="4572000"/>
              <a:ext cx="13716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2120" y="472428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47920" y="502920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9051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51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09480" y="3200400"/>
            <a:ext cx="7848720" cy="1038600"/>
            <a:chOff x="609480" y="3200400"/>
            <a:chExt cx="7848720" cy="1038600"/>
          </a:xfrm>
        </p:grpSpPr>
        <p:sp>
          <p:nvSpPr>
            <p:cNvPr id="603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01, 01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480" y="36576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eversa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312408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15720" y="49528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05120" y="4952880"/>
            <a:ext cx="3332880" cy="581400"/>
            <a:chOff x="1905120" y="4952880"/>
            <a:chExt cx="3332880" cy="581400"/>
          </a:xfrm>
        </p:grpSpPr>
        <p:sp>
          <p:nvSpPr>
            <p:cNvPr id="608" name=""/>
            <p:cNvSpPr/>
            <p:nvPr/>
          </p:nvSpPr>
          <p:spPr>
            <a:xfrm>
              <a:off x="4649040" y="49528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0512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791320" y="4952880"/>
            <a:ext cx="2057400" cy="581400"/>
            <a:chOff x="5791320" y="4952880"/>
            <a:chExt cx="2057400" cy="581400"/>
          </a:xfrm>
        </p:grpSpPr>
        <p:sp>
          <p:nvSpPr>
            <p:cNvPr id="611" name=""/>
            <p:cNvSpPr/>
            <p:nvPr/>
          </p:nvSpPr>
          <p:spPr>
            <a:xfrm>
              <a:off x="6934320" y="49528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91320" y="50292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31240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(     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15360" y="56386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905120" y="5638680"/>
            <a:ext cx="3460320" cy="581400"/>
            <a:chOff x="1905120" y="5638680"/>
            <a:chExt cx="3460320" cy="581400"/>
          </a:xfrm>
        </p:grpSpPr>
        <p:sp>
          <p:nvSpPr>
            <p:cNvPr id="616" name=""/>
            <p:cNvSpPr/>
            <p:nvPr/>
          </p:nvSpPr>
          <p:spPr>
            <a:xfrm>
              <a:off x="4572360" y="5638680"/>
              <a:ext cx="7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5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791320" y="5638680"/>
            <a:ext cx="2057400" cy="581400"/>
            <a:chOff x="5791320" y="5638680"/>
            <a:chExt cx="2057400" cy="581400"/>
          </a:xfrm>
        </p:grpSpPr>
        <p:sp>
          <p:nvSpPr>
            <p:cNvPr id="619" name=""/>
            <p:cNvSpPr/>
            <p:nvPr/>
          </p:nvSpPr>
          <p:spPr>
            <a:xfrm>
              <a:off x="6934320" y="5638680"/>
              <a:ext cx="9144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91320" y="571500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eversa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685800" y="19051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288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 ov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defined a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1120" y="4038480"/>
            <a:ext cx="3123720" cy="2638800"/>
            <a:chOff x="4191120" y="4038480"/>
            <a:chExt cx="3123720" cy="2638800"/>
          </a:xfrm>
        </p:grpSpPr>
        <p:sp>
          <p:nvSpPr>
            <p:cNvPr id="628" name=""/>
            <p:cNvSpPr/>
            <p:nvPr/>
          </p:nvSpPr>
          <p:spPr>
            <a:xfrm>
              <a:off x="4191120" y="4038480"/>
              <a:ext cx="3047760" cy="19814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 flipV="1">
              <a:off x="6476760" y="58669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15000" y="6095880"/>
              <a:ext cx="1599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876920" y="4267080"/>
            <a:ext cx="6094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4952880"/>
            <a:ext cx="7776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92560" y="496584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4267080"/>
            <a:ext cx="7779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48520" y="428004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4952880"/>
            <a:ext cx="9144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08840" y="49658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5334120"/>
            <a:ext cx="16002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91520" y="3733920"/>
            <a:ext cx="1143000" cy="2971800"/>
            <a:chOff x="7391520" y="3733920"/>
            <a:chExt cx="1143000" cy="2971800"/>
          </a:xfrm>
        </p:grpSpPr>
        <p:sp>
          <p:nvSpPr>
            <p:cNvPr id="641" name=""/>
            <p:cNvSpPr/>
            <p:nvPr/>
          </p:nvSpPr>
          <p:spPr>
            <a:xfrm>
              <a:off x="7391520" y="4648320"/>
              <a:ext cx="1143000" cy="20574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96080" y="373392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01000" y="43434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0120" y="50292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0120" y="5715000"/>
              <a:ext cx="68580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0" y="4419720"/>
            <a:ext cx="33526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057400" y="4495680"/>
            <a:ext cx="3352680" cy="2181600"/>
            <a:chOff x="2057400" y="4495680"/>
            <a:chExt cx="3352680" cy="2181600"/>
          </a:xfrm>
        </p:grpSpPr>
        <p:sp>
          <p:nvSpPr>
            <p:cNvPr id="648" name=""/>
            <p:cNvSpPr/>
            <p:nvPr/>
          </p:nvSpPr>
          <p:spPr>
            <a:xfrm>
              <a:off x="2057400" y="4495680"/>
              <a:ext cx="1523880" cy="1904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920" y="6095880"/>
              <a:ext cx="167616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81280" y="5638680"/>
              <a:ext cx="6098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438280" y="48006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5486400"/>
            <a:ext cx="76212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819520" y="5486400"/>
            <a:ext cx="4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438280" y="4800600"/>
            <a:ext cx="762120" cy="1267200"/>
            <a:chOff x="2438280" y="4800600"/>
            <a:chExt cx="762120" cy="1267200"/>
          </a:xfrm>
        </p:grpSpPr>
        <p:sp>
          <p:nvSpPr>
            <p:cNvPr id="656" name=""/>
            <p:cNvSpPr/>
            <p:nvPr/>
          </p:nvSpPr>
          <p:spPr>
            <a:xfrm>
              <a:off x="2438280" y="48006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76212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5334120"/>
            <a:ext cx="1447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2120" y="4572000"/>
            <a:ext cx="838080" cy="2057400"/>
            <a:chOff x="762120" y="4572000"/>
            <a:chExt cx="838080" cy="2057400"/>
          </a:xfrm>
        </p:grpSpPr>
        <p:sp>
          <p:nvSpPr>
            <p:cNvPr id="660" name=""/>
            <p:cNvSpPr/>
            <p:nvPr/>
          </p:nvSpPr>
          <p:spPr>
            <a:xfrm>
              <a:off x="762120" y="5562720"/>
              <a:ext cx="838080" cy="10666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4572000"/>
              <a:ext cx="6858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181480"/>
              <a:ext cx="763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90720" y="5791320"/>
              <a:ext cx="38088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LL…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3009240" y="9522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152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685800" y="3352680"/>
            <a:ext cx="7848720" cy="1038600"/>
            <a:chOff x="685800" y="3352680"/>
            <a:chExt cx="7848720" cy="1038600"/>
          </a:xfrm>
        </p:grpSpPr>
        <p:sp>
          <p:nvSpPr>
            <p:cNvPr id="670" name=""/>
            <p:cNvSpPr/>
            <p:nvPr/>
          </p:nvSpPr>
          <p:spPr>
            <a:xfrm>
              <a:off x="685800" y="33526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5800" y="38098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1905120"/>
            <a:ext cx="81532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be a language over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ositive iter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re defined as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1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30800" y="2603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670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199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69160" y="318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581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47640" y="4038480"/>
            <a:ext cx="7848720" cy="1419480"/>
            <a:chOff x="647640" y="4038480"/>
            <a:chExt cx="7848720" cy="1419480"/>
          </a:xfrm>
        </p:grpSpPr>
        <p:sp>
          <p:nvSpPr>
            <p:cNvPr id="681" name=""/>
            <p:cNvSpPr/>
            <p:nvPr/>
          </p:nvSpPr>
          <p:spPr>
            <a:xfrm>
              <a:off x="647640" y="40384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7640" y="487656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ask: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*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47640" y="4419360"/>
              <a:ext cx="68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Consider language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ove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{0, 1}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85800" y="5334120"/>
            <a:ext cx="8077320" cy="1343160"/>
            <a:chOff x="685800" y="5334120"/>
            <a:chExt cx="8077320" cy="1343160"/>
          </a:xfrm>
        </p:grpSpPr>
        <p:grpSp>
          <p:nvGrpSpPr>
            <p:cNvPr id="685" name=""/>
            <p:cNvGrpSpPr/>
            <p:nvPr/>
          </p:nvGrpSpPr>
          <p:grpSpPr>
            <a:xfrm>
              <a:off x="685800" y="5334120"/>
              <a:ext cx="7696080" cy="581400"/>
              <a:chOff x="685800" y="5334120"/>
              <a:chExt cx="7696080" cy="581400"/>
            </a:xfrm>
          </p:grpSpPr>
          <p:sp>
            <p:nvSpPr>
              <p:cNvPr id="686" name=""/>
              <p:cNvSpPr/>
              <p:nvPr/>
            </p:nvSpPr>
            <p:spPr>
              <a:xfrm>
                <a:off x="685800" y="53341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057400" y="5334120"/>
                <a:ext cx="304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5334120"/>
                <a:ext cx="434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cs-CZ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cs-CZ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</a:t>
                </a: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010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},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85800" y="571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85800" y="6095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=        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cs-CZ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cs-CZ" sz="26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…=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1" lang="en-US" sz="26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0101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, … }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of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1066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ist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=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cs-CZ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Part I.</a:t>
            </a:r>
            <a:br>
              <a:rPr sz="6000"/>
            </a:b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Alphabets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Strings,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 and Languag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phabets and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, nonempty set of elements, which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2590920"/>
            <a:ext cx="7924680" cy="3187440"/>
            <a:chOff x="685800" y="2590920"/>
            <a:chExt cx="7924680" cy="3187440"/>
          </a:xfrm>
        </p:grpSpPr>
        <p:grpSp>
          <p:nvGrpSpPr>
            <p:cNvPr id="51" name=""/>
            <p:cNvGrpSpPr/>
            <p:nvPr/>
          </p:nvGrpSpPr>
          <p:grpSpPr>
            <a:xfrm>
              <a:off x="685800" y="2590920"/>
              <a:ext cx="7696080" cy="2514600"/>
              <a:chOff x="685800" y="2590920"/>
              <a:chExt cx="7696080" cy="251460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353040"/>
                <a:ext cx="4876560" cy="175248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52480" y="41151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90920" y="38102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29000" y="358164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43400" y="3657960"/>
                <a:ext cx="6858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95880" y="3353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Alphabe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flipV="1">
                <a:off x="2438280" y="4648320"/>
                <a:ext cx="36576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95880" y="4496040"/>
                <a:ext cx="2286000" cy="581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Symbol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3200040" y="4495680"/>
                <a:ext cx="289548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3657240" y="4267440"/>
                <a:ext cx="243828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4876920" y="4343760"/>
                <a:ext cx="12189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562720" y="3657600"/>
                <a:ext cx="5331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" y="2590920"/>
                <a:ext cx="190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xample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838080" y="525780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If we denote this alphabet as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 then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{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0, 1}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752480"/>
            <a:ext cx="7772400" cy="19051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4120" y="4419720"/>
            <a:ext cx="1143000" cy="1981080"/>
            <a:chOff x="5334120" y="4419720"/>
            <a:chExt cx="1143000" cy="1981080"/>
          </a:xfrm>
        </p:grpSpPr>
        <p:sp>
          <p:nvSpPr>
            <p:cNvPr id="70" name=""/>
            <p:cNvSpPr/>
            <p:nvPr/>
          </p:nvSpPr>
          <p:spPr>
            <a:xfrm>
              <a:off x="5562720" y="57913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53341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2720" y="48769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720" y="4419720"/>
              <a:ext cx="685800" cy="4572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4120" y="6400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77120" y="46483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48160" y="46483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248160" y="51055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1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248160" y="6019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1120" y="4876920"/>
            <a:ext cx="685800" cy="1218240"/>
            <a:chOff x="4191120" y="4876920"/>
            <a:chExt cx="685800" cy="1218240"/>
          </a:xfrm>
        </p:grpSpPr>
        <p:sp>
          <p:nvSpPr>
            <p:cNvPr id="81" name=""/>
            <p:cNvSpPr/>
            <p:nvPr/>
          </p:nvSpPr>
          <p:spPr>
            <a:xfrm>
              <a:off x="4191120" y="533376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1120" y="4876920"/>
              <a:ext cx="457200" cy="45684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76920" y="518112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47960" y="5181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6479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85800" y="1676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n alphab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ring over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5029200"/>
            <a:ext cx="3733920" cy="1587600"/>
            <a:chOff x="1600200" y="5029200"/>
            <a:chExt cx="3733920" cy="1587600"/>
          </a:xfrm>
        </p:grpSpPr>
        <p:sp>
          <p:nvSpPr>
            <p:cNvPr id="89" name=""/>
            <p:cNvSpPr/>
            <p:nvPr/>
          </p:nvSpPr>
          <p:spPr>
            <a:xfrm>
              <a:off x="1600200" y="5029200"/>
              <a:ext cx="609480" cy="5335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71800" y="6096240"/>
              <a:ext cx="2362320" cy="520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Is string over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562720"/>
              <a:ext cx="91440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477120" y="4419720"/>
            <a:ext cx="2361960" cy="2303640"/>
            <a:chOff x="6477120" y="4419720"/>
            <a:chExt cx="2361960" cy="2303640"/>
          </a:xfrm>
        </p:grpSpPr>
        <p:grpSp>
          <p:nvGrpSpPr>
            <p:cNvPr id="93" name=""/>
            <p:cNvGrpSpPr/>
            <p:nvPr/>
          </p:nvGrpSpPr>
          <p:grpSpPr>
            <a:xfrm>
              <a:off x="6477120" y="5105520"/>
              <a:ext cx="1676160" cy="1295280"/>
              <a:chOff x="6477120" y="5105520"/>
              <a:chExt cx="167616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7086600" y="5639040"/>
                <a:ext cx="838080" cy="53316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86600" y="5105520"/>
                <a:ext cx="838080" cy="5335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640080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8153280" y="5333760"/>
                <a:ext cx="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924320" y="53341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924320" y="5943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315200" y="4419720"/>
              <a:ext cx="1523880" cy="2303640"/>
              <a:chOff x="7315200" y="4419720"/>
              <a:chExt cx="1523880" cy="2303640"/>
            </a:xfrm>
          </p:grpSpPr>
          <p:sp>
            <p:nvSpPr>
              <p:cNvPr id="101" name=""/>
              <p:cNvSpPr/>
              <p:nvPr/>
            </p:nvSpPr>
            <p:spPr>
              <a:xfrm>
                <a:off x="7315200" y="441972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15200" y="5943600"/>
                <a:ext cx="4572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153280" y="5029200"/>
                <a:ext cx="685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45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676520" y="4952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5638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657600" y="4800600"/>
            <a:ext cx="990720" cy="1038600"/>
            <a:chOff x="3657600" y="4800600"/>
            <a:chExt cx="990720" cy="1038600"/>
          </a:xfrm>
        </p:grpSpPr>
        <p:sp>
          <p:nvSpPr>
            <p:cNvPr id="108" name=""/>
            <p:cNvSpPr/>
            <p:nvPr/>
          </p:nvSpPr>
          <p:spPr>
            <a:xfrm>
              <a:off x="3657600" y="4800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2578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526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58128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denote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600" spc="-1" strike="noStrike">
                <a:solidFill>
                  <a:srgbClr val="000000"/>
                </a:solidFill>
                <a:latin typeface="Times New Roman"/>
              </a:rPr>
              <a:t>empty string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at contains no symb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038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4800600"/>
            <a:ext cx="1371600" cy="1038600"/>
            <a:chOff x="2209680" y="4800600"/>
            <a:chExt cx="1371600" cy="1038600"/>
          </a:xfrm>
        </p:grpSpPr>
        <p:sp>
          <p:nvSpPr>
            <p:cNvPr id="114" name=""/>
            <p:cNvSpPr/>
            <p:nvPr/>
          </p:nvSpPr>
          <p:spPr>
            <a:xfrm>
              <a:off x="312408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408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209680" y="510516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5410440"/>
              <a:ext cx="990720" cy="152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4343400"/>
            <a:ext cx="1371600" cy="1038600"/>
            <a:chOff x="4648320" y="4343400"/>
            <a:chExt cx="1371600" cy="1038600"/>
          </a:xfrm>
        </p:grpSpPr>
        <p:sp>
          <p:nvSpPr>
            <p:cNvPr id="119" name=""/>
            <p:cNvSpPr/>
            <p:nvPr/>
          </p:nvSpPr>
          <p:spPr>
            <a:xfrm>
              <a:off x="55627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5105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48320" y="4648320"/>
              <a:ext cx="91440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48320" y="5257800"/>
            <a:ext cx="1371600" cy="1038600"/>
            <a:chOff x="4648320" y="5257800"/>
            <a:chExt cx="1371600" cy="1038600"/>
          </a:xfrm>
        </p:grpSpPr>
        <p:sp>
          <p:nvSpPr>
            <p:cNvPr id="124" name=""/>
            <p:cNvSpPr/>
            <p:nvPr/>
          </p:nvSpPr>
          <p:spPr>
            <a:xfrm>
              <a:off x="55627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627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83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15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91320" y="4343400"/>
            <a:ext cx="457200" cy="1495800"/>
            <a:chOff x="5791320" y="4343400"/>
            <a:chExt cx="457200" cy="1495800"/>
          </a:xfrm>
        </p:grpSpPr>
        <p:sp>
          <p:nvSpPr>
            <p:cNvPr id="129" name=""/>
            <p:cNvSpPr/>
            <p:nvPr/>
          </p:nvSpPr>
          <p:spPr>
            <a:xfrm>
              <a:off x="5791320" y="4343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5257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4800600"/>
            <a:ext cx="457200" cy="1495800"/>
            <a:chOff x="5791320" y="4800600"/>
            <a:chExt cx="457200" cy="1495800"/>
          </a:xfrm>
        </p:grpSpPr>
        <p:sp>
          <p:nvSpPr>
            <p:cNvPr id="132" name=""/>
            <p:cNvSpPr/>
            <p:nvPr/>
          </p:nvSpPr>
          <p:spPr>
            <a:xfrm>
              <a:off x="5791320" y="48006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1320" y="57150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248520" y="5105520"/>
            <a:ext cx="1447560" cy="1114920"/>
            <a:chOff x="6248520" y="5105520"/>
            <a:chExt cx="1447560" cy="1114920"/>
          </a:xfrm>
        </p:grpSpPr>
        <p:sp>
          <p:nvSpPr>
            <p:cNvPr id="135" name=""/>
            <p:cNvSpPr/>
            <p:nvPr/>
          </p:nvSpPr>
          <p:spPr>
            <a:xfrm>
              <a:off x="701028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248520" y="5410080"/>
              <a:ext cx="838080" cy="75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5639040"/>
              <a:ext cx="838080" cy="228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5639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4674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5905440"/>
            <a:ext cx="762120" cy="9169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5791320"/>
            <a:ext cx="914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809880" y="5943600"/>
            <a:ext cx="4114800" cy="642600"/>
            <a:chOff x="3809880" y="5943600"/>
            <a:chExt cx="4114800" cy="642600"/>
          </a:xfrm>
        </p:grpSpPr>
        <p:sp>
          <p:nvSpPr>
            <p:cNvPr id="146" name=""/>
            <p:cNvSpPr/>
            <p:nvPr/>
          </p:nvSpPr>
          <p:spPr>
            <a:xfrm>
              <a:off x="3809880" y="6172200"/>
              <a:ext cx="304920" cy="3049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14800" y="6324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59436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= 4, thus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| = 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1784520"/>
            <a:ext cx="7772400" cy="243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80773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The length of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is the number of all symbols in </a:t>
            </a:r>
            <a:r>
              <a:rPr b="0" i="1" lang="cs-CZ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572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=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= 1 0 1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5867280"/>
            <a:ext cx="160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ngth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|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|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75248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765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wo strings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ncaten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666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3200400"/>
            <a:ext cx="8229600" cy="1572120"/>
            <a:chOff x="609480" y="3200400"/>
            <a:chExt cx="8229600" cy="1572120"/>
          </a:xfrm>
        </p:grpSpPr>
        <p:sp>
          <p:nvSpPr>
            <p:cNvPr id="164" name=""/>
            <p:cNvSpPr/>
            <p:nvPr/>
          </p:nvSpPr>
          <p:spPr>
            <a:xfrm>
              <a:off x="609480" y="320040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Examples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37339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01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480" y="419112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Concatenation of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s </a:t>
              </a:r>
              <a:r>
                <a:rPr b="1" lang="cs-CZ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00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atenation of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9051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8288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0,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th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i="1" lang="cs-CZ" sz="3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352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09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5181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1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6386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cs-CZ" sz="3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22096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6019920"/>
            <a:ext cx="9144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038120" y="556272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14800" y="54864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885840" y="5105520"/>
            <a:ext cx="1600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886200" y="5029200"/>
            <a:ext cx="182880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02920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562720"/>
            <a:ext cx="482760" cy="4572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6095880"/>
            <a:ext cx="482760" cy="38124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160" y="8"/>
                </a:moveTo>
                <a:cubicBezTo>
                  <a:pt x="148" y="4"/>
                  <a:pt x="136" y="0"/>
                  <a:pt x="112" y="8"/>
                </a:cubicBezTo>
                <a:cubicBezTo>
                  <a:pt x="88" y="16"/>
                  <a:pt x="32" y="32"/>
                  <a:pt x="16" y="56"/>
                </a:cubicBezTo>
                <a:cubicBezTo>
                  <a:pt x="0" y="80"/>
                  <a:pt x="0" y="120"/>
                  <a:pt x="16" y="152"/>
                </a:cubicBezTo>
                <a:cubicBezTo>
                  <a:pt x="32" y="184"/>
                  <a:pt x="72" y="224"/>
                  <a:pt x="112" y="248"/>
                </a:cubicBezTo>
                <a:cubicBezTo>
                  <a:pt x="152" y="272"/>
                  <a:pt x="224" y="288"/>
                  <a:pt x="256" y="296"/>
                </a:cubicBezTo>
                <a:cubicBezTo>
                  <a:pt x="288" y="304"/>
                  <a:pt x="296" y="300"/>
                  <a:pt x="304" y="2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172200"/>
            <a:ext cx="1003320" cy="317520"/>
          </a:xfrm>
          <a:custGeom>
            <a:avLst/>
            <a:gdLst/>
            <a:ahLst/>
            <a:rect l="l" t="t" r="r" b="b"/>
            <a:pathLst>
              <a:path w="632" h="200">
                <a:moveTo>
                  <a:pt x="0" y="192"/>
                </a:moveTo>
                <a:cubicBezTo>
                  <a:pt x="144" y="196"/>
                  <a:pt x="288" y="200"/>
                  <a:pt x="384" y="192"/>
                </a:cubicBezTo>
                <a:cubicBezTo>
                  <a:pt x="480" y="184"/>
                  <a:pt x="536" y="168"/>
                  <a:pt x="576" y="144"/>
                </a:cubicBezTo>
                <a:cubicBezTo>
                  <a:pt x="616" y="120"/>
                  <a:pt x="616" y="72"/>
                  <a:pt x="624" y="48"/>
                </a:cubicBezTo>
                <a:cubicBezTo>
                  <a:pt x="632" y="24"/>
                  <a:pt x="628" y="12"/>
                  <a:pt x="6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wer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= xx…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895480" y="10666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1752480"/>
            <a:ext cx="7772400" cy="24386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84872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a string 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ers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al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n reversa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and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343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ers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2578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352680" y="5334120"/>
            <a:ext cx="3429000" cy="648720"/>
            <a:chOff x="3352680" y="5334120"/>
            <a:chExt cx="3429000" cy="648720"/>
          </a:xfrm>
        </p:grpSpPr>
        <p:sp>
          <p:nvSpPr>
            <p:cNvPr id="202" name=""/>
            <p:cNvSpPr/>
            <p:nvPr/>
          </p:nvSpPr>
          <p:spPr>
            <a:xfrm>
              <a:off x="61722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26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57600" y="5334120"/>
            <a:ext cx="2808000" cy="648720"/>
            <a:chOff x="3657600" y="5334120"/>
            <a:chExt cx="2808000" cy="648720"/>
          </a:xfrm>
        </p:grpSpPr>
        <p:sp>
          <p:nvSpPr>
            <p:cNvPr id="205" name=""/>
            <p:cNvSpPr/>
            <p:nvPr/>
          </p:nvSpPr>
          <p:spPr>
            <a:xfrm>
              <a:off x="585612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7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86280" y="5334120"/>
            <a:ext cx="2161800" cy="648720"/>
            <a:chOff x="3986280" y="5334120"/>
            <a:chExt cx="2161800" cy="648720"/>
          </a:xfrm>
        </p:grpSpPr>
        <p:sp>
          <p:nvSpPr>
            <p:cNvPr id="208" name=""/>
            <p:cNvSpPr/>
            <p:nvPr/>
          </p:nvSpPr>
          <p:spPr>
            <a:xfrm>
              <a:off x="398628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38600" y="533412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19640" y="5334120"/>
            <a:ext cx="1500120" cy="650160"/>
            <a:chOff x="4319640" y="5334120"/>
            <a:chExt cx="1500120" cy="650160"/>
          </a:xfrm>
        </p:grpSpPr>
        <p:sp>
          <p:nvSpPr>
            <p:cNvPr id="211" name=""/>
            <p:cNvSpPr/>
            <p:nvPr/>
          </p:nvSpPr>
          <p:spPr>
            <a:xfrm>
              <a:off x="4319640" y="53355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09920" y="533412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752480" y="57913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reversal(           ) =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52680" y="5867280"/>
            <a:ext cx="3429000" cy="581400"/>
            <a:chOff x="3352680" y="5867280"/>
            <a:chExt cx="3429000" cy="581400"/>
          </a:xfrm>
        </p:grpSpPr>
        <p:sp>
          <p:nvSpPr>
            <p:cNvPr id="215" name=""/>
            <p:cNvSpPr/>
            <p:nvPr/>
          </p:nvSpPr>
          <p:spPr>
            <a:xfrm>
              <a:off x="61722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657600" y="5867280"/>
            <a:ext cx="2808000" cy="581400"/>
            <a:chOff x="3657600" y="5867280"/>
            <a:chExt cx="2808000" cy="581400"/>
          </a:xfrm>
        </p:grpSpPr>
        <p:sp>
          <p:nvSpPr>
            <p:cNvPr id="218" name=""/>
            <p:cNvSpPr/>
            <p:nvPr/>
          </p:nvSpPr>
          <p:spPr>
            <a:xfrm>
              <a:off x="585612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86280" y="5867280"/>
            <a:ext cx="2161800" cy="581400"/>
            <a:chOff x="3986280" y="5867280"/>
            <a:chExt cx="2161800" cy="581400"/>
          </a:xfrm>
        </p:grpSpPr>
        <p:sp>
          <p:nvSpPr>
            <p:cNvPr id="221" name=""/>
            <p:cNvSpPr/>
            <p:nvPr/>
          </p:nvSpPr>
          <p:spPr>
            <a:xfrm>
              <a:off x="398628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600" y="5867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43400" y="5867280"/>
            <a:ext cx="1500120" cy="582840"/>
            <a:chOff x="4343400" y="5867280"/>
            <a:chExt cx="1500120" cy="582840"/>
          </a:xfrm>
        </p:grpSpPr>
        <p:sp>
          <p:nvSpPr>
            <p:cNvPr id="224" name=""/>
            <p:cNvSpPr/>
            <p:nvPr/>
          </p:nvSpPr>
          <p:spPr>
            <a:xfrm>
              <a:off x="4343400" y="5868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3680" y="5867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ersal of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143000"/>
            <a:ext cx="777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reversal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8-10T13:56:08Z</dcterms:modified>
  <cp:revision>151</cp:revision>
  <dc:subject/>
  <dc:title>Alphabets, Strings, and Languages</dc:title>
</cp:coreProperties>
</file>