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4D8-6D53-49FD-8450-3577B196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F95-53A8-4E45-ACAA-BD0FD7F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496-A73F-47CA-99A3-61FA4F5B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AF3-5DE6-4DD6-B02E-A85E3DF6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AB4-8A66-4A5C-A72C-3F90B44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7D7-C884-4EC0-A0D1-8B9D53A0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895-8853-49DE-BB41-4991A1DA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6B8-40BE-46F2-A9D1-26F3CB0A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EA4-084B-4F95-A9CB-50B2816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A3B-566E-4876-A8FB-5DD593B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90E-F5E4-4C83-AC3A-9733742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27D-12FF-418B-BAF5-0BAC89B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9D1-C08F-4054-A3BC-0719023D9A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3320" y="3656880"/>
            <a:ext cx="542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3333cc"/>
                </a:solidFill>
                <a:latin typeface="Times New Roman"/>
              </a:rPr>
              <a:t>Alexander Medun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3723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 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s a control string according to 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 it reaches a final configuration after read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ushdown automaton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 rul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ed with a uniqu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 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1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4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 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371600"/>
            <a:ext cx="807732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context-free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recursively enumerable langu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regul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family of languages accepted by PDAs regulated by linea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920" y="2666520"/>
            <a:ext cx="53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.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9920" y="30470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a turn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with either of its pushdowns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aper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493640"/>
            <a:ext cx="80010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Acta Cybernetica, Vol. 2000, No. 4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US, p. 653-664, ISSN 0324-721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: Fundamenta Informatica, Vol. 2002, No. 16, Amsterdam, NL, p. 399-405, ISSN 0169-2999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9920" y="388548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59128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57142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9040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34440"/>
            <a:ext cx="8153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 generate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0840" y="5256720"/>
            <a:ext cx="290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3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7142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5720" y="1294920"/>
            <a:ext cx="23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827720"/>
            <a:ext cx="3733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2945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99320" y="5409360"/>
            <a:ext cx="3340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CVT</cp:lastModifiedBy>
  <dcterms:modified xsi:type="dcterms:W3CDTF">2006-08-30T14:10:07Z</dcterms:modified>
  <cp:revision>98</cp:revision>
  <dc:subject/>
  <dc:title>Bez nadpisu</dc:title>
</cp:coreProperties>
</file>