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92B-3D28-4CE9-A238-840CEF38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674-A524-4100-945D-3B95F92F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ABC-3E81-4138-8151-0E1CD7FD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CA0-A949-4DD1-B843-D6D1243B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BE8-6E8C-4809-9319-320CCE41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22C-8D19-4B7D-932A-F0F88E59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C34-4FE4-4428-9734-23C02F42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A22-B4C7-4135-832A-587C949E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B8B-4653-4208-B65E-FBDFF281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AF9-E8DD-4791-8D3C-A621688F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CF0-F550-402B-9BFF-E1F5094A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F53-99BF-4E07-AF25-03C89619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74C8-03AB-4EE3-9331-4DC677D0E8D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58Z</dcterms:modified>
  <cp:revision>130</cp:revision>
  <dc:subject/>
  <dc:title>Variants of Finite Automata</dc:title>
</cp:coreProperties>
</file>