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E07-CCF4-4E9B-AB32-B999000B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07BD-B059-41B1-B1E4-FF29E613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F50-CFCC-4C54-B976-890E8A2C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D35-C0C1-461C-8CBA-DCBB2D84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557-CD5C-4D36-9D53-FB0E3B6D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25B-1CA4-40A1-A519-8DA77393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422-8752-406E-99F1-4417F742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C26-3FDA-4537-872C-05FF7007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0DB-DF5A-4AA3-8278-0A6496B7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EDA-BB56-4C3B-9F33-E6EB7EB2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507-E971-4345-90E9-41B6CA7B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48E-FE0C-4068-A965-6D42FF76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0A11-66A9-4A73-8332-6BA214177B9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04Z</dcterms:modified>
  <cp:revision>139</cp:revision>
  <dc:subject/>
  <dc:title>Models for Regular Languages</dc:title>
</cp:coreProperties>
</file>