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5108C-7F4C-4927-8C2D-343705298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623B7-85FA-4D65-8A1C-246F9705A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9C721-CC2A-4AC9-97E9-6FCF62E0F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0058D-9BFF-4AC3-AC50-A16721A35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9E997-A020-4CB1-9401-A10447528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81AEC-E82C-45CF-999E-9B98D3CFF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309CA-83D2-4662-96CA-7A3A87E3C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7F993-16CE-4085-93CB-EEE5A211E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D91E3-0B8E-4F95-A87A-B34296753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3F008-34CC-4BFA-AECF-5D37146A1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F7C36-1E8B-4C38-9A6A-36623924C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9E456-74DA-4735-AE12-A7CA25682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39902-E71F-42E2-A1E2-6B669516E56A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190512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Part II.</a:t>
            </a:r>
            <a:br>
              <a:rPr sz="6000"/>
            </a:b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Introduction </a:t>
            </a: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to</a:t>
            </a: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 Compiler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685800" y="114300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Input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Parse tr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Output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bstract 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yntax tr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85800" y="2209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85800" y="2133720"/>
            <a:ext cx="81532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mantic analyzer checks semantic aspect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type checking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, which may impl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sions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for exampl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nt-to-rea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checking declaration of vari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Syntax-Directed Transl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arser control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mantic a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Generation of syntax tr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mantic analyz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/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5" name=""/>
          <p:cNvGrpSpPr/>
          <p:nvPr/>
        </p:nvGrpSpPr>
        <p:grpSpPr>
          <a:xfrm>
            <a:off x="3962520" y="2362320"/>
            <a:ext cx="4190760" cy="304560"/>
            <a:chOff x="3962520" y="2362320"/>
            <a:chExt cx="4190760" cy="304560"/>
          </a:xfrm>
        </p:grpSpPr>
        <p:grpSp>
          <p:nvGrpSpPr>
            <p:cNvPr id="316" name=""/>
            <p:cNvGrpSpPr/>
            <p:nvPr/>
          </p:nvGrpSpPr>
          <p:grpSpPr>
            <a:xfrm>
              <a:off x="3962520" y="2362320"/>
              <a:ext cx="838080" cy="304560"/>
              <a:chOff x="3962520" y="2362320"/>
              <a:chExt cx="838080" cy="304560"/>
            </a:xfrm>
          </p:grpSpPr>
          <p:sp>
            <p:nvSpPr>
              <p:cNvPr id="317" name=""/>
              <p:cNvSpPr/>
              <p:nvPr/>
            </p:nvSpPr>
            <p:spPr>
              <a:xfrm flipV="1">
                <a:off x="3962520" y="2362320"/>
                <a:ext cx="83808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962520" y="2362320"/>
                <a:ext cx="83808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9" name=""/>
            <p:cNvGrpSpPr/>
            <p:nvPr/>
          </p:nvGrpSpPr>
          <p:grpSpPr>
            <a:xfrm>
              <a:off x="5791320" y="2362320"/>
              <a:ext cx="838080" cy="304560"/>
              <a:chOff x="5791320" y="2362320"/>
              <a:chExt cx="838080" cy="304560"/>
            </a:xfrm>
          </p:grpSpPr>
          <p:sp>
            <p:nvSpPr>
              <p:cNvPr id="320" name=""/>
              <p:cNvSpPr/>
              <p:nvPr/>
            </p:nvSpPr>
            <p:spPr>
              <a:xfrm flipV="1">
                <a:off x="5791320" y="2362320"/>
                <a:ext cx="83808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5791320" y="2362320"/>
                <a:ext cx="83808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7315200" y="2362320"/>
              <a:ext cx="838080" cy="304560"/>
              <a:chOff x="7315200" y="2362320"/>
              <a:chExt cx="838080" cy="304560"/>
            </a:xfrm>
          </p:grpSpPr>
          <p:sp>
            <p:nvSpPr>
              <p:cNvPr id="323" name=""/>
              <p:cNvSpPr/>
              <p:nvPr/>
            </p:nvSpPr>
            <p:spPr>
              <a:xfrm flipV="1">
                <a:off x="7315200" y="2362320"/>
                <a:ext cx="83808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7315200" y="2362320"/>
                <a:ext cx="83808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5" name=""/>
          <p:cNvSpPr/>
          <p:nvPr/>
        </p:nvSpPr>
        <p:spPr>
          <a:xfrm flipH="1">
            <a:off x="1904760" y="1676520"/>
            <a:ext cx="106668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276720" y="167652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954680" y="1447200"/>
            <a:ext cx="95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Exp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809880" y="1676520"/>
            <a:ext cx="121932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9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yntax-Directed Translation:</a:t>
            </a:r>
            <a:r>
              <a:rPr b="0" lang="cs-CZ" sz="3900" spc="-1" strike="noStrike">
                <a:solidFill>
                  <a:srgbClr val="000000"/>
                </a:solidFill>
                <a:latin typeface="Times New Roman"/>
              </a:rPr>
              <a:t> Example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990720" y="2819520"/>
            <a:ext cx="1904760" cy="838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971800" y="2819520"/>
            <a:ext cx="533520" cy="838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: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581280" y="2819520"/>
            <a:ext cx="1600200" cy="838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nit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257800" y="2819520"/>
            <a:ext cx="380880" cy="838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715000" y="2819520"/>
            <a:ext cx="990720" cy="838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781680" y="2819520"/>
            <a:ext cx="304920" cy="838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7162920" y="2819520"/>
            <a:ext cx="914400" cy="838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066680" y="3276720"/>
            <a:ext cx="175284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048120" y="3276720"/>
            <a:ext cx="38088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657600" y="3276720"/>
            <a:ext cx="144792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791320" y="3276720"/>
            <a:ext cx="83808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3276720"/>
            <a:ext cx="15228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7238880" y="3276720"/>
            <a:ext cx="60984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2364480" y="1142280"/>
            <a:ext cx="195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Assign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888000" y="2208960"/>
            <a:ext cx="95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Exp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478920" y="1751760"/>
            <a:ext cx="95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Exp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flipH="1">
            <a:off x="4419720" y="1981080"/>
            <a:ext cx="76176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410080" y="1981080"/>
            <a:ext cx="0" cy="838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5000" y="1981080"/>
            <a:ext cx="76212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5793120" y="2208960"/>
            <a:ext cx="95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Exp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7240680" y="2208960"/>
            <a:ext cx="95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Exp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 flipH="1">
            <a:off x="6248520" y="2209680"/>
            <a:ext cx="38088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934320" y="2209680"/>
            <a:ext cx="0" cy="609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7315200" y="2209680"/>
            <a:ext cx="38088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343400" y="26668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172200" y="26668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688320" y="1234080"/>
            <a:ext cx="10904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Pars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Tre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7620120" y="26668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V="1">
            <a:off x="2972160" y="1397880"/>
            <a:ext cx="608760" cy="1478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948" y="828"/>
                </a:moveTo>
                <a:arcTo wR="10800" hR="10800" stAng="-4044979" swAng="6837518"/>
                <a:lnTo>
                  <a:pt x="10800" y="10800"/>
                </a:lnTo>
                <a:close/>
              </a:path>
              <a:path fill="none" w="21600" h="21600">
                <a:moveTo>
                  <a:pt x="14948" y="828"/>
                </a:moveTo>
                <a:arcTo wR="10800" hR="10800" stAng="-4044979" swAng="6837518"/>
              </a:path>
            </a:pathLst>
          </a:custGeom>
          <a:noFill/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flipV="1">
            <a:off x="5181480" y="1752480"/>
            <a:ext cx="456840" cy="1108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948" y="828"/>
                </a:moveTo>
                <a:arcTo wR="10800" hR="10800" stAng="-4044979" swAng="6837518"/>
                <a:lnTo>
                  <a:pt x="10800" y="10800"/>
                </a:lnTo>
                <a:close/>
              </a:path>
              <a:path fill="none" w="21600" h="21600">
                <a:moveTo>
                  <a:pt x="14948" y="828"/>
                </a:moveTo>
                <a:arcTo wR="10800" hR="10800" stAng="-4044979" swAng="6837518"/>
              </a:path>
            </a:pathLst>
          </a:custGeom>
          <a:noFill/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flipV="1">
            <a:off x="6629400" y="2107800"/>
            <a:ext cx="456840" cy="739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948" y="828"/>
                </a:moveTo>
                <a:arcTo wR="10800" hR="10800" stAng="-4044979" swAng="6837518"/>
                <a:lnTo>
                  <a:pt x="10800" y="10800"/>
                </a:lnTo>
                <a:close/>
              </a:path>
              <a:path fill="none" w="21600" h="21600">
                <a:moveTo>
                  <a:pt x="14948" y="828"/>
                </a:moveTo>
                <a:arcTo wR="10800" hR="10800" stAng="-4044979" swAng="6837518"/>
              </a:path>
            </a:pathLst>
          </a:custGeom>
          <a:noFill/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7038000" y="1294920"/>
            <a:ext cx="1578240" cy="1750680"/>
            <a:chOff x="7038000" y="1294920"/>
            <a:chExt cx="1578240" cy="1750680"/>
          </a:xfrm>
        </p:grpSpPr>
        <p:sp>
          <p:nvSpPr>
            <p:cNvPr id="363" name=""/>
            <p:cNvSpPr/>
            <p:nvPr/>
          </p:nvSpPr>
          <p:spPr>
            <a:xfrm flipV="1">
              <a:off x="7692120" y="1751760"/>
              <a:ext cx="610200" cy="129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4948" y="828"/>
                  </a:moveTo>
                  <a:arcTo wR="10800" hR="10800" stAng="-4044979" swAng="14284865"/>
                  <a:lnTo>
                    <a:pt x="10800" y="10800"/>
                  </a:lnTo>
                  <a:close/>
                </a:path>
                <a:path fill="none" w="21600" h="21600">
                  <a:moveTo>
                    <a:pt x="14948" y="828"/>
                  </a:moveTo>
                  <a:arcTo wR="10800" hR="10800" stAng="-4044979" swAng="14284865"/>
                </a:path>
              </a:pathLst>
            </a:custGeom>
            <a:noFill/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38000" y="1294920"/>
              <a:ext cx="15782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IntToReal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5" name=""/>
          <p:cNvGrpSpPr/>
          <p:nvPr/>
        </p:nvGrpSpPr>
        <p:grpSpPr>
          <a:xfrm>
            <a:off x="630360" y="3642120"/>
            <a:ext cx="6676920" cy="2758680"/>
            <a:chOff x="630360" y="3642120"/>
            <a:chExt cx="6676920" cy="2758680"/>
          </a:xfrm>
        </p:grpSpPr>
        <p:sp>
          <p:nvSpPr>
            <p:cNvPr id="366" name=""/>
            <p:cNvSpPr/>
            <p:nvPr/>
          </p:nvSpPr>
          <p:spPr>
            <a:xfrm>
              <a:off x="914400" y="5943600"/>
              <a:ext cx="190512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Wingdings 2"/>
                  <a:ea typeface="Wingdings 2"/>
                </a:rPr>
                <a:t>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Posi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2895480" y="3809880"/>
              <a:ext cx="53352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:=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2971800" y="5943600"/>
              <a:ext cx="160020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Wingdings 2"/>
                  <a:ea typeface="Wingdings 2"/>
                </a:rPr>
                <a:t>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Initi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495680" y="4419720"/>
              <a:ext cx="38124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724280" y="5943600"/>
              <a:ext cx="99072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Wingdings 2"/>
                  <a:ea typeface="Wingdings 2"/>
                </a:rPr>
                <a:t>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Ra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638680" y="4952880"/>
              <a:ext cx="38124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867280" y="5943600"/>
              <a:ext cx="91440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6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909040" y="5333760"/>
              <a:ext cx="13982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ctr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IntToReal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324480" y="57913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 flipH="1">
              <a:off x="1752120" y="4038480"/>
              <a:ext cx="1143000" cy="1905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429000" y="4038480"/>
              <a:ext cx="129528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 flipH="1">
              <a:off x="3733920" y="4724280"/>
              <a:ext cx="76176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 flipH="1">
              <a:off x="5181480" y="5181480"/>
              <a:ext cx="4572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019920" y="5181480"/>
              <a:ext cx="30456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876920" y="4648320"/>
              <a:ext cx="99036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630360" y="3642120"/>
              <a:ext cx="1418040" cy="119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ctr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3333cc"/>
                  </a:solidFill>
                  <a:latin typeface="Times New Roman"/>
                </a:rPr>
                <a:t>Abstract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3333cc"/>
                  </a:solidFill>
                  <a:latin typeface="Times New Roman"/>
                </a:rPr>
                <a:t>Syntax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3333cc"/>
                  </a:solidFill>
                  <a:latin typeface="Times New Roman"/>
                </a:rPr>
                <a:t>Tree: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724280" y="3809880"/>
              <a:ext cx="1067040" cy="4572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/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685800" y="114300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Input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bstract 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yntax tre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3300"/>
                </a:solidFill>
                <a:latin typeface="Times New Roman"/>
              </a:rPr>
              <a:t>  </a:t>
            </a:r>
            <a:r>
              <a:rPr b="1" lang="cs-CZ" sz="3200" spc="-1" strike="noStrike">
                <a:solidFill>
                  <a:srgbClr val="ff3300"/>
                </a:solidFill>
                <a:latin typeface="Times New Roman"/>
              </a:rPr>
              <a:t>O</a:t>
            </a: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utput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ermediate 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685800" y="2209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685800" y="2133720"/>
            <a:ext cx="83059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ntermediate code generator produces t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nternal version of target program call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intermediate cod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for these reaso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uniform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irect translation to target program is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ifficult and “rough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ptim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Intermediate code generat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/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/>
          <p:nvPr/>
        </p:nvSpPr>
        <p:spPr>
          <a:xfrm>
            <a:off x="2819520" y="4724280"/>
            <a:ext cx="5486400" cy="16765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900" spc="-1" strike="noStrike">
                <a:solidFill>
                  <a:srgbClr val="000000"/>
                </a:solidFill>
                <a:latin typeface="Times New Roman"/>
              </a:rPr>
              <a:t>Intermed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iate</a:t>
            </a:r>
            <a:r>
              <a:rPr b="0" lang="cs-CZ" sz="3900" spc="-1" strike="noStrike">
                <a:solidFill>
                  <a:srgbClr val="000000"/>
                </a:solidFill>
                <a:latin typeface="Times New Roman"/>
              </a:rPr>
              <a:t> code generator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3900" spc="-1" strike="noStrike">
                <a:solidFill>
                  <a:srgbClr val="000000"/>
                </a:solidFill>
                <a:latin typeface="Times New Roman"/>
              </a:rPr>
              <a:t> Example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1219320" y="3581280"/>
            <a:ext cx="190476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3200400" y="1447920"/>
            <a:ext cx="53352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: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276720" y="3581280"/>
            <a:ext cx="160020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nit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800600" y="2057400"/>
            <a:ext cx="38088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5029200" y="3581280"/>
            <a:ext cx="99072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943600" y="2590920"/>
            <a:ext cx="38088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6172200" y="3581280"/>
            <a:ext cx="91440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241960" y="220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67640" y="3047760"/>
            <a:ext cx="16329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f0000"/>
                </a:solidFill>
                <a:latin typeface="Times New Roman"/>
              </a:rPr>
              <a:t>IntToRea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6629400" y="350532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2057040" y="1676520"/>
            <a:ext cx="114300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733920" y="1676520"/>
            <a:ext cx="129528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 flipH="1">
            <a:off x="4038120" y="2362320"/>
            <a:ext cx="762120" cy="1218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 flipH="1">
            <a:off x="5486400" y="2819520"/>
            <a:ext cx="45720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324480" y="2819520"/>
            <a:ext cx="38124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181480" y="2286000"/>
            <a:ext cx="99072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35320" y="1066320"/>
            <a:ext cx="159804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Abstrac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Syntax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Tre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114800" y="4191120"/>
            <a:ext cx="106668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9" name=""/>
          <p:cNvGrpSpPr/>
          <p:nvPr/>
        </p:nvGrpSpPr>
        <p:grpSpPr>
          <a:xfrm>
            <a:off x="6705720" y="2608920"/>
            <a:ext cx="1155240" cy="781200"/>
            <a:chOff x="6705720" y="2608920"/>
            <a:chExt cx="1155240" cy="781200"/>
          </a:xfrm>
        </p:grpSpPr>
        <p:sp>
          <p:nvSpPr>
            <p:cNvPr id="410" name=""/>
            <p:cNvSpPr/>
            <p:nvPr/>
          </p:nvSpPr>
          <p:spPr>
            <a:xfrm>
              <a:off x="6705720" y="2608920"/>
              <a:ext cx="761760" cy="520560"/>
            </a:xfrm>
            <a:prstGeom prst="rect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T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 flipV="1">
              <a:off x="7086600" y="2741400"/>
              <a:ext cx="774360" cy="648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53" y="0"/>
                  </a:moveTo>
                  <a:arcTo wR="10800" hR="10800" stAng="-5383181" swAng="1071231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53" y="0"/>
                  </a:moveTo>
                  <a:arcTo wR="10800" hR="10800" stAng="-5383181" swAng="10712313"/>
                </a:path>
              </a:pathLst>
            </a:custGeom>
            <a:noFill/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2" name=""/>
          <p:cNvGrpSpPr/>
          <p:nvPr/>
        </p:nvGrpSpPr>
        <p:grpSpPr>
          <a:xfrm>
            <a:off x="5791320" y="1847160"/>
            <a:ext cx="761760" cy="840240"/>
            <a:chOff x="5791320" y="1847160"/>
            <a:chExt cx="761760" cy="840240"/>
          </a:xfrm>
        </p:grpSpPr>
        <p:sp>
          <p:nvSpPr>
            <p:cNvPr id="413" name=""/>
            <p:cNvSpPr/>
            <p:nvPr/>
          </p:nvSpPr>
          <p:spPr>
            <a:xfrm>
              <a:off x="5791320" y="1847160"/>
              <a:ext cx="761760" cy="520560"/>
            </a:xfrm>
            <a:prstGeom prst="rect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T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 flipV="1">
              <a:off x="6202080" y="2310840"/>
              <a:ext cx="350640" cy="376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7546" y="502"/>
                  </a:moveTo>
                  <a:arcTo wR="10800" hR="10800" stAng="-6452038" swAng="9244577"/>
                  <a:lnTo>
                    <a:pt x="10800" y="10800"/>
                  </a:lnTo>
                  <a:close/>
                </a:path>
                <a:path fill="none" w="21600" h="21600">
                  <a:moveTo>
                    <a:pt x="7546" y="502"/>
                  </a:moveTo>
                  <a:arcTo wR="10800" hR="10800" stAng="-6452038" swAng="9244577"/>
                </a:path>
              </a:pathLst>
            </a:custGeom>
            <a:noFill/>
            <a:ln w="572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5" name=""/>
          <p:cNvSpPr/>
          <p:nvPr/>
        </p:nvSpPr>
        <p:spPr>
          <a:xfrm>
            <a:off x="7527960" y="5372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2903400" y="4723560"/>
            <a:ext cx="481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T1 := </a:t>
            </a:r>
            <a:r>
              <a:rPr b="1" i="1" lang="en-US" sz="3200" spc="-1" strike="noStrike">
                <a:solidFill>
                  <a:srgbClr val="000000"/>
                </a:solidFill>
                <a:latin typeface="Courier New"/>
              </a:rPr>
              <a:t>IntToReal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(6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663640" y="5104440"/>
            <a:ext cx="431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T2 := </a:t>
            </a:r>
            <a:r>
              <a:rPr b="1" lang="cs-C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Rate * T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2664360" y="5485680"/>
            <a:ext cx="504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T3 := </a:t>
            </a:r>
            <a:r>
              <a:rPr b="1" lang="cs-C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Initial </a:t>
            </a: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T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746800" y="5866560"/>
            <a:ext cx="366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Positon := T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0" name=""/>
          <p:cNvGrpSpPr/>
          <p:nvPr/>
        </p:nvGrpSpPr>
        <p:grpSpPr>
          <a:xfrm>
            <a:off x="5409720" y="2739960"/>
            <a:ext cx="1295640" cy="1383840"/>
            <a:chOff x="5409720" y="2739960"/>
            <a:chExt cx="1295640" cy="1383840"/>
          </a:xfrm>
        </p:grpSpPr>
        <p:sp>
          <p:nvSpPr>
            <p:cNvPr id="421" name=""/>
            <p:cNvSpPr/>
            <p:nvPr/>
          </p:nvSpPr>
          <p:spPr>
            <a:xfrm flipH="1" flipV="1">
              <a:off x="5409360" y="2739960"/>
              <a:ext cx="1066680" cy="1383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491" y="9266"/>
                  </a:moveTo>
                  <a:arcTo wR="10800" hR="10800" stAng="-489945" swAng="5889945"/>
                  <a:lnTo>
                    <a:pt x="10800" y="10800"/>
                  </a:lnTo>
                  <a:close/>
                </a:path>
                <a:path fill="none" w="21600" h="21600">
                  <a:moveTo>
                    <a:pt x="21491" y="9266"/>
                  </a:moveTo>
                  <a:arcTo wR="10800" hR="10800" stAng="-489945" swAng="5889945"/>
                </a:path>
              </a:pathLst>
            </a:custGeom>
            <a:noFill/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 flipV="1">
              <a:off x="6324120" y="2818800"/>
              <a:ext cx="381240" cy="1522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3" name=""/>
          <p:cNvGrpSpPr/>
          <p:nvPr/>
        </p:nvGrpSpPr>
        <p:grpSpPr>
          <a:xfrm>
            <a:off x="4648320" y="1313280"/>
            <a:ext cx="761760" cy="840240"/>
            <a:chOff x="4648320" y="1313280"/>
            <a:chExt cx="761760" cy="840240"/>
          </a:xfrm>
        </p:grpSpPr>
        <p:sp>
          <p:nvSpPr>
            <p:cNvPr id="424" name=""/>
            <p:cNvSpPr/>
            <p:nvPr/>
          </p:nvSpPr>
          <p:spPr>
            <a:xfrm>
              <a:off x="4648320" y="1313280"/>
              <a:ext cx="761760" cy="520560"/>
            </a:xfrm>
            <a:prstGeom prst="rect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T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 flipV="1">
              <a:off x="5059080" y="1776960"/>
              <a:ext cx="350640" cy="376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7546" y="502"/>
                  </a:moveTo>
                  <a:arcTo wR="10800" hR="10800" stAng="-6452038" swAng="9244577"/>
                  <a:lnTo>
                    <a:pt x="10800" y="10800"/>
                  </a:lnTo>
                  <a:close/>
                </a:path>
                <a:path fill="none" w="21600" h="21600">
                  <a:moveTo>
                    <a:pt x="7546" y="502"/>
                  </a:moveTo>
                  <a:arcTo wR="10800" hR="10800" stAng="-6452038" swAng="9244577"/>
                </a:path>
              </a:pathLst>
            </a:custGeom>
            <a:noFill/>
            <a:ln w="572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6" name=""/>
          <p:cNvGrpSpPr/>
          <p:nvPr/>
        </p:nvGrpSpPr>
        <p:grpSpPr>
          <a:xfrm>
            <a:off x="3809520" y="2286000"/>
            <a:ext cx="1981800" cy="2184480"/>
            <a:chOff x="3809520" y="2286000"/>
            <a:chExt cx="1981800" cy="2184480"/>
          </a:xfrm>
        </p:grpSpPr>
        <p:sp>
          <p:nvSpPr>
            <p:cNvPr id="427" name=""/>
            <p:cNvSpPr/>
            <p:nvPr/>
          </p:nvSpPr>
          <p:spPr>
            <a:xfrm flipH="1" flipV="1">
              <a:off x="3809160" y="2286000"/>
              <a:ext cx="1981080" cy="2184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491" y="9266"/>
                  </a:moveTo>
                  <a:arcTo wR="10800" hR="10800" stAng="-489945" swAng="5889945"/>
                  <a:lnTo>
                    <a:pt x="10800" y="10800"/>
                  </a:lnTo>
                  <a:close/>
                </a:path>
                <a:path fill="none" w="21600" h="21600">
                  <a:moveTo>
                    <a:pt x="21491" y="9266"/>
                  </a:moveTo>
                  <a:arcTo wR="10800" hR="10800" stAng="-489945" swAng="5889945"/>
                </a:path>
              </a:pathLst>
            </a:custGeom>
            <a:noFill/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 flipH="1" flipV="1">
              <a:off x="5181480" y="2286000"/>
              <a:ext cx="609840" cy="763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9" name=""/>
          <p:cNvSpPr/>
          <p:nvPr/>
        </p:nvSpPr>
        <p:spPr>
          <a:xfrm flipH="1" flipV="1">
            <a:off x="3733920" y="1600200"/>
            <a:ext cx="914400" cy="763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flipH="1" flipV="1">
            <a:off x="1980000" y="1600200"/>
            <a:ext cx="2438280" cy="3468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491" y="9266"/>
                </a:moveTo>
                <a:arcTo wR="10800" hR="10800" stAng="-489945" swAng="5889945"/>
                <a:lnTo>
                  <a:pt x="10800" y="10800"/>
                </a:lnTo>
                <a:close/>
              </a:path>
              <a:path fill="none" w="21600" h="21600">
                <a:moveTo>
                  <a:pt x="21491" y="9266"/>
                </a:moveTo>
                <a:arcTo wR="10800" hR="10800" stAng="-489945" swAng="5889945"/>
              </a:path>
            </a:pathLst>
          </a:custGeom>
          <a:noFill/>
          <a:ln w="5724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37120" y="4723920"/>
            <a:ext cx="22946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Intermediat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cod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3/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"/>
          <p:cNvSpPr/>
          <p:nvPr/>
        </p:nvSpPr>
        <p:spPr>
          <a:xfrm>
            <a:off x="685800" y="114300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Input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ermediate 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Output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Optimized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ermediate 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685800" y="2209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685800" y="2133720"/>
            <a:ext cx="8458200" cy="33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Optimizer makes more efficient version of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intermediate code called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optimized intermediate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code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500" spc="-1" strike="noStrike">
                <a:solidFill>
                  <a:srgbClr val="ff0000"/>
                </a:solidFill>
                <a:latin typeface="Times New Roman"/>
              </a:rPr>
              <a:t>Constant propagation:</a:t>
            </a: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(a := 1; b := 2; c := a + b </a:t>
            </a:r>
            <a:r>
              <a:rPr b="1" lang="en-US" sz="25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c := 3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GB" sz="25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i="1" lang="en-GB" sz="2500" spc="-1" strike="noStrike">
                <a:solidFill>
                  <a:srgbClr val="000000"/>
                </a:solidFill>
                <a:latin typeface="Times New Roman"/>
              </a:rPr>
              <a:t> Variables a, b have no next us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500" spc="-1" strike="noStrike">
                <a:solidFill>
                  <a:srgbClr val="ff0000"/>
                </a:solidFill>
                <a:latin typeface="Times New Roman"/>
              </a:rPr>
              <a:t>Copy propagation</a:t>
            </a:r>
            <a:r>
              <a:rPr b="1" lang="cs-CZ" sz="25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(b := a; c := b; d := c </a:t>
            </a:r>
            <a:r>
              <a:rPr b="1" lang="en-US" sz="25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d := a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GB" sz="25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i="1" lang="en-GB" sz="2500" spc="-1" strike="noStrike">
                <a:solidFill>
                  <a:srgbClr val="000000"/>
                </a:solidFill>
                <a:latin typeface="Times New Roman"/>
              </a:rPr>
              <a:t> Variables b, c have no next us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500" spc="-1" strike="noStrike">
                <a:solidFill>
                  <a:srgbClr val="ff0000"/>
                </a:solidFill>
                <a:latin typeface="Times New Roman"/>
              </a:rPr>
              <a:t>Dead code elimination</a:t>
            </a:r>
            <a:r>
              <a:rPr b="1" lang="cs-CZ" sz="25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whil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false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do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nothing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Optimiz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685800" y="5943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609480" y="594360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ome compilers have no optimiz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/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823480" y="5486400"/>
            <a:ext cx="6372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/>
          <p:nvPr/>
        </p:nvSpPr>
        <p:spPr>
          <a:xfrm>
            <a:off x="2666880" y="4800600"/>
            <a:ext cx="5791320" cy="10666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2895480" y="1295280"/>
            <a:ext cx="5562720" cy="25909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Optimizer</a:t>
            </a:r>
            <a:r>
              <a:rPr b="0" lang="cs-CZ" sz="4200" spc="-1" strike="noStrike">
                <a:solidFill>
                  <a:srgbClr val="000000"/>
                </a:solidFill>
                <a:latin typeface="Times New Roman"/>
              </a:rPr>
              <a:t>: Example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6172200" y="3962520"/>
            <a:ext cx="1066680" cy="7617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55680" y="1370880"/>
            <a:ext cx="481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T1 := </a:t>
            </a:r>
            <a:r>
              <a:rPr b="1" i="1" lang="en-US" sz="3200" spc="-1" strike="noStrike">
                <a:solidFill>
                  <a:srgbClr val="000000"/>
                </a:solidFill>
                <a:latin typeface="Courier New"/>
              </a:rPr>
              <a:t>IntToReal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(6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2815920" y="1980360"/>
            <a:ext cx="431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T2 := </a:t>
            </a:r>
            <a:r>
              <a:rPr b="1" lang="cs-C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Rate * T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2817000" y="2589840"/>
            <a:ext cx="504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T3 := </a:t>
            </a:r>
            <a:r>
              <a:rPr b="1" lang="cs-C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Initial </a:t>
            </a: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T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58920" y="3199680"/>
            <a:ext cx="334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Positon:= T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689400" y="1371240"/>
            <a:ext cx="22946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Intermediat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cod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80880" y="4266360"/>
            <a:ext cx="5867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Optimized intermediate cod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1" name=""/>
          <p:cNvGrpSpPr/>
          <p:nvPr/>
        </p:nvGrpSpPr>
        <p:grpSpPr>
          <a:xfrm>
            <a:off x="3048120" y="1447920"/>
            <a:ext cx="4266720" cy="1143000"/>
            <a:chOff x="3048120" y="1447920"/>
            <a:chExt cx="4266720" cy="1143000"/>
          </a:xfrm>
        </p:grpSpPr>
        <p:sp>
          <p:nvSpPr>
            <p:cNvPr id="452" name=""/>
            <p:cNvSpPr/>
            <p:nvPr/>
          </p:nvSpPr>
          <p:spPr>
            <a:xfrm>
              <a:off x="3048120" y="1447920"/>
              <a:ext cx="820440" cy="53352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6494400" y="2057760"/>
              <a:ext cx="820440" cy="53316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868560" y="1829160"/>
              <a:ext cx="2707560" cy="3808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5" name=""/>
          <p:cNvGrpSpPr/>
          <p:nvPr/>
        </p:nvGrpSpPr>
        <p:grpSpPr>
          <a:xfrm>
            <a:off x="2971800" y="2590920"/>
            <a:ext cx="3429000" cy="1143000"/>
            <a:chOff x="2971800" y="2590920"/>
            <a:chExt cx="3429000" cy="1143000"/>
          </a:xfrm>
        </p:grpSpPr>
        <p:sp>
          <p:nvSpPr>
            <p:cNvPr id="456" name=""/>
            <p:cNvSpPr/>
            <p:nvPr/>
          </p:nvSpPr>
          <p:spPr>
            <a:xfrm>
              <a:off x="2971800" y="2590920"/>
              <a:ext cx="762120" cy="533520"/>
            </a:xfrm>
            <a:prstGeom prst="ellipse">
              <a:avLst/>
            </a:prstGeom>
            <a:noFill/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5638680" y="3200400"/>
              <a:ext cx="762120" cy="533520"/>
            </a:xfrm>
            <a:prstGeom prst="ellipse">
              <a:avLst/>
            </a:prstGeom>
            <a:noFill/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3657600" y="3048120"/>
              <a:ext cx="1981080" cy="30492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9" name=""/>
          <p:cNvSpPr/>
          <p:nvPr/>
        </p:nvSpPr>
        <p:spPr>
          <a:xfrm>
            <a:off x="2435400" y="4875840"/>
            <a:ext cx="480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T2 := </a:t>
            </a:r>
            <a:r>
              <a:rPr b="1" lang="cs-C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Rate * 60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2441880" y="5333040"/>
            <a:ext cx="598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Positon :=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Initial</a:t>
            </a: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T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4648320" y="1828800"/>
            <a:ext cx="2133360" cy="0"/>
          </a:xfrm>
          <a:prstGeom prst="line">
            <a:avLst/>
          </a:prstGeom>
          <a:ln w="57240">
            <a:solidFill>
              <a:srgbClr val="ff99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/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/>
          <p:nvPr/>
        </p:nvSpPr>
        <p:spPr>
          <a:xfrm>
            <a:off x="685800" y="114300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Input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Optimized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ermediate 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Output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arget progr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685800" y="2209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685800" y="2133720"/>
            <a:ext cx="83059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ptimized intermediate code is converted 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target progr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arget program is written in target langu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n reality, target language is assembly 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chine langu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Code Generat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/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"/>
          <p:cNvSpPr/>
          <p:nvPr/>
        </p:nvSpPr>
        <p:spPr>
          <a:xfrm>
            <a:off x="2209680" y="3962520"/>
            <a:ext cx="4953240" cy="21333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1676520" y="1752480"/>
            <a:ext cx="5790960" cy="106704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Code Generator</a:t>
            </a: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4200" spc="-1" strike="noStrike">
                <a:solidFill>
                  <a:srgbClr val="000000"/>
                </a:solidFill>
                <a:latin typeface="Times New Roman"/>
              </a:rPr>
              <a:t> Example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3886200" y="2895480"/>
            <a:ext cx="1066680" cy="990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1566000" y="1828080"/>
            <a:ext cx="449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T2 := </a:t>
            </a:r>
            <a:r>
              <a:rPr b="1" lang="cs-C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R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60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1695960" y="2285280"/>
            <a:ext cx="577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Positon := </a:t>
            </a:r>
            <a:r>
              <a:rPr b="1" lang="cs-C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Initial</a:t>
            </a: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T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9480" y="3351960"/>
            <a:ext cx="3200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Target program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685800" y="1142280"/>
            <a:ext cx="5867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Optimized intermediate cod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6" name=""/>
          <p:cNvGrpSpPr/>
          <p:nvPr/>
        </p:nvGrpSpPr>
        <p:grpSpPr>
          <a:xfrm>
            <a:off x="2282040" y="2060640"/>
            <a:ext cx="5870880" cy="2863440"/>
            <a:chOff x="2282040" y="2060640"/>
            <a:chExt cx="5870880" cy="2863440"/>
          </a:xfrm>
        </p:grpSpPr>
        <p:sp>
          <p:nvSpPr>
            <p:cNvPr id="477" name=""/>
            <p:cNvSpPr/>
            <p:nvPr/>
          </p:nvSpPr>
          <p:spPr>
            <a:xfrm>
              <a:off x="2282040" y="3961800"/>
              <a:ext cx="3828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fmov R2, </a:t>
              </a:r>
              <a:r>
                <a:rPr b="1" lang="cs-CZ" sz="2400" spc="-1" strike="noStrike">
                  <a:solidFill>
                    <a:srgbClr val="000000"/>
                  </a:solidFill>
                  <a:latin typeface="Wingdings 2"/>
                  <a:ea typeface="Wingdings 2"/>
                </a:rPr>
                <a:t></a:t>
              </a: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Rat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2520720" y="4342680"/>
              <a:ext cx="3594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fmul R2, #60.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6248520" y="4038840"/>
              <a:ext cx="228600" cy="68580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63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436280" y="2060640"/>
              <a:ext cx="3716640" cy="2364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204" y="119"/>
                  </a:moveTo>
                  <a:arcTo wR="10800" hR="10800" stAng="-5909927" swAng="10756632"/>
                  <a:lnTo>
                    <a:pt x="10800" y="10800"/>
                  </a:lnTo>
                  <a:close/>
                </a:path>
                <a:path fill="none" w="21600" h="21600">
                  <a:moveTo>
                    <a:pt x="9204" y="119"/>
                  </a:moveTo>
                  <a:arcTo wR="10800" hR="10800" stAng="-5909927" swAng="10756632"/>
                </a:path>
              </a:pathLst>
            </a:custGeom>
            <a:noFill/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6455520" y="3523680"/>
              <a:ext cx="1488240" cy="520560"/>
            </a:xfrm>
            <a:prstGeom prst="rect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R2 </a:t>
              </a:r>
              <a:r>
                <a:rPr b="1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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 T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2" name=""/>
          <p:cNvGrpSpPr/>
          <p:nvPr/>
        </p:nvGrpSpPr>
        <p:grpSpPr>
          <a:xfrm>
            <a:off x="2283120" y="2343600"/>
            <a:ext cx="5976360" cy="3723480"/>
            <a:chOff x="2283120" y="2343600"/>
            <a:chExt cx="5976360" cy="3723480"/>
          </a:xfrm>
        </p:grpSpPr>
        <p:sp>
          <p:nvSpPr>
            <p:cNvPr id="483" name=""/>
            <p:cNvSpPr/>
            <p:nvPr/>
          </p:nvSpPr>
          <p:spPr>
            <a:xfrm>
              <a:off x="2283120" y="4723560"/>
              <a:ext cx="4560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fmov R3, </a:t>
              </a:r>
              <a:r>
                <a:rPr b="1" lang="cs-CZ" sz="2400" spc="-1" strike="noStrike">
                  <a:solidFill>
                    <a:srgbClr val="000000"/>
                  </a:solidFill>
                  <a:latin typeface="Wingdings 2"/>
                  <a:ea typeface="Wingdings 2"/>
                </a:rPr>
                <a:t></a:t>
              </a: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Initia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2519640" y="5104800"/>
              <a:ext cx="2863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fadd R2, R3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526840" y="5485680"/>
              <a:ext cx="4317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fmov </a:t>
              </a:r>
              <a:r>
                <a:rPr b="1" lang="cs-CZ" sz="2400" spc="-1" strike="noStrike">
                  <a:solidFill>
                    <a:srgbClr val="000000"/>
                  </a:solidFill>
                  <a:latin typeface="Wingdings 2"/>
                  <a:ea typeface="Wingdings 2"/>
                </a:rPr>
                <a:t></a:t>
              </a: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Position,R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6781680" y="4800600"/>
              <a:ext cx="228600" cy="114300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29520 h 1143000"/>
                <a:gd name="textAreaBottom" fmla="*/ 1113480 h 1143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4541760" y="2343600"/>
              <a:ext cx="3717720" cy="3162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6442" y="1591"/>
                  </a:moveTo>
                  <a:arcTo wR="10800" hR="10800" stAng="-3510213" swAng="7580488"/>
                  <a:lnTo>
                    <a:pt x="10800" y="10800"/>
                  </a:lnTo>
                  <a:close/>
                </a:path>
                <a:path fill="none" w="21600" h="21600">
                  <a:moveTo>
                    <a:pt x="16442" y="1591"/>
                  </a:moveTo>
                  <a:arcTo wR="10800" hR="10800" stAng="-3510213" swAng="7580488"/>
                </a:path>
              </a:pathLst>
            </a:custGeom>
            <a:noFill/>
            <a:ln w="572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7/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85800" y="114300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Input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ource progr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Output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arget progr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2209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2133720"/>
            <a:ext cx="77724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 compiler reads a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source program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ce language) and translates them int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target program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in target language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ource and target programs are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functional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equivalen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ompil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85800" y="5168880"/>
            <a:ext cx="2971800" cy="13971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1778040"/>
            <a:ext cx="297180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Lexical analy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2882880"/>
            <a:ext cx="297180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Syntax analy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495680" y="1790640"/>
            <a:ext cx="396252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ntermediate code gener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495680" y="3429000"/>
            <a:ext cx="396252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Optimi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495680" y="4648320"/>
            <a:ext cx="396252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Code gener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cture of Compiler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 Pha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85800" y="4635360"/>
            <a:ext cx="297180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Semantic analy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85800" y="1219320"/>
            <a:ext cx="777240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Position := Initial + Rate * 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495680" y="3962520"/>
            <a:ext cx="3962520" cy="609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1280" y="396144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1  := 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Id3 * 60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1280" y="4190040"/>
            <a:ext cx="292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Id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:= 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Id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T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2304000"/>
            <a:ext cx="2971800" cy="5101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* 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181480" y="542304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mul R2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 #60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181480" y="565164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mov R3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 Id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495680" y="5181480"/>
            <a:ext cx="3962520" cy="138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81480" y="518148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mov R2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 , Id3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181480" y="588024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add R2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 R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181480" y="610884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mov 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Id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 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85800" y="3416400"/>
            <a:ext cx="2971800" cy="1143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371600" y="3301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90720" y="3645000"/>
            <a:ext cx="609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447920" y="3873600"/>
            <a:ext cx="609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905120" y="4102200"/>
            <a:ext cx="609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828800" y="36450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86000" y="38736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743200" y="41022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1218960" y="3645000"/>
            <a:ext cx="22860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752480" y="3645000"/>
            <a:ext cx="22860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1676160" y="3873600"/>
            <a:ext cx="22860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2133360" y="4102200"/>
            <a:ext cx="22860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3873600"/>
            <a:ext cx="22860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590920" y="4102200"/>
            <a:ext cx="22860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092240" y="50418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23960" y="5283360"/>
            <a:ext cx="609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81160" y="5511960"/>
            <a:ext cx="609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638360" y="5740560"/>
            <a:ext cx="609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62040" y="528336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019240" y="551196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324160" y="619776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952200" y="5283360"/>
            <a:ext cx="22860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486080" y="5283360"/>
            <a:ext cx="22860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1409400" y="5511960"/>
            <a:ext cx="22860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1866600" y="5740560"/>
            <a:ext cx="22860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866960" y="5511960"/>
            <a:ext cx="22860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24160" y="5740560"/>
            <a:ext cx="22860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095560" y="5740560"/>
            <a:ext cx="1600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IntToRe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552760" y="61214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570560" y="2284920"/>
            <a:ext cx="383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1  := IntToReal(6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571280" y="2513520"/>
            <a:ext cx="292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2  := 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Id3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* T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571280" y="2742120"/>
            <a:ext cx="292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3  := 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Id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T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572360" y="297072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Id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:= T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508640" y="2324160"/>
            <a:ext cx="3949560" cy="1028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rot="5400000">
            <a:off x="3505680" y="1359000"/>
            <a:ext cx="303840" cy="761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rot="5400000">
            <a:off x="3506040" y="1969200"/>
            <a:ext cx="380520" cy="531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5" y="11781"/>
                </a:moveTo>
                <a:arcTo wR="10800" hR="10800" stAng="10487201" swAng="11615442"/>
                <a:lnTo>
                  <a:pt x="10800" y="10800"/>
                </a:lnTo>
                <a:close/>
              </a:path>
              <a:path fill="none" w="21600" h="21600">
                <a:moveTo>
                  <a:pt x="45" y="11781"/>
                </a:moveTo>
                <a:arcTo wR="10800" hR="10800" stAng="10487201" swAng="11615442"/>
              </a:path>
            </a:pathLst>
          </a:custGeom>
          <a:noFill/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rot="5400000">
            <a:off x="3506040" y="2578680"/>
            <a:ext cx="380520" cy="531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5" y="11781"/>
                </a:moveTo>
                <a:arcTo wR="10800" hR="10800" stAng="10487201" swAng="11615442"/>
                <a:lnTo>
                  <a:pt x="10800" y="10800"/>
                </a:lnTo>
                <a:close/>
              </a:path>
              <a:path fill="none" w="21600" h="21600">
                <a:moveTo>
                  <a:pt x="45" y="11781"/>
                </a:moveTo>
                <a:arcTo wR="10800" hR="10800" stAng="10487201" swAng="11615442"/>
              </a:path>
            </a:pathLst>
          </a:custGeom>
          <a:noFill/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rot="5400000">
            <a:off x="3506040" y="3112200"/>
            <a:ext cx="380520" cy="531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5" y="11781"/>
                </a:moveTo>
                <a:arcTo wR="10800" hR="10800" stAng="10487201" swAng="11615442"/>
                <a:lnTo>
                  <a:pt x="10800" y="10800"/>
                </a:lnTo>
                <a:close/>
              </a:path>
              <a:path fill="none" w="21600" h="21600">
                <a:moveTo>
                  <a:pt x="45" y="11781"/>
                </a:moveTo>
                <a:arcTo wR="10800" hR="10800" stAng="10487201" swAng="11615442"/>
              </a:path>
            </a:pathLst>
          </a:custGeom>
          <a:noFill/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rot="5400000">
            <a:off x="3505680" y="4331160"/>
            <a:ext cx="380880" cy="531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5" y="11781"/>
                </a:moveTo>
                <a:arcTo wR="10800" hR="10800" stAng="10487201" swAng="11615442"/>
                <a:lnTo>
                  <a:pt x="10800" y="10800"/>
                </a:lnTo>
                <a:close/>
              </a:path>
              <a:path fill="none" w="21600" h="21600">
                <a:moveTo>
                  <a:pt x="45" y="11781"/>
                </a:moveTo>
                <a:arcTo wR="10800" hR="10800" stAng="10487201" swAng="11615442"/>
              </a:path>
            </a:pathLst>
          </a:custGeom>
          <a:noFill/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3506040" y="4864680"/>
            <a:ext cx="380520" cy="531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5" y="11781"/>
                </a:moveTo>
                <a:arcTo wR="10800" hR="10800" stAng="10487201" swAng="11615442"/>
                <a:lnTo>
                  <a:pt x="10800" y="10800"/>
                </a:lnTo>
                <a:close/>
              </a:path>
              <a:path fill="none" w="21600" h="21600">
                <a:moveTo>
                  <a:pt x="45" y="11781"/>
                </a:moveTo>
                <a:arcTo wR="10800" hR="10800" stAng="10487201" swAng="11615442"/>
              </a:path>
            </a:pathLst>
          </a:custGeom>
          <a:noFill/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 rot="16200000">
            <a:off x="4265280" y="2059200"/>
            <a:ext cx="380520" cy="531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5" y="11781"/>
                </a:moveTo>
                <a:arcTo wR="10800" hR="10800" stAng="10487201" swAng="11615442"/>
                <a:lnTo>
                  <a:pt x="10800" y="10800"/>
                </a:lnTo>
                <a:close/>
              </a:path>
              <a:path fill="none" w="21600" h="21600">
                <a:moveTo>
                  <a:pt x="45" y="11781"/>
                </a:moveTo>
                <a:arcTo wR="10800" hR="10800" stAng="10487201" swAng="11615442"/>
              </a:path>
            </a:pathLst>
          </a:custGeom>
          <a:noFill/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 rot="16200000">
            <a:off x="4265280" y="3125880"/>
            <a:ext cx="380520" cy="531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5" y="11781"/>
                </a:moveTo>
                <a:arcTo wR="10800" hR="10800" stAng="10487201" swAng="11615442"/>
                <a:lnTo>
                  <a:pt x="10800" y="10800"/>
                </a:lnTo>
                <a:close/>
              </a:path>
              <a:path fill="none" w="21600" h="21600">
                <a:moveTo>
                  <a:pt x="45" y="11781"/>
                </a:moveTo>
                <a:arcTo wR="10800" hR="10800" stAng="10487201" swAng="11615442"/>
              </a:path>
            </a:pathLst>
          </a:custGeom>
          <a:noFill/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 rot="16200000">
            <a:off x="4265280" y="3659400"/>
            <a:ext cx="380520" cy="531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5" y="11781"/>
                </a:moveTo>
                <a:arcTo wR="10800" hR="10800" stAng="10487201" swAng="11615442"/>
                <a:lnTo>
                  <a:pt x="10800" y="10800"/>
                </a:lnTo>
                <a:close/>
              </a:path>
              <a:path fill="none" w="21600" h="21600">
                <a:moveTo>
                  <a:pt x="45" y="11781"/>
                </a:moveTo>
                <a:arcTo wR="10800" hR="10800" stAng="10487201" swAng="11615442"/>
              </a:path>
            </a:pathLst>
          </a:custGeom>
          <a:noFill/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 rot="16200000">
            <a:off x="4265280" y="4345200"/>
            <a:ext cx="380520" cy="531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5" y="11781"/>
                </a:moveTo>
                <a:arcTo wR="10800" hR="10800" stAng="10487201" swAng="11615442"/>
                <a:lnTo>
                  <a:pt x="10800" y="10800"/>
                </a:lnTo>
                <a:close/>
              </a:path>
              <a:path fill="none" w="21600" h="21600">
                <a:moveTo>
                  <a:pt x="45" y="11781"/>
                </a:moveTo>
                <a:arcTo wR="10800" hR="10800" stAng="10487201" swAng="11615442"/>
              </a:path>
            </a:pathLst>
          </a:custGeom>
          <a:noFill/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 rot="16200000">
            <a:off x="4264920" y="4877640"/>
            <a:ext cx="380880" cy="531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5" y="11781"/>
                </a:moveTo>
                <a:arcTo wR="10800" hR="10800" stAng="10487201" swAng="11615442"/>
                <a:lnTo>
                  <a:pt x="10800" y="10800"/>
                </a:lnTo>
                <a:close/>
              </a:path>
              <a:path fill="none" w="21600" h="21600">
                <a:moveTo>
                  <a:pt x="45" y="11781"/>
                </a:moveTo>
                <a:arcTo wR="10800" hR="10800" stAng="10487201" swAng="11615442"/>
              </a:path>
            </a:pathLst>
          </a:custGeom>
          <a:noFill/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645000" y="1887480"/>
            <a:ext cx="850680" cy="4538880"/>
          </a:xfrm>
          <a:custGeom>
            <a:avLst/>
            <a:gdLst/>
            <a:ahLst/>
            <a:rect l="l" t="t" r="r" b="b"/>
            <a:pathLst>
              <a:path w="576" h="2843">
                <a:moveTo>
                  <a:pt x="0" y="2843"/>
                </a:moveTo>
                <a:cubicBezTo>
                  <a:pt x="44" y="2798"/>
                  <a:pt x="216" y="2819"/>
                  <a:pt x="264" y="2571"/>
                </a:cubicBezTo>
                <a:cubicBezTo>
                  <a:pt x="312" y="2323"/>
                  <a:pt x="284" y="1700"/>
                  <a:pt x="288" y="1355"/>
                </a:cubicBezTo>
                <a:cubicBezTo>
                  <a:pt x="292" y="1010"/>
                  <a:pt x="276" y="711"/>
                  <a:pt x="288" y="499"/>
                </a:cubicBezTo>
                <a:cubicBezTo>
                  <a:pt x="300" y="287"/>
                  <a:pt x="312" y="166"/>
                  <a:pt x="360" y="83"/>
                </a:cubicBezTo>
                <a:cubicBezTo>
                  <a:pt x="408" y="0"/>
                  <a:pt x="531" y="20"/>
                  <a:pt x="576" y="3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5943600" y="1219320"/>
            <a:ext cx="2514600" cy="36576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133720" y="1371600"/>
            <a:ext cx="2209680" cy="9144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0880" y="1371600"/>
            <a:ext cx="144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Source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082960" y="137160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Lexical analy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438280" y="1828800"/>
            <a:ext cx="1568520" cy="37944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Scan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344120" y="2666880"/>
            <a:ext cx="166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Syntax 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286000" y="3657600"/>
            <a:ext cx="26668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Intermediate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362320" y="5029200"/>
            <a:ext cx="44956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Optimized intermediate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28600" y="5562720"/>
            <a:ext cx="167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Target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095880" y="1371600"/>
            <a:ext cx="2210040" cy="9144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095880" y="13716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Syntax analy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400800" y="1828800"/>
            <a:ext cx="1568520" cy="37944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Par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343400" y="1752480"/>
            <a:ext cx="1752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4343400" y="2057400"/>
            <a:ext cx="175248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95680" y="12952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Toke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095880" y="2743200"/>
            <a:ext cx="2210040" cy="9144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553080" y="2971800"/>
            <a:ext cx="1524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Seman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analy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676520" y="182880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133720" y="2743200"/>
            <a:ext cx="2209680" cy="9144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297180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ntermediate code gener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133720" y="4114800"/>
            <a:ext cx="2209680" cy="9144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133720" y="4267080"/>
            <a:ext cx="236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Optimi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133720" y="5486400"/>
            <a:ext cx="2209680" cy="9144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514600" y="563868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gener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1676520" y="586728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257800" y="2209680"/>
            <a:ext cx="3200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tructure of Compiler</a:t>
            </a: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struc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248160" y="2286000"/>
            <a:ext cx="149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Parse 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248520" y="22860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343400" y="3124080"/>
            <a:ext cx="1752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286000" y="36576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286000" y="50292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343400" y="3429000"/>
            <a:ext cx="175248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8153280" y="22860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9920" y="4038480"/>
            <a:ext cx="243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Syntax-Direc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Trans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/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609480" y="1143000"/>
            <a:ext cx="495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Theoretical view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09480" y="167652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ff99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n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0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09480" y="2133720"/>
            <a:ext cx="373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Questio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9900"/>
                </a:solidFill>
                <a:latin typeface="Times New Roman"/>
              </a:rPr>
              <a:t>a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b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" y="2743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09480" y="2743200"/>
            <a:ext cx="746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Practical view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09480" y="327672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ff9900"/>
                </a:solidFill>
                <a:latin typeface="Times New Roman"/>
              </a:rPr>
              <a:t>begi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nd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cc99"/>
                </a:solidFill>
                <a:latin typeface="Times New Roman"/>
              </a:rPr>
              <a:t>id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:=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;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, ...}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09480" y="4191120"/>
            <a:ext cx="701064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Questio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9900"/>
                </a:solidFill>
                <a:latin typeface="Times New Roman"/>
              </a:rPr>
              <a:t>begin </a:t>
            </a:r>
            <a:r>
              <a:rPr b="1" i="1" lang="en-US" sz="2800" spc="-1" strike="noStrike">
                <a:solidFill>
                  <a:srgbClr val="00cc99"/>
                </a:solidFill>
                <a:latin typeface="Times New Roman"/>
              </a:rPr>
              <a:t>id</a:t>
            </a:r>
            <a:r>
              <a:rPr b="1" i="1" lang="en-US" sz="2800" spc="-1" strike="noStrike">
                <a:solidFill>
                  <a:srgbClr val="ff99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:= </a:t>
            </a:r>
            <a:r>
              <a:rPr b="1" i="1" lang="en-US" sz="2800" spc="-1" strike="noStrike">
                <a:solidFill>
                  <a:srgbClr val="00cc99"/>
                </a:solidFill>
                <a:latin typeface="Times New Roman"/>
              </a:rPr>
              <a:t>id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1" i="1" lang="en-US" sz="2800" spc="-1" strike="noStrike">
                <a:solidFill>
                  <a:srgbClr val="00cc99"/>
                </a:solidFill>
                <a:latin typeface="Times New Roman"/>
              </a:rPr>
              <a:t>id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;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nd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;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Pascal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480" y="3733920"/>
            <a:ext cx="7086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Pascal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gramming Language Pas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85800" y="5181480"/>
            <a:ext cx="3276720" cy="82548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3300"/>
                </a:solidFill>
                <a:latin typeface="Times New Roman"/>
              </a:rPr>
              <a:t>YES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: Program i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K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reat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target program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114800" y="5181480"/>
            <a:ext cx="4267080" cy="82548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3300"/>
                </a:solidFill>
                <a:latin typeface="Times New Roman"/>
              </a:rPr>
              <a:t>NO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: Program i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t OK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ndl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rr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3657240" y="4724280"/>
            <a:ext cx="22860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191120" y="4724280"/>
            <a:ext cx="22860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anguages and Compil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/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685800" y="114300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Input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ource progr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Output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tring of tok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85800" y="2209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5181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09480" y="5181480"/>
            <a:ext cx="792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85800" y="2209680"/>
            <a:ext cx="8001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ource program is broken into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exemes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logically cohesive lexical entitie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identifiers, numbers, key-words, operator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Lexemes are represented by uniform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tok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ome tokens have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attributes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Lexical analyzer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canner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/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exical analyzer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916920" y="1142280"/>
            <a:ext cx="2963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Source program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90720" y="1600200"/>
            <a:ext cx="685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ourier New"/>
              </a:rPr>
              <a:t>Position := Initial + Rate * 6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915480" y="4038480"/>
            <a:ext cx="7009200" cy="1905120"/>
            <a:chOff x="915480" y="4038480"/>
            <a:chExt cx="7009200" cy="1905120"/>
          </a:xfrm>
        </p:grpSpPr>
        <p:sp>
          <p:nvSpPr>
            <p:cNvPr id="175" name=""/>
            <p:cNvSpPr/>
            <p:nvPr/>
          </p:nvSpPr>
          <p:spPr>
            <a:xfrm>
              <a:off x="3962520" y="4038480"/>
              <a:ext cx="1066680" cy="83844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915480" y="4571280"/>
              <a:ext cx="14929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3333cc"/>
                  </a:solidFill>
                  <a:latin typeface="Times New Roman"/>
                </a:rPr>
                <a:t>Tokens: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990720" y="5105520"/>
              <a:ext cx="1904760" cy="8380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i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200" spc="-1" strike="noStrike">
                  <a:solidFill>
                    <a:srgbClr val="000000"/>
                  </a:solidFill>
                  <a:latin typeface="Wingdings 2"/>
                  <a:ea typeface="Wingdings 2"/>
                </a:rPr>
                <a:t>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Posi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971800" y="5105520"/>
              <a:ext cx="533520" cy="8380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:=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581280" y="5105520"/>
              <a:ext cx="1600200" cy="8380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i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200" spc="-1" strike="noStrike">
                  <a:solidFill>
                    <a:srgbClr val="000000"/>
                  </a:solidFill>
                  <a:latin typeface="Wingdings 2"/>
                  <a:ea typeface="Wingdings 2"/>
                </a:rPr>
                <a:t>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niti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257800" y="5105520"/>
              <a:ext cx="380880" cy="8380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715000" y="5105520"/>
              <a:ext cx="990720" cy="8380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i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2200" spc="-1" strike="noStrike">
                  <a:solidFill>
                    <a:srgbClr val="000000"/>
                  </a:solidFill>
                  <a:latin typeface="Wingdings 2"/>
                  <a:ea typeface="Wingdings 2"/>
                </a:rPr>
                <a:t>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Ra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781680" y="5105520"/>
              <a:ext cx="304920" cy="8380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162920" y="5105520"/>
              <a:ext cx="761760" cy="8380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in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6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066680" y="5562720"/>
              <a:ext cx="175284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048120" y="5562720"/>
              <a:ext cx="38088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657600" y="5562720"/>
              <a:ext cx="144792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791320" y="5562720"/>
              <a:ext cx="83808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858000" y="5562720"/>
              <a:ext cx="15228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238880" y="5562720"/>
              <a:ext cx="60984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334120" y="5562720"/>
              <a:ext cx="2286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833040" y="2133720"/>
            <a:ext cx="7015680" cy="1676160"/>
            <a:chOff x="833040" y="2133720"/>
            <a:chExt cx="7015680" cy="1676160"/>
          </a:xfrm>
        </p:grpSpPr>
        <p:sp>
          <p:nvSpPr>
            <p:cNvPr id="192" name=""/>
            <p:cNvSpPr/>
            <p:nvPr/>
          </p:nvSpPr>
          <p:spPr>
            <a:xfrm>
              <a:off x="990720" y="3200400"/>
              <a:ext cx="190476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Courier New"/>
                </a:rPr>
                <a:t>Positio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971800" y="3200400"/>
              <a:ext cx="53352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Courier New"/>
                </a:rPr>
                <a:t>:=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581280" y="3200400"/>
              <a:ext cx="160020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Courier New"/>
                </a:rPr>
                <a:t>Initial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257800" y="3200400"/>
              <a:ext cx="38088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Courier New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715000" y="3200400"/>
              <a:ext cx="99072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Courier New"/>
                </a:rPr>
                <a:t>Rat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781680" y="3200400"/>
              <a:ext cx="30492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Courier New"/>
                </a:rPr>
                <a:t>*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162920" y="3200400"/>
              <a:ext cx="68580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Courier New"/>
                </a:rPr>
                <a:t>6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962520" y="2133720"/>
              <a:ext cx="1066680" cy="8380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33040" y="2666160"/>
              <a:ext cx="17244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3333cc"/>
                  </a:solidFill>
                  <a:latin typeface="Times New Roman"/>
                </a:rPr>
                <a:t>Lexemes: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/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685800" y="114300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Input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tring of tok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Output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Parse tr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85800" y="2209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85800" y="6172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09480" y="6095880"/>
            <a:ext cx="792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85800" y="2133720"/>
            <a:ext cx="82296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arser verifies that the string of tok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epresents a syntactically well-formed progr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f it finds a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parse tre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for the string, it 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rrect; otherwise, it is 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struction of tree is based on grammatic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u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wo approach: top-down and botto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yntax analyzer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Parser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/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9" name=""/>
          <p:cNvGrpSpPr/>
          <p:nvPr/>
        </p:nvGrpSpPr>
        <p:grpSpPr>
          <a:xfrm>
            <a:off x="990720" y="3048120"/>
            <a:ext cx="6933960" cy="1981080"/>
            <a:chOff x="990720" y="3048120"/>
            <a:chExt cx="6933960" cy="1981080"/>
          </a:xfrm>
        </p:grpSpPr>
        <p:sp>
          <p:nvSpPr>
            <p:cNvPr id="210" name=""/>
            <p:cNvSpPr/>
            <p:nvPr/>
          </p:nvSpPr>
          <p:spPr>
            <a:xfrm>
              <a:off x="990720" y="3048120"/>
              <a:ext cx="6933960" cy="1981080"/>
            </a:xfrm>
            <a:custGeom>
              <a:avLst/>
              <a:gdLst/>
              <a:ahLst/>
              <a:rect l="l" t="t" r="r" b="b"/>
              <a:pathLst>
                <a:path w="4368" h="1296">
                  <a:moveTo>
                    <a:pt x="0" y="1296"/>
                  </a:moveTo>
                  <a:lnTo>
                    <a:pt x="4368" y="1296"/>
                  </a:lnTo>
                  <a:lnTo>
                    <a:pt x="2064" y="0"/>
                  </a:lnTo>
                  <a:lnTo>
                    <a:pt x="1920" y="48"/>
                  </a:lnTo>
                  <a:lnTo>
                    <a:pt x="1152" y="48"/>
                  </a:lnTo>
                  <a:lnTo>
                    <a:pt x="960" y="0"/>
                  </a:lnTo>
                  <a:lnTo>
                    <a:pt x="0" y="1296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361960" y="3657600"/>
              <a:ext cx="30477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Task: 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Create a parse tre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from a grammatical rules !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685800" y="2590920"/>
            <a:ext cx="7924680" cy="2971800"/>
            <a:chOff x="685800" y="2590920"/>
            <a:chExt cx="7924680" cy="2971800"/>
          </a:xfrm>
        </p:grpSpPr>
        <p:sp>
          <p:nvSpPr>
            <p:cNvPr id="213" name=""/>
            <p:cNvSpPr/>
            <p:nvPr/>
          </p:nvSpPr>
          <p:spPr>
            <a:xfrm>
              <a:off x="685800" y="2971800"/>
              <a:ext cx="7924680" cy="259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flipH="1">
              <a:off x="1981080" y="3048120"/>
              <a:ext cx="990720" cy="1295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276720" y="3048120"/>
              <a:ext cx="0" cy="1371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92000" y="4266360"/>
              <a:ext cx="51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i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919160" y="4724640"/>
              <a:ext cx="0" cy="3808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973240" y="4266360"/>
              <a:ext cx="547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:=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290760" y="4724640"/>
              <a:ext cx="0" cy="3808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954680" y="2895120"/>
              <a:ext cx="950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3333cc"/>
                  </a:solidFill>
                  <a:latin typeface="Times New Roman"/>
                </a:rPr>
                <a:t>Exp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809880" y="3048120"/>
              <a:ext cx="121932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267080" y="2590920"/>
              <a:ext cx="381240" cy="380880"/>
            </a:xfrm>
            <a:prstGeom prst="ellipse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1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yntax analyzer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820600" y="14468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cc"/>
                </a:solidFill>
                <a:latin typeface="Times New Roman"/>
              </a:rPr>
              <a:t>Exp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97120" y="14468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cc"/>
                </a:solidFill>
                <a:latin typeface="Times New Roman"/>
              </a:rPr>
              <a:t>Exp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868720" y="14468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cc"/>
                </a:solidFill>
                <a:latin typeface="Times New Roman"/>
              </a:rPr>
              <a:t>Exp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783120" y="14468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cc"/>
                </a:solidFill>
                <a:latin typeface="Times New Roman"/>
              </a:rPr>
              <a:t>Exp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621200" y="14468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cc"/>
                </a:solidFill>
                <a:latin typeface="Times New Roman"/>
              </a:rPr>
              <a:t>Exp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6160" y="1446840"/>
            <a:ext cx="163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imes New Roman"/>
              </a:rPr>
              <a:t>Assig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10920" y="106560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752480" y="1219320"/>
            <a:ext cx="381240" cy="3808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276720" y="1219320"/>
            <a:ext cx="380880" cy="3808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952880" y="1219320"/>
            <a:ext cx="381240" cy="3808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324480" y="1219320"/>
            <a:ext cx="381240" cy="3808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4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162920" y="1219320"/>
            <a:ext cx="380880" cy="3808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8001000" y="1219320"/>
            <a:ext cx="380880" cy="3808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6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362680" y="2056320"/>
            <a:ext cx="16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cc"/>
                </a:solidFill>
                <a:latin typeface="Times New Roman"/>
              </a:rPr>
              <a:t>Expr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3333cc"/>
                </a:solidFill>
                <a:latin typeface="Times New Roman"/>
              </a:rPr>
              <a:t>Exp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2742840" y="190512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429000" y="190512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200400" y="19051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048920" y="2056320"/>
            <a:ext cx="167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cc"/>
                </a:solidFill>
                <a:latin typeface="Times New Roman"/>
              </a:rPr>
              <a:t>Expr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3333cc"/>
                </a:solidFill>
                <a:latin typeface="Times New Roman"/>
              </a:rPr>
              <a:t>Exp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H="1">
            <a:off x="4419360" y="190512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105520" y="190512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876920" y="19051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563440" y="205632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3333cc"/>
                </a:solidFill>
                <a:latin typeface="Times New Roman"/>
              </a:rPr>
              <a:t>Expr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5867280" y="1905120"/>
            <a:ext cx="15264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477120" y="1905120"/>
            <a:ext cx="15228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248520" y="19051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953040" y="205632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7162920" y="19051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778160" y="205632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001000" y="19051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22800" y="2056320"/>
            <a:ext cx="176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id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:=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3333cc"/>
                </a:solidFill>
                <a:latin typeface="Times New Roman"/>
              </a:rPr>
              <a:t>Exp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1036440" y="190512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722600" y="190512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494000" y="19051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85800" y="2514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49040" y="6171480"/>
            <a:ext cx="1366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Token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004760" y="5105520"/>
            <a:ext cx="1905120" cy="838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986200" y="5105520"/>
            <a:ext cx="533160" cy="838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: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595680" y="5105520"/>
            <a:ext cx="1600200" cy="838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nit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272200" y="5105520"/>
            <a:ext cx="380880" cy="838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729400" y="5105520"/>
            <a:ext cx="990360" cy="838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796080" y="5105520"/>
            <a:ext cx="304920" cy="838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7176960" y="5105520"/>
            <a:ext cx="900360" cy="838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081080" y="5562720"/>
            <a:ext cx="175248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062160" y="5562720"/>
            <a:ext cx="38124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672000" y="5562720"/>
            <a:ext cx="144756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805360" y="5562720"/>
            <a:ext cx="83844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872400" y="5562720"/>
            <a:ext cx="15228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253280" y="5562720"/>
            <a:ext cx="74772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348160" y="5562720"/>
            <a:ext cx="22860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rot="5400000">
            <a:off x="4464720" y="2559600"/>
            <a:ext cx="152280" cy="7072560"/>
          </a:xfrm>
          <a:custGeom>
            <a:avLst/>
            <a:gdLst>
              <a:gd name="textAreaLeft" fmla="*/ 0 w 152280"/>
              <a:gd name="textAreaRight" fmla="*/ 55080 w 152280"/>
              <a:gd name="textAreaTop" fmla="*/ 184320 h 7072560"/>
              <a:gd name="textAreaBottom" fmla="*/ 6888240 h 7072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44"/>
                </a:lnTo>
                <a:cubicBezTo>
                  <a:pt x="10800" y="9944"/>
                  <a:pt x="16200" y="10844"/>
                  <a:pt x="21600" y="10844"/>
                </a:cubicBezTo>
                <a:cubicBezTo>
                  <a:pt x="16200" y="10844"/>
                  <a:pt x="10800" y="11744"/>
                  <a:pt x="10800" y="12644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364480" y="2513880"/>
            <a:ext cx="195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Assign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3888000" y="3048120"/>
            <a:ext cx="3541320" cy="2057400"/>
            <a:chOff x="3888000" y="3048120"/>
            <a:chExt cx="3541320" cy="2057400"/>
          </a:xfrm>
        </p:grpSpPr>
        <p:sp>
          <p:nvSpPr>
            <p:cNvPr id="276" name=""/>
            <p:cNvSpPr/>
            <p:nvPr/>
          </p:nvSpPr>
          <p:spPr>
            <a:xfrm>
              <a:off x="5250240" y="4266360"/>
              <a:ext cx="4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424480" y="4724640"/>
              <a:ext cx="0" cy="3808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888000" y="3733200"/>
              <a:ext cx="950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3333cc"/>
                  </a:solidFill>
                  <a:latin typeface="Times New Roman"/>
                </a:rPr>
                <a:t>Exp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478920" y="3276000"/>
              <a:ext cx="950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3333cc"/>
                  </a:solidFill>
                  <a:latin typeface="Times New Roman"/>
                </a:rPr>
                <a:t>Exp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flipH="1">
              <a:off x="4419720" y="3429000"/>
              <a:ext cx="76176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410080" y="3429000"/>
              <a:ext cx="0" cy="914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715000" y="3429000"/>
              <a:ext cx="83808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867280" y="3048120"/>
              <a:ext cx="381240" cy="380880"/>
            </a:xfrm>
            <a:prstGeom prst="ellipse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2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5793120" y="3276720"/>
            <a:ext cx="2397960" cy="1828800"/>
            <a:chOff x="5793120" y="3276720"/>
            <a:chExt cx="2397960" cy="1828800"/>
          </a:xfrm>
        </p:grpSpPr>
        <p:sp>
          <p:nvSpPr>
            <p:cNvPr id="285" name=""/>
            <p:cNvSpPr/>
            <p:nvPr/>
          </p:nvSpPr>
          <p:spPr>
            <a:xfrm>
              <a:off x="6720840" y="426636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948360" y="4724640"/>
              <a:ext cx="0" cy="3808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793120" y="3733200"/>
              <a:ext cx="950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3333cc"/>
                  </a:solidFill>
                  <a:latin typeface="Times New Roman"/>
                </a:rPr>
                <a:t>Exp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240680" y="3733200"/>
              <a:ext cx="950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3333cc"/>
                  </a:solidFill>
                  <a:latin typeface="Times New Roman"/>
                </a:rPr>
                <a:t>Exp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H="1">
              <a:off x="6476760" y="3733920"/>
              <a:ext cx="2286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934320" y="381024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315200" y="3657600"/>
              <a:ext cx="38088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391520" y="3276720"/>
              <a:ext cx="380880" cy="380880"/>
            </a:xfrm>
            <a:prstGeom prst="ellipse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3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3" name=""/>
          <p:cNvGrpSpPr/>
          <p:nvPr/>
        </p:nvGrpSpPr>
        <p:grpSpPr>
          <a:xfrm>
            <a:off x="4130640" y="4114800"/>
            <a:ext cx="898560" cy="990720"/>
            <a:chOff x="4130640" y="4114800"/>
            <a:chExt cx="898560" cy="990720"/>
          </a:xfrm>
        </p:grpSpPr>
        <p:sp>
          <p:nvSpPr>
            <p:cNvPr id="294" name=""/>
            <p:cNvSpPr/>
            <p:nvPr/>
          </p:nvSpPr>
          <p:spPr>
            <a:xfrm>
              <a:off x="4130640" y="4266360"/>
              <a:ext cx="51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i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357800" y="4724640"/>
              <a:ext cx="0" cy="3808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343400" y="419112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648320" y="4114800"/>
              <a:ext cx="380880" cy="381240"/>
            </a:xfrm>
            <a:prstGeom prst="ellipse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5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5959440" y="4191120"/>
            <a:ext cx="822240" cy="914400"/>
            <a:chOff x="5959440" y="4191120"/>
            <a:chExt cx="822240" cy="914400"/>
          </a:xfrm>
        </p:grpSpPr>
        <p:sp>
          <p:nvSpPr>
            <p:cNvPr id="299" name=""/>
            <p:cNvSpPr/>
            <p:nvPr/>
          </p:nvSpPr>
          <p:spPr>
            <a:xfrm>
              <a:off x="5959440" y="4266360"/>
              <a:ext cx="51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i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186600" y="4724640"/>
              <a:ext cx="0" cy="3808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172200" y="419112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400800" y="4191120"/>
              <a:ext cx="380880" cy="380880"/>
            </a:xfrm>
            <a:prstGeom prst="ellipse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5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3" name=""/>
          <p:cNvSpPr/>
          <p:nvPr/>
        </p:nvSpPr>
        <p:spPr>
          <a:xfrm>
            <a:off x="764280" y="2590200"/>
            <a:ext cx="10904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Pars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Tre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4" name=""/>
          <p:cNvGrpSpPr/>
          <p:nvPr/>
        </p:nvGrpSpPr>
        <p:grpSpPr>
          <a:xfrm>
            <a:off x="7322760" y="4038480"/>
            <a:ext cx="1078200" cy="1066680"/>
            <a:chOff x="7322760" y="4038480"/>
            <a:chExt cx="1078200" cy="1066680"/>
          </a:xfrm>
        </p:grpSpPr>
        <p:sp>
          <p:nvSpPr>
            <p:cNvPr id="305" name=""/>
            <p:cNvSpPr/>
            <p:nvPr/>
          </p:nvSpPr>
          <p:spPr>
            <a:xfrm>
              <a:off x="7322760" y="4190040"/>
              <a:ext cx="65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in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620120" y="4724280"/>
              <a:ext cx="0" cy="3808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620120" y="419076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8020080" y="4038480"/>
              <a:ext cx="380880" cy="380880"/>
            </a:xfrm>
            <a:prstGeom prst="ellipse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6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/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1:29:08Z</dcterms:created>
  <dc:creator>Roman Lukáš</dc:creator>
  <dc:description/>
  <dc:language>en-US</dc:language>
  <cp:lastModifiedBy>Roman Lukáš</cp:lastModifiedBy>
  <dcterms:modified xsi:type="dcterms:W3CDTF">2005-09-29T09:57:10Z</dcterms:modified>
  <cp:revision>125</cp:revision>
  <dc:subject/>
  <dc:title>Introduction to Compilers</dc:title>
</cp:coreProperties>
</file>