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A7B-DC8A-4AC9-9C2D-0D9145D2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98F-3DB6-4719-87E8-8966C805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9B8-4F21-4A6E-A47C-C65E361B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B00-6AE1-4F48-BCD0-141D0494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806-1065-4D7F-8094-874513B3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EDB-93A7-4F6B-9291-1136CAC9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30C-3188-4B5B-8433-8A75D8BB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347-7D5F-401D-9865-DF9E23AE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1DA-D120-4E01-AEC4-24408EDD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D7B-D5CB-4F2E-89AF-B1BD4944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212-1671-4434-B0E0-9D30B133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1BC-8A6B-43A9-A2A8-D6DD18A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113F-3283-41BC-876C-81825F82272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Models for Context-Free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3352680"/>
            <a:ext cx="3809880" cy="3124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1600200"/>
            <a:ext cx="20574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00200"/>
            <a:ext cx="685800" cy="12193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Rule tree graphically represents a ru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90512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52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2860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705360" y="1981080"/>
            <a:ext cx="5331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162560" y="1981080"/>
            <a:ext cx="759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1981080"/>
            <a:ext cx="83844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819520"/>
            <a:ext cx="83055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rivation tree corresponding to a der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352680"/>
            <a:ext cx="4267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276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248160" y="3733920"/>
            <a:ext cx="152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373392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4952880"/>
            <a:ext cx="41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00600" y="47242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25780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943240" y="4724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86240" y="4724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724280"/>
            <a:ext cx="75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4724280"/>
            <a:ext cx="76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33760" y="3733920"/>
            <a:ext cx="10666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58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0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29000" y="419112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4648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120" y="3886200"/>
            <a:ext cx="60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429000" y="5028840"/>
            <a:ext cx="3505320" cy="1648440"/>
            <a:chOff x="3429000" y="5028840"/>
            <a:chExt cx="3505320" cy="1648440"/>
          </a:xfrm>
        </p:grpSpPr>
        <p:sp>
          <p:nvSpPr>
            <p:cNvPr id="234" name=""/>
            <p:cNvSpPr/>
            <p:nvPr/>
          </p:nvSpPr>
          <p:spPr>
            <a:xfrm>
              <a:off x="3429000" y="5486040"/>
              <a:ext cx="2286000" cy="11912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spo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5028480"/>
              <a:ext cx="762120" cy="1371240"/>
            </a:xfrm>
            <a:custGeom>
              <a:avLst/>
              <a:gdLst>
                <a:gd name="textAreaLeft" fmla="*/ 167400 w 762120"/>
                <a:gd name="textAreaRight" fmla="*/ 594720 w 762120"/>
                <a:gd name="textAreaTop" fmla="*/ 301320 h 1371240"/>
                <a:gd name="textAreaBottom" fmla="*/ 106992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48520" y="58672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6760" y="5410080"/>
              <a:ext cx="7596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2412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3080" y="5410080"/>
              <a:ext cx="2286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15000" y="5790960"/>
              <a:ext cx="533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3244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64832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62120" y="2895480"/>
            <a:ext cx="6705360" cy="3705840"/>
            <a:chOff x="762120" y="2895480"/>
            <a:chExt cx="6705360" cy="3705840"/>
          </a:xfrm>
        </p:grpSpPr>
        <p:sp>
          <p:nvSpPr>
            <p:cNvPr id="249" name=""/>
            <p:cNvSpPr/>
            <p:nvPr/>
          </p:nvSpPr>
          <p:spPr>
            <a:xfrm>
              <a:off x="76212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2120" y="4114800"/>
            <a:ext cx="5333760" cy="1265400"/>
            <a:chOff x="762120" y="4114800"/>
            <a:chExt cx="5333760" cy="1265400"/>
          </a:xfrm>
        </p:grpSpPr>
        <p:sp>
          <p:nvSpPr>
            <p:cNvPr id="259" name=""/>
            <p:cNvSpPr/>
            <p:nvPr/>
          </p:nvSpPr>
          <p:spPr>
            <a:xfrm>
              <a:off x="76212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762120" y="4952880"/>
            <a:ext cx="5333760" cy="1341720"/>
            <a:chOff x="762120" y="4952880"/>
            <a:chExt cx="5333760" cy="1341720"/>
          </a:xfrm>
        </p:grpSpPr>
        <p:sp>
          <p:nvSpPr>
            <p:cNvPr id="264" name=""/>
            <p:cNvSpPr/>
            <p:nvPr/>
          </p:nvSpPr>
          <p:spPr>
            <a:xfrm>
              <a:off x="76212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26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62120" y="5715000"/>
            <a:ext cx="5257800" cy="1036800"/>
            <a:chOff x="762120" y="5715000"/>
            <a:chExt cx="5257800" cy="1036800"/>
          </a:xfrm>
        </p:grpSpPr>
        <p:sp>
          <p:nvSpPr>
            <p:cNvPr id="269" name=""/>
            <p:cNvSpPr/>
            <p:nvPr/>
          </p:nvSpPr>
          <p:spPr>
            <a:xfrm>
              <a:off x="76212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27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62120" y="3886200"/>
            <a:ext cx="6248160" cy="1953000"/>
            <a:chOff x="762120" y="3886200"/>
            <a:chExt cx="6248160" cy="1953000"/>
          </a:xfrm>
        </p:grpSpPr>
        <p:sp>
          <p:nvSpPr>
            <p:cNvPr id="274" name=""/>
            <p:cNvSpPr/>
            <p:nvPr/>
          </p:nvSpPr>
          <p:spPr>
            <a:xfrm>
              <a:off x="76212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276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62120" y="4343400"/>
            <a:ext cx="6248160" cy="2257920"/>
            <a:chOff x="762120" y="4343400"/>
            <a:chExt cx="6248160" cy="2257920"/>
          </a:xfrm>
        </p:grpSpPr>
        <p:sp>
          <p:nvSpPr>
            <p:cNvPr id="279" name=""/>
            <p:cNvSpPr/>
            <p:nvPr/>
          </p:nvSpPr>
          <p:spPr>
            <a:xfrm>
              <a:off x="76212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281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762120" y="5257800"/>
            <a:ext cx="7086600" cy="1343520"/>
            <a:chOff x="762120" y="5257800"/>
            <a:chExt cx="7086600" cy="1343520"/>
          </a:xfrm>
        </p:grpSpPr>
        <p:sp>
          <p:nvSpPr>
            <p:cNvPr id="284" name=""/>
            <p:cNvSpPr/>
            <p:nvPr/>
          </p:nvSpPr>
          <p:spPr>
            <a:xfrm>
              <a:off x="76212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286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762120" y="3429000"/>
            <a:ext cx="7086600" cy="3248280"/>
            <a:chOff x="762120" y="3429000"/>
            <a:chExt cx="7086600" cy="3248280"/>
          </a:xfrm>
        </p:grpSpPr>
        <p:sp>
          <p:nvSpPr>
            <p:cNvPr id="289" name=""/>
            <p:cNvSpPr/>
            <p:nvPr/>
          </p:nvSpPr>
          <p:spPr>
            <a:xfrm>
              <a:off x="76212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291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ft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ef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left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f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305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1430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10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12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914400" y="3886200"/>
            <a:ext cx="5181480" cy="1953000"/>
            <a:chOff x="914400" y="3886200"/>
            <a:chExt cx="5181480" cy="1953000"/>
          </a:xfrm>
        </p:grpSpPr>
        <p:grpSp>
          <p:nvGrpSpPr>
            <p:cNvPr id="320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321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914400" y="3429000"/>
            <a:ext cx="5181480" cy="1572120"/>
            <a:chOff x="914400" y="3429000"/>
            <a:chExt cx="5181480" cy="1572120"/>
          </a:xfrm>
        </p:grpSpPr>
        <p:grpSp>
          <p:nvGrpSpPr>
            <p:cNvPr id="32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2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14400" y="4343400"/>
            <a:ext cx="5105520" cy="2257920"/>
            <a:chOff x="914400" y="4343400"/>
            <a:chExt cx="5105520" cy="2257920"/>
          </a:xfrm>
        </p:grpSpPr>
        <p:grpSp>
          <p:nvGrpSpPr>
            <p:cNvPr id="330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331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14400" y="4038480"/>
            <a:ext cx="6934320" cy="2638800"/>
            <a:chOff x="914400" y="4038480"/>
            <a:chExt cx="6934320" cy="2638800"/>
          </a:xfrm>
        </p:grpSpPr>
        <p:grpSp>
          <p:nvGrpSpPr>
            <p:cNvPr id="335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36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14400" y="4952880"/>
            <a:ext cx="6095880" cy="886320"/>
            <a:chOff x="914400" y="4952880"/>
            <a:chExt cx="6095880" cy="886320"/>
          </a:xfrm>
        </p:grpSpPr>
        <p:grpSp>
          <p:nvGrpSpPr>
            <p:cNvPr id="344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914400" y="5715000"/>
            <a:ext cx="6095880" cy="886320"/>
            <a:chOff x="914400" y="5715000"/>
            <a:chExt cx="6095880" cy="886320"/>
          </a:xfrm>
        </p:grpSpPr>
        <p:grpSp>
          <p:nvGrpSpPr>
            <p:cNvPr id="349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350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914400" y="5715000"/>
            <a:ext cx="6934320" cy="1036800"/>
            <a:chOff x="914400" y="5715000"/>
            <a:chExt cx="6934320" cy="1036800"/>
          </a:xfrm>
        </p:grpSpPr>
        <p:grpSp>
          <p:nvGrpSpPr>
            <p:cNvPr id="354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355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057400"/>
            <a:ext cx="7924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deriv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ightmost wa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A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xv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6483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nalogy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 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ightmost derivation ste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 the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t nonterminal is re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most Deriv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143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most deriv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85800" y="2895480"/>
            <a:ext cx="6781680" cy="3705840"/>
            <a:chOff x="685800" y="2895480"/>
            <a:chExt cx="6781680" cy="3705840"/>
          </a:xfrm>
        </p:grpSpPr>
        <p:sp>
          <p:nvSpPr>
            <p:cNvPr id="371" name=""/>
            <p:cNvSpPr/>
            <p:nvPr/>
          </p:nvSpPr>
          <p:spPr>
            <a:xfrm>
              <a:off x="685800" y="2971800"/>
              <a:ext cx="35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339933"/>
                  </a:solidFill>
                  <a:uFillTx/>
                  <a:latin typeface="Times New Roman"/>
                  <a:ea typeface="Times New Roman"/>
                </a:rPr>
                <a:t>E</a:t>
              </a: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562720" y="2895480"/>
              <a:ext cx="1904760" cy="3705840"/>
              <a:chOff x="5562720" y="2895480"/>
              <a:chExt cx="1904760" cy="3705840"/>
            </a:xfrm>
          </p:grpSpPr>
          <p:sp>
            <p:nvSpPr>
              <p:cNvPr id="373" name=""/>
              <p:cNvSpPr/>
              <p:nvPr/>
            </p:nvSpPr>
            <p:spPr>
              <a:xfrm>
                <a:off x="6019920" y="2895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33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34320" y="3581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36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66920" y="3352680"/>
                <a:ext cx="3812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3526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48520" y="3352680"/>
                <a:ext cx="9144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914400" y="3429000"/>
            <a:ext cx="6934320" cy="3248280"/>
            <a:chOff x="914400" y="3429000"/>
            <a:chExt cx="6934320" cy="3248280"/>
          </a:xfrm>
        </p:grpSpPr>
        <p:sp>
          <p:nvSpPr>
            <p:cNvPr id="381" name=""/>
            <p:cNvSpPr/>
            <p:nvPr/>
          </p:nvSpPr>
          <p:spPr>
            <a:xfrm>
              <a:off x="914400" y="3429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477120" y="4038480"/>
              <a:ext cx="1371600" cy="2638800"/>
              <a:chOff x="6477120" y="4038480"/>
              <a:chExt cx="1371600" cy="2638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771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15200" y="5257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58000" y="6095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62920" y="4038480"/>
                <a:ext cx="38088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705720" y="4038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62920" y="4114800"/>
                <a:ext cx="0" cy="19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914400" y="4343400"/>
            <a:ext cx="6095880" cy="1495800"/>
            <a:chOff x="914400" y="4343400"/>
            <a:chExt cx="6095880" cy="1495800"/>
          </a:xfrm>
        </p:grpSpPr>
        <p:sp>
          <p:nvSpPr>
            <p:cNvPr id="390" name=""/>
            <p:cNvSpPr/>
            <p:nvPr/>
          </p:nvSpPr>
          <p:spPr>
            <a:xfrm>
              <a:off x="914400" y="43434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477120" y="4952880"/>
              <a:ext cx="533160" cy="886320"/>
              <a:chOff x="6477120" y="4952880"/>
              <a:chExt cx="533160" cy="886320"/>
            </a:xfrm>
          </p:grpSpPr>
          <p:sp>
            <p:nvSpPr>
              <p:cNvPr id="392" name=""/>
              <p:cNvSpPr/>
              <p:nvPr/>
            </p:nvSpPr>
            <p:spPr>
              <a:xfrm>
                <a:off x="64771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57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914400" y="4114800"/>
            <a:ext cx="5181480" cy="1722600"/>
            <a:chOff x="914400" y="4114800"/>
            <a:chExt cx="5181480" cy="1722600"/>
          </a:xfrm>
        </p:grpSpPr>
        <p:grpSp>
          <p:nvGrpSpPr>
            <p:cNvPr id="395" name=""/>
            <p:cNvGrpSpPr/>
            <p:nvPr/>
          </p:nvGrpSpPr>
          <p:grpSpPr>
            <a:xfrm>
              <a:off x="5562720" y="4114800"/>
              <a:ext cx="533160" cy="886320"/>
              <a:chOff x="5562720" y="4114800"/>
              <a:chExt cx="533160" cy="88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562720" y="4419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91320" y="41148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914400" y="52578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914400" y="4800600"/>
            <a:ext cx="6095880" cy="1800720"/>
            <a:chOff x="914400" y="4800600"/>
            <a:chExt cx="6095880" cy="1800720"/>
          </a:xfrm>
        </p:grpSpPr>
        <p:sp>
          <p:nvSpPr>
            <p:cNvPr id="400" name=""/>
            <p:cNvSpPr/>
            <p:nvPr/>
          </p:nvSpPr>
          <p:spPr>
            <a:xfrm>
              <a:off x="914400" y="48006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477120" y="5715000"/>
              <a:ext cx="533160" cy="886320"/>
              <a:chOff x="6477120" y="5715000"/>
              <a:chExt cx="533160" cy="886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77120" y="601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057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914400" y="4952880"/>
            <a:ext cx="5181480" cy="1341720"/>
            <a:chOff x="914400" y="4952880"/>
            <a:chExt cx="5181480" cy="1341720"/>
          </a:xfrm>
        </p:grpSpPr>
        <p:grpSp>
          <p:nvGrpSpPr>
            <p:cNvPr id="405" name=""/>
            <p:cNvGrpSpPr/>
            <p:nvPr/>
          </p:nvGrpSpPr>
          <p:grpSpPr>
            <a:xfrm>
              <a:off x="5562720" y="4952880"/>
              <a:ext cx="533160" cy="886320"/>
              <a:chOff x="5562720" y="4952880"/>
              <a:chExt cx="533160" cy="88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2578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91320" y="49528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914400" y="57150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14400" y="3886200"/>
            <a:ext cx="6934320" cy="2715120"/>
            <a:chOff x="914400" y="3886200"/>
            <a:chExt cx="6934320" cy="2715120"/>
          </a:xfrm>
        </p:grpSpPr>
        <p:sp>
          <p:nvSpPr>
            <p:cNvPr id="410" name=""/>
            <p:cNvSpPr/>
            <p:nvPr/>
          </p:nvSpPr>
          <p:spPr>
            <a:xfrm>
              <a:off x="914400" y="3886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315200" y="5715000"/>
              <a:ext cx="533520" cy="886320"/>
              <a:chOff x="7315200" y="5715000"/>
              <a:chExt cx="533520" cy="88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73152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380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914400" y="5715000"/>
            <a:ext cx="5105520" cy="1036800"/>
            <a:chOff x="914400" y="5715000"/>
            <a:chExt cx="5105520" cy="1036800"/>
          </a:xfrm>
        </p:grpSpPr>
        <p:grpSp>
          <p:nvGrpSpPr>
            <p:cNvPr id="415" name=""/>
            <p:cNvGrpSpPr/>
            <p:nvPr/>
          </p:nvGrpSpPr>
          <p:grpSpPr>
            <a:xfrm>
              <a:off x="5486400" y="5715000"/>
              <a:ext cx="533520" cy="886320"/>
              <a:chOff x="5486400" y="5715000"/>
              <a:chExt cx="533520" cy="886320"/>
            </a:xfrm>
          </p:grpSpPr>
          <p:sp>
            <p:nvSpPr>
              <p:cNvPr id="416" name=""/>
              <p:cNvSpPr/>
              <p:nvPr/>
            </p:nvSpPr>
            <p:spPr>
              <a:xfrm>
                <a:off x="5486400" y="601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791320" y="571500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14400" y="6172200"/>
              <a:ext cx="34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1244520"/>
                  <a:tab algn="l" pos="1523880"/>
                  <a:tab algn="l" pos="1816200"/>
                  <a:tab algn="l" pos="209556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i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066680"/>
            <a:ext cx="792504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cs-CZ" sz="2600" spc="-1" strike="noStrike" u="sng">
                <a:solidFill>
                  <a:srgbClr val="ff0000"/>
                </a:solidFill>
                <a:uFillTx/>
                <a:latin typeface="Times New Roman"/>
              </a:rPr>
              <a:t>n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ftmost deriv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ef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) Rightmost deriva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Rightmost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nonterminal is rewrit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duction of the Number of Deriv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590920"/>
            <a:ext cx="7772400" cy="3047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590920"/>
            <a:ext cx="7924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xt three languages coin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l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r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) {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3880" y="10666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any loss of generality, we can consider only leftmost or rightmost derivation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to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410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12408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809880"/>
            <a:ext cx="464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143000"/>
            <a:ext cx="5029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1066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16765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248520" y="1523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5720" y="15238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15238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7240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352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0120" y="213372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920" y="21337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133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343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629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19920" y="2209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2133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743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010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43600" y="3276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748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86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915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724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4952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3452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010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1520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391520" y="4191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6095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proper during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41911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96080" y="4191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2960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22960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000640" y="487692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5562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728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56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680" y="42670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4267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42670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4876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876920"/>
            <a:ext cx="3045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257440" y="4876920"/>
            <a:ext cx="3049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5790960" y="54100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01992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3276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mmatical Ambig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219320"/>
            <a:ext cx="7788240" cy="184788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more than one derivation tree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ambigu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3200400"/>
            <a:ext cx="77724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CFL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ently ambiguo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generated by no unambiguous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46483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un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ly 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53341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ecause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+i*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ere exist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6051600"/>
            <a:ext cx="8077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t inherently ambigu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cau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exp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nambigu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971800"/>
            <a:ext cx="406404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Free Grammar (CF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143000"/>
            <a:ext cx="69343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ramma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based on a finite set of grammatical rules, by which it generates strings of its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lustr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656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514600"/>
            <a:ext cx="2667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038480"/>
            <a:ext cx="152388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038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erminals:      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429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nterminals: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590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648320"/>
            <a:ext cx="1523880" cy="19047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648320"/>
            <a:ext cx="40384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448240" y="3048120"/>
            <a:ext cx="838440" cy="962280"/>
            <a:chOff x="5448240" y="3048120"/>
            <a:chExt cx="838440" cy="962280"/>
          </a:xfrm>
        </p:grpSpPr>
        <p:sp>
          <p:nvSpPr>
            <p:cNvPr id="61" name=""/>
            <p:cNvSpPr/>
            <p:nvPr/>
          </p:nvSpPr>
          <p:spPr>
            <a:xfrm>
              <a:off x="5448240" y="342900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5791320" y="331416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38680" y="304812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410080" y="3886200"/>
            <a:ext cx="1067040" cy="962280"/>
            <a:chOff x="5410080" y="3886200"/>
            <a:chExt cx="1067040" cy="962280"/>
          </a:xfrm>
        </p:grpSpPr>
        <p:sp>
          <p:nvSpPr>
            <p:cNvPr id="65" name=""/>
            <p:cNvSpPr/>
            <p:nvPr/>
          </p:nvSpPr>
          <p:spPr>
            <a:xfrm>
              <a:off x="5410080" y="42670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5657760" y="4172040"/>
              <a:ext cx="76320" cy="4190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86400" y="388620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4724280"/>
            <a:ext cx="1524240" cy="962640"/>
            <a:chOff x="5181480" y="4724280"/>
            <a:chExt cx="1524240" cy="962640"/>
          </a:xfrm>
        </p:grpSpPr>
        <p:sp>
          <p:nvSpPr>
            <p:cNvPr id="69" name=""/>
            <p:cNvSpPr/>
            <p:nvPr/>
          </p:nvSpPr>
          <p:spPr>
            <a:xfrm>
              <a:off x="5181480" y="5105520"/>
              <a:ext cx="15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6000480" y="4895640"/>
              <a:ext cx="76320" cy="64764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4724280"/>
              <a:ext cx="381240" cy="38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105520" y="5575320"/>
            <a:ext cx="1828800" cy="949680"/>
            <a:chOff x="5105520" y="5575320"/>
            <a:chExt cx="1828800" cy="949680"/>
          </a:xfrm>
        </p:grpSpPr>
        <p:sp>
          <p:nvSpPr>
            <p:cNvPr id="73" name=""/>
            <p:cNvSpPr/>
            <p:nvPr/>
          </p:nvSpPr>
          <p:spPr>
            <a:xfrm>
              <a:off x="5105520" y="59436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bbba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5981760" y="5866920"/>
              <a:ext cx="75960" cy="3808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29480" y="5575320"/>
              <a:ext cx="38088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2485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809880"/>
            <a:ext cx="2209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64832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4864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ff0000"/>
                </a:solidFill>
                <a:latin typeface="Times New Roman"/>
              </a:rPr>
              <a:t>b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5943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 (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519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520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26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13360" y="4145040"/>
            <a:ext cx="4268160" cy="510120"/>
            <a:chOff x="4113360" y="4145040"/>
            <a:chExt cx="4268160" cy="510120"/>
          </a:xfrm>
        </p:grpSpPr>
        <p:grpSp>
          <p:nvGrpSpPr>
            <p:cNvPr id="531" name=""/>
            <p:cNvGrpSpPr/>
            <p:nvPr/>
          </p:nvGrpSpPr>
          <p:grpSpPr>
            <a:xfrm>
              <a:off x="6246720" y="4145040"/>
              <a:ext cx="534600" cy="510120"/>
              <a:chOff x="6246720" y="4145040"/>
              <a:chExt cx="534600" cy="510120"/>
            </a:xfrm>
          </p:grpSpPr>
          <p:sp>
            <p:nvSpPr>
              <p:cNvPr id="532" name=""/>
              <p:cNvSpPr/>
              <p:nvPr/>
            </p:nvSpPr>
            <p:spPr>
              <a:xfrm>
                <a:off x="62467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39600" y="414504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46920" y="4145040"/>
              <a:ext cx="534600" cy="510120"/>
              <a:chOff x="7846920" y="4145040"/>
              <a:chExt cx="534600" cy="510120"/>
            </a:xfrm>
          </p:grpSpPr>
          <p:sp>
            <p:nvSpPr>
              <p:cNvPr id="535" name=""/>
              <p:cNvSpPr/>
              <p:nvPr/>
            </p:nvSpPr>
            <p:spPr>
              <a:xfrm>
                <a:off x="7846920" y="414504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848000" y="414504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6780240" y="4145040"/>
              <a:ext cx="1066320" cy="459720"/>
              <a:chOff x="6780240" y="4145040"/>
              <a:chExt cx="1066320" cy="459720"/>
            </a:xfrm>
          </p:grpSpPr>
          <p:sp>
            <p:nvSpPr>
              <p:cNvPr id="538" name=""/>
              <p:cNvSpPr/>
              <p:nvPr/>
            </p:nvSpPr>
            <p:spPr>
              <a:xfrm>
                <a:off x="6780240" y="414504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802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13360" y="4145040"/>
              <a:ext cx="534600" cy="510120"/>
              <a:chOff x="4113360" y="4145040"/>
              <a:chExt cx="534600" cy="51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411336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1480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45080" y="4145040"/>
              <a:ext cx="534600" cy="510120"/>
              <a:chOff x="4645080" y="4145040"/>
              <a:chExt cx="534600" cy="510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645080" y="414504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80040" y="4145040"/>
              <a:ext cx="1066320" cy="459720"/>
              <a:chOff x="5180040" y="4145040"/>
              <a:chExt cx="1066320" cy="459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80040" y="414504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0040" y="41450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49" name=""/>
          <p:cNvCxnSpPr>
            <a:stCxn id="550" idx="1"/>
            <a:endCxn id="524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1" name=""/>
          <p:cNvCxnSpPr>
            <a:stCxn id="550" idx="3"/>
            <a:endCxn id="533" idx="0"/>
          </p:cNvCxnSpPr>
          <p:nvPr/>
        </p:nvCxnSpPr>
        <p:spPr>
          <a:xfrm>
            <a:off x="5518080" y="2849040"/>
            <a:ext cx="101376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353520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2011320"/>
            <a:ext cx="18414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057400"/>
            <a:ext cx="18288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 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3763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513540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10666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An FA extended by a pushdown 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4480" y="4754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4754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down Automata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143000"/>
            <a:ext cx="7772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PDA)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pushdown symb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PDA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581280"/>
            <a:ext cx="80773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f the current state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rrent input symbol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the topmost symbol on the pushdown is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rea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place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hange 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676520"/>
            <a:ext cx="82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owever, we write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w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1430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3320" y="1371600"/>
            <a:ext cx="30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1520" y="2057400"/>
            <a:ext cx="54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the initi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1520" y="2819520"/>
            <a:ext cx="48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46840" y="3886200"/>
            <a:ext cx="40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8800" y="4267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1080" y="38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1219320"/>
            <a:ext cx="3733920" cy="4876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429000" y="1600200"/>
            <a:ext cx="2286000" cy="457200"/>
            <a:chOff x="3429000" y="1600200"/>
            <a:chExt cx="2286000" cy="457200"/>
          </a:xfrm>
        </p:grpSpPr>
        <p:sp>
          <p:nvSpPr>
            <p:cNvPr id="598" name=""/>
            <p:cNvSpPr/>
            <p:nvPr/>
          </p:nvSpPr>
          <p:spPr>
            <a:xfrm>
              <a:off x="5257800" y="205740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000" y="1600200"/>
              <a:ext cx="1676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752480" y="2971800"/>
            <a:ext cx="6477120" cy="1358640"/>
            <a:chOff x="1752480" y="2971800"/>
            <a:chExt cx="6477120" cy="1358640"/>
          </a:xfrm>
        </p:grpSpPr>
        <p:sp>
          <p:nvSpPr>
            <p:cNvPr id="602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283440" y="2971800"/>
              <a:ext cx="1946160" cy="685440"/>
              <a:chOff x="6283440" y="2971800"/>
              <a:chExt cx="1946160" cy="685440"/>
            </a:xfrm>
          </p:grpSpPr>
          <p:sp>
            <p:nvSpPr>
              <p:cNvPr id="604" name=""/>
              <p:cNvSpPr/>
              <p:nvPr/>
            </p:nvSpPr>
            <p:spPr>
              <a:xfrm rot="5400000">
                <a:off x="6270120" y="298512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34320" y="30481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762120" y="1676520"/>
            <a:ext cx="5638680" cy="4572000"/>
            <a:chOff x="762120" y="1676520"/>
            <a:chExt cx="5638680" cy="4572000"/>
          </a:xfrm>
        </p:grpSpPr>
        <p:sp>
          <p:nvSpPr>
            <p:cNvPr id="607" name=""/>
            <p:cNvSpPr/>
            <p:nvPr/>
          </p:nvSpPr>
          <p:spPr>
            <a:xfrm>
              <a:off x="5715000" y="2971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5000" y="4267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1676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5000" y="55627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62120" y="2362320"/>
            <a:ext cx="5333760" cy="1587240"/>
            <a:chOff x="762120" y="2362320"/>
            <a:chExt cx="5333760" cy="1587240"/>
          </a:xfrm>
        </p:grpSpPr>
        <p:sp>
          <p:nvSpPr>
            <p:cNvPr id="613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800600" y="2362320"/>
              <a:ext cx="1295280" cy="609480"/>
              <a:chOff x="4800600" y="2362320"/>
              <a:chExt cx="129528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0600" y="2362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19920" y="236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1752480" y="3657600"/>
            <a:ext cx="4496040" cy="1054080"/>
            <a:chOff x="1752480" y="3657600"/>
            <a:chExt cx="4496040" cy="1054080"/>
          </a:xfrm>
        </p:grpSpPr>
        <p:sp>
          <p:nvSpPr>
            <p:cNvPr id="618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29200" y="3657600"/>
              <a:ext cx="1219320" cy="609480"/>
              <a:chOff x="5029200" y="3657600"/>
              <a:chExt cx="1219320" cy="609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029200" y="365760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19920" y="36576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752480" y="4952880"/>
            <a:ext cx="4572000" cy="609840"/>
            <a:chOff x="1752480" y="4952880"/>
            <a:chExt cx="4572000" cy="609840"/>
          </a:xfrm>
        </p:grpSpPr>
        <p:sp>
          <p:nvSpPr>
            <p:cNvPr id="623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5029200" y="4952880"/>
              <a:ext cx="1295280" cy="609840"/>
              <a:chOff x="5029200" y="4952880"/>
              <a:chExt cx="1295280" cy="609840"/>
            </a:xfrm>
          </p:grpSpPr>
          <p:sp>
            <p:nvSpPr>
              <p:cNvPr id="625" name=""/>
              <p:cNvSpPr/>
              <p:nvPr/>
            </p:nvSpPr>
            <p:spPr>
              <a:xfrm>
                <a:off x="5029200" y="49528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49528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62120" y="5486400"/>
            <a:ext cx="5562360" cy="685800"/>
            <a:chOff x="762120" y="5486400"/>
            <a:chExt cx="5562360" cy="685800"/>
          </a:xfrm>
        </p:grpSpPr>
        <p:sp>
          <p:nvSpPr>
            <p:cNvPr id="628" name=""/>
            <p:cNvSpPr/>
            <p:nvPr/>
          </p:nvSpPr>
          <p:spPr>
            <a:xfrm>
              <a:off x="762120" y="5486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1320" y="563868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52480" y="4267080"/>
            <a:ext cx="6477120" cy="825480"/>
            <a:chOff x="1752480" y="4267080"/>
            <a:chExt cx="6477120" cy="825480"/>
          </a:xfrm>
        </p:grpSpPr>
        <p:sp>
          <p:nvSpPr>
            <p:cNvPr id="631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6283440" y="4267080"/>
              <a:ext cx="1946160" cy="685440"/>
              <a:chOff x="6283440" y="4267080"/>
              <a:chExt cx="1946160" cy="685440"/>
            </a:xfrm>
          </p:grpSpPr>
          <p:sp>
            <p:nvSpPr>
              <p:cNvPr id="633" name=""/>
              <p:cNvSpPr/>
              <p:nvPr/>
            </p:nvSpPr>
            <p:spPr>
              <a:xfrm>
                <a:off x="6934320" y="42670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5400000">
                <a:off x="6270120" y="4280400"/>
                <a:ext cx="685440" cy="65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neous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scrip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120" y="5333760"/>
            <a:ext cx="7619760" cy="1267560"/>
            <a:chOff x="762120" y="5333760"/>
            <a:chExt cx="7619760" cy="1267560"/>
          </a:xfrm>
        </p:grpSpPr>
        <p:sp>
          <p:nvSpPr>
            <p:cNvPr id="641" name=""/>
            <p:cNvSpPr/>
            <p:nvPr/>
          </p:nvSpPr>
          <p:spPr>
            <a:xfrm rot="16200000">
              <a:off x="1981080" y="4114440"/>
              <a:ext cx="228600" cy="2666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24920 h 2666880"/>
                <a:gd name="textAreaBottom" fmla="*/ 25419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6200000">
              <a:off x="7200720" y="438120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720 h 2133360"/>
                <a:gd name="textAreaBottom" fmla="*/ 203364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17"/>
                    <a:pt x="10800" y="3234"/>
                  </a:cubicBezTo>
                  <a:lnTo>
                    <a:pt x="10800" y="7566"/>
                  </a:lnTo>
                  <a:cubicBezTo>
                    <a:pt x="10800" y="9183"/>
                    <a:pt x="5400" y="10800"/>
                    <a:pt x="0" y="10800"/>
                  </a:cubicBezTo>
                  <a:cubicBezTo>
                    <a:pt x="5400" y="10800"/>
                    <a:pt x="10800" y="12417"/>
                    <a:pt x="10800" y="14034"/>
                  </a:cubicBezTo>
                  <a:lnTo>
                    <a:pt x="10800" y="18366"/>
                  </a:lnTo>
                  <a:cubicBezTo>
                    <a:pt x="10800" y="1998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608200" y="6019920"/>
              <a:ext cx="264672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2057400" y="5562720"/>
              <a:ext cx="1295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191120" y="5562720"/>
              <a:ext cx="31240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733920" y="54100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62120" y="4906800"/>
            <a:ext cx="2668320" cy="510120"/>
            <a:chOff x="762120" y="4906800"/>
            <a:chExt cx="2668320" cy="510120"/>
          </a:xfrm>
        </p:grpSpPr>
        <p:grpSp>
          <p:nvGrpSpPr>
            <p:cNvPr id="648" name=""/>
            <p:cNvGrpSpPr/>
            <p:nvPr/>
          </p:nvGrpSpPr>
          <p:grpSpPr>
            <a:xfrm>
              <a:off x="762120" y="4906800"/>
              <a:ext cx="545760" cy="510120"/>
              <a:chOff x="762120" y="4906800"/>
              <a:chExt cx="545760" cy="510120"/>
            </a:xfrm>
          </p:grpSpPr>
          <p:sp>
            <p:nvSpPr>
              <p:cNvPr id="649" name=""/>
              <p:cNvSpPr/>
              <p:nvPr/>
            </p:nvSpPr>
            <p:spPr>
              <a:xfrm>
                <a:off x="7621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6520" y="490680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95480" y="4906800"/>
              <a:ext cx="534960" cy="510120"/>
              <a:chOff x="2895480" y="4906800"/>
              <a:chExt cx="534960" cy="510120"/>
            </a:xfrm>
          </p:grpSpPr>
          <p:sp>
            <p:nvSpPr>
              <p:cNvPr id="652" name=""/>
              <p:cNvSpPr/>
              <p:nvPr/>
            </p:nvSpPr>
            <p:spPr>
              <a:xfrm>
                <a:off x="289548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0556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362320" y="4906800"/>
              <a:ext cx="534960" cy="510120"/>
              <a:chOff x="2362320" y="4906800"/>
              <a:chExt cx="534960" cy="5101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62320" y="4906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2400" y="490680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cs-CZ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1295280" y="490680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4906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114800" y="4876920"/>
            <a:ext cx="4268880" cy="510120"/>
            <a:chOff x="4114800" y="4876920"/>
            <a:chExt cx="4268880" cy="510120"/>
          </a:xfrm>
        </p:grpSpPr>
        <p:grpSp>
          <p:nvGrpSpPr>
            <p:cNvPr id="660" name=""/>
            <p:cNvGrpSpPr/>
            <p:nvPr/>
          </p:nvGrpSpPr>
          <p:grpSpPr>
            <a:xfrm>
              <a:off x="6248520" y="4876920"/>
              <a:ext cx="534960" cy="510120"/>
              <a:chOff x="6248520" y="4876920"/>
              <a:chExt cx="534960" cy="510120"/>
            </a:xfrm>
          </p:grpSpPr>
          <p:sp>
            <p:nvSpPr>
              <p:cNvPr id="661" name=""/>
              <p:cNvSpPr/>
              <p:nvPr/>
            </p:nvSpPr>
            <p:spPr>
              <a:xfrm>
                <a:off x="62485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1760" y="487692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7848720" y="4876920"/>
              <a:ext cx="534960" cy="510120"/>
              <a:chOff x="7848720" y="4876920"/>
              <a:chExt cx="534960" cy="510120"/>
            </a:xfrm>
          </p:grpSpPr>
          <p:sp>
            <p:nvSpPr>
              <p:cNvPr id="664" name=""/>
              <p:cNvSpPr/>
              <p:nvPr/>
            </p:nvSpPr>
            <p:spPr>
              <a:xfrm>
                <a:off x="7848720" y="487692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50160" y="487692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782040" y="4876920"/>
              <a:ext cx="1066680" cy="459720"/>
              <a:chOff x="6782040" y="4876920"/>
              <a:chExt cx="106668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6782040" y="487692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820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114800" y="4876920"/>
              <a:ext cx="534960" cy="510120"/>
              <a:chOff x="4114800" y="4876920"/>
              <a:chExt cx="534960" cy="510120"/>
            </a:xfrm>
          </p:grpSpPr>
          <p:sp>
            <p:nvSpPr>
              <p:cNvPr id="670" name=""/>
              <p:cNvSpPr/>
              <p:nvPr/>
            </p:nvSpPr>
            <p:spPr>
              <a:xfrm>
                <a:off x="411480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1660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646880" y="4876920"/>
              <a:ext cx="534960" cy="510120"/>
              <a:chOff x="4646880" y="4876920"/>
              <a:chExt cx="534960" cy="510120"/>
            </a:xfrm>
          </p:grpSpPr>
          <p:sp>
            <p:nvSpPr>
              <p:cNvPr id="673" name=""/>
              <p:cNvSpPr/>
              <p:nvPr/>
            </p:nvSpPr>
            <p:spPr>
              <a:xfrm>
                <a:off x="4646880" y="487692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680" y="487692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81840" y="4876920"/>
              <a:ext cx="1066680" cy="459720"/>
              <a:chOff x="5181840" y="4876920"/>
              <a:chExt cx="1066680" cy="45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181840" y="487692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181840" y="48769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1"/>
            <a:endCxn id="653" idx="0"/>
          </p:cNvCxnSpPr>
          <p:nvPr/>
        </p:nvCxnSpPr>
        <p:spPr>
          <a:xfrm flipV="1" rot="10800000">
            <a:off x="3141000" y="3580920"/>
            <a:ext cx="345240" cy="132624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79" idx="3"/>
            <a:endCxn id="662" idx="0"/>
          </p:cNvCxnSpPr>
          <p:nvPr/>
        </p:nvCxnSpPr>
        <p:spPr>
          <a:xfrm>
            <a:off x="6267600" y="3580920"/>
            <a:ext cx="26568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838080" y="3992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53080" y="441972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274320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7600" y="2819520"/>
            <a:ext cx="2438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5259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81280" y="3809880"/>
            <a:ext cx="533520" cy="5335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3886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505320" y="4343400"/>
            <a:ext cx="533160" cy="1066680"/>
            <a:chOff x="3505320" y="4343400"/>
            <a:chExt cx="533160" cy="1066680"/>
          </a:xfrm>
        </p:grpSpPr>
        <p:sp>
          <p:nvSpPr>
            <p:cNvPr id="690" name=""/>
            <p:cNvSpPr/>
            <p:nvPr/>
          </p:nvSpPr>
          <p:spPr>
            <a:xfrm>
              <a:off x="3505320" y="4876920"/>
              <a:ext cx="533160" cy="533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3733560" y="4343400"/>
              <a:ext cx="759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160020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7640" y="15238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f a PDA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hen, 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7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42120" y="5334120"/>
            <a:ext cx="247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mputational ste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de by 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675440" y="4724280"/>
            <a:ext cx="229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038480" y="4648320"/>
            <a:ext cx="4497480" cy="533160"/>
            <a:chOff x="4038480" y="4648320"/>
            <a:chExt cx="4497480" cy="533160"/>
          </a:xfrm>
        </p:grpSpPr>
        <p:sp>
          <p:nvSpPr>
            <p:cNvPr id="702" name=""/>
            <p:cNvSpPr/>
            <p:nvPr/>
          </p:nvSpPr>
          <p:spPr>
            <a:xfrm>
              <a:off x="662940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64832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10080" y="4724280"/>
              <a:ext cx="534960" cy="4568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2920" y="4724280"/>
              <a:ext cx="13730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01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732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201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732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38480" y="4724280"/>
              <a:ext cx="13734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956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52880" y="472428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956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2880" y="5029200"/>
              <a:ext cx="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79440" y="5257800"/>
            <a:ext cx="8078760" cy="1295280"/>
            <a:chOff x="379440" y="5257800"/>
            <a:chExt cx="8078760" cy="1295280"/>
          </a:xfrm>
        </p:grpSpPr>
        <p:sp>
          <p:nvSpPr>
            <p:cNvPr id="716" name=""/>
            <p:cNvSpPr/>
            <p:nvPr/>
          </p:nvSpPr>
          <p:spPr>
            <a:xfrm>
              <a:off x="379440" y="5943600"/>
              <a:ext cx="29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19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705720" y="525780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9343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848720" y="533376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238880" y="533376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2000" y="601956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5257800"/>
              <a:ext cx="2133720" cy="685800"/>
            </a:xfrm>
            <a:prstGeom prst="parallelogram">
              <a:avLst>
                <a:gd name="adj" fmla="val 122924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50496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343040" y="5333760"/>
              <a:ext cx="6858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33376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92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64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92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864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72000" y="5257800"/>
              <a:ext cx="2514600" cy="685800"/>
            </a:xfrm>
            <a:custGeom>
              <a:avLst/>
              <a:gdLst/>
              <a:ahLst/>
              <a:rect l="l" t="t" r="r" b="b"/>
              <a:pathLst>
                <a:path w="1584" h="432">
                  <a:moveTo>
                    <a:pt x="528" y="0"/>
                  </a:moveTo>
                  <a:lnTo>
                    <a:pt x="1584" y="0"/>
                  </a:lnTo>
                  <a:lnTo>
                    <a:pt x="1296" y="432"/>
                  </a:lnTo>
                  <a:lnTo>
                    <a:pt x="0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10080" y="5333760"/>
              <a:ext cx="10670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29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43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86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43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00400" y="60195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576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60195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6576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63244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simply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3733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q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685800" y="1295280"/>
            <a:ext cx="7772400" cy="4724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295280"/>
            <a:ext cx="78487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defin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ccepted Language: Three Typ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ntext-Free Grammar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143000"/>
            <a:ext cx="77882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context-free gramma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FG) is a quadrup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n alphab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ul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tart nonter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724280"/>
            <a:ext cx="8229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write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6386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replaced 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alled </a:t>
            </a:r>
            <a:r>
              <a:rPr b="1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-r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Note on R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D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1219320"/>
            <a:ext cx="37339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29718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3809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21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52480" y="4191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52480" y="49528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2120" y="5486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52480" y="45720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95680" y="11430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59436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59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76720" y="594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0060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5943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0292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486400" y="1638360"/>
            <a:ext cx="2438280" cy="558720"/>
            <a:chOff x="5486400" y="1638360"/>
            <a:chExt cx="2438280" cy="558720"/>
          </a:xfrm>
        </p:grpSpPr>
        <p:grpSp>
          <p:nvGrpSpPr>
            <p:cNvPr id="787" name=""/>
            <p:cNvGrpSpPr/>
            <p:nvPr/>
          </p:nvGrpSpPr>
          <p:grpSpPr>
            <a:xfrm>
              <a:off x="5486400" y="1676520"/>
              <a:ext cx="380880" cy="520560"/>
              <a:chOff x="5486400" y="1676520"/>
              <a:chExt cx="380880" cy="520560"/>
            </a:xfrm>
          </p:grpSpPr>
          <p:sp>
            <p:nvSpPr>
              <p:cNvPr id="788" name=""/>
              <p:cNvSpPr/>
              <p:nvPr/>
            </p:nvSpPr>
            <p:spPr>
              <a:xfrm>
                <a:off x="54864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4864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5943600" y="1638360"/>
              <a:ext cx="431280" cy="520560"/>
              <a:chOff x="5943600" y="1638360"/>
              <a:chExt cx="431280" cy="520560"/>
            </a:xfrm>
          </p:grpSpPr>
          <p:sp>
            <p:nvSpPr>
              <p:cNvPr id="791" name=""/>
              <p:cNvSpPr/>
              <p:nvPr/>
            </p:nvSpPr>
            <p:spPr>
              <a:xfrm>
                <a:off x="5943600" y="172728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94000" y="1638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7162920" y="1676520"/>
              <a:ext cx="380880" cy="520560"/>
              <a:chOff x="7162920" y="1676520"/>
              <a:chExt cx="380880" cy="52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716292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6292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6781680" y="1676520"/>
              <a:ext cx="381240" cy="520560"/>
              <a:chOff x="6781680" y="1676520"/>
              <a:chExt cx="381240" cy="520560"/>
            </a:xfrm>
          </p:grpSpPr>
          <p:sp>
            <p:nvSpPr>
              <p:cNvPr id="797" name=""/>
              <p:cNvSpPr/>
              <p:nvPr/>
            </p:nvSpPr>
            <p:spPr>
              <a:xfrm>
                <a:off x="6781680" y="1752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81680" y="1676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400800" y="1676520"/>
              <a:ext cx="380880" cy="520560"/>
              <a:chOff x="6400800" y="1676520"/>
              <a:chExt cx="380880" cy="520560"/>
            </a:xfrm>
          </p:grpSpPr>
          <p:sp>
            <p:nvSpPr>
              <p:cNvPr id="800" name=""/>
              <p:cNvSpPr/>
              <p:nvPr/>
            </p:nvSpPr>
            <p:spPr>
              <a:xfrm>
                <a:off x="6400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7543800" y="1676520"/>
              <a:ext cx="380880" cy="520560"/>
              <a:chOff x="7543800" y="1676520"/>
              <a:chExt cx="380880" cy="520560"/>
            </a:xfrm>
          </p:grpSpPr>
          <p:sp>
            <p:nvSpPr>
              <p:cNvPr id="803" name=""/>
              <p:cNvSpPr/>
              <p:nvPr/>
            </p:nvSpPr>
            <p:spPr>
              <a:xfrm>
                <a:off x="7543800" y="1752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543800" y="1676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105520" y="2362320"/>
            <a:ext cx="2438280" cy="596520"/>
            <a:chOff x="5105520" y="2362320"/>
            <a:chExt cx="2438280" cy="596520"/>
          </a:xfrm>
        </p:grpSpPr>
        <p:grpSp>
          <p:nvGrpSpPr>
            <p:cNvPr id="806" name=""/>
            <p:cNvGrpSpPr/>
            <p:nvPr/>
          </p:nvGrpSpPr>
          <p:grpSpPr>
            <a:xfrm>
              <a:off x="5943600" y="2362320"/>
              <a:ext cx="431640" cy="520560"/>
              <a:chOff x="5943600" y="2362320"/>
              <a:chExt cx="431640" cy="520560"/>
            </a:xfrm>
          </p:grpSpPr>
          <p:sp>
            <p:nvSpPr>
              <p:cNvPr id="807" name=""/>
              <p:cNvSpPr/>
              <p:nvPr/>
            </p:nvSpPr>
            <p:spPr>
              <a:xfrm>
                <a:off x="5943600" y="2489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994360" y="2362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5486400" y="2438280"/>
              <a:ext cx="380880" cy="520560"/>
              <a:chOff x="5486400" y="2438280"/>
              <a:chExt cx="38088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54864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864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5105520" y="2438280"/>
              <a:ext cx="380880" cy="520560"/>
              <a:chOff x="5105520" y="2438280"/>
              <a:chExt cx="380880" cy="520560"/>
            </a:xfrm>
          </p:grpSpPr>
          <p:sp>
            <p:nvSpPr>
              <p:cNvPr id="813" name=""/>
              <p:cNvSpPr/>
              <p:nvPr/>
            </p:nvSpPr>
            <p:spPr>
              <a:xfrm>
                <a:off x="51055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400800" y="2438280"/>
              <a:ext cx="380880" cy="520560"/>
              <a:chOff x="6400800" y="2438280"/>
              <a:chExt cx="380880" cy="520560"/>
            </a:xfrm>
          </p:grpSpPr>
          <p:sp>
            <p:nvSpPr>
              <p:cNvPr id="816" name=""/>
              <p:cNvSpPr/>
              <p:nvPr/>
            </p:nvSpPr>
            <p:spPr>
              <a:xfrm>
                <a:off x="640080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7162920" y="2438280"/>
              <a:ext cx="380880" cy="520560"/>
              <a:chOff x="7162920" y="2438280"/>
              <a:chExt cx="380880" cy="520560"/>
            </a:xfrm>
          </p:grpSpPr>
          <p:sp>
            <p:nvSpPr>
              <p:cNvPr id="819" name=""/>
              <p:cNvSpPr/>
              <p:nvPr/>
            </p:nvSpPr>
            <p:spPr>
              <a:xfrm>
                <a:off x="7162920" y="2514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62920" y="2438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6781680" y="2438280"/>
              <a:ext cx="381240" cy="520560"/>
              <a:chOff x="6781680" y="2438280"/>
              <a:chExt cx="3812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6781680" y="25146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781680" y="2438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4" name=""/>
          <p:cNvGrpSpPr/>
          <p:nvPr/>
        </p:nvGrpSpPr>
        <p:grpSpPr>
          <a:xfrm>
            <a:off x="5105520" y="3886200"/>
            <a:ext cx="1676160" cy="596880"/>
            <a:chOff x="5105520" y="3886200"/>
            <a:chExt cx="1676160" cy="5968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3886200"/>
              <a:ext cx="393840" cy="520560"/>
              <a:chOff x="5943600" y="3886200"/>
              <a:chExt cx="393840" cy="520560"/>
            </a:xfrm>
          </p:grpSpPr>
          <p:sp>
            <p:nvSpPr>
              <p:cNvPr id="826" name=""/>
              <p:cNvSpPr/>
              <p:nvPr/>
            </p:nvSpPr>
            <p:spPr>
              <a:xfrm>
                <a:off x="5943600" y="40255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56200" y="38862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5105520" y="3962520"/>
              <a:ext cx="380880" cy="520560"/>
              <a:chOff x="5105520" y="3962520"/>
              <a:chExt cx="380880" cy="520560"/>
            </a:xfrm>
          </p:grpSpPr>
          <p:sp>
            <p:nvSpPr>
              <p:cNvPr id="829" name=""/>
              <p:cNvSpPr/>
              <p:nvPr/>
            </p:nvSpPr>
            <p:spPr>
              <a:xfrm>
                <a:off x="51055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10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486400" y="3962520"/>
              <a:ext cx="380880" cy="520560"/>
              <a:chOff x="5486400" y="3962520"/>
              <a:chExt cx="380880" cy="520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4864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4864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6400800" y="3962520"/>
              <a:ext cx="380880" cy="520560"/>
              <a:chOff x="6400800" y="3962520"/>
              <a:chExt cx="380880" cy="520560"/>
            </a:xfrm>
          </p:grpSpPr>
          <p:sp>
            <p:nvSpPr>
              <p:cNvPr id="835" name=""/>
              <p:cNvSpPr/>
              <p:nvPr/>
            </p:nvSpPr>
            <p:spPr>
              <a:xfrm>
                <a:off x="6400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4724280" y="3124080"/>
            <a:ext cx="2438640" cy="596880"/>
            <a:chOff x="4724280" y="3124080"/>
            <a:chExt cx="2438640" cy="596880"/>
          </a:xfrm>
        </p:grpSpPr>
        <p:grpSp>
          <p:nvGrpSpPr>
            <p:cNvPr id="838" name=""/>
            <p:cNvGrpSpPr/>
            <p:nvPr/>
          </p:nvGrpSpPr>
          <p:grpSpPr>
            <a:xfrm>
              <a:off x="5943600" y="3124080"/>
              <a:ext cx="431640" cy="520560"/>
              <a:chOff x="5943600" y="3124080"/>
              <a:chExt cx="431640" cy="520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943600" y="325116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9436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724280" y="3200400"/>
              <a:ext cx="381240" cy="520560"/>
              <a:chOff x="4724280" y="3200400"/>
              <a:chExt cx="381240" cy="52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47242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242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5105520" y="3200400"/>
              <a:ext cx="380880" cy="520560"/>
              <a:chOff x="5105520" y="3200400"/>
              <a:chExt cx="380880" cy="520560"/>
            </a:xfrm>
          </p:grpSpPr>
          <p:sp>
            <p:nvSpPr>
              <p:cNvPr id="845" name=""/>
              <p:cNvSpPr/>
              <p:nvPr/>
            </p:nvSpPr>
            <p:spPr>
              <a:xfrm>
                <a:off x="510552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0552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5486400" y="3200400"/>
              <a:ext cx="380880" cy="520560"/>
              <a:chOff x="5486400" y="3200400"/>
              <a:chExt cx="380880" cy="520560"/>
            </a:xfrm>
          </p:grpSpPr>
          <p:sp>
            <p:nvSpPr>
              <p:cNvPr id="848" name=""/>
              <p:cNvSpPr/>
              <p:nvPr/>
            </p:nvSpPr>
            <p:spPr>
              <a:xfrm>
                <a:off x="54864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4864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400800" y="3200400"/>
              <a:ext cx="380880" cy="520560"/>
              <a:chOff x="6400800" y="3200400"/>
              <a:chExt cx="380880" cy="520560"/>
            </a:xfrm>
          </p:grpSpPr>
          <p:sp>
            <p:nvSpPr>
              <p:cNvPr id="851" name=""/>
              <p:cNvSpPr/>
              <p:nvPr/>
            </p:nvSpPr>
            <p:spPr>
              <a:xfrm>
                <a:off x="6400800" y="327672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32004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6781680" y="3200400"/>
              <a:ext cx="381240" cy="520560"/>
              <a:chOff x="6781680" y="3200400"/>
              <a:chExt cx="381240" cy="520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781680" y="327672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81680" y="320040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50292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2920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29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292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486400" y="4648320"/>
            <a:ext cx="990720" cy="596520"/>
            <a:chOff x="5486400" y="4648320"/>
            <a:chExt cx="990720" cy="596520"/>
          </a:xfrm>
        </p:grpSpPr>
        <p:grpSp>
          <p:nvGrpSpPr>
            <p:cNvPr id="861" name=""/>
            <p:cNvGrpSpPr/>
            <p:nvPr/>
          </p:nvGrpSpPr>
          <p:grpSpPr>
            <a:xfrm>
              <a:off x="5486400" y="4724280"/>
              <a:ext cx="380880" cy="520560"/>
              <a:chOff x="5486400" y="4724280"/>
              <a:chExt cx="380880" cy="520560"/>
            </a:xfrm>
          </p:grpSpPr>
          <p:sp>
            <p:nvSpPr>
              <p:cNvPr id="862" name=""/>
              <p:cNvSpPr/>
              <p:nvPr/>
            </p:nvSpPr>
            <p:spPr>
              <a:xfrm>
                <a:off x="5486400" y="48006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486400" y="4724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5943600" y="4648320"/>
              <a:ext cx="393840" cy="520560"/>
              <a:chOff x="5943600" y="4648320"/>
              <a:chExt cx="393840" cy="520560"/>
            </a:xfrm>
          </p:grpSpPr>
          <p:sp>
            <p:nvSpPr>
              <p:cNvPr id="865" name=""/>
              <p:cNvSpPr/>
              <p:nvPr/>
            </p:nvSpPr>
            <p:spPr>
              <a:xfrm>
                <a:off x="5943600" y="47876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56200" y="4648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00800" y="48006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791320" y="5410080"/>
            <a:ext cx="685800" cy="489960"/>
            <a:chOff x="5791320" y="5410080"/>
            <a:chExt cx="685800" cy="489960"/>
          </a:xfrm>
        </p:grpSpPr>
        <p:grpSp>
          <p:nvGrpSpPr>
            <p:cNvPr id="869" name=""/>
            <p:cNvGrpSpPr/>
            <p:nvPr/>
          </p:nvGrpSpPr>
          <p:grpSpPr>
            <a:xfrm>
              <a:off x="5943600" y="5410080"/>
              <a:ext cx="431640" cy="489960"/>
              <a:chOff x="5943600" y="5410080"/>
              <a:chExt cx="431640" cy="489960"/>
            </a:xfrm>
          </p:grpSpPr>
          <p:sp>
            <p:nvSpPr>
              <p:cNvPr id="870" name=""/>
              <p:cNvSpPr/>
              <p:nvPr/>
            </p:nvSpPr>
            <p:spPr>
              <a:xfrm>
                <a:off x="5943600" y="55116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94360" y="541008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791320" y="548640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00800" y="548640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4771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429000" y="5105520"/>
            <a:ext cx="2362320" cy="825480"/>
            <a:chOff x="3429000" y="5105520"/>
            <a:chExt cx="2362320" cy="825480"/>
          </a:xfrm>
        </p:grpSpPr>
        <p:sp>
          <p:nvSpPr>
            <p:cNvPr id="876" name=""/>
            <p:cNvSpPr/>
            <p:nvPr/>
          </p:nvSpPr>
          <p:spPr>
            <a:xfrm>
              <a:off x="3429000" y="51055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9200" y="5639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248520" y="4876920"/>
            <a:ext cx="2438280" cy="761760"/>
            <a:chOff x="6248520" y="4876920"/>
            <a:chExt cx="2438280" cy="761760"/>
          </a:xfrm>
        </p:grpSpPr>
        <p:sp>
          <p:nvSpPr>
            <p:cNvPr id="879" name=""/>
            <p:cNvSpPr/>
            <p:nvPr/>
          </p:nvSpPr>
          <p:spPr>
            <a:xfrm flipH="1">
              <a:off x="6248520" y="563868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2920" y="533376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86600" y="487692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09480" y="64008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800" y="1295280"/>
            <a:ext cx="7772400" cy="1676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5800" y="1219320"/>
            <a:ext cx="7772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 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71800" y="3581280"/>
            <a:ext cx="335268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Deterministic PDA (DPDA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5800" y="205740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eterministic PDA makes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no more th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 from a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configu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19810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be a 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66480" y="4572000"/>
            <a:ext cx="220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114800" y="4952880"/>
            <a:ext cx="4497480" cy="533520"/>
            <a:chOff x="4114800" y="4952880"/>
            <a:chExt cx="4497480" cy="533520"/>
          </a:xfrm>
        </p:grpSpPr>
        <p:sp>
          <p:nvSpPr>
            <p:cNvPr id="909" name=""/>
            <p:cNvSpPr/>
            <p:nvPr/>
          </p:nvSpPr>
          <p:spPr>
            <a:xfrm>
              <a:off x="670572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09624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50292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39240" y="50292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64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5364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964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364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50292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720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5029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720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5334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715000" y="5460840"/>
            <a:ext cx="2590920" cy="725040"/>
            <a:chOff x="5715000" y="5460840"/>
            <a:chExt cx="2590920" cy="725040"/>
          </a:xfrm>
        </p:grpSpPr>
        <p:sp>
          <p:nvSpPr>
            <p:cNvPr id="923" name=""/>
            <p:cNvSpPr/>
            <p:nvPr/>
          </p:nvSpPr>
          <p:spPr>
            <a:xfrm>
              <a:off x="5791320" y="5537160"/>
              <a:ext cx="2514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Ap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15000" y="5460840"/>
              <a:ext cx="228600" cy="3812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6248160" y="5460840"/>
              <a:ext cx="75960" cy="30492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638680" y="5460840"/>
            <a:ext cx="2590920" cy="1258560"/>
            <a:chOff x="5638680" y="5460840"/>
            <a:chExt cx="2590920" cy="1258560"/>
          </a:xfrm>
        </p:grpSpPr>
        <p:sp>
          <p:nvSpPr>
            <p:cNvPr id="927" name=""/>
            <p:cNvSpPr/>
            <p:nvPr/>
          </p:nvSpPr>
          <p:spPr>
            <a:xfrm>
              <a:off x="5791320" y="607068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pa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324480" y="5460840"/>
              <a:ext cx="8424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638680" y="5460840"/>
              <a:ext cx="3366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477120" y="5460840"/>
              <a:ext cx="420480" cy="863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09480" y="5638680"/>
            <a:ext cx="5181840" cy="990720"/>
            <a:chOff x="609480" y="5638680"/>
            <a:chExt cx="5181840" cy="990720"/>
          </a:xfrm>
        </p:grpSpPr>
        <p:sp>
          <p:nvSpPr>
            <p:cNvPr id="932" name=""/>
            <p:cNvSpPr/>
            <p:nvPr/>
          </p:nvSpPr>
          <p:spPr>
            <a:xfrm>
              <a:off x="609480" y="5867280"/>
              <a:ext cx="5181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No more that one rule of the for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6400" y="563868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As are Stronger tha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DP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s no D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at accep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 = reversa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2286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3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19520" y="3505320"/>
            <a:ext cx="5410080" cy="2715120"/>
            <a:chOff x="2819520" y="3505320"/>
            <a:chExt cx="5410080" cy="2715120"/>
          </a:xfrm>
        </p:grpSpPr>
        <p:sp>
          <p:nvSpPr>
            <p:cNvPr id="943" name=""/>
            <p:cNvSpPr/>
            <p:nvPr/>
          </p:nvSpPr>
          <p:spPr>
            <a:xfrm>
              <a:off x="2819520" y="3505320"/>
              <a:ext cx="4190760" cy="14475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5029200"/>
              <a:ext cx="274320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9400" y="4648320"/>
              <a:ext cx="1522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62120" y="3733920"/>
            <a:ext cx="4495680" cy="2486520"/>
            <a:chOff x="762120" y="3733920"/>
            <a:chExt cx="4495680" cy="2486520"/>
          </a:xfrm>
        </p:grpSpPr>
        <p:sp>
          <p:nvSpPr>
            <p:cNvPr id="947" name=""/>
            <p:cNvSpPr/>
            <p:nvPr/>
          </p:nvSpPr>
          <p:spPr>
            <a:xfrm>
              <a:off x="2971800" y="3733920"/>
              <a:ext cx="2286000" cy="9903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120" y="5029200"/>
              <a:ext cx="37335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istic CFLs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312372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276720" y="2895480"/>
            <a:ext cx="4190760" cy="3142080"/>
            <a:chOff x="3276720" y="2895480"/>
            <a:chExt cx="4190760" cy="3142080"/>
          </a:xfrm>
        </p:grpSpPr>
        <p:sp>
          <p:nvSpPr>
            <p:cNvPr id="951" name=""/>
            <p:cNvSpPr/>
            <p:nvPr/>
          </p:nvSpPr>
          <p:spPr>
            <a:xfrm>
              <a:off x="4343400" y="5029200"/>
              <a:ext cx="1295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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276720" y="2895480"/>
              <a:ext cx="4190760" cy="1524240"/>
              <a:chOff x="3276720" y="2895480"/>
              <a:chExt cx="4190760" cy="1524240"/>
            </a:xfrm>
          </p:grpSpPr>
          <p:sp>
            <p:nvSpPr>
              <p:cNvPr id="953" name=""/>
              <p:cNvSpPr/>
              <p:nvPr/>
            </p:nvSpPr>
            <p:spPr>
              <a:xfrm flipH="1" flipV="1">
                <a:off x="5410080" y="3352680"/>
                <a:ext cx="685440" cy="106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76720" y="2895480"/>
                <a:ext cx="4190760" cy="4291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y = reversal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cs-CZ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DA (E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1981080"/>
            <a:ext cx="7772400" cy="2362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e pushdown top of an EPDA represents a string rather than a single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190512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Extended Pushdown automat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EPDA) is a 7-tup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3434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0948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480060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Pushdown of EP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52578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5257800"/>
            <a:ext cx="137304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051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6232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051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232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257800"/>
            <a:ext cx="137340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958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5530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924680" y="5257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3009600" y="560088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7619760" y="51814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520" y="5867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 a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single symbol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334120" y="5867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 strin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he pushdown t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 in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5800" y="1295280"/>
            <a:ext cx="7772400" cy="213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1219320"/>
            <a:ext cx="7962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n EPD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wq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5640" y="43434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8280" y="36576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58280" y="4190760"/>
            <a:ext cx="8228520" cy="1295640"/>
            <a:chOff x="458280" y="4190760"/>
            <a:chExt cx="8228520" cy="1295640"/>
          </a:xfrm>
        </p:grpSpPr>
        <p:sp>
          <p:nvSpPr>
            <p:cNvPr id="993" name=""/>
            <p:cNvSpPr/>
            <p:nvPr/>
          </p:nvSpPr>
          <p:spPr>
            <a:xfrm>
              <a:off x="458280" y="4952880"/>
              <a:ext cx="26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485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4320" y="4191120"/>
              <a:ext cx="1752480" cy="685800"/>
            </a:xfrm>
            <a:prstGeom prst="parallelogram">
              <a:avLst>
                <a:gd name="adj" fmla="val 6758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1629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77320" y="4267080"/>
              <a:ext cx="3808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67480" y="426708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00600" y="495288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2590920" y="4190400"/>
              <a:ext cx="2133360" cy="685800"/>
            </a:xfrm>
            <a:prstGeom prst="parallelogram">
              <a:avLst>
                <a:gd name="adj" fmla="val 122889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7180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33920" y="4267080"/>
              <a:ext cx="6094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29000" y="4191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578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7150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578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7150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87720" y="4191120"/>
              <a:ext cx="3327480" cy="685800"/>
            </a:xfrm>
            <a:custGeom>
              <a:avLst/>
              <a:gdLst/>
              <a:ahLst/>
              <a:rect l="l" t="t" r="r" b="b"/>
              <a:pathLst>
                <a:path w="2096" h="432">
                  <a:moveTo>
                    <a:pt x="0" y="0"/>
                  </a:moveTo>
                  <a:lnTo>
                    <a:pt x="2096" y="0"/>
                  </a:lnTo>
                  <a:lnTo>
                    <a:pt x="1808" y="432"/>
                  </a:lnTo>
                  <a:lnTo>
                    <a:pt x="528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57800" y="4267080"/>
              <a:ext cx="106668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58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15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72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15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72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495288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862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4952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862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5257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533520" y="5638680"/>
            <a:ext cx="7924680" cy="940680"/>
            <a:chOff x="533520" y="5638680"/>
            <a:chExt cx="7924680" cy="940680"/>
          </a:xfrm>
        </p:grpSpPr>
        <p:sp>
          <p:nvSpPr>
            <p:cNvPr id="1021" name=""/>
            <p:cNvSpPr/>
            <p:nvPr/>
          </p:nvSpPr>
          <p:spPr>
            <a:xfrm>
              <a:off x="533520" y="5638680"/>
              <a:ext cx="792468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spcAft>
                  <a:spcPts val="6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*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, and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re defined analogically to the corresponding definitions for PD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948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514600" y="3581280"/>
            <a:ext cx="6249960" cy="533520"/>
            <a:chOff x="2514600" y="3581280"/>
            <a:chExt cx="6249960" cy="533520"/>
          </a:xfrm>
        </p:grpSpPr>
        <p:sp>
          <p:nvSpPr>
            <p:cNvPr id="1024" name=""/>
            <p:cNvSpPr/>
            <p:nvPr/>
          </p:nvSpPr>
          <p:spPr>
            <a:xfrm>
              <a:off x="6858000" y="3657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48520" y="3581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9152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8487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0592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87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0592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14600" y="3657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71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429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429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86200" y="3657600"/>
              <a:ext cx="22860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578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150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578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150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0600" y="3962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434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00600" y="3657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PD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219320"/>
            <a:ext cx="3733920" cy="5105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25146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38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762120" y="1752480"/>
            <a:ext cx="6248160" cy="2286000"/>
            <a:chOff x="762120" y="1752480"/>
            <a:chExt cx="6248160" cy="2286000"/>
          </a:xfrm>
        </p:grpSpPr>
        <p:sp>
          <p:nvSpPr>
            <p:cNvPr id="1053" name=""/>
            <p:cNvSpPr/>
            <p:nvPr/>
          </p:nvSpPr>
          <p:spPr>
            <a:xfrm>
              <a:off x="6248520" y="1752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2120" y="2057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24480" y="3352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62120" y="3429000"/>
            <a:ext cx="6172200" cy="2882880"/>
            <a:chOff x="762120" y="3429000"/>
            <a:chExt cx="6172200" cy="2882880"/>
          </a:xfrm>
        </p:grpSpPr>
        <p:sp>
          <p:nvSpPr>
            <p:cNvPr id="1057" name=""/>
            <p:cNvSpPr/>
            <p:nvPr/>
          </p:nvSpPr>
          <p:spPr>
            <a:xfrm>
              <a:off x="762120" y="57913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400800" y="34290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752480" y="1828800"/>
            <a:ext cx="6934320" cy="2882880"/>
            <a:chOff x="1752480" y="1828800"/>
            <a:chExt cx="6934320" cy="2882880"/>
          </a:xfrm>
        </p:grpSpPr>
        <p:sp>
          <p:nvSpPr>
            <p:cNvPr id="1060" name=""/>
            <p:cNvSpPr/>
            <p:nvPr/>
          </p:nvSpPr>
          <p:spPr>
            <a:xfrm>
              <a:off x="1752480" y="419112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6904080" y="1828800"/>
              <a:ext cx="1782720" cy="520560"/>
              <a:chOff x="6904080" y="1828800"/>
              <a:chExt cx="1782720" cy="5205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91520" y="182880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5400000">
                <a:off x="6957360" y="1851480"/>
                <a:ext cx="380880" cy="48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1752480" y="2438280"/>
            <a:ext cx="6172200" cy="3416400"/>
            <a:chOff x="1752480" y="2438280"/>
            <a:chExt cx="6172200" cy="3416400"/>
          </a:xfrm>
        </p:grpSpPr>
        <p:grpSp>
          <p:nvGrpSpPr>
            <p:cNvPr id="1065" name=""/>
            <p:cNvGrpSpPr/>
            <p:nvPr/>
          </p:nvGrpSpPr>
          <p:grpSpPr>
            <a:xfrm>
              <a:off x="6629400" y="2438280"/>
              <a:ext cx="1295280" cy="977760"/>
              <a:chOff x="6629400" y="2438280"/>
              <a:chExt cx="1295280" cy="977760"/>
            </a:xfrm>
          </p:grpSpPr>
          <p:sp>
            <p:nvSpPr>
              <p:cNvPr id="1066" name=""/>
              <p:cNvSpPr/>
              <p:nvPr/>
            </p:nvSpPr>
            <p:spPr>
              <a:xfrm>
                <a:off x="6629400" y="28954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629400" y="24382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1752480" y="53341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752480" y="1219320"/>
            <a:ext cx="6629400" cy="3873240"/>
            <a:chOff x="1752480" y="1219320"/>
            <a:chExt cx="6629400" cy="3873240"/>
          </a:xfrm>
        </p:grpSpPr>
        <p:sp>
          <p:nvSpPr>
            <p:cNvPr id="1070" name=""/>
            <p:cNvSpPr/>
            <p:nvPr/>
          </p:nvSpPr>
          <p:spPr>
            <a:xfrm>
              <a:off x="1752480" y="45720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a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6652440" y="1219320"/>
              <a:ext cx="1729440" cy="745200"/>
              <a:chOff x="6652440" y="1219320"/>
              <a:chExt cx="1729440" cy="745200"/>
            </a:xfrm>
          </p:grpSpPr>
          <p:sp>
            <p:nvSpPr>
              <p:cNvPr id="1072" name=""/>
              <p:cNvSpPr/>
              <p:nvPr/>
            </p:nvSpPr>
            <p:spPr>
              <a:xfrm rot="2874000">
                <a:off x="6769440" y="145800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086600" y="121932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4" name=""/>
          <p:cNvGrpSpPr/>
          <p:nvPr/>
        </p:nvGrpSpPr>
        <p:grpSpPr>
          <a:xfrm>
            <a:off x="762120" y="1219320"/>
            <a:ext cx="5768280" cy="2730240"/>
            <a:chOff x="762120" y="1219320"/>
            <a:chExt cx="5768280" cy="2730240"/>
          </a:xfrm>
        </p:grpSpPr>
        <p:sp>
          <p:nvSpPr>
            <p:cNvPr id="1075" name=""/>
            <p:cNvSpPr/>
            <p:nvPr/>
          </p:nvSpPr>
          <p:spPr>
            <a:xfrm>
              <a:off x="762120" y="34290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   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5181480" y="1219320"/>
              <a:ext cx="1348920" cy="745920"/>
              <a:chOff x="5181480" y="1219320"/>
              <a:chExt cx="1348920" cy="745920"/>
            </a:xfrm>
          </p:grpSpPr>
          <p:sp>
            <p:nvSpPr>
              <p:cNvPr id="1077" name=""/>
              <p:cNvSpPr/>
              <p:nvPr/>
            </p:nvSpPr>
            <p:spPr>
              <a:xfrm flipH="1" rot="18726000">
                <a:off x="6086160" y="14587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181480" y="121932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752480" y="2248200"/>
            <a:ext cx="4778640" cy="2082240"/>
            <a:chOff x="1752480" y="2248200"/>
            <a:chExt cx="4778640" cy="2082240"/>
          </a:xfrm>
        </p:grpSpPr>
        <p:sp>
          <p:nvSpPr>
            <p:cNvPr id="1080" name=""/>
            <p:cNvSpPr/>
            <p:nvPr/>
          </p:nvSpPr>
          <p:spPr>
            <a:xfrm>
              <a:off x="1752480" y="3809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5181480" y="2248200"/>
              <a:ext cx="1349640" cy="710640"/>
              <a:chOff x="5181480" y="2248200"/>
              <a:chExt cx="1349640" cy="710640"/>
            </a:xfrm>
          </p:grpSpPr>
          <p:sp>
            <p:nvSpPr>
              <p:cNvPr id="1082" name=""/>
              <p:cNvSpPr/>
              <p:nvPr/>
            </p:nvSpPr>
            <p:spPr>
              <a:xfrm flipH="1" flipV="1" rot="2874000">
                <a:off x="6086520" y="2293200"/>
                <a:ext cx="326520" cy="46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243828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9933"/>
                    </a:solidFill>
                    <a:latin typeface="Symbol"/>
                    <a:ea typeface="Symbol"/>
                  </a:rPr>
                  <a:t>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4" name=""/>
          <p:cNvGrpSpPr/>
          <p:nvPr/>
        </p:nvGrpSpPr>
        <p:grpSpPr>
          <a:xfrm>
            <a:off x="1752480" y="2248920"/>
            <a:ext cx="6629400" cy="3224520"/>
            <a:chOff x="1752480" y="2248920"/>
            <a:chExt cx="6629400" cy="3224520"/>
          </a:xfrm>
        </p:grpSpPr>
        <p:sp>
          <p:nvSpPr>
            <p:cNvPr id="1085" name=""/>
            <p:cNvSpPr/>
            <p:nvPr/>
          </p:nvSpPr>
          <p:spPr>
            <a:xfrm>
              <a:off x="1752480" y="49528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6651360" y="2248920"/>
              <a:ext cx="1730520" cy="709920"/>
              <a:chOff x="6651360" y="2248920"/>
              <a:chExt cx="1730520" cy="709920"/>
            </a:xfrm>
          </p:grpSpPr>
          <p:sp>
            <p:nvSpPr>
              <p:cNvPr id="1087" name=""/>
              <p:cNvSpPr/>
              <p:nvPr/>
            </p:nvSpPr>
            <p:spPr>
              <a:xfrm flipV="1" rot="18726000">
                <a:off x="6768720" y="2293920"/>
                <a:ext cx="326520" cy="46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82" y="21390"/>
                    </a:moveTo>
                    <a:arcTo wR="10800" hR="10800" stAng="6078620" swAng="191785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82" y="21390"/>
                    </a:moveTo>
                    <a:arcTo wR="10800" hR="10800" stAng="6078620" swAng="19178586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086600" y="243828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b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 b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9" name=""/>
          <p:cNvSpPr/>
          <p:nvPr/>
        </p:nvSpPr>
        <p:spPr>
          <a:xfrm>
            <a:off x="441972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562720" y="4572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0102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5627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a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b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cs-CZ" sz="28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4952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a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629400" y="5334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562720" y="5334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339933"/>
                </a:solidFill>
                <a:uFillTx/>
                <a:latin typeface="Times New Roman"/>
              </a:rPr>
              <a:t>S</a:t>
            </a:r>
            <a:r>
              <a:rPr b="1" i="1" lang="en-US" sz="2800" spc="-1" strike="noStrike" u="sng">
                <a:solidFill>
                  <a:srgbClr val="339933"/>
                </a:solidFill>
                <a:uFillTx/>
                <a:latin typeface="Times New Roman"/>
              </a:rPr>
              <a:t>C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9720" y="403848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9720" y="5791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609480" y="6400800"/>
            <a:ext cx="8305920" cy="510120"/>
            <a:chOff x="609480" y="6400800"/>
            <a:chExt cx="8305920" cy="510120"/>
          </a:xfrm>
        </p:grpSpPr>
        <p:sp>
          <p:nvSpPr>
            <p:cNvPr id="1099" name=""/>
            <p:cNvSpPr/>
            <p:nvPr/>
          </p:nvSpPr>
          <p:spPr>
            <a:xfrm>
              <a:off x="609480" y="6400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revers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" y="6400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429000" y="1600200"/>
            <a:ext cx="2819160" cy="457200"/>
            <a:chOff x="3429000" y="1600200"/>
            <a:chExt cx="2819160" cy="457200"/>
          </a:xfrm>
        </p:grpSpPr>
        <p:sp>
          <p:nvSpPr>
            <p:cNvPr id="1102" name=""/>
            <p:cNvSpPr/>
            <p:nvPr/>
          </p:nvSpPr>
          <p:spPr>
            <a:xfrm>
              <a:off x="5684400" y="2057400"/>
              <a:ext cx="563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29000" y="1600200"/>
              <a:ext cx="20674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ypes of Acceptance: Equival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12952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219320"/>
            <a:ext cx="77724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EP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29718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re exist these convers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581280"/>
            <a:ext cx="3505320" cy="133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 and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080" y="5334120"/>
            <a:ext cx="335304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final 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29200" y="5334120"/>
            <a:ext cx="3352680" cy="940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D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ccep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mpty pushdow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8120" y="48769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81480" y="4876920"/>
            <a:ext cx="381240" cy="533160"/>
          </a:xfrm>
          <a:prstGeom prst="up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48769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4876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14800" y="548640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114800" y="58672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DAs and PDA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09480" y="1219320"/>
            <a:ext cx="8001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PD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 PD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9480" y="274320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43000" y="2971800"/>
            <a:ext cx="5410080" cy="2943720"/>
            <a:chOff x="1143000" y="2971800"/>
            <a:chExt cx="5410080" cy="2943720"/>
          </a:xfrm>
        </p:grpSpPr>
        <p:sp>
          <p:nvSpPr>
            <p:cNvPr id="1127" name=""/>
            <p:cNvSpPr/>
            <p:nvPr/>
          </p:nvSpPr>
          <p:spPr>
            <a:xfrm>
              <a:off x="2362320" y="2971800"/>
              <a:ext cx="4190760" cy="16002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43000" y="4724280"/>
              <a:ext cx="304812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286000" y="4191120"/>
              <a:ext cx="3808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5105520" y="4191120"/>
            <a:ext cx="3047760" cy="1724400"/>
            <a:chOff x="5105520" y="4191120"/>
            <a:chExt cx="3047760" cy="1724400"/>
          </a:xfrm>
        </p:grpSpPr>
        <p:sp>
          <p:nvSpPr>
            <p:cNvPr id="1131" name=""/>
            <p:cNvSpPr/>
            <p:nvPr/>
          </p:nvSpPr>
          <p:spPr>
            <a:xfrm>
              <a:off x="5105520" y="4724280"/>
              <a:ext cx="3047760" cy="119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family of languages accepted by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D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248520" y="4191120"/>
              <a:ext cx="3045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609480" y="2286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19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2209680" y="3048120"/>
            <a:ext cx="38124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as Parsing Models fo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0020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 EPDA or a PDA can simulate the construction of a derivation tree for a CF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19810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basic approach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90920" y="342900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3429000"/>
            <a:ext cx="2133720" cy="1616040"/>
          </a:xfrm>
          <a:custGeom>
            <a:avLst/>
            <a:gdLst/>
            <a:ahLst/>
            <a:rect l="l" t="t" r="r" b="b"/>
            <a:pathLst>
              <a:path w="1344" h="1018">
                <a:moveTo>
                  <a:pt x="688" y="808"/>
                </a:moveTo>
                <a:cubicBezTo>
                  <a:pt x="584" y="896"/>
                  <a:pt x="468" y="781"/>
                  <a:pt x="400" y="832"/>
                </a:cubicBezTo>
                <a:lnTo>
                  <a:pt x="304" y="1016"/>
                </a:lnTo>
                <a:lnTo>
                  <a:pt x="8" y="1018"/>
                </a:lnTo>
                <a:lnTo>
                  <a:pt x="0" y="1010"/>
                </a:lnTo>
                <a:lnTo>
                  <a:pt x="728" y="0"/>
                </a:lnTo>
                <a:lnTo>
                  <a:pt x="960" y="0"/>
                </a:lnTo>
                <a:lnTo>
                  <a:pt x="1344" y="552"/>
                </a:lnTo>
                <a:cubicBezTo>
                  <a:pt x="1291" y="630"/>
                  <a:pt x="1164" y="525"/>
                  <a:pt x="1112" y="544"/>
                </a:cubicBezTo>
                <a:cubicBezTo>
                  <a:pt x="1060" y="563"/>
                  <a:pt x="1079" y="651"/>
                  <a:pt x="1032" y="664"/>
                </a:cubicBezTo>
                <a:cubicBezTo>
                  <a:pt x="985" y="677"/>
                  <a:pt x="889" y="600"/>
                  <a:pt x="832" y="624"/>
                </a:cubicBezTo>
                <a:cubicBezTo>
                  <a:pt x="775" y="648"/>
                  <a:pt x="792" y="720"/>
                  <a:pt x="688" y="808"/>
                </a:cubicBez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52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 Top-Down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24382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 Bottom-Up Par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8320" y="2590920"/>
            <a:ext cx="0" cy="403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556272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wards the inpu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556272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om the input string toward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29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2133720" y="373392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66680" y="5029200"/>
            <a:ext cx="266724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3124080"/>
            <a:ext cx="380880" cy="38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86600" y="3505320"/>
            <a:ext cx="63324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562720" y="4114800"/>
            <a:ext cx="2666880" cy="1008000"/>
          </a:xfrm>
          <a:custGeom>
            <a:avLst/>
            <a:gdLst/>
            <a:ahLst/>
            <a:rect l="l" t="t" r="r" b="b"/>
            <a:pathLst>
              <a:path w="6403" h="2378">
                <a:moveTo>
                  <a:pt x="1376" y="552"/>
                </a:moveTo>
                <a:lnTo>
                  <a:pt x="1472" y="744"/>
                </a:lnTo>
                <a:cubicBezTo>
                  <a:pt x="1795" y="974"/>
                  <a:pt x="2253" y="758"/>
                  <a:pt x="2401" y="424"/>
                </a:cubicBezTo>
                <a:cubicBezTo>
                  <a:pt x="2590" y="0"/>
                  <a:pt x="3255" y="106"/>
                  <a:pt x="3361" y="488"/>
                </a:cubicBezTo>
                <a:cubicBezTo>
                  <a:pt x="3473" y="892"/>
                  <a:pt x="4136" y="1068"/>
                  <a:pt x="4225" y="584"/>
                </a:cubicBezTo>
                <a:cubicBezTo>
                  <a:pt x="4323" y="48"/>
                  <a:pt x="4873" y="281"/>
                  <a:pt x="5089" y="488"/>
                </a:cubicBezTo>
                <a:lnTo>
                  <a:pt x="6402" y="2377"/>
                </a:lnTo>
                <a:lnTo>
                  <a:pt x="5121" y="488"/>
                </a:lnTo>
                <a:lnTo>
                  <a:pt x="6338" y="2345"/>
                </a:lnTo>
                <a:lnTo>
                  <a:pt x="32" y="2345"/>
                </a:lnTo>
                <a:lnTo>
                  <a:pt x="1376" y="520"/>
                </a:lnTo>
                <a:lnTo>
                  <a:pt x="0" y="2313"/>
                </a:lnTo>
                <a:lnTo>
                  <a:pt x="1376" y="552"/>
                </a:lnTo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6294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095880" y="3505320"/>
            <a:ext cx="633600" cy="88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629400" y="4572000"/>
            <a:ext cx="60948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2720" y="5105520"/>
            <a:ext cx="26668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rt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nontermi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bers of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291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6483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572000"/>
            <a:ext cx="77724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subset of rules of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simp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1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bottom-u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6880" y="1549440"/>
            <a:ext cx="8013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ules that copy the inpu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to the pushdow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219320" y="2286000"/>
            <a:ext cx="3963960" cy="533160"/>
            <a:chOff x="1219320" y="2286000"/>
            <a:chExt cx="3963960" cy="533160"/>
          </a:xfrm>
        </p:grpSpPr>
        <p:sp>
          <p:nvSpPr>
            <p:cNvPr id="1164" name=""/>
            <p:cNvSpPr/>
            <p:nvPr/>
          </p:nvSpPr>
          <p:spPr>
            <a:xfrm>
              <a:off x="3276720" y="23619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66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09880" y="236196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70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72428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70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2428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19320" y="23619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65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3720" y="23619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33720" y="26668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5334120" y="2438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685800" y="2895480"/>
            <a:ext cx="3963960" cy="838080"/>
            <a:chOff x="685800" y="2895480"/>
            <a:chExt cx="3963960" cy="838080"/>
          </a:xfrm>
        </p:grpSpPr>
        <p:sp>
          <p:nvSpPr>
            <p:cNvPr id="1179" name=""/>
            <p:cNvSpPr/>
            <p:nvPr/>
          </p:nvSpPr>
          <p:spPr>
            <a:xfrm>
              <a:off x="2057400" y="327636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6880" y="32004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7672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112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339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9112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800" y="327636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600200" y="32763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30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00200" y="3581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3720" y="2895480"/>
              <a:ext cx="1676160" cy="304920"/>
            </a:xfrm>
            <a:prstGeom prst="parallelogram">
              <a:avLst>
                <a:gd name="adj" fmla="val 174913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66880" y="289548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609480" y="3809880"/>
            <a:ext cx="7848720" cy="2209680"/>
            <a:chOff x="609480" y="3809880"/>
            <a:chExt cx="7848720" cy="2209680"/>
          </a:xfrm>
        </p:grpSpPr>
        <p:sp>
          <p:nvSpPr>
            <p:cNvPr id="1194" name=""/>
            <p:cNvSpPr/>
            <p:nvPr/>
          </p:nvSpPr>
          <p:spPr>
            <a:xfrm>
              <a:off x="609480" y="3809880"/>
              <a:ext cx="777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reduct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 in reverse: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85800" y="38098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09480" y="5486040"/>
              <a:ext cx="3430800" cy="533520"/>
              <a:chOff x="609480" y="5486040"/>
              <a:chExt cx="3430800" cy="533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2057400" y="548604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666880" y="55623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1240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5812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1240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12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9480" y="5562360"/>
                <a:ext cx="137340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666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23880" y="556236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0666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523880" y="58672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609480" y="4572000"/>
            <a:ext cx="3430800" cy="914400"/>
            <a:chOff x="609480" y="4572000"/>
            <a:chExt cx="3430800" cy="914400"/>
          </a:xfrm>
        </p:grpSpPr>
        <p:sp>
          <p:nvSpPr>
            <p:cNvPr id="1209" name=""/>
            <p:cNvSpPr/>
            <p:nvPr/>
          </p:nvSpPr>
          <p:spPr>
            <a:xfrm>
              <a:off x="14479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9480" y="5181840"/>
              <a:ext cx="1981440" cy="30456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5740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668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24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812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124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1600200" y="518184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09480" y="6051600"/>
            <a:ext cx="8229600" cy="806760"/>
            <a:chOff x="609480" y="6051600"/>
            <a:chExt cx="8229600" cy="806760"/>
          </a:xfrm>
        </p:grpSpPr>
        <p:sp>
          <p:nvSpPr>
            <p:cNvPr id="1219" name=""/>
            <p:cNvSpPr/>
            <p:nvPr/>
          </p:nvSpPr>
          <p:spPr>
            <a:xfrm>
              <a:off x="609480" y="605160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lso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e rule </a:t>
              </a:r>
              <a:r>
                <a:rPr b="1" lang="en-US" sz="26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26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26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hat takes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al state  </a:t>
              </a:r>
              <a:r>
                <a:rPr b="1" i="1" lang="en-US" sz="26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480" y="609588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943600" y="2590920"/>
            <a:ext cx="2666880" cy="2666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9588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019920" y="3048120"/>
            <a:ext cx="2070000" cy="1689120"/>
            <a:chOff x="6019920" y="3048120"/>
            <a:chExt cx="2070000" cy="1689120"/>
          </a:xfrm>
        </p:grpSpPr>
        <p:sp>
          <p:nvSpPr>
            <p:cNvPr id="1225" name=""/>
            <p:cNvSpPr/>
            <p:nvPr/>
          </p:nvSpPr>
          <p:spPr>
            <a:xfrm>
              <a:off x="6019920" y="3429000"/>
              <a:ext cx="2070000" cy="1308240"/>
            </a:xfrm>
            <a:custGeom>
              <a:avLst/>
              <a:gdLst/>
              <a:ahLst/>
              <a:rect l="l" t="t" r="r" b="b"/>
              <a:pathLst>
                <a:path w="1304" h="824">
                  <a:moveTo>
                    <a:pt x="0" y="824"/>
                  </a:moveTo>
                  <a:lnTo>
                    <a:pt x="1304" y="824"/>
                  </a:lnTo>
                  <a:lnTo>
                    <a:pt x="1304" y="200"/>
                  </a:lnTo>
                  <a:lnTo>
                    <a:pt x="928" y="0"/>
                  </a:lnTo>
                  <a:lnTo>
                    <a:pt x="680" y="0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86600" y="304812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228600" y="2057400"/>
            <a:ext cx="457200" cy="4038480"/>
          </a:xfrm>
          <a:prstGeom prst="upArrow">
            <a:avLst>
              <a:gd name="adj1" fmla="val 41667"/>
              <a:gd name="adj2" fmla="val 81501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EPDAs as Models of Bottom-Up Parsers 2/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788000" y="1562040"/>
            <a:ext cx="3504960" cy="1143000"/>
            <a:chOff x="4788000" y="1562040"/>
            <a:chExt cx="3504960" cy="1143000"/>
          </a:xfrm>
        </p:grpSpPr>
        <p:sp>
          <p:nvSpPr>
            <p:cNvPr id="1230" name=""/>
            <p:cNvSpPr/>
            <p:nvPr/>
          </p:nvSpPr>
          <p:spPr>
            <a:xfrm>
              <a:off x="4940280" y="187956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Times New Roman"/>
                </a:rPr>
                <a:t>#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r>
                <a:rPr b="1" i="1" lang="en-US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88000" y="1562040"/>
              <a:ext cx="152280" cy="11430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6019920" y="4724280"/>
            <a:ext cx="838080" cy="366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0" y="4724280"/>
            <a:ext cx="838080" cy="366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96080" y="4724280"/>
            <a:ext cx="838440" cy="3661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6095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0" y="3733920"/>
            <a:ext cx="851040" cy="990360"/>
            <a:chOff x="6858000" y="3733920"/>
            <a:chExt cx="851040" cy="990360"/>
          </a:xfrm>
        </p:grpSpPr>
        <p:sp>
          <p:nvSpPr>
            <p:cNvPr id="1237" name=""/>
            <p:cNvSpPr/>
            <p:nvPr/>
          </p:nvSpPr>
          <p:spPr>
            <a:xfrm>
              <a:off x="7315200" y="373392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5800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7696080" y="3733920"/>
            <a:ext cx="851040" cy="990360"/>
            <a:chOff x="7696080" y="3733920"/>
            <a:chExt cx="851040" cy="990360"/>
          </a:xfrm>
        </p:grpSpPr>
        <p:sp>
          <p:nvSpPr>
            <p:cNvPr id="1240" name=""/>
            <p:cNvSpPr/>
            <p:nvPr/>
          </p:nvSpPr>
          <p:spPr>
            <a:xfrm>
              <a:off x="7696080" y="373392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7696080" y="414036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733920" y="6338880"/>
            <a:ext cx="4343400" cy="520560"/>
            <a:chOff x="3733920" y="6338880"/>
            <a:chExt cx="4343400" cy="520560"/>
          </a:xfrm>
        </p:grpSpPr>
        <p:grpSp>
          <p:nvGrpSpPr>
            <p:cNvPr id="1243" name=""/>
            <p:cNvGrpSpPr/>
            <p:nvPr/>
          </p:nvGrpSpPr>
          <p:grpSpPr>
            <a:xfrm>
              <a:off x="3733920" y="6338880"/>
              <a:ext cx="380880" cy="520560"/>
              <a:chOff x="3733920" y="6338880"/>
              <a:chExt cx="380880" cy="520560"/>
            </a:xfrm>
          </p:grpSpPr>
          <p:sp>
            <p:nvSpPr>
              <p:cNvPr id="1244" name=""/>
              <p:cNvSpPr/>
              <p:nvPr/>
            </p:nvSpPr>
            <p:spPr>
              <a:xfrm>
                <a:off x="3733920" y="64152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7339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4191120" y="6338880"/>
              <a:ext cx="431280" cy="520560"/>
              <a:chOff x="4191120" y="6338880"/>
              <a:chExt cx="431280" cy="520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4191120" y="64278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41520" y="6338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648320" y="6338880"/>
              <a:ext cx="1142280" cy="520560"/>
              <a:chOff x="4648320" y="6338880"/>
              <a:chExt cx="1142280" cy="52056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648320" y="6338880"/>
                <a:ext cx="1142280" cy="520560"/>
                <a:chOff x="4648320" y="6338880"/>
                <a:chExt cx="1142280" cy="520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4648320" y="641520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648320" y="6338880"/>
                  <a:ext cx="1142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410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0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029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029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5791320" y="6338880"/>
              <a:ext cx="1143000" cy="520560"/>
              <a:chOff x="5791320" y="6338880"/>
              <a:chExt cx="1143000" cy="520560"/>
            </a:xfrm>
          </p:grpSpPr>
          <p:sp>
            <p:nvSpPr>
              <p:cNvPr id="1258" name=""/>
              <p:cNvSpPr/>
              <p:nvPr/>
            </p:nvSpPr>
            <p:spPr>
              <a:xfrm>
                <a:off x="5791320" y="641484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791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53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53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172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172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34320" y="6338880"/>
              <a:ext cx="1143000" cy="520560"/>
              <a:chOff x="6934320" y="6338880"/>
              <a:chExt cx="1143000" cy="520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6934320" y="641484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34320" y="633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9644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9644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315560" y="64148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315560" y="664344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2590920" y="5638680"/>
            <a:ext cx="4343400" cy="761760"/>
            <a:chOff x="2590920" y="5638680"/>
            <a:chExt cx="4343400" cy="761760"/>
          </a:xfrm>
        </p:grpSpPr>
        <p:sp>
          <p:nvSpPr>
            <p:cNvPr id="1272" name=""/>
            <p:cNvSpPr/>
            <p:nvPr/>
          </p:nvSpPr>
          <p:spPr>
            <a:xfrm flipV="1">
              <a:off x="4114800" y="6095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2590920" y="5638680"/>
              <a:ext cx="4343400" cy="520560"/>
              <a:chOff x="2590920" y="5638680"/>
              <a:chExt cx="4343400" cy="52056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2590920" y="5638680"/>
                <a:ext cx="380880" cy="520560"/>
                <a:chOff x="2590920" y="5638680"/>
                <a:chExt cx="380880" cy="5205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590920" y="5715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5909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191120" y="5638680"/>
                <a:ext cx="431280" cy="520560"/>
                <a:chOff x="4191120" y="5638680"/>
                <a:chExt cx="431280" cy="52056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4191120" y="5727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241520" y="5638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2971800" y="5638680"/>
                <a:ext cx="1142280" cy="520560"/>
                <a:chOff x="2971800" y="5638680"/>
                <a:chExt cx="1142280" cy="520560"/>
              </a:xfrm>
            </p:grpSpPr>
            <p:grpSp>
              <p:nvGrpSpPr>
                <p:cNvPr id="1281" name=""/>
                <p:cNvGrpSpPr/>
                <p:nvPr/>
              </p:nvGrpSpPr>
              <p:grpSpPr>
                <a:xfrm>
                  <a:off x="2971800" y="5638680"/>
                  <a:ext cx="1142280" cy="520560"/>
                  <a:chOff x="2971800" y="5638680"/>
                  <a:chExt cx="1142280" cy="520560"/>
                </a:xfrm>
              </p:grpSpPr>
              <p:sp>
                <p:nvSpPr>
                  <p:cNvPr id="1282" name=""/>
                  <p:cNvSpPr/>
                  <p:nvPr/>
                </p:nvSpPr>
                <p:spPr>
                  <a:xfrm>
                    <a:off x="2971800" y="57150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971800" y="56386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>
                  <a:off x="373392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73392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530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33530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648320" y="5638680"/>
                <a:ext cx="1143000" cy="520560"/>
                <a:chOff x="4648320" y="5638680"/>
                <a:chExt cx="1143000" cy="52056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648320" y="57146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648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410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410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029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029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5791320" y="5638680"/>
                <a:ext cx="1143000" cy="520560"/>
                <a:chOff x="5791320" y="5638680"/>
                <a:chExt cx="1143000" cy="52056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5791320" y="57146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91320" y="56386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55344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5344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172560" y="5714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172560" y="5943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2" name=""/>
          <p:cNvGrpSpPr/>
          <p:nvPr/>
        </p:nvGrpSpPr>
        <p:grpSpPr>
          <a:xfrm>
            <a:off x="1447920" y="4952880"/>
            <a:ext cx="4343400" cy="761760"/>
            <a:chOff x="1447920" y="4952880"/>
            <a:chExt cx="4343400" cy="761760"/>
          </a:xfrm>
        </p:grpSpPr>
        <p:sp>
          <p:nvSpPr>
            <p:cNvPr id="1303" name=""/>
            <p:cNvSpPr/>
            <p:nvPr/>
          </p:nvSpPr>
          <p:spPr>
            <a:xfrm flipV="1">
              <a:off x="4114800" y="54093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1447920" y="4952880"/>
              <a:ext cx="4343400" cy="520560"/>
              <a:chOff x="1447920" y="4952880"/>
              <a:chExt cx="4343400" cy="52056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447920" y="4952880"/>
                <a:ext cx="380880" cy="520560"/>
                <a:chOff x="1447920" y="4952880"/>
                <a:chExt cx="380880" cy="520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447920" y="50292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4479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191120" y="4952880"/>
                <a:ext cx="431280" cy="520560"/>
                <a:chOff x="4191120" y="4952880"/>
                <a:chExt cx="431280" cy="520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191120" y="50418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41520" y="49528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1828800" y="4952880"/>
                <a:ext cx="1142280" cy="520560"/>
                <a:chOff x="1828800" y="4952880"/>
                <a:chExt cx="1142280" cy="520560"/>
              </a:xfrm>
            </p:grpSpPr>
            <p:grpSp>
              <p:nvGrpSpPr>
                <p:cNvPr id="1312" name=""/>
                <p:cNvGrpSpPr/>
                <p:nvPr/>
              </p:nvGrpSpPr>
              <p:grpSpPr>
                <a:xfrm>
                  <a:off x="1828800" y="4952880"/>
                  <a:ext cx="1142280" cy="520560"/>
                  <a:chOff x="1828800" y="4952880"/>
                  <a:chExt cx="1142280" cy="52056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>
                    <a:off x="1828800" y="50292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828800" y="49528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5" name=""/>
                <p:cNvSpPr/>
                <p:nvPr/>
              </p:nvSpPr>
              <p:spPr>
                <a:xfrm>
                  <a:off x="2590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90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210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10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2971800" y="4952880"/>
                <a:ext cx="1143000" cy="520560"/>
                <a:chOff x="2971800" y="4952880"/>
                <a:chExt cx="1143000" cy="5205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2971800" y="5028840"/>
                  <a:ext cx="1143000" cy="38124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97180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73392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3392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3530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3530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648320" y="4952880"/>
                <a:ext cx="1143000" cy="520560"/>
                <a:chOff x="4648320" y="4952880"/>
                <a:chExt cx="1143000" cy="520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4648320" y="50288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648320" y="49528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41044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41044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29560" y="5028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029560" y="5257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3" name=""/>
          <p:cNvGrpSpPr/>
          <p:nvPr/>
        </p:nvGrpSpPr>
        <p:grpSpPr>
          <a:xfrm>
            <a:off x="2209680" y="4267080"/>
            <a:ext cx="3581640" cy="736560"/>
            <a:chOff x="2209680" y="4267080"/>
            <a:chExt cx="3581640" cy="736560"/>
          </a:xfrm>
        </p:grpSpPr>
        <p:sp>
          <p:nvSpPr>
            <p:cNvPr id="1334" name=""/>
            <p:cNvSpPr/>
            <p:nvPr/>
          </p:nvSpPr>
          <p:spPr>
            <a:xfrm flipV="1">
              <a:off x="4114800" y="4724280"/>
              <a:ext cx="533520" cy="2793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2209680" y="4267080"/>
              <a:ext cx="3581640" cy="520560"/>
              <a:chOff x="2209680" y="4267080"/>
              <a:chExt cx="3581640" cy="520560"/>
            </a:xfrm>
          </p:grpSpPr>
          <p:grpSp>
            <p:nvGrpSpPr>
              <p:cNvPr id="1336" name=""/>
              <p:cNvGrpSpPr/>
              <p:nvPr/>
            </p:nvGrpSpPr>
            <p:grpSpPr>
              <a:xfrm>
                <a:off x="3733920" y="4267080"/>
                <a:ext cx="380880" cy="520560"/>
                <a:chOff x="3733920" y="4267080"/>
                <a:chExt cx="380880" cy="52056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3733920" y="43434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7339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2209680" y="4267080"/>
                <a:ext cx="381240" cy="520560"/>
                <a:chOff x="2209680" y="4267080"/>
                <a:chExt cx="381240" cy="52056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2209680" y="43434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209680" y="42670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4191120" y="4267080"/>
                <a:ext cx="431280" cy="520560"/>
                <a:chOff x="4191120" y="4267080"/>
                <a:chExt cx="431280" cy="52056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4191120" y="43560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41520" y="42670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2590920" y="4267080"/>
                <a:ext cx="1142280" cy="520560"/>
                <a:chOff x="2590920" y="4267080"/>
                <a:chExt cx="1142280" cy="520560"/>
              </a:xfrm>
            </p:grpSpPr>
            <p:grpSp>
              <p:nvGrpSpPr>
                <p:cNvPr id="1346" name=""/>
                <p:cNvGrpSpPr/>
                <p:nvPr/>
              </p:nvGrpSpPr>
              <p:grpSpPr>
                <a:xfrm>
                  <a:off x="2590920" y="4267080"/>
                  <a:ext cx="1142280" cy="520560"/>
                  <a:chOff x="2590920" y="4267080"/>
                  <a:chExt cx="1142280" cy="520560"/>
                </a:xfrm>
              </p:grpSpPr>
              <p:sp>
                <p:nvSpPr>
                  <p:cNvPr id="1347" name=""/>
                  <p:cNvSpPr/>
                  <p:nvPr/>
                </p:nvSpPr>
                <p:spPr>
                  <a:xfrm>
                    <a:off x="2590920" y="43434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2590920" y="42670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9" name=""/>
                <p:cNvSpPr/>
                <p:nvPr/>
              </p:nvSpPr>
              <p:spPr>
                <a:xfrm>
                  <a:off x="33530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33530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9721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9721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4648320" y="4267080"/>
                <a:ext cx="1143000" cy="520560"/>
                <a:chOff x="4648320" y="4267080"/>
                <a:chExt cx="1143000" cy="520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4648320" y="43430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48320" y="42670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044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41044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5029560" y="4343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29560" y="45716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0" name=""/>
          <p:cNvGrpSpPr/>
          <p:nvPr/>
        </p:nvGrpSpPr>
        <p:grpSpPr>
          <a:xfrm>
            <a:off x="3352680" y="1523880"/>
            <a:ext cx="1371600" cy="762120"/>
            <a:chOff x="3352680" y="1523880"/>
            <a:chExt cx="1371600" cy="762120"/>
          </a:xfrm>
        </p:grpSpPr>
        <p:sp>
          <p:nvSpPr>
            <p:cNvPr id="1361" name=""/>
            <p:cNvSpPr/>
            <p:nvPr/>
          </p:nvSpPr>
          <p:spPr>
            <a:xfrm>
              <a:off x="3352680" y="1981080"/>
              <a:ext cx="1295640" cy="304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lnTo>
                    <a:pt x="768" y="144"/>
                  </a:lnTo>
                  <a:lnTo>
                    <a:pt x="768" y="0"/>
                  </a:lnTo>
                  <a:lnTo>
                    <a:pt x="56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4038480" y="1523880"/>
              <a:ext cx="685800" cy="489960"/>
              <a:chOff x="4038480" y="1523880"/>
              <a:chExt cx="685800" cy="48996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4190760" y="1523880"/>
                <a:ext cx="431640" cy="489960"/>
                <a:chOff x="4190760" y="1523880"/>
                <a:chExt cx="431640" cy="48996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190760" y="1625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241520" y="152388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600" spc="-1" strike="noStrike">
                      <a:solidFill>
                        <a:srgbClr val="ff66ff"/>
                      </a:solidFill>
                      <a:latin typeface="Times New Roman"/>
                    </a:rPr>
                    <a:t>f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4038480" y="16002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647960" y="1600200"/>
                <a:ext cx="7632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 flipV="1">
              <a:off x="4191120" y="1980360"/>
              <a:ext cx="38088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2057400" y="6477120"/>
            <a:ext cx="1676520" cy="152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8288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28800" y="2590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1828800" y="2895480"/>
            <a:ext cx="2895480" cy="761760"/>
            <a:chOff x="1828800" y="2895480"/>
            <a:chExt cx="2895480" cy="761760"/>
          </a:xfrm>
        </p:grpSpPr>
        <p:sp>
          <p:nvSpPr>
            <p:cNvPr id="1374" name=""/>
            <p:cNvSpPr/>
            <p:nvPr/>
          </p:nvSpPr>
          <p:spPr>
            <a:xfrm flipV="1">
              <a:off x="4114800" y="33519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1828800" y="2895480"/>
              <a:ext cx="2895480" cy="520560"/>
              <a:chOff x="1828800" y="2895480"/>
              <a:chExt cx="2895480" cy="520560"/>
            </a:xfrm>
          </p:grpSpPr>
          <p:grpSp>
            <p:nvGrpSpPr>
              <p:cNvPr id="1376" name=""/>
              <p:cNvGrpSpPr/>
              <p:nvPr/>
            </p:nvGrpSpPr>
            <p:grpSpPr>
              <a:xfrm>
                <a:off x="3733920" y="2895480"/>
                <a:ext cx="380880" cy="520560"/>
                <a:chOff x="3733920" y="2895480"/>
                <a:chExt cx="380880" cy="5205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733920" y="2971800"/>
                  <a:ext cx="38088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7339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3352680" y="2895480"/>
                <a:ext cx="380880" cy="520560"/>
                <a:chOff x="3352680" y="2895480"/>
                <a:chExt cx="380880" cy="5205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352680" y="29718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35268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828800" y="2895480"/>
                <a:ext cx="380880" cy="520560"/>
                <a:chOff x="1828800" y="2895480"/>
                <a:chExt cx="380880" cy="5205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28800" y="29718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82880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4191120" y="2895480"/>
                <a:ext cx="431280" cy="520560"/>
                <a:chOff x="4191120" y="2895480"/>
                <a:chExt cx="431280" cy="5205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4191120" y="29844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41520" y="28954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2209680" y="2895480"/>
                <a:ext cx="1142280" cy="520560"/>
                <a:chOff x="2209680" y="2895480"/>
                <a:chExt cx="1142280" cy="52056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2209680" y="2895480"/>
                  <a:ext cx="1142280" cy="520560"/>
                  <a:chOff x="2209680" y="2895480"/>
                  <a:chExt cx="1142280" cy="52056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2209680" y="29718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209680" y="28954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297180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97180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590920" y="29714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590920" y="32000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648320" y="29718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1066680" y="3581280"/>
            <a:ext cx="3657600" cy="761760"/>
            <a:chOff x="1066680" y="3581280"/>
            <a:chExt cx="3657600" cy="761760"/>
          </a:xfrm>
        </p:grpSpPr>
        <p:sp>
          <p:nvSpPr>
            <p:cNvPr id="1398" name=""/>
            <p:cNvSpPr/>
            <p:nvPr/>
          </p:nvSpPr>
          <p:spPr>
            <a:xfrm flipV="1">
              <a:off x="4114800" y="40377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066680" y="3581280"/>
              <a:ext cx="3657600" cy="520560"/>
              <a:chOff x="1066680" y="3581280"/>
              <a:chExt cx="3657600" cy="520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2590920" y="3581280"/>
                <a:ext cx="380880" cy="520560"/>
                <a:chOff x="2590920" y="3581280"/>
                <a:chExt cx="380880" cy="5205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590920" y="3657600"/>
                  <a:ext cx="38088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5909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1066680" y="3581280"/>
                <a:ext cx="381240" cy="520560"/>
                <a:chOff x="1066680" y="3581280"/>
                <a:chExt cx="381240" cy="52056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1066680" y="36576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66680" y="35812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4191120" y="3581280"/>
                <a:ext cx="431280" cy="520560"/>
                <a:chOff x="4191120" y="3581280"/>
                <a:chExt cx="431280" cy="52056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4191120" y="36702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241520" y="35812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1447920" y="3581280"/>
                <a:ext cx="1142280" cy="520560"/>
                <a:chOff x="1447920" y="3581280"/>
                <a:chExt cx="1142280" cy="52056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1447920" y="3581280"/>
                  <a:ext cx="1142280" cy="520560"/>
                  <a:chOff x="1447920" y="3581280"/>
                  <a:chExt cx="1142280" cy="520560"/>
                </a:xfrm>
              </p:grpSpPr>
              <p:sp>
                <p:nvSpPr>
                  <p:cNvPr id="1411" name=""/>
                  <p:cNvSpPr/>
                  <p:nvPr/>
                </p:nvSpPr>
                <p:spPr>
                  <a:xfrm>
                    <a:off x="1447920" y="3657600"/>
                    <a:ext cx="1142280" cy="38088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1447920" y="3581280"/>
                    <a:ext cx="1142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x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3" name=""/>
                <p:cNvSpPr/>
                <p:nvPr/>
              </p:nvSpPr>
              <p:spPr>
                <a:xfrm>
                  <a:off x="2210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10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82916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82916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71800" y="3581280"/>
                <a:ext cx="1143000" cy="520560"/>
                <a:chOff x="2971800" y="3581280"/>
                <a:chExt cx="1143000" cy="520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71800" y="365724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71800" y="3581280"/>
                  <a:ext cx="1143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73392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73392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353040" y="36572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3353040" y="388584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4648320" y="36576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5" name=""/>
          <p:cNvGrpSpPr/>
          <p:nvPr/>
        </p:nvGrpSpPr>
        <p:grpSpPr>
          <a:xfrm>
            <a:off x="3352680" y="2209680"/>
            <a:ext cx="1371600" cy="761760"/>
            <a:chOff x="3352680" y="2209680"/>
            <a:chExt cx="1371600" cy="761760"/>
          </a:xfrm>
        </p:grpSpPr>
        <p:sp>
          <p:nvSpPr>
            <p:cNvPr id="1426" name=""/>
            <p:cNvSpPr/>
            <p:nvPr/>
          </p:nvSpPr>
          <p:spPr>
            <a:xfrm flipV="1">
              <a:off x="4114800" y="2666160"/>
              <a:ext cx="53352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52680" y="2209680"/>
              <a:ext cx="1371600" cy="520560"/>
              <a:chOff x="3352680" y="2209680"/>
              <a:chExt cx="1371600" cy="52056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3733920" y="2209680"/>
                <a:ext cx="380880" cy="520560"/>
                <a:chOff x="3733920" y="2209680"/>
                <a:chExt cx="380880" cy="5205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3733920" y="2286000"/>
                  <a:ext cx="3808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7339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3352680" y="2209680"/>
                <a:ext cx="381240" cy="520560"/>
                <a:chOff x="3352680" y="2209680"/>
                <a:chExt cx="381240" cy="5205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3352680" y="2286000"/>
                  <a:ext cx="38124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352680" y="220968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9933"/>
                      </a:solidFill>
                      <a:latin typeface="Times New Roman"/>
                    </a:rPr>
                    <a:t>#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4191120" y="2209680"/>
                <a:ext cx="431280" cy="520560"/>
                <a:chOff x="4191120" y="2209680"/>
                <a:chExt cx="431280" cy="5205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4191120" y="229860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4241520" y="2209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4648320" y="2286000"/>
                <a:ext cx="7596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8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ottom-up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E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1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2120" y="213372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E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1148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3276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9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5280" y="39625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52480" y="44956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432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4800" y="4724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867280" y="47242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46748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4114800" y="4343040"/>
            <a:ext cx="1219320" cy="533520"/>
            <a:chOff x="4114800" y="4343040"/>
            <a:chExt cx="1219320" cy="533520"/>
          </a:xfrm>
        </p:grpSpPr>
        <p:sp>
          <p:nvSpPr>
            <p:cNvPr id="1463" name=""/>
            <p:cNvSpPr/>
            <p:nvPr/>
          </p:nvSpPr>
          <p:spPr>
            <a:xfrm rot="16200000">
              <a:off x="41911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6200000">
              <a:off x="5029200" y="41904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67080" y="449568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4419360" y="4495680"/>
              <a:ext cx="6858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6172200" y="39625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6095880" y="4343040"/>
            <a:ext cx="1143000" cy="533520"/>
            <a:chOff x="6095880" y="4343040"/>
            <a:chExt cx="1143000" cy="533520"/>
          </a:xfrm>
        </p:grpSpPr>
        <p:sp>
          <p:nvSpPr>
            <p:cNvPr id="1469" name=""/>
            <p:cNvSpPr/>
            <p:nvPr/>
          </p:nvSpPr>
          <p:spPr>
            <a:xfrm rot="16200000">
              <a:off x="6248520" y="42667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6200000">
              <a:off x="7010280" y="42667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324480" y="4495680"/>
              <a:ext cx="609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6095880" y="4495680"/>
              <a:ext cx="9907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2743200" y="39625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200400" y="44956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1447920" y="5181120"/>
            <a:ext cx="5790600" cy="612360"/>
            <a:chOff x="1447920" y="5181120"/>
            <a:chExt cx="5790600" cy="612360"/>
          </a:xfrm>
        </p:grpSpPr>
        <p:sp>
          <p:nvSpPr>
            <p:cNvPr id="1476" name=""/>
            <p:cNvSpPr/>
            <p:nvPr/>
          </p:nvSpPr>
          <p:spPr>
            <a:xfrm rot="16200000">
              <a:off x="2662920" y="3966120"/>
              <a:ext cx="152280" cy="2582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67320 h 2582280"/>
                <a:gd name="textAreaBottom" fmla="*/ 2514960 h 258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6200000">
              <a:off x="5675400" y="3770280"/>
              <a:ext cx="152280" cy="29736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7400 h 2973600"/>
                <a:gd name="textAreaBottom" fmla="*/ 2896200 h 297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60400" y="5333760"/>
              <a:ext cx="21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ift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34720" y="5333760"/>
              <a:ext cx="21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duc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/>
          <p:nvPr/>
        </p:nvSpPr>
        <p:spPr>
          <a:xfrm>
            <a:off x="60948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From CFG to EPDA: Example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57200" y="25146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88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1600200" y="3048120"/>
            <a:ext cx="2438280" cy="558360"/>
            <a:chOff x="1600200" y="3048120"/>
            <a:chExt cx="2438280" cy="558360"/>
          </a:xfrm>
        </p:grpSpPr>
        <p:grpSp>
          <p:nvGrpSpPr>
            <p:cNvPr id="1487" name=""/>
            <p:cNvGrpSpPr/>
            <p:nvPr/>
          </p:nvGrpSpPr>
          <p:grpSpPr>
            <a:xfrm>
              <a:off x="1600200" y="3085920"/>
              <a:ext cx="380880" cy="520560"/>
              <a:chOff x="1600200" y="3085920"/>
              <a:chExt cx="380880" cy="520560"/>
            </a:xfrm>
          </p:grpSpPr>
          <p:sp>
            <p:nvSpPr>
              <p:cNvPr id="1488" name=""/>
              <p:cNvSpPr/>
              <p:nvPr/>
            </p:nvSpPr>
            <p:spPr>
              <a:xfrm>
                <a:off x="16002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002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057400" y="3048120"/>
              <a:ext cx="431280" cy="520560"/>
              <a:chOff x="2057400" y="3048120"/>
              <a:chExt cx="431280" cy="520560"/>
            </a:xfrm>
          </p:grpSpPr>
          <p:sp>
            <p:nvSpPr>
              <p:cNvPr id="1491" name=""/>
              <p:cNvSpPr/>
              <p:nvPr/>
            </p:nvSpPr>
            <p:spPr>
              <a:xfrm>
                <a:off x="2057400" y="3136680"/>
                <a:ext cx="380880" cy="380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1078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3276720" y="3085920"/>
              <a:ext cx="380880" cy="520560"/>
              <a:chOff x="3276720" y="3085920"/>
              <a:chExt cx="380880" cy="520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327672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27672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895480" y="3085920"/>
              <a:ext cx="381240" cy="520560"/>
              <a:chOff x="2895480" y="3085920"/>
              <a:chExt cx="381240" cy="520560"/>
            </a:xfrm>
          </p:grpSpPr>
          <p:sp>
            <p:nvSpPr>
              <p:cNvPr id="1497" name=""/>
              <p:cNvSpPr/>
              <p:nvPr/>
            </p:nvSpPr>
            <p:spPr>
              <a:xfrm>
                <a:off x="2895480" y="316188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895480" y="3085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514600" y="3085920"/>
              <a:ext cx="380880" cy="520560"/>
              <a:chOff x="2514600" y="3085920"/>
              <a:chExt cx="380880" cy="520560"/>
            </a:xfrm>
          </p:grpSpPr>
          <p:sp>
            <p:nvSpPr>
              <p:cNvPr id="1500" name=""/>
              <p:cNvSpPr/>
              <p:nvPr/>
            </p:nvSpPr>
            <p:spPr>
              <a:xfrm>
                <a:off x="2514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514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3657600" y="3085920"/>
              <a:ext cx="380880" cy="520560"/>
              <a:chOff x="3657600" y="3085920"/>
              <a:chExt cx="380880" cy="520560"/>
            </a:xfrm>
          </p:grpSpPr>
          <p:sp>
            <p:nvSpPr>
              <p:cNvPr id="1503" name=""/>
              <p:cNvSpPr/>
              <p:nvPr/>
            </p:nvSpPr>
            <p:spPr>
              <a:xfrm>
                <a:off x="3657600" y="316188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57600" y="3085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5" name=""/>
          <p:cNvGrpSpPr/>
          <p:nvPr/>
        </p:nvGrpSpPr>
        <p:grpSpPr>
          <a:xfrm>
            <a:off x="6400800" y="5791320"/>
            <a:ext cx="685800" cy="489960"/>
            <a:chOff x="6400800" y="5791320"/>
            <a:chExt cx="685800" cy="489960"/>
          </a:xfrm>
        </p:grpSpPr>
        <p:grpSp>
          <p:nvGrpSpPr>
            <p:cNvPr id="1506" name=""/>
            <p:cNvGrpSpPr/>
            <p:nvPr/>
          </p:nvGrpSpPr>
          <p:grpSpPr>
            <a:xfrm>
              <a:off x="6553080" y="5791320"/>
              <a:ext cx="431640" cy="489960"/>
              <a:chOff x="6553080" y="5791320"/>
              <a:chExt cx="431640" cy="489960"/>
            </a:xfrm>
          </p:grpSpPr>
          <p:sp>
            <p:nvSpPr>
              <p:cNvPr id="1507" name=""/>
              <p:cNvSpPr/>
              <p:nvPr/>
            </p:nvSpPr>
            <p:spPr>
              <a:xfrm>
                <a:off x="6553080" y="5892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03840" y="5791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600" spc="-1" strike="noStrike">
                    <a:solidFill>
                      <a:srgbClr val="ff66ff"/>
                    </a:solidFill>
                    <a:latin typeface="Times New Roman"/>
                  </a:rPr>
                  <a:t>f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6400800" y="5867280"/>
              <a:ext cx="7596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010280" y="5867280"/>
              <a:ext cx="76320" cy="380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647712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7620120" y="4495680"/>
            <a:ext cx="990000" cy="1335960"/>
            <a:chOff x="7620120" y="4495680"/>
            <a:chExt cx="990000" cy="1335960"/>
          </a:xfrm>
        </p:grpSpPr>
        <p:sp>
          <p:nvSpPr>
            <p:cNvPr id="1514" name=""/>
            <p:cNvSpPr/>
            <p:nvPr/>
          </p:nvSpPr>
          <p:spPr>
            <a:xfrm>
              <a:off x="762012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8483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055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6960" y="5371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9912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246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001000" y="5308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76960" y="5308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76960" y="48510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076960" y="48510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7772040" y="48510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219320" y="3962520"/>
            <a:ext cx="2438280" cy="520560"/>
            <a:chOff x="1219320" y="3962520"/>
            <a:chExt cx="2438280" cy="520560"/>
          </a:xfrm>
        </p:grpSpPr>
        <p:grpSp>
          <p:nvGrpSpPr>
            <p:cNvPr id="1526" name=""/>
            <p:cNvGrpSpPr/>
            <p:nvPr/>
          </p:nvGrpSpPr>
          <p:grpSpPr>
            <a:xfrm>
              <a:off x="1219320" y="3962520"/>
              <a:ext cx="380880" cy="520560"/>
              <a:chOff x="1219320" y="3962520"/>
              <a:chExt cx="380880" cy="520560"/>
            </a:xfrm>
          </p:grpSpPr>
          <p:sp>
            <p:nvSpPr>
              <p:cNvPr id="1527" name=""/>
              <p:cNvSpPr/>
              <p:nvPr/>
            </p:nvSpPr>
            <p:spPr>
              <a:xfrm>
                <a:off x="1219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9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2057400" y="3962520"/>
              <a:ext cx="431280" cy="520560"/>
              <a:chOff x="2057400" y="3962520"/>
              <a:chExt cx="431280" cy="520560"/>
            </a:xfrm>
          </p:grpSpPr>
          <p:sp>
            <p:nvSpPr>
              <p:cNvPr id="1530" name=""/>
              <p:cNvSpPr/>
              <p:nvPr/>
            </p:nvSpPr>
            <p:spPr>
              <a:xfrm>
                <a:off x="205740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107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2895480" y="3962520"/>
              <a:ext cx="381240" cy="520560"/>
              <a:chOff x="2895480" y="3962520"/>
              <a:chExt cx="381240" cy="520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28954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8954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514600" y="3962520"/>
              <a:ext cx="380880" cy="520560"/>
              <a:chOff x="2514600" y="3962520"/>
              <a:chExt cx="380880" cy="520560"/>
            </a:xfrm>
          </p:grpSpPr>
          <p:sp>
            <p:nvSpPr>
              <p:cNvPr id="1536" name=""/>
              <p:cNvSpPr/>
              <p:nvPr/>
            </p:nvSpPr>
            <p:spPr>
              <a:xfrm>
                <a:off x="25146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5146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1600200" y="3962520"/>
              <a:ext cx="380880" cy="520560"/>
              <a:chOff x="1600200" y="3962520"/>
              <a:chExt cx="380880" cy="520560"/>
            </a:xfrm>
          </p:grpSpPr>
          <p:sp>
            <p:nvSpPr>
              <p:cNvPr id="1539" name=""/>
              <p:cNvSpPr/>
              <p:nvPr/>
            </p:nvSpPr>
            <p:spPr>
              <a:xfrm>
                <a:off x="1600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600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276720" y="3962520"/>
              <a:ext cx="380880" cy="520560"/>
              <a:chOff x="3276720" y="3962520"/>
              <a:chExt cx="380880" cy="5205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67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767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4" name=""/>
          <p:cNvGrpSpPr/>
          <p:nvPr/>
        </p:nvGrpSpPr>
        <p:grpSpPr>
          <a:xfrm>
            <a:off x="838080" y="4876920"/>
            <a:ext cx="2438640" cy="520560"/>
            <a:chOff x="838080" y="4876920"/>
            <a:chExt cx="2438640" cy="520560"/>
          </a:xfrm>
        </p:grpSpPr>
        <p:grpSp>
          <p:nvGrpSpPr>
            <p:cNvPr id="1545" name=""/>
            <p:cNvGrpSpPr/>
            <p:nvPr/>
          </p:nvGrpSpPr>
          <p:grpSpPr>
            <a:xfrm>
              <a:off x="838080" y="4876920"/>
              <a:ext cx="381240" cy="520560"/>
              <a:chOff x="838080" y="4876920"/>
              <a:chExt cx="381240" cy="520560"/>
            </a:xfrm>
          </p:grpSpPr>
          <p:sp>
            <p:nvSpPr>
              <p:cNvPr id="1546" name=""/>
              <p:cNvSpPr/>
              <p:nvPr/>
            </p:nvSpPr>
            <p:spPr>
              <a:xfrm>
                <a:off x="838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38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2057400" y="4876920"/>
              <a:ext cx="431280" cy="520560"/>
              <a:chOff x="2057400" y="4876920"/>
              <a:chExt cx="431280" cy="5205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05740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1078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2514600" y="4876920"/>
              <a:ext cx="380880" cy="520560"/>
              <a:chOff x="2514600" y="4876920"/>
              <a:chExt cx="380880" cy="520560"/>
            </a:xfrm>
          </p:grpSpPr>
          <p:sp>
            <p:nvSpPr>
              <p:cNvPr id="1552" name=""/>
              <p:cNvSpPr/>
              <p:nvPr/>
            </p:nvSpPr>
            <p:spPr>
              <a:xfrm>
                <a:off x="25146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5146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1600200" y="4876920"/>
              <a:ext cx="380880" cy="520560"/>
              <a:chOff x="1600200" y="4876920"/>
              <a:chExt cx="380880" cy="520560"/>
            </a:xfrm>
          </p:grpSpPr>
          <p:sp>
            <p:nvSpPr>
              <p:cNvPr id="1555" name=""/>
              <p:cNvSpPr/>
              <p:nvPr/>
            </p:nvSpPr>
            <p:spPr>
              <a:xfrm>
                <a:off x="1600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00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1219320" y="4876920"/>
              <a:ext cx="380880" cy="520560"/>
              <a:chOff x="1219320" y="4876920"/>
              <a:chExt cx="380880" cy="520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1219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219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2895480" y="4876920"/>
              <a:ext cx="381240" cy="520560"/>
              <a:chOff x="2895480" y="4876920"/>
              <a:chExt cx="381240" cy="520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28954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954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3" name=""/>
          <p:cNvSpPr/>
          <p:nvPr/>
        </p:nvSpPr>
        <p:spPr>
          <a:xfrm>
            <a:off x="38088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08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57200" y="5791320"/>
            <a:ext cx="2438280" cy="520560"/>
            <a:chOff x="457200" y="5791320"/>
            <a:chExt cx="2438280" cy="520560"/>
          </a:xfrm>
        </p:grpSpPr>
        <p:grpSp>
          <p:nvGrpSpPr>
            <p:cNvPr id="1566" name=""/>
            <p:cNvGrpSpPr/>
            <p:nvPr/>
          </p:nvGrpSpPr>
          <p:grpSpPr>
            <a:xfrm>
              <a:off x="457200" y="5791320"/>
              <a:ext cx="380880" cy="520560"/>
              <a:chOff x="457200" y="5791320"/>
              <a:chExt cx="380880" cy="520560"/>
            </a:xfrm>
          </p:grpSpPr>
          <p:sp>
            <p:nvSpPr>
              <p:cNvPr id="1567" name=""/>
              <p:cNvSpPr/>
              <p:nvPr/>
            </p:nvSpPr>
            <p:spPr>
              <a:xfrm>
                <a:off x="457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7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2057400" y="5791320"/>
              <a:ext cx="431280" cy="520560"/>
              <a:chOff x="2057400" y="5791320"/>
              <a:chExt cx="431280" cy="520560"/>
            </a:xfrm>
          </p:grpSpPr>
          <p:sp>
            <p:nvSpPr>
              <p:cNvPr id="1570" name=""/>
              <p:cNvSpPr/>
              <p:nvPr/>
            </p:nvSpPr>
            <p:spPr>
              <a:xfrm>
                <a:off x="205740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1078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1600200" y="5791320"/>
              <a:ext cx="380880" cy="520560"/>
              <a:chOff x="1600200" y="5791320"/>
              <a:chExt cx="380880" cy="520560"/>
            </a:xfrm>
          </p:grpSpPr>
          <p:sp>
            <p:nvSpPr>
              <p:cNvPr id="1573" name=""/>
              <p:cNvSpPr/>
              <p:nvPr/>
            </p:nvSpPr>
            <p:spPr>
              <a:xfrm>
                <a:off x="16002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6002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218960" y="5791320"/>
              <a:ext cx="381240" cy="520560"/>
              <a:chOff x="1218960" y="5791320"/>
              <a:chExt cx="381240" cy="520560"/>
            </a:xfrm>
          </p:grpSpPr>
          <p:sp>
            <p:nvSpPr>
              <p:cNvPr id="1576" name=""/>
              <p:cNvSpPr/>
              <p:nvPr/>
            </p:nvSpPr>
            <p:spPr>
              <a:xfrm>
                <a:off x="121896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1896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838080" y="5791320"/>
              <a:ext cx="380880" cy="520560"/>
              <a:chOff x="838080" y="5791320"/>
              <a:chExt cx="380880" cy="520560"/>
            </a:xfrm>
          </p:grpSpPr>
          <p:sp>
            <p:nvSpPr>
              <p:cNvPr id="1579" name=""/>
              <p:cNvSpPr/>
              <p:nvPr/>
            </p:nvSpPr>
            <p:spPr>
              <a:xfrm>
                <a:off x="83808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3808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2514600" y="5791320"/>
              <a:ext cx="380880" cy="520560"/>
              <a:chOff x="2514600" y="5791320"/>
              <a:chExt cx="380880" cy="520560"/>
            </a:xfrm>
          </p:grpSpPr>
          <p:sp>
            <p:nvSpPr>
              <p:cNvPr id="1582" name=""/>
              <p:cNvSpPr/>
              <p:nvPr/>
            </p:nvSpPr>
            <p:spPr>
              <a:xfrm>
                <a:off x="251460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51460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4" name=""/>
          <p:cNvSpPr/>
          <p:nvPr/>
        </p:nvSpPr>
        <p:spPr>
          <a:xfrm>
            <a:off x="4876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4120" y="3048120"/>
            <a:ext cx="2057400" cy="520560"/>
            <a:chOff x="5334120" y="3048120"/>
            <a:chExt cx="2057400" cy="520560"/>
          </a:xfrm>
        </p:grpSpPr>
        <p:grpSp>
          <p:nvGrpSpPr>
            <p:cNvPr id="1586" name=""/>
            <p:cNvGrpSpPr/>
            <p:nvPr/>
          </p:nvGrpSpPr>
          <p:grpSpPr>
            <a:xfrm>
              <a:off x="5334120" y="3048120"/>
              <a:ext cx="380880" cy="520560"/>
              <a:chOff x="5334120" y="3048120"/>
              <a:chExt cx="380880" cy="52056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412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553080" y="3048120"/>
              <a:ext cx="432000" cy="520560"/>
              <a:chOff x="6553080" y="3048120"/>
              <a:chExt cx="432000" cy="520560"/>
            </a:xfrm>
          </p:grpSpPr>
          <p:sp>
            <p:nvSpPr>
              <p:cNvPr id="1590" name=""/>
              <p:cNvSpPr/>
              <p:nvPr/>
            </p:nvSpPr>
            <p:spPr>
              <a:xfrm>
                <a:off x="6553080" y="31370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60384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7010280" y="3048120"/>
              <a:ext cx="381240" cy="520560"/>
              <a:chOff x="7010280" y="3048120"/>
              <a:chExt cx="381240" cy="520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102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5715000" y="3048120"/>
              <a:ext cx="380880" cy="520560"/>
              <a:chOff x="5715000" y="3048120"/>
              <a:chExt cx="380880" cy="520560"/>
            </a:xfrm>
          </p:grpSpPr>
          <p:sp>
            <p:nvSpPr>
              <p:cNvPr id="1596" name=""/>
              <p:cNvSpPr/>
              <p:nvPr/>
            </p:nvSpPr>
            <p:spPr>
              <a:xfrm>
                <a:off x="5715000" y="31244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1500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095880" y="3048120"/>
              <a:ext cx="381240" cy="520560"/>
              <a:chOff x="6095880" y="3048120"/>
              <a:chExt cx="381240" cy="5205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095880" y="31244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95880" y="30481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1" name=""/>
          <p:cNvSpPr/>
          <p:nvPr/>
        </p:nvSpPr>
        <p:spPr>
          <a:xfrm>
            <a:off x="48769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8769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#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7692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952880" y="3962520"/>
            <a:ext cx="2133720" cy="520560"/>
            <a:chOff x="4952880" y="3962520"/>
            <a:chExt cx="2133720" cy="520560"/>
          </a:xfrm>
        </p:grpSpPr>
        <p:sp>
          <p:nvSpPr>
            <p:cNvPr id="1605" name=""/>
            <p:cNvSpPr/>
            <p:nvPr/>
          </p:nvSpPr>
          <p:spPr>
            <a:xfrm>
              <a:off x="7010280" y="40384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4952880" y="3962520"/>
              <a:ext cx="381240" cy="520560"/>
              <a:chOff x="4952880" y="3962520"/>
              <a:chExt cx="381240" cy="5205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952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952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6553080" y="3962520"/>
              <a:ext cx="432000" cy="520560"/>
              <a:chOff x="6553080" y="3962520"/>
              <a:chExt cx="432000" cy="520560"/>
            </a:xfrm>
          </p:grpSpPr>
          <p:sp>
            <p:nvSpPr>
              <p:cNvPr id="1610" name=""/>
              <p:cNvSpPr/>
              <p:nvPr/>
            </p:nvSpPr>
            <p:spPr>
              <a:xfrm>
                <a:off x="6553080" y="40514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60384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6095880" y="3962520"/>
              <a:ext cx="381240" cy="520560"/>
              <a:chOff x="6095880" y="3962520"/>
              <a:chExt cx="381240" cy="520560"/>
            </a:xfrm>
          </p:grpSpPr>
          <p:sp>
            <p:nvSpPr>
              <p:cNvPr id="1613" name=""/>
              <p:cNvSpPr/>
              <p:nvPr/>
            </p:nvSpPr>
            <p:spPr>
              <a:xfrm>
                <a:off x="60958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0958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5334120" y="3962520"/>
              <a:ext cx="380880" cy="520560"/>
              <a:chOff x="5334120" y="3962520"/>
              <a:chExt cx="380880" cy="520560"/>
            </a:xfrm>
          </p:grpSpPr>
          <p:sp>
            <p:nvSpPr>
              <p:cNvPr id="1616" name=""/>
              <p:cNvSpPr/>
              <p:nvPr/>
            </p:nvSpPr>
            <p:spPr>
              <a:xfrm>
                <a:off x="53341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3341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715000" y="3962520"/>
              <a:ext cx="380880" cy="520560"/>
              <a:chOff x="5715000" y="3962520"/>
              <a:chExt cx="380880" cy="520560"/>
            </a:xfrm>
          </p:grpSpPr>
          <p:sp>
            <p:nvSpPr>
              <p:cNvPr id="1619" name=""/>
              <p:cNvSpPr/>
              <p:nvPr/>
            </p:nvSpPr>
            <p:spPr>
              <a:xfrm>
                <a:off x="57150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150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5715000" y="4876920"/>
            <a:ext cx="1371600" cy="520560"/>
            <a:chOff x="5715000" y="4876920"/>
            <a:chExt cx="1371600" cy="520560"/>
          </a:xfrm>
        </p:grpSpPr>
        <p:sp>
          <p:nvSpPr>
            <p:cNvPr id="1622" name=""/>
            <p:cNvSpPr/>
            <p:nvPr/>
          </p:nvSpPr>
          <p:spPr>
            <a:xfrm>
              <a:off x="7010280" y="4952880"/>
              <a:ext cx="76320" cy="3812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5715000" y="4876920"/>
              <a:ext cx="380880" cy="520560"/>
              <a:chOff x="5715000" y="4876920"/>
              <a:chExt cx="380880" cy="520560"/>
            </a:xfrm>
          </p:grpSpPr>
          <p:sp>
            <p:nvSpPr>
              <p:cNvPr id="1624" name=""/>
              <p:cNvSpPr/>
              <p:nvPr/>
            </p:nvSpPr>
            <p:spPr>
              <a:xfrm>
                <a:off x="57150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150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553080" y="4876920"/>
              <a:ext cx="432000" cy="520560"/>
              <a:chOff x="6553080" y="4876920"/>
              <a:chExt cx="432000" cy="520560"/>
            </a:xfrm>
          </p:grpSpPr>
          <p:sp>
            <p:nvSpPr>
              <p:cNvPr id="1627" name=""/>
              <p:cNvSpPr/>
              <p:nvPr/>
            </p:nvSpPr>
            <p:spPr>
              <a:xfrm>
                <a:off x="6553080" y="496584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0384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6095880" y="4876920"/>
              <a:ext cx="381240" cy="520560"/>
              <a:chOff x="6095880" y="4876920"/>
              <a:chExt cx="381240" cy="520560"/>
            </a:xfrm>
          </p:grpSpPr>
          <p:sp>
            <p:nvSpPr>
              <p:cNvPr id="1630" name=""/>
              <p:cNvSpPr/>
              <p:nvPr/>
            </p:nvSpPr>
            <p:spPr>
              <a:xfrm>
                <a:off x="60958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58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>
            <a:off x="4648320" y="304812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7620120" y="3581280"/>
            <a:ext cx="990000" cy="878760"/>
            <a:chOff x="7620120" y="3581280"/>
            <a:chExt cx="990000" cy="878760"/>
          </a:xfrm>
        </p:grpSpPr>
        <p:sp>
          <p:nvSpPr>
            <p:cNvPr id="1634" name=""/>
            <p:cNvSpPr/>
            <p:nvPr/>
          </p:nvSpPr>
          <p:spPr>
            <a:xfrm>
              <a:off x="762012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483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055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76960" y="4000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89912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0028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076960" y="3936960"/>
              <a:ext cx="75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7620120" y="2666880"/>
            <a:ext cx="761400" cy="878760"/>
            <a:chOff x="7620120" y="2666880"/>
            <a:chExt cx="761400" cy="878760"/>
          </a:xfrm>
        </p:grpSpPr>
        <p:sp>
          <p:nvSpPr>
            <p:cNvPr id="1642" name=""/>
            <p:cNvSpPr/>
            <p:nvPr/>
          </p:nvSpPr>
          <p:spPr>
            <a:xfrm>
              <a:off x="762012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3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076960" y="3085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89912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8001000" y="30222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076960" y="30222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886200" y="5791320"/>
            <a:ext cx="762120" cy="459720"/>
            <a:chOff x="3886200" y="5791320"/>
            <a:chExt cx="762120" cy="459720"/>
          </a:xfrm>
        </p:grpSpPr>
        <p:sp>
          <p:nvSpPr>
            <p:cNvPr id="1649" name=""/>
            <p:cNvSpPr/>
            <p:nvPr/>
          </p:nvSpPr>
          <p:spPr>
            <a:xfrm>
              <a:off x="38862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1148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343400" y="5791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3886200" y="4876920"/>
            <a:ext cx="533520" cy="459720"/>
            <a:chOff x="3886200" y="4876920"/>
            <a:chExt cx="533520" cy="459720"/>
          </a:xfrm>
        </p:grpSpPr>
        <p:sp>
          <p:nvSpPr>
            <p:cNvPr id="1653" name=""/>
            <p:cNvSpPr/>
            <p:nvPr/>
          </p:nvSpPr>
          <p:spPr>
            <a:xfrm>
              <a:off x="38862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114800" y="4876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4724280" y="5867280"/>
            <a:ext cx="1905120" cy="609840"/>
            <a:chOff x="4724280" y="5867280"/>
            <a:chExt cx="1905120" cy="609840"/>
          </a:xfrm>
        </p:grpSpPr>
        <p:sp>
          <p:nvSpPr>
            <p:cNvPr id="1657" name=""/>
            <p:cNvSpPr/>
            <p:nvPr/>
          </p:nvSpPr>
          <p:spPr>
            <a:xfrm flipV="1">
              <a:off x="632448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95880" y="6324480"/>
              <a:ext cx="0" cy="152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24280" y="5867280"/>
              <a:ext cx="160020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Final st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09552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1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480" y="167652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p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ules that pop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t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bol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 and reads th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bol if both coinc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34120" y="2590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19320" y="3048120"/>
            <a:ext cx="3430440" cy="838080"/>
            <a:chOff x="1219320" y="3048120"/>
            <a:chExt cx="3430440" cy="838080"/>
          </a:xfrm>
        </p:grpSpPr>
        <p:sp>
          <p:nvSpPr>
            <p:cNvPr id="1667" name=""/>
            <p:cNvSpPr/>
            <p:nvPr/>
          </p:nvSpPr>
          <p:spPr>
            <a:xfrm>
              <a:off x="12193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76720" y="34290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339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1911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339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1911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765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33720" y="3429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6765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33720" y="37339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57400" y="3048120"/>
              <a:ext cx="1752480" cy="304560"/>
            </a:xfrm>
            <a:custGeom>
              <a:avLst/>
              <a:gdLst>
                <a:gd name="textAreaLeft" fmla="*/ 462960 w 1752480"/>
                <a:gd name="textAreaRight" fmla="*/ 1289520 w 1752480"/>
                <a:gd name="textAreaTop" fmla="*/ 80280 h 304560"/>
                <a:gd name="textAreaBottom" fmla="*/ 224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78" y="21600"/>
                  </a:lnTo>
                  <a:lnTo>
                    <a:pt x="7122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66880" y="3352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66880" y="3048120"/>
              <a:ext cx="53352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09480" y="4038480"/>
            <a:ext cx="8229600" cy="1295280"/>
            <a:chOff x="609480" y="4038480"/>
            <a:chExt cx="8229600" cy="1295280"/>
          </a:xfrm>
        </p:grpSpPr>
        <p:sp>
          <p:nvSpPr>
            <p:cNvPr id="1681" name=""/>
            <p:cNvSpPr/>
            <p:nvPr/>
          </p:nvSpPr>
          <p:spPr>
            <a:xfrm>
              <a:off x="609480" y="4038480"/>
              <a:ext cx="82296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contain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rules that simulate th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application of a grammatical rule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5800" y="4038480"/>
              <a:ext cx="8001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447920" y="4800600"/>
              <a:ext cx="2592360" cy="533160"/>
              <a:chOff x="1447920" y="4800600"/>
              <a:chExt cx="2592360" cy="533160"/>
            </a:xfrm>
          </p:grpSpPr>
          <p:sp>
            <p:nvSpPr>
              <p:cNvPr id="1684" name=""/>
              <p:cNvSpPr/>
              <p:nvPr/>
            </p:nvSpPr>
            <p:spPr>
              <a:xfrm>
                <a:off x="1447920" y="4876560"/>
                <a:ext cx="534960" cy="457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57400" y="48006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66880" y="4876560"/>
                <a:ext cx="1373400" cy="4572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1240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581280" y="487656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1240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581280" y="5181480"/>
                <a:ext cx="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533520" y="5410080"/>
            <a:ext cx="3531600" cy="838080"/>
            <a:chOff x="533520" y="5410080"/>
            <a:chExt cx="3531600" cy="838080"/>
          </a:xfrm>
        </p:grpSpPr>
        <p:grpSp>
          <p:nvGrpSpPr>
            <p:cNvPr id="1692" name=""/>
            <p:cNvGrpSpPr/>
            <p:nvPr/>
          </p:nvGrpSpPr>
          <p:grpSpPr>
            <a:xfrm>
              <a:off x="533520" y="5715000"/>
              <a:ext cx="3531600" cy="533160"/>
              <a:chOff x="533520" y="5715000"/>
              <a:chExt cx="3531600" cy="533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2023920" y="5715000"/>
                <a:ext cx="54900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651400" y="5790960"/>
                <a:ext cx="1413720" cy="45684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2192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59280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12192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59280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33520" y="5790960"/>
                <a:ext cx="1413720" cy="456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i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n 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</a:rPr>
                  <a:t> …  a</a:t>
                </a:r>
                <a:r>
                  <a:rPr b="1" lang="en-US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0404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474560" y="579096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0404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474560" y="609588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533520" y="5410080"/>
              <a:ext cx="1981080" cy="304920"/>
            </a:xfrm>
            <a:custGeom>
              <a:avLst/>
              <a:gdLst/>
              <a:ahLst/>
              <a:rect l="l" t="t" r="r" b="b"/>
              <a:pathLst>
                <a:path w="1304" h="192">
                  <a:moveTo>
                    <a:pt x="0" y="192"/>
                  </a:moveTo>
                  <a:lnTo>
                    <a:pt x="1304" y="192"/>
                  </a:lnTo>
                  <a:lnTo>
                    <a:pt x="1304" y="0"/>
                  </a:lnTo>
                  <a:lnTo>
                    <a:pt x="528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41008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685800" y="2438280"/>
            <a:ext cx="4497480" cy="533520"/>
            <a:chOff x="685800" y="2438280"/>
            <a:chExt cx="4497480" cy="533520"/>
          </a:xfrm>
        </p:grpSpPr>
        <p:sp>
          <p:nvSpPr>
            <p:cNvPr id="1707" name=""/>
            <p:cNvSpPr/>
            <p:nvPr/>
          </p:nvSpPr>
          <p:spPr>
            <a:xfrm>
              <a:off x="327672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9880" y="251460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2670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72428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2670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2428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5800" y="251460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1430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00200" y="25146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430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600200" y="281916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057400" y="251460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4038480" y="4800600"/>
            <a:ext cx="4953240" cy="1494000"/>
            <a:chOff x="4038480" y="4800600"/>
            <a:chExt cx="4953240" cy="1494000"/>
          </a:xfrm>
        </p:grpSpPr>
        <p:sp>
          <p:nvSpPr>
            <p:cNvPr id="1721" name=""/>
            <p:cNvSpPr/>
            <p:nvPr/>
          </p:nvSpPr>
          <p:spPr>
            <a:xfrm>
              <a:off x="4038480" y="4800600"/>
              <a:ext cx="4876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or every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add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…a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5638680" y="5715000"/>
              <a:ext cx="3353040" cy="579600"/>
              <a:chOff x="5638680" y="5715000"/>
              <a:chExt cx="3353040" cy="579600"/>
            </a:xfrm>
          </p:grpSpPr>
          <p:sp>
            <p:nvSpPr>
              <p:cNvPr id="1723" name=""/>
              <p:cNvSpPr/>
              <p:nvPr/>
            </p:nvSpPr>
            <p:spPr>
              <a:xfrm rot="5400000">
                <a:off x="6095880" y="5257440"/>
                <a:ext cx="152280" cy="106704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715000" y="5715000"/>
                <a:ext cx="3276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reversal(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…a</a:t>
                </a:r>
                <a:r>
                  <a:rPr b="1" i="1" lang="en-US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5" name=""/>
          <p:cNvSpPr/>
          <p:nvPr/>
        </p:nvSpPr>
        <p:spPr>
          <a:xfrm>
            <a:off x="533520" y="1066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D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underlie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-dow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6019920" y="3200400"/>
            <a:ext cx="2666880" cy="3124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72200" y="3200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ion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imes New Roman"/>
              </a:rPr>
              <a:t>PDAs as Models of Top-Down Parsers 2/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09480" y="1143000"/>
            <a:ext cx="8001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op-down construction of a derivation 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143000" y="1523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tart pushdown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6095880" y="3657600"/>
            <a:ext cx="2070000" cy="2092680"/>
            <a:chOff x="6095880" y="3657600"/>
            <a:chExt cx="2070000" cy="2092680"/>
          </a:xfrm>
        </p:grpSpPr>
        <p:sp>
          <p:nvSpPr>
            <p:cNvPr id="1733" name=""/>
            <p:cNvSpPr/>
            <p:nvPr/>
          </p:nvSpPr>
          <p:spPr>
            <a:xfrm>
              <a:off x="6108480" y="4038480"/>
              <a:ext cx="2057400" cy="1295280"/>
            </a:xfrm>
            <a:custGeom>
              <a:avLst/>
              <a:gdLst/>
              <a:ahLst/>
              <a:rect l="l" t="t" r="r" b="b"/>
              <a:pathLst>
                <a:path w="1296" h="816">
                  <a:moveTo>
                    <a:pt x="0" y="816"/>
                  </a:moveTo>
                  <a:lnTo>
                    <a:pt x="536" y="816"/>
                  </a:lnTo>
                  <a:lnTo>
                    <a:pt x="808" y="448"/>
                  </a:lnTo>
                  <a:lnTo>
                    <a:pt x="1296" y="448"/>
                  </a:lnTo>
                  <a:lnTo>
                    <a:pt x="1296" y="200"/>
                  </a:lnTo>
                  <a:lnTo>
                    <a:pt x="920" y="0"/>
                  </a:lnTo>
                  <a:lnTo>
                    <a:pt x="672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62560" y="3657600"/>
              <a:ext cx="38088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5880" y="5333760"/>
              <a:ext cx="838080" cy="416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a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91160" y="4343400"/>
              <a:ext cx="380880" cy="366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72040" y="4343400"/>
              <a:ext cx="381240" cy="3661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934320" y="4749840"/>
            <a:ext cx="850680" cy="1000440"/>
            <a:chOff x="6934320" y="4749840"/>
            <a:chExt cx="850680" cy="1000440"/>
          </a:xfrm>
        </p:grpSpPr>
        <p:sp>
          <p:nvSpPr>
            <p:cNvPr id="1739" name=""/>
            <p:cNvSpPr/>
            <p:nvPr/>
          </p:nvSpPr>
          <p:spPr>
            <a:xfrm>
              <a:off x="6934320" y="5333760"/>
              <a:ext cx="837720" cy="4165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b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934320" y="4749840"/>
              <a:ext cx="85068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772400" y="4749840"/>
            <a:ext cx="851040" cy="1000440"/>
            <a:chOff x="7772400" y="4749840"/>
            <a:chExt cx="851040" cy="1000440"/>
          </a:xfrm>
        </p:grpSpPr>
        <p:sp>
          <p:nvSpPr>
            <p:cNvPr id="1742" name=""/>
            <p:cNvSpPr/>
            <p:nvPr/>
          </p:nvSpPr>
          <p:spPr>
            <a:xfrm>
              <a:off x="7772400" y="5333760"/>
              <a:ext cx="838440" cy="4165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..c</a:t>
              </a:r>
              <a:r>
                <a:rPr b="1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7772400" y="4749840"/>
              <a:ext cx="851040" cy="583920"/>
            </a:xfrm>
            <a:custGeom>
              <a:avLst/>
              <a:gdLst/>
              <a:ahLst/>
              <a:rect l="l" t="t" r="r" b="b"/>
              <a:pathLst>
                <a:path w="536" h="368">
                  <a:moveTo>
                    <a:pt x="0" y="368"/>
                  </a:moveTo>
                  <a:lnTo>
                    <a:pt x="536" y="368"/>
                  </a:lnTo>
                  <a:lnTo>
                    <a:pt x="536" y="0"/>
                  </a:lnTo>
                  <a:lnTo>
                    <a:pt x="296" y="0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cc99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743200" y="1892160"/>
            <a:ext cx="4343400" cy="520560"/>
            <a:chOff x="2743200" y="1892160"/>
            <a:chExt cx="4343400" cy="520560"/>
          </a:xfrm>
        </p:grpSpPr>
        <p:grpSp>
          <p:nvGrpSpPr>
            <p:cNvPr id="1745" name=""/>
            <p:cNvGrpSpPr/>
            <p:nvPr/>
          </p:nvGrpSpPr>
          <p:grpSpPr>
            <a:xfrm>
              <a:off x="2743200" y="1892160"/>
              <a:ext cx="381240" cy="520560"/>
              <a:chOff x="2743200" y="1892160"/>
              <a:chExt cx="381240" cy="520560"/>
            </a:xfrm>
          </p:grpSpPr>
          <p:sp>
            <p:nvSpPr>
              <p:cNvPr id="1746" name=""/>
              <p:cNvSpPr/>
              <p:nvPr/>
            </p:nvSpPr>
            <p:spPr>
              <a:xfrm>
                <a:off x="2743200" y="196848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4320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200400" y="1892160"/>
              <a:ext cx="432000" cy="520560"/>
              <a:chOff x="3200400" y="1892160"/>
              <a:chExt cx="432000" cy="520560"/>
            </a:xfrm>
          </p:grpSpPr>
          <p:sp>
            <p:nvSpPr>
              <p:cNvPr id="1749" name=""/>
              <p:cNvSpPr/>
              <p:nvPr/>
            </p:nvSpPr>
            <p:spPr>
              <a:xfrm>
                <a:off x="3200400" y="1981080"/>
                <a:ext cx="38124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251160" y="189216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3657600" y="1892160"/>
              <a:ext cx="1142280" cy="510120"/>
              <a:chOff x="3657600" y="1892160"/>
              <a:chExt cx="1142280" cy="510120"/>
            </a:xfrm>
          </p:grpSpPr>
          <p:grpSp>
            <p:nvGrpSpPr>
              <p:cNvPr id="1752" name=""/>
              <p:cNvGrpSpPr/>
              <p:nvPr/>
            </p:nvGrpSpPr>
            <p:grpSpPr>
              <a:xfrm>
                <a:off x="3657600" y="1892160"/>
                <a:ext cx="1142280" cy="510120"/>
                <a:chOff x="3657600" y="1892160"/>
                <a:chExt cx="1142280" cy="51012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657600" y="1968480"/>
                  <a:ext cx="1142280" cy="380880"/>
                </a:xfrm>
                <a:prstGeom prst="rect">
                  <a:avLst/>
                </a:prstGeom>
                <a:solidFill>
                  <a:srgbClr val="cc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657600" y="1892160"/>
                  <a:ext cx="1142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5" name=""/>
              <p:cNvSpPr/>
              <p:nvPr/>
            </p:nvSpPr>
            <p:spPr>
              <a:xfrm>
                <a:off x="4419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419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038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038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4800600" y="1892160"/>
              <a:ext cx="1143000" cy="510120"/>
              <a:chOff x="4800600" y="1892160"/>
              <a:chExt cx="1143000" cy="510120"/>
            </a:xfrm>
          </p:grpSpPr>
          <p:sp>
            <p:nvSpPr>
              <p:cNvPr id="1760" name=""/>
              <p:cNvSpPr/>
              <p:nvPr/>
            </p:nvSpPr>
            <p:spPr>
              <a:xfrm>
                <a:off x="4800600" y="1968120"/>
                <a:ext cx="1143000" cy="3812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00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2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62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181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181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943600" y="1892160"/>
              <a:ext cx="1143000" cy="510120"/>
              <a:chOff x="5943600" y="1892160"/>
              <a:chExt cx="1143000" cy="510120"/>
            </a:xfrm>
          </p:grpSpPr>
          <p:sp>
            <p:nvSpPr>
              <p:cNvPr id="1767" name=""/>
              <p:cNvSpPr/>
              <p:nvPr/>
            </p:nvSpPr>
            <p:spPr>
              <a:xfrm>
                <a:off x="5943600" y="1968120"/>
                <a:ext cx="1143000" cy="38124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943600" y="1892160"/>
                <a:ext cx="114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… </a:t>
                </a: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572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572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324840" y="19681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324840" y="2196720"/>
                <a:ext cx="144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2133720" y="1905120"/>
            <a:ext cx="685800" cy="228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219320" y="2362320"/>
            <a:ext cx="5867280" cy="736200"/>
            <a:chOff x="1219320" y="2362320"/>
            <a:chExt cx="5867280" cy="736200"/>
          </a:xfrm>
        </p:grpSpPr>
        <p:sp>
          <p:nvSpPr>
            <p:cNvPr id="1775" name=""/>
            <p:cNvSpPr/>
            <p:nvPr/>
          </p:nvSpPr>
          <p:spPr>
            <a:xfrm flipH="1">
              <a:off x="3123720" y="23623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1219320" y="2577960"/>
              <a:ext cx="5867280" cy="520560"/>
              <a:chOff x="1219320" y="2577960"/>
              <a:chExt cx="5867280" cy="520560"/>
            </a:xfrm>
          </p:grpSpPr>
          <p:grpSp>
            <p:nvGrpSpPr>
              <p:cNvPr id="1777" name=""/>
              <p:cNvGrpSpPr/>
              <p:nvPr/>
            </p:nvGrpSpPr>
            <p:grpSpPr>
              <a:xfrm>
                <a:off x="1219320" y="2577960"/>
                <a:ext cx="380880" cy="520560"/>
                <a:chOff x="1219320" y="2577960"/>
                <a:chExt cx="380880" cy="5205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219320" y="26539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21932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600200" y="2577960"/>
                <a:ext cx="380880" cy="520560"/>
                <a:chOff x="1600200" y="2577960"/>
                <a:chExt cx="380880" cy="5205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1600200" y="26539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1600200" y="25779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3200400" y="2577960"/>
                <a:ext cx="432000" cy="520560"/>
                <a:chOff x="3200400" y="2577960"/>
                <a:chExt cx="432000" cy="520560"/>
              </a:xfrm>
            </p:grpSpPr>
            <p:sp>
              <p:nvSpPr>
                <p:cNvPr id="1784" name=""/>
                <p:cNvSpPr/>
                <p:nvPr/>
              </p:nvSpPr>
              <p:spPr>
                <a:xfrm>
                  <a:off x="3200400" y="26665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3251160" y="25779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1981440" y="2577960"/>
                <a:ext cx="1142280" cy="510120"/>
                <a:chOff x="1981440" y="2577960"/>
                <a:chExt cx="1142280" cy="510120"/>
              </a:xfrm>
            </p:grpSpPr>
            <p:grpSp>
              <p:nvGrpSpPr>
                <p:cNvPr id="1787" name=""/>
                <p:cNvGrpSpPr/>
                <p:nvPr/>
              </p:nvGrpSpPr>
              <p:grpSpPr>
                <a:xfrm>
                  <a:off x="1981440" y="2577960"/>
                  <a:ext cx="1142280" cy="510120"/>
                  <a:chOff x="1981440" y="2577960"/>
                  <a:chExt cx="1142280" cy="51012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98144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8144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274356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74356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236268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236268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3657600" y="2577960"/>
                <a:ext cx="1142280" cy="510120"/>
                <a:chOff x="3657600" y="2577960"/>
                <a:chExt cx="1142280" cy="5101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3657600" y="2577960"/>
                  <a:ext cx="1142280" cy="510120"/>
                  <a:chOff x="3657600" y="2577960"/>
                  <a:chExt cx="1142280" cy="5101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3657600" y="2653920"/>
                    <a:ext cx="1142280" cy="380520"/>
                  </a:xfrm>
                  <a:prstGeom prst="rect">
                    <a:avLst/>
                  </a:prstGeom>
                  <a:solidFill>
                    <a:srgbClr val="cc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657600" y="2577960"/>
                    <a:ext cx="11422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 </a:t>
                    </a: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… </a:t>
                    </a:r>
                    <a:r>
                      <a:rPr b="1" i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a</a:t>
                    </a:r>
                    <a:r>
                      <a:rPr b="1" i="1" lang="en-US" sz="24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k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419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419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038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038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4800600" y="2577960"/>
                <a:ext cx="1143000" cy="510120"/>
                <a:chOff x="4800600" y="2577960"/>
                <a:chExt cx="1143000" cy="5101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4800600" y="26535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800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562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562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181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181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9" name=""/>
              <p:cNvGrpSpPr/>
              <p:nvPr/>
            </p:nvGrpSpPr>
            <p:grpSpPr>
              <a:xfrm>
                <a:off x="5943600" y="2577960"/>
                <a:ext cx="1143000" cy="510120"/>
                <a:chOff x="5943600" y="2577960"/>
                <a:chExt cx="1143000" cy="51012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5943600" y="26535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943600" y="25779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670572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70572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324840" y="2653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324840" y="2882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6" name=""/>
          <p:cNvGrpSpPr/>
          <p:nvPr/>
        </p:nvGrpSpPr>
        <p:grpSpPr>
          <a:xfrm>
            <a:off x="2362320" y="3048120"/>
            <a:ext cx="3581280" cy="736200"/>
            <a:chOff x="2362320" y="3048120"/>
            <a:chExt cx="3581280" cy="736200"/>
          </a:xfrm>
        </p:grpSpPr>
        <p:sp>
          <p:nvSpPr>
            <p:cNvPr id="1817" name=""/>
            <p:cNvSpPr/>
            <p:nvPr/>
          </p:nvSpPr>
          <p:spPr>
            <a:xfrm flipH="1">
              <a:off x="3123720" y="30481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362320" y="3263760"/>
              <a:ext cx="3581280" cy="520560"/>
              <a:chOff x="2362320" y="3263760"/>
              <a:chExt cx="3581280" cy="520560"/>
            </a:xfrm>
          </p:grpSpPr>
          <p:grpSp>
            <p:nvGrpSpPr>
              <p:cNvPr id="1819" name=""/>
              <p:cNvGrpSpPr/>
              <p:nvPr/>
            </p:nvGrpSpPr>
            <p:grpSpPr>
              <a:xfrm>
                <a:off x="2362320" y="3263760"/>
                <a:ext cx="380880" cy="520560"/>
                <a:chOff x="2362320" y="3263760"/>
                <a:chExt cx="380880" cy="52056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2362320" y="33397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36232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2743200" y="3263760"/>
                <a:ext cx="380880" cy="520560"/>
                <a:chOff x="2743200" y="3263760"/>
                <a:chExt cx="380880" cy="5205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743200" y="3339720"/>
                  <a:ext cx="380880" cy="3805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743200" y="32637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3200400" y="3263760"/>
                <a:ext cx="432000" cy="520560"/>
                <a:chOff x="3200400" y="3263760"/>
                <a:chExt cx="432000" cy="52056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3200400" y="33523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251160" y="32637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657600" y="3263760"/>
                <a:ext cx="1143000" cy="510120"/>
                <a:chOff x="3657600" y="3263760"/>
                <a:chExt cx="1143000" cy="510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657600" y="33393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657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4419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4419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4038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038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4800600" y="3263760"/>
                <a:ext cx="1143000" cy="510120"/>
                <a:chOff x="4800600" y="3263760"/>
                <a:chExt cx="1143000" cy="5101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4800600" y="33393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4800600" y="32637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56272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56272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181840" y="33393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81840" y="3567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42" name=""/>
          <p:cNvGrpSpPr/>
          <p:nvPr/>
        </p:nvGrpSpPr>
        <p:grpSpPr>
          <a:xfrm>
            <a:off x="1600200" y="3733920"/>
            <a:ext cx="4343400" cy="736200"/>
            <a:chOff x="1600200" y="3733920"/>
            <a:chExt cx="4343400" cy="736200"/>
          </a:xfrm>
        </p:grpSpPr>
        <p:grpSp>
          <p:nvGrpSpPr>
            <p:cNvPr id="1843" name=""/>
            <p:cNvGrpSpPr/>
            <p:nvPr/>
          </p:nvGrpSpPr>
          <p:grpSpPr>
            <a:xfrm>
              <a:off x="1600200" y="3949560"/>
              <a:ext cx="4343400" cy="520560"/>
              <a:chOff x="1600200" y="3949560"/>
              <a:chExt cx="4343400" cy="52056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1600200" y="3949560"/>
                <a:ext cx="380880" cy="520560"/>
                <a:chOff x="1600200" y="3949560"/>
                <a:chExt cx="380880" cy="520560"/>
              </a:xfrm>
            </p:grpSpPr>
            <p:sp>
              <p:nvSpPr>
                <p:cNvPr id="1845" name=""/>
                <p:cNvSpPr/>
                <p:nvPr/>
              </p:nvSpPr>
              <p:spPr>
                <a:xfrm>
                  <a:off x="1600200" y="40255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600200" y="39495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3200400" y="3949560"/>
                <a:ext cx="432000" cy="520560"/>
                <a:chOff x="3200400" y="3949560"/>
                <a:chExt cx="432000" cy="5205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200400" y="40381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251160" y="39495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"/>
              <p:cNvGrpSpPr/>
              <p:nvPr/>
            </p:nvGrpSpPr>
            <p:grpSpPr>
              <a:xfrm>
                <a:off x="3657600" y="3949560"/>
                <a:ext cx="1143000" cy="510120"/>
                <a:chOff x="3657600" y="3949560"/>
                <a:chExt cx="1143000" cy="510120"/>
              </a:xfrm>
            </p:grpSpPr>
            <p:sp>
              <p:nvSpPr>
                <p:cNvPr id="1851" name=""/>
                <p:cNvSpPr/>
                <p:nvPr/>
              </p:nvSpPr>
              <p:spPr>
                <a:xfrm>
                  <a:off x="365760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657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4419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419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038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038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800600" y="3949560"/>
                <a:ext cx="1143000" cy="510120"/>
                <a:chOff x="4800600" y="3949560"/>
                <a:chExt cx="1143000" cy="5101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800600" y="40251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80060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56272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56272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18184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18184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1981440" y="3949560"/>
                <a:ext cx="1143000" cy="510120"/>
                <a:chOff x="1981440" y="3949560"/>
                <a:chExt cx="1143000" cy="510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1981440" y="4025160"/>
                  <a:ext cx="1143000" cy="3808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981440" y="39495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74356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274356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362680" y="40251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2362680" y="42537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1" name=""/>
            <p:cNvSpPr/>
            <p:nvPr/>
          </p:nvSpPr>
          <p:spPr>
            <a:xfrm flipH="1">
              <a:off x="3123720" y="37339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2743200" y="4419720"/>
            <a:ext cx="2057400" cy="736200"/>
            <a:chOff x="2743200" y="4419720"/>
            <a:chExt cx="2057400" cy="736200"/>
          </a:xfrm>
        </p:grpSpPr>
        <p:grpSp>
          <p:nvGrpSpPr>
            <p:cNvPr id="1873" name=""/>
            <p:cNvGrpSpPr/>
            <p:nvPr/>
          </p:nvGrpSpPr>
          <p:grpSpPr>
            <a:xfrm>
              <a:off x="2743200" y="4635360"/>
              <a:ext cx="2057400" cy="520560"/>
              <a:chOff x="2743200" y="4635360"/>
              <a:chExt cx="2057400" cy="52056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2743200" y="4635360"/>
                <a:ext cx="380880" cy="520560"/>
                <a:chOff x="2743200" y="4635360"/>
                <a:chExt cx="380880" cy="52056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2743200" y="4711320"/>
                  <a:ext cx="380880" cy="38052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2743200" y="463536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3200400" y="4635360"/>
                <a:ext cx="432000" cy="520560"/>
                <a:chOff x="3200400" y="4635360"/>
                <a:chExt cx="432000" cy="5205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200400" y="4723920"/>
                  <a:ext cx="381240" cy="38052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51160" y="463536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3657600" y="4635360"/>
                <a:ext cx="1143000" cy="510120"/>
                <a:chOff x="3657600" y="4635360"/>
                <a:chExt cx="1143000" cy="51012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3657600" y="4710960"/>
                  <a:ext cx="1143000" cy="38088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3657600" y="463536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41972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441972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4038840" y="47109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4038840" y="493956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7" name=""/>
            <p:cNvSpPr/>
            <p:nvPr/>
          </p:nvSpPr>
          <p:spPr>
            <a:xfrm flipH="1">
              <a:off x="3123720" y="4419720"/>
              <a:ext cx="533160" cy="3045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981080" y="5105520"/>
            <a:ext cx="2819160" cy="749160"/>
            <a:chOff x="1981080" y="5105520"/>
            <a:chExt cx="2819160" cy="749160"/>
          </a:xfrm>
        </p:grpSpPr>
        <p:grpSp>
          <p:nvGrpSpPr>
            <p:cNvPr id="1889" name=""/>
            <p:cNvGrpSpPr/>
            <p:nvPr/>
          </p:nvGrpSpPr>
          <p:grpSpPr>
            <a:xfrm>
              <a:off x="1981080" y="5334120"/>
              <a:ext cx="2819160" cy="520560"/>
              <a:chOff x="1981080" y="5334120"/>
              <a:chExt cx="2819160" cy="520560"/>
            </a:xfrm>
          </p:grpSpPr>
          <p:grpSp>
            <p:nvGrpSpPr>
              <p:cNvPr id="1890" name=""/>
              <p:cNvGrpSpPr/>
              <p:nvPr/>
            </p:nvGrpSpPr>
            <p:grpSpPr>
              <a:xfrm>
                <a:off x="3200040" y="5334120"/>
                <a:ext cx="432000" cy="520560"/>
                <a:chOff x="3200040" y="5334120"/>
                <a:chExt cx="432000" cy="520560"/>
              </a:xfrm>
            </p:grpSpPr>
            <p:sp>
              <p:nvSpPr>
                <p:cNvPr id="1891" name=""/>
                <p:cNvSpPr/>
                <p:nvPr/>
              </p:nvSpPr>
              <p:spPr>
                <a:xfrm>
                  <a:off x="3200040" y="5423040"/>
                  <a:ext cx="38124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3250800" y="5334120"/>
                  <a:ext cx="3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28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3" name=""/>
              <p:cNvGrpSpPr/>
              <p:nvPr/>
            </p:nvGrpSpPr>
            <p:grpSpPr>
              <a:xfrm>
                <a:off x="3657240" y="5334120"/>
                <a:ext cx="1143000" cy="510120"/>
                <a:chOff x="3657240" y="5334120"/>
                <a:chExt cx="1143000" cy="51012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365724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365724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441936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441936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403848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403848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1981080" y="5334120"/>
                <a:ext cx="1143000" cy="510120"/>
                <a:chOff x="1981080" y="5334120"/>
                <a:chExt cx="1143000" cy="51012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1981080" y="5410080"/>
                  <a:ext cx="1143000" cy="381240"/>
                </a:xfrm>
                <a:prstGeom prst="rect">
                  <a:avLst/>
                </a:prstGeom>
                <a:solidFill>
                  <a:srgbClr val="cc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981080" y="5334120"/>
                  <a:ext cx="11430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i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… </a:t>
                  </a: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74320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74320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362320" y="54100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362320" y="5638680"/>
                  <a:ext cx="14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7" name=""/>
            <p:cNvSpPr/>
            <p:nvPr/>
          </p:nvSpPr>
          <p:spPr>
            <a:xfrm flipH="1">
              <a:off x="3123360" y="51055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3048120" y="5791320"/>
            <a:ext cx="685800" cy="718560"/>
            <a:chOff x="3048120" y="5791320"/>
            <a:chExt cx="685800" cy="718560"/>
          </a:xfrm>
        </p:grpSpPr>
        <p:grpSp>
          <p:nvGrpSpPr>
            <p:cNvPr id="1909" name=""/>
            <p:cNvGrpSpPr/>
            <p:nvPr/>
          </p:nvGrpSpPr>
          <p:grpSpPr>
            <a:xfrm>
              <a:off x="3048120" y="6019920"/>
              <a:ext cx="685800" cy="489960"/>
              <a:chOff x="3048120" y="6019920"/>
              <a:chExt cx="685800" cy="489960"/>
            </a:xfrm>
          </p:grpSpPr>
          <p:grpSp>
            <p:nvGrpSpPr>
              <p:cNvPr id="1910" name=""/>
              <p:cNvGrpSpPr/>
              <p:nvPr/>
            </p:nvGrpSpPr>
            <p:grpSpPr>
              <a:xfrm>
                <a:off x="3200400" y="6019920"/>
                <a:ext cx="431640" cy="489960"/>
                <a:chOff x="3200400" y="6019920"/>
                <a:chExt cx="431640" cy="489960"/>
              </a:xfrm>
            </p:grpSpPr>
            <p:sp>
              <p:nvSpPr>
                <p:cNvPr id="1911" name=""/>
                <p:cNvSpPr/>
                <p:nvPr/>
              </p:nvSpPr>
              <p:spPr>
                <a:xfrm>
                  <a:off x="3200400" y="6121440"/>
                  <a:ext cx="380880" cy="380880"/>
                </a:xfrm>
                <a:prstGeom prst="ellipse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251160" y="6019920"/>
                  <a:ext cx="3808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600" spc="-1" strike="noStrike">
                      <a:solidFill>
                        <a:srgbClr val="339933"/>
                      </a:solidFill>
                      <a:latin typeface="Times New Roman"/>
                    </a:rPr>
                    <a:t>s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3" name=""/>
              <p:cNvSpPr/>
              <p:nvPr/>
            </p:nvSpPr>
            <p:spPr>
              <a:xfrm>
                <a:off x="3048120" y="6095880"/>
                <a:ext cx="7596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57600" y="6095880"/>
                <a:ext cx="7632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 flipH="1">
              <a:off x="3123720" y="5791320"/>
              <a:ext cx="533160" cy="3049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 flipV="1">
            <a:off x="380880" y="2133720"/>
            <a:ext cx="457200" cy="3581280"/>
          </a:xfrm>
          <a:prstGeom prst="upArrow">
            <a:avLst>
              <a:gd name="adj1" fmla="val 41667"/>
              <a:gd name="adj2" fmla="val 72275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095520" y="5791320"/>
            <a:ext cx="762480" cy="535680"/>
            <a:chOff x="6095520" y="5791320"/>
            <a:chExt cx="762480" cy="535680"/>
          </a:xfrm>
        </p:grpSpPr>
        <p:sp>
          <p:nvSpPr>
            <p:cNvPr id="1918" name=""/>
            <p:cNvSpPr/>
            <p:nvPr/>
          </p:nvSpPr>
          <p:spPr>
            <a:xfrm rot="5400000">
              <a:off x="643860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09588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6934320" y="5791320"/>
            <a:ext cx="761760" cy="535680"/>
            <a:chOff x="6934320" y="5791320"/>
            <a:chExt cx="761760" cy="535680"/>
          </a:xfrm>
        </p:grpSpPr>
        <p:sp>
          <p:nvSpPr>
            <p:cNvPr id="1921" name=""/>
            <p:cNvSpPr/>
            <p:nvPr/>
          </p:nvSpPr>
          <p:spPr>
            <a:xfrm rot="5400000">
              <a:off x="7277040" y="5448240"/>
              <a:ext cx="75960" cy="7617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34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7772040" y="5791320"/>
            <a:ext cx="762480" cy="535680"/>
            <a:chOff x="7772040" y="5791320"/>
            <a:chExt cx="762480" cy="535680"/>
          </a:xfrm>
        </p:grpSpPr>
        <p:sp>
          <p:nvSpPr>
            <p:cNvPr id="1924" name=""/>
            <p:cNvSpPr/>
            <p:nvPr/>
          </p:nvSpPr>
          <p:spPr>
            <a:xfrm rot="5400000">
              <a:off x="8115120" y="5448240"/>
              <a:ext cx="75960" cy="7621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72400" y="5867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38080" y="2286000"/>
            <a:ext cx="24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a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85800" y="3581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5800" y="49528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914400" y="5867280"/>
            <a:ext cx="2133720" cy="825480"/>
            <a:chOff x="914400" y="5867280"/>
            <a:chExt cx="2133720" cy="825480"/>
          </a:xfrm>
        </p:grpSpPr>
        <p:sp>
          <p:nvSpPr>
            <p:cNvPr id="1930" name=""/>
            <p:cNvSpPr/>
            <p:nvPr/>
          </p:nvSpPr>
          <p:spPr>
            <a:xfrm flipV="1">
              <a:off x="2743200" y="624816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586728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2514240" y="64771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609480" y="1143000"/>
            <a:ext cx="853452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G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09480" y="205740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reversal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om CFG to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09480" y="1143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9480" y="2819520"/>
            <a:ext cx="556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62120" y="2133720"/>
            <a:ext cx="7543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PDA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948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1148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948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48320" y="3276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09480" y="4952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295280" y="3733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3716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8288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43200" y="4952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11480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867280" y="4952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72200" y="373392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( 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743200" y="37339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)”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200400" y="42670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09480" y="601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4114800" y="4114440"/>
            <a:ext cx="1371600" cy="914760"/>
            <a:chOff x="4114800" y="4114440"/>
            <a:chExt cx="1371600" cy="914760"/>
          </a:xfrm>
        </p:grpSpPr>
        <p:sp>
          <p:nvSpPr>
            <p:cNvPr id="1960" name=""/>
            <p:cNvSpPr/>
            <p:nvPr/>
          </p:nvSpPr>
          <p:spPr>
            <a:xfrm rot="16200000">
              <a:off x="41911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29200" y="3961800"/>
              <a:ext cx="152280" cy="457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267080" y="4267080"/>
              <a:ext cx="7632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0552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80060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6095520" y="4114440"/>
            <a:ext cx="1296000" cy="914760"/>
            <a:chOff x="6095520" y="4114440"/>
            <a:chExt cx="1296000" cy="914760"/>
          </a:xfrm>
        </p:grpSpPr>
        <p:sp>
          <p:nvSpPr>
            <p:cNvPr id="1966" name=""/>
            <p:cNvSpPr/>
            <p:nvPr/>
          </p:nvSpPr>
          <p:spPr>
            <a:xfrm rot="16200000">
              <a:off x="6248520" y="403812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7010280" y="40381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6095520" y="4267080"/>
              <a:ext cx="228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6933960" y="4267080"/>
              <a:ext cx="152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705720" y="4343400"/>
              <a:ext cx="685800" cy="366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1447920" y="5410080"/>
            <a:ext cx="5715000" cy="612360"/>
            <a:chOff x="1447920" y="5410080"/>
            <a:chExt cx="5715000" cy="612360"/>
          </a:xfrm>
        </p:grpSpPr>
        <p:sp>
          <p:nvSpPr>
            <p:cNvPr id="1973" name=""/>
            <p:cNvSpPr/>
            <p:nvPr/>
          </p:nvSpPr>
          <p:spPr>
            <a:xfrm rot="16200000">
              <a:off x="2628720" y="4228920"/>
              <a:ext cx="152640" cy="25146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5618880" y="4018680"/>
              <a:ext cx="152640" cy="2935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6320 h 2935440"/>
                <a:gd name="textAreaBottom" fmla="*/ 2859120 h 29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757520" y="5562720"/>
              <a:ext cx="21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pping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91160" y="5562720"/>
              <a:ext cx="22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m CFG to PDA: Exampl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09480" y="1143000"/>
            <a:ext cx="8229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2514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( )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62120" y="3581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29400" y="6172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7620120" y="2438280"/>
            <a:ext cx="990000" cy="1335960"/>
            <a:chOff x="7620120" y="2438280"/>
            <a:chExt cx="990000" cy="1335960"/>
          </a:xfrm>
        </p:grpSpPr>
        <p:sp>
          <p:nvSpPr>
            <p:cNvPr id="1984" name=""/>
            <p:cNvSpPr/>
            <p:nvPr/>
          </p:nvSpPr>
          <p:spPr>
            <a:xfrm>
              <a:off x="762012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8483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3055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076960" y="33145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899120" y="2895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924680" y="2438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8001000" y="325080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076960" y="325080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076960" y="279360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076960" y="279360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772040" y="279360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76212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6212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10080" y="365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10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2743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952880" y="297180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5029200" y="5486040"/>
            <a:ext cx="1600200" cy="1130760"/>
            <a:chOff x="5029200" y="5486040"/>
            <a:chExt cx="1600200" cy="1130760"/>
          </a:xfrm>
        </p:grpSpPr>
        <p:sp>
          <p:nvSpPr>
            <p:cNvPr id="2002" name=""/>
            <p:cNvSpPr/>
            <p:nvPr/>
          </p:nvSpPr>
          <p:spPr>
            <a:xfrm flipV="1">
              <a:off x="6095880" y="548604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29200" y="5791320"/>
              <a:ext cx="1600200" cy="825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Empty push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5800" y="3962520"/>
            <a:ext cx="3200400" cy="520560"/>
            <a:chOff x="685800" y="3962520"/>
            <a:chExt cx="3200400" cy="520560"/>
          </a:xfrm>
        </p:grpSpPr>
        <p:grpSp>
          <p:nvGrpSpPr>
            <p:cNvPr id="2005" name=""/>
            <p:cNvGrpSpPr/>
            <p:nvPr/>
          </p:nvGrpSpPr>
          <p:grpSpPr>
            <a:xfrm>
              <a:off x="1066680" y="3962520"/>
              <a:ext cx="381240" cy="520560"/>
              <a:chOff x="1066680" y="3962520"/>
              <a:chExt cx="381240" cy="520560"/>
            </a:xfrm>
          </p:grpSpPr>
          <p:sp>
            <p:nvSpPr>
              <p:cNvPr id="2006" name=""/>
              <p:cNvSpPr/>
              <p:nvPr/>
            </p:nvSpPr>
            <p:spPr>
              <a:xfrm>
                <a:off x="10666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0666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1905120" y="3962520"/>
              <a:ext cx="431280" cy="520560"/>
              <a:chOff x="1905120" y="3962520"/>
              <a:chExt cx="431280" cy="520560"/>
            </a:xfrm>
          </p:grpSpPr>
          <p:sp>
            <p:nvSpPr>
              <p:cNvPr id="2009" name=""/>
              <p:cNvSpPr/>
              <p:nvPr/>
            </p:nvSpPr>
            <p:spPr>
              <a:xfrm>
                <a:off x="1905120" y="40514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9555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124080" y="3962520"/>
              <a:ext cx="381240" cy="520560"/>
              <a:chOff x="3124080" y="3962520"/>
              <a:chExt cx="381240" cy="520560"/>
            </a:xfrm>
          </p:grpSpPr>
          <p:sp>
            <p:nvSpPr>
              <p:cNvPr id="2012" name=""/>
              <p:cNvSpPr/>
              <p:nvPr/>
            </p:nvSpPr>
            <p:spPr>
              <a:xfrm>
                <a:off x="3124080" y="40388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124080" y="3962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2743200" y="3962520"/>
              <a:ext cx="380880" cy="520560"/>
              <a:chOff x="2743200" y="3962520"/>
              <a:chExt cx="380880" cy="520560"/>
            </a:xfrm>
          </p:grpSpPr>
          <p:sp>
            <p:nvSpPr>
              <p:cNvPr id="2015" name=""/>
              <p:cNvSpPr/>
              <p:nvPr/>
            </p:nvSpPr>
            <p:spPr>
              <a:xfrm>
                <a:off x="27432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432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2362320" y="3962520"/>
              <a:ext cx="380880" cy="520560"/>
              <a:chOff x="2362320" y="3962520"/>
              <a:chExt cx="380880" cy="520560"/>
            </a:xfrm>
          </p:grpSpPr>
          <p:sp>
            <p:nvSpPr>
              <p:cNvPr id="2018" name=""/>
              <p:cNvSpPr/>
              <p:nvPr/>
            </p:nvSpPr>
            <p:spPr>
              <a:xfrm>
                <a:off x="2362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362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3505320" y="3962520"/>
              <a:ext cx="380880" cy="520560"/>
              <a:chOff x="3505320" y="3962520"/>
              <a:chExt cx="380880" cy="520560"/>
            </a:xfrm>
          </p:grpSpPr>
          <p:sp>
            <p:nvSpPr>
              <p:cNvPr id="2021" name=""/>
              <p:cNvSpPr/>
              <p:nvPr/>
            </p:nvSpPr>
            <p:spPr>
              <a:xfrm>
                <a:off x="35053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5053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85800" y="3962520"/>
              <a:ext cx="380880" cy="520560"/>
              <a:chOff x="685800" y="3962520"/>
              <a:chExt cx="380880" cy="520560"/>
            </a:xfrm>
          </p:grpSpPr>
          <p:sp>
            <p:nvSpPr>
              <p:cNvPr id="2024" name=""/>
              <p:cNvSpPr/>
              <p:nvPr/>
            </p:nvSpPr>
            <p:spPr>
              <a:xfrm>
                <a:off x="68580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580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447920" y="3962520"/>
              <a:ext cx="380880" cy="520560"/>
              <a:chOff x="1447920" y="3962520"/>
              <a:chExt cx="380880" cy="520560"/>
            </a:xfrm>
          </p:grpSpPr>
          <p:sp>
            <p:nvSpPr>
              <p:cNvPr id="2027" name=""/>
              <p:cNvSpPr/>
              <p:nvPr/>
            </p:nvSpPr>
            <p:spPr>
              <a:xfrm>
                <a:off x="1447920" y="40388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447920" y="39625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9" name=""/>
          <p:cNvSpPr/>
          <p:nvPr/>
        </p:nvSpPr>
        <p:spPr>
          <a:xfrm flipH="1">
            <a:off x="533520" y="44956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066680" y="4876920"/>
            <a:ext cx="2438640" cy="520560"/>
            <a:chOff x="1066680" y="4876920"/>
            <a:chExt cx="2438640" cy="520560"/>
          </a:xfrm>
        </p:grpSpPr>
        <p:grpSp>
          <p:nvGrpSpPr>
            <p:cNvPr id="2031" name=""/>
            <p:cNvGrpSpPr/>
            <p:nvPr/>
          </p:nvGrpSpPr>
          <p:grpSpPr>
            <a:xfrm>
              <a:off x="1447920" y="4876920"/>
              <a:ext cx="380880" cy="520560"/>
              <a:chOff x="1447920" y="4876920"/>
              <a:chExt cx="380880" cy="520560"/>
            </a:xfrm>
          </p:grpSpPr>
          <p:sp>
            <p:nvSpPr>
              <p:cNvPr id="2032" name=""/>
              <p:cNvSpPr/>
              <p:nvPr/>
            </p:nvSpPr>
            <p:spPr>
              <a:xfrm>
                <a:off x="14479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4479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1905120" y="4876920"/>
              <a:ext cx="431280" cy="520560"/>
              <a:chOff x="1905120" y="4876920"/>
              <a:chExt cx="431280" cy="520560"/>
            </a:xfrm>
          </p:grpSpPr>
          <p:sp>
            <p:nvSpPr>
              <p:cNvPr id="2035" name=""/>
              <p:cNvSpPr/>
              <p:nvPr/>
            </p:nvSpPr>
            <p:spPr>
              <a:xfrm>
                <a:off x="1905120" y="49658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9555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743200" y="4876920"/>
              <a:ext cx="380880" cy="520560"/>
              <a:chOff x="2743200" y="4876920"/>
              <a:chExt cx="380880" cy="520560"/>
            </a:xfrm>
          </p:grpSpPr>
          <p:sp>
            <p:nvSpPr>
              <p:cNvPr id="2038" name=""/>
              <p:cNvSpPr/>
              <p:nvPr/>
            </p:nvSpPr>
            <p:spPr>
              <a:xfrm>
                <a:off x="274320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74320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2362320" y="4876920"/>
              <a:ext cx="380880" cy="520560"/>
              <a:chOff x="2362320" y="4876920"/>
              <a:chExt cx="380880" cy="520560"/>
            </a:xfrm>
          </p:grpSpPr>
          <p:sp>
            <p:nvSpPr>
              <p:cNvPr id="2041" name=""/>
              <p:cNvSpPr/>
              <p:nvPr/>
            </p:nvSpPr>
            <p:spPr>
              <a:xfrm>
                <a:off x="2362320" y="49532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362320" y="48769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3124080" y="4876920"/>
              <a:ext cx="381240" cy="520560"/>
              <a:chOff x="3124080" y="4876920"/>
              <a:chExt cx="381240" cy="520560"/>
            </a:xfrm>
          </p:grpSpPr>
          <p:sp>
            <p:nvSpPr>
              <p:cNvPr id="2044" name=""/>
              <p:cNvSpPr/>
              <p:nvPr/>
            </p:nvSpPr>
            <p:spPr>
              <a:xfrm>
                <a:off x="31240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1240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1066680" y="4876920"/>
              <a:ext cx="381240" cy="520560"/>
              <a:chOff x="1066680" y="4876920"/>
              <a:chExt cx="381240" cy="520560"/>
            </a:xfrm>
          </p:grpSpPr>
          <p:sp>
            <p:nvSpPr>
              <p:cNvPr id="2047" name=""/>
              <p:cNvSpPr/>
              <p:nvPr/>
            </p:nvSpPr>
            <p:spPr>
              <a:xfrm>
                <a:off x="1066680" y="49532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066680" y="48769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9" name=""/>
          <p:cNvSpPr/>
          <p:nvPr/>
        </p:nvSpPr>
        <p:spPr>
          <a:xfrm flipH="1">
            <a:off x="914400" y="541008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85800" y="5791320"/>
            <a:ext cx="2819520" cy="520560"/>
            <a:chOff x="685800" y="5791320"/>
            <a:chExt cx="2819520" cy="520560"/>
          </a:xfrm>
        </p:grpSpPr>
        <p:grpSp>
          <p:nvGrpSpPr>
            <p:cNvPr id="2051" name=""/>
            <p:cNvGrpSpPr/>
            <p:nvPr/>
          </p:nvGrpSpPr>
          <p:grpSpPr>
            <a:xfrm>
              <a:off x="1905120" y="5791320"/>
              <a:ext cx="431280" cy="520560"/>
              <a:chOff x="1905120" y="5791320"/>
              <a:chExt cx="431280" cy="520560"/>
            </a:xfrm>
          </p:grpSpPr>
          <p:sp>
            <p:nvSpPr>
              <p:cNvPr id="2052" name=""/>
              <p:cNvSpPr/>
              <p:nvPr/>
            </p:nvSpPr>
            <p:spPr>
              <a:xfrm>
                <a:off x="1905120" y="58802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9555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2743200" y="5791320"/>
              <a:ext cx="381240" cy="520560"/>
              <a:chOff x="2743200" y="5791320"/>
              <a:chExt cx="381240" cy="520560"/>
            </a:xfrm>
          </p:grpSpPr>
          <p:sp>
            <p:nvSpPr>
              <p:cNvPr id="2055" name=""/>
              <p:cNvSpPr/>
              <p:nvPr/>
            </p:nvSpPr>
            <p:spPr>
              <a:xfrm>
                <a:off x="27432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432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2362320" y="5791320"/>
              <a:ext cx="380880" cy="520560"/>
              <a:chOff x="2362320" y="5791320"/>
              <a:chExt cx="380880" cy="520560"/>
            </a:xfrm>
          </p:grpSpPr>
          <p:sp>
            <p:nvSpPr>
              <p:cNvPr id="2058" name=""/>
              <p:cNvSpPr/>
              <p:nvPr/>
            </p:nvSpPr>
            <p:spPr>
              <a:xfrm>
                <a:off x="23623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3623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3124440" y="5791320"/>
              <a:ext cx="380880" cy="520560"/>
              <a:chOff x="3124440" y="5791320"/>
              <a:chExt cx="380880" cy="520560"/>
            </a:xfrm>
          </p:grpSpPr>
          <p:sp>
            <p:nvSpPr>
              <p:cNvPr id="2061" name=""/>
              <p:cNvSpPr/>
              <p:nvPr/>
            </p:nvSpPr>
            <p:spPr>
              <a:xfrm>
                <a:off x="31244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1244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685800" y="5791320"/>
              <a:ext cx="381240" cy="520560"/>
              <a:chOff x="685800" y="5791320"/>
              <a:chExt cx="381240" cy="520560"/>
            </a:xfrm>
          </p:grpSpPr>
          <p:sp>
            <p:nvSpPr>
              <p:cNvPr id="2064" name=""/>
              <p:cNvSpPr/>
              <p:nvPr/>
            </p:nvSpPr>
            <p:spPr>
              <a:xfrm>
                <a:off x="685800" y="586764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85800" y="57913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1067040" y="5791320"/>
              <a:ext cx="380880" cy="520560"/>
              <a:chOff x="1067040" y="5791320"/>
              <a:chExt cx="380880" cy="520560"/>
            </a:xfrm>
          </p:grpSpPr>
          <p:sp>
            <p:nvSpPr>
              <p:cNvPr id="2067" name=""/>
              <p:cNvSpPr/>
              <p:nvPr/>
            </p:nvSpPr>
            <p:spPr>
              <a:xfrm>
                <a:off x="106704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06704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1447920" y="5791320"/>
              <a:ext cx="380880" cy="520560"/>
              <a:chOff x="1447920" y="5791320"/>
              <a:chExt cx="380880" cy="520560"/>
            </a:xfrm>
          </p:grpSpPr>
          <p:sp>
            <p:nvSpPr>
              <p:cNvPr id="2070" name=""/>
              <p:cNvSpPr/>
              <p:nvPr/>
            </p:nvSpPr>
            <p:spPr>
              <a:xfrm>
                <a:off x="1447920" y="586764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7920" y="5791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2" name=""/>
          <p:cNvGrpSpPr/>
          <p:nvPr/>
        </p:nvGrpSpPr>
        <p:grpSpPr>
          <a:xfrm>
            <a:off x="5410080" y="3124080"/>
            <a:ext cx="2057400" cy="520560"/>
            <a:chOff x="5410080" y="3124080"/>
            <a:chExt cx="2057400" cy="520560"/>
          </a:xfrm>
        </p:grpSpPr>
        <p:grpSp>
          <p:nvGrpSpPr>
            <p:cNvPr id="2073" name=""/>
            <p:cNvGrpSpPr/>
            <p:nvPr/>
          </p:nvGrpSpPr>
          <p:grpSpPr>
            <a:xfrm>
              <a:off x="6248520" y="3124080"/>
              <a:ext cx="431280" cy="520560"/>
              <a:chOff x="6248520" y="3124080"/>
              <a:chExt cx="431280" cy="520560"/>
            </a:xfrm>
          </p:grpSpPr>
          <p:sp>
            <p:nvSpPr>
              <p:cNvPr id="2074" name=""/>
              <p:cNvSpPr/>
              <p:nvPr/>
            </p:nvSpPr>
            <p:spPr>
              <a:xfrm>
                <a:off x="6248520" y="32130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2989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705720" y="3124080"/>
              <a:ext cx="380880" cy="520560"/>
              <a:chOff x="6705720" y="3124080"/>
              <a:chExt cx="380880" cy="520560"/>
            </a:xfrm>
          </p:grpSpPr>
          <p:sp>
            <p:nvSpPr>
              <p:cNvPr id="2077" name=""/>
              <p:cNvSpPr/>
              <p:nvPr/>
            </p:nvSpPr>
            <p:spPr>
              <a:xfrm>
                <a:off x="67057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7057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86600" y="3124080"/>
              <a:ext cx="380880" cy="520560"/>
              <a:chOff x="7086600" y="3124080"/>
              <a:chExt cx="380880" cy="520560"/>
            </a:xfrm>
          </p:grpSpPr>
          <p:sp>
            <p:nvSpPr>
              <p:cNvPr id="2080" name=""/>
              <p:cNvSpPr/>
              <p:nvPr/>
            </p:nvSpPr>
            <p:spPr>
              <a:xfrm>
                <a:off x="708660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8660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5410080" y="3124080"/>
              <a:ext cx="381240" cy="520560"/>
              <a:chOff x="5410080" y="3124080"/>
              <a:chExt cx="381240" cy="520560"/>
            </a:xfrm>
          </p:grpSpPr>
          <p:sp>
            <p:nvSpPr>
              <p:cNvPr id="2083" name=""/>
              <p:cNvSpPr/>
              <p:nvPr/>
            </p:nvSpPr>
            <p:spPr>
              <a:xfrm>
                <a:off x="5410080" y="3200400"/>
                <a:ext cx="38124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410080" y="31240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791320" y="3124080"/>
              <a:ext cx="380880" cy="520560"/>
              <a:chOff x="5791320" y="3124080"/>
              <a:chExt cx="380880" cy="520560"/>
            </a:xfrm>
          </p:grpSpPr>
          <p:sp>
            <p:nvSpPr>
              <p:cNvPr id="2086" name=""/>
              <p:cNvSpPr/>
              <p:nvPr/>
            </p:nvSpPr>
            <p:spPr>
              <a:xfrm>
                <a:off x="5791320" y="32004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913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8" name=""/>
          <p:cNvGrpSpPr/>
          <p:nvPr/>
        </p:nvGrpSpPr>
        <p:grpSpPr>
          <a:xfrm>
            <a:off x="5791320" y="4038480"/>
            <a:ext cx="1295280" cy="520560"/>
            <a:chOff x="5791320" y="4038480"/>
            <a:chExt cx="1295280" cy="520560"/>
          </a:xfrm>
        </p:grpSpPr>
        <p:grpSp>
          <p:nvGrpSpPr>
            <p:cNvPr id="2089" name=""/>
            <p:cNvGrpSpPr/>
            <p:nvPr/>
          </p:nvGrpSpPr>
          <p:grpSpPr>
            <a:xfrm>
              <a:off x="6248520" y="4038480"/>
              <a:ext cx="431280" cy="520560"/>
              <a:chOff x="6248520" y="4038480"/>
              <a:chExt cx="431280" cy="520560"/>
            </a:xfrm>
          </p:grpSpPr>
          <p:sp>
            <p:nvSpPr>
              <p:cNvPr id="2090" name=""/>
              <p:cNvSpPr/>
              <p:nvPr/>
            </p:nvSpPr>
            <p:spPr>
              <a:xfrm>
                <a:off x="6248520" y="412740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2989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6705720" y="4038480"/>
              <a:ext cx="380880" cy="520560"/>
              <a:chOff x="6705720" y="4038480"/>
              <a:chExt cx="380880" cy="520560"/>
            </a:xfrm>
          </p:grpSpPr>
          <p:sp>
            <p:nvSpPr>
              <p:cNvPr id="2093" name=""/>
              <p:cNvSpPr/>
              <p:nvPr/>
            </p:nvSpPr>
            <p:spPr>
              <a:xfrm>
                <a:off x="67057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7057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791320" y="4038480"/>
              <a:ext cx="380880" cy="520560"/>
              <a:chOff x="5791320" y="4038480"/>
              <a:chExt cx="380880" cy="520560"/>
            </a:xfrm>
          </p:grpSpPr>
          <p:sp>
            <p:nvSpPr>
              <p:cNvPr id="2096" name=""/>
              <p:cNvSpPr/>
              <p:nvPr/>
            </p:nvSpPr>
            <p:spPr>
              <a:xfrm>
                <a:off x="5791320" y="4114800"/>
                <a:ext cx="380880" cy="38088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791320" y="4038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8" name=""/>
          <p:cNvSpPr/>
          <p:nvPr/>
        </p:nvSpPr>
        <p:spPr>
          <a:xfrm flipH="1">
            <a:off x="5638680" y="457200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6095880" y="5029200"/>
            <a:ext cx="685800" cy="520560"/>
            <a:chOff x="6095880" y="5029200"/>
            <a:chExt cx="685800" cy="520560"/>
          </a:xfrm>
        </p:grpSpPr>
        <p:sp>
          <p:nvSpPr>
            <p:cNvPr id="2100" name=""/>
            <p:cNvSpPr/>
            <p:nvPr/>
          </p:nvSpPr>
          <p:spPr>
            <a:xfrm>
              <a:off x="6095880" y="5105520"/>
              <a:ext cx="76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248520" y="5029200"/>
              <a:ext cx="431280" cy="520560"/>
              <a:chOff x="6248520" y="5029200"/>
              <a:chExt cx="431280" cy="520560"/>
            </a:xfrm>
          </p:grpSpPr>
          <p:sp>
            <p:nvSpPr>
              <p:cNvPr id="2102" name=""/>
              <p:cNvSpPr/>
              <p:nvPr/>
            </p:nvSpPr>
            <p:spPr>
              <a:xfrm>
                <a:off x="6248520" y="511812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298920" y="5029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6705720" y="5105520"/>
              <a:ext cx="75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3962520" y="3581280"/>
            <a:ext cx="990000" cy="916920"/>
            <a:chOff x="3962520" y="3581280"/>
            <a:chExt cx="990000" cy="916920"/>
          </a:xfrm>
        </p:grpSpPr>
        <p:sp>
          <p:nvSpPr>
            <p:cNvPr id="2106" name=""/>
            <p:cNvSpPr/>
            <p:nvPr/>
          </p:nvSpPr>
          <p:spPr>
            <a:xfrm>
              <a:off x="39625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4796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41520" y="40384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67080" y="35812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419360" y="39369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41936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4114440" y="39369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3" name=""/>
          <p:cNvSpPr/>
          <p:nvPr/>
        </p:nvSpPr>
        <p:spPr>
          <a:xfrm>
            <a:off x="42670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3962520" y="4495680"/>
            <a:ext cx="990000" cy="916920"/>
            <a:chOff x="3962520" y="4495680"/>
            <a:chExt cx="990000" cy="916920"/>
          </a:xfrm>
        </p:grpSpPr>
        <p:sp>
          <p:nvSpPr>
            <p:cNvPr id="2115" name=""/>
            <p:cNvSpPr/>
            <p:nvPr/>
          </p:nvSpPr>
          <p:spPr>
            <a:xfrm>
              <a:off x="396252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47960" y="4952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241520" y="49528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67080" y="4495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419360" y="4851360"/>
              <a:ext cx="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41936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114440" y="4851360"/>
              <a:ext cx="3045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620120" y="3657600"/>
            <a:ext cx="990000" cy="1335960"/>
            <a:chOff x="7620120" y="3657600"/>
            <a:chExt cx="990000" cy="1335960"/>
          </a:xfrm>
        </p:grpSpPr>
        <p:sp>
          <p:nvSpPr>
            <p:cNvPr id="2123" name=""/>
            <p:cNvSpPr/>
            <p:nvPr/>
          </p:nvSpPr>
          <p:spPr>
            <a:xfrm>
              <a:off x="762012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8483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3055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6960" y="45338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912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924680" y="36576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8001000" y="447012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076960" y="447012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6960" y="401292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076960" y="401292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7772040" y="401292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2520" y="5334120"/>
            <a:ext cx="990000" cy="1335960"/>
            <a:chOff x="3962520" y="5334120"/>
            <a:chExt cx="990000" cy="1335960"/>
          </a:xfrm>
        </p:grpSpPr>
        <p:sp>
          <p:nvSpPr>
            <p:cNvPr id="2135" name=""/>
            <p:cNvSpPr/>
            <p:nvPr/>
          </p:nvSpPr>
          <p:spPr>
            <a:xfrm>
              <a:off x="396252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07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6479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19360" y="621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241520" y="5791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267080" y="53341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343400" y="61466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419360" y="61466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419360" y="56894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19360" y="56894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114440" y="56894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620120" y="4876920"/>
            <a:ext cx="990000" cy="1335960"/>
            <a:chOff x="7620120" y="4876920"/>
            <a:chExt cx="990000" cy="1335960"/>
          </a:xfrm>
        </p:grpSpPr>
        <p:sp>
          <p:nvSpPr>
            <p:cNvPr id="2147" name=""/>
            <p:cNvSpPr/>
            <p:nvPr/>
          </p:nvSpPr>
          <p:spPr>
            <a:xfrm>
              <a:off x="762012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8483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055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076960" y="575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991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924680" y="48769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8001000" y="5689440"/>
              <a:ext cx="75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076960" y="5689440"/>
              <a:ext cx="75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076960" y="5232240"/>
              <a:ext cx="0" cy="22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76960" y="5232240"/>
              <a:ext cx="30456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7772040" y="5232240"/>
              <a:ext cx="304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4038480" y="4419720"/>
            <a:ext cx="8384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343400" y="5334120"/>
            <a:ext cx="5335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267080" y="6629400"/>
            <a:ext cx="6098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8305920" y="4952880"/>
            <a:ext cx="228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1447920" y="3048120"/>
            <a:ext cx="2438280" cy="558720"/>
            <a:chOff x="1447920" y="3048120"/>
            <a:chExt cx="2438280" cy="558720"/>
          </a:xfrm>
        </p:grpSpPr>
        <p:grpSp>
          <p:nvGrpSpPr>
            <p:cNvPr id="2164" name=""/>
            <p:cNvGrpSpPr/>
            <p:nvPr/>
          </p:nvGrpSpPr>
          <p:grpSpPr>
            <a:xfrm>
              <a:off x="1447920" y="3086280"/>
              <a:ext cx="380880" cy="520560"/>
              <a:chOff x="1447920" y="3086280"/>
              <a:chExt cx="380880" cy="520560"/>
            </a:xfrm>
          </p:grpSpPr>
          <p:sp>
            <p:nvSpPr>
              <p:cNvPr id="2165" name=""/>
              <p:cNvSpPr/>
              <p:nvPr/>
            </p:nvSpPr>
            <p:spPr>
              <a:xfrm>
                <a:off x="14479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4479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905120" y="3048120"/>
              <a:ext cx="431280" cy="520560"/>
              <a:chOff x="1905120" y="3048120"/>
              <a:chExt cx="431280" cy="520560"/>
            </a:xfrm>
          </p:grpSpPr>
          <p:sp>
            <p:nvSpPr>
              <p:cNvPr id="2168" name=""/>
              <p:cNvSpPr/>
              <p:nvPr/>
            </p:nvSpPr>
            <p:spPr>
              <a:xfrm>
                <a:off x="1905120" y="3137040"/>
                <a:ext cx="380880" cy="3808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955520" y="3048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9933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3124080" y="3086280"/>
              <a:ext cx="381240" cy="520560"/>
              <a:chOff x="3124080" y="3086280"/>
              <a:chExt cx="381240" cy="520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3124080" y="3162240"/>
                <a:ext cx="38124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124080" y="3086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2743200" y="3086280"/>
              <a:ext cx="380880" cy="520560"/>
              <a:chOff x="2743200" y="3086280"/>
              <a:chExt cx="380880" cy="520560"/>
            </a:xfrm>
          </p:grpSpPr>
          <p:sp>
            <p:nvSpPr>
              <p:cNvPr id="2174" name=""/>
              <p:cNvSpPr/>
              <p:nvPr/>
            </p:nvSpPr>
            <p:spPr>
              <a:xfrm>
                <a:off x="274320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4320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2362320" y="3086280"/>
              <a:ext cx="380880" cy="520560"/>
              <a:chOff x="2362320" y="3086280"/>
              <a:chExt cx="380880" cy="520560"/>
            </a:xfrm>
          </p:grpSpPr>
          <p:sp>
            <p:nvSpPr>
              <p:cNvPr id="2177" name=""/>
              <p:cNvSpPr/>
              <p:nvPr/>
            </p:nvSpPr>
            <p:spPr>
              <a:xfrm>
                <a:off x="2362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62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3505320" y="3086280"/>
              <a:ext cx="380880" cy="520560"/>
              <a:chOff x="3505320" y="3086280"/>
              <a:chExt cx="380880" cy="520560"/>
            </a:xfrm>
          </p:grpSpPr>
          <p:sp>
            <p:nvSpPr>
              <p:cNvPr id="2180" name=""/>
              <p:cNvSpPr/>
              <p:nvPr/>
            </p:nvSpPr>
            <p:spPr>
              <a:xfrm>
                <a:off x="3505320" y="3162240"/>
                <a:ext cx="380880" cy="3805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505320" y="3086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2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343400" y="3429000"/>
            <a:ext cx="3049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457200" y="6324480"/>
            <a:ext cx="129528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5257800" y="3657600"/>
            <a:ext cx="9144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48320" y="464832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388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FG. Le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rectly deri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30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581280"/>
            <a:ext cx="7925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also say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change of a string by a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6483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6483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648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6200" y="5181120"/>
            <a:ext cx="6365880" cy="1371960"/>
            <a:chOff x="646200" y="5181120"/>
            <a:chExt cx="6365880" cy="1371960"/>
          </a:xfrm>
        </p:grpSpPr>
        <p:sp>
          <p:nvSpPr>
            <p:cNvPr id="113" name=""/>
            <p:cNvSpPr/>
            <p:nvPr/>
          </p:nvSpPr>
          <p:spPr>
            <a:xfrm>
              <a:off x="646200" y="5257800"/>
              <a:ext cx="221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: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267080" y="5180760"/>
              <a:ext cx="1295640" cy="838440"/>
            </a:xfrm>
            <a:custGeom>
              <a:avLst/>
              <a:gdLst>
                <a:gd name="textAreaLeft" fmla="*/ 325440 w 1295640"/>
                <a:gd name="textAreaRight" fmla="*/ 970200 w 1295640"/>
                <a:gd name="textAreaTop" fmla="*/ 210600 h 838440"/>
                <a:gd name="textAreaBottom" fmla="*/ 627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6095880"/>
              <a:ext cx="1373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20004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42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5410080"/>
              <a:ext cx="838440" cy="53352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54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526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9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6095880"/>
              <a:ext cx="13734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58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53080" y="60958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6400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257080" y="5181480"/>
              <a:ext cx="1676520" cy="838440"/>
            </a:xfrm>
            <a:prstGeom prst="parallelogram">
              <a:avLst>
                <a:gd name="adj" fmla="val 4638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03812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42880" y="53341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5257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"/>
          <p:cNvSpPr/>
          <p:nvPr/>
        </p:nvSpPr>
        <p:spPr>
          <a:xfrm>
            <a:off x="685800" y="45720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Models for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85800" y="114300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85800" y="2895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3886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486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85800" y="2819520"/>
            <a:ext cx="7696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 CF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89040" y="5485680"/>
            <a:ext cx="41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xt-free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803480" y="5485680"/>
            <a:ext cx="36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shdown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-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in symbol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352680"/>
            <a:ext cx="7772400" cy="2895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34340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02920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 derivation step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5627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, simpl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derivation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pe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r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ritten 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7339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Derivation Step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57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a CFG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06440"/>
            <a:ext cx="83934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let </a:t>
            </a:r>
            <a:r>
              <a:rPr b="1" i="1" lang="cs-CZ" sz="3000" spc="-1" strike="noStrike">
                <a:solidFill>
                  <a:srgbClr val="ff9933"/>
                </a:solidFill>
                <a:latin typeface="Times New Roman"/>
              </a:rPr>
              <a:t>w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43000" y="4902480"/>
            <a:ext cx="4724280" cy="1148400"/>
            <a:chOff x="1143000" y="4902480"/>
            <a:chExt cx="4724280" cy="1148400"/>
          </a:xfrm>
        </p:grpSpPr>
        <p:sp>
          <p:nvSpPr>
            <p:cNvPr id="163" name=""/>
            <p:cNvSpPr/>
            <p:nvPr/>
          </p:nvSpPr>
          <p:spPr>
            <a:xfrm>
              <a:off x="1143000" y="4902480"/>
              <a:ext cx="472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3800" y="5469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6200000">
              <a:off x="4724280" y="4783680"/>
              <a:ext cx="152280" cy="15242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1523520" y="4556160"/>
            <a:ext cx="1295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066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enerate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 terminal string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by a sequence of derivation steps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61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24280" y="4937040"/>
            <a:ext cx="4191120" cy="1633320"/>
            <a:chOff x="4724280" y="4937040"/>
            <a:chExt cx="4191120" cy="1633320"/>
          </a:xfrm>
        </p:grpSpPr>
        <p:sp>
          <p:nvSpPr>
            <p:cNvPr id="171" name=""/>
            <p:cNvSpPr/>
            <p:nvPr/>
          </p:nvSpPr>
          <p:spPr>
            <a:xfrm>
              <a:off x="5715000" y="493704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n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592776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therwise, </a:t>
              </a:r>
              <a:r>
                <a:rPr b="1" i="1" lang="cs-CZ" sz="3600" spc="-1" strike="noStrike">
                  <a:solidFill>
                    <a:srgbClr val="ff9933"/>
                  </a:solidFill>
                  <a:latin typeface="Times New Roman"/>
                </a:rPr>
                <a:t>w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cs-CZ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09480" y="3657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6765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text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there exists 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ext-free grammar 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enera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048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6095880"/>
            <a:ext cx="7010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}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CF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-Free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F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language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ted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a C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495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7720" y="4419720"/>
            <a:ext cx="182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800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5181480"/>
            <a:ext cx="601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b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ab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4000" y="5638680"/>
            <a:ext cx="66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05120" y="4343400"/>
            <a:ext cx="4495680" cy="520560"/>
            <a:chOff x="1905120" y="4343400"/>
            <a:chExt cx="4495680" cy="520560"/>
          </a:xfrm>
        </p:grpSpPr>
        <p:sp>
          <p:nvSpPr>
            <p:cNvPr id="189" name=""/>
            <p:cNvSpPr/>
            <p:nvPr/>
          </p:nvSpPr>
          <p:spPr>
            <a:xfrm>
              <a:off x="5486400" y="43434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05120" y="4464000"/>
              <a:ext cx="3593880" cy="108000"/>
            </a:xfrm>
            <a:custGeom>
              <a:avLst/>
              <a:gdLst/>
              <a:ahLst/>
              <a:rect l="l" t="t" r="r" b="b"/>
              <a:pathLst>
                <a:path w="2264" h="68">
                  <a:moveTo>
                    <a:pt x="0" y="68"/>
                  </a:moveTo>
                  <a:cubicBezTo>
                    <a:pt x="52" y="60"/>
                    <a:pt x="92" y="31"/>
                    <a:pt x="312" y="20"/>
                  </a:cubicBezTo>
                  <a:cubicBezTo>
                    <a:pt x="532" y="9"/>
                    <a:pt x="995" y="0"/>
                    <a:pt x="1320" y="4"/>
                  </a:cubicBezTo>
                  <a:cubicBezTo>
                    <a:pt x="1645" y="8"/>
                    <a:pt x="2067" y="36"/>
                    <a:pt x="2264" y="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429000" y="4724280"/>
            <a:ext cx="2044800" cy="235080"/>
          </a:xfrm>
          <a:custGeom>
            <a:avLst/>
            <a:gdLst/>
            <a:ahLst/>
            <a:rect l="l" t="t" r="r" b="b"/>
            <a:pathLst>
              <a:path w="1288" h="148">
                <a:moveTo>
                  <a:pt x="0" y="148"/>
                </a:moveTo>
                <a:cubicBezTo>
                  <a:pt x="57" y="130"/>
                  <a:pt x="199" y="51"/>
                  <a:pt x="344" y="40"/>
                </a:cubicBezTo>
                <a:cubicBezTo>
                  <a:pt x="489" y="29"/>
                  <a:pt x="715" y="87"/>
                  <a:pt x="872" y="80"/>
                </a:cubicBezTo>
                <a:cubicBezTo>
                  <a:pt x="1029" y="73"/>
                  <a:pt x="1201" y="17"/>
                  <a:pt x="12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788000"/>
            <a:ext cx="190440" cy="538200"/>
          </a:xfrm>
          <a:custGeom>
            <a:avLst/>
            <a:gdLst/>
            <a:ahLst/>
            <a:rect l="l" t="t" r="r" b="b"/>
            <a:pathLst>
              <a:path w="120" h="339">
                <a:moveTo>
                  <a:pt x="0" y="339"/>
                </a:moveTo>
                <a:cubicBezTo>
                  <a:pt x="5" y="311"/>
                  <a:pt x="12" y="224"/>
                  <a:pt x="32" y="168"/>
                </a:cubicBezTo>
                <a:cubicBezTo>
                  <a:pt x="52" y="112"/>
                  <a:pt x="102" y="35"/>
                  <a:pt x="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343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57Z</dcterms:modified>
  <cp:revision>184</cp:revision>
  <dc:subject/>
  <dc:title>Models for Context-Free Languages</dc:title>
</cp:coreProperties>
</file>