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C60-C027-4080-B7A4-E2522B0F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E27-8F24-406F-9EC8-863997B4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58F-1735-48CA-AC1E-30334739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28E-A2B0-4684-83C6-298DF9DE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DAF-5091-42B3-BB85-5EF7DACB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DCDF-DC55-4ED9-9E7C-54B2B1D5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B70-83B6-4807-A9E1-1E13A7C0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2EE-AC20-4D87-A9C8-3D5F1995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0674-27D7-47B8-9FD6-A3C1DC85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AF5-33C5-473B-A9C4-5D7B8663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A2A3-8655-415C-998E-183DBF4C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74B-3DA3-4E58-96ED-E7EDF5A8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90A9-9B7C-4C9D-A4FA-21B926D0A31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4:47Z</dcterms:modified>
  <cp:revision>191</cp:revision>
  <dc:subject/>
  <dc:title>Normal Forms and Properties of CFLs</dc:title>
</cp:coreProperties>
</file>