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2602-231B-422E-9094-669E33435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56DE-F8F4-430D-AC60-064ECAF1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8A55-6CEE-457F-97BA-9CB72365E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AD8A-7C11-48FF-B6D3-D3694CA37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E9F0-917D-4045-9146-1681A58BE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9CB6-AA21-495A-A039-20C8FDA2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5B9A-7762-43A3-84D3-FF280E8B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7888-DA37-4A83-B880-38A1E2C3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D44E-8DAC-41CB-9F94-74171E1D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A17B-EE6A-4388-8681-8B1B42B5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B352-5282-4146-81B6-9C7BD7BC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1EED-E20B-4CC0-88D3-EA36401B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54B5-0899-4980-BE33-FC4135C7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BA935-9F17-47D1-817E-7C5A8A49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78B6-288B-4B26-BB97-156A4F76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3CEC-6AA2-4768-9D19-6B6786809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43E3-64EE-4DC3-B4A5-F48A2A211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D9BE-18BE-4AF1-BE01-D2A3081D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7CD6-0727-41BF-8698-6CE0CC0F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3BCE-4EEC-4D6B-9492-0F228A97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C30E-B5BF-4E03-A96D-41FD5B7B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5B28-CE20-4EDC-BB95-1038E6FF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FD85-D9D5-49F5-8E62-6BEC7761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10F5-8CEC-4D2E-B2B4-938F2D0D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0D6F-881E-422F-B635-7121D29804C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3595-6281-4C1E-950C-AC245F07AED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749484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sertion and Deletion Operations in Formal Language Theory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835280" y="4941720"/>
                <a:ext cx="567216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sSub>
                          <m:e>
                            <m:r>
                              <m:t xml:space="preserve">←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90560" y="2565360"/>
                <a:ext cx="835344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2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abb},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cd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←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}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35280" y="1809720"/>
            <a:ext cx="6048360" cy="50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9850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Mapping epsil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408720" cy="4443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164360" y="3860640"/>
                <a:ext cx="15480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24" name=""/>
          <p:cNvGraphicFramePr/>
          <p:nvPr/>
        </p:nvGraphicFramePr>
        <p:xfrm>
          <a:off x="4356000" y="4724280"/>
          <a:ext cx="4540320" cy="2070360"/>
        </p:xfrm>
        <a:graphic>
          <a:graphicData uri="http://schemas.openxmlformats.org/drawingml/2006/table">
            <a:tbl>
              <a:tblPr/>
              <a:tblGrid>
                <a:gridCol w="2592360"/>
                <a:gridCol w="1947960"/>
              </a:tblGrid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e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rom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7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, D, E,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5508720" y="2492280"/>
            <a:ext cx="194292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03280" y="5950080"/>
            <a:ext cx="19432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  <a:ea typeface="Arial"/>
              </a:rPr>
              <a:t>→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00000" y="2781360"/>
                <a:ext cx="7417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→</m:t>
                    </m:r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w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556000" y="3860640"/>
                <a:ext cx="396072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b, 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aba}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→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aba, abba, ab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→ aba = {baba, abba, ab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 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 → aba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8317080" cy="489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6443640" y="4941720"/>
          <a:ext cx="230364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79640" y="1541520"/>
            <a:ext cx="6912000" cy="531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395280" y="3500280"/>
          <a:ext cx="2160360" cy="1462320"/>
        </p:xfrm>
        <a:graphic>
          <a:graphicData uri="http://schemas.openxmlformats.org/drawingml/2006/table">
            <a:tbl>
              <a:tblPr/>
              <a:tblGrid>
                <a:gridCol w="338040"/>
                <a:gridCol w="18223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8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843280" y="5084640"/>
                <a:ext cx="374472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14280" y="3213000"/>
                <a:ext cx="8829720" cy="14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∃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such that 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where 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∩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</m:d>
                                  </m:e>
                                </m:d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φ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Stringology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w modern part of theoretical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als with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sertion and deletion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ababa, abaaba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, abba, aba, a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b, ab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aba, a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aba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55640" y="1566720"/>
            <a:ext cx="7632720" cy="529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6724800" y="518796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8172360" cy="51674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443640" y="494172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19320" y="1484280"/>
            <a:ext cx="5595840" cy="568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195640" y="1512720"/>
            <a:ext cx="6408720" cy="536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32000" y="1496880"/>
            <a:ext cx="734364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195640" y="5084640"/>
                <a:ext cx="448452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24000" y="2898720"/>
                <a:ext cx="882000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7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1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→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0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195640" y="1541520"/>
            <a:ext cx="5400720" cy="531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763640" y="1544760"/>
            <a:ext cx="5832720" cy="53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miliarize with new oper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udy their proper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sign algorithms constructing finite automata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that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ccept results of these operations if we have operands in the form of finite autom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U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 of the oper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ord processing, searching in text, compilers,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ract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biology and medici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scription of mutations in genetics, simulation of reproducing cells, microorganisms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 insertion and deletion in formal language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U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iversity of Turku, Finland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99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ower of Controlled Insertion and Deletion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NCS 812, Springer, Berlin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Alexander Meduna, Martin Vítek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ew language operations in formal language theor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Schedae Informaticae vol. 13, Kraków, Poland, 20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exander Meduna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utomata and Languages: Theory and Application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pringer, London, 2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axime Crochemore, Wojciech Rytter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Text algorithm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Oxford University Press, Oxford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| u = 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56000" y="4292640"/>
                <a:ext cx="395928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←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2360" y="2657160"/>
            <a:ext cx="514980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rings u = cd, v = 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d, c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, cd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4595760" cy="5300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867280" y="2133720"/>
            <a:ext cx="2843280" cy="14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31640" y="201780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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727200" y="3500280"/>
                <a:ext cx="841680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Σ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700360" y="5229360"/>
                <a:ext cx="345600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⇐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2449440"/>
            <a:ext cx="7313400" cy="34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cd},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, 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76360" y="1460520"/>
            <a:ext cx="6480360" cy="5361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3T13:58:42Z</dcterms:created>
  <dc:creator>Ing. Martin Vítek</dc:creator>
  <dc:description/>
  <dc:language>en-US</dc:language>
  <cp:lastModifiedBy>Martin Vítek</cp:lastModifiedBy>
  <dcterms:modified xsi:type="dcterms:W3CDTF">2006-06-25T20:36:53Z</dcterms:modified>
  <cp:revision>26</cp:revision>
  <dc:subject/>
  <dc:title>New language operations in formal language theory</dc:title>
</cp:coreProperties>
</file>