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A68-1267-43C3-99ED-1E43D639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49B-90FD-4F56-BB56-D3E606BE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ED5-4937-4228-9330-2E490BC8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125-AB93-49EF-A233-B5993D7B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A8C-8CB7-4CB3-9584-F502E6E1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4D3-D84F-4461-B34E-BFD38F8A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3C9-B030-462F-926E-932FA963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C2B-E2F8-4AFF-A233-CD27A50D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F9A-DAF5-49C3-940F-D50C40E0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052-FD04-42F9-B265-9BEA9FDE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47A-97C3-41C6-8B8C-30C8DF21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B0C-9E1E-43C7-943D-A7D836A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0E6F-B429-4E75-AC9E-457EE7A2136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4:47Z</dcterms:modified>
  <cp:revision>191</cp:revision>
  <dc:subject/>
  <dc:title>Normal Forms and Properties of CFLs</dc:title>
</cp:coreProperties>
</file>