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3BA7-2C5B-453B-BA09-B38C503D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526-944B-4F86-B2EF-38864694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EAC7-AD42-4B69-A29F-3B532D78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CCB-9A18-4C70-81A7-6C0D72AC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DCA0-8193-4AE5-89A2-8E265615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917-A0F7-40E2-BEB6-CDB64AC9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F875-5211-4EDD-81D2-4FB0217D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7A04-58D5-4368-AFBE-EAEDB85E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FE1-DEA6-42D7-B7C3-7134066C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D7BC-4E97-457A-89DF-72183328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362C-657E-4443-9A4A-BCFB3C0E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11AC-0611-4A63-9D21-D2904211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C614-3A1D-4BE4-A37C-FA4C9CADE64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3T18:07:19Z</dcterms:modified>
  <cp:revision>155</cp:revision>
  <dc:subject/>
  <dc:title>Part I. Alphabets, Strings, and Languages</dc:title>
</cp:coreProperties>
</file>