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EA70-14FF-47D6-9965-07C4C4FF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9E58-7C28-4472-B518-096012BE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27F8-B68A-482E-BCF3-D2FF3381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9D17-7C14-4D76-B8F6-50F2762B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68C0-8341-40DE-B452-46131464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F848-AE8E-4843-9EC3-38F77CE9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A926-0293-4981-8508-B4C4C87D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C8B3-77DB-4BC4-95F6-51BEB9B8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1470-1FF5-4C67-BB10-C2372474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A434-5F92-433F-9CFB-D9A19867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416D-410A-4A8D-ACC4-156CDD85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16EF-DE1C-45AF-AB4E-3CD0D894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C6B5-E0A3-4C17-9F0B-A7184EB1421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CVT</cp:lastModifiedBy>
  <dcterms:modified xsi:type="dcterms:W3CDTF">2006-08-30T14:38:54Z</dcterms:modified>
  <cp:revision>167</cp:revision>
  <dc:subject/>
  <dc:title>Alphabets, Strings, and Languages</dc:title>
</cp:coreProperties>
</file>