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94F2-1321-4E29-8FCE-D5CCDEF1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EE9E-3A0B-43C3-AA6C-1FE218DC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116D-4721-4AE9-942E-7F8F31A74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9487-AAB0-45F0-BC42-0F79B8735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E039-6687-4BBA-8B3E-C33E38B2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6B6C-F698-4587-BD33-2732B727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86DC-ED57-4FAC-B897-6B7405CD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573E-1605-4ACC-8F4B-5A1B4205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47E1-C40D-4EE9-ADDC-17124F7E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CAFD-F401-4F2D-ABA1-55A118D9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5B05-6D3B-444E-B954-59B074E6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89A4-A3B7-419A-B155-238E9F85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F690-B08D-47ED-9505-FD570E7D7EC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905120"/>
            <a:ext cx="8381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3333cc"/>
                </a:solidFill>
                <a:latin typeface="Times New Roman"/>
              </a:rPr>
              <a:t>Part XII.</a:t>
            </a:r>
            <a:br>
              <a:rPr sz="6600"/>
            </a:br>
            <a:r>
              <a:rPr b="1" lang="cs-CZ" sz="6600" spc="-1" strike="noStrike">
                <a:solidFill>
                  <a:srgbClr val="3333cc"/>
                </a:solidFill>
                <a:latin typeface="Times New Roman"/>
              </a:rPr>
              <a:t>Optimization</a:t>
            </a:r>
            <a:r>
              <a:rPr b="1" lang="en-US" sz="6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6600" spc="-1" strike="noStrike">
                <a:solidFill>
                  <a:srgbClr val="3333cc"/>
                </a:solidFill>
                <a:latin typeface="Times New Roman"/>
              </a:rPr>
              <a:t>and</a:t>
            </a:r>
            <a:br>
              <a:rPr sz="6600"/>
            </a:br>
            <a:r>
              <a:rPr b="1" lang="en-US" sz="6600" spc="-1" strike="noStrike">
                <a:solidFill>
                  <a:srgbClr val="3333cc"/>
                </a:solidFill>
                <a:latin typeface="Times New Roman"/>
              </a:rPr>
              <a:t>Code Genera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io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152388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ind gene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s.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ntext-sensitive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10666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Variants of code genar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49528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981080"/>
            <a:ext cx="480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B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ind gene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51460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For every 3AC instruction, there is a proced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at generates the corresponding target cod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495288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ntext-sensitive gene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5486400"/>
            <a:ext cx="784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duction of loading and storing betwe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gisters and memor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3505320"/>
            <a:ext cx="8382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Main disadvantag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As each 3AC instruction is out of the basic block context, a lot of  redundant loading and storing occu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2209680"/>
            <a:ext cx="3657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ind Generation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99800" y="1905120"/>
            <a:ext cx="275904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9933"/>
                </a:solidFill>
                <a:latin typeface="Courier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2057400"/>
            <a:ext cx="68580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2209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9933"/>
                </a:solidFill>
                <a:latin typeface="Courier New"/>
              </a:rPr>
              <a:t>r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11430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A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86400" y="11430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co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3657600"/>
            <a:ext cx="3657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352680"/>
            <a:ext cx="275904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u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9933"/>
                </a:solidFill>
                <a:latin typeface="Courier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24280" y="3505320"/>
            <a:ext cx="68580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6576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9933"/>
                </a:solidFill>
                <a:latin typeface="Courier New"/>
              </a:rPr>
              <a:t>r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5105520"/>
            <a:ext cx="3657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77840" y="4952880"/>
            <a:ext cx="275904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9933"/>
                </a:solidFill>
                <a:latin typeface="Courier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24280" y="4952880"/>
            <a:ext cx="685800" cy="83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51055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9933"/>
                </a:solidFill>
                <a:latin typeface="Courier New"/>
              </a:rPr>
              <a:t>r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6095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114800" y="2666880"/>
            <a:ext cx="2971800" cy="3505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3505320"/>
            <a:ext cx="251460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ind 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1066680"/>
            <a:ext cx="3124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96160" y="2666880"/>
            <a:ext cx="286308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ad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u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re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1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52680" y="3733920"/>
            <a:ext cx="68580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3505320"/>
            <a:ext cx="29718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3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1" lang="en-US" sz="34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US" sz="3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cs-CZ" sz="3400" spc="-1" strike="noStrike">
                <a:solidFill>
                  <a:srgbClr val="ff0000"/>
                </a:solidFill>
                <a:latin typeface="Courier New"/>
              </a:rPr>
              <a:t>,</a:t>
            </a:r>
            <a:r>
              <a:rPr b="1" lang="en-US" sz="34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en-US" sz="34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6765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A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16765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d target co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4191120" y="4343400"/>
            <a:ext cx="4746600" cy="825480"/>
            <a:chOff x="4191120" y="4343400"/>
            <a:chExt cx="4746600" cy="825480"/>
          </a:xfrm>
        </p:grpSpPr>
        <p:sp>
          <p:nvSpPr>
            <p:cNvPr id="230" name=""/>
            <p:cNvSpPr/>
            <p:nvPr/>
          </p:nvSpPr>
          <p:spPr>
            <a:xfrm>
              <a:off x="7089840" y="4343400"/>
              <a:ext cx="1847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 redund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4191120" y="4571640"/>
              <a:ext cx="281916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91120" y="4572000"/>
              <a:ext cx="281916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ontext-Sensitive Generation (CSG)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1143000"/>
            <a:ext cx="784872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ization of loading and storing betw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ers and memor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eneral rul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a value is in a register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be used “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o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, keep it in the regi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274320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formation needed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3352680"/>
            <a:ext cx="838188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Ques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variables are needed later in the block and w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sw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n 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asic block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Q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registers are in use and what they ho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n 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Register association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Q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he current value of a variable is to be fou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n 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ddress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971800" y="2438280"/>
            <a:ext cx="358128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SG: Analysis within a Basic Block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1143000"/>
            <a:ext cx="815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variable is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li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f it is used later in the blo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68000" y="18288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934320" y="3124080"/>
            <a:ext cx="159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ext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17524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5088600" y="3062880"/>
            <a:ext cx="45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91120" y="2133720"/>
            <a:ext cx="1676160" cy="457200"/>
          </a:xfrm>
          <a:custGeom>
            <a:avLst/>
            <a:gdLst/>
            <a:ahLst/>
            <a:rect l="l" t="t" r="r" b="b"/>
            <a:pathLst>
              <a:path w="1056" h="288">
                <a:moveTo>
                  <a:pt x="1056" y="0"/>
                </a:moveTo>
                <a:cubicBezTo>
                  <a:pt x="931" y="11"/>
                  <a:pt x="480" y="16"/>
                  <a:pt x="304" y="64"/>
                </a:cubicBezTo>
                <a:cubicBezTo>
                  <a:pt x="128" y="112"/>
                  <a:pt x="63" y="241"/>
                  <a:pt x="0" y="2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57800" y="3429000"/>
            <a:ext cx="1676520" cy="457200"/>
          </a:xfrm>
          <a:custGeom>
            <a:avLst/>
            <a:gdLst/>
            <a:ahLst/>
            <a:rect l="l" t="t" r="r" b="b"/>
            <a:pathLst>
              <a:path w="1056" h="288">
                <a:moveTo>
                  <a:pt x="1056" y="0"/>
                </a:moveTo>
                <a:cubicBezTo>
                  <a:pt x="931" y="11"/>
                  <a:pt x="480" y="16"/>
                  <a:pt x="304" y="64"/>
                </a:cubicBezTo>
                <a:cubicBezTo>
                  <a:pt x="128" y="112"/>
                  <a:pt x="63" y="241"/>
                  <a:pt x="0" y="2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2743200"/>
            <a:ext cx="2438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 occurrence of  variable “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304812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690280" y="3390840"/>
            <a:ext cx="3812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4648320"/>
            <a:ext cx="830556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w to detect live variables effectively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pply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ackward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finding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 is, read the instructions from the block end towards its beg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335400" y="3062880"/>
            <a:ext cx="45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2514600"/>
            <a:ext cx="3262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i)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:= b +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j) d :=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+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 (S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685800" y="1600200"/>
          <a:ext cx="4419720" cy="2285640"/>
        </p:xfrm>
        <a:graphic>
          <a:graphicData uri="http://schemas.openxmlformats.org/drawingml/2006/table">
            <a:tbl>
              <a:tblPr/>
              <a:tblGrid>
                <a:gridCol w="1449000"/>
                <a:gridCol w="1231560"/>
                <a:gridCol w="1739160"/>
              </a:tblGrid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73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2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685800" y="1066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tetion of a S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0080" y="15238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6200000">
            <a:off x="976320" y="32904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2271960" y="32904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3795840" y="32904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62920" y="1219320"/>
            <a:ext cx="106668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l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dea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6705720" y="152352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05720" y="1828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10080" y="274320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467480" y="2438280"/>
            <a:ext cx="1067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one(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7010280" y="274284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10280" y="304812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86400" y="3429000"/>
            <a:ext cx="350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 number of a li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40384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 assump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5160" y="4495680"/>
            <a:ext cx="4749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l programmer vari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l temporary vari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l vari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10080" y="4495680"/>
            <a:ext cx="304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Block Table (BB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762120" y="1600200"/>
          <a:ext cx="5857920" cy="1889280"/>
        </p:xfrm>
        <a:graphic>
          <a:graphicData uri="http://schemas.openxmlformats.org/drawingml/2006/table">
            <a:tbl>
              <a:tblPr/>
              <a:tblGrid>
                <a:gridCol w="990360"/>
                <a:gridCol w="1827360"/>
                <a:gridCol w="1407960"/>
                <a:gridCol w="1632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cs-CZ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a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:=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b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+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685800" y="1066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tructure of 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16200000">
            <a:off x="747720" y="29095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16200000">
            <a:off x="747720" y="19951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2271960" y="29095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2271960" y="19951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6781680" y="2133720"/>
            <a:ext cx="0" cy="1371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7280" y="2666880"/>
            <a:ext cx="17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ack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3962520"/>
            <a:ext cx="815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(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the current instru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v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B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ke these chang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35053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54100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variable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   Statu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dead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no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8672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variable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liv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ext us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447920" y="2362320"/>
            <a:ext cx="22860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ges in a ST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648320" y="1371600"/>
          <a:ext cx="3816360" cy="2316240"/>
        </p:xfrm>
        <a:graphic>
          <a:graphicData uri="http://schemas.openxmlformats.org/drawingml/2006/table">
            <a:tbl>
              <a:tblPr/>
              <a:tblGrid>
                <a:gridCol w="792000"/>
                <a:gridCol w="1511280"/>
                <a:gridCol w="1513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e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"/>
          <p:cNvSpPr/>
          <p:nvPr/>
        </p:nvSpPr>
        <p:spPr>
          <a:xfrm rot="16200000">
            <a:off x="1967040" y="27568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6200000">
            <a:off x="1967040" y="17665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2209680"/>
            <a:ext cx="685800" cy="83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4557960" y="30618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16200000">
            <a:off x="5700960" y="30618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16200000">
            <a:off x="7224840" y="30618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6200" y="12193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71600" y="3886200"/>
            <a:ext cx="676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dead because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l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vi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finition of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alive and used in (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 th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reflects the situa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arli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he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8080" y="380988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71600" y="23623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ff66ff"/>
                </a:solidFill>
                <a:latin typeface="Courier New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295280" y="1599840"/>
            <a:ext cx="0" cy="1655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6200000">
            <a:off x="883800" y="2617560"/>
            <a:ext cx="66780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ack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1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4360" y="1268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 := (a-b) + (c-a) - (d+b) * (c+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5400000">
            <a:off x="2269440" y="135072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5400000">
            <a:off x="3984120" y="135072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5674680" y="135072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5400000">
            <a:off x="7378200" y="135072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174760" y="17604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9440" y="174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584680" y="174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286760" y="1747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3105360" y="1243800"/>
            <a:ext cx="216000" cy="1944360"/>
          </a:xfrm>
          <a:custGeom>
            <a:avLst/>
            <a:gdLst>
              <a:gd name="textAreaLeft" fmla="*/ 0 w 216000"/>
              <a:gd name="textAreaRight" fmla="*/ 78120 w 216000"/>
              <a:gd name="textAreaTop" fmla="*/ 50400 h 1944360"/>
              <a:gd name="textAreaBottom" fmla="*/ 1893960 h 19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516000" y="1243440"/>
            <a:ext cx="216000" cy="1944720"/>
          </a:xfrm>
          <a:custGeom>
            <a:avLst/>
            <a:gdLst>
              <a:gd name="textAreaLeft" fmla="*/ 0 w 216000"/>
              <a:gd name="textAreaRight" fmla="*/ 78120 w 216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13200" y="2179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23120" y="21798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123920" y="2781360"/>
          <a:ext cx="6894720" cy="3597120"/>
        </p:xfrm>
        <a:graphic>
          <a:graphicData uri="http://schemas.openxmlformats.org/drawingml/2006/table">
            <a:tbl>
              <a:tblPr/>
              <a:tblGrid>
                <a:gridCol w="792360"/>
                <a:gridCol w="1944360"/>
                <a:gridCol w="2430720"/>
                <a:gridCol w="172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"/>
          <p:cNvSpPr/>
          <p:nvPr/>
        </p:nvSpPr>
        <p:spPr>
          <a:xfrm>
            <a:off x="685800" y="220500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2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3132000" y="1413000"/>
          <a:ext cx="3384720" cy="4878360"/>
        </p:xfrm>
        <a:graphic>
          <a:graphicData uri="http://schemas.openxmlformats.org/drawingml/2006/table">
            <a:tbl>
              <a:tblPr/>
              <a:tblGrid>
                <a:gridCol w="792360"/>
                <a:gridCol w="1152360"/>
                <a:gridCol w="144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35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"/>
          <p:cNvSpPr/>
          <p:nvPr/>
        </p:nvSpPr>
        <p:spPr>
          <a:xfrm>
            <a:off x="6781320" y="4876920"/>
            <a:ext cx="172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 –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 –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 – n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3280" y="1197000"/>
            <a:ext cx="23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 - line (7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20240" y="3225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632840" y="450864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632840" y="58039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61680" y="3225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72840" y="450864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72840" y="58039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0880" y="2565360"/>
            <a:ext cx="224640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emporary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00360" y="2025720"/>
            <a:ext cx="216000" cy="1619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42120 h 1619280"/>
              <a:gd name="textAreaBottom" fmla="*/ 1577160 h 16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00360" y="3789360"/>
            <a:ext cx="216000" cy="237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14300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asic blo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equence of statements executed sequentially from beginning to 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ea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first statement of a basic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666880"/>
            <a:ext cx="7775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e the set of leaders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first stat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statement that is 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lab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goto statement is a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statement th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llow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goto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ment is a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3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939960" y="2205000"/>
          <a:ext cx="7304040" cy="3597480"/>
        </p:xfrm>
        <a:graphic>
          <a:graphicData uri="http://schemas.openxmlformats.org/drawingml/2006/table">
            <a:tbl>
              <a:tblPr/>
              <a:tblGrid>
                <a:gridCol w="792000"/>
                <a:gridCol w="1944720"/>
                <a:gridCol w="2430360"/>
                <a:gridCol w="2136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  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>
            <a:off x="4116960" y="52801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29880" y="52801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288560" y="52801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" y="155736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4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3132000" y="1484280"/>
          <a:ext cx="3384720" cy="4878360"/>
        </p:xfrm>
        <a:graphic>
          <a:graphicData uri="http://schemas.openxmlformats.org/drawingml/2006/table">
            <a:tbl>
              <a:tblPr/>
              <a:tblGrid>
                <a:gridCol w="792360"/>
                <a:gridCol w="1152360"/>
                <a:gridCol w="144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35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" name=""/>
          <p:cNvSpPr/>
          <p:nvPr/>
        </p:nvSpPr>
        <p:spPr>
          <a:xfrm>
            <a:off x="683280" y="1268280"/>
            <a:ext cx="23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 - line (6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642200" y="5025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42200" y="5457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642200" y="587700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83640" y="5025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82200" y="5457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82200" y="588960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4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5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084320" y="2349360"/>
          <a:ext cx="7304040" cy="3597480"/>
        </p:xfrm>
        <a:graphic>
          <a:graphicData uri="http://schemas.openxmlformats.org/drawingml/2006/table">
            <a:tbl>
              <a:tblPr/>
              <a:tblGrid>
                <a:gridCol w="792000"/>
                <a:gridCol w="1944720"/>
                <a:gridCol w="2430360"/>
                <a:gridCol w="2136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L  ; x,y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7   ; x,y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"/>
          <p:cNvSpPr/>
          <p:nvPr/>
        </p:nvSpPr>
        <p:spPr>
          <a:xfrm>
            <a:off x="4261320" y="5013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507640" y="5013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955640" y="5013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70028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710760" y="5013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4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6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3132000" y="1484280"/>
          <a:ext cx="3384720" cy="4878360"/>
        </p:xfrm>
        <a:graphic>
          <a:graphicData uri="http://schemas.openxmlformats.org/drawingml/2006/table">
            <a:tbl>
              <a:tblPr/>
              <a:tblGrid>
                <a:gridCol w="792360"/>
                <a:gridCol w="1152360"/>
                <a:gridCol w="144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35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683280" y="1268280"/>
            <a:ext cx="23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 - line (5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621680" y="54579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21680" y="286560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82200" y="286560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82200" y="54435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7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995400" y="2349360"/>
          <a:ext cx="7304040" cy="3597480"/>
        </p:xfrm>
        <a:graphic>
          <a:graphicData uri="http://schemas.openxmlformats.org/drawingml/2006/table">
            <a:tbl>
              <a:tblPr/>
              <a:tblGrid>
                <a:gridCol w="792000"/>
                <a:gridCol w="1944720"/>
                <a:gridCol w="2430720"/>
                <a:gridCol w="2136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,c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L; x,y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:6   ; c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7; x,y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"/>
          <p:cNvSpPr/>
          <p:nvPr/>
        </p:nvSpPr>
        <p:spPr>
          <a:xfrm>
            <a:off x="4512240" y="45943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80880" y="458136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55400" y="4594320"/>
            <a:ext cx="38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[2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" y="170028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38080" y="6019920"/>
            <a:ext cx="754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ll the rest analogicall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BBT: Example 8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995400" y="2349360"/>
          <a:ext cx="7304040" cy="3597480"/>
        </p:xfrm>
        <a:graphic>
          <a:graphicData uri="http://schemas.openxmlformats.org/drawingml/2006/table">
            <a:tbl>
              <a:tblPr/>
              <a:tblGrid>
                <a:gridCol w="792000"/>
                <a:gridCol w="1944720"/>
                <a:gridCol w="2430720"/>
                <a:gridCol w="2136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a,b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,c,a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:L; u,v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,b:L; d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,c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L; x,y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:3; a:2; b: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:3; c:5; a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:7; u,v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:6; d,b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:6; c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7; x,y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" name=""/>
          <p:cNvSpPr/>
          <p:nvPr/>
        </p:nvSpPr>
        <p:spPr>
          <a:xfrm>
            <a:off x="838080" y="1676520"/>
            <a:ext cx="228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al 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ister Association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762120" y="1600200"/>
          <a:ext cx="2592360" cy="3598920"/>
        </p:xfrm>
        <a:graphic>
          <a:graphicData uri="http://schemas.openxmlformats.org/drawingml/2006/table">
            <a:tbl>
              <a:tblPr/>
              <a:tblGrid>
                <a:gridCol w="792000"/>
                <a:gridCol w="180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7" name=""/>
          <p:cNvSpPr/>
          <p:nvPr/>
        </p:nvSpPr>
        <p:spPr>
          <a:xfrm>
            <a:off x="685800" y="1066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tructure of a RA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581280" y="1905120"/>
            <a:ext cx="198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rot="16200000">
            <a:off x="671760" y="45097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rot="16200000">
            <a:off x="2043360" y="45097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15000" y="1371600"/>
            <a:ext cx="1981080" cy="17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reserv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fre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var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257800" y="1676160"/>
            <a:ext cx="53352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257800" y="2209680"/>
            <a:ext cx="5335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22096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657600" y="3124080"/>
            <a:ext cx="480060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reversed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some operation system purpos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var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name of vari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580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" y="5303880"/>
            <a:ext cx="792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use of a register updates R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 indicates the current contents of 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685800" y="1600200"/>
          <a:ext cx="3672000" cy="2317680"/>
        </p:xfrm>
        <a:graphic>
          <a:graphicData uri="http://schemas.openxmlformats.org/drawingml/2006/table">
            <a:tbl>
              <a:tblPr/>
              <a:tblGrid>
                <a:gridCol w="1584360"/>
                <a:gridCol w="2087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 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g.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ress Table (A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16200000">
            <a:off x="976320" y="32140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6200000">
            <a:off x="2957760" y="32140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85800" y="1066680"/>
            <a:ext cx="411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tructure of an A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19720" y="1981080"/>
            <a:ext cx="198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00800" y="1447920"/>
            <a:ext cx="198108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 memo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. 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no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5943600" y="175248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943600" y="2286000"/>
            <a:ext cx="5335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3600" y="2286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3352680"/>
            <a:ext cx="396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mb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9480" y="419112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 table shows where the current value of every variable can be f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2120" y="2019240"/>
            <a:ext cx="8065800" cy="48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in register R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dea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has no next us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return 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ny free register 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return R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lect an occupied register 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ave R’s current cont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update RA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turn 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9480" y="1143000"/>
            <a:ext cx="79218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turns an optimal regi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 :=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+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19810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480" y="1143000"/>
            <a:ext cx="81536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enerate an optimal code for command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5800" y="19810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62120" y="1994040"/>
            <a:ext cx="8065800" cy="58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k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a register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ot in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,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 reg.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 R,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genera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 R,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= c is in memory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RAT &amp; AT to indicate that current value of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dea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no next us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rk </a:t>
            </a:r>
            <a:r>
              <a:rPr b="1" lang="en-US" sz="3200" spc="-1" strike="noStrike">
                <a:solidFill>
                  <a:srgbClr val="ff9933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free in 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838080" y="1371600"/>
            <a:ext cx="5410080" cy="4267080"/>
            <a:chOff x="838080" y="1371600"/>
            <a:chExt cx="5410080" cy="4267080"/>
          </a:xfrm>
        </p:grpSpPr>
        <p:sp>
          <p:nvSpPr>
            <p:cNvPr id="49" name=""/>
            <p:cNvSpPr/>
            <p:nvPr/>
          </p:nvSpPr>
          <p:spPr>
            <a:xfrm>
              <a:off x="2438280" y="4724280"/>
              <a:ext cx="38098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38280" y="3276720"/>
              <a:ext cx="3809880" cy="13716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38280" y="2362320"/>
              <a:ext cx="380988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38280" y="1371600"/>
              <a:ext cx="38098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09680" y="137160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09680" y="3276720"/>
              <a:ext cx="152280" cy="13762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5640 h 1376280"/>
                <a:gd name="textAreaBottom" fmla="*/ 1340640 h 137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09680" y="2362320"/>
              <a:ext cx="152280" cy="8380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09680" y="472428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8080" y="16002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Block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080" y="25146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Block 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38080" y="36576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Block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38080" y="48769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Block 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Block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419720" y="1371600"/>
            <a:ext cx="4114800" cy="764640"/>
            <a:chOff x="4419720" y="1371600"/>
            <a:chExt cx="4114800" cy="764640"/>
          </a:xfrm>
        </p:grpSpPr>
        <p:sp>
          <p:nvSpPr>
            <p:cNvPr id="64" name=""/>
            <p:cNvSpPr/>
            <p:nvPr/>
          </p:nvSpPr>
          <p:spPr>
            <a:xfrm>
              <a:off x="4419720" y="1600200"/>
              <a:ext cx="228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629400" y="13716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400800" y="16765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first statemen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276720" y="2286000"/>
            <a:ext cx="5257800" cy="764640"/>
            <a:chOff x="3276720" y="2286000"/>
            <a:chExt cx="5257800" cy="764640"/>
          </a:xfrm>
        </p:grpSpPr>
        <p:sp>
          <p:nvSpPr>
            <p:cNvPr id="68" name=""/>
            <p:cNvSpPr/>
            <p:nvPr/>
          </p:nvSpPr>
          <p:spPr>
            <a:xfrm>
              <a:off x="3276720" y="251460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705720" y="22860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00800" y="25909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labe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6095880" y="3276720"/>
            <a:ext cx="2438280" cy="1059480"/>
            <a:chOff x="6095880" y="3276720"/>
            <a:chExt cx="2438280" cy="1059480"/>
          </a:xfrm>
        </p:grpSpPr>
        <p:sp>
          <p:nvSpPr>
            <p:cNvPr id="72" name=""/>
            <p:cNvSpPr/>
            <p:nvPr/>
          </p:nvSpPr>
          <p:spPr>
            <a:xfrm>
              <a:off x="6095880" y="3505320"/>
              <a:ext cx="761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781680" y="32767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00440" y="3657600"/>
              <a:ext cx="21337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follows a go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atemen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276720" y="4724280"/>
            <a:ext cx="5257800" cy="1349280"/>
            <a:chOff x="3276720" y="4724280"/>
            <a:chExt cx="5257800" cy="1349280"/>
          </a:xfrm>
        </p:grpSpPr>
        <p:sp>
          <p:nvSpPr>
            <p:cNvPr id="76" name=""/>
            <p:cNvSpPr/>
            <p:nvPr/>
          </p:nvSpPr>
          <p:spPr>
            <a:xfrm>
              <a:off x="3276720" y="4952880"/>
              <a:ext cx="3505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705720" y="47242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400800" y="5029200"/>
              <a:ext cx="213372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label 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ollows a go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atemen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2514600" y="1295280"/>
            <a:ext cx="380988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sum := 0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 := 0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L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f i &gt;= n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goto L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um := sum + a[i]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 := i + 1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goto L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L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result := su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1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1676520" y="4572000"/>
          <a:ext cx="2819160" cy="1890720"/>
        </p:xfrm>
        <a:graphic>
          <a:graphicData uri="http://schemas.openxmlformats.org/drawingml/2006/table">
            <a:tbl>
              <a:tblPr/>
              <a:tblGrid>
                <a:gridCol w="1073880"/>
                <a:gridCol w="1745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5410080" y="4572000"/>
          <a:ext cx="3024360" cy="1554120"/>
        </p:xfrm>
        <a:graphic>
          <a:graphicData uri="http://schemas.openxmlformats.org/drawingml/2006/table">
            <a:tbl>
              <a:tblPr/>
              <a:tblGrid>
                <a:gridCol w="1152360"/>
                <a:gridCol w="1872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03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6" name=""/>
          <p:cNvSpPr/>
          <p:nvPr/>
        </p:nvSpPr>
        <p:spPr>
          <a:xfrm>
            <a:off x="534600" y="4495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73080" y="4495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676520" y="1219320"/>
          <a:ext cx="6781680" cy="3254400"/>
        </p:xfrm>
        <a:graphic>
          <a:graphicData uri="http://schemas.openxmlformats.org/drawingml/2006/table">
            <a:tbl>
              <a:tblPr/>
              <a:tblGrid>
                <a:gridCol w="838080"/>
                <a:gridCol w="1905120"/>
                <a:gridCol w="1855800"/>
                <a:gridCol w="218268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78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a,b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,c,a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:L; u,v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,b:L; d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,c: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L; x,y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:L; w,z: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:3; a:2; b: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:3; c:5; a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:7; u,v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:6; d,b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:6; c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:7; x,y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,w,z: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9" name=""/>
          <p:cNvSpPr/>
          <p:nvPr/>
        </p:nvSpPr>
        <p:spPr>
          <a:xfrm>
            <a:off x="604800" y="1079640"/>
            <a:ext cx="228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2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1268280" y="3924360"/>
          <a:ext cx="3024360" cy="154764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5156280" y="3954600"/>
          <a:ext cx="3024000" cy="145872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1) u:=a-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480" y="15238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, a, b: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2590920"/>
            <a:ext cx="57913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2,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ub  R2,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3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1268280" y="3924360"/>
          <a:ext cx="3024360" cy="188892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5156280" y="3954600"/>
          <a:ext cx="3024000" cy="154764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5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2) v:=c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15238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, c, a: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2590920"/>
            <a:ext cx="51818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3,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ub  R3,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4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1268280" y="3924360"/>
          <a:ext cx="3024360" cy="223020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5156280" y="3954600"/>
          <a:ext cx="3024000" cy="188892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7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3) w:=u+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: live; u, v: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9480" y="2590920"/>
            <a:ext cx="51818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R2,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5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1268280" y="3924360"/>
          <a:ext cx="3024360" cy="188892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5156280" y="3954600"/>
          <a:ext cx="3024000" cy="188892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4) x:=d+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, b: live; d: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2590920"/>
            <a:ext cx="5715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3,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 R3,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6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1268280" y="3924360"/>
          <a:ext cx="3024360" cy="223020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5156280" y="3954600"/>
          <a:ext cx="3024000" cy="223020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, 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1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5) y:=c+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, c: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09480" y="2590920"/>
            <a:ext cx="5715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load R4,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dd  R4,#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7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1268280" y="3924360"/>
          <a:ext cx="3024360" cy="257184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14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5156280" y="3954600"/>
          <a:ext cx="3024000" cy="257148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14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3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) z:=x*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: live; x, y: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09480" y="2590920"/>
            <a:ext cx="5715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mul R3,R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8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1268280" y="3924360"/>
          <a:ext cx="3024360" cy="223020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5156280" y="3954600"/>
          <a:ext cx="3024000" cy="223020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,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7) d:=w-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94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: live; w, z: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9480" y="2590920"/>
            <a:ext cx="5715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sub R2,R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40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Example 9/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1268280" y="3924360"/>
          <a:ext cx="3024360" cy="1888920"/>
        </p:xfrm>
        <a:graphic>
          <a:graphicData uri="http://schemas.openxmlformats.org/drawingml/2006/table">
            <a:tbl>
              <a:tblPr/>
              <a:tblGrid>
                <a:gridCol w="115272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5156280" y="3954600"/>
          <a:ext cx="3024000" cy="1547640"/>
        </p:xfrm>
        <a:graphic>
          <a:graphicData uri="http://schemas.openxmlformats.org/drawingml/2006/table">
            <a:tbl>
              <a:tblPr/>
              <a:tblGrid>
                <a:gridCol w="1152360"/>
                <a:gridCol w="18716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-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m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1296360" y="335268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82920" y="335268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2057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tRe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48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 of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9480" y="15238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: liv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2590920"/>
            <a:ext cx="815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enCod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Courier New"/>
              </a:rPr>
              <a:t>store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R2,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ave all live variables!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GetReg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GenCode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: Example 10/10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1676520" y="1828800"/>
          <a:ext cx="5970600" cy="4508640"/>
        </p:xfrm>
        <a:graphic>
          <a:graphicData uri="http://schemas.openxmlformats.org/drawingml/2006/table">
            <a:tbl>
              <a:tblPr/>
              <a:tblGrid>
                <a:gridCol w="866520"/>
                <a:gridCol w="2055960"/>
                <a:gridCol w="304812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ated c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04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:=a-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:=c-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:=u+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:=d+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:=c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:=x*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:=w-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a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4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d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4,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ul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3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or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2,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9" name=""/>
          <p:cNvSpPr/>
          <p:nvPr/>
        </p:nvSpPr>
        <p:spPr>
          <a:xfrm>
            <a:off x="609480" y="11430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ulting Code: 12 instructions instead of 2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219320" y="4952880"/>
            <a:ext cx="38098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3505320"/>
            <a:ext cx="3809880" cy="1371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2590920"/>
            <a:ext cx="3809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1600200"/>
            <a:ext cx="38098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16002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3505320"/>
            <a:ext cx="152280" cy="1376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6280"/>
              <a:gd name="textAreaBottom" fmla="*/ 1340640 h 1376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259092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4952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828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7432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8862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5105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ow Graph over B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1523880"/>
            <a:ext cx="434340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sum := 0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 := 0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L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f i &gt;= n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goto L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um := sum + a[i]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i := i + 1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goto L1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L2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result := su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640" y="2362320"/>
            <a:ext cx="60912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231800" y="2894760"/>
            <a:ext cx="1711440" cy="194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03" y="1282"/>
                </a:moveTo>
                <a:arcTo wR="10800" hR="10800" stAng="-3708029" swAng="9343007"/>
                <a:lnTo>
                  <a:pt x="10800" y="10800"/>
                </a:lnTo>
                <a:close/>
              </a:path>
              <a:path fill="none" w="21600" h="21600">
                <a:moveTo>
                  <a:pt x="15903" y="1282"/>
                </a:moveTo>
                <a:arcTo wR="10800" hR="10800" stAng="-3708029" swAng="9343007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3760" y="3276720"/>
            <a:ext cx="1370880" cy="45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25519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255197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342900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2057400"/>
            <a:ext cx="914400" cy="68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16765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05720" y="2971800"/>
            <a:ext cx="914400" cy="68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4191120"/>
            <a:ext cx="914400" cy="68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5105520"/>
            <a:ext cx="914400" cy="68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162920" y="365760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04120" y="3632040"/>
            <a:ext cx="596880" cy="584280"/>
          </a:xfrm>
          <a:custGeom>
            <a:avLst/>
            <a:gdLst/>
            <a:ahLst/>
            <a:rect l="l" t="t" r="r" b="b"/>
            <a:pathLst>
              <a:path w="319" h="368">
                <a:moveTo>
                  <a:pt x="0" y="0"/>
                </a:moveTo>
                <a:cubicBezTo>
                  <a:pt x="28" y="8"/>
                  <a:pt x="119" y="13"/>
                  <a:pt x="168" y="48"/>
                </a:cubicBezTo>
                <a:cubicBezTo>
                  <a:pt x="217" y="83"/>
                  <a:pt x="273" y="155"/>
                  <a:pt x="296" y="208"/>
                </a:cubicBezTo>
                <a:cubicBezTo>
                  <a:pt x="319" y="261"/>
                  <a:pt x="302" y="335"/>
                  <a:pt x="304" y="36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32720" y="3352680"/>
            <a:ext cx="880920" cy="990720"/>
          </a:xfrm>
          <a:custGeom>
            <a:avLst/>
            <a:gdLst/>
            <a:ahLst/>
            <a:rect l="l" t="t" r="r" b="b"/>
            <a:pathLst>
              <a:path w="555" h="624">
                <a:moveTo>
                  <a:pt x="528" y="624"/>
                </a:moveTo>
                <a:cubicBezTo>
                  <a:pt x="527" y="567"/>
                  <a:pt x="555" y="369"/>
                  <a:pt x="520" y="280"/>
                </a:cubicBezTo>
                <a:cubicBezTo>
                  <a:pt x="485" y="191"/>
                  <a:pt x="407" y="135"/>
                  <a:pt x="320" y="88"/>
                </a:cubicBezTo>
                <a:cubicBezTo>
                  <a:pt x="233" y="41"/>
                  <a:pt x="67" y="18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9920" y="2209680"/>
            <a:ext cx="60948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06668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ogram with basic block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1066680"/>
            <a:ext cx="2286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low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raph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6095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olated blocks in a flow graph =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ad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81960" y="2679840"/>
            <a:ext cx="268200" cy="457200"/>
          </a:xfrm>
          <a:custGeom>
            <a:avLst/>
            <a:gdLst/>
            <a:ahLst/>
            <a:rect l="l" t="t" r="r" b="b"/>
            <a:pathLst>
              <a:path w="169" h="288">
                <a:moveTo>
                  <a:pt x="152" y="0"/>
                </a:moveTo>
                <a:cubicBezTo>
                  <a:pt x="151" y="35"/>
                  <a:pt x="169" y="160"/>
                  <a:pt x="144" y="208"/>
                </a:cubicBezTo>
                <a:cubicBezTo>
                  <a:pt x="119" y="256"/>
                  <a:pt x="30" y="271"/>
                  <a:pt x="0" y="2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llel Compilers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09480" y="2209680"/>
            <a:ext cx="8305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paration of the syntax analysis in parall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paration of some substrings of tok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substrings and the rest, called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kelet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re parsed in parall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skeleton, the removed substrings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replaced with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seudotoke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9480" y="114300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anslates 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urce program into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685800" y="1295280"/>
            <a:ext cx="3429000" cy="2971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llel Compilers: Separation of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rot="5400000">
            <a:off x="756360" y="1299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1828800" y="2057400"/>
            <a:ext cx="304920" cy="216000"/>
            <a:chOff x="1828800" y="2057400"/>
            <a:chExt cx="304920" cy="216000"/>
          </a:xfrm>
        </p:grpSpPr>
        <p:sp>
          <p:nvSpPr>
            <p:cNvPr id="540" name=""/>
            <p:cNvSpPr/>
            <p:nvPr/>
          </p:nvSpPr>
          <p:spPr>
            <a:xfrm>
              <a:off x="2130480" y="205740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828800" y="226404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762120" y="1295280"/>
            <a:ext cx="3429000" cy="35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peat … until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5400000">
            <a:off x="756360" y="2061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rot="5400000">
            <a:off x="756360" y="28998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rot="5400000">
            <a:off x="756360" y="36619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1219320" y="2057400"/>
            <a:ext cx="304560" cy="216000"/>
            <a:chOff x="1219320" y="2057400"/>
            <a:chExt cx="304560" cy="216000"/>
          </a:xfrm>
        </p:grpSpPr>
        <p:sp>
          <p:nvSpPr>
            <p:cNvPr id="547" name=""/>
            <p:cNvSpPr/>
            <p:nvPr/>
          </p:nvSpPr>
          <p:spPr>
            <a:xfrm>
              <a:off x="1222560" y="205740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1219320" y="226404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362320" y="2819520"/>
            <a:ext cx="304560" cy="215640"/>
            <a:chOff x="2362320" y="2819520"/>
            <a:chExt cx="304560" cy="215640"/>
          </a:xfrm>
        </p:grpSpPr>
        <p:sp>
          <p:nvSpPr>
            <p:cNvPr id="550" name=""/>
            <p:cNvSpPr/>
            <p:nvPr/>
          </p:nvSpPr>
          <p:spPr>
            <a:xfrm>
              <a:off x="2663640" y="2819520"/>
              <a:ext cx="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362320" y="302580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1752120" y="2819520"/>
            <a:ext cx="304920" cy="215640"/>
            <a:chOff x="1752120" y="2819520"/>
            <a:chExt cx="304920" cy="215640"/>
          </a:xfrm>
        </p:grpSpPr>
        <p:sp>
          <p:nvSpPr>
            <p:cNvPr id="553" name=""/>
            <p:cNvSpPr/>
            <p:nvPr/>
          </p:nvSpPr>
          <p:spPr>
            <a:xfrm>
              <a:off x="1755360" y="2819520"/>
              <a:ext cx="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1752120" y="302580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3657600" y="3657600"/>
            <a:ext cx="304920" cy="216000"/>
            <a:chOff x="3657600" y="3657600"/>
            <a:chExt cx="304920" cy="216000"/>
          </a:xfrm>
        </p:grpSpPr>
        <p:sp>
          <p:nvSpPr>
            <p:cNvPr id="556" name=""/>
            <p:cNvSpPr/>
            <p:nvPr/>
          </p:nvSpPr>
          <p:spPr>
            <a:xfrm>
              <a:off x="3959280" y="365760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657600" y="386424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3048120" y="3657600"/>
            <a:ext cx="304560" cy="216000"/>
            <a:chOff x="3048120" y="3657600"/>
            <a:chExt cx="304560" cy="216000"/>
          </a:xfrm>
        </p:grpSpPr>
        <p:sp>
          <p:nvSpPr>
            <p:cNvPr id="559" name=""/>
            <p:cNvSpPr/>
            <p:nvPr/>
          </p:nvSpPr>
          <p:spPr>
            <a:xfrm>
              <a:off x="3051360" y="3657600"/>
              <a:ext cx="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3048120" y="386424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4952880" y="1295280"/>
            <a:ext cx="3505320" cy="2971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rot="5400000">
            <a:off x="4947840" y="1299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1295280"/>
            <a:ext cx="3581640" cy="33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peat … until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rot="5400000">
            <a:off x="4947840" y="2061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rot="5400000">
            <a:off x="4947840" y="28998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rot="5400000">
            <a:off x="4947840" y="36619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191120" y="2286000"/>
            <a:ext cx="685800" cy="990720"/>
          </a:xfrm>
          <a:prstGeom prst="rightArrow">
            <a:avLst>
              <a:gd name="adj1" fmla="val 55259"/>
              <a:gd name="adj2" fmla="val 2291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105520" y="4343400"/>
            <a:ext cx="3352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 of condi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5181480" y="4876920"/>
          <a:ext cx="2971800" cy="1552320"/>
        </p:xfrm>
        <a:graphic>
          <a:graphicData uri="http://schemas.openxmlformats.org/drawingml/2006/table">
            <a:tbl>
              <a:tblPr/>
              <a:tblGrid>
                <a:gridCol w="914400"/>
                <a:gridCol w="205740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</a:t>
                      </a:r>
                      <a:r>
                        <a:rPr b="1" lang="en-US" sz="28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</a:t>
                      </a:r>
                      <a:r>
                        <a:rPr b="1" lang="en-US" sz="28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d</a:t>
                      </a:r>
                      <a:r>
                        <a:rPr b="1" lang="en-US" sz="2800" spc="-1" strike="noStrike" baseline="-25000">
                          <a:solidFill>
                            <a:srgbClr val="3333cc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685800" y="1295280"/>
            <a:ext cx="7772400" cy="12956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Parallel Compilers: Multi-Level Separa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rot="5400000">
            <a:off x="756360" y="1299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6095880" y="2057400"/>
            <a:ext cx="304920" cy="304560"/>
            <a:chOff x="6095880" y="2057400"/>
            <a:chExt cx="304920" cy="304560"/>
          </a:xfrm>
        </p:grpSpPr>
        <p:sp>
          <p:nvSpPr>
            <p:cNvPr id="575" name=""/>
            <p:cNvSpPr/>
            <p:nvPr/>
          </p:nvSpPr>
          <p:spPr>
            <a:xfrm>
              <a:off x="6397560" y="2057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095880" y="234864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762120" y="1295280"/>
            <a:ext cx="7696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 + b   &gt;   c * d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a – b   =   c + d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rot="5400000">
            <a:off x="756360" y="2061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1142640" y="2057400"/>
            <a:ext cx="304920" cy="304560"/>
            <a:chOff x="1142640" y="2057400"/>
            <a:chExt cx="304920" cy="304560"/>
          </a:xfrm>
        </p:grpSpPr>
        <p:sp>
          <p:nvSpPr>
            <p:cNvPr id="580" name=""/>
            <p:cNvSpPr/>
            <p:nvPr/>
          </p:nvSpPr>
          <p:spPr>
            <a:xfrm>
              <a:off x="1145880" y="2057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1142640" y="234864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219320" y="1981080"/>
            <a:ext cx="304560" cy="152640"/>
            <a:chOff x="1219320" y="1981080"/>
            <a:chExt cx="304560" cy="152640"/>
          </a:xfrm>
        </p:grpSpPr>
        <p:sp>
          <p:nvSpPr>
            <p:cNvPr id="583" name=""/>
            <p:cNvSpPr/>
            <p:nvPr/>
          </p:nvSpPr>
          <p:spPr>
            <a:xfrm>
              <a:off x="12225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12193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1752480" y="1981080"/>
            <a:ext cx="304920" cy="152640"/>
            <a:chOff x="1752480" y="1981080"/>
            <a:chExt cx="304920" cy="152640"/>
          </a:xfrm>
        </p:grpSpPr>
        <p:sp>
          <p:nvSpPr>
            <p:cNvPr id="586" name=""/>
            <p:cNvSpPr/>
            <p:nvPr/>
          </p:nvSpPr>
          <p:spPr>
            <a:xfrm>
              <a:off x="20541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752480" y="2126880"/>
              <a:ext cx="304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2590920" y="1981080"/>
            <a:ext cx="304560" cy="152640"/>
            <a:chOff x="2590920" y="1981080"/>
            <a:chExt cx="304560" cy="152640"/>
          </a:xfrm>
        </p:grpSpPr>
        <p:sp>
          <p:nvSpPr>
            <p:cNvPr id="589" name=""/>
            <p:cNvSpPr/>
            <p:nvPr/>
          </p:nvSpPr>
          <p:spPr>
            <a:xfrm>
              <a:off x="25941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25909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3124080" y="1981080"/>
            <a:ext cx="304920" cy="152640"/>
            <a:chOff x="3124080" y="1981080"/>
            <a:chExt cx="304920" cy="152640"/>
          </a:xfrm>
        </p:grpSpPr>
        <p:sp>
          <p:nvSpPr>
            <p:cNvPr id="592" name=""/>
            <p:cNvSpPr/>
            <p:nvPr/>
          </p:nvSpPr>
          <p:spPr>
            <a:xfrm>
              <a:off x="34257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124080" y="2126880"/>
              <a:ext cx="304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4191120" y="1981080"/>
            <a:ext cx="304560" cy="152640"/>
            <a:chOff x="4191120" y="1981080"/>
            <a:chExt cx="304560" cy="152640"/>
          </a:xfrm>
        </p:grpSpPr>
        <p:sp>
          <p:nvSpPr>
            <p:cNvPr id="595" name=""/>
            <p:cNvSpPr/>
            <p:nvPr/>
          </p:nvSpPr>
          <p:spPr>
            <a:xfrm>
              <a:off x="41943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41911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4724280" y="1981080"/>
            <a:ext cx="304920" cy="152640"/>
            <a:chOff x="4724280" y="1981080"/>
            <a:chExt cx="304920" cy="152640"/>
          </a:xfrm>
        </p:grpSpPr>
        <p:sp>
          <p:nvSpPr>
            <p:cNvPr id="598" name=""/>
            <p:cNvSpPr/>
            <p:nvPr/>
          </p:nvSpPr>
          <p:spPr>
            <a:xfrm>
              <a:off x="50259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724280" y="2126880"/>
              <a:ext cx="304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562720" y="1981080"/>
            <a:ext cx="304560" cy="152640"/>
            <a:chOff x="5562720" y="1981080"/>
            <a:chExt cx="304560" cy="152640"/>
          </a:xfrm>
        </p:grpSpPr>
        <p:sp>
          <p:nvSpPr>
            <p:cNvPr id="601" name=""/>
            <p:cNvSpPr/>
            <p:nvPr/>
          </p:nvSpPr>
          <p:spPr>
            <a:xfrm>
              <a:off x="556596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55627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6019920" y="1981080"/>
            <a:ext cx="304560" cy="152640"/>
            <a:chOff x="6019920" y="1981080"/>
            <a:chExt cx="304560" cy="152640"/>
          </a:xfrm>
        </p:grpSpPr>
        <p:sp>
          <p:nvSpPr>
            <p:cNvPr id="604" name=""/>
            <p:cNvSpPr/>
            <p:nvPr/>
          </p:nvSpPr>
          <p:spPr>
            <a:xfrm>
              <a:off x="6321240" y="1981080"/>
              <a:ext cx="0" cy="152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019920" y="2126880"/>
              <a:ext cx="304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1828800" y="2666880"/>
            <a:ext cx="106668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" y="3429000"/>
            <a:ext cx="320040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rot="5400000">
            <a:off x="756360" y="34333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62120" y="3429000"/>
            <a:ext cx="3429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o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rot="5400000">
            <a:off x="756360" y="41954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85800" y="4876920"/>
            <a:ext cx="3352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 of condi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685800" y="5334120"/>
          <a:ext cx="7772400" cy="1035000"/>
        </p:xfrm>
        <a:graphic>
          <a:graphicData uri="http://schemas.openxmlformats.org/drawingml/2006/table">
            <a:tbl>
              <a:tblPr/>
              <a:tblGrid>
                <a:gridCol w="519120"/>
                <a:gridCol w="725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p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 &gt; [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p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 and [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p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 = [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xp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3" name=""/>
          <p:cNvSpPr/>
          <p:nvPr/>
        </p:nvSpPr>
        <p:spPr>
          <a:xfrm>
            <a:off x="4952880" y="266688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 of expression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5257800" y="3124080"/>
          <a:ext cx="2971800" cy="2070360"/>
        </p:xfrm>
        <a:graphic>
          <a:graphicData uri="http://schemas.openxmlformats.org/drawingml/2006/table">
            <a:tbl>
              <a:tblPr/>
              <a:tblGrid>
                <a:gridCol w="914400"/>
                <a:gridCol w="20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+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 * 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-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 + 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llel Compilers: Par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38400" y="1371600"/>
            <a:ext cx="1680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o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426680" y="226836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kele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067200" y="1371600"/>
            <a:ext cx="1680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o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432240" y="2268360"/>
            <a:ext cx="101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ble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985360" y="1371600"/>
            <a:ext cx="1680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267240" y="2286000"/>
            <a:ext cx="116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bl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987800" y="1378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046480" y="2254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2560" y="4419720"/>
            <a:ext cx="531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fferent methods 1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fferent intermediat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057400" y="19051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886200" y="19051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781680" y="19051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rot="5400000">
            <a:off x="5257440" y="837720"/>
            <a:ext cx="304920" cy="3962520"/>
          </a:xfrm>
          <a:custGeom>
            <a:avLst/>
            <a:gdLst>
              <a:gd name="textAreaLeft" fmla="*/ 0 w 304920"/>
              <a:gd name="textAreaRight" fmla="*/ 110160 w 30492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495680" y="2971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rot="5400000">
            <a:off x="4343040" y="228240"/>
            <a:ext cx="304920" cy="6705720"/>
          </a:xfrm>
          <a:custGeom>
            <a:avLst/>
            <a:gdLst>
              <a:gd name="textAreaLeft" fmla="*/ 0 w 304920"/>
              <a:gd name="textAreaRight" fmla="*/ 110160 w 304920"/>
              <a:gd name="textAreaTop" fmla="*/ 174600 h 6705720"/>
              <a:gd name="textAreaBottom" fmla="*/ 6531120 h 670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124080" y="37339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arallel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timization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0666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Optimizer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makes a more efficient version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of the intermediate or target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26668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ocal optimiz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lobal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Local optimizati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– within a basic blo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Global optimiz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– span several basic block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21337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Variants of optimiz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19112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timizatio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for spe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timizatio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for siz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5257800"/>
            <a:ext cx="41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ant fo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Constant propa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py propa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8006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timization metho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5257800"/>
            <a:ext cx="464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op invariant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op unro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6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ad code eli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133720" y="1676520"/>
            <a:ext cx="228600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 Methods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106668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Constant fold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167652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:=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365760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1981080"/>
            <a:ext cx="16761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8954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3429000"/>
            <a:ext cx="228600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81952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Constant propag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34290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: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:=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3733920"/>
            <a:ext cx="16761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190512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4648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541008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5181480"/>
            <a:ext cx="228600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457200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Copy propag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51814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:=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5486400"/>
            <a:ext cx="16761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64008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 Methods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198108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106668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) Loop invariant express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905120"/>
            <a:ext cx="3810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190512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i := 1 to 100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i] := p*q/r +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1676520"/>
            <a:ext cx="3809880" cy="1218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167652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p*q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i := 1 to 100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[i] := x +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29718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895480"/>
            <a:ext cx="31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5) Loop unroll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5486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3429000"/>
            <a:ext cx="380988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3429000"/>
            <a:ext cx="380988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342900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for i := 1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0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x[i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x[i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4191120"/>
            <a:ext cx="38088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342900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for i := 1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00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for j := 1 to 2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x[i, j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 Methods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06668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6) Dead code elimin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2666880"/>
            <a:ext cx="381024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266688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ace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trace then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ln(…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352680"/>
            <a:ext cx="38124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72200" y="33526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5238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ad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43200" y="1523880"/>
            <a:ext cx="3962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ever execu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oes nothing usefu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51460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4952880"/>
            <a:ext cx="38102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5480" y="4952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: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38680" y="4876920"/>
            <a:ext cx="38124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72200" y="4876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472428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487692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571500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34120" y="2362320"/>
            <a:ext cx="3124080" cy="3047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438280"/>
            <a:ext cx="3505320" cy="2667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ation For Si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2514600"/>
            <a:ext cx="373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p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: u :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: v :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: x := d -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: y := d /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: z := 2 *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5562720"/>
            <a:ext cx="50292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*</a:t>
            </a:r>
            <a:r>
              <a:rPr b="1" lang="cs-CZ" sz="32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very bu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3124080"/>
            <a:ext cx="808200" cy="129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4120" y="2438280"/>
            <a:ext cx="316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*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p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: u :=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: v :=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: x := d -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: y := d /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: z := 2 *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14300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s optimization only makes a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short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progra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17524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8-10T14:04:00Z</dcterms:modified>
  <cp:revision>193</cp:revision>
  <dc:subject/>
  <dc:title>Optimization and Code Generation</dc:title>
</cp:coreProperties>
</file>