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9000-246F-45D8-BE64-B7F4BA9B9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D849-8E82-4B74-A10C-29E2790EA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AA92-D95D-4FEF-A49D-4CA461E6C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9E75-42CA-4A3A-9F41-598648EC3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2599-9B40-4435-B10C-DE8409818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E827-C144-4270-AF0B-B0A3627A3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4B7B-3EE1-4710-B314-B2EE83735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0563-1C62-4E7A-A1FB-D41311365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D164-79C3-418A-A11C-3E23BACC4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974F-D2C6-4588-AC1D-91D3D6F4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4F8E-6FE1-4B97-866C-8FEFA36B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EBE7-5833-4E34-81F1-08F2892B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3C257-DE38-476C-94CC-E41B0EFA61F7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8487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V.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Properties of Regular Languag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685800" y="4343400"/>
            <a:ext cx="7772400" cy="457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85800" y="259092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umping Lemma: Application II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1/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5800" y="106668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e can use the pumping lemma to pr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me other theor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9480" y="20422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2521800"/>
            <a:ext cx="8077320" cy="14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 DFA and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pumping lemma con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th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number of states i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. 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 is infinite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there exists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9120" y="3885480"/>
            <a:ext cx="129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22800" y="4280400"/>
            <a:ext cx="7908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there exists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7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7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1" i="1" lang="en-GB" sz="27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09480" y="472392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z </a:t>
            </a:r>
            <a:r>
              <a:rPr b="1" lang="cs-CZ" sz="30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 L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|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 then by PL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z = uv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 and for each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0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2133360" y="5638680"/>
            <a:ext cx="6019560" cy="797760"/>
            <a:chOff x="2133360" y="5638680"/>
            <a:chExt cx="6019560" cy="797760"/>
          </a:xfrm>
        </p:grpSpPr>
        <p:sp>
          <p:nvSpPr>
            <p:cNvPr id="329" name=""/>
            <p:cNvSpPr/>
            <p:nvPr/>
          </p:nvSpPr>
          <p:spPr>
            <a:xfrm rot="5400000">
              <a:off x="2475720" y="5295960"/>
              <a:ext cx="152640" cy="8377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21600 h 837720"/>
                <a:gd name="textAreaBottom" fmla="*/ 816120 h 83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5400000">
              <a:off x="6552720" y="4191120"/>
              <a:ext cx="152640" cy="304776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79200 h 3047760"/>
                <a:gd name="textAreaBottom" fmla="*/ 2968560 h 304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276360" y="5885640"/>
              <a:ext cx="2590560" cy="5508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) is infinit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590560" y="5867280"/>
              <a:ext cx="68544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866920" y="5867280"/>
              <a:ext cx="76140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685800" y="1219320"/>
            <a:ext cx="7772400" cy="457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umping Lemma: Application II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73560" y="1156320"/>
            <a:ext cx="7835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) is infinite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there exists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0880" y="4647600"/>
            <a:ext cx="8610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Assum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5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lang="cs-CZ" sz="25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cs-CZ" sz="2500" spc="-1" strike="noStrike">
                <a:solidFill>
                  <a:srgbClr val="339933"/>
                </a:solidFill>
                <a:latin typeface="Times New Roman"/>
              </a:rPr>
              <a:t>M</a:t>
            </a:r>
            <a:r>
              <a:rPr b="1" lang="cs-CZ" sz="25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339933"/>
                </a:solidFill>
                <a:latin typeface="Times New Roman"/>
              </a:rPr>
              <a:t>i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339933"/>
                </a:solidFill>
                <a:latin typeface="Times New Roman"/>
              </a:rPr>
              <a:t>infinit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ther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exist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3520" y="380952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a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ove by contradiction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57720" y="1675800"/>
            <a:ext cx="49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We prove by contradiction,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09560" y="2228040"/>
            <a:ext cx="2504880" cy="550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36960" y="2228040"/>
            <a:ext cx="4548600" cy="550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975680" y="3218760"/>
            <a:ext cx="5315040" cy="550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276720" y="2590920"/>
            <a:ext cx="68580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791320" y="2819520"/>
            <a:ext cx="0" cy="3808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354120" y="205668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259600" y="27424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4774680" y="5181480"/>
            <a:ext cx="3836160" cy="618840"/>
            <a:chOff x="4774680" y="5181480"/>
            <a:chExt cx="3836160" cy="618840"/>
          </a:xfrm>
        </p:grpSpPr>
        <p:sp>
          <p:nvSpPr>
            <p:cNvPr id="350" name=""/>
            <p:cNvSpPr/>
            <p:nvPr/>
          </p:nvSpPr>
          <p:spPr>
            <a:xfrm>
              <a:off x="4774680" y="5325480"/>
              <a:ext cx="38361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for all 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z </a:t>
              </a:r>
              <a:r>
                <a:rPr b="0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) holds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| &lt; 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620120" y="5181480"/>
              <a:ext cx="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6635160" y="5791320"/>
            <a:ext cx="2020320" cy="702720"/>
            <a:chOff x="6635160" y="5791320"/>
            <a:chExt cx="2020320" cy="702720"/>
          </a:xfrm>
        </p:grpSpPr>
        <p:sp>
          <p:nvSpPr>
            <p:cNvPr id="353" name=""/>
            <p:cNvSpPr/>
            <p:nvPr/>
          </p:nvSpPr>
          <p:spPr>
            <a:xfrm>
              <a:off x="6635160" y="6019200"/>
              <a:ext cx="20203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) is finite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620120" y="579132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630360" y="5181480"/>
            <a:ext cx="6062400" cy="1148400"/>
            <a:chOff x="630360" y="5181480"/>
            <a:chExt cx="6062400" cy="1148400"/>
          </a:xfrm>
        </p:grpSpPr>
        <p:sp>
          <p:nvSpPr>
            <p:cNvPr id="356" name=""/>
            <p:cNvSpPr/>
            <p:nvPr/>
          </p:nvSpPr>
          <p:spPr>
            <a:xfrm>
              <a:off x="630360" y="5809320"/>
              <a:ext cx="2523240" cy="520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Contradiction !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200400" y="5181480"/>
              <a:ext cx="812880" cy="787680"/>
            </a:xfrm>
            <a:custGeom>
              <a:avLst/>
              <a:gdLst/>
              <a:ahLst/>
              <a:rect l="l" t="t" r="r" b="b"/>
              <a:pathLst>
                <a:path w="504" h="496">
                  <a:moveTo>
                    <a:pt x="0" y="496"/>
                  </a:moveTo>
                  <a:cubicBezTo>
                    <a:pt x="67" y="459"/>
                    <a:pt x="332" y="347"/>
                    <a:pt x="416" y="264"/>
                  </a:cubicBezTo>
                  <a:cubicBezTo>
                    <a:pt x="500" y="181"/>
                    <a:pt x="486" y="55"/>
                    <a:pt x="504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200400" y="5837400"/>
              <a:ext cx="3492360" cy="385560"/>
            </a:xfrm>
            <a:custGeom>
              <a:avLst/>
              <a:gdLst/>
              <a:ahLst/>
              <a:rect l="l" t="t" r="r" b="b"/>
              <a:pathLst>
                <a:path w="2168" h="243">
                  <a:moveTo>
                    <a:pt x="0" y="179"/>
                  </a:moveTo>
                  <a:cubicBezTo>
                    <a:pt x="120" y="151"/>
                    <a:pt x="367" y="0"/>
                    <a:pt x="728" y="11"/>
                  </a:cubicBezTo>
                  <a:cubicBezTo>
                    <a:pt x="1089" y="22"/>
                    <a:pt x="1868" y="195"/>
                    <a:pt x="2168" y="243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umping Lemma: 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II. 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3782880"/>
            <a:ext cx="693432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1" lang="en-US" sz="25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i="1" lang="cs-CZ" sz="2500" spc="-1" strike="noStrike">
                <a:solidFill>
                  <a:srgbClr val="3333cc"/>
                </a:solidFill>
                <a:latin typeface="Times New Roman"/>
              </a:rPr>
              <a:t> L</a:t>
            </a:r>
            <a:r>
              <a:rPr b="1" lang="cs-CZ" sz="25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cs-CZ" sz="25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cs-CZ" sz="25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1" i="1" lang="en-GB" sz="25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1" lang="en-US" sz="25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| </a:t>
            </a:r>
            <a:r>
              <a:rPr b="1" lang="en-US" sz="25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e PL implies:  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vw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|</a:t>
            </a:r>
            <a:r>
              <a:rPr b="1" i="1" lang="cs-CZ" sz="25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1" i="1" lang="en-GB" sz="2500" spc="-1" strike="noStrike">
                <a:solidFill>
                  <a:srgbClr val="ff66ff"/>
                </a:solidFill>
                <a:latin typeface="Times New Roman"/>
              </a:rPr>
              <a:t>v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| </a:t>
            </a:r>
            <a:r>
              <a:rPr b="1" lang="en-US" sz="2500" spc="-1" strike="noStrike">
                <a:solidFill>
                  <a:srgbClr val="ff66ff"/>
                </a:solidFill>
                <a:latin typeface="Symbol"/>
                <a:ea typeface="Symbol"/>
              </a:rPr>
              <a:t></a:t>
            </a:r>
            <a:r>
              <a:rPr b="1" lang="en-GB" sz="25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GB" sz="2500" spc="-1" strike="noStrike">
                <a:solidFill>
                  <a:srgbClr val="ff66ff"/>
                </a:solidFill>
                <a:latin typeface="Times New Roman"/>
              </a:rPr>
              <a:t>k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for each 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25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9480" y="106596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b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ove by contradi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431640" y="3492360"/>
            <a:ext cx="5541480" cy="3142440"/>
            <a:chOff x="431640" y="3492360"/>
            <a:chExt cx="5541480" cy="3142440"/>
          </a:xfrm>
        </p:grpSpPr>
        <p:sp>
          <p:nvSpPr>
            <p:cNvPr id="364" name=""/>
            <p:cNvSpPr/>
            <p:nvPr/>
          </p:nvSpPr>
          <p:spPr>
            <a:xfrm>
              <a:off x="3449880" y="6114240"/>
              <a:ext cx="2523240" cy="520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Contradiction !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31640" y="3492360"/>
              <a:ext cx="2971800" cy="3073680"/>
            </a:xfrm>
            <a:custGeom>
              <a:avLst/>
              <a:gdLst/>
              <a:ahLst/>
              <a:rect l="l" t="t" r="r" b="b"/>
              <a:pathLst>
                <a:path w="1872" h="1936">
                  <a:moveTo>
                    <a:pt x="1872" y="1936"/>
                  </a:moveTo>
                  <a:cubicBezTo>
                    <a:pt x="1609" y="1908"/>
                    <a:pt x="592" y="1933"/>
                    <a:pt x="296" y="1768"/>
                  </a:cubicBezTo>
                  <a:cubicBezTo>
                    <a:pt x="0" y="1603"/>
                    <a:pt x="113" y="1207"/>
                    <a:pt x="96" y="944"/>
                  </a:cubicBezTo>
                  <a:cubicBezTo>
                    <a:pt x="79" y="681"/>
                    <a:pt x="113" y="349"/>
                    <a:pt x="192" y="192"/>
                  </a:cubicBezTo>
                  <a:cubicBezTo>
                    <a:pt x="271" y="35"/>
                    <a:pt x="490" y="40"/>
                    <a:pt x="568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133720" y="6019920"/>
              <a:ext cx="1282680" cy="317520"/>
            </a:xfrm>
            <a:custGeom>
              <a:avLst/>
              <a:gdLst/>
              <a:ahLst/>
              <a:rect l="l" t="t" r="r" b="b"/>
              <a:pathLst>
                <a:path w="808" h="200">
                  <a:moveTo>
                    <a:pt x="808" y="200"/>
                  </a:moveTo>
                  <a:cubicBezTo>
                    <a:pt x="699" y="192"/>
                    <a:pt x="287" y="185"/>
                    <a:pt x="152" y="152"/>
                  </a:cubicBezTo>
                  <a:cubicBezTo>
                    <a:pt x="17" y="119"/>
                    <a:pt x="32" y="32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685800" y="2285280"/>
            <a:ext cx="7696080" cy="610200"/>
            <a:chOff x="685800" y="2285280"/>
            <a:chExt cx="7696080" cy="610200"/>
          </a:xfrm>
        </p:grpSpPr>
        <p:sp>
          <p:nvSpPr>
            <p:cNvPr id="368" name=""/>
            <p:cNvSpPr/>
            <p:nvPr/>
          </p:nvSpPr>
          <p:spPr>
            <a:xfrm>
              <a:off x="685800" y="2285280"/>
              <a:ext cx="53341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Assume that 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there is</a:t>
              </a:r>
              <a:r>
                <a:rPr b="1" lang="cs-CZ" sz="25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cs-CZ" sz="2500" spc="-1" strike="noStrike">
                  <a:solidFill>
                    <a:srgbClr val="339933"/>
                  </a:solidFill>
                  <a:latin typeface="Times New Roman"/>
                </a:rPr>
                <a:t>z </a:t>
              </a:r>
              <a:r>
                <a:rPr b="1" lang="cs-CZ" sz="25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</a:t>
              </a:r>
              <a:r>
                <a:rPr b="1" i="1" lang="cs-CZ" sz="2500" spc="-1" strike="noStrike">
                  <a:solidFill>
                    <a:srgbClr val="339933"/>
                  </a:solidFill>
                  <a:latin typeface="Times New Roman"/>
                </a:rPr>
                <a:t> L</a:t>
              </a:r>
              <a:r>
                <a:rPr b="1" lang="cs-CZ" sz="2500" spc="-1" strike="noStrike">
                  <a:solidFill>
                    <a:srgbClr val="339933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339933"/>
                  </a:solidFill>
                  <a:latin typeface="Times New Roman"/>
                </a:rPr>
                <a:t>M</a:t>
              </a:r>
              <a:r>
                <a:rPr b="1" lang="cs-CZ" sz="2500" spc="-1" strike="noStrike">
                  <a:solidFill>
                    <a:srgbClr val="339933"/>
                  </a:solidFill>
                  <a:latin typeface="Times New Roman"/>
                </a:rPr>
                <a:t>), 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|</a:t>
              </a:r>
              <a:r>
                <a:rPr b="1" i="1" lang="en-GB" sz="2500" spc="-1" strike="noStrike">
                  <a:solidFill>
                    <a:srgbClr val="339933"/>
                  </a:solidFill>
                  <a:latin typeface="Times New Roman"/>
                </a:rPr>
                <a:t>z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| </a:t>
              </a:r>
              <a:r>
                <a:rPr b="1" lang="en-US" sz="25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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339933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019920" y="2819520"/>
              <a:ext cx="2361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172200" y="27432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97320" y="2285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544880" y="2285280"/>
              <a:ext cx="53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553080" y="2743200"/>
              <a:ext cx="15264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934320" y="2743200"/>
              <a:ext cx="15228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315200" y="2743200"/>
              <a:ext cx="15228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696080" y="2743200"/>
              <a:ext cx="15264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077320" y="2743200"/>
              <a:ext cx="15228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621720" y="4882320"/>
            <a:ext cx="2183400" cy="6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uw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|</a:t>
            </a:r>
            <a:r>
              <a:rPr b="1" i="1" lang="en-GB" sz="2500" spc="-1" strike="noStrike">
                <a:solidFill>
                  <a:srgbClr val="ff9933"/>
                </a:solidFill>
                <a:latin typeface="Times New Roman"/>
              </a:rPr>
              <a:t>z</a:t>
            </a:r>
            <a:r>
              <a:rPr b="1" lang="en-US" sz="2500" spc="-1" strike="noStrike" baseline="-25000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|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|</a:t>
            </a:r>
            <a:r>
              <a:rPr b="1" i="1" lang="en-GB" sz="2500" spc="-1" strike="noStrike">
                <a:solidFill>
                  <a:srgbClr val="ff66ff"/>
                </a:solidFill>
                <a:latin typeface="Times New Roman"/>
              </a:rPr>
              <a:t>v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|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4416480" y="4648320"/>
            <a:ext cx="4377960" cy="808920"/>
            <a:chOff x="4416480" y="4648320"/>
            <a:chExt cx="4377960" cy="808920"/>
          </a:xfrm>
        </p:grpSpPr>
        <p:sp>
          <p:nvSpPr>
            <p:cNvPr id="380" name=""/>
            <p:cNvSpPr/>
            <p:nvPr/>
          </p:nvSpPr>
          <p:spPr>
            <a:xfrm>
              <a:off x="5943600" y="4648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6480" y="4875840"/>
              <a:ext cx="43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= 0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 uv</a:t>
              </a:r>
              <a:r>
                <a:rPr b="0" i="1" lang="en-US" sz="25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uw </a:t>
              </a: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685800" y="5307120"/>
            <a:ext cx="815328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ummary: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w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w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w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 &lt; |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cs-CZ" sz="25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28640" y="5611680"/>
            <a:ext cx="744084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25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 is not the shortest string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satisfying 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1487520" y="4571280"/>
            <a:ext cx="1431720" cy="534240"/>
            <a:chOff x="1487520" y="4571280"/>
            <a:chExt cx="1431720" cy="534240"/>
          </a:xfrm>
        </p:grpSpPr>
        <p:sp>
          <p:nvSpPr>
            <p:cNvPr id="385" name=""/>
            <p:cNvSpPr/>
            <p:nvPr/>
          </p:nvSpPr>
          <p:spPr>
            <a:xfrm rot="5400000">
              <a:off x="2476080" y="4838760"/>
              <a:ext cx="152640" cy="38088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9720 h 380880"/>
                <a:gd name="textAreaBottom" fmla="*/ 3711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5400000">
              <a:off x="1828440" y="4800600"/>
              <a:ext cx="152640" cy="45720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487520" y="4571280"/>
              <a:ext cx="9075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9933"/>
                  </a:solidFill>
                  <a:latin typeface="Symbol"/>
                  <a:ea typeface="Symbol"/>
                </a:rPr>
                <a:t>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2</a:t>
              </a:r>
              <a:r>
                <a:rPr b="1" i="1" lang="en-US" sz="2500" spc="-1" strike="noStrike">
                  <a:solidFill>
                    <a:srgbClr val="ff9933"/>
                  </a:solidFill>
                  <a:latin typeface="Times New Roman"/>
                </a:rPr>
                <a:t>k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249280" y="4571280"/>
              <a:ext cx="6699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</a:t>
              </a:r>
              <a:r>
                <a:rPr b="1" lang="en-US" sz="25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ff66ff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689040" y="3021120"/>
            <a:ext cx="8033040" cy="908280"/>
            <a:chOff x="689040" y="3021120"/>
            <a:chExt cx="8033040" cy="908280"/>
          </a:xfrm>
        </p:grpSpPr>
        <p:sp>
          <p:nvSpPr>
            <p:cNvPr id="390" name=""/>
            <p:cNvSpPr/>
            <p:nvPr/>
          </p:nvSpPr>
          <p:spPr>
            <a:xfrm>
              <a:off x="689040" y="3021120"/>
              <a:ext cx="764244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Let </a:t>
              </a:r>
              <a:r>
                <a:rPr b="1" i="1" lang="en-US" sz="2500" spc="-1" strike="noStrike">
                  <a:solidFill>
                    <a:srgbClr val="339933"/>
                  </a:solidFill>
                  <a:latin typeface="Times New Roman"/>
                </a:rPr>
                <a:t>z</a:t>
              </a:r>
              <a:r>
                <a:rPr b="1" lang="en-US" sz="2500" spc="-1" strike="noStrike" baseline="-25000">
                  <a:solidFill>
                    <a:srgbClr val="339933"/>
                  </a:solidFill>
                  <a:latin typeface="Times New Roman"/>
                </a:rPr>
                <a:t>0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be 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the</a:t>
              </a:r>
              <a:r>
                <a:rPr b="0" lang="en-US" sz="25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shortest string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satisfying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500" spc="-1" strike="noStrike">
                  <a:solidFill>
                    <a:srgbClr val="3333cc"/>
                  </a:solidFill>
                  <a:latin typeface="Times New Roman"/>
                </a:rPr>
                <a:t>z</a:t>
              </a:r>
              <a:r>
                <a:rPr b="1" lang="en-US" sz="2500" spc="-1" strike="noStrike" baseline="-25000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en-US" sz="25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</a:t>
              </a:r>
              <a:r>
                <a:rPr b="1" i="1" lang="cs-CZ" sz="2500" spc="-1" strike="noStrike">
                  <a:solidFill>
                    <a:srgbClr val="3333cc"/>
                  </a:solidFill>
                  <a:latin typeface="Times New Roman"/>
                </a:rPr>
                <a:t> L</a:t>
              </a:r>
              <a:r>
                <a:rPr b="1" lang="cs-CZ" sz="2500" spc="-1" strike="noStrike">
                  <a:solidFill>
                    <a:srgbClr val="3333cc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cs-CZ" sz="25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500" spc="-1" strike="noStrike">
                  <a:solidFill>
                    <a:srgbClr val="3333cc"/>
                  </a:solidFill>
                  <a:latin typeface="Times New Roman"/>
                </a:rPr>
                <a:t>|</a:t>
              </a:r>
              <a:r>
                <a:rPr b="1" i="1" lang="en-GB" sz="2500" spc="-1" strike="noStrike">
                  <a:solidFill>
                    <a:srgbClr val="3333cc"/>
                  </a:solidFill>
                  <a:latin typeface="Times New Roman"/>
                </a:rPr>
                <a:t>z</a:t>
              </a:r>
              <a:r>
                <a:rPr b="1" lang="en-US" sz="2500" spc="-1" strike="noStrike" baseline="-25000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en-US" sz="2500" spc="-1" strike="noStrike">
                  <a:solidFill>
                    <a:srgbClr val="3333cc"/>
                  </a:solidFill>
                  <a:latin typeface="Times New Roman"/>
                </a:rPr>
                <a:t>| </a:t>
              </a:r>
              <a:r>
                <a:rPr b="1" lang="en-US" sz="25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</a:t>
              </a:r>
              <a:r>
                <a:rPr b="1" lang="en-US" sz="25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3333cc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141560" y="3402000"/>
              <a:ext cx="758052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Because 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there exists no 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z </a:t>
              </a:r>
              <a:r>
                <a:rPr b="0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),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|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| &lt;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2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, so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|</a:t>
              </a:r>
              <a:r>
                <a:rPr b="1" i="1" lang="en-US" sz="2500" spc="-1" strike="noStrike">
                  <a:solidFill>
                    <a:srgbClr val="ff9933"/>
                  </a:solidFill>
                  <a:latin typeface="Times New Roman"/>
                </a:rPr>
                <a:t>z</a:t>
              </a:r>
              <a:r>
                <a:rPr b="1" lang="en-US" sz="2500" spc="-1" strike="noStrike" baseline="-25000">
                  <a:solidFill>
                    <a:srgbClr val="ff9933"/>
                  </a:solidFill>
                  <a:latin typeface="Times New Roman"/>
                </a:rPr>
                <a:t>0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| </a:t>
              </a:r>
              <a:r>
                <a:rPr b="1" lang="en-US" sz="2500" spc="-1" strike="noStrike">
                  <a:solidFill>
                    <a:srgbClr val="ff9933"/>
                  </a:solidFill>
                  <a:latin typeface="Symbol"/>
                  <a:ea typeface="Symbol"/>
                </a:rPr>
                <a:t>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 2</a:t>
              </a:r>
              <a:r>
                <a:rPr b="1" i="1" lang="en-US" sz="2500" spc="-1" strike="noStrike">
                  <a:solidFill>
                    <a:srgbClr val="ff9933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608040" y="2590200"/>
            <a:ext cx="7775640" cy="474840"/>
            <a:chOff x="608040" y="2590200"/>
            <a:chExt cx="7775640" cy="474840"/>
          </a:xfrm>
        </p:grpSpPr>
        <p:grpSp>
          <p:nvGrpSpPr>
            <p:cNvPr id="393" name=""/>
            <p:cNvGrpSpPr/>
            <p:nvPr/>
          </p:nvGrpSpPr>
          <p:grpSpPr>
            <a:xfrm>
              <a:off x="7240680" y="2667240"/>
              <a:ext cx="304560" cy="304200"/>
              <a:chOff x="7240680" y="2667240"/>
              <a:chExt cx="304560" cy="304200"/>
            </a:xfrm>
          </p:grpSpPr>
          <p:sp>
            <p:nvSpPr>
              <p:cNvPr id="394" name=""/>
              <p:cNvSpPr/>
              <p:nvPr/>
            </p:nvSpPr>
            <p:spPr>
              <a:xfrm>
                <a:off x="724068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724068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6097680" y="2667240"/>
              <a:ext cx="304560" cy="304200"/>
              <a:chOff x="6097680" y="2667240"/>
              <a:chExt cx="304560" cy="304200"/>
            </a:xfrm>
          </p:grpSpPr>
          <p:sp>
            <p:nvSpPr>
              <p:cNvPr id="397" name=""/>
              <p:cNvSpPr/>
              <p:nvPr/>
            </p:nvSpPr>
            <p:spPr>
              <a:xfrm>
                <a:off x="609768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>
                <a:off x="609768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6859440" y="2667240"/>
              <a:ext cx="304560" cy="304200"/>
              <a:chOff x="6859440" y="2667240"/>
              <a:chExt cx="304560" cy="304200"/>
            </a:xfrm>
          </p:grpSpPr>
          <p:sp>
            <p:nvSpPr>
              <p:cNvPr id="400" name=""/>
              <p:cNvSpPr/>
              <p:nvPr/>
            </p:nvSpPr>
            <p:spPr>
              <a:xfrm>
                <a:off x="6859800" y="2667240"/>
                <a:ext cx="30420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6859440" y="2667240"/>
                <a:ext cx="30420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6478560" y="2667240"/>
              <a:ext cx="304560" cy="304200"/>
              <a:chOff x="6478560" y="2667240"/>
              <a:chExt cx="304560" cy="304200"/>
            </a:xfrm>
          </p:grpSpPr>
          <p:sp>
            <p:nvSpPr>
              <p:cNvPr id="403" name=""/>
              <p:cNvSpPr/>
              <p:nvPr/>
            </p:nvSpPr>
            <p:spPr>
              <a:xfrm>
                <a:off x="647856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647856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5" name=""/>
            <p:cNvSpPr/>
            <p:nvPr/>
          </p:nvSpPr>
          <p:spPr>
            <a:xfrm>
              <a:off x="7697880" y="2971800"/>
              <a:ext cx="685800" cy="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08040" y="2590200"/>
              <a:ext cx="50454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r>
                <a:rPr b="1" lang="en-GB" sz="2500" spc="-1" strike="noStrike">
                  <a:solidFill>
                    <a:srgbClr val="000000"/>
                  </a:solidFill>
                  <a:latin typeface="Times New Roman"/>
                </a:rPr>
                <a:t> there is no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z </a:t>
              </a:r>
              <a:r>
                <a:rPr b="1" lang="cs-CZ" sz="25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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 L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), </a:t>
              </a:r>
              <a:r>
                <a:rPr b="1" i="1" lang="en-GB" sz="25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1" lang="en-US" sz="25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</a:t>
              </a:r>
              <a:r>
                <a:rPr b="1" lang="en-US" sz="2500" spc="-1" strike="noStrike">
                  <a:solidFill>
                    <a:srgbClr val="ff0000"/>
                  </a:solidFill>
                  <a:latin typeface="Times New Roman"/>
                </a:rPr>
                <a:t> |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1" lang="en-US" sz="2500" spc="-1" strike="noStrike">
                  <a:solidFill>
                    <a:srgbClr val="ff0000"/>
                  </a:solidFill>
                  <a:latin typeface="Times New Roman"/>
                </a:rPr>
                <a:t>| &lt;</a:t>
              </a:r>
              <a:r>
                <a:rPr b="1" lang="en-GB" sz="2500" spc="-1" strike="noStrike">
                  <a:solidFill>
                    <a:srgbClr val="ff0000"/>
                  </a:solidFill>
                  <a:latin typeface="Times New Roman"/>
                </a:rPr>
                <a:t> 2</a:t>
              </a:r>
              <a:r>
                <a:rPr b="1" i="1" lang="en-GB" sz="25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2694600" y="4875840"/>
            <a:ext cx="81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38080" y="182880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09480" y="144792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"/>
          <p:cNvGrpSpPr/>
          <p:nvPr/>
        </p:nvGrpSpPr>
        <p:grpSpPr>
          <a:xfrm>
            <a:off x="609480" y="3123360"/>
            <a:ext cx="8305920" cy="2363040"/>
            <a:chOff x="609480" y="3123360"/>
            <a:chExt cx="8305920" cy="2363040"/>
          </a:xfrm>
        </p:grpSpPr>
        <p:sp>
          <p:nvSpPr>
            <p:cNvPr id="412" name=""/>
            <p:cNvSpPr/>
            <p:nvPr/>
          </p:nvSpPr>
          <p:spPr>
            <a:xfrm>
              <a:off x="2438280" y="4419720"/>
              <a:ext cx="2743200" cy="10666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629320" y="4267080"/>
              <a:ext cx="2981160" cy="10076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The family of regular language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09480" y="312336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Illustration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09480" y="3505320"/>
              <a:ext cx="8305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The family of regular languages is closed unde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union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915480" y="3885480"/>
              <a:ext cx="149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It means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5105520" y="4571640"/>
              <a:ext cx="5238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85800" y="1143000"/>
            <a:ext cx="769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amily of regular languages is closed under 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peration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language resulting from the application of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an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regular langu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lso regul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1523880" y="4952880"/>
            <a:ext cx="1660320" cy="1334520"/>
            <a:chOff x="1523880" y="4952880"/>
            <a:chExt cx="1660320" cy="1334520"/>
          </a:xfrm>
        </p:grpSpPr>
        <p:sp>
          <p:nvSpPr>
            <p:cNvPr id="423" name=""/>
            <p:cNvSpPr/>
            <p:nvPr/>
          </p:nvSpPr>
          <p:spPr>
            <a:xfrm>
              <a:off x="152388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1980720" y="4952880"/>
              <a:ext cx="12034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276720" y="4724280"/>
            <a:ext cx="914400" cy="1563120"/>
            <a:chOff x="3276720" y="4724280"/>
            <a:chExt cx="914400" cy="1563120"/>
          </a:xfrm>
        </p:grpSpPr>
        <p:sp>
          <p:nvSpPr>
            <p:cNvPr id="426" name=""/>
            <p:cNvSpPr/>
            <p:nvPr/>
          </p:nvSpPr>
          <p:spPr>
            <a:xfrm>
              <a:off x="327672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733920" y="472428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2590920" y="5638680"/>
            <a:ext cx="2286000" cy="581400"/>
            <a:chOff x="2590920" y="5638680"/>
            <a:chExt cx="2286000" cy="581400"/>
          </a:xfrm>
        </p:grpSpPr>
        <p:sp>
          <p:nvSpPr>
            <p:cNvPr id="429" name=""/>
            <p:cNvSpPr/>
            <p:nvPr/>
          </p:nvSpPr>
          <p:spPr>
            <a:xfrm>
              <a:off x="2590920" y="5638680"/>
              <a:ext cx="53316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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343400" y="5638680"/>
              <a:ext cx="53352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4267080" y="4952880"/>
            <a:ext cx="1676520" cy="1334520"/>
            <a:chOff x="4267080" y="4952880"/>
            <a:chExt cx="1676520" cy="1334520"/>
          </a:xfrm>
        </p:grpSpPr>
        <p:sp>
          <p:nvSpPr>
            <p:cNvPr id="432" name=""/>
            <p:cNvSpPr/>
            <p:nvPr/>
          </p:nvSpPr>
          <p:spPr>
            <a:xfrm>
              <a:off x="502920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267080" y="4952880"/>
              <a:ext cx="120348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609480" y="220896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114300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regular languages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osed unde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concatena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ter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9480" y="2666880"/>
            <a:ext cx="815364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be two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n, there exist two REs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finition of regular expression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RE denoting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RE denoting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a RE denoting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very RE denotes regular language,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62840" y="5608440"/>
            <a:ext cx="649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a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regula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85800" y="106668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lete 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mplete 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85800" y="2590920"/>
            <a:ext cx="56386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for Compl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369880" y="2132640"/>
            <a:ext cx="242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86200" y="220968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09480" y="358056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752480" y="464832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276720" y="39625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286000" y="491796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219320" y="491796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62120" y="514656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352680" y="48420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371600" y="4114800"/>
            <a:ext cx="2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429000" y="4917960"/>
            <a:ext cx="53352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916360" y="4659480"/>
            <a:ext cx="24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819520" y="519264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438280" y="411480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1218960" y="5486400"/>
            <a:ext cx="2895840" cy="732960"/>
            <a:chOff x="1218960" y="5486400"/>
            <a:chExt cx="2895840" cy="732960"/>
          </a:xfrm>
        </p:grpSpPr>
        <p:sp>
          <p:nvSpPr>
            <p:cNvPr id="463" name=""/>
            <p:cNvSpPr/>
            <p:nvPr/>
          </p:nvSpPr>
          <p:spPr>
            <a:xfrm rot="5400000">
              <a:off x="1904760" y="4800600"/>
              <a:ext cx="228600" cy="16002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5400000">
              <a:off x="3619440" y="5219640"/>
              <a:ext cx="152640" cy="83808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448280" y="5561640"/>
              <a:ext cx="1154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430800" y="56379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611280" y="411408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5409720" y="5486400"/>
            <a:ext cx="2099880" cy="656640"/>
            <a:chOff x="5409720" y="5486400"/>
            <a:chExt cx="2099880" cy="656640"/>
          </a:xfrm>
        </p:grpSpPr>
        <p:sp>
          <p:nvSpPr>
            <p:cNvPr id="469" name=""/>
            <p:cNvSpPr/>
            <p:nvPr/>
          </p:nvSpPr>
          <p:spPr>
            <a:xfrm rot="5400000">
              <a:off x="6324120" y="4800600"/>
              <a:ext cx="228600" cy="16002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409720" y="5561640"/>
              <a:ext cx="2099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’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 Q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–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268200" y="6094800"/>
            <a:ext cx="90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str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str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295280" y="4572000"/>
            <a:ext cx="456840" cy="39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362320" y="4572000"/>
            <a:ext cx="456840" cy="39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429000" y="4495680"/>
            <a:ext cx="456840" cy="39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752480" y="51814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4419720" y="3962520"/>
            <a:ext cx="4190760" cy="1600200"/>
            <a:chOff x="4419720" y="3962520"/>
            <a:chExt cx="4190760" cy="1600200"/>
          </a:xfrm>
        </p:grpSpPr>
        <p:sp>
          <p:nvSpPr>
            <p:cNvPr id="477" name=""/>
            <p:cNvSpPr/>
            <p:nvPr/>
          </p:nvSpPr>
          <p:spPr>
            <a:xfrm>
              <a:off x="4419720" y="4876920"/>
              <a:ext cx="53316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248520" y="464832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772400" y="39625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924680" y="48769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105520" y="5181480"/>
              <a:ext cx="45720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715000" y="396252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467480" y="464832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391520" y="5181480"/>
              <a:ext cx="53316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934320" y="396252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878000" y="4114080"/>
              <a:ext cx="813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562720" y="4800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638680" y="4876920"/>
              <a:ext cx="533520" cy="5331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705720" y="4800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781680" y="4876920"/>
              <a:ext cx="533520" cy="5331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924680" y="4495680"/>
              <a:ext cx="456840" cy="391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858000" y="4419720"/>
              <a:ext cx="456840" cy="39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638680" y="4419720"/>
              <a:ext cx="456840" cy="39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248520" y="51814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for Complement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80880" y="1066680"/>
            <a:ext cx="86108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evious algorithm require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comple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incomplete 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ust be converted t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mplete FA before w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u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evious algorith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295280" y="304812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1430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85800" y="4191120"/>
            <a:ext cx="45720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05740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133720" y="3886200"/>
            <a:ext cx="53316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066680" y="3505320"/>
            <a:ext cx="685440" cy="45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676520" y="3657600"/>
            <a:ext cx="24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676520" y="4191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057400" y="3429000"/>
            <a:ext cx="685440" cy="45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286000" y="29718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09120" y="2818440"/>
            <a:ext cx="232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ncomplete DF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533520" y="4419720"/>
            <a:ext cx="3962160" cy="2105280"/>
            <a:chOff x="533520" y="4419720"/>
            <a:chExt cx="3962160" cy="2105280"/>
          </a:xfrm>
        </p:grpSpPr>
        <p:sp>
          <p:nvSpPr>
            <p:cNvPr id="510" name=""/>
            <p:cNvSpPr/>
            <p:nvPr/>
          </p:nvSpPr>
          <p:spPr>
            <a:xfrm>
              <a:off x="1600200" y="5943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514600" y="54864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2" name=""/>
            <p:cNvGrpSpPr/>
            <p:nvPr/>
          </p:nvGrpSpPr>
          <p:grpSpPr>
            <a:xfrm>
              <a:off x="3124080" y="5528160"/>
              <a:ext cx="990720" cy="720360"/>
              <a:chOff x="3124080" y="5528160"/>
              <a:chExt cx="990720" cy="720360"/>
            </a:xfrm>
          </p:grpSpPr>
          <p:sp>
            <p:nvSpPr>
              <p:cNvPr id="513" name=""/>
              <p:cNvSpPr/>
              <p:nvPr/>
            </p:nvSpPr>
            <p:spPr>
              <a:xfrm>
                <a:off x="3124080" y="5639040"/>
                <a:ext cx="990720" cy="60948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3156840" y="5528160"/>
                <a:ext cx="8406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2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i="1" lang="cs-CZ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fals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>
              <a:off x="3276720" y="480060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86160" y="4799520"/>
              <a:ext cx="213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Complete DFA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523880" y="548640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523880" y="601992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5400000">
              <a:off x="1713960" y="4305240"/>
              <a:ext cx="45720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38080" y="495324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990720" y="57150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33520" y="5989680"/>
              <a:ext cx="45720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905120" y="56390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914400" y="5410440"/>
              <a:ext cx="685440" cy="36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905120" y="5334120"/>
              <a:ext cx="685440" cy="36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752480" y="49532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981080" y="5715000"/>
              <a:ext cx="53352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276720" y="5334120"/>
              <a:ext cx="837720" cy="36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590920" y="601992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 rot="10800000">
              <a:off x="1350720" y="6019920"/>
              <a:ext cx="20775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" y="9977"/>
                  </a:moveTo>
                  <a:arcTo wR="10800" hR="10800" stAng="-10537919" swAng="10537919"/>
                  <a:lnTo>
                    <a:pt x="10800" y="10800"/>
                  </a:lnTo>
                  <a:close/>
                </a:path>
                <a:path fill="none" w="21600" h="21600">
                  <a:moveTo>
                    <a:pt x="31" y="9977"/>
                  </a:moveTo>
                  <a:arcTo wR="10800" hR="10800" stAng="-10537919" swAng="10537919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535320" y="3199680"/>
            <a:ext cx="6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11280" y="2437560"/>
            <a:ext cx="164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4267080" y="4800600"/>
            <a:ext cx="4572000" cy="1724400"/>
            <a:chOff x="4267080" y="4800600"/>
            <a:chExt cx="4572000" cy="1724400"/>
          </a:xfrm>
        </p:grpSpPr>
        <p:sp>
          <p:nvSpPr>
            <p:cNvPr id="535" name=""/>
            <p:cNvSpPr/>
            <p:nvPr/>
          </p:nvSpPr>
          <p:spPr>
            <a:xfrm>
              <a:off x="6095880" y="5943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010280" y="54864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620120" y="480060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334120" y="480060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400800" y="4876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772400" y="5334120"/>
              <a:ext cx="837720" cy="36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086600" y="601992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 rot="10800000">
              <a:off x="5847120" y="6019920"/>
              <a:ext cx="20772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" y="9977"/>
                  </a:moveTo>
                  <a:arcTo wR="10800" hR="10800" stAng="-10537919" swAng="10537919"/>
                  <a:lnTo>
                    <a:pt x="10800" y="10800"/>
                  </a:lnTo>
                  <a:close/>
                </a:path>
                <a:path fill="none" w="21600" h="21600">
                  <a:moveTo>
                    <a:pt x="31" y="9977"/>
                  </a:moveTo>
                  <a:arcTo wR="10800" hR="10800" stAng="-10537919" swAng="10537919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5530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876920" y="6019920"/>
              <a:ext cx="45720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334120" y="56390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410080" y="5715000"/>
              <a:ext cx="53352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334120" y="5257800"/>
              <a:ext cx="6854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019920" y="5562720"/>
              <a:ext cx="242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019920" y="601992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477120" y="5334120"/>
              <a:ext cx="6854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620120" y="5639040"/>
              <a:ext cx="1066680" cy="6778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728840" y="5528160"/>
              <a:ext cx="8406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fals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696080" y="5715000"/>
              <a:ext cx="91440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582800" y="4923000"/>
              <a:ext cx="837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267080" y="5639040"/>
              <a:ext cx="45720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6432840" y="4332240"/>
            <a:ext cx="2245320" cy="579600"/>
            <a:chOff x="6432840" y="4332240"/>
            <a:chExt cx="2245320" cy="579600"/>
          </a:xfrm>
        </p:grpSpPr>
        <p:sp>
          <p:nvSpPr>
            <p:cNvPr id="557" name=""/>
            <p:cNvSpPr/>
            <p:nvPr/>
          </p:nvSpPr>
          <p:spPr>
            <a:xfrm>
              <a:off x="6432840" y="4332240"/>
              <a:ext cx="2245320" cy="5796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848720" y="4419720"/>
              <a:ext cx="676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3200400" y="2660400"/>
            <a:ext cx="5486400" cy="630360"/>
            <a:chOff x="3200400" y="2660400"/>
            <a:chExt cx="5486400" cy="630360"/>
          </a:xfrm>
        </p:grpSpPr>
        <p:sp>
          <p:nvSpPr>
            <p:cNvPr id="560" name=""/>
            <p:cNvSpPr/>
            <p:nvPr/>
          </p:nvSpPr>
          <p:spPr>
            <a:xfrm>
              <a:off x="3200400" y="2660400"/>
              <a:ext cx="5486400" cy="6303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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!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’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724280" y="281916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2971800" y="3124080"/>
            <a:ext cx="3123720" cy="1523880"/>
            <a:chOff x="2971800" y="3124080"/>
            <a:chExt cx="3123720" cy="1523880"/>
          </a:xfrm>
        </p:grpSpPr>
        <p:sp>
          <p:nvSpPr>
            <p:cNvPr id="563" name=""/>
            <p:cNvSpPr/>
            <p:nvPr/>
          </p:nvSpPr>
          <p:spPr>
            <a:xfrm>
              <a:off x="4419720" y="39621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410080" y="32000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343400" y="312408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486400" y="40384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962520" y="4343040"/>
              <a:ext cx="45720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495680" y="4038480"/>
              <a:ext cx="533520" cy="5331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419720" y="3581280"/>
              <a:ext cx="6854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105520" y="3809880"/>
              <a:ext cx="242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410080" y="3657240"/>
              <a:ext cx="6854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592080" y="3246120"/>
              <a:ext cx="837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105520" y="43430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971800" y="3885840"/>
              <a:ext cx="838080" cy="685800"/>
            </a:xfrm>
            <a:prstGeom prst="rightArrow">
              <a:avLst>
                <a:gd name="adj1" fmla="val 50000"/>
                <a:gd name="adj2" fmla="val 30551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2971440" y="3733560"/>
            <a:ext cx="686160" cy="914040"/>
            <a:chOff x="2971440" y="3733560"/>
            <a:chExt cx="686160" cy="914040"/>
          </a:xfrm>
        </p:grpSpPr>
        <p:sp>
          <p:nvSpPr>
            <p:cNvPr id="576" name=""/>
            <p:cNvSpPr/>
            <p:nvPr/>
          </p:nvSpPr>
          <p:spPr>
            <a:xfrm flipV="1">
              <a:off x="2971800" y="3733560"/>
              <a:ext cx="685800" cy="914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 flipV="1">
              <a:off x="2971440" y="3733560"/>
              <a:ext cx="685800" cy="914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609480" y="220896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regular languages is closed under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complemen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: Compl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57200" y="2743200"/>
            <a:ext cx="8077320" cy="28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be a 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Then, there exists a complete D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We can construct a complete D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by using the previous algorith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A defines a regular language, so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153280" y="3733920"/>
            <a:ext cx="381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38080" y="5105520"/>
            <a:ext cx="3812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609480" y="22852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: Inters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57200" y="2819520"/>
            <a:ext cx="8686800" cy="366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be two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(the family of regular languages is closed under complement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(the family of regular languages is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closed under union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(the family of regular languages is closed under complement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DeMorg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62120" y="335268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295280" y="3352680"/>
            <a:ext cx="3812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62120" y="411480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523880" y="4114800"/>
            <a:ext cx="3812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85800" y="495288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447920" y="495288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85800" y="487692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286000" y="57913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048120" y="57913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286000" y="571500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regular languages is closed under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intersec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685800" y="1219320"/>
            <a:ext cx="7772400" cy="2057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85800" y="1143000"/>
            <a:ext cx="792468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 Let a family of languages be closed under union, intersection, and complement. Then, this family represents a </a:t>
            </a:r>
            <a:r>
              <a:rPr b="1" i="1" lang="en-GB" sz="3400" spc="-1" strike="noStrike">
                <a:solidFill>
                  <a:srgbClr val="000000"/>
                </a:solidFill>
                <a:latin typeface="Times New Roman"/>
              </a:rPr>
              <a:t>Boolean algebra of languages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Boolean Algebra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85800" y="34290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85800" y="3276720"/>
            <a:ext cx="7696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amily of regular languages is a Boolean algebra of langu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09480" y="49528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amily of regular languages is closed under union, intersection, and complemen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9480" y="441864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90512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828800"/>
            <a:ext cx="7924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 RL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Then, there is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1 such th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re exist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vw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for each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 for R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21000" y="3351960"/>
            <a:ext cx="625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or 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regu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84120" y="4114080"/>
            <a:ext cx="8460360" cy="1427760"/>
            <a:chOff x="384120" y="4114080"/>
            <a:chExt cx="8460360" cy="1427760"/>
          </a:xfrm>
        </p:grpSpPr>
        <p:sp>
          <p:nvSpPr>
            <p:cNvPr id="49" name=""/>
            <p:cNvSpPr/>
            <p:nvPr/>
          </p:nvSpPr>
          <p:spPr>
            <a:xfrm>
              <a:off x="384120" y="4114080"/>
              <a:ext cx="489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828800" y="4572000"/>
              <a:ext cx="0" cy="22860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057400" y="4572000"/>
              <a:ext cx="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286000" y="4572000"/>
              <a:ext cx="0" cy="22860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01280" y="4571280"/>
              <a:ext cx="986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u v w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995720" y="4144320"/>
              <a:ext cx="364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919400" y="4448880"/>
              <a:ext cx="382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843080" y="4753800"/>
              <a:ext cx="4001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631560" y="5104440"/>
              <a:ext cx="72900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62960" y="4952160"/>
              <a:ext cx="255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|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04200" y="5409360"/>
            <a:ext cx="8820360" cy="1450080"/>
            <a:chOff x="304200" y="5409360"/>
            <a:chExt cx="8820360" cy="1450080"/>
          </a:xfrm>
        </p:grpSpPr>
        <p:sp>
          <p:nvSpPr>
            <p:cNvPr id="60" name=""/>
            <p:cNvSpPr/>
            <p:nvPr/>
          </p:nvSpPr>
          <p:spPr>
            <a:xfrm>
              <a:off x="304200" y="5409360"/>
              <a:ext cx="492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b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752480" y="5867280"/>
              <a:ext cx="0" cy="3049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981080" y="5867280"/>
              <a:ext cx="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86000" y="5943600"/>
              <a:ext cx="0" cy="22860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524960" y="5942880"/>
              <a:ext cx="986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u v w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919040" y="5409360"/>
              <a:ext cx="400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42720" y="5714280"/>
              <a:ext cx="4179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766040" y="6019200"/>
              <a:ext cx="435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707880" y="6422040"/>
              <a:ext cx="72900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5400000">
              <a:off x="2247840" y="5753160"/>
              <a:ext cx="76320" cy="30456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49520" y="6080040"/>
              <a:ext cx="942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spAutoFit/>
            </a:bodyPr>
            <a:p>
              <a:pPr algn="ctr">
                <a:spcBef>
                  <a:spcPts val="3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5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63680" y="6399720"/>
              <a:ext cx="246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|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1143000"/>
            <a:ext cx="685800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Pumping lemma 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demonstrates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an infinite iteration of some substring in RL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87520" y="3725280"/>
            <a:ext cx="642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 = 3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hol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685800" y="50292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85800" y="38098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85800" y="25909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85800" y="13716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in Decidable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85800" y="1295280"/>
            <a:ext cx="8229600" cy="48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1. Membership probl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2. Emptiness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3. Finiteness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finite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4. Equivalence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Membership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09480" y="2666880"/>
            <a:ext cx="800100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8580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85800" y="4982400"/>
            <a:ext cx="7772400" cy="550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 membership problem for F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09480" y="43426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Emptiness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A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09480" y="2666880"/>
            <a:ext cx="800100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s nonterminating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8580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85800" y="496620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emptiness problem for F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09480" y="43426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Finiteness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is finite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09480" y="2514600"/>
            <a:ext cx="8382240" cy="19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= card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write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’</a:t>
            </a:r>
            <a:r>
              <a:rPr b="1" lang="en-GB" sz="29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29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6212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62120" y="580464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finiteness problem for F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85800" y="52570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85800" y="4419720"/>
            <a:ext cx="7848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This algorithm is based o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is infinite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there exists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62120" y="5334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668680" y="114228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20040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419720" y="1066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648320" y="1523880"/>
            <a:ext cx="2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5104800" y="1371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5181480" y="1447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489920" y="1523880"/>
            <a:ext cx="6152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rot="10800000">
            <a:off x="4496040" y="1600200"/>
            <a:ext cx="6152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172200" y="1447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V="1" rot="5400000">
            <a:off x="3556800" y="1548000"/>
            <a:ext cx="45684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733920" y="129528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962520" y="1447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 flipV="1" rot="16200000">
            <a:off x="5753880" y="1548720"/>
            <a:ext cx="45684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06240" y="2056680"/>
            <a:ext cx="402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86880" y="2514240"/>
            <a:ext cx="640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612720" y="3275640"/>
            <a:ext cx="7845480" cy="581400"/>
            <a:chOff x="612720" y="3275640"/>
            <a:chExt cx="7845480" cy="581400"/>
          </a:xfrm>
        </p:grpSpPr>
        <p:sp>
          <p:nvSpPr>
            <p:cNvPr id="664" name=""/>
            <p:cNvSpPr/>
            <p:nvPr/>
          </p:nvSpPr>
          <p:spPr>
            <a:xfrm>
              <a:off x="685800" y="337824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2720" y="3275640"/>
              <a:ext cx="387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Question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657360" y="4799880"/>
            <a:ext cx="58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termin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9240" y="2818440"/>
            <a:ext cx="607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09480" y="3683160"/>
            <a:ext cx="17528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609480" y="4038480"/>
            <a:ext cx="8229600" cy="951480"/>
            <a:chOff x="609480" y="4038480"/>
            <a:chExt cx="8229600" cy="951480"/>
          </a:xfrm>
        </p:grpSpPr>
        <p:sp>
          <p:nvSpPr>
            <p:cNvPr id="670" name=""/>
            <p:cNvSpPr/>
            <p:nvPr/>
          </p:nvSpPr>
          <p:spPr>
            <a:xfrm>
              <a:off x="685800" y="4038480"/>
              <a:ext cx="8153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09480" y="4419720"/>
              <a:ext cx="7010640" cy="5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s terminat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"/>
          <p:cNvSpPr/>
          <p:nvPr/>
        </p:nvSpPr>
        <p:spPr>
          <a:xfrm>
            <a:off x="1220400" y="2514240"/>
            <a:ext cx="796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905480" y="2514240"/>
            <a:ext cx="1508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943600" y="56062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idable Problems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656640" y="5257080"/>
            <a:ext cx="7801560" cy="581400"/>
            <a:chOff x="656640" y="5257080"/>
            <a:chExt cx="7801560" cy="581400"/>
          </a:xfrm>
        </p:grpSpPr>
        <p:sp>
          <p:nvSpPr>
            <p:cNvPr id="677" name=""/>
            <p:cNvSpPr/>
            <p:nvPr/>
          </p:nvSpPr>
          <p:spPr>
            <a:xfrm>
              <a:off x="685800" y="53020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56640" y="5257080"/>
              <a:ext cx="437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Question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) finite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618120" y="6063480"/>
            <a:ext cx="832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is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5791320" y="5606280"/>
            <a:ext cx="2420280" cy="581400"/>
            <a:chOff x="5791320" y="5606280"/>
            <a:chExt cx="2420280" cy="581400"/>
          </a:xfrm>
        </p:grpSpPr>
        <p:sp>
          <p:nvSpPr>
            <p:cNvPr id="681" name=""/>
            <p:cNvSpPr/>
            <p:nvPr/>
          </p:nvSpPr>
          <p:spPr>
            <a:xfrm>
              <a:off x="5791320" y="5683320"/>
              <a:ext cx="175248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326640" y="5606280"/>
              <a:ext cx="1884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GB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609480" y="5180400"/>
            <a:ext cx="7804440" cy="1038600"/>
            <a:chOff x="609480" y="5180400"/>
            <a:chExt cx="7804440" cy="1038600"/>
          </a:xfrm>
        </p:grpSpPr>
        <p:sp>
          <p:nvSpPr>
            <p:cNvPr id="684" name=""/>
            <p:cNvSpPr/>
            <p:nvPr/>
          </p:nvSpPr>
          <p:spPr>
            <a:xfrm>
              <a:off x="5486400" y="5180400"/>
              <a:ext cx="292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= card(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) = 2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09480" y="5637600"/>
              <a:ext cx="632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All strings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z 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GB" sz="26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|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| &lt;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4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GB" sz="3200" spc="-1" strike="noStrike">
                  <a:solidFill>
                    <a:srgbClr val="ff9933"/>
                  </a:solidFill>
                  <a:latin typeface="Times New Roman"/>
                </a:rPr>
                <a:t>aa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 bb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GB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Equivalenc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09480" y="1066680"/>
            <a:ext cx="815364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wo minimum state F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09480" y="2514600"/>
            <a:ext cx="807732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incides with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pt for the name of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rite (’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85800" y="519480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equivalence problem for FA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09480" y="45712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quivalence Problem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22080" y="1108440"/>
            <a:ext cx="4524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676520" y="22860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rot="5400000">
            <a:off x="3651840" y="2654640"/>
            <a:ext cx="380880" cy="40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696265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696265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657600" y="2133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2971080" y="2514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3047400" y="2590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1981080" y="2057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1981080" y="3124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514600" y="1828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 rot="10800000">
            <a:off x="2514240" y="2284920"/>
            <a:ext cx="76212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rot="16200000">
            <a:off x="1938960" y="2709000"/>
            <a:ext cx="53784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rot="5400000">
            <a:off x="2016720" y="2702520"/>
            <a:ext cx="5378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514600" y="2971800"/>
            <a:ext cx="457200" cy="360360"/>
          </a:xfrm>
          <a:custGeom>
            <a:avLst/>
            <a:gdLst/>
            <a:ahLst/>
            <a:rect l="l" t="t" r="r" b="b"/>
            <a:pathLst>
              <a:path w="528" h="371">
                <a:moveTo>
                  <a:pt x="0" y="371"/>
                </a:moveTo>
                <a:cubicBezTo>
                  <a:pt x="39" y="319"/>
                  <a:pt x="144" y="118"/>
                  <a:pt x="232" y="59"/>
                </a:cubicBezTo>
                <a:cubicBezTo>
                  <a:pt x="320" y="0"/>
                  <a:pt x="466" y="27"/>
                  <a:pt x="528" y="1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752480" y="2743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362320" y="2362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590920" y="2514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71840" y="1641960"/>
            <a:ext cx="794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rot="10800000">
            <a:off x="5943960" y="2648520"/>
            <a:ext cx="380520" cy="399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616935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616935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>
            <a:off x="6019920" y="2819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010280" y="28954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086600" y="2971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6629400" y="2971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323040" y="2666880"/>
            <a:ext cx="685800" cy="465120"/>
          </a:xfrm>
          <a:custGeom>
            <a:avLst/>
            <a:gdLst/>
            <a:ahLst/>
            <a:rect l="l" t="t" r="r" b="b"/>
            <a:pathLst>
              <a:path w="432" h="293">
                <a:moveTo>
                  <a:pt x="0" y="0"/>
                </a:moveTo>
                <a:cubicBezTo>
                  <a:pt x="33" y="37"/>
                  <a:pt x="129" y="175"/>
                  <a:pt x="201" y="224"/>
                </a:cubicBezTo>
                <a:cubicBezTo>
                  <a:pt x="273" y="273"/>
                  <a:pt x="384" y="279"/>
                  <a:pt x="432" y="29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 rot="5400000">
            <a:off x="7121880" y="2480400"/>
            <a:ext cx="53784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 rot="16200000">
            <a:off x="7044840" y="2473920"/>
            <a:ext cx="5378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7467480" y="2438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6858000" y="2209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010280" y="16765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7086600" y="1752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 flipV="1">
            <a:off x="2513880" y="3123360"/>
            <a:ext cx="609480" cy="304920"/>
          </a:xfrm>
          <a:custGeom>
            <a:avLst/>
            <a:gdLst/>
            <a:ahLst/>
            <a:rect l="l" t="t" r="r" b="b"/>
            <a:pathLst>
              <a:path w="528" h="371">
                <a:moveTo>
                  <a:pt x="0" y="371"/>
                </a:moveTo>
                <a:cubicBezTo>
                  <a:pt x="39" y="319"/>
                  <a:pt x="144" y="118"/>
                  <a:pt x="232" y="59"/>
                </a:cubicBezTo>
                <a:cubicBezTo>
                  <a:pt x="320" y="0"/>
                  <a:pt x="466" y="27"/>
                  <a:pt x="528" y="1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>
            <a:off x="5943600" y="2209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77120" y="2057400"/>
            <a:ext cx="533160" cy="360360"/>
          </a:xfrm>
          <a:custGeom>
            <a:avLst/>
            <a:gdLst/>
            <a:ahLst/>
            <a:rect l="l" t="t" r="r" b="b"/>
            <a:pathLst>
              <a:path w="528" h="371">
                <a:moveTo>
                  <a:pt x="0" y="371"/>
                </a:moveTo>
                <a:cubicBezTo>
                  <a:pt x="39" y="319"/>
                  <a:pt x="144" y="118"/>
                  <a:pt x="232" y="59"/>
                </a:cubicBezTo>
                <a:cubicBezTo>
                  <a:pt x="320" y="0"/>
                  <a:pt x="466" y="27"/>
                  <a:pt x="528" y="1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553080" y="1600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53080" y="2362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 flipV="1">
            <a:off x="6476400" y="2208960"/>
            <a:ext cx="609480" cy="304920"/>
          </a:xfrm>
          <a:custGeom>
            <a:avLst/>
            <a:gdLst/>
            <a:ahLst/>
            <a:rect l="l" t="t" r="r" b="b"/>
            <a:pathLst>
              <a:path w="528" h="371">
                <a:moveTo>
                  <a:pt x="0" y="371"/>
                </a:moveTo>
                <a:cubicBezTo>
                  <a:pt x="39" y="319"/>
                  <a:pt x="144" y="118"/>
                  <a:pt x="232" y="59"/>
                </a:cubicBezTo>
                <a:cubicBezTo>
                  <a:pt x="320" y="0"/>
                  <a:pt x="466" y="27"/>
                  <a:pt x="528" y="1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638680" y="2438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810320" y="1641960"/>
            <a:ext cx="794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1676160" y="5180760"/>
            <a:ext cx="6172200" cy="550800"/>
            <a:chOff x="1676160" y="5180760"/>
            <a:chExt cx="6172200" cy="550800"/>
          </a:xfrm>
        </p:grpSpPr>
        <p:sp>
          <p:nvSpPr>
            <p:cNvPr id="734" name=""/>
            <p:cNvSpPr/>
            <p:nvPr/>
          </p:nvSpPr>
          <p:spPr>
            <a:xfrm rot="5400000">
              <a:off x="4685760" y="2171520"/>
              <a:ext cx="152640" cy="61722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160920 h 6172200"/>
                <a:gd name="textAreaBottom" fmla="*/ 6011280 h 617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973600" y="5180760"/>
              <a:ext cx="3598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A minimum state F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6" name=""/>
          <p:cNvSpPr/>
          <p:nvPr/>
        </p:nvSpPr>
        <p:spPr>
          <a:xfrm>
            <a:off x="4724280" y="1752480"/>
            <a:ext cx="0" cy="3353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438280" y="3352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720720" y="3546720"/>
            <a:ext cx="3546360" cy="1530360"/>
            <a:chOff x="720720" y="3546720"/>
            <a:chExt cx="3546360" cy="1530360"/>
          </a:xfrm>
        </p:grpSpPr>
        <p:sp>
          <p:nvSpPr>
            <p:cNvPr id="739" name=""/>
            <p:cNvSpPr/>
            <p:nvPr/>
          </p:nvSpPr>
          <p:spPr>
            <a:xfrm>
              <a:off x="2666880" y="3581280"/>
              <a:ext cx="838440" cy="6098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066680" y="42670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438280" y="4038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666880" y="449568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3123360" y="43434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3200400" y="44197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08840" y="4495680"/>
              <a:ext cx="61488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rot="10800000">
              <a:off x="2514600" y="4572000"/>
              <a:ext cx="6148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809880" y="39625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V="1" rot="5400000">
              <a:off x="1347120" y="4519800"/>
              <a:ext cx="45684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600200" y="426708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752480" y="4419720"/>
              <a:ext cx="76212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 flipV="1" rot="16200000">
              <a:off x="3772440" y="4520520"/>
              <a:ext cx="45684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20720" y="3546720"/>
              <a:ext cx="1174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min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4835520" y="3470760"/>
            <a:ext cx="3699000" cy="1634760"/>
            <a:chOff x="4835520" y="3470760"/>
            <a:chExt cx="3699000" cy="1634760"/>
          </a:xfrm>
        </p:grpSpPr>
        <p:sp>
          <p:nvSpPr>
            <p:cNvPr id="754" name=""/>
            <p:cNvSpPr/>
            <p:nvPr/>
          </p:nvSpPr>
          <p:spPr>
            <a:xfrm>
              <a:off x="6248520" y="3505320"/>
              <a:ext cx="838080" cy="6098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181480" y="43437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400800" y="40388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629400" y="449604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7086600" y="4343760"/>
              <a:ext cx="990720" cy="7617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>
              <a:off x="7162920" y="4419720"/>
              <a:ext cx="83808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471360" y="4496040"/>
              <a:ext cx="6148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rot="10800000">
              <a:off x="6477120" y="4572360"/>
              <a:ext cx="6148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077320" y="39625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V="1" rot="5400000">
              <a:off x="5538240" y="4520160"/>
              <a:ext cx="45684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791320" y="419112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9436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 flipV="1" rot="16200000">
              <a:off x="8039880" y="4520880"/>
              <a:ext cx="45684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835520" y="3470760"/>
              <a:ext cx="1174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min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657000" y="5758920"/>
            <a:ext cx="77662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0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1" lang="cs-CZ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incides with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0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106668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any regular langua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838080" y="2438280"/>
            <a:ext cx="6705720" cy="962640"/>
            <a:chOff x="838080" y="2438280"/>
            <a:chExt cx="6705720" cy="962640"/>
          </a:xfrm>
        </p:grpSpPr>
        <p:sp>
          <p:nvSpPr>
            <p:cNvPr id="80" name=""/>
            <p:cNvSpPr/>
            <p:nvPr/>
          </p:nvSpPr>
          <p:spPr>
            <a:xfrm>
              <a:off x="838080" y="2971800"/>
              <a:ext cx="5715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6200000">
              <a:off x="2590560" y="1066320"/>
              <a:ext cx="152280" cy="3657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2320" y="24382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705720" y="28195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05320" y="2819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495680" y="297180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85800" y="1523880"/>
            <a:ext cx="7772400" cy="990720"/>
            <a:chOff x="685800" y="1523880"/>
            <a:chExt cx="7772400" cy="990720"/>
          </a:xfrm>
        </p:grpSpPr>
        <p:sp>
          <p:nvSpPr>
            <p:cNvPr id="88" name=""/>
            <p:cNvSpPr/>
            <p:nvPr/>
          </p:nvSpPr>
          <p:spPr>
            <a:xfrm>
              <a:off x="838080" y="2057400"/>
              <a:ext cx="266724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2590560" y="151920"/>
              <a:ext cx="152280" cy="3657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362320" y="15238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28800" y="1905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00600" y="1905120"/>
              <a:ext cx="685800" cy="380880"/>
            </a:xfrm>
            <a:prstGeom prst="rightArrow">
              <a:avLst>
                <a:gd name="adj1" fmla="val 50000"/>
                <a:gd name="adj2" fmla="val 4501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05320" y="19051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486400" y="1828800"/>
              <a:ext cx="2819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nothing interesting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85800" y="2514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3048120" y="3429000"/>
            <a:ext cx="1523880" cy="380880"/>
          </a:xfrm>
          <a:prstGeom prst="downArrow">
            <a:avLst>
              <a:gd name="adj1" fmla="val 45694"/>
              <a:gd name="adj2" fmla="val 5277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838080" y="3352680"/>
            <a:ext cx="6934320" cy="1145520"/>
            <a:chOff x="838080" y="3352680"/>
            <a:chExt cx="6934320" cy="1145520"/>
          </a:xfrm>
        </p:grpSpPr>
        <p:sp>
          <p:nvSpPr>
            <p:cNvPr id="98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48120" y="3962520"/>
              <a:ext cx="3504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8080" y="3962520"/>
              <a:ext cx="1143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81080" y="3962520"/>
              <a:ext cx="106704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72000" y="3809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066680" y="3809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6200000">
              <a:off x="2590560" y="2057400"/>
              <a:ext cx="152640" cy="3657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09680" y="3809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362320" y="33526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477120" y="3733920"/>
              <a:ext cx="1295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400" spc="-1" strike="noStrike">
                  <a:solidFill>
                    <a:srgbClr val="ff66ff"/>
                  </a:solidFill>
                  <a:latin typeface="Times New Roman"/>
                </a:rPr>
                <a:t>= </a:t>
              </a:r>
              <a:r>
                <a:rPr b="1" i="1" lang="cs-CZ" sz="40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57200" y="5073480"/>
            <a:ext cx="8001000" cy="1785600"/>
            <a:chOff x="457200" y="5073480"/>
            <a:chExt cx="8001000" cy="1785600"/>
          </a:xfrm>
        </p:grpSpPr>
        <p:sp>
          <p:nvSpPr>
            <p:cNvPr id="110" name=""/>
            <p:cNvSpPr/>
            <p:nvPr/>
          </p:nvSpPr>
          <p:spPr>
            <a:xfrm>
              <a:off x="838080" y="5226120"/>
              <a:ext cx="1143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81080" y="5226120"/>
              <a:ext cx="3505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429000" y="50734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066680" y="50734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486400" y="50734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" y="5181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48120" y="6140520"/>
              <a:ext cx="106668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276720" y="5987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38080" y="5683320"/>
              <a:ext cx="1143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48120" y="5683320"/>
              <a:ext cx="3504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981080" y="5683320"/>
              <a:ext cx="106704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72000" y="55306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09680" y="55306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66680" y="55306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38080" y="6140520"/>
              <a:ext cx="1143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14800" y="6140520"/>
              <a:ext cx="3505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981080" y="6140520"/>
              <a:ext cx="106704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638680" y="5987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209680" y="5987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66680" y="5987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553080" y="553068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20120" y="59878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38480" y="6216480"/>
              <a:ext cx="83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57200" y="4419720"/>
            <a:ext cx="2590920" cy="840600"/>
            <a:chOff x="457200" y="4419720"/>
            <a:chExt cx="2590920" cy="840600"/>
          </a:xfrm>
        </p:grpSpPr>
        <p:sp>
          <p:nvSpPr>
            <p:cNvPr id="134" name=""/>
            <p:cNvSpPr/>
            <p:nvPr/>
          </p:nvSpPr>
          <p:spPr>
            <a:xfrm flipV="1" rot="5400000">
              <a:off x="1828800" y="3732480"/>
              <a:ext cx="228600" cy="22100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57600 h 2210040"/>
                <a:gd name="textAreaBottom" fmla="*/ 2152440 h 221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048120" y="4419720"/>
              <a:ext cx="0" cy="304560"/>
            </a:xfrm>
            <a:prstGeom prst="line">
              <a:avLst/>
            </a:prstGeom>
            <a:ln w="38160">
              <a:solidFill>
                <a:srgbClr val="3399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28800" y="4800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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57200" y="4267080"/>
            <a:ext cx="2895480" cy="612360"/>
            <a:chOff x="457200" y="4267080"/>
            <a:chExt cx="2895480" cy="612360"/>
          </a:xfrm>
        </p:grpSpPr>
        <p:sp>
          <p:nvSpPr>
            <p:cNvPr id="139" name=""/>
            <p:cNvSpPr/>
            <p:nvPr/>
          </p:nvSpPr>
          <p:spPr>
            <a:xfrm flipV="1" rot="5400000">
              <a:off x="2400120" y="3922920"/>
              <a:ext cx="228600" cy="10670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7720 h 1067040"/>
                <a:gd name="textAreaBottom" fmla="*/ 103932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362320" y="441972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4267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umping Lemma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1066680"/>
            <a:ext cx="822960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be a regular language. Then, there exists </a:t>
            </a:r>
            <a:r>
              <a:rPr b="1" lang="en-GB" sz="3000" spc="-1" strike="noStrike" u="sng">
                <a:solidFill>
                  <a:srgbClr val="ff0000"/>
                </a:solidFill>
                <a:uFillTx/>
                <a:latin typeface="Times New Roman"/>
              </a:rPr>
              <a:t>DF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, and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 moves 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visit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tat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00160" y="5375520"/>
            <a:ext cx="6684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-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5400000">
            <a:off x="2065320" y="4876560"/>
            <a:ext cx="152280" cy="1371600"/>
          </a:xfrm>
          <a:custGeom>
            <a:avLst/>
            <a:gdLst>
              <a:gd name="textAreaLeft" fmla="*/ 97200 w 152280"/>
              <a:gd name="textAreaRight" fmla="*/ 15264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05840" y="495216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2438280" y="4266720"/>
            <a:ext cx="14479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4114800" y="4190760"/>
            <a:ext cx="53352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638680" y="4114440"/>
            <a:ext cx="53352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172200" y="4191120"/>
            <a:ext cx="14479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04920" y="4437720"/>
            <a:ext cx="220896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5320" y="3581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81080" y="3581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23880" y="39625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467480" y="3581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666880" y="39625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6576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91120" y="39625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19520" y="3352680"/>
            <a:ext cx="588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91120" y="3352680"/>
            <a:ext cx="588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02040" y="35042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5880" y="3581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81680" y="39625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0" y="3352680"/>
            <a:ext cx="588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62720" y="39625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10640" y="2937240"/>
            <a:ext cx="3038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4120" y="3352680"/>
            <a:ext cx="838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umping Lemma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1066680"/>
            <a:ext cx="8001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ca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 (the number of stat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M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is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s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k +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 or more states. As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k +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ca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there exists a state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at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visits at least tw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552240" y="5409000"/>
            <a:ext cx="7343640" cy="1072440"/>
            <a:chOff x="552240" y="5409000"/>
            <a:chExt cx="7343640" cy="1072440"/>
          </a:xfrm>
        </p:grpSpPr>
        <p:sp>
          <p:nvSpPr>
            <p:cNvPr id="172" name=""/>
            <p:cNvSpPr/>
            <p:nvPr/>
          </p:nvSpPr>
          <p:spPr>
            <a:xfrm>
              <a:off x="2016360" y="5832720"/>
              <a:ext cx="587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i</a:t>
              </a:r>
              <a:r>
                <a:rPr b="1" i="1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0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cs-CZ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j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52240" y="5409000"/>
              <a:ext cx="203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603720" y="2971080"/>
            <a:ext cx="633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exis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38080" y="48211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42840" y="3885120"/>
            <a:ext cx="3048120" cy="1129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606" y="4547"/>
                </a:moveTo>
                <a:arcTo wR="10800" hR="10800" stAng="-2122687" swAng="6100309"/>
                <a:lnTo>
                  <a:pt x="10800" y="10800"/>
                </a:lnTo>
                <a:close/>
              </a:path>
              <a:path fill="none" w="21600" h="21600">
                <a:moveTo>
                  <a:pt x="19606" y="4547"/>
                </a:moveTo>
                <a:arcTo wR="10800" hR="10800" stAng="-2122687" swAng="6100309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428640" y="3772440"/>
            <a:ext cx="3047400" cy="1242360"/>
            <a:chOff x="3428640" y="3772440"/>
            <a:chExt cx="3047400" cy="1242360"/>
          </a:xfrm>
        </p:grpSpPr>
        <p:sp>
          <p:nvSpPr>
            <p:cNvPr id="178" name=""/>
            <p:cNvSpPr/>
            <p:nvPr/>
          </p:nvSpPr>
          <p:spPr>
            <a:xfrm>
              <a:off x="3733920" y="3772440"/>
              <a:ext cx="175248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ads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3428280" y="3884400"/>
              <a:ext cx="3047400" cy="113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529" y="4441"/>
                  </a:moveTo>
                  <a:arcTo wR="10800" hR="10800" stAng="-2164310" swAng="614193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529" y="4441"/>
                  </a:moveTo>
                  <a:arcTo wR="10800" hR="10800" stAng="-2164310" swAng="6141932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523880" y="4821120"/>
            <a:ext cx="3429000" cy="685800"/>
            <a:chOff x="1523880" y="4821120"/>
            <a:chExt cx="3429000" cy="685800"/>
          </a:xfrm>
        </p:grpSpPr>
        <p:sp>
          <p:nvSpPr>
            <p:cNvPr id="181" name=""/>
            <p:cNvSpPr/>
            <p:nvPr/>
          </p:nvSpPr>
          <p:spPr>
            <a:xfrm>
              <a:off x="4267080" y="4821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23880" y="51256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905120" y="4839120"/>
              <a:ext cx="175248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ads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657600" y="51256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533520" y="512604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4952880" y="4821120"/>
            <a:ext cx="3581640" cy="685800"/>
            <a:chOff x="4952880" y="4821120"/>
            <a:chExt cx="3581640" cy="685800"/>
          </a:xfrm>
        </p:grpSpPr>
        <p:sp>
          <p:nvSpPr>
            <p:cNvPr id="187" name=""/>
            <p:cNvSpPr/>
            <p:nvPr/>
          </p:nvSpPr>
          <p:spPr>
            <a:xfrm>
              <a:off x="7848720" y="4821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24680" y="489708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52880" y="51256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638680" y="4839120"/>
              <a:ext cx="175284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ads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391520" y="51256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2010240" y="4257720"/>
            <a:ext cx="114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cs-CZ" sz="2800" spc="-1" strike="noStrike" baseline="30000">
                <a:solidFill>
                  <a:srgbClr val="ff66ff"/>
                </a:solidFill>
                <a:latin typeface="Times New Roman"/>
              </a:rPr>
              <a:t>i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961960" y="4295520"/>
            <a:ext cx="1177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86400" y="3488760"/>
            <a:ext cx="3182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800" spc="-1" strike="noStrike">
                <a:solidFill>
                  <a:srgbClr val="ff66ff"/>
                </a:solidFill>
                <a:latin typeface="Times New Roman"/>
              </a:rPr>
              <a:t>j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66ff"/>
                </a:solidFill>
                <a:latin typeface="Symbol"/>
                <a:ea typeface="Symbol"/>
              </a:rPr>
              <a:t></a:t>
            </a:r>
            <a:r>
              <a:rPr b="1" lang="cs-CZ" sz="2800" spc="-1" strike="noStrike">
                <a:solidFill>
                  <a:srgbClr val="ff66ff"/>
                </a:solidFill>
                <a:latin typeface="Times New Roman"/>
              </a:rPr>
              <a:t> 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ff66ff"/>
                </a:solidFill>
                <a:latin typeface="Times New Roman"/>
              </a:rPr>
              <a:t>i + j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66ff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66ff"/>
                </a:solidFill>
                <a:latin typeface="Times New Roman"/>
              </a:rPr>
              <a:t>k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umping Lemma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10501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here exist mov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3880" y="2010600"/>
            <a:ext cx="526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14400" y="163044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48120" y="163044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952880" y="163044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92160" y="2772360"/>
            <a:ext cx="83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91000" y="2772360"/>
            <a:ext cx="107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i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19520" y="2738880"/>
            <a:ext cx="2209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52480" y="254484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254484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6600" y="3229560"/>
            <a:ext cx="288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 each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19080" y="3991680"/>
            <a:ext cx="12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67400" y="3957840"/>
            <a:ext cx="1499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i 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92120" y="3957840"/>
            <a:ext cx="1971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81080" y="3763800"/>
            <a:ext cx="38124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3763800"/>
            <a:ext cx="38124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12720" y="3957840"/>
            <a:ext cx="1681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76720" y="3763800"/>
            <a:ext cx="38088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39480" y="3957840"/>
            <a:ext cx="1122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57480" y="3991680"/>
            <a:ext cx="9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00600" y="3763800"/>
            <a:ext cx="38088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3763800"/>
            <a:ext cx="38088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3520" y="4494960"/>
            <a:ext cx="8439840" cy="2269800"/>
            <a:chOff x="533520" y="4494960"/>
            <a:chExt cx="8439840" cy="2269800"/>
          </a:xfrm>
        </p:grpSpPr>
        <p:sp>
          <p:nvSpPr>
            <p:cNvPr id="220" name=""/>
            <p:cNvSpPr/>
            <p:nvPr/>
          </p:nvSpPr>
          <p:spPr>
            <a:xfrm>
              <a:off x="533520" y="4494960"/>
              <a:ext cx="203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37120" y="4846320"/>
              <a:ext cx="8436240" cy="191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0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j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j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</a:t>
              </a:r>
              <a:r>
                <a:rPr b="1" lang="cs-CZ" sz="2800" spc="-1" strike="noStrike">
                  <a:solidFill>
                    <a:srgbClr val="ff66ff"/>
                  </a:solidFill>
                  <a:latin typeface="Times New Roman"/>
                </a:rPr>
                <a:t> 1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; therefore,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 so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i</a:t>
              </a:r>
              <a:r>
                <a:rPr b="1" i="1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0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j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i + j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</a:t>
              </a:r>
              <a:r>
                <a:rPr b="1" lang="en-GB" sz="28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ff66ff"/>
                  </a:solidFill>
                  <a:latin typeface="Times New Roman"/>
                </a:rPr>
                <a:t>k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; therefore,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For each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0: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i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*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therefore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i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            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Q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1295280" y="1443240"/>
            <a:ext cx="753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     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   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Application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9480" y="1066680"/>
            <a:ext cx="83822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Based on the pumping lemma, we often make a proof by contradiction to demonstrate that a language is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regul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90920" y="2151720"/>
            <a:ext cx="388620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ssu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reg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829440" y="2666880"/>
            <a:ext cx="7323840" cy="1295640"/>
            <a:chOff x="829440" y="2666880"/>
            <a:chExt cx="7323840" cy="1295640"/>
          </a:xfrm>
        </p:grpSpPr>
        <p:sp>
          <p:nvSpPr>
            <p:cNvPr id="228" name=""/>
            <p:cNvSpPr/>
            <p:nvPr/>
          </p:nvSpPr>
          <p:spPr>
            <a:xfrm>
              <a:off x="1219320" y="3048120"/>
              <a:ext cx="6933960" cy="914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29440" y="3061800"/>
              <a:ext cx="7291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Consider the PL constant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and select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, whos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176480" y="3428640"/>
              <a:ext cx="60343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length depends on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so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|z|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is surely true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75240" y="2666880"/>
              <a:ext cx="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812160" y="3962520"/>
            <a:ext cx="7805880" cy="1571040"/>
            <a:chOff x="812160" y="3962520"/>
            <a:chExt cx="7805880" cy="1571040"/>
          </a:xfrm>
        </p:grpSpPr>
        <p:sp>
          <p:nvSpPr>
            <p:cNvPr id="233" name=""/>
            <p:cNvSpPr/>
            <p:nvPr/>
          </p:nvSpPr>
          <p:spPr>
            <a:xfrm>
              <a:off x="838080" y="4267080"/>
              <a:ext cx="7696440" cy="12193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15400" y="4288680"/>
              <a:ext cx="78026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lang="en-GB" sz="25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ll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decompositions of </a:t>
              </a:r>
              <a:r>
                <a:rPr b="1" i="1" lang="en-GB" sz="25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into </a:t>
              </a:r>
              <a:r>
                <a:rPr b="1" i="1" lang="en-GB" sz="2500" spc="-1" strike="noStrike">
                  <a:solidFill>
                    <a:srgbClr val="000000"/>
                  </a:solidFill>
                  <a:latin typeface="Times New Roman"/>
                </a:rPr>
                <a:t>uvw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, show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12160" y="4647240"/>
              <a:ext cx="54388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</a:rPr>
                <a:t>there exists </a:t>
              </a:r>
              <a:r>
                <a:rPr b="0" i="1" lang="en-GB" sz="27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</a:rPr>
                <a:t> 0 such that 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1" i="1" lang="en-GB" sz="27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7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</a:t>
              </a: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50320" y="5028120"/>
              <a:ext cx="53730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</a:rPr>
                <a:t>from the pumping lemma,   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1" i="1" lang="en-GB" sz="27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7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</a:t>
              </a: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172200" y="4800600"/>
              <a:ext cx="152280" cy="6094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323400" y="4799520"/>
              <a:ext cx="229140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900" spc="-1" strike="noStrike">
                  <a:solidFill>
                    <a:srgbClr val="ff0000"/>
                  </a:solidFill>
                  <a:latin typeface="Times New Roman"/>
                </a:rPr>
                <a:t>contradiction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572000" y="396252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676800" y="5486400"/>
            <a:ext cx="2779560" cy="843120"/>
            <a:chOff x="676800" y="5486400"/>
            <a:chExt cx="2779560" cy="843120"/>
          </a:xfrm>
        </p:grpSpPr>
        <p:sp>
          <p:nvSpPr>
            <p:cNvPr id="241" name=""/>
            <p:cNvSpPr/>
            <p:nvPr/>
          </p:nvSpPr>
          <p:spPr>
            <a:xfrm>
              <a:off x="676800" y="5808960"/>
              <a:ext cx="2779560" cy="520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false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assumption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41120" y="548640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685800" y="2361960"/>
            <a:ext cx="1904760" cy="3429000"/>
            <a:chOff x="685800" y="2361960"/>
            <a:chExt cx="1904760" cy="3429000"/>
          </a:xfrm>
        </p:grpSpPr>
        <p:sp>
          <p:nvSpPr>
            <p:cNvPr id="244" name=""/>
            <p:cNvSpPr/>
            <p:nvPr/>
          </p:nvSpPr>
          <p:spPr>
            <a:xfrm flipV="1">
              <a:off x="685800" y="2361960"/>
              <a:ext cx="0" cy="342900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85800" y="2362320"/>
              <a:ext cx="190476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3809880" y="5791320"/>
            <a:ext cx="1676520" cy="457200"/>
          </a:xfrm>
          <a:prstGeom prst="rightArrow">
            <a:avLst>
              <a:gd name="adj1" fmla="val 50000"/>
              <a:gd name="adj2" fmla="val 916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5638680" y="5562000"/>
            <a:ext cx="2895840" cy="931680"/>
            <a:chOff x="5638680" y="5562000"/>
            <a:chExt cx="2895840" cy="931680"/>
          </a:xfrm>
        </p:grpSpPr>
        <p:sp>
          <p:nvSpPr>
            <p:cNvPr id="248" name=""/>
            <p:cNvSpPr/>
            <p:nvPr/>
          </p:nvSpPr>
          <p:spPr>
            <a:xfrm>
              <a:off x="5638680" y="5653080"/>
              <a:ext cx="2895840" cy="8380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168960" y="5562000"/>
              <a:ext cx="1778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Therefore,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810760" y="5942880"/>
              <a:ext cx="2689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0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</a:rPr>
                <a:t> is not regular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114300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ve that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0} is not regul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9480" y="1676520"/>
            <a:ext cx="77724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ssume that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regular. 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1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 the                  pumping lemma constant for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480" y="2514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971800"/>
            <a:ext cx="80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l decompositions of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nto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uv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839880" y="4038480"/>
            <a:ext cx="2741400" cy="992160"/>
            <a:chOff x="839880" y="4038480"/>
            <a:chExt cx="2741400" cy="992160"/>
          </a:xfrm>
        </p:grpSpPr>
        <p:sp>
          <p:nvSpPr>
            <p:cNvPr id="260" name=""/>
            <p:cNvSpPr/>
            <p:nvPr/>
          </p:nvSpPr>
          <p:spPr>
            <a:xfrm flipV="1">
              <a:off x="914400" y="4038480"/>
              <a:ext cx="2286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218960" y="4038480"/>
              <a:ext cx="838440" cy="45720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133360" y="4038480"/>
              <a:ext cx="144792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5400000">
              <a:off x="952200" y="45338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5400000">
              <a:off x="2781000" y="3924000"/>
              <a:ext cx="152280" cy="14479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5400000">
              <a:off x="1561680" y="4228920"/>
              <a:ext cx="152280" cy="83844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1600 h 838440"/>
                <a:gd name="textAreaBottom" fmla="*/ 81684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39880" y="4570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449000" y="45709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668680" y="45709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834840" y="3961440"/>
            <a:ext cx="283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 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 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 rot="16200000">
            <a:off x="1562040" y="3237480"/>
            <a:ext cx="152280" cy="1447920"/>
          </a:xfrm>
          <a:custGeom>
            <a:avLst/>
            <a:gdLst>
              <a:gd name="textAreaLeft" fmla="*/ 0 w 152280"/>
              <a:gd name="textAreaRight" fmla="*/ 55080 w 1522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25680" y="350424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   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 rot="16200000">
            <a:off x="2895480" y="3351960"/>
            <a:ext cx="152280" cy="1218960"/>
          </a:xfrm>
          <a:custGeom>
            <a:avLst/>
            <a:gdLst>
              <a:gd name="textAreaLeft" fmla="*/ 0 w 152280"/>
              <a:gd name="textAreaRight" fmla="*/ 55080 w 15228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914040" y="4572000"/>
            <a:ext cx="1295640" cy="1359000"/>
            <a:chOff x="914040" y="4572000"/>
            <a:chExt cx="1295640" cy="1359000"/>
          </a:xfrm>
        </p:grpSpPr>
        <p:sp>
          <p:nvSpPr>
            <p:cNvPr id="274" name=""/>
            <p:cNvSpPr/>
            <p:nvPr/>
          </p:nvSpPr>
          <p:spPr>
            <a:xfrm rot="5400000">
              <a:off x="1409040" y="4457520"/>
              <a:ext cx="152640" cy="11430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066680" y="5105520"/>
              <a:ext cx="1143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400" y="45720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914400" y="45720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3962520" y="3581280"/>
            <a:ext cx="4647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pumping lemma: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401520" y="3885120"/>
            <a:ext cx="1904040" cy="610200"/>
            <a:chOff x="6401520" y="3885120"/>
            <a:chExt cx="1904040" cy="610200"/>
          </a:xfrm>
        </p:grpSpPr>
        <p:sp>
          <p:nvSpPr>
            <p:cNvPr id="280" name=""/>
            <p:cNvSpPr/>
            <p:nvPr/>
          </p:nvSpPr>
          <p:spPr>
            <a:xfrm>
              <a:off x="6401520" y="3885120"/>
              <a:ext cx="146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k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 i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 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 rot="16200000">
              <a:off x="6667200" y="4152240"/>
              <a:ext cx="152280" cy="5331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13680 h 533160"/>
                <a:gd name="textAreaBottom" fmla="*/ 51948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 rot="16200000">
              <a:off x="7581600" y="3771000"/>
              <a:ext cx="152280" cy="129564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33480 h 1295640"/>
                <a:gd name="textAreaBottom" fmla="*/ 126216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3974040" y="4418640"/>
            <a:ext cx="5007960" cy="1068840"/>
            <a:chOff x="3974040" y="4418640"/>
            <a:chExt cx="5007960" cy="1068840"/>
          </a:xfrm>
        </p:grpSpPr>
        <p:sp>
          <p:nvSpPr>
            <p:cNvPr id="284" name=""/>
            <p:cNvSpPr/>
            <p:nvPr/>
          </p:nvSpPr>
          <p:spPr>
            <a:xfrm flipV="1">
              <a:off x="6477120" y="4494960"/>
              <a:ext cx="228600" cy="456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781680" y="4495680"/>
              <a:ext cx="1524240" cy="456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425280" y="4418640"/>
              <a:ext cx="255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 a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b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b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5400000">
              <a:off x="6514920" y="4990680"/>
              <a:ext cx="151920" cy="228600"/>
            </a:xfrm>
            <a:custGeom>
              <a:avLst/>
              <a:gdLst>
                <a:gd name="textAreaLeft" fmla="*/ 0 w 151920"/>
                <a:gd name="textAreaRight" fmla="*/ 54720 w 15192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5400000">
              <a:off x="7467840" y="4343040"/>
              <a:ext cx="151920" cy="1524240"/>
            </a:xfrm>
            <a:custGeom>
              <a:avLst/>
              <a:gdLst>
                <a:gd name="textAreaLeft" fmla="*/ 0 w 151920"/>
                <a:gd name="textAreaRight" fmla="*/ 54720 w 151920"/>
                <a:gd name="textAreaTop" fmla="*/ 39600 h 1524240"/>
                <a:gd name="textAreaBottom" fmla="*/ 148464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402600" y="5027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317000" y="50277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74040" y="4419000"/>
              <a:ext cx="2298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GB" sz="30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u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3809880" y="36576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4191120" y="4952880"/>
            <a:ext cx="2438280" cy="947160"/>
            <a:chOff x="4191120" y="4952880"/>
            <a:chExt cx="2438280" cy="947160"/>
          </a:xfrm>
        </p:grpSpPr>
        <p:sp>
          <p:nvSpPr>
            <p:cNvPr id="294" name=""/>
            <p:cNvSpPr/>
            <p:nvPr/>
          </p:nvSpPr>
          <p:spPr>
            <a:xfrm>
              <a:off x="4572000" y="4952880"/>
              <a:ext cx="1371600" cy="5331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191120" y="5410080"/>
              <a:ext cx="2438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GB" sz="2600" spc="-1" strike="noStrike">
                  <a:solidFill>
                    <a:srgbClr val="ff0000"/>
                  </a:solidFill>
                  <a:latin typeface="Times New Roman"/>
                </a:rPr>
                <a:t>ontradiction!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762120" y="60199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refore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not reg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ote on Use of Pumping Lemm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5680" y="1066320"/>
            <a:ext cx="38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umping lemm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8200" y="1923120"/>
            <a:ext cx="203724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reg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16200" y="1828080"/>
            <a:ext cx="49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114800" y="205740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224680" y="1923120"/>
            <a:ext cx="306540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ist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k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0 and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62520" y="159948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3657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93600" y="3580920"/>
            <a:ext cx="8780760" cy="2791800"/>
            <a:chOff x="93600" y="3580920"/>
            <a:chExt cx="8780760" cy="2791800"/>
          </a:xfrm>
        </p:grpSpPr>
        <p:sp>
          <p:nvSpPr>
            <p:cNvPr id="306" name=""/>
            <p:cNvSpPr/>
            <p:nvPr/>
          </p:nvSpPr>
          <p:spPr>
            <a:xfrm>
              <a:off x="6186960" y="4437720"/>
              <a:ext cx="2037240" cy="581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is regula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876920" y="4648320"/>
              <a:ext cx="838080" cy="380880"/>
            </a:xfrm>
            <a:prstGeom prst="rightArrow">
              <a:avLst>
                <a:gd name="adj1" fmla="val 50000"/>
                <a:gd name="adj2" fmla="val 5500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262160" y="4437720"/>
              <a:ext cx="306540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exist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k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0 and 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84360" y="4342680"/>
              <a:ext cx="49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800600" y="419004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the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93600" y="3580920"/>
              <a:ext cx="878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However, the next implication is </a:t>
              </a: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incorrect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33520" y="5181480"/>
              <a:ext cx="8153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We </a:t>
              </a:r>
              <a:r>
                <a:rPr b="1" lang="en-GB" sz="3600" spc="-1" strike="noStrike">
                  <a:solidFill>
                    <a:srgbClr val="ff0000"/>
                  </a:solidFill>
                  <a:latin typeface="Times New Roman"/>
                </a:rPr>
                <a:t>cannot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use the pumping lemma to prove that </a:t>
              </a:r>
              <a:r>
                <a:rPr b="1" i="1" lang="en-GB" sz="3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is regular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560520" y="4419360"/>
            <a:ext cx="8229600" cy="609840"/>
            <a:chOff x="560520" y="4419360"/>
            <a:chExt cx="8229600" cy="609840"/>
          </a:xfrm>
        </p:grpSpPr>
        <p:sp>
          <p:nvSpPr>
            <p:cNvPr id="314" name=""/>
            <p:cNvSpPr/>
            <p:nvPr/>
          </p:nvSpPr>
          <p:spPr>
            <a:xfrm flipV="1">
              <a:off x="560520" y="4419360"/>
              <a:ext cx="822960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60520" y="4419720"/>
              <a:ext cx="822960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533520" y="259092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ain application of the pumping lemm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proof by contradiction tha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regul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41:54Z</dcterms:modified>
  <cp:revision>144</cp:revision>
  <dc:subject/>
  <dc:title>Properties of Regular Languages</dc:title>
</cp:coreProperties>
</file>