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24BF-CC29-434A-BF1B-ED754CF6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B4D-9355-4AA4-81BF-9C10C7EE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8A6-5B8B-4696-9145-99A17980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8B97-E0C7-4E05-826B-25DB3903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B22-20EC-431D-8F5D-196D8DDC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496-58E3-43F1-8AE7-3C68F301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72F6-FE3F-40C6-9319-F7F4BA8E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370-1FB7-497F-A54F-11021AB3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897-0D66-4B2A-BE77-AF74CE95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3D9-33D1-42C6-8902-FC5BFAE3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DCA2-3C55-48FF-AC28-A06F6AFC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B94-645D-4A63-955A-C4C4AF0E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B151-A650-4421-A18C-A7A0A3D8BB8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57:10Z</dcterms:modified>
  <cp:revision>125</cp:revision>
  <dc:subject/>
  <dc:title>Introduction to Compilers</dc:title>
</cp:coreProperties>
</file>