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944-D8E1-4E2B-8C10-527159E0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A58-9D8F-4D9D-9ED3-09C8ADC6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01A-6E71-4217-92BF-CCDE8F07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7A6-1DFE-4C7D-92C2-A8652F0C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B7E-226D-4FD9-851E-6460990C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355-331B-4385-8013-0034B785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6E3-26ED-4549-BA83-0370FD90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A58-1F02-40BC-BC85-F0932323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0B8-A74D-4C6C-BA27-C712D40E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8A2-0303-4D29-BBE2-F8548962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9C7-CD79-4438-9DED-9E624284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CAE-7484-4C3B-B02A-9392195D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DA66-2AE4-47F1-B0B6-84B97C90D08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4:47Z</dcterms:modified>
  <cp:revision>191</cp:revision>
  <dc:subject/>
  <dc:title>Normal Forms and Properties of CFLs</dc:title>
</cp:coreProperties>
</file>