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F73-30E5-491D-AEDE-71BF7396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C92-280D-4AD2-940F-DD063ACD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BE7-7C18-4DE1-BF83-05A21276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C1E-41F5-4CBA-A123-AD518EE7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826-5043-43CB-8E05-FBD6528A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5C0-51AF-49FD-A574-3F0CE5AC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162-B1BB-46FD-8466-A14503BF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374-1000-4FF5-A07D-0154A11F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52E-CD09-42BF-AD69-4536F3EC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BB4-447F-4ECA-836D-91620933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A1B-4915-41DD-8904-193DE12D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8E8-D21C-44E8-9AB1-E966F8F6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0797-3FBD-4344-B76A-8A462861934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57Z</dcterms:modified>
  <cp:revision>184</cp:revision>
  <dc:subject/>
  <dc:title>Models for Context-Free Languages</dc:title>
</cp:coreProperties>
</file>