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51C-FB76-4914-BD63-262C5A69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350-FBB2-4335-A702-A0F288EE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1FF-E083-4717-8A0D-FF425744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5B9-BA5D-4CBB-B00B-941788C9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380-2D5F-4DD7-86E8-CF5D44B0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58E-27F5-4D3F-8BCE-CD8B762E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820-C22D-4A54-8D8F-C52A266B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506-3BBB-4C93-9CDE-333965D8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F1C-5E65-4AC3-B9D1-40B52478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A65-01DE-4D6F-A63D-093E19AA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520-BFB6-4295-B500-350F334F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B1A-195E-4FBB-B9B2-0748FE15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29D9-D476-4C11-A379-C377BF98D59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cc"/>
                </a:solidFill>
                <a:latin typeface="Times New Roman"/>
              </a:rPr>
              <a:t>Part XI.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Syntax Directed Translation and Intermediate Co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fix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1143000"/>
            <a:ext cx="8001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Eve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operat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ccurs behind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r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fix notation is achievable by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torder traversal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</a:t>
            </a:r>
            <a:r>
              <a:rPr b="0" lang="cs-CZ" sz="3200" spc="-1" strike="noStrike">
                <a:solidFill>
                  <a:srgbClr val="40008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4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590920"/>
            <a:ext cx="777240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ix not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fix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f-then-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6668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72428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0481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5288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229600" y="26668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fix to Postfix Directed by a BU Pars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1905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905120"/>
            <a:ext cx="5410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905120"/>
                <a:tab algn="l" pos="24764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981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9625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236232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1880" y="19810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54864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5562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4952880"/>
            <a:ext cx="3429000" cy="1602720"/>
            <a:chOff x="3657600" y="4952880"/>
            <a:chExt cx="3429000" cy="1602720"/>
          </a:xfrm>
        </p:grpSpPr>
        <p:sp>
          <p:nvSpPr>
            <p:cNvPr id="434" name=""/>
            <p:cNvSpPr/>
            <p:nvPr/>
          </p:nvSpPr>
          <p:spPr>
            <a:xfrm>
              <a:off x="67057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657600" y="4952880"/>
              <a:ext cx="609480" cy="1191240"/>
              <a:chOff x="3657600" y="4952880"/>
              <a:chExt cx="60948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86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576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57600" y="4952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33720" y="3733920"/>
            <a:ext cx="5867280" cy="2821680"/>
            <a:chOff x="2133720" y="3733920"/>
            <a:chExt cx="5867280" cy="2821680"/>
          </a:xfrm>
        </p:grpSpPr>
        <p:sp>
          <p:nvSpPr>
            <p:cNvPr id="441" name=""/>
            <p:cNvSpPr/>
            <p:nvPr/>
          </p:nvSpPr>
          <p:spPr>
            <a:xfrm>
              <a:off x="76201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133720" y="3733920"/>
              <a:ext cx="1371600" cy="2410200"/>
              <a:chOff x="2133720" y="3733920"/>
              <a:chExt cx="1371600" cy="2410200"/>
            </a:xfrm>
          </p:grpSpPr>
          <p:sp>
            <p:nvSpPr>
              <p:cNvPr id="443" name=""/>
              <p:cNvSpPr/>
              <p:nvPr/>
            </p:nvSpPr>
            <p:spPr>
              <a:xfrm>
                <a:off x="259092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232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860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213372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9092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9092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3200040" y="4419720"/>
            <a:ext cx="4343760" cy="2135880"/>
            <a:chOff x="3200040" y="4419720"/>
            <a:chExt cx="4343760" cy="2135880"/>
          </a:xfrm>
        </p:grpSpPr>
        <p:sp>
          <p:nvSpPr>
            <p:cNvPr id="450" name=""/>
            <p:cNvSpPr/>
            <p:nvPr/>
          </p:nvSpPr>
          <p:spPr>
            <a:xfrm>
              <a:off x="71629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200040" y="4419720"/>
              <a:ext cx="609840" cy="1800360"/>
              <a:chOff x="3200040" y="4419720"/>
              <a:chExt cx="609840" cy="1800360"/>
            </a:xfrm>
          </p:grpSpPr>
          <p:sp>
            <p:nvSpPr>
              <p:cNvPr id="452" name=""/>
              <p:cNvSpPr/>
              <p:nvPr/>
            </p:nvSpPr>
            <p:spPr>
              <a:xfrm>
                <a:off x="320040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276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532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0532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20004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2004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2743200" y="4952880"/>
            <a:ext cx="3886200" cy="1602720"/>
            <a:chOff x="2743200" y="4952880"/>
            <a:chExt cx="3886200" cy="1602720"/>
          </a:xfrm>
        </p:grpSpPr>
        <p:sp>
          <p:nvSpPr>
            <p:cNvPr id="459" name=""/>
            <p:cNvSpPr/>
            <p:nvPr/>
          </p:nvSpPr>
          <p:spPr>
            <a:xfrm>
              <a:off x="62485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743200" y="4952880"/>
              <a:ext cx="609480" cy="1191240"/>
              <a:chOff x="2743200" y="4952880"/>
              <a:chExt cx="609480" cy="1191240"/>
            </a:xfrm>
          </p:grpSpPr>
          <p:sp>
            <p:nvSpPr>
              <p:cNvPr id="461" name=""/>
              <p:cNvSpPr/>
              <p:nvPr/>
            </p:nvSpPr>
            <p:spPr>
              <a:xfrm>
                <a:off x="27432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195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81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432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828800" y="4952880"/>
            <a:ext cx="4343400" cy="1602720"/>
            <a:chOff x="1828800" y="4952880"/>
            <a:chExt cx="4343400" cy="1602720"/>
          </a:xfrm>
        </p:grpSpPr>
        <p:sp>
          <p:nvSpPr>
            <p:cNvPr id="466" name=""/>
            <p:cNvSpPr/>
            <p:nvPr/>
          </p:nvSpPr>
          <p:spPr>
            <a:xfrm>
              <a:off x="579132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828800" y="4952880"/>
              <a:ext cx="609480" cy="1191240"/>
              <a:chOff x="1828800" y="4952880"/>
              <a:chExt cx="609480" cy="119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05120" y="4952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2880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3372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2880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mantic actions produce the postfix ver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 the tokenized sourc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143000"/>
            <a:ext cx="822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Translation grammars translate inpu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rings to output st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2514600"/>
            <a:ext cx="289548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ser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 input gramm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9051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ranslation by two gramma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2362320"/>
            <a:ext cx="106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2514600"/>
            <a:ext cx="1752480" cy="678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31240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236232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f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10280" y="312408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2438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35268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Translation by a single 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95280" y="4724280"/>
            <a:ext cx="152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4724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72428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3886200"/>
            <a:ext cx="6400800" cy="7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er based on a grammar with rules having two right-hand si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5029200"/>
            <a:ext cx="30456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2448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5029200"/>
            <a:ext cx="304920" cy="304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029200"/>
            <a:ext cx="30492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5410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1992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120" y="5410080"/>
            <a:ext cx="7696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uring the parse of an input string, a simultaneous generation f an output string occ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1143000"/>
            <a:ext cx="419112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of 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609588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98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095880" y="3809880"/>
            <a:ext cx="2362320" cy="2745720"/>
            <a:chOff x="6095880" y="3809880"/>
            <a:chExt cx="2362320" cy="2745720"/>
          </a:xfrm>
        </p:grpSpPr>
        <p:sp>
          <p:nvSpPr>
            <p:cNvPr id="528" name=""/>
            <p:cNvSpPr/>
            <p:nvPr/>
          </p:nvSpPr>
          <p:spPr>
            <a:xfrm>
              <a:off x="6858000" y="41911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4114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4038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476760" y="411480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246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010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86600" y="4114800"/>
              <a:ext cx="11430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40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6553080" y="4343400"/>
            <a:ext cx="1447920" cy="2212200"/>
            <a:chOff x="6553080" y="4343400"/>
            <a:chExt cx="1447920" cy="2212200"/>
          </a:xfrm>
        </p:grpSpPr>
        <p:sp>
          <p:nvSpPr>
            <p:cNvPr id="537" name=""/>
            <p:cNvSpPr/>
            <p:nvPr/>
          </p:nvSpPr>
          <p:spPr>
            <a:xfrm flipH="1">
              <a:off x="685764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6600" y="46483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102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4648320"/>
              <a:ext cx="6858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748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38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572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943600" y="4343400"/>
            <a:ext cx="685800" cy="810000"/>
            <a:chOff x="5943600" y="4343400"/>
            <a:chExt cx="685800" cy="810000"/>
          </a:xfrm>
        </p:grpSpPr>
        <p:sp>
          <p:nvSpPr>
            <p:cNvPr id="546" name=""/>
            <p:cNvSpPr/>
            <p:nvPr/>
          </p:nvSpPr>
          <p:spPr>
            <a:xfrm>
              <a:off x="6095880" y="4572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244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436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943600" y="4876920"/>
            <a:ext cx="685800" cy="810000"/>
            <a:chOff x="5943600" y="4876920"/>
            <a:chExt cx="685800" cy="810000"/>
          </a:xfrm>
        </p:grpSpPr>
        <p:sp>
          <p:nvSpPr>
            <p:cNvPr id="550" name=""/>
            <p:cNvSpPr/>
            <p:nvPr/>
          </p:nvSpPr>
          <p:spPr>
            <a:xfrm>
              <a:off x="60958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244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36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943600" y="5410080"/>
            <a:ext cx="685800" cy="1145520"/>
            <a:chOff x="5943600" y="5410080"/>
            <a:chExt cx="685800" cy="1145520"/>
          </a:xfrm>
        </p:grpSpPr>
        <p:sp>
          <p:nvSpPr>
            <p:cNvPr id="554" name=""/>
            <p:cNvSpPr/>
            <p:nvPr/>
          </p:nvSpPr>
          <p:spPr>
            <a:xfrm>
              <a:off x="63244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58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722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553080" y="4876920"/>
            <a:ext cx="609840" cy="810000"/>
            <a:chOff x="6553080" y="4876920"/>
            <a:chExt cx="609840" cy="810000"/>
          </a:xfrm>
        </p:grpSpPr>
        <p:sp>
          <p:nvSpPr>
            <p:cNvPr id="559" name=""/>
            <p:cNvSpPr/>
            <p:nvPr/>
          </p:nvSpPr>
          <p:spPr>
            <a:xfrm>
              <a:off x="678168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51055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81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553080" y="5410080"/>
            <a:ext cx="609840" cy="1145520"/>
            <a:chOff x="6553080" y="5410080"/>
            <a:chExt cx="609840" cy="1145520"/>
          </a:xfrm>
        </p:grpSpPr>
        <p:sp>
          <p:nvSpPr>
            <p:cNvPr id="563" name=""/>
            <p:cNvSpPr/>
            <p:nvPr/>
          </p:nvSpPr>
          <p:spPr>
            <a:xfrm>
              <a:off x="67816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010280" y="5410080"/>
            <a:ext cx="609840" cy="1145520"/>
            <a:chOff x="7010280" y="5410080"/>
            <a:chExt cx="609840" cy="1145520"/>
          </a:xfrm>
        </p:grpSpPr>
        <p:sp>
          <p:nvSpPr>
            <p:cNvPr id="568" name=""/>
            <p:cNvSpPr/>
            <p:nvPr/>
          </p:nvSpPr>
          <p:spPr>
            <a:xfrm>
              <a:off x="7238880" y="5562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0280" y="5638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86600" y="609588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388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447920" y="4038480"/>
            <a:ext cx="3047760" cy="2181600"/>
            <a:chOff x="1447920" y="4038480"/>
            <a:chExt cx="3047760" cy="2181600"/>
          </a:xfrm>
        </p:grpSpPr>
        <p:grpSp>
          <p:nvGrpSpPr>
            <p:cNvPr id="573" name=""/>
            <p:cNvGrpSpPr/>
            <p:nvPr/>
          </p:nvGrpSpPr>
          <p:grpSpPr>
            <a:xfrm>
              <a:off x="1447920" y="4038480"/>
              <a:ext cx="1981080" cy="2181600"/>
              <a:chOff x="1447920" y="4038480"/>
              <a:chExt cx="1981080" cy="2181600"/>
            </a:xfrm>
          </p:grpSpPr>
          <p:sp>
            <p:nvSpPr>
              <p:cNvPr id="574" name=""/>
              <p:cNvSpPr/>
              <p:nvPr/>
            </p:nvSpPr>
            <p:spPr>
              <a:xfrm>
                <a:off x="289584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051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4792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82844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1004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1004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0512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1148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95280" y="4343400"/>
            <a:ext cx="3353040" cy="993240"/>
            <a:chOff x="1295280" y="4343400"/>
            <a:chExt cx="3353040" cy="993240"/>
          </a:xfrm>
        </p:grpSpPr>
        <p:grpSp>
          <p:nvGrpSpPr>
            <p:cNvPr id="583" name=""/>
            <p:cNvGrpSpPr/>
            <p:nvPr/>
          </p:nvGrpSpPr>
          <p:grpSpPr>
            <a:xfrm>
              <a:off x="1295280" y="4343400"/>
              <a:ext cx="685800" cy="810000"/>
              <a:chOff x="1295280" y="4343400"/>
              <a:chExt cx="685800" cy="810000"/>
            </a:xfrm>
          </p:grpSpPr>
          <p:sp>
            <p:nvSpPr>
              <p:cNvPr id="584" name=""/>
              <p:cNvSpPr/>
              <p:nvPr/>
            </p:nvSpPr>
            <p:spPr>
              <a:xfrm>
                <a:off x="144756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67616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9528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42670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295280" y="4876920"/>
            <a:ext cx="3505320" cy="810000"/>
            <a:chOff x="1295280" y="4876920"/>
            <a:chExt cx="3505320" cy="810000"/>
          </a:xfrm>
        </p:grpSpPr>
        <p:grpSp>
          <p:nvGrpSpPr>
            <p:cNvPr id="589" name=""/>
            <p:cNvGrpSpPr/>
            <p:nvPr/>
          </p:nvGrpSpPr>
          <p:grpSpPr>
            <a:xfrm>
              <a:off x="1295280" y="4876920"/>
              <a:ext cx="685800" cy="810000"/>
              <a:chOff x="1295280" y="4876920"/>
              <a:chExt cx="685800" cy="810000"/>
            </a:xfrm>
          </p:grpSpPr>
          <p:sp>
            <p:nvSpPr>
              <p:cNvPr id="590" name=""/>
              <p:cNvSpPr/>
              <p:nvPr/>
            </p:nvSpPr>
            <p:spPr>
              <a:xfrm>
                <a:off x="144756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7616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528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44197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295280" y="4876920"/>
            <a:ext cx="3657600" cy="1343160"/>
            <a:chOff x="1295280" y="4876920"/>
            <a:chExt cx="3657600" cy="1343160"/>
          </a:xfrm>
        </p:grpSpPr>
        <p:grpSp>
          <p:nvGrpSpPr>
            <p:cNvPr id="595" name=""/>
            <p:cNvGrpSpPr/>
            <p:nvPr/>
          </p:nvGrpSpPr>
          <p:grpSpPr>
            <a:xfrm>
              <a:off x="1295280" y="5410080"/>
              <a:ext cx="685800" cy="810000"/>
              <a:chOff x="1295280" y="5410080"/>
              <a:chExt cx="685800" cy="810000"/>
            </a:xfrm>
          </p:grpSpPr>
          <p:sp>
            <p:nvSpPr>
              <p:cNvPr id="596" name=""/>
              <p:cNvSpPr/>
              <p:nvPr/>
            </p:nvSpPr>
            <p:spPr>
              <a:xfrm>
                <a:off x="167616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44756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5720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362320" y="4419720"/>
            <a:ext cx="2743200" cy="1876680"/>
            <a:chOff x="2362320" y="4419720"/>
            <a:chExt cx="2743200" cy="1876680"/>
          </a:xfrm>
        </p:grpSpPr>
        <p:grpSp>
          <p:nvGrpSpPr>
            <p:cNvPr id="601" name=""/>
            <p:cNvGrpSpPr/>
            <p:nvPr/>
          </p:nvGrpSpPr>
          <p:grpSpPr>
            <a:xfrm>
              <a:off x="2362320" y="4419720"/>
              <a:ext cx="1447200" cy="1876680"/>
              <a:chOff x="2362320" y="4419720"/>
              <a:chExt cx="1447200" cy="1876680"/>
            </a:xfrm>
          </p:grpSpPr>
          <p:sp>
            <p:nvSpPr>
              <p:cNvPr id="602" name=""/>
              <p:cNvSpPr/>
              <p:nvPr/>
            </p:nvSpPr>
            <p:spPr>
              <a:xfrm flipH="1">
                <a:off x="2666520" y="4495680"/>
                <a:ext cx="45684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62320" y="4572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276360" y="5105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08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19160" y="5715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4495680"/>
                <a:ext cx="38052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76360" y="44197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47242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62320" y="4876920"/>
            <a:ext cx="2895480" cy="810000"/>
            <a:chOff x="2362320" y="4876920"/>
            <a:chExt cx="2895480" cy="810000"/>
          </a:xfrm>
        </p:grpSpPr>
        <p:grpSp>
          <p:nvGrpSpPr>
            <p:cNvPr id="611" name=""/>
            <p:cNvGrpSpPr/>
            <p:nvPr/>
          </p:nvGrpSpPr>
          <p:grpSpPr>
            <a:xfrm>
              <a:off x="2362320" y="4876920"/>
              <a:ext cx="609480" cy="810000"/>
              <a:chOff x="2362320" y="4876920"/>
              <a:chExt cx="609480" cy="810000"/>
            </a:xfrm>
          </p:grpSpPr>
          <p:sp>
            <p:nvSpPr>
              <p:cNvPr id="612" name=""/>
              <p:cNvSpPr/>
              <p:nvPr/>
            </p:nvSpPr>
            <p:spPr>
              <a:xfrm>
                <a:off x="259092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6232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8769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362320" y="4876920"/>
            <a:ext cx="3047760" cy="1343160"/>
            <a:chOff x="2362320" y="4876920"/>
            <a:chExt cx="3047760" cy="1343160"/>
          </a:xfrm>
        </p:grpSpPr>
        <p:grpSp>
          <p:nvGrpSpPr>
            <p:cNvPr id="617" name=""/>
            <p:cNvGrpSpPr/>
            <p:nvPr/>
          </p:nvGrpSpPr>
          <p:grpSpPr>
            <a:xfrm>
              <a:off x="2362320" y="5410080"/>
              <a:ext cx="609480" cy="810000"/>
              <a:chOff x="2362320" y="5410080"/>
              <a:chExt cx="609480" cy="810000"/>
            </a:xfrm>
          </p:grpSpPr>
          <p:sp>
            <p:nvSpPr>
              <p:cNvPr id="618" name=""/>
              <p:cNvSpPr/>
              <p:nvPr/>
            </p:nvSpPr>
            <p:spPr>
              <a:xfrm>
                <a:off x="25909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623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909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502920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276720" y="4876920"/>
            <a:ext cx="2286000" cy="1343160"/>
            <a:chOff x="3276720" y="4876920"/>
            <a:chExt cx="2286000" cy="1343160"/>
          </a:xfrm>
        </p:grpSpPr>
        <p:grpSp>
          <p:nvGrpSpPr>
            <p:cNvPr id="623" name=""/>
            <p:cNvGrpSpPr/>
            <p:nvPr/>
          </p:nvGrpSpPr>
          <p:grpSpPr>
            <a:xfrm>
              <a:off x="3276720" y="5410080"/>
              <a:ext cx="609480" cy="810000"/>
              <a:chOff x="3276720" y="5410080"/>
              <a:chExt cx="609480" cy="810000"/>
            </a:xfrm>
          </p:grpSpPr>
          <p:sp>
            <p:nvSpPr>
              <p:cNvPr id="624" name=""/>
              <p:cNvSpPr/>
              <p:nvPr/>
            </p:nvSpPr>
            <p:spPr>
              <a:xfrm>
                <a:off x="350532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7672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053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1814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5638680" y="487692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Grammar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1143000"/>
            <a:ext cx="541044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. E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1680"/>
                <a:tab algn="l" pos="1816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12193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36576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160020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24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0572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3657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195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39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48320" y="48006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828800" y="3809880"/>
            <a:ext cx="6629400" cy="2745720"/>
            <a:chOff x="1828800" y="3809880"/>
            <a:chExt cx="6629400" cy="2745720"/>
          </a:xfrm>
        </p:grpSpPr>
        <p:grpSp>
          <p:nvGrpSpPr>
            <p:cNvPr id="652" name=""/>
            <p:cNvGrpSpPr/>
            <p:nvPr/>
          </p:nvGrpSpPr>
          <p:grpSpPr>
            <a:xfrm>
              <a:off x="1828800" y="4038480"/>
              <a:ext cx="1981080" cy="2181600"/>
              <a:chOff x="1828800" y="4038480"/>
              <a:chExt cx="1981080" cy="2181600"/>
            </a:xfrm>
          </p:grpSpPr>
          <p:sp>
            <p:nvSpPr>
              <p:cNvPr id="653" name=""/>
              <p:cNvSpPr/>
              <p:nvPr/>
            </p:nvSpPr>
            <p:spPr>
              <a:xfrm>
                <a:off x="3276720" y="4038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82880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209320" y="4191120"/>
                <a:ext cx="381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0920" y="41911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590920" y="4191120"/>
                <a:ext cx="7617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286000" y="4267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6095880" y="3809880"/>
              <a:ext cx="2362320" cy="2745720"/>
              <a:chOff x="6095880" y="3809880"/>
              <a:chExt cx="2362320" cy="2745720"/>
            </a:xfrm>
          </p:grpSpPr>
          <p:sp>
            <p:nvSpPr>
              <p:cNvPr id="661" name=""/>
              <p:cNvSpPr/>
              <p:nvPr/>
            </p:nvSpPr>
            <p:spPr>
              <a:xfrm>
                <a:off x="6858000" y="41911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41148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95880" y="4038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6476760" y="4114800"/>
                <a:ext cx="6094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246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10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6600" y="4114800"/>
                <a:ext cx="11430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29400" y="38098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2743200" y="4343400"/>
            <a:ext cx="5257800" cy="2212200"/>
            <a:chOff x="2743200" y="4343400"/>
            <a:chExt cx="5257800" cy="2212200"/>
          </a:xfrm>
        </p:grpSpPr>
        <p:grpSp>
          <p:nvGrpSpPr>
            <p:cNvPr id="670" name=""/>
            <p:cNvGrpSpPr/>
            <p:nvPr/>
          </p:nvGrpSpPr>
          <p:grpSpPr>
            <a:xfrm>
              <a:off x="2743200" y="4419720"/>
              <a:ext cx="1447920" cy="1876680"/>
              <a:chOff x="2743200" y="4419720"/>
              <a:chExt cx="1447920" cy="1876680"/>
            </a:xfrm>
          </p:grpSpPr>
          <p:sp>
            <p:nvSpPr>
              <p:cNvPr id="671" name=""/>
              <p:cNvSpPr/>
              <p:nvPr/>
            </p:nvSpPr>
            <p:spPr>
              <a:xfrm flipH="1">
                <a:off x="3048120" y="449568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32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576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05320" y="449568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0040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5320" y="4495680"/>
                <a:ext cx="3808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57600" y="4419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553080" y="4343400"/>
              <a:ext cx="1447920" cy="2212200"/>
              <a:chOff x="6553080" y="4343400"/>
              <a:chExt cx="1447920" cy="2212200"/>
            </a:xfrm>
          </p:grpSpPr>
          <p:sp>
            <p:nvSpPr>
              <p:cNvPr id="679" name=""/>
              <p:cNvSpPr/>
              <p:nvPr/>
            </p:nvSpPr>
            <p:spPr>
              <a:xfrm flipH="1">
                <a:off x="6857640" y="4648320"/>
                <a:ext cx="2286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4648320"/>
                <a:ext cx="15228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02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5530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6600" y="4648320"/>
                <a:ext cx="685800" cy="11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67480" y="5715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438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057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"/>
          <p:cNvGrpSpPr/>
          <p:nvPr/>
        </p:nvGrpSpPr>
        <p:grpSpPr>
          <a:xfrm>
            <a:off x="1676520" y="4343400"/>
            <a:ext cx="4952880" cy="810000"/>
            <a:chOff x="1676520" y="4343400"/>
            <a:chExt cx="4952880" cy="810000"/>
          </a:xfrm>
        </p:grpSpPr>
        <p:grpSp>
          <p:nvGrpSpPr>
            <p:cNvPr id="688" name=""/>
            <p:cNvGrpSpPr/>
            <p:nvPr/>
          </p:nvGrpSpPr>
          <p:grpSpPr>
            <a:xfrm>
              <a:off x="1676520" y="4343400"/>
              <a:ext cx="685800" cy="810000"/>
              <a:chOff x="1676520" y="4343400"/>
              <a:chExt cx="685800" cy="810000"/>
            </a:xfrm>
          </p:grpSpPr>
          <p:sp>
            <p:nvSpPr>
              <p:cNvPr id="689" name=""/>
              <p:cNvSpPr/>
              <p:nvPr/>
            </p:nvSpPr>
            <p:spPr>
              <a:xfrm>
                <a:off x="182880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5740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7652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943600" y="4343400"/>
              <a:ext cx="685800" cy="810000"/>
              <a:chOff x="5943600" y="4343400"/>
              <a:chExt cx="685800" cy="810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95880" y="4572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324480" y="44956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43600" y="4343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1676520" y="4876920"/>
            <a:ext cx="4952880" cy="810000"/>
            <a:chOff x="1676520" y="4876920"/>
            <a:chExt cx="4952880" cy="810000"/>
          </a:xfrm>
        </p:grpSpPr>
        <p:grpSp>
          <p:nvGrpSpPr>
            <p:cNvPr id="697" name=""/>
            <p:cNvGrpSpPr/>
            <p:nvPr/>
          </p:nvGrpSpPr>
          <p:grpSpPr>
            <a:xfrm>
              <a:off x="1676520" y="4876920"/>
              <a:ext cx="685800" cy="810000"/>
              <a:chOff x="1676520" y="4876920"/>
              <a:chExt cx="685800" cy="810000"/>
            </a:xfrm>
          </p:grpSpPr>
          <p:sp>
            <p:nvSpPr>
              <p:cNvPr id="698" name=""/>
              <p:cNvSpPr/>
              <p:nvPr/>
            </p:nvSpPr>
            <p:spPr>
              <a:xfrm>
                <a:off x="18288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574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7652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943600" y="4876920"/>
              <a:ext cx="685800" cy="810000"/>
              <a:chOff x="5943600" y="4876920"/>
              <a:chExt cx="685800" cy="810000"/>
            </a:xfrm>
          </p:grpSpPr>
          <p:sp>
            <p:nvSpPr>
              <p:cNvPr id="702" name=""/>
              <p:cNvSpPr/>
              <p:nvPr/>
            </p:nvSpPr>
            <p:spPr>
              <a:xfrm>
                <a:off x="60958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244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943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1676520" y="5410080"/>
            <a:ext cx="4952880" cy="1145520"/>
            <a:chOff x="1676520" y="5410080"/>
            <a:chExt cx="4952880" cy="1145520"/>
          </a:xfrm>
        </p:grpSpPr>
        <p:grpSp>
          <p:nvGrpSpPr>
            <p:cNvPr id="706" name=""/>
            <p:cNvGrpSpPr/>
            <p:nvPr/>
          </p:nvGrpSpPr>
          <p:grpSpPr>
            <a:xfrm>
              <a:off x="1676520" y="5410080"/>
              <a:ext cx="685800" cy="810000"/>
              <a:chOff x="1676520" y="5410080"/>
              <a:chExt cx="685800" cy="810000"/>
            </a:xfrm>
          </p:grpSpPr>
          <p:sp>
            <p:nvSpPr>
              <p:cNvPr id="707" name=""/>
              <p:cNvSpPr/>
              <p:nvPr/>
            </p:nvSpPr>
            <p:spPr>
              <a:xfrm>
                <a:off x="20574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288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67652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943600" y="5410080"/>
              <a:ext cx="685800" cy="1145520"/>
              <a:chOff x="5943600" y="5410080"/>
              <a:chExt cx="685800" cy="1145520"/>
            </a:xfrm>
          </p:grpSpPr>
          <p:sp>
            <p:nvSpPr>
              <p:cNvPr id="711" name=""/>
              <p:cNvSpPr/>
              <p:nvPr/>
            </p:nvSpPr>
            <p:spPr>
              <a:xfrm>
                <a:off x="63244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958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722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9436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2743200" y="4876920"/>
            <a:ext cx="4419720" cy="810000"/>
            <a:chOff x="2743200" y="4876920"/>
            <a:chExt cx="4419720" cy="810000"/>
          </a:xfrm>
        </p:grpSpPr>
        <p:grpSp>
          <p:nvGrpSpPr>
            <p:cNvPr id="716" name=""/>
            <p:cNvGrpSpPr/>
            <p:nvPr/>
          </p:nvGrpSpPr>
          <p:grpSpPr>
            <a:xfrm>
              <a:off x="2743200" y="4876920"/>
              <a:ext cx="609480" cy="810000"/>
              <a:chOff x="2743200" y="4876920"/>
              <a:chExt cx="609480" cy="810000"/>
            </a:xfrm>
          </p:grpSpPr>
          <p:sp>
            <p:nvSpPr>
              <p:cNvPr id="717" name=""/>
              <p:cNvSpPr/>
              <p:nvPr/>
            </p:nvSpPr>
            <p:spPr>
              <a:xfrm>
                <a:off x="297180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4320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718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553080" y="4876920"/>
              <a:ext cx="609840" cy="810000"/>
              <a:chOff x="6553080" y="4876920"/>
              <a:chExt cx="609840" cy="810000"/>
            </a:xfrm>
          </p:grpSpPr>
          <p:sp>
            <p:nvSpPr>
              <p:cNvPr id="721" name=""/>
              <p:cNvSpPr/>
              <p:nvPr/>
            </p:nvSpPr>
            <p:spPr>
              <a:xfrm>
                <a:off x="6781680" y="502920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553080" y="5105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81680" y="4876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2743200" y="5410080"/>
            <a:ext cx="4419720" cy="1145520"/>
            <a:chOff x="2743200" y="5410080"/>
            <a:chExt cx="4419720" cy="1145520"/>
          </a:xfrm>
        </p:grpSpPr>
        <p:grpSp>
          <p:nvGrpSpPr>
            <p:cNvPr id="725" name=""/>
            <p:cNvGrpSpPr/>
            <p:nvPr/>
          </p:nvGrpSpPr>
          <p:grpSpPr>
            <a:xfrm>
              <a:off x="2743200" y="5410080"/>
              <a:ext cx="609480" cy="810000"/>
              <a:chOff x="2743200" y="5410080"/>
              <a:chExt cx="609480" cy="810000"/>
            </a:xfrm>
          </p:grpSpPr>
          <p:sp>
            <p:nvSpPr>
              <p:cNvPr id="726" name=""/>
              <p:cNvSpPr/>
              <p:nvPr/>
            </p:nvSpPr>
            <p:spPr>
              <a:xfrm>
                <a:off x="29718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7432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9718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6553080" y="5410080"/>
              <a:ext cx="609840" cy="1145520"/>
              <a:chOff x="6553080" y="5410080"/>
              <a:chExt cx="609840" cy="1145520"/>
            </a:xfrm>
          </p:grpSpPr>
          <p:sp>
            <p:nvSpPr>
              <p:cNvPr id="730" name=""/>
              <p:cNvSpPr/>
              <p:nvPr/>
            </p:nvSpPr>
            <p:spPr>
              <a:xfrm>
                <a:off x="67816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0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294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3657600" y="5410080"/>
            <a:ext cx="3962520" cy="1145520"/>
            <a:chOff x="3657600" y="5410080"/>
            <a:chExt cx="3962520" cy="1145520"/>
          </a:xfrm>
        </p:grpSpPr>
        <p:grpSp>
          <p:nvGrpSpPr>
            <p:cNvPr id="735" name=""/>
            <p:cNvGrpSpPr/>
            <p:nvPr/>
          </p:nvGrpSpPr>
          <p:grpSpPr>
            <a:xfrm>
              <a:off x="3657600" y="5410080"/>
              <a:ext cx="609480" cy="810000"/>
              <a:chOff x="3657600" y="5410080"/>
              <a:chExt cx="609480" cy="810000"/>
            </a:xfrm>
          </p:grpSpPr>
          <p:sp>
            <p:nvSpPr>
              <p:cNvPr id="736" name=""/>
              <p:cNvSpPr/>
              <p:nvPr/>
            </p:nvSpPr>
            <p:spPr>
              <a:xfrm>
                <a:off x="388620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65760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88620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010280" y="5410080"/>
              <a:ext cx="609840" cy="1145520"/>
              <a:chOff x="7010280" y="5410080"/>
              <a:chExt cx="609840" cy="1145520"/>
            </a:xfrm>
          </p:grpSpPr>
          <p:sp>
            <p:nvSpPr>
              <p:cNvPr id="740" name=""/>
              <p:cNvSpPr/>
              <p:nvPr/>
            </p:nvSpPr>
            <p:spPr>
              <a:xfrm>
                <a:off x="7238880" y="556272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10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086600" y="6095880"/>
                <a:ext cx="380880" cy="4597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38880" y="5410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609480" y="1143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trans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105520" y="4267080"/>
            <a:ext cx="327636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Generation of 3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860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432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14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57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6095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191120" y="411480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1143000"/>
            <a:ext cx="80010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BU parser directs the ge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ec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18288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1905120"/>
            <a:ext cx="60958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i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+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*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9933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339933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2197080"/>
                <a:tab algn="l" pos="29592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generate(‘=’, </a:t>
            </a:r>
            <a:r>
              <a:rPr b="1" i="1" lang="cs-CZ" sz="1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 ,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18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.lo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19810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3809880"/>
            <a:ext cx="5867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14600" y="2286000"/>
            <a:ext cx="586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48320" y="1981080"/>
            <a:ext cx="144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1981080"/>
            <a:ext cx="1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716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60958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3809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209680" y="4267080"/>
            <a:ext cx="5562720" cy="1877040"/>
            <a:chOff x="2209680" y="4267080"/>
            <a:chExt cx="5562720" cy="1877040"/>
          </a:xfrm>
        </p:grpSpPr>
        <p:grpSp>
          <p:nvGrpSpPr>
            <p:cNvPr id="769" name=""/>
            <p:cNvGrpSpPr/>
            <p:nvPr/>
          </p:nvGrpSpPr>
          <p:grpSpPr>
            <a:xfrm>
              <a:off x="2209680" y="4952880"/>
              <a:ext cx="609480" cy="1191240"/>
              <a:chOff x="2209680" y="4952880"/>
              <a:chExt cx="609480" cy="119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22860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096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5146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096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5105520" y="426708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124080" y="4648320"/>
            <a:ext cx="4648320" cy="1495800"/>
            <a:chOff x="3124080" y="4648320"/>
            <a:chExt cx="4648320" cy="1495800"/>
          </a:xfrm>
        </p:grpSpPr>
        <p:grpSp>
          <p:nvGrpSpPr>
            <p:cNvPr id="776" name=""/>
            <p:cNvGrpSpPr/>
            <p:nvPr/>
          </p:nvGrpSpPr>
          <p:grpSpPr>
            <a:xfrm>
              <a:off x="3124080" y="4952880"/>
              <a:ext cx="609480" cy="1191240"/>
              <a:chOff x="3124080" y="4952880"/>
              <a:chExt cx="609480" cy="1191240"/>
            </a:xfrm>
          </p:grpSpPr>
          <p:sp>
            <p:nvSpPr>
              <p:cNvPr id="777" name=""/>
              <p:cNvSpPr/>
              <p:nvPr/>
            </p:nvSpPr>
            <p:spPr>
              <a:xfrm>
                <a:off x="31240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00400" y="495288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42900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24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5105520" y="4648320"/>
              <a:ext cx="266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038480" y="4952880"/>
            <a:ext cx="4191120" cy="1191240"/>
            <a:chOff x="4038480" y="4952880"/>
            <a:chExt cx="4191120" cy="1191240"/>
          </a:xfrm>
        </p:grpSpPr>
        <p:grpSp>
          <p:nvGrpSpPr>
            <p:cNvPr id="783" name=""/>
            <p:cNvGrpSpPr/>
            <p:nvPr/>
          </p:nvGrpSpPr>
          <p:grpSpPr>
            <a:xfrm>
              <a:off x="4038480" y="4952880"/>
              <a:ext cx="609480" cy="1191240"/>
              <a:chOff x="4038480" y="4952880"/>
              <a:chExt cx="609480" cy="1191240"/>
            </a:xfrm>
          </p:grpSpPr>
          <p:sp>
            <p:nvSpPr>
              <p:cNvPr id="784" name=""/>
              <p:cNvSpPr/>
              <p:nvPr/>
            </p:nvSpPr>
            <p:spPr>
              <a:xfrm>
                <a:off x="4267080" y="5334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0384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038480" y="4952880"/>
                <a:ext cx="53352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267080" y="541008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105520" y="5029200"/>
              <a:ext cx="312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580920" y="4419720"/>
            <a:ext cx="4953600" cy="1800360"/>
            <a:chOff x="3580920" y="4419720"/>
            <a:chExt cx="4953600" cy="1800360"/>
          </a:xfrm>
        </p:grpSpPr>
        <p:grpSp>
          <p:nvGrpSpPr>
            <p:cNvPr id="790" name=""/>
            <p:cNvGrpSpPr/>
            <p:nvPr/>
          </p:nvGrpSpPr>
          <p:grpSpPr>
            <a:xfrm>
              <a:off x="3580920" y="4419720"/>
              <a:ext cx="609840" cy="1800360"/>
              <a:chOff x="3580920" y="4419720"/>
              <a:chExt cx="609840" cy="1800360"/>
            </a:xfrm>
          </p:grpSpPr>
          <p:sp>
            <p:nvSpPr>
              <p:cNvPr id="791" name=""/>
              <p:cNvSpPr/>
              <p:nvPr/>
            </p:nvSpPr>
            <p:spPr>
              <a:xfrm>
                <a:off x="3581280" y="5029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57600" y="44197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886200" y="49528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86200" y="4952880"/>
                <a:ext cx="3045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580920" y="4952880"/>
                <a:ext cx="30492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1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5105520" y="5410080"/>
              <a:ext cx="342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*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600" y="3733920"/>
            <a:ext cx="6172200" cy="2567520"/>
            <a:chOff x="2514600" y="3733920"/>
            <a:chExt cx="6172200" cy="2567520"/>
          </a:xfrm>
        </p:grpSpPr>
        <p:grpSp>
          <p:nvGrpSpPr>
            <p:cNvPr id="799" name=""/>
            <p:cNvGrpSpPr/>
            <p:nvPr/>
          </p:nvGrpSpPr>
          <p:grpSpPr>
            <a:xfrm>
              <a:off x="2514600" y="3733920"/>
              <a:ext cx="1371600" cy="2410200"/>
              <a:chOff x="2514600" y="3733920"/>
              <a:chExt cx="1371600" cy="24102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71800" y="4191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743200" y="3733920"/>
                <a:ext cx="533160" cy="56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700" spc="-1" strike="noStrike" baseline="-25000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66880" y="5562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2514600" y="4191120"/>
                <a:ext cx="45720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971800" y="4191120"/>
                <a:ext cx="0" cy="144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971800" y="4191120"/>
                <a:ext cx="91440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105520" y="5791320"/>
              <a:ext cx="3581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+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295280" y="3276720"/>
            <a:ext cx="6629400" cy="3405600"/>
            <a:chOff x="1295280" y="3276720"/>
            <a:chExt cx="6629400" cy="3405600"/>
          </a:xfrm>
        </p:grpSpPr>
        <p:sp>
          <p:nvSpPr>
            <p:cNvPr id="808" name=""/>
            <p:cNvSpPr/>
            <p:nvPr/>
          </p:nvSpPr>
          <p:spPr>
            <a:xfrm>
              <a:off x="5105520" y="61722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‘=’,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lo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 , </a:t>
              </a: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295280" y="3276720"/>
              <a:ext cx="1600200" cy="2943360"/>
              <a:chOff x="1295280" y="3276720"/>
              <a:chExt cx="1600200" cy="2943360"/>
            </a:xfrm>
          </p:grpSpPr>
          <p:sp>
            <p:nvSpPr>
              <p:cNvPr id="810" name=""/>
              <p:cNvSpPr/>
              <p:nvPr/>
            </p:nvSpPr>
            <p:spPr>
              <a:xfrm>
                <a:off x="1905120" y="3276720"/>
                <a:ext cx="380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8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57400" y="38098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1600200" y="3809880"/>
                <a:ext cx="45720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7524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5638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057400" y="3809880"/>
                <a:ext cx="83808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3886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Introdu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121932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L-grammar with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push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pushdown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mantic push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type of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synthesized: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iher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2971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193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children to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13336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288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909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337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5638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endCxn id="827" idx="1"/>
          </p:cNvCxnSpPr>
          <p:nvPr/>
        </p:nvCxnSpPr>
        <p:spPr>
          <a:xfrm flipH="1" flipV="1" rot="5400000">
            <a:off x="1257120" y="4685760"/>
            <a:ext cx="1143720" cy="610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30" name=""/>
          <p:cNvSpPr/>
          <p:nvPr/>
        </p:nvSpPr>
        <p:spPr>
          <a:xfrm>
            <a:off x="4724280" y="3352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rom parent t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 between sib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4648320"/>
            <a:ext cx="685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294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4191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578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endCxn id="834" idx="1"/>
          </p:cNvCxnSpPr>
          <p:nvPr/>
        </p:nvCxnSpPr>
        <p:spPr>
          <a:xfrm flipH="1" flipV="1" rot="5400000">
            <a:off x="5219280" y="4685760"/>
            <a:ext cx="1143720" cy="6102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2819520" y="4648320"/>
            <a:ext cx="76176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3526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78168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5562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781680" y="46483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31520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30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4674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D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86600" y="62485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op-Down Translation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8006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33526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26708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581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672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4952880"/>
            <a:ext cx="327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3885840" y="213372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213372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52320" y="281952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33920" y="281952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67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952520" y="2895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2895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5880" y="2895480"/>
            <a:ext cx="15242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5333760" y="38098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19920" y="3809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809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1295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b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6095520" y="46483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81680" y="46483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3080" y="58672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8168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0100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4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981080"/>
            <a:ext cx="1905120" cy="3020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      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       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959200" y="35812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4495680"/>
            <a:ext cx="304920" cy="83844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247800" y="3657600"/>
            <a:ext cx="725400" cy="825480"/>
          </a:xfrm>
          <a:custGeom>
            <a:avLst/>
            <a:gdLst/>
            <a:ahLst/>
            <a:rect l="l" t="t" r="r" b="b"/>
            <a:pathLst>
              <a:path w="361" h="520">
                <a:moveTo>
                  <a:pt x="65" y="520"/>
                </a:moveTo>
                <a:cubicBezTo>
                  <a:pt x="62" y="460"/>
                  <a:pt x="0" y="247"/>
                  <a:pt x="49" y="160"/>
                </a:cubicBezTo>
                <a:cubicBezTo>
                  <a:pt x="98" y="73"/>
                  <a:pt x="296" y="33"/>
                  <a:pt x="361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00800" y="5410080"/>
            <a:ext cx="304920" cy="6858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576"/>
                </a:moveTo>
                <a:cubicBezTo>
                  <a:pt x="52" y="456"/>
                  <a:pt x="0" y="336"/>
                  <a:pt x="8" y="240"/>
                </a:cubicBezTo>
                <a:cubicBezTo>
                  <a:pt x="16" y="144"/>
                  <a:pt x="84" y="72"/>
                  <a:pt x="15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2583000"/>
            <a:ext cx="1409760" cy="782640"/>
          </a:xfrm>
          <a:custGeom>
            <a:avLst/>
            <a:gdLst/>
            <a:ahLst/>
            <a:rect l="l" t="t" r="r" b="b"/>
            <a:pathLst>
              <a:path w="888" h="493">
                <a:moveTo>
                  <a:pt x="888" y="493"/>
                </a:moveTo>
                <a:cubicBezTo>
                  <a:pt x="857" y="424"/>
                  <a:pt x="852" y="154"/>
                  <a:pt x="704" y="77"/>
                </a:cubicBezTo>
                <a:cubicBezTo>
                  <a:pt x="556" y="0"/>
                  <a:pt x="147" y="39"/>
                  <a:pt x="0" y="29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1955880"/>
            <a:ext cx="1003320" cy="571320"/>
          </a:xfrm>
          <a:custGeom>
            <a:avLst/>
            <a:gdLst/>
            <a:ahLst/>
            <a:rect l="l" t="t" r="r" b="b"/>
            <a:pathLst>
              <a:path w="632" h="360">
                <a:moveTo>
                  <a:pt x="624" y="360"/>
                </a:moveTo>
                <a:cubicBezTo>
                  <a:pt x="607" y="316"/>
                  <a:pt x="632" y="156"/>
                  <a:pt x="528" y="96"/>
                </a:cubicBezTo>
                <a:cubicBezTo>
                  <a:pt x="424" y="36"/>
                  <a:pt x="110" y="20"/>
                  <a:pt x="0" y="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666880"/>
            <a:ext cx="1752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05320" y="35812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936960" y="2743200"/>
            <a:ext cx="311040" cy="609480"/>
          </a:xfrm>
          <a:custGeom>
            <a:avLst/>
            <a:gdLst/>
            <a:ahLst/>
            <a:rect l="l" t="t" r="r" b="b"/>
            <a:pathLst>
              <a:path w="196" h="384">
                <a:moveTo>
                  <a:pt x="168" y="384"/>
                </a:moveTo>
                <a:cubicBezTo>
                  <a:pt x="168" y="349"/>
                  <a:pt x="196" y="240"/>
                  <a:pt x="168" y="176"/>
                </a:cubicBezTo>
                <a:cubicBezTo>
                  <a:pt x="140" y="112"/>
                  <a:pt x="35" y="37"/>
                  <a:pt x="0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248520" y="3276720"/>
            <a:ext cx="228600" cy="3045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819520"/>
            <a:ext cx="190440" cy="27936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0" y="0"/>
                </a:moveTo>
                <a:cubicBezTo>
                  <a:pt x="13" y="19"/>
                  <a:pt x="60" y="83"/>
                  <a:pt x="80" y="112"/>
                </a:cubicBezTo>
                <a:cubicBezTo>
                  <a:pt x="100" y="141"/>
                  <a:pt x="112" y="163"/>
                  <a:pt x="120" y="1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31878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75" y="215"/>
                  <a:pt x="304" y="89"/>
                  <a:pt x="448" y="48"/>
                </a:cubicBezTo>
                <a:cubicBezTo>
                  <a:pt x="592" y="7"/>
                  <a:pt x="777" y="10"/>
                  <a:pt x="864" y="0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895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4674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807240" y="4622760"/>
            <a:ext cx="507960" cy="380880"/>
          </a:xfrm>
          <a:custGeom>
            <a:avLst/>
            <a:gdLst/>
            <a:ahLst/>
            <a:rect l="l" t="t" r="r" b="b"/>
            <a:pathLst>
              <a:path w="320" h="240">
                <a:moveTo>
                  <a:pt x="0" y="0"/>
                </a:moveTo>
                <a:cubicBezTo>
                  <a:pt x="24" y="20"/>
                  <a:pt x="91" y="80"/>
                  <a:pt x="144" y="120"/>
                </a:cubicBezTo>
                <a:cubicBezTo>
                  <a:pt x="197" y="160"/>
                  <a:pt x="283" y="215"/>
                  <a:pt x="320" y="2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4995720"/>
            <a:ext cx="990360" cy="198720"/>
          </a:xfrm>
          <a:custGeom>
            <a:avLst/>
            <a:gdLst/>
            <a:ahLst/>
            <a:rect l="l" t="t" r="r" b="b"/>
            <a:pathLst>
              <a:path w="624" h="125">
                <a:moveTo>
                  <a:pt x="0" y="125"/>
                </a:moveTo>
                <a:cubicBezTo>
                  <a:pt x="57" y="106"/>
                  <a:pt x="240" y="26"/>
                  <a:pt x="344" y="13"/>
                </a:cubicBezTo>
                <a:cubicBezTo>
                  <a:pt x="448" y="0"/>
                  <a:pt x="566" y="38"/>
                  <a:pt x="624" y="45"/>
                </a:cubicBezTo>
              </a:path>
            </a:pathLst>
          </a:custGeom>
          <a:noFill/>
          <a:ln w="38160">
            <a:solidFill>
              <a:srgbClr val="b2b2b2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2920" y="4876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0" y="4440240"/>
            <a:ext cx="1365120" cy="690480"/>
          </a:xfrm>
          <a:custGeom>
            <a:avLst/>
            <a:gdLst/>
            <a:ahLst/>
            <a:rect l="l" t="t" r="r" b="b"/>
            <a:pathLst>
              <a:path w="860" h="435">
                <a:moveTo>
                  <a:pt x="792" y="435"/>
                </a:moveTo>
                <a:cubicBezTo>
                  <a:pt x="781" y="374"/>
                  <a:pt x="860" y="134"/>
                  <a:pt x="728" y="67"/>
                </a:cubicBezTo>
                <a:cubicBezTo>
                  <a:pt x="596" y="0"/>
                  <a:pt x="152" y="42"/>
                  <a:pt x="0" y="3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5105520"/>
            <a:ext cx="457200" cy="759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6934320" y="5181480"/>
            <a:ext cx="304560" cy="7632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29400" y="3276720"/>
            <a:ext cx="83808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iable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amp; Parenthes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52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743200" y="3048120"/>
            <a:ext cx="0" cy="7617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21932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48320" y="1143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en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5486400"/>
            <a:ext cx="373356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5562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5562720"/>
            <a:ext cx="266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2485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341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391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486400" y="281952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7120" y="281952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10280" y="2806560"/>
            <a:ext cx="1055880" cy="1778040"/>
          </a:xfrm>
          <a:custGeom>
            <a:avLst/>
            <a:gdLst/>
            <a:ahLst/>
            <a:rect l="l" t="t" r="r" b="b"/>
            <a:pathLst>
              <a:path w="665" h="1120">
                <a:moveTo>
                  <a:pt x="0" y="872"/>
                </a:moveTo>
                <a:cubicBezTo>
                  <a:pt x="28" y="908"/>
                  <a:pt x="75" y="1056"/>
                  <a:pt x="168" y="1088"/>
                </a:cubicBezTo>
                <a:cubicBezTo>
                  <a:pt x="261" y="1120"/>
                  <a:pt x="479" y="1108"/>
                  <a:pt x="560" y="1064"/>
                </a:cubicBezTo>
                <a:cubicBezTo>
                  <a:pt x="641" y="1020"/>
                  <a:pt x="647" y="896"/>
                  <a:pt x="656" y="824"/>
                </a:cubicBezTo>
                <a:cubicBezTo>
                  <a:pt x="665" y="752"/>
                  <a:pt x="661" y="709"/>
                  <a:pt x="616" y="632"/>
                </a:cubicBezTo>
                <a:cubicBezTo>
                  <a:pt x="571" y="555"/>
                  <a:pt x="459" y="465"/>
                  <a:pt x="384" y="360"/>
                </a:cubicBezTo>
                <a:cubicBezTo>
                  <a:pt x="309" y="255"/>
                  <a:pt x="213" y="75"/>
                  <a:pt x="168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2362320" y="2590920"/>
            <a:ext cx="1447560" cy="1724400"/>
            <a:chOff x="2362320" y="2590920"/>
            <a:chExt cx="1447560" cy="1724400"/>
          </a:xfrm>
        </p:grpSpPr>
        <p:sp>
          <p:nvSpPr>
            <p:cNvPr id="919" name=""/>
            <p:cNvSpPr/>
            <p:nvPr/>
          </p:nvSpPr>
          <p:spPr>
            <a:xfrm>
              <a:off x="2362320" y="3733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i.val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438280" y="2590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6629400" y="2286000"/>
            <a:ext cx="990720" cy="1953000"/>
            <a:chOff x="6629400" y="2286000"/>
            <a:chExt cx="990720" cy="1953000"/>
          </a:xfrm>
        </p:grpSpPr>
        <p:sp>
          <p:nvSpPr>
            <p:cNvPr id="922" name=""/>
            <p:cNvSpPr/>
            <p:nvPr/>
          </p:nvSpPr>
          <p:spPr>
            <a:xfrm>
              <a:off x="6629400" y="3657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81680" y="2286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648320" y="5486400"/>
            <a:ext cx="38862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648320" y="55627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                  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55627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935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941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950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x-Directed Tr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143000"/>
            <a:ext cx="8001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are attached to gramatical rules. Most importantly, these actions make intermediate code generation and type checking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286000"/>
            <a:ext cx="67820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9933"/>
                </a:solidFill>
                <a:latin typeface="Courier New CE"/>
              </a:rPr>
              <a:t>k</a:t>
            </a:r>
            <a:r>
              <a:rPr b="1" lang="en-US" sz="2400" spc="-1" strike="noStrike">
                <a:solidFill>
                  <a:srgbClr val="339933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9933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ff0000"/>
                </a:solidFill>
                <a:latin typeface="Courier New CE"/>
              </a:rPr>
              <a:t>j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2768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E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Courier New CE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Courier New CE"/>
              </a:rPr>
              <a:t>.</a:t>
            </a:r>
            <a:r>
              <a:rPr b="1" lang="cs-CZ" sz="2400" spc="-1" strike="noStrike">
                <a:solidFill>
                  <a:srgbClr val="3333cc"/>
                </a:solidFill>
                <a:latin typeface="Courier New CE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:= </a:t>
            </a:r>
            <a:r>
              <a:rPr b="1" lang="en-US" sz="2400" spc="-1" strike="noStrike">
                <a:solidFill>
                  <a:srgbClr val="ff0000"/>
                </a:solidFill>
                <a:latin typeface="Courier New CE"/>
              </a:rPr>
              <a:t>i.v</a:t>
            </a:r>
            <a:r>
              <a:rPr b="1" lang="cs-CZ" sz="2400" spc="-1" strike="noStrike">
                <a:solidFill>
                  <a:srgbClr val="ff0000"/>
                </a:solidFill>
                <a:latin typeface="Courier New CE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Courier New C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362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8862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6668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2362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79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5715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715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20968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722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1722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4419720"/>
            <a:ext cx="4876920" cy="1371600"/>
            <a:chOff x="838080" y="4419720"/>
            <a:chExt cx="4876920" cy="137160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4572000"/>
              <a:ext cx="533520" cy="1219320"/>
              <a:chOff x="838080" y="4572000"/>
              <a:chExt cx="533520" cy="12193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45720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51055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495680" y="44197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86000" y="4800600"/>
            <a:ext cx="3429000" cy="990720"/>
            <a:chOff x="2286000" y="4800600"/>
            <a:chExt cx="3429000" cy="99072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5029200"/>
              <a:ext cx="533520" cy="762120"/>
              <a:chOff x="2286000" y="5029200"/>
              <a:chExt cx="533520" cy="7621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5029200"/>
                <a:ext cx="533520" cy="5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3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1460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495680" y="480060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809880" y="5029200"/>
            <a:ext cx="1905120" cy="762120"/>
            <a:chOff x="3809880" y="5029200"/>
            <a:chExt cx="1905120" cy="762120"/>
          </a:xfrm>
        </p:grpSpPr>
        <p:grpSp>
          <p:nvGrpSpPr>
            <p:cNvPr id="76" name=""/>
            <p:cNvGrpSpPr/>
            <p:nvPr/>
          </p:nvGrpSpPr>
          <p:grpSpPr>
            <a:xfrm>
              <a:off x="3809880" y="5029200"/>
              <a:ext cx="533520" cy="762120"/>
              <a:chOff x="3809880" y="5029200"/>
              <a:chExt cx="53352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3809880" y="502920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38480" y="55627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495680" y="51814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715000" y="5638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90560" y="4648320"/>
            <a:ext cx="4115160" cy="1424520"/>
            <a:chOff x="2590560" y="4648320"/>
            <a:chExt cx="4115160" cy="1424520"/>
          </a:xfrm>
        </p:grpSpPr>
        <p:grpSp>
          <p:nvGrpSpPr>
            <p:cNvPr id="82" name=""/>
            <p:cNvGrpSpPr/>
            <p:nvPr/>
          </p:nvGrpSpPr>
          <p:grpSpPr>
            <a:xfrm>
              <a:off x="2590560" y="4648320"/>
              <a:ext cx="1295640" cy="1218960"/>
              <a:chOff x="2590560" y="4648320"/>
              <a:chExt cx="1295640" cy="1218960"/>
            </a:xfrm>
          </p:grpSpPr>
          <p:sp>
            <p:nvSpPr>
              <p:cNvPr id="83" name=""/>
              <p:cNvSpPr/>
              <p:nvPr/>
            </p:nvSpPr>
            <p:spPr>
              <a:xfrm>
                <a:off x="3048120" y="4648320"/>
                <a:ext cx="53316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33cc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76720" y="510552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51055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590560" y="510552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4495680" y="5562720"/>
              <a:ext cx="2210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*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42640" y="3809880"/>
            <a:ext cx="5410440" cy="2720160"/>
            <a:chOff x="1142640" y="3809880"/>
            <a:chExt cx="5410440" cy="2720160"/>
          </a:xfrm>
        </p:grpSpPr>
        <p:grpSp>
          <p:nvGrpSpPr>
            <p:cNvPr id="89" name=""/>
            <p:cNvGrpSpPr/>
            <p:nvPr/>
          </p:nvGrpSpPr>
          <p:grpSpPr>
            <a:xfrm>
              <a:off x="1142640" y="3809880"/>
              <a:ext cx="2134080" cy="1981440"/>
              <a:chOff x="1142640" y="3809880"/>
              <a:chExt cx="2134080" cy="1981440"/>
            </a:xfrm>
          </p:grpSpPr>
          <p:sp>
            <p:nvSpPr>
              <p:cNvPr id="90" name=""/>
              <p:cNvSpPr/>
              <p:nvPr/>
            </p:nvSpPr>
            <p:spPr>
              <a:xfrm>
                <a:off x="1523880" y="3809880"/>
                <a:ext cx="53352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600" spc="-1" strike="noStrike" baseline="-25000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142640" y="4343400"/>
                <a:ext cx="609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4343400"/>
                <a:ext cx="0" cy="144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52480" y="4343400"/>
                <a:ext cx="152424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495680" y="6019920"/>
              <a:ext cx="2057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4343400"/>
            <a:ext cx="8686800" cy="592920"/>
            <a:chOff x="152280" y="4343400"/>
            <a:chExt cx="8686800" cy="592920"/>
          </a:xfrm>
        </p:grpSpPr>
        <p:sp>
          <p:nvSpPr>
            <p:cNvPr id="96" name=""/>
            <p:cNvSpPr/>
            <p:nvPr/>
          </p:nvSpPr>
          <p:spPr>
            <a:xfrm>
              <a:off x="6324480" y="4495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280" y="43434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57400" y="4800600"/>
            <a:ext cx="6781680" cy="516960"/>
            <a:chOff x="2057400" y="4800600"/>
            <a:chExt cx="6781680" cy="516960"/>
          </a:xfrm>
        </p:grpSpPr>
        <p:sp>
          <p:nvSpPr>
            <p:cNvPr id="99" name=""/>
            <p:cNvSpPr/>
            <p:nvPr/>
          </p:nvSpPr>
          <p:spPr>
            <a:xfrm>
              <a:off x="6324480" y="487692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740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581280" y="4800600"/>
            <a:ext cx="5257800" cy="897840"/>
            <a:chOff x="3581280" y="4800600"/>
            <a:chExt cx="5257800" cy="897840"/>
          </a:xfrm>
        </p:grpSpPr>
        <p:sp>
          <p:nvSpPr>
            <p:cNvPr id="102" name=""/>
            <p:cNvSpPr/>
            <p:nvPr/>
          </p:nvSpPr>
          <p:spPr>
            <a:xfrm>
              <a:off x="6324480" y="525780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i.v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4800600"/>
              <a:ext cx="11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95480" y="4343400"/>
            <a:ext cx="5943600" cy="1735920"/>
            <a:chOff x="2895480" y="4343400"/>
            <a:chExt cx="5943600" cy="1735920"/>
          </a:xfrm>
        </p:grpSpPr>
        <p:sp>
          <p:nvSpPr>
            <p:cNvPr id="105" name=""/>
            <p:cNvSpPr/>
            <p:nvPr/>
          </p:nvSpPr>
          <p:spPr>
            <a:xfrm>
              <a:off x="6324480" y="5638680"/>
              <a:ext cx="2514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*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3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5480" y="434340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581280"/>
            <a:ext cx="7925040" cy="2879280"/>
            <a:chOff x="1066680" y="3581280"/>
            <a:chExt cx="7925040" cy="2879280"/>
          </a:xfrm>
        </p:grpSpPr>
        <p:sp>
          <p:nvSpPr>
            <p:cNvPr id="108" name=""/>
            <p:cNvSpPr/>
            <p:nvPr/>
          </p:nvSpPr>
          <p:spPr>
            <a:xfrm>
              <a:off x="6324480" y="6019920"/>
              <a:ext cx="266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Courier New CE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33cc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:=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Courier New CE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ff0000"/>
                  </a:solidFill>
                  <a:latin typeface="Courier New CE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 CE"/>
                </a:rPr>
                <a:t>+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Courier New CE"/>
                </a:rPr>
                <a:t>4</a:t>
              </a:r>
              <a:r>
                <a:rPr b="1" lang="en-US" sz="2000" spc="-1" strike="noStrike">
                  <a:solidFill>
                    <a:srgbClr val="339933"/>
                  </a:solidFill>
                  <a:latin typeface="Courier New CE"/>
                </a:rPr>
                <a:t>.</a:t>
              </a:r>
              <a:r>
                <a:rPr b="1" lang="cs-CZ" sz="2000" spc="-1" strike="noStrike">
                  <a:solidFill>
                    <a:srgbClr val="339933"/>
                  </a:solidFill>
                  <a:latin typeface="Courier New C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581280"/>
              <a:ext cx="1295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000" spc="-1" strike="noStrike" baseline="-25000">
                  <a:solidFill>
                    <a:srgbClr val="339933"/>
                  </a:solidFill>
                  <a:latin typeface="Times New Roman"/>
                </a:rPr>
                <a:t>5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.a = 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975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980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987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990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998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004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+ T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037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042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045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054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Addition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066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069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079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082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089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096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099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106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109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112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126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130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133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139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990720" y="5867280"/>
            <a:ext cx="7086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15238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94360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819160" y="2133720"/>
            <a:ext cx="16002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19720" y="2133720"/>
            <a:ext cx="18288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5280" y="3657600"/>
            <a:ext cx="2692440" cy="1905120"/>
            <a:chOff x="1295280" y="3657600"/>
            <a:chExt cx="2692440" cy="1905120"/>
          </a:xfrm>
        </p:grpSpPr>
        <p:sp>
          <p:nvSpPr>
            <p:cNvPr id="1150" name=""/>
            <p:cNvSpPr/>
            <p:nvPr/>
          </p:nvSpPr>
          <p:spPr>
            <a:xfrm>
              <a:off x="1295280" y="36576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752480" y="48006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3886200" y="3429000"/>
            <a:ext cx="1295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5105520" y="2133360"/>
            <a:ext cx="1828800" cy="10666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523880" y="5867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200400" y="1600200"/>
            <a:ext cx="4267080" cy="2105280"/>
            <a:chOff x="3200400" y="1600200"/>
            <a:chExt cx="4267080" cy="2105280"/>
          </a:xfrm>
        </p:grpSpPr>
        <p:sp>
          <p:nvSpPr>
            <p:cNvPr id="1156" name=""/>
            <p:cNvSpPr/>
            <p:nvPr/>
          </p:nvSpPr>
          <p:spPr>
            <a:xfrm>
              <a:off x="3200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9400" y="3124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48320" y="1600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1480" y="31240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2743200" y="5867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52880" y="586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34120" y="586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304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057400" y="3429000"/>
            <a:ext cx="1294920" cy="1447560"/>
            <a:chOff x="2057400" y="3429000"/>
            <a:chExt cx="1294920" cy="1447560"/>
          </a:xfrm>
        </p:grpSpPr>
        <p:sp>
          <p:nvSpPr>
            <p:cNvPr id="1165" name=""/>
            <p:cNvSpPr/>
            <p:nvPr/>
          </p:nvSpPr>
          <p:spPr>
            <a:xfrm>
              <a:off x="2743200" y="342900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43200" y="43434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96216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2361600" y="44956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123360" y="457200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 flipV="1">
            <a:off x="5029200" y="121932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3733920"/>
            <a:ext cx="2819520" cy="190476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 flipV="1">
            <a:off x="5790600" y="4952160"/>
            <a:ext cx="207720" cy="55908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303960" y="4724280"/>
            <a:ext cx="444600" cy="66060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952880" y="472428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37480" y="502920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477120" y="3670200"/>
            <a:ext cx="457200" cy="120672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587920" y="3581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15000" y="472428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686480"/>
            <a:ext cx="38088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324480" y="4622760"/>
            <a:ext cx="60984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 rot="16200000">
            <a:off x="6034320" y="3487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242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3124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4266720" y="22860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52880" y="2286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838080" y="1828800"/>
            <a:ext cx="2692440" cy="1905120"/>
            <a:chOff x="838080" y="1828800"/>
            <a:chExt cx="2692440" cy="1905120"/>
          </a:xfrm>
        </p:grpSpPr>
        <p:sp>
          <p:nvSpPr>
            <p:cNvPr id="1190" name=""/>
            <p:cNvSpPr/>
            <p:nvPr/>
          </p:nvSpPr>
          <p:spPr>
            <a:xfrm>
              <a:off x="838080" y="1828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295280" y="2971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5562720" y="2819520"/>
            <a:ext cx="1218960" cy="5331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5410080" y="2971440"/>
            <a:ext cx="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600200" y="1282680"/>
            <a:ext cx="2108160" cy="1765440"/>
            <a:chOff x="1600200" y="1282680"/>
            <a:chExt cx="2108160" cy="1765440"/>
          </a:xfrm>
        </p:grpSpPr>
        <p:sp>
          <p:nvSpPr>
            <p:cNvPr id="1195" name=""/>
            <p:cNvSpPr/>
            <p:nvPr/>
          </p:nvSpPr>
          <p:spPr>
            <a:xfrm>
              <a:off x="2303640" y="12826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6000" y="25146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00200" y="21337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1904400" y="26668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2666160" y="27432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8620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352680" y="3809880"/>
            <a:ext cx="2692440" cy="1905120"/>
            <a:chOff x="3352680" y="3809880"/>
            <a:chExt cx="2692440" cy="1905120"/>
          </a:xfrm>
        </p:grpSpPr>
        <p:sp>
          <p:nvSpPr>
            <p:cNvPr id="1202" name=""/>
            <p:cNvSpPr/>
            <p:nvPr/>
          </p:nvSpPr>
          <p:spPr>
            <a:xfrm>
              <a:off x="3352680" y="38098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09880" y="49528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4114800" y="3581280"/>
            <a:ext cx="1294920" cy="1447560"/>
            <a:chOff x="4114800" y="3581280"/>
            <a:chExt cx="1294920" cy="1447560"/>
          </a:xfrm>
        </p:grpSpPr>
        <p:sp>
          <p:nvSpPr>
            <p:cNvPr id="1205" name=""/>
            <p:cNvSpPr/>
            <p:nvPr/>
          </p:nvSpPr>
          <p:spPr>
            <a:xfrm>
              <a:off x="4800600" y="3581280"/>
              <a:ext cx="506520" cy="1434960"/>
            </a:xfrm>
            <a:custGeom>
              <a:avLst/>
              <a:gdLst/>
              <a:ahLst/>
              <a:rect l="l" t="t" r="r" b="b"/>
              <a:pathLst>
                <a:path w="319" h="904">
                  <a:moveTo>
                    <a:pt x="151" y="904"/>
                  </a:moveTo>
                  <a:cubicBezTo>
                    <a:pt x="167" y="847"/>
                    <a:pt x="270" y="657"/>
                    <a:pt x="247" y="560"/>
                  </a:cubicBezTo>
                  <a:cubicBezTo>
                    <a:pt x="224" y="463"/>
                    <a:pt x="30" y="401"/>
                    <a:pt x="15" y="320"/>
                  </a:cubicBezTo>
                  <a:cubicBezTo>
                    <a:pt x="0" y="239"/>
                    <a:pt x="108" y="125"/>
                    <a:pt x="159" y="72"/>
                  </a:cubicBezTo>
                  <a:cubicBezTo>
                    <a:pt x="210" y="19"/>
                    <a:pt x="286" y="15"/>
                    <a:pt x="319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0600" y="449568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14800" y="4114440"/>
              <a:ext cx="723960" cy="83844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4419000" y="464796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5180760" y="4724280"/>
              <a:ext cx="228600" cy="304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952880" y="2286000"/>
            <a:ext cx="25909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391520" y="312408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962520" y="1676520"/>
            <a:ext cx="5029200" cy="2172600"/>
            <a:chOff x="3962520" y="1676520"/>
            <a:chExt cx="5029200" cy="2172600"/>
          </a:xfrm>
        </p:grpSpPr>
        <p:sp>
          <p:nvSpPr>
            <p:cNvPr id="1213" name=""/>
            <p:cNvSpPr/>
            <p:nvPr/>
          </p:nvSpPr>
          <p:spPr>
            <a:xfrm>
              <a:off x="5181480" y="32004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F.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96252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705720" y="320040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001000" y="3200400"/>
              <a:ext cx="990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4120" y="1676520"/>
              <a:ext cx="99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181480" y="2438280"/>
            <a:ext cx="609840" cy="642600"/>
            <a:chOff x="5181480" y="2438280"/>
            <a:chExt cx="609840" cy="642600"/>
          </a:xfrm>
        </p:grpSpPr>
        <p:sp>
          <p:nvSpPr>
            <p:cNvPr id="1219" name=""/>
            <p:cNvSpPr/>
            <p:nvPr/>
          </p:nvSpPr>
          <p:spPr>
            <a:xfrm>
              <a:off x="51814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24382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495680" y="2286000"/>
            <a:ext cx="762120" cy="38088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6019920" y="2209680"/>
            <a:ext cx="2209680" cy="10670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791320" y="129528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886200"/>
            <a:ext cx="2819520" cy="1905120"/>
          </a:xfrm>
          <a:custGeom>
            <a:avLst/>
            <a:gdLst/>
            <a:ahLst/>
            <a:rect l="l" t="t" r="r" b="b"/>
            <a:pathLst>
              <a:path w="1696" h="1200">
                <a:moveTo>
                  <a:pt x="864" y="0"/>
                </a:moveTo>
                <a:cubicBezTo>
                  <a:pt x="704" y="168"/>
                  <a:pt x="192" y="816"/>
                  <a:pt x="96" y="1008"/>
                </a:cubicBezTo>
                <a:cubicBezTo>
                  <a:pt x="0" y="1200"/>
                  <a:pt x="216" y="1152"/>
                  <a:pt x="288" y="1152"/>
                </a:cubicBezTo>
                <a:cubicBezTo>
                  <a:pt x="360" y="1152"/>
                  <a:pt x="448" y="1000"/>
                  <a:pt x="528" y="1008"/>
                </a:cubicBezTo>
                <a:cubicBezTo>
                  <a:pt x="608" y="1016"/>
                  <a:pt x="680" y="1200"/>
                  <a:pt x="768" y="1200"/>
                </a:cubicBezTo>
                <a:cubicBezTo>
                  <a:pt x="856" y="1200"/>
                  <a:pt x="944" y="1016"/>
                  <a:pt x="1056" y="1008"/>
                </a:cubicBezTo>
                <a:cubicBezTo>
                  <a:pt x="1168" y="1000"/>
                  <a:pt x="1344" y="1152"/>
                  <a:pt x="1440" y="1152"/>
                </a:cubicBezTo>
                <a:cubicBezTo>
                  <a:pt x="1536" y="1152"/>
                  <a:pt x="1696" y="1200"/>
                  <a:pt x="1632" y="1008"/>
                </a:cubicBezTo>
                <a:cubicBezTo>
                  <a:pt x="1568" y="816"/>
                  <a:pt x="1184" y="168"/>
                  <a:pt x="1056" y="0"/>
                </a:cubicBezTo>
                <a:lnTo>
                  <a:pt x="864" y="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7315200" y="5105520"/>
            <a:ext cx="208080" cy="558720"/>
          </a:xfrm>
          <a:custGeom>
            <a:avLst/>
            <a:gdLst/>
            <a:ahLst/>
            <a:rect l="l" t="t" r="r" b="b"/>
            <a:pathLst>
              <a:path w="131" h="352">
                <a:moveTo>
                  <a:pt x="16" y="0"/>
                </a:moveTo>
                <a:cubicBezTo>
                  <a:pt x="35" y="33"/>
                  <a:pt x="131" y="133"/>
                  <a:pt x="128" y="192"/>
                </a:cubicBezTo>
                <a:cubicBezTo>
                  <a:pt x="125" y="251"/>
                  <a:pt x="27" y="319"/>
                  <a:pt x="0" y="352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827840" y="4876920"/>
            <a:ext cx="444600" cy="660240"/>
          </a:xfrm>
          <a:custGeom>
            <a:avLst/>
            <a:gdLst/>
            <a:ahLst/>
            <a:rect l="l" t="t" r="r" b="b"/>
            <a:pathLst>
              <a:path w="280" h="416">
                <a:moveTo>
                  <a:pt x="280" y="416"/>
                </a:moveTo>
                <a:cubicBezTo>
                  <a:pt x="245" y="395"/>
                  <a:pt x="119" y="357"/>
                  <a:pt x="72" y="288"/>
                </a:cubicBezTo>
                <a:cubicBezTo>
                  <a:pt x="25" y="219"/>
                  <a:pt x="15" y="60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4876920"/>
            <a:ext cx="747720" cy="685800"/>
          </a:xfrm>
          <a:custGeom>
            <a:avLst/>
            <a:gdLst/>
            <a:ahLst/>
            <a:rect l="l" t="t" r="r" b="b"/>
            <a:pathLst>
              <a:path w="471" h="432">
                <a:moveTo>
                  <a:pt x="19" y="432"/>
                </a:moveTo>
                <a:cubicBezTo>
                  <a:pt x="28" y="396"/>
                  <a:pt x="0" y="288"/>
                  <a:pt x="75" y="216"/>
                </a:cubicBezTo>
                <a:cubicBezTo>
                  <a:pt x="150" y="144"/>
                  <a:pt x="389" y="45"/>
                  <a:pt x="471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61360" y="5181480"/>
            <a:ext cx="279360" cy="406440"/>
          </a:xfrm>
          <a:custGeom>
            <a:avLst/>
            <a:gdLst/>
            <a:ahLst/>
            <a:rect l="l" t="t" r="r" b="b"/>
            <a:pathLst>
              <a:path w="176" h="256">
                <a:moveTo>
                  <a:pt x="176" y="256"/>
                </a:moveTo>
                <a:cubicBezTo>
                  <a:pt x="168" y="239"/>
                  <a:pt x="157" y="203"/>
                  <a:pt x="128" y="160"/>
                </a:cubicBezTo>
                <a:cubicBezTo>
                  <a:pt x="99" y="117"/>
                  <a:pt x="27" y="33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3822840"/>
            <a:ext cx="457200" cy="1206360"/>
          </a:xfrm>
          <a:custGeom>
            <a:avLst/>
            <a:gdLst/>
            <a:ahLst/>
            <a:rect l="l" t="t" r="r" b="b"/>
            <a:pathLst>
              <a:path w="288" h="760">
                <a:moveTo>
                  <a:pt x="288" y="760"/>
                </a:moveTo>
                <a:cubicBezTo>
                  <a:pt x="216" y="652"/>
                  <a:pt x="144" y="544"/>
                  <a:pt x="96" y="472"/>
                </a:cubicBezTo>
                <a:cubicBezTo>
                  <a:pt x="48" y="400"/>
                  <a:pt x="0" y="384"/>
                  <a:pt x="0" y="328"/>
                </a:cubicBezTo>
                <a:cubicBezTo>
                  <a:pt x="0" y="272"/>
                  <a:pt x="64" y="176"/>
                  <a:pt x="96" y="136"/>
                </a:cubicBezTo>
                <a:cubicBezTo>
                  <a:pt x="128" y="96"/>
                  <a:pt x="177" y="111"/>
                  <a:pt x="192" y="88"/>
                </a:cubicBezTo>
                <a:cubicBezTo>
                  <a:pt x="207" y="65"/>
                  <a:pt x="186" y="18"/>
                  <a:pt x="184" y="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12160" y="373392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80" y="48"/>
                </a:moveTo>
                <a:cubicBezTo>
                  <a:pt x="88" y="24"/>
                  <a:pt x="96" y="0"/>
                  <a:pt x="128" y="48"/>
                </a:cubicBezTo>
                <a:cubicBezTo>
                  <a:pt x="160" y="96"/>
                  <a:pt x="288" y="256"/>
                  <a:pt x="272" y="336"/>
                </a:cubicBezTo>
                <a:cubicBezTo>
                  <a:pt x="256" y="416"/>
                  <a:pt x="64" y="464"/>
                  <a:pt x="32" y="528"/>
                </a:cubicBezTo>
                <a:cubicBezTo>
                  <a:pt x="0" y="592"/>
                  <a:pt x="40" y="656"/>
                  <a:pt x="80" y="72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238880" y="48769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cubicBezTo>
                  <a:pt x="8" y="36"/>
                  <a:pt x="16" y="72"/>
                  <a:pt x="48" y="96"/>
                </a:cubicBezTo>
                <a:cubicBezTo>
                  <a:pt x="80" y="120"/>
                  <a:pt x="136" y="132"/>
                  <a:pt x="192" y="14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4838760"/>
            <a:ext cx="38124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68"/>
                </a:moveTo>
                <a:cubicBezTo>
                  <a:pt x="16" y="168"/>
                  <a:pt x="32" y="168"/>
                  <a:pt x="48" y="168"/>
                </a:cubicBezTo>
                <a:cubicBezTo>
                  <a:pt x="64" y="168"/>
                  <a:pt x="72" y="192"/>
                  <a:pt x="96" y="168"/>
                </a:cubicBezTo>
                <a:cubicBezTo>
                  <a:pt x="120" y="144"/>
                  <a:pt x="168" y="48"/>
                  <a:pt x="192" y="24"/>
                </a:cubicBezTo>
                <a:cubicBezTo>
                  <a:pt x="216" y="0"/>
                  <a:pt x="228" y="12"/>
                  <a:pt x="240" y="24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4775040"/>
            <a:ext cx="609480" cy="50832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64"/>
                </a:moveTo>
                <a:cubicBezTo>
                  <a:pt x="8" y="32"/>
                  <a:pt x="16" y="0"/>
                  <a:pt x="48" y="16"/>
                </a:cubicBezTo>
                <a:cubicBezTo>
                  <a:pt x="80" y="32"/>
                  <a:pt x="160" y="112"/>
                  <a:pt x="192" y="160"/>
                </a:cubicBezTo>
                <a:cubicBezTo>
                  <a:pt x="224" y="208"/>
                  <a:pt x="216" y="288"/>
                  <a:pt x="240" y="304"/>
                </a:cubicBezTo>
                <a:cubicBezTo>
                  <a:pt x="264" y="320"/>
                  <a:pt x="312" y="280"/>
                  <a:pt x="336" y="256"/>
                </a:cubicBezTo>
                <a:cubicBezTo>
                  <a:pt x="360" y="232"/>
                  <a:pt x="372" y="196"/>
                  <a:pt x="384" y="160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867280"/>
            <a:ext cx="815364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586728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586728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i * F.s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715000" y="586728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5867280"/>
            <a:ext cx="266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33920" y="12952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 rot="16200000">
            <a:off x="4815720" y="120168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 rot="16200000">
            <a:off x="7482240" y="35643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2895480" y="5257800"/>
            <a:ext cx="3657600" cy="685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638680" y="2209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86728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8954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495680" y="5334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876920" y="2286000"/>
            <a:ext cx="2361960" cy="581400"/>
            <a:chOff x="4876920" y="2286000"/>
            <a:chExt cx="2361960" cy="581400"/>
          </a:xfrm>
        </p:grpSpPr>
        <p:sp>
          <p:nvSpPr>
            <p:cNvPr id="1252" name=""/>
            <p:cNvSpPr/>
            <p:nvPr/>
          </p:nvSpPr>
          <p:spPr>
            <a:xfrm>
              <a:off x="4876920" y="2286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48520" y="22860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R.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 flipV="1">
            <a:off x="6629400" y="18288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94440" y="2819520"/>
            <a:ext cx="1396800" cy="1665000"/>
          </a:xfrm>
          <a:custGeom>
            <a:avLst/>
            <a:gdLst/>
            <a:ahLst/>
            <a:rect l="l" t="t" r="r" b="b"/>
            <a:pathLst>
              <a:path w="880" h="1049">
                <a:moveTo>
                  <a:pt x="0" y="48"/>
                </a:moveTo>
                <a:cubicBezTo>
                  <a:pt x="39" y="95"/>
                  <a:pt x="204" y="199"/>
                  <a:pt x="232" y="328"/>
                </a:cubicBezTo>
                <a:cubicBezTo>
                  <a:pt x="260" y="457"/>
                  <a:pt x="127" y="704"/>
                  <a:pt x="168" y="824"/>
                </a:cubicBezTo>
                <a:cubicBezTo>
                  <a:pt x="209" y="944"/>
                  <a:pt x="376" y="1049"/>
                  <a:pt x="480" y="1048"/>
                </a:cubicBezTo>
                <a:cubicBezTo>
                  <a:pt x="584" y="1047"/>
                  <a:pt x="765" y="935"/>
                  <a:pt x="792" y="816"/>
                </a:cubicBezTo>
                <a:cubicBezTo>
                  <a:pt x="819" y="697"/>
                  <a:pt x="625" y="472"/>
                  <a:pt x="640" y="336"/>
                </a:cubicBezTo>
                <a:cubicBezTo>
                  <a:pt x="655" y="200"/>
                  <a:pt x="830" y="70"/>
                  <a:pt x="88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752480" y="2286000"/>
            <a:ext cx="2692440" cy="1905120"/>
            <a:chOff x="1752480" y="2286000"/>
            <a:chExt cx="2692440" cy="1905120"/>
          </a:xfrm>
        </p:grpSpPr>
        <p:sp>
          <p:nvSpPr>
            <p:cNvPr id="1257" name=""/>
            <p:cNvSpPr/>
            <p:nvPr/>
          </p:nvSpPr>
          <p:spPr>
            <a:xfrm>
              <a:off x="1752480" y="22860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09680" y="34290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514600" y="1739880"/>
            <a:ext cx="2108160" cy="1765440"/>
            <a:chOff x="2514600" y="1739880"/>
            <a:chExt cx="2108160" cy="1765440"/>
          </a:xfrm>
        </p:grpSpPr>
        <p:sp>
          <p:nvSpPr>
            <p:cNvPr id="1260" name=""/>
            <p:cNvSpPr/>
            <p:nvPr/>
          </p:nvSpPr>
          <p:spPr>
            <a:xfrm>
              <a:off x="3218040" y="1739880"/>
              <a:ext cx="1404720" cy="1752480"/>
            </a:xfrm>
            <a:custGeom>
              <a:avLst/>
              <a:gdLst/>
              <a:ahLst/>
              <a:rect l="l" t="t" r="r" b="b"/>
              <a:pathLst>
                <a:path w="885" h="1104">
                  <a:moveTo>
                    <a:pt x="140" y="1104"/>
                  </a:moveTo>
                  <a:cubicBezTo>
                    <a:pt x="156" y="1047"/>
                    <a:pt x="259" y="857"/>
                    <a:pt x="236" y="760"/>
                  </a:cubicBezTo>
                  <a:cubicBezTo>
                    <a:pt x="213" y="663"/>
                    <a:pt x="8" y="631"/>
                    <a:pt x="4" y="520"/>
                  </a:cubicBezTo>
                  <a:cubicBezTo>
                    <a:pt x="0" y="409"/>
                    <a:pt x="66" y="183"/>
                    <a:pt x="213" y="96"/>
                  </a:cubicBezTo>
                  <a:cubicBezTo>
                    <a:pt x="360" y="9"/>
                    <a:pt x="745" y="20"/>
                    <a:pt x="885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200400" y="2971800"/>
              <a:ext cx="393840" cy="52056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14600" y="2590920"/>
              <a:ext cx="723960" cy="838080"/>
            </a:xfrm>
            <a:custGeom>
              <a:avLst/>
              <a:gdLst/>
              <a:ahLst/>
              <a:rect l="l" t="t" r="r" b="b"/>
              <a:pathLst>
                <a:path w="456" h="528">
                  <a:moveTo>
                    <a:pt x="432" y="0"/>
                  </a:moveTo>
                  <a:cubicBezTo>
                    <a:pt x="444" y="28"/>
                    <a:pt x="456" y="56"/>
                    <a:pt x="384" y="144"/>
                  </a:cubicBezTo>
                  <a:cubicBezTo>
                    <a:pt x="312" y="232"/>
                    <a:pt x="156" y="380"/>
                    <a:pt x="0" y="52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2818800" y="3124080"/>
              <a:ext cx="228600" cy="33048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580560" y="320040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4648320" y="1752480"/>
            <a:ext cx="533160" cy="471600"/>
          </a:xfrm>
          <a:custGeom>
            <a:avLst/>
            <a:gdLst/>
            <a:ahLst/>
            <a:rect l="l" t="t" r="r" b="b"/>
            <a:pathLst>
              <a:path w="336" h="297">
                <a:moveTo>
                  <a:pt x="0" y="9"/>
                </a:moveTo>
                <a:cubicBezTo>
                  <a:pt x="0" y="9"/>
                  <a:pt x="1" y="0"/>
                  <a:pt x="48" y="9"/>
                </a:cubicBezTo>
                <a:cubicBezTo>
                  <a:pt x="95" y="18"/>
                  <a:pt x="232" y="17"/>
                  <a:pt x="280" y="65"/>
                </a:cubicBezTo>
                <a:cubicBezTo>
                  <a:pt x="328" y="113"/>
                  <a:pt x="324" y="249"/>
                  <a:pt x="336" y="297"/>
                </a:cubicBezTo>
              </a:path>
            </a:pathLst>
          </a:custGeom>
          <a:noFill/>
          <a:ln w="633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 rot="16200000">
            <a:off x="5729760" y="1735560"/>
            <a:ext cx="5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8580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5334120" y="3200400"/>
            <a:ext cx="3276360" cy="1084320"/>
            <a:chOff x="5334120" y="3200400"/>
            <a:chExt cx="3276360" cy="1084320"/>
          </a:xfrm>
        </p:grpSpPr>
        <p:sp>
          <p:nvSpPr>
            <p:cNvPr id="1269" name=""/>
            <p:cNvSpPr/>
            <p:nvPr/>
          </p:nvSpPr>
          <p:spPr>
            <a:xfrm>
              <a:off x="5334120" y="3581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5638680" y="32004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24480" y="35053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72200" y="32004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200" y="3200400"/>
              <a:ext cx="1828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924680" y="33526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600" y="16002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16002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209320" y="16002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80880" y="2209680"/>
            <a:ext cx="2692440" cy="1905120"/>
            <a:chOff x="380880" y="2209680"/>
            <a:chExt cx="2692440" cy="1905120"/>
          </a:xfrm>
        </p:grpSpPr>
        <p:sp>
          <p:nvSpPr>
            <p:cNvPr id="1281" name=""/>
            <p:cNvSpPr/>
            <p:nvPr/>
          </p:nvSpPr>
          <p:spPr>
            <a:xfrm>
              <a:off x="380880" y="220968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38080" y="33526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1143000" y="2171880"/>
            <a:ext cx="1294920" cy="1257120"/>
            <a:chOff x="1143000" y="2171880"/>
            <a:chExt cx="1294920" cy="1257120"/>
          </a:xfrm>
        </p:grpSpPr>
        <p:sp>
          <p:nvSpPr>
            <p:cNvPr id="1284" name=""/>
            <p:cNvSpPr/>
            <p:nvPr/>
          </p:nvSpPr>
          <p:spPr>
            <a:xfrm>
              <a:off x="1987560" y="217188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28800" y="289548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43000" y="247644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447200" y="304812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208960" y="312408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1066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895480" y="160020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66880" y="1066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205740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666880" y="3200400"/>
            <a:ext cx="2692440" cy="1905120"/>
            <a:chOff x="2666880" y="3200400"/>
            <a:chExt cx="2692440" cy="1905120"/>
          </a:xfrm>
        </p:grpSpPr>
        <p:sp>
          <p:nvSpPr>
            <p:cNvPr id="1294" name=""/>
            <p:cNvSpPr/>
            <p:nvPr/>
          </p:nvSpPr>
          <p:spPr>
            <a:xfrm>
              <a:off x="2666880" y="32004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24080" y="43434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3429000" y="3162240"/>
            <a:ext cx="1294920" cy="1257120"/>
            <a:chOff x="3429000" y="3162240"/>
            <a:chExt cx="1294920" cy="1257120"/>
          </a:xfrm>
        </p:grpSpPr>
        <p:sp>
          <p:nvSpPr>
            <p:cNvPr id="1297" name=""/>
            <p:cNvSpPr/>
            <p:nvPr/>
          </p:nvSpPr>
          <p:spPr>
            <a:xfrm>
              <a:off x="4273560" y="31622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114800" y="38858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429000" y="34668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3733200" y="40384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4494960" y="41144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3581280" y="2209680"/>
            <a:ext cx="76212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286000"/>
            <a:ext cx="3733560" cy="1084320"/>
            <a:chOff x="3048120" y="2286000"/>
            <a:chExt cx="3733560" cy="1084320"/>
          </a:xfrm>
        </p:grpSpPr>
        <p:sp>
          <p:nvSpPr>
            <p:cNvPr id="1304" name=""/>
            <p:cNvSpPr/>
            <p:nvPr/>
          </p:nvSpPr>
          <p:spPr>
            <a:xfrm>
              <a:off x="3048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4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3352680" y="2286000"/>
              <a:ext cx="533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43600" y="2590920"/>
              <a:ext cx="838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38480" y="2590920"/>
              <a:ext cx="838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86200" y="2286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86200" y="2286000"/>
              <a:ext cx="2209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4952880" y="4114800"/>
            <a:ext cx="2692440" cy="1905120"/>
            <a:chOff x="4952880" y="4114800"/>
            <a:chExt cx="2692440" cy="1905120"/>
          </a:xfrm>
        </p:grpSpPr>
        <p:sp>
          <p:nvSpPr>
            <p:cNvPr id="1311" name=""/>
            <p:cNvSpPr/>
            <p:nvPr/>
          </p:nvSpPr>
          <p:spPr>
            <a:xfrm>
              <a:off x="4952880" y="4114800"/>
              <a:ext cx="2692440" cy="1905120"/>
            </a:xfrm>
            <a:custGeom>
              <a:avLst/>
              <a:gdLst/>
              <a:ahLst/>
              <a:rect l="l" t="t" r="r" b="b"/>
              <a:pathLst>
                <a:path w="1696" h="1200">
                  <a:moveTo>
                    <a:pt x="864" y="0"/>
                  </a:moveTo>
                  <a:cubicBezTo>
                    <a:pt x="704" y="168"/>
                    <a:pt x="192" y="816"/>
                    <a:pt x="96" y="1008"/>
                  </a:cubicBezTo>
                  <a:cubicBezTo>
                    <a:pt x="0" y="1200"/>
                    <a:pt x="216" y="1152"/>
                    <a:pt x="288" y="1152"/>
                  </a:cubicBezTo>
                  <a:cubicBezTo>
                    <a:pt x="360" y="1152"/>
                    <a:pt x="448" y="1000"/>
                    <a:pt x="528" y="1008"/>
                  </a:cubicBezTo>
                  <a:cubicBezTo>
                    <a:pt x="608" y="1016"/>
                    <a:pt x="680" y="1200"/>
                    <a:pt x="768" y="1200"/>
                  </a:cubicBezTo>
                  <a:cubicBezTo>
                    <a:pt x="856" y="1200"/>
                    <a:pt x="944" y="1016"/>
                    <a:pt x="1056" y="1008"/>
                  </a:cubicBezTo>
                  <a:cubicBezTo>
                    <a:pt x="1168" y="1000"/>
                    <a:pt x="1344" y="1152"/>
                    <a:pt x="1440" y="1152"/>
                  </a:cubicBezTo>
                  <a:cubicBezTo>
                    <a:pt x="1536" y="1152"/>
                    <a:pt x="1696" y="1200"/>
                    <a:pt x="1632" y="1008"/>
                  </a:cubicBezTo>
                  <a:cubicBezTo>
                    <a:pt x="1568" y="816"/>
                    <a:pt x="1184" y="168"/>
                    <a:pt x="1056" y="0"/>
                  </a:cubicBezTo>
                  <a:lnTo>
                    <a:pt x="86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410080" y="525780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Expressio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715000" y="4076640"/>
            <a:ext cx="1294920" cy="1257120"/>
            <a:chOff x="5715000" y="4076640"/>
            <a:chExt cx="1294920" cy="1257120"/>
          </a:xfrm>
        </p:grpSpPr>
        <p:sp>
          <p:nvSpPr>
            <p:cNvPr id="1314" name=""/>
            <p:cNvSpPr/>
            <p:nvPr/>
          </p:nvSpPr>
          <p:spPr>
            <a:xfrm>
              <a:off x="6559560" y="4076640"/>
              <a:ext cx="425520" cy="1244520"/>
            </a:xfrm>
            <a:custGeom>
              <a:avLst/>
              <a:gdLst/>
              <a:ahLst/>
              <a:rect l="l" t="t" r="r" b="b"/>
              <a:pathLst>
                <a:path w="268" h="784">
                  <a:moveTo>
                    <a:pt x="51" y="784"/>
                  </a:moveTo>
                  <a:cubicBezTo>
                    <a:pt x="67" y="727"/>
                    <a:pt x="153" y="543"/>
                    <a:pt x="147" y="440"/>
                  </a:cubicBezTo>
                  <a:cubicBezTo>
                    <a:pt x="141" y="337"/>
                    <a:pt x="0" y="223"/>
                    <a:pt x="12" y="168"/>
                  </a:cubicBezTo>
                  <a:cubicBezTo>
                    <a:pt x="24" y="113"/>
                    <a:pt x="177" y="140"/>
                    <a:pt x="220" y="112"/>
                  </a:cubicBezTo>
                  <a:cubicBezTo>
                    <a:pt x="263" y="84"/>
                    <a:pt x="258" y="23"/>
                    <a:pt x="268" y="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4800240"/>
              <a:ext cx="393840" cy="520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15000" y="4381200"/>
              <a:ext cx="838080" cy="876240"/>
            </a:xfrm>
            <a:custGeom>
              <a:avLst/>
              <a:gdLst/>
              <a:ahLst/>
              <a:rect l="l" t="t" r="r" b="b"/>
              <a:pathLst>
                <a:path w="528" h="552">
                  <a:moveTo>
                    <a:pt x="528" y="0"/>
                  </a:moveTo>
                  <a:cubicBezTo>
                    <a:pt x="501" y="25"/>
                    <a:pt x="472" y="76"/>
                    <a:pt x="384" y="168"/>
                  </a:cubicBezTo>
                  <a:cubicBezTo>
                    <a:pt x="296" y="260"/>
                    <a:pt x="156" y="404"/>
                    <a:pt x="0" y="552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6019200" y="4952880"/>
              <a:ext cx="228600" cy="3301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6780960" y="5028840"/>
              <a:ext cx="228600" cy="304920"/>
            </a:xfrm>
            <a:custGeom>
              <a:avLst/>
              <a:gdLst/>
              <a:ahLst/>
              <a:rect l="l" t="t" r="r" b="b"/>
              <a:pathLst>
                <a:path w="248" h="208">
                  <a:moveTo>
                    <a:pt x="248" y="0"/>
                  </a:moveTo>
                  <a:cubicBezTo>
                    <a:pt x="217" y="9"/>
                    <a:pt x="105" y="21"/>
                    <a:pt x="64" y="56"/>
                  </a:cubicBezTo>
                  <a:cubicBezTo>
                    <a:pt x="23" y="91"/>
                    <a:pt x="13" y="176"/>
                    <a:pt x="0" y="208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7848720" y="48769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8001000" y="5562720"/>
            <a:ext cx="609480" cy="962280"/>
            <a:chOff x="8001000" y="5562720"/>
            <a:chExt cx="609480" cy="962280"/>
          </a:xfrm>
        </p:grpSpPr>
        <p:sp>
          <p:nvSpPr>
            <p:cNvPr id="1321" name=""/>
            <p:cNvSpPr/>
            <p:nvPr/>
          </p:nvSpPr>
          <p:spPr>
            <a:xfrm>
              <a:off x="8153280" y="55627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01000" y="5943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343400" y="2209680"/>
            <a:ext cx="609480" cy="642600"/>
            <a:chOff x="4343400" y="2209680"/>
            <a:chExt cx="609480" cy="642600"/>
          </a:xfrm>
        </p:grpSpPr>
        <p:sp>
          <p:nvSpPr>
            <p:cNvPr id="1324" name=""/>
            <p:cNvSpPr/>
            <p:nvPr/>
          </p:nvSpPr>
          <p:spPr>
            <a:xfrm>
              <a:off x="4343400" y="23623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343400" y="2209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553080" y="3048120"/>
            <a:ext cx="609840" cy="642600"/>
            <a:chOff x="6553080" y="3048120"/>
            <a:chExt cx="609840" cy="642600"/>
          </a:xfrm>
        </p:grpSpPr>
        <p:sp>
          <p:nvSpPr>
            <p:cNvPr id="1327" name=""/>
            <p:cNvSpPr/>
            <p:nvPr/>
          </p:nvSpPr>
          <p:spPr>
            <a:xfrm>
              <a:off x="6553080" y="3200400"/>
              <a:ext cx="381240" cy="38052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3080" y="3048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 rot="5400000">
            <a:off x="7893360" y="4068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91320" y="3124080"/>
            <a:ext cx="76176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4723920" y="2666520"/>
            <a:ext cx="304920" cy="38124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4280" y="2590920"/>
            <a:ext cx="7621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flipV="1">
            <a:off x="6857640" y="3505320"/>
            <a:ext cx="304920" cy="30456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34320" y="3429000"/>
            <a:ext cx="914400" cy="30492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77240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69080" y="5130720"/>
            <a:ext cx="1105200" cy="1563840"/>
          </a:xfrm>
          <a:custGeom>
            <a:avLst/>
            <a:gdLst/>
            <a:ahLst/>
            <a:rect l="l" t="t" r="r" b="b"/>
            <a:pathLst>
              <a:path w="696" h="985">
                <a:moveTo>
                  <a:pt x="25" y="24"/>
                </a:moveTo>
                <a:cubicBezTo>
                  <a:pt x="40" y="64"/>
                  <a:pt x="102" y="141"/>
                  <a:pt x="105" y="264"/>
                </a:cubicBezTo>
                <a:cubicBezTo>
                  <a:pt x="108" y="387"/>
                  <a:pt x="0" y="640"/>
                  <a:pt x="41" y="760"/>
                </a:cubicBezTo>
                <a:cubicBezTo>
                  <a:pt x="82" y="880"/>
                  <a:pt x="249" y="985"/>
                  <a:pt x="353" y="984"/>
                </a:cubicBezTo>
                <a:cubicBezTo>
                  <a:pt x="457" y="983"/>
                  <a:pt x="634" y="875"/>
                  <a:pt x="665" y="752"/>
                </a:cubicBezTo>
                <a:cubicBezTo>
                  <a:pt x="696" y="629"/>
                  <a:pt x="541" y="373"/>
                  <a:pt x="537" y="248"/>
                </a:cubicBezTo>
                <a:cubicBezTo>
                  <a:pt x="533" y="123"/>
                  <a:pt x="619" y="52"/>
                  <a:pt x="641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610480" y="4343400"/>
            <a:ext cx="0" cy="45720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162920" y="2971800"/>
            <a:ext cx="16128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876920" y="2057400"/>
            <a:ext cx="2070000" cy="78732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648320" y="2743200"/>
            <a:ext cx="2819160" cy="696960"/>
            <a:chOff x="4648320" y="2743200"/>
            <a:chExt cx="2819160" cy="696960"/>
          </a:xfrm>
        </p:grpSpPr>
        <p:sp>
          <p:nvSpPr>
            <p:cNvPr id="1341" name=""/>
            <p:cNvSpPr/>
            <p:nvPr/>
          </p:nvSpPr>
          <p:spPr>
            <a:xfrm>
              <a:off x="4648320" y="2895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34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77120" y="274320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7391520" y="4648320"/>
            <a:ext cx="1600200" cy="544680"/>
            <a:chOff x="7391520" y="4648320"/>
            <a:chExt cx="1600200" cy="544680"/>
          </a:xfrm>
        </p:grpSpPr>
        <p:sp>
          <p:nvSpPr>
            <p:cNvPr id="1345" name=""/>
            <p:cNvSpPr/>
            <p:nvPr/>
          </p:nvSpPr>
          <p:spPr>
            <a:xfrm>
              <a:off x="7391520" y="46483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53280" y="4648320"/>
              <a:ext cx="838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i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2133720" y="1143000"/>
            <a:ext cx="3047760" cy="1154160"/>
            <a:chOff x="2133720" y="1143000"/>
            <a:chExt cx="3047760" cy="1154160"/>
          </a:xfrm>
        </p:grpSpPr>
        <p:sp>
          <p:nvSpPr>
            <p:cNvPr id="1348" name=""/>
            <p:cNvSpPr/>
            <p:nvPr/>
          </p:nvSpPr>
          <p:spPr>
            <a:xfrm>
              <a:off x="21337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48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91120" y="175248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48120" y="114300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.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3657600" y="1371600"/>
            <a:ext cx="990720" cy="457200"/>
          </a:xfrm>
          <a:custGeom>
            <a:avLst/>
            <a:gdLst/>
            <a:ahLst/>
            <a:rect l="l" t="t" r="r" b="b"/>
            <a:pathLst>
              <a:path w="1016" h="496">
                <a:moveTo>
                  <a:pt x="912" y="480"/>
                </a:moveTo>
                <a:cubicBezTo>
                  <a:pt x="916" y="488"/>
                  <a:pt x="920" y="496"/>
                  <a:pt x="912" y="432"/>
                </a:cubicBezTo>
                <a:cubicBezTo>
                  <a:pt x="904" y="368"/>
                  <a:pt x="1016" y="168"/>
                  <a:pt x="864" y="96"/>
                </a:cubicBezTo>
                <a:cubicBezTo>
                  <a:pt x="712" y="24"/>
                  <a:pt x="356" y="12"/>
                  <a:pt x="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6934320" y="3581280"/>
            <a:ext cx="2209680" cy="697320"/>
            <a:chOff x="6934320" y="3581280"/>
            <a:chExt cx="2209680" cy="697320"/>
          </a:xfrm>
        </p:grpSpPr>
        <p:sp>
          <p:nvSpPr>
            <p:cNvPr id="1354" name=""/>
            <p:cNvSpPr/>
            <p:nvPr/>
          </p:nvSpPr>
          <p:spPr>
            <a:xfrm>
              <a:off x="6934320" y="3733920"/>
              <a:ext cx="990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5438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58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Expressions</a:t>
            </a:r>
            <a:r>
              <a:rPr b="0" lang="cs-CZ" sz="41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1295280"/>
            <a:ext cx="7772400" cy="387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Q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T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5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*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3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6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.i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7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8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F.s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3276720"/>
            <a:ext cx="236196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3276720"/>
            <a:ext cx="2361960" cy="325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39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Intermediate Code: Three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Address Co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066680"/>
            <a:ext cx="815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truction in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thre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code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as the for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600200"/>
            <a:ext cx="6172200" cy="696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a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b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cs-CZ" sz="4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GB" sz="4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438280"/>
            <a:ext cx="7775640" cy="1847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operator     (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*,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1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perand 2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esul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ddress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3434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94120"/>
            <a:ext cx="7772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: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 , c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 a, b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 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 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 = tru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go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b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L1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1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18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3276720"/>
            <a:ext cx="2361960" cy="341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39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3276720"/>
            <a:ext cx="2361960" cy="3372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 :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81280" y="3276720"/>
            <a:ext cx="2362320" cy="302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6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4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4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62120" y="3276720"/>
            <a:ext cx="2361960" cy="3332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4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0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0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762120" y="2286000"/>
            <a:ext cx="6248160" cy="4282920"/>
            <a:chOff x="762120" y="2286000"/>
            <a:chExt cx="6248160" cy="4282920"/>
          </a:xfrm>
        </p:grpSpPr>
        <p:sp>
          <p:nvSpPr>
            <p:cNvPr id="1512" name=""/>
            <p:cNvSpPr/>
            <p:nvPr/>
          </p:nvSpPr>
          <p:spPr>
            <a:xfrm>
              <a:off x="762120" y="3276720"/>
              <a:ext cx="236196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905120" y="2286000"/>
              <a:ext cx="297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29400" y="48769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3276720"/>
            <a:ext cx="2361960" cy="3292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762120" y="3276720"/>
            <a:ext cx="5181480" cy="3251880"/>
            <a:chOff x="762120" y="3276720"/>
            <a:chExt cx="5181480" cy="3251880"/>
          </a:xfrm>
        </p:grpSpPr>
        <p:sp>
          <p:nvSpPr>
            <p:cNvPr id="1526" name=""/>
            <p:cNvSpPr/>
            <p:nvPr/>
          </p:nvSpPr>
          <p:spPr>
            <a:xfrm>
              <a:off x="762120" y="3276720"/>
              <a:ext cx="236232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35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40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45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48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62120" y="3276720"/>
            <a:ext cx="6400800" cy="3211560"/>
            <a:chOff x="762120" y="3276720"/>
            <a:chExt cx="6400800" cy="3211560"/>
          </a:xfrm>
        </p:grpSpPr>
        <p:sp>
          <p:nvSpPr>
            <p:cNvPr id="1554" name=""/>
            <p:cNvSpPr/>
            <p:nvPr/>
          </p:nvSpPr>
          <p:spPr>
            <a:xfrm>
              <a:off x="762120" y="3276720"/>
              <a:ext cx="2361960" cy="3211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7010280" y="4038480"/>
              <a:ext cx="15264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62120" y="2286000"/>
            <a:ext cx="7543800" cy="4161960"/>
            <a:chOff x="762120" y="2286000"/>
            <a:chExt cx="7543800" cy="4161960"/>
          </a:xfrm>
        </p:grpSpPr>
        <p:sp>
          <p:nvSpPr>
            <p:cNvPr id="1558" name=""/>
            <p:cNvSpPr/>
            <p:nvPr/>
          </p:nvSpPr>
          <p:spPr>
            <a:xfrm>
              <a:off x="1752480" y="2286000"/>
              <a:ext cx="655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62120" y="3276720"/>
              <a:ext cx="2361960" cy="317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162920" y="38862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578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58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58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59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59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/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62120" y="3276720"/>
            <a:ext cx="2361960" cy="3264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21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26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31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34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4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0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66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66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67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67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68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690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2120" y="3276720"/>
            <a:ext cx="2361960" cy="335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" y="16765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12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17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22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27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30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33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41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3276720"/>
            <a:ext cx="2361960" cy="338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.valu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763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768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773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778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781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784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79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2438280"/>
            <a:ext cx="213372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Generation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3A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600200"/>
            <a:ext cx="79246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ser directs the creation of 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stract-syntax tre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A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352680"/>
            <a:ext cx="77724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 directs the creation of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stfix not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P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hich is then convert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05520"/>
            <a:ext cx="8001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ser directs the crea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152424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590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438280"/>
            <a:ext cx="1523880" cy="838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666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5909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2895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289548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66688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191120"/>
            <a:ext cx="2133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911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3434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1911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4197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3434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46483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4648320"/>
            <a:ext cx="584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197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5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562720"/>
            <a:ext cx="152424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562720"/>
            <a:ext cx="1523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7913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5791320"/>
            <a:ext cx="380880" cy="4572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62120" y="3276720"/>
            <a:ext cx="2361960" cy="334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1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1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2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2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3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35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2120" y="2209680"/>
            <a:ext cx="7391160" cy="4371840"/>
            <a:chOff x="762120" y="2209680"/>
            <a:chExt cx="7391160" cy="4371840"/>
          </a:xfrm>
        </p:grpSpPr>
        <p:sp>
          <p:nvSpPr>
            <p:cNvPr id="1844" name=""/>
            <p:cNvSpPr/>
            <p:nvPr/>
          </p:nvSpPr>
          <p:spPr>
            <a:xfrm>
              <a:off x="762120" y="3276720"/>
              <a:ext cx="2361960" cy="3304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2480" y="2209680"/>
              <a:ext cx="381024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.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72400" y="5181480"/>
              <a:ext cx="380880" cy="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84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3276720"/>
            <a:ext cx="2361960" cy="3304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i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581280" y="3276720"/>
            <a:ext cx="2362320" cy="3056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62120" y="3276720"/>
            <a:ext cx="5181480" cy="3292200"/>
            <a:chOff x="762120" y="3276720"/>
            <a:chExt cx="5181480" cy="3292200"/>
          </a:xfrm>
        </p:grpSpPr>
        <p:sp>
          <p:nvSpPr>
            <p:cNvPr id="1865" name=""/>
            <p:cNvSpPr/>
            <p:nvPr/>
          </p:nvSpPr>
          <p:spPr>
            <a:xfrm>
              <a:off x="762120" y="3276720"/>
              <a:ext cx="2362320" cy="329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581640" y="3276720"/>
              <a:ext cx="236196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87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87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88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88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89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89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89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762120" y="3276720"/>
            <a:ext cx="7467120" cy="3251880"/>
            <a:chOff x="762120" y="3276720"/>
            <a:chExt cx="7467120" cy="3251880"/>
          </a:xfrm>
        </p:grpSpPr>
        <p:sp>
          <p:nvSpPr>
            <p:cNvPr id="1908" name=""/>
            <p:cNvSpPr/>
            <p:nvPr/>
          </p:nvSpPr>
          <p:spPr>
            <a:xfrm>
              <a:off x="762120" y="3276720"/>
              <a:ext cx="2361960" cy="3251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i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 + 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2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81280" y="3276720"/>
              <a:ext cx="2362320" cy="3056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cs-CZ" sz="24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 flipV="1">
              <a:off x="7924320" y="4723920"/>
              <a:ext cx="304920" cy="304920"/>
            </a:xfrm>
            <a:prstGeom prst="line">
              <a:avLst/>
            </a:prstGeom>
            <a:ln w="572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12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5800" y="2209680"/>
            <a:ext cx="769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34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1939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1944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1949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1952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1955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1958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1969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valuation of Expressions: Example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6/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for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276720"/>
            <a:ext cx="2361960" cy="3187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.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94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ser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581280" y="3276720"/>
            <a:ext cx="2362320" cy="3040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85800" y="1676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220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762120" y="3276720"/>
            <a:ext cx="5181480" cy="3122280"/>
            <a:chOff x="762120" y="3276720"/>
            <a:chExt cx="5181480" cy="3122280"/>
          </a:xfrm>
        </p:grpSpPr>
        <p:sp>
          <p:nvSpPr>
            <p:cNvPr id="1988" name=""/>
            <p:cNvSpPr/>
            <p:nvPr/>
          </p:nvSpPr>
          <p:spPr>
            <a:xfrm>
              <a:off x="762120" y="3276720"/>
              <a:ext cx="2362320" cy="312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81640" y="3276720"/>
              <a:ext cx="236196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2388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2388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172200" y="5867280"/>
            <a:ext cx="6094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934320" y="5867280"/>
            <a:ext cx="380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6781680" y="3581280"/>
            <a:ext cx="1524240" cy="586440"/>
            <a:chOff x="6781680" y="3581280"/>
            <a:chExt cx="1524240" cy="586440"/>
          </a:xfrm>
        </p:grpSpPr>
        <p:sp>
          <p:nvSpPr>
            <p:cNvPr id="1997" name=""/>
            <p:cNvSpPr/>
            <p:nvPr/>
          </p:nvSpPr>
          <p:spPr>
            <a:xfrm>
              <a:off x="678168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772400" y="36576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7086240" y="3581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391520" y="35812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7467480" y="4724280"/>
            <a:ext cx="1067040" cy="738720"/>
            <a:chOff x="7467480" y="4724280"/>
            <a:chExt cx="1067040" cy="738720"/>
          </a:xfrm>
        </p:grpSpPr>
        <p:sp>
          <p:nvSpPr>
            <p:cNvPr id="2002" name=""/>
            <p:cNvSpPr/>
            <p:nvPr/>
          </p:nvSpPr>
          <p:spPr>
            <a:xfrm>
              <a:off x="746748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001000" y="4952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696080" y="472428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48720" y="4724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324480" y="4038480"/>
            <a:ext cx="1067040" cy="1119960"/>
            <a:chOff x="6324480" y="4038480"/>
            <a:chExt cx="1067040" cy="1119960"/>
          </a:xfrm>
        </p:grpSpPr>
        <p:sp>
          <p:nvSpPr>
            <p:cNvPr id="2007" name=""/>
            <p:cNvSpPr/>
            <p:nvPr/>
          </p:nvSpPr>
          <p:spPr>
            <a:xfrm>
              <a:off x="632448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858000" y="46483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6552720" y="40384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934320" y="4038480"/>
              <a:ext cx="1522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6324480" y="5105520"/>
            <a:ext cx="533520" cy="814680"/>
            <a:chOff x="6324480" y="5105520"/>
            <a:chExt cx="533520" cy="814680"/>
          </a:xfrm>
        </p:grpSpPr>
        <p:sp>
          <p:nvSpPr>
            <p:cNvPr id="2012" name=""/>
            <p:cNvSpPr/>
            <p:nvPr/>
          </p:nvSpPr>
          <p:spPr>
            <a:xfrm>
              <a:off x="632448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477120" y="5105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934320" y="5029200"/>
            <a:ext cx="457200" cy="536040"/>
            <a:chOff x="6934320" y="5029200"/>
            <a:chExt cx="457200" cy="536040"/>
          </a:xfrm>
        </p:grpSpPr>
        <p:sp>
          <p:nvSpPr>
            <p:cNvPr id="2015" name=""/>
            <p:cNvSpPr/>
            <p:nvPr/>
          </p:nvSpPr>
          <p:spPr>
            <a:xfrm>
              <a:off x="69343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866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8458200" y="4648320"/>
            <a:ext cx="457200" cy="535680"/>
            <a:chOff x="8458200" y="4648320"/>
            <a:chExt cx="457200" cy="535680"/>
          </a:xfrm>
        </p:grpSpPr>
        <p:sp>
          <p:nvSpPr>
            <p:cNvPr id="2018" name=""/>
            <p:cNvSpPr/>
            <p:nvPr/>
          </p:nvSpPr>
          <p:spPr>
            <a:xfrm>
              <a:off x="8458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610480" y="4648320"/>
              <a:ext cx="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8077320" y="5334120"/>
            <a:ext cx="457200" cy="535680"/>
            <a:chOff x="8077320" y="5334120"/>
            <a:chExt cx="457200" cy="535680"/>
          </a:xfrm>
        </p:grpSpPr>
        <p:sp>
          <p:nvSpPr>
            <p:cNvPr id="2021" name=""/>
            <p:cNvSpPr/>
            <p:nvPr/>
          </p:nvSpPr>
          <p:spPr>
            <a:xfrm>
              <a:off x="807732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229600" y="5334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6934320" y="4114440"/>
            <a:ext cx="1981080" cy="1831680"/>
            <a:chOff x="6934320" y="4114440"/>
            <a:chExt cx="1981080" cy="1831680"/>
          </a:xfrm>
        </p:grpSpPr>
        <p:sp>
          <p:nvSpPr>
            <p:cNvPr id="2024" name=""/>
            <p:cNvSpPr/>
            <p:nvPr/>
          </p:nvSpPr>
          <p:spPr>
            <a:xfrm>
              <a:off x="7772400" y="434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381880" y="41911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7924680" y="41144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 flipV="1">
              <a:off x="8001000" y="4114440"/>
              <a:ext cx="5335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162920" y="4114800"/>
              <a:ext cx="8380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3432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7543800" y="5257800"/>
            <a:ext cx="533520" cy="662400"/>
            <a:chOff x="7543800" y="5257800"/>
            <a:chExt cx="533520" cy="662400"/>
          </a:xfrm>
        </p:grpSpPr>
        <p:sp>
          <p:nvSpPr>
            <p:cNvPr id="2031" name=""/>
            <p:cNvSpPr/>
            <p:nvPr/>
          </p:nvSpPr>
          <p:spPr>
            <a:xfrm>
              <a:off x="7543800" y="54100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i</a:t>
              </a:r>
              <a:r>
                <a:rPr b="1" lang="cs-CZ" sz="24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96080" y="5257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3" name=""/>
          <p:cNvSpPr/>
          <p:nvPr/>
        </p:nvSpPr>
        <p:spPr>
          <a:xfrm>
            <a:off x="67057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6400800" y="5029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629400" y="48769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010280" y="4038480"/>
            <a:ext cx="1526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162920" y="388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7620120" y="5257440"/>
            <a:ext cx="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7924320" y="4723920"/>
            <a:ext cx="304920" cy="30492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77320" y="4064040"/>
            <a:ext cx="461880" cy="361800"/>
          </a:xfrm>
          <a:custGeom>
            <a:avLst/>
            <a:gdLst/>
            <a:ahLst/>
            <a:rect l="l" t="t" r="r" b="b"/>
            <a:pathLst>
              <a:path w="291" h="228">
                <a:moveTo>
                  <a:pt x="0" y="0"/>
                </a:moveTo>
                <a:cubicBezTo>
                  <a:pt x="20" y="29"/>
                  <a:pt x="66" y="139"/>
                  <a:pt x="111" y="176"/>
                </a:cubicBezTo>
                <a:cubicBezTo>
                  <a:pt x="156" y="213"/>
                  <a:pt x="249" y="220"/>
                  <a:pt x="270" y="224"/>
                </a:cubicBezTo>
                <a:cubicBezTo>
                  <a:pt x="291" y="228"/>
                  <a:pt x="246" y="205"/>
                  <a:pt x="240" y="20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8051760" y="4362480"/>
            <a:ext cx="304920" cy="222120"/>
          </a:xfrm>
          <a:custGeom>
            <a:avLst/>
            <a:gdLst/>
            <a:ahLst/>
            <a:rect l="l" t="t" r="r" b="b"/>
            <a:pathLst>
              <a:path w="192" h="140">
                <a:moveTo>
                  <a:pt x="0" y="140"/>
                </a:moveTo>
                <a:cubicBezTo>
                  <a:pt x="12" y="124"/>
                  <a:pt x="56" y="40"/>
                  <a:pt x="88" y="20"/>
                </a:cubicBezTo>
                <a:cubicBezTo>
                  <a:pt x="120" y="0"/>
                  <a:pt x="170" y="20"/>
                  <a:pt x="192" y="20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0773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62120" y="3276720"/>
            <a:ext cx="7848360" cy="3081960"/>
            <a:chOff x="762120" y="3276720"/>
            <a:chExt cx="7848360" cy="3081960"/>
          </a:xfrm>
        </p:grpSpPr>
        <p:sp>
          <p:nvSpPr>
            <p:cNvPr id="2045" name=""/>
            <p:cNvSpPr/>
            <p:nvPr/>
          </p:nvSpPr>
          <p:spPr>
            <a:xfrm>
              <a:off x="762120" y="3276720"/>
              <a:ext cx="2361960" cy="30819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:= 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.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81280" y="3276720"/>
              <a:ext cx="2362320" cy="3040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 flipV="1">
              <a:off x="8153280" y="38858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62120" y="3276720"/>
            <a:ext cx="7162560" cy="3041640"/>
            <a:chOff x="762120" y="3276720"/>
            <a:chExt cx="7162560" cy="3041640"/>
          </a:xfrm>
        </p:grpSpPr>
        <p:sp>
          <p:nvSpPr>
            <p:cNvPr id="2049" name=""/>
            <p:cNvSpPr/>
            <p:nvPr/>
          </p:nvSpPr>
          <p:spPr>
            <a:xfrm>
              <a:off x="762120" y="3276720"/>
              <a:ext cx="2361960" cy="3041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81280" y="3276720"/>
              <a:ext cx="2362320" cy="2999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7467480" y="3428640"/>
              <a:ext cx="457200" cy="304920"/>
            </a:xfrm>
            <a:prstGeom prst="line">
              <a:avLst/>
            </a:prstGeom>
            <a:ln w="5724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4419720" y="1295280"/>
            <a:ext cx="4038480" cy="10670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mantic Analysis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he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74320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743200" y="1143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590920" y="3581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71800" y="1676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0948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19720" y="1295280"/>
            <a:ext cx="2971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: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361960" y="32004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8580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895480" y="3200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895480" y="320040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276720" y="365760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447920" y="114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47920" y="2666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4343400"/>
            <a:ext cx="33526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defined over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419720" y="2666880"/>
            <a:ext cx="403848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419720" y="2666880"/>
            <a:ext cx="40384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is convertable to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type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emantic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4267080"/>
            <a:ext cx="7848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:=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o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76212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85800" y="5029200"/>
            <a:ext cx="7467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76212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09480" y="11430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 type-checking for a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85800" y="556272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6212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85800" y="6095880"/>
            <a:ext cx="7543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yp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76212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447920" y="2743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334120" y="2514600"/>
            <a:ext cx="3047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562720" y="281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ecking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09480" y="1219320"/>
            <a:ext cx="815364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ew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nt-to-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*,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609480" y="3124080"/>
            <a:ext cx="77724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ort Evaluation (Jumping Cod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09480" y="1143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09480" y="1600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0948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mplies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09480" y="2514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…   ?   …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not evalu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hort Evaluation: Graphic Re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743200" y="20574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2004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60020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37160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09880" y="4952880"/>
            <a:ext cx="121932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581280" y="29718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43200" y="38862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3568680"/>
            <a:ext cx="652320" cy="1346400"/>
          </a:xfrm>
          <a:custGeom>
            <a:avLst/>
            <a:gdLst/>
            <a:ahLst/>
            <a:rect l="l" t="t" r="r" b="b"/>
            <a:pathLst>
              <a:path w="411" h="848">
                <a:moveTo>
                  <a:pt x="0" y="0"/>
                </a:moveTo>
                <a:cubicBezTo>
                  <a:pt x="57" y="64"/>
                  <a:pt x="277" y="243"/>
                  <a:pt x="344" y="384"/>
                </a:cubicBezTo>
                <a:cubicBezTo>
                  <a:pt x="411" y="525"/>
                  <a:pt x="388" y="751"/>
                  <a:pt x="400" y="8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8760" y="2438280"/>
            <a:ext cx="1157040" cy="2476800"/>
          </a:xfrm>
          <a:custGeom>
            <a:avLst/>
            <a:gdLst/>
            <a:ahLst/>
            <a:rect l="l" t="t" r="r" b="b"/>
            <a:pathLst>
              <a:path w="729" h="1560">
                <a:moveTo>
                  <a:pt x="729" y="0"/>
                </a:moveTo>
                <a:cubicBezTo>
                  <a:pt x="626" y="79"/>
                  <a:pt x="226" y="212"/>
                  <a:pt x="113" y="472"/>
                </a:cubicBezTo>
                <a:cubicBezTo>
                  <a:pt x="0" y="732"/>
                  <a:pt x="62" y="1333"/>
                  <a:pt x="49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343400" y="3352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670200" y="2425680"/>
            <a:ext cx="43200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0" y="0"/>
                </a:moveTo>
                <a:cubicBezTo>
                  <a:pt x="33" y="19"/>
                  <a:pt x="155" y="55"/>
                  <a:pt x="200" y="112"/>
                </a:cubicBezTo>
                <a:cubicBezTo>
                  <a:pt x="245" y="169"/>
                  <a:pt x="257" y="296"/>
                  <a:pt x="272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590920" y="320040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57600" y="40384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tr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38480" y="220968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05120" y="40384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fal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5867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of this graphic representation by 3AC j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5334120" y="1676520"/>
            <a:ext cx="3124080" cy="4038480"/>
            <a:chOff x="5334120" y="1676520"/>
            <a:chExt cx="3124080" cy="4038480"/>
          </a:xfrm>
        </p:grpSpPr>
        <p:sp>
          <p:nvSpPr>
            <p:cNvPr id="2123" name=""/>
            <p:cNvSpPr/>
            <p:nvPr/>
          </p:nvSpPr>
          <p:spPr>
            <a:xfrm>
              <a:off x="6019920" y="1676520"/>
              <a:ext cx="2438280" cy="4038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34120" y="2819520"/>
              <a:ext cx="60948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340080" y="3429000"/>
            <a:ext cx="317520" cy="457200"/>
          </a:xfrm>
          <a:custGeom>
            <a:avLst/>
            <a:gdLst/>
            <a:ahLst/>
            <a:rect l="l" t="t" r="r" b="b"/>
            <a:pathLst>
              <a:path w="200" h="288">
                <a:moveTo>
                  <a:pt x="200" y="0"/>
                </a:moveTo>
                <a:cubicBezTo>
                  <a:pt x="172" y="13"/>
                  <a:pt x="64" y="32"/>
                  <a:pt x="32" y="80"/>
                </a:cubicBezTo>
                <a:cubicBezTo>
                  <a:pt x="0" y="128"/>
                  <a:pt x="13" y="245"/>
                  <a:pt x="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286000" y="4419720"/>
            <a:ext cx="59364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3504600" y="4419720"/>
            <a:ext cx="609480" cy="533160"/>
          </a:xfrm>
          <a:custGeom>
            <a:avLst/>
            <a:gdLst/>
            <a:ahLst/>
            <a:rect l="l" t="t" r="r" b="b"/>
            <a:pathLst>
              <a:path w="230" h="384">
                <a:moveTo>
                  <a:pt x="230" y="0"/>
                </a:moveTo>
                <a:cubicBezTo>
                  <a:pt x="201" y="17"/>
                  <a:pt x="92" y="40"/>
                  <a:pt x="54" y="104"/>
                </a:cubicBezTo>
                <a:cubicBezTo>
                  <a:pt x="16" y="168"/>
                  <a:pt x="11" y="326"/>
                  <a:pt x="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rom a Parse Tree (PT) to an AST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2590920"/>
            <a:ext cx="83844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100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55272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403848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297180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5053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77204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Short Evaluation Using AST: 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14600" y="1752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3276720" y="3048120"/>
            <a:ext cx="7617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733920" y="25909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76920" y="327672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743200" y="220968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128600" y="3956040"/>
            <a:ext cx="5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1487520" y="2209680"/>
            <a:ext cx="1255680" cy="17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952880" y="38862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181480" y="3733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038480" y="30481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55880" y="3060720"/>
            <a:ext cx="1270080" cy="1612800"/>
          </a:xfrm>
          <a:custGeom>
            <a:avLst/>
            <a:gdLst/>
            <a:ahLst/>
            <a:rect l="l" t="t" r="r" b="b"/>
            <a:pathLst>
              <a:path w="800" h="1016">
                <a:moveTo>
                  <a:pt x="0" y="1016"/>
                </a:moveTo>
                <a:cubicBezTo>
                  <a:pt x="49" y="900"/>
                  <a:pt x="163" y="489"/>
                  <a:pt x="296" y="320"/>
                </a:cubicBezTo>
                <a:cubicBezTo>
                  <a:pt x="429" y="151"/>
                  <a:pt x="695" y="67"/>
                  <a:pt x="80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971800" y="39625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276720" y="281952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495680" y="3429000"/>
            <a:ext cx="455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33520" y="4419720"/>
            <a:ext cx="5790960" cy="703080"/>
            <a:chOff x="533520" y="4419720"/>
            <a:chExt cx="5790960" cy="703080"/>
          </a:xfrm>
        </p:grpSpPr>
        <p:sp>
          <p:nvSpPr>
            <p:cNvPr id="2149" name=""/>
            <p:cNvSpPr/>
            <p:nvPr/>
          </p:nvSpPr>
          <p:spPr>
            <a:xfrm>
              <a:off x="5335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3716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9144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71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43828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27672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672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19720" y="45720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tru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57800" y="4572000"/>
              <a:ext cx="106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66ff"/>
                  </a:solidFill>
                  <a:latin typeface="Times New Roman"/>
                </a:rPr>
                <a:t>fals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8006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57800" y="4419720"/>
              <a:ext cx="38088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609480" y="1752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3695760"/>
            <a:ext cx="1397160" cy="1042920"/>
          </a:xfrm>
          <a:custGeom>
            <a:avLst/>
            <a:gdLst/>
            <a:ahLst/>
            <a:rect l="l" t="t" r="r" b="b"/>
            <a:pathLst>
              <a:path w="880" h="657">
                <a:moveTo>
                  <a:pt x="0" y="657"/>
                </a:moveTo>
                <a:cubicBezTo>
                  <a:pt x="71" y="566"/>
                  <a:pt x="277" y="222"/>
                  <a:pt x="424" y="112"/>
                </a:cubicBezTo>
                <a:cubicBezTo>
                  <a:pt x="571" y="2"/>
                  <a:pt x="785" y="23"/>
                  <a:pt x="88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733920" y="5029200"/>
            <a:ext cx="45720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4647960" y="5029200"/>
            <a:ext cx="15228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1066680" y="5486400"/>
            <a:ext cx="4038840" cy="581400"/>
            <a:chOff x="1066680" y="5486400"/>
            <a:chExt cx="4038840" cy="581400"/>
          </a:xfrm>
        </p:grpSpPr>
        <p:sp>
          <p:nvSpPr>
            <p:cNvPr id="2167" name=""/>
            <p:cNvSpPr/>
            <p:nvPr/>
          </p:nvSpPr>
          <p:spPr>
            <a:xfrm>
              <a:off x="106668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Tru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486400"/>
              <a:ext cx="14479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False: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2021040" y="5105520"/>
            <a:ext cx="3701880" cy="1341360"/>
          </a:xfrm>
          <a:custGeom>
            <a:avLst/>
            <a:gdLst/>
            <a:ahLst/>
            <a:rect l="l" t="t" r="r" b="b"/>
            <a:pathLst>
              <a:path w="2332" h="845">
                <a:moveTo>
                  <a:pt x="2231" y="0"/>
                </a:moveTo>
                <a:cubicBezTo>
                  <a:pt x="2195" y="119"/>
                  <a:pt x="2332" y="579"/>
                  <a:pt x="2015" y="712"/>
                </a:cubicBezTo>
                <a:cubicBezTo>
                  <a:pt x="1698" y="845"/>
                  <a:pt x="654" y="813"/>
                  <a:pt x="327" y="800"/>
                </a:cubicBezTo>
                <a:cubicBezTo>
                  <a:pt x="0" y="787"/>
                  <a:pt x="111" y="667"/>
                  <a:pt x="55" y="632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0" name=""/>
          <p:cNvGrpSpPr/>
          <p:nvPr/>
        </p:nvGrpSpPr>
        <p:grpSpPr>
          <a:xfrm>
            <a:off x="5410080" y="1752480"/>
            <a:ext cx="3276720" cy="4038840"/>
            <a:chOff x="5410080" y="1752480"/>
            <a:chExt cx="3276720" cy="4038840"/>
          </a:xfrm>
        </p:grpSpPr>
        <p:sp>
          <p:nvSpPr>
            <p:cNvPr id="2171" name=""/>
            <p:cNvSpPr/>
            <p:nvPr/>
          </p:nvSpPr>
          <p:spPr>
            <a:xfrm>
              <a:off x="6248520" y="1752480"/>
              <a:ext cx="2438280" cy="403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cs-CZ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10080" y="2438280"/>
              <a:ext cx="68580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 Using AST: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09480" y="11430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very AST node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 has assigned two attributes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0948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mentary AS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90720" y="3581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828800" y="25909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05740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1294920" y="3048120"/>
            <a:ext cx="7621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51460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3352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057400" y="403848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438280" y="2286000"/>
            <a:ext cx="762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133720" y="3352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1148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495288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257800" y="3124080"/>
            <a:ext cx="9907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4419720" y="3124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5943600" y="3657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733920" y="403848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10080" y="4038480"/>
            <a:ext cx="1905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5791320" y="228600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638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731520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960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467480" y="3581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238880" y="4038480"/>
            <a:ext cx="167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8001000" y="2209680"/>
            <a:ext cx="91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609480" y="2133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657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086600" y="2133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657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086600" y="2286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33520" y="4800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520" y="5257800"/>
            <a:ext cx="83055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root of AST,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Tr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Fal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label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 are propagated from root to le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ST using rule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09880" y="4800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ne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609480" y="5486400"/>
            <a:ext cx="78487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Short Evaluation Using AST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09480" y="11430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514600" y="1828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3657600" y="31240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2666880"/>
            <a:ext cx="67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638680" y="3505320"/>
            <a:ext cx="6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743200" y="2286000"/>
            <a:ext cx="1676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143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1447920" y="2286000"/>
            <a:ext cx="12952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715000" y="41911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94360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495680" y="31240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29000" y="41911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733920" y="2666880"/>
            <a:ext cx="45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181480" y="3505320"/>
            <a:ext cx="455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094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8120" y="1676520"/>
            <a:ext cx="1523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5800" y="4572000"/>
            <a:ext cx="1447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981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048120" y="457200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49568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334120" y="4572000"/>
            <a:ext cx="160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934320" y="1447920"/>
            <a:ext cx="1600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876920" y="2514600"/>
            <a:ext cx="1828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47712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248520" y="3429000"/>
            <a:ext cx="228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800100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7315200" y="5715000"/>
            <a:ext cx="1143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"/>
          <p:cNvGrpSpPr/>
          <p:nvPr/>
        </p:nvGrpSpPr>
        <p:grpSpPr>
          <a:xfrm>
            <a:off x="3048120" y="5257800"/>
            <a:ext cx="2286000" cy="1346400"/>
            <a:chOff x="3048120" y="5257800"/>
            <a:chExt cx="2286000" cy="1346400"/>
          </a:xfrm>
        </p:grpSpPr>
        <p:sp>
          <p:nvSpPr>
            <p:cNvPr id="2246" name=""/>
            <p:cNvSpPr/>
            <p:nvPr/>
          </p:nvSpPr>
          <p:spPr>
            <a:xfrm>
              <a:off x="3048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581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762120" y="5257800"/>
            <a:ext cx="1981080" cy="1310040"/>
            <a:chOff x="762120" y="5257800"/>
            <a:chExt cx="1981080" cy="1310040"/>
          </a:xfrm>
        </p:grpSpPr>
        <p:sp>
          <p:nvSpPr>
            <p:cNvPr id="2249" name=""/>
            <p:cNvSpPr/>
            <p:nvPr/>
          </p:nvSpPr>
          <p:spPr>
            <a:xfrm>
              <a:off x="762120" y="5791320"/>
              <a:ext cx="19810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21932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1" name=""/>
          <p:cNvGrpSpPr/>
          <p:nvPr/>
        </p:nvGrpSpPr>
        <p:grpSpPr>
          <a:xfrm>
            <a:off x="5334120" y="5257800"/>
            <a:ext cx="2286000" cy="1346400"/>
            <a:chOff x="5334120" y="5257800"/>
            <a:chExt cx="2286000" cy="1346400"/>
          </a:xfrm>
        </p:grpSpPr>
        <p:sp>
          <p:nvSpPr>
            <p:cNvPr id="2252" name=""/>
            <p:cNvSpPr/>
            <p:nvPr/>
          </p:nvSpPr>
          <p:spPr>
            <a:xfrm>
              <a:off x="5334120" y="5486400"/>
              <a:ext cx="228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67280" y="525780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3124080" y="388620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886200" y="388620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1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85800" y="1066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mmar for boolean express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371600" y="28195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mbigui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09480" y="3352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odification of gramm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906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469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11280" y="152316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362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924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363680" y="23454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6824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35440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12580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943240" y="2361240"/>
            <a:ext cx="13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 flipH="1">
            <a:off x="6324480" y="220968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468920" y="23612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69608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65940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11480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83400" y="2345400"/>
            <a:ext cx="15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42072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106880" y="219384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878280" y="219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18328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638680" y="16765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788000" y="2345400"/>
            <a:ext cx="12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410080" y="22096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181120" y="2193840"/>
            <a:ext cx="22068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478560" y="1675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934320" y="16765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9480" y="38098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eplace ru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114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25760" y="493632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 flipH="1">
            <a:off x="1972800" y="47847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5066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4303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5830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726080" y="4266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09880" y="4952160"/>
            <a:ext cx="25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4267080" y="4784760"/>
            <a:ext cx="601920" cy="24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021280" y="478476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44960" y="4784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097600" y="478476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7057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4876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85800" y="5638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to each rule the following semantic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85800" y="1143000"/>
            <a:ext cx="80773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GB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 // Generation of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a new lab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>
            <a:off x="3153960" y="4240080"/>
            <a:ext cx="1373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67336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557520" y="5024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27720" y="4240080"/>
            <a:ext cx="284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019400" y="4240080"/>
            <a:ext cx="508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756320" y="553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449424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527720" y="4240080"/>
            <a:ext cx="136332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235400" y="3754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908600" y="34783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95560" y="555300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4070520" y="5916600"/>
            <a:ext cx="1009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451400" y="5535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060880" y="591660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746680" y="50497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745240" y="5554800"/>
            <a:ext cx="1082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2362320" y="3505320"/>
            <a:ext cx="2482560" cy="2049480"/>
          </a:xfrm>
          <a:custGeom>
            <a:avLst/>
            <a:gdLst/>
            <a:ahLst/>
            <a:rect l="l" t="t" r="r" b="b"/>
            <a:pathLst>
              <a:path w="1564" h="1291">
                <a:moveTo>
                  <a:pt x="1564" y="79"/>
                </a:moveTo>
                <a:cubicBezTo>
                  <a:pt x="1379" y="99"/>
                  <a:pt x="705" y="0"/>
                  <a:pt x="444" y="202"/>
                </a:cubicBezTo>
                <a:cubicBezTo>
                  <a:pt x="183" y="404"/>
                  <a:pt x="68" y="1140"/>
                  <a:pt x="0" y="129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911920" y="3719520"/>
            <a:ext cx="598320" cy="1835280"/>
          </a:xfrm>
          <a:custGeom>
            <a:avLst/>
            <a:gdLst/>
            <a:ahLst/>
            <a:rect l="l" t="t" r="r" b="b"/>
            <a:pathLst>
              <a:path w="377" h="1156">
                <a:moveTo>
                  <a:pt x="0" y="0"/>
                </a:moveTo>
                <a:cubicBezTo>
                  <a:pt x="55" y="56"/>
                  <a:pt x="299" y="146"/>
                  <a:pt x="338" y="339"/>
                </a:cubicBezTo>
                <a:cubicBezTo>
                  <a:pt x="377" y="532"/>
                  <a:pt x="265" y="1035"/>
                  <a:pt x="236" y="115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013440" y="4075200"/>
            <a:ext cx="1081080" cy="1911240"/>
          </a:xfrm>
          <a:custGeom>
            <a:avLst/>
            <a:gdLst/>
            <a:ahLst/>
            <a:rect l="l" t="t" r="r" b="b"/>
            <a:pathLst>
              <a:path w="681" h="1204">
                <a:moveTo>
                  <a:pt x="0" y="0"/>
                </a:moveTo>
                <a:cubicBezTo>
                  <a:pt x="102" y="92"/>
                  <a:pt x="545" y="345"/>
                  <a:pt x="613" y="546"/>
                </a:cubicBezTo>
                <a:cubicBezTo>
                  <a:pt x="681" y="747"/>
                  <a:pt x="470" y="1116"/>
                  <a:pt x="410" y="120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" y="190512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609480" y="35053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459240" y="4087800"/>
            <a:ext cx="137304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978280" y="4871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862440" y="4871880"/>
            <a:ext cx="70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832280" y="4087800"/>
            <a:ext cx="28440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4323960" y="4087800"/>
            <a:ext cx="50796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060880" y="5383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799160" y="48974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832280" y="4087800"/>
            <a:ext cx="1363680" cy="80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540320" y="360216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181480" y="29718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00480" y="5400720"/>
            <a:ext cx="1730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375080" y="5764320"/>
            <a:ext cx="100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wla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6320" y="53830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365800" y="5764320"/>
            <a:ext cx="457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051600" y="48974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049800" y="5402160"/>
            <a:ext cx="1082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527120" y="3478320"/>
            <a:ext cx="3622680" cy="2414520"/>
          </a:xfrm>
          <a:custGeom>
            <a:avLst/>
            <a:gdLst/>
            <a:ahLst/>
            <a:rect l="l" t="t" r="r" b="b"/>
            <a:pathLst>
              <a:path w="2282" h="1521">
                <a:moveTo>
                  <a:pt x="2282" y="0"/>
                </a:moveTo>
                <a:cubicBezTo>
                  <a:pt x="1951" y="119"/>
                  <a:pt x="588" y="460"/>
                  <a:pt x="294" y="713"/>
                </a:cubicBezTo>
                <a:cubicBezTo>
                  <a:pt x="0" y="966"/>
                  <a:pt x="471" y="1353"/>
                  <a:pt x="518" y="1521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146640" y="3200400"/>
            <a:ext cx="696960" cy="2273400"/>
          </a:xfrm>
          <a:custGeom>
            <a:avLst/>
            <a:gdLst/>
            <a:ahLst/>
            <a:rect l="l" t="t" r="r" b="b"/>
            <a:pathLst>
              <a:path w="439" h="1432">
                <a:moveTo>
                  <a:pt x="0" y="0"/>
                </a:moveTo>
                <a:cubicBezTo>
                  <a:pt x="62" y="95"/>
                  <a:pt x="325" y="331"/>
                  <a:pt x="382" y="570"/>
                </a:cubicBezTo>
                <a:cubicBezTo>
                  <a:pt x="439" y="809"/>
                  <a:pt x="352" y="1253"/>
                  <a:pt x="344" y="1432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72200" y="3670200"/>
            <a:ext cx="1252440" cy="2163960"/>
          </a:xfrm>
          <a:custGeom>
            <a:avLst/>
            <a:gdLst/>
            <a:ahLst/>
            <a:rect l="l" t="t" r="r" b="b"/>
            <a:pathLst>
              <a:path w="789" h="1363">
                <a:moveTo>
                  <a:pt x="0" y="0"/>
                </a:moveTo>
                <a:cubicBezTo>
                  <a:pt x="116" y="118"/>
                  <a:pt x="621" y="478"/>
                  <a:pt x="705" y="705"/>
                </a:cubicBezTo>
                <a:cubicBezTo>
                  <a:pt x="789" y="932"/>
                  <a:pt x="562" y="1275"/>
                  <a:pt x="502" y="1363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85800" y="1143000"/>
            <a:ext cx="8458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nerateNew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la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685800" y="29718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85800" y="106668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3309480" y="2746440"/>
            <a:ext cx="36036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016520" y="351324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878200" y="3513240"/>
            <a:ext cx="67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886200" y="281952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3490920" y="224316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191120" y="213372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495680" y="342900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.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181480" y="2362320"/>
            <a:ext cx="567000" cy="161280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85800" y="213372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181480" y="2743200"/>
            <a:ext cx="381240" cy="838080"/>
          </a:xfrm>
          <a:custGeom>
            <a:avLst/>
            <a:gdLst/>
            <a:ahLst/>
            <a:rect l="l" t="t" r="r" b="b"/>
            <a:pathLst>
              <a:path w="357" h="1016">
                <a:moveTo>
                  <a:pt x="0" y="0"/>
                </a:moveTo>
                <a:cubicBezTo>
                  <a:pt x="53" y="68"/>
                  <a:pt x="283" y="239"/>
                  <a:pt x="320" y="408"/>
                </a:cubicBezTo>
                <a:cubicBezTo>
                  <a:pt x="357" y="577"/>
                  <a:pt x="244" y="889"/>
                  <a:pt x="224" y="1016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5800" y="4191120"/>
            <a:ext cx="7848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genera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v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 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6477120" y="1219320"/>
            <a:ext cx="2057400" cy="5410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hort Evaluation: Direct Code Generation 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09480" y="5257800"/>
            <a:ext cx="38124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8954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2860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219320" y="5257800"/>
            <a:ext cx="7617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895480" y="1523880"/>
            <a:ext cx="1524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 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. 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09480" y="10666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304920" y="3733920"/>
            <a:ext cx="3255840" cy="2778120"/>
            <a:chOff x="304920" y="3733920"/>
            <a:chExt cx="3255840" cy="2778120"/>
          </a:xfrm>
        </p:grpSpPr>
        <p:sp>
          <p:nvSpPr>
            <p:cNvPr id="2382" name=""/>
            <p:cNvSpPr/>
            <p:nvPr/>
          </p:nvSpPr>
          <p:spPr>
            <a:xfrm>
              <a:off x="3049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9051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914400" y="3733920"/>
              <a:ext cx="990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8248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1523520" y="3733920"/>
              <a:ext cx="381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4140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5120" y="3733920"/>
              <a:ext cx="67608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362320" y="42670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05120" y="373392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"/>
          <p:cNvSpPr/>
          <p:nvPr/>
        </p:nvSpPr>
        <p:spPr>
          <a:xfrm>
            <a:off x="388620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562720" y="52578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95680" y="5257800"/>
            <a:ext cx="76212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3505320" y="3733920"/>
            <a:ext cx="3179520" cy="2778120"/>
            <a:chOff x="3505320" y="3733920"/>
            <a:chExt cx="3179520" cy="2778120"/>
          </a:xfrm>
        </p:grpSpPr>
        <p:sp>
          <p:nvSpPr>
            <p:cNvPr id="2395" name=""/>
            <p:cNvSpPr/>
            <p:nvPr/>
          </p:nvSpPr>
          <p:spPr>
            <a:xfrm>
              <a:off x="350532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029200" y="5791320"/>
              <a:ext cx="1655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4190760" y="3733920"/>
              <a:ext cx="9903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859200" y="4268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800600" y="3733920"/>
              <a:ext cx="3808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18120" y="42418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81480" y="3733920"/>
              <a:ext cx="6764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38680" y="4267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81480" y="3733920"/>
              <a:ext cx="15264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3276720" y="21337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1066680" y="2438280"/>
            <a:ext cx="5388120" cy="2819520"/>
            <a:chOff x="1066680" y="2438280"/>
            <a:chExt cx="5388120" cy="2819520"/>
          </a:xfrm>
        </p:grpSpPr>
        <p:sp>
          <p:nvSpPr>
            <p:cNvPr id="2406" name=""/>
            <p:cNvSpPr/>
            <p:nvPr/>
          </p:nvSpPr>
          <p:spPr>
            <a:xfrm>
              <a:off x="1066680" y="2438280"/>
              <a:ext cx="1447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0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280" y="32688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003640" y="326880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2057040" y="2598840"/>
              <a:ext cx="13971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3276720" y="2598840"/>
              <a:ext cx="177840" cy="265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454560" y="2598840"/>
              <a:ext cx="165096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454560" y="2598840"/>
              <a:ext cx="152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429000" y="3124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724280" y="2438280"/>
              <a:ext cx="1730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=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. 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. 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5715000" y="32767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98480" y="1219320"/>
            <a:ext cx="7699320" cy="4065480"/>
            <a:chOff x="798480" y="1219320"/>
            <a:chExt cx="7699320" cy="4065480"/>
          </a:xfrm>
        </p:grpSpPr>
        <p:sp>
          <p:nvSpPr>
            <p:cNvPr id="2417" name=""/>
            <p:cNvSpPr/>
            <p:nvPr/>
          </p:nvSpPr>
          <p:spPr>
            <a:xfrm>
              <a:off x="79848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53080" y="1219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514600" y="2362320"/>
            <a:ext cx="5983200" cy="2865240"/>
            <a:chOff x="2514600" y="2362320"/>
            <a:chExt cx="5983200" cy="2865240"/>
          </a:xfrm>
        </p:grpSpPr>
        <p:sp>
          <p:nvSpPr>
            <p:cNvPr id="2420" name=""/>
            <p:cNvSpPr/>
            <p:nvPr/>
          </p:nvSpPr>
          <p:spPr>
            <a:xfrm>
              <a:off x="251460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553080" y="2362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828800" y="1981080"/>
            <a:ext cx="5300640" cy="3179880"/>
            <a:chOff x="1828800" y="1981080"/>
            <a:chExt cx="5300640" cy="3179880"/>
          </a:xfrm>
        </p:grpSpPr>
        <p:grpSp>
          <p:nvGrpSpPr>
            <p:cNvPr id="2423" name=""/>
            <p:cNvGrpSpPr/>
            <p:nvPr/>
          </p:nvGrpSpPr>
          <p:grpSpPr>
            <a:xfrm>
              <a:off x="1828800" y="4648320"/>
              <a:ext cx="533520" cy="512640"/>
              <a:chOff x="1828800" y="4648320"/>
              <a:chExt cx="533520" cy="512640"/>
            </a:xfrm>
          </p:grpSpPr>
          <p:sp>
            <p:nvSpPr>
              <p:cNvPr id="2424" name=""/>
              <p:cNvSpPr/>
              <p:nvPr/>
            </p:nvSpPr>
            <p:spPr>
              <a:xfrm>
                <a:off x="1828800" y="480060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205740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6553080" y="1981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4075200" y="3505320"/>
            <a:ext cx="4422600" cy="1779480"/>
            <a:chOff x="4075200" y="3505320"/>
            <a:chExt cx="4422600" cy="1779480"/>
          </a:xfrm>
        </p:grpSpPr>
        <p:sp>
          <p:nvSpPr>
            <p:cNvPr id="2428" name=""/>
            <p:cNvSpPr/>
            <p:nvPr/>
          </p:nvSpPr>
          <p:spPr>
            <a:xfrm>
              <a:off x="4075200" y="478152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553080" y="3505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3352680" y="3124080"/>
            <a:ext cx="3776760" cy="970200"/>
            <a:chOff x="3352680" y="3124080"/>
            <a:chExt cx="3776760" cy="970200"/>
          </a:xfrm>
        </p:grpSpPr>
        <p:grpSp>
          <p:nvGrpSpPr>
            <p:cNvPr id="2431" name=""/>
            <p:cNvGrpSpPr/>
            <p:nvPr/>
          </p:nvGrpSpPr>
          <p:grpSpPr>
            <a:xfrm>
              <a:off x="3352680" y="3513240"/>
              <a:ext cx="533520" cy="581040"/>
              <a:chOff x="3352680" y="3513240"/>
              <a:chExt cx="533520" cy="581040"/>
            </a:xfrm>
          </p:grpSpPr>
          <p:sp>
            <p:nvSpPr>
              <p:cNvPr id="2432" name=""/>
              <p:cNvSpPr/>
              <p:nvPr/>
            </p:nvSpPr>
            <p:spPr>
              <a:xfrm>
                <a:off x="3352680" y="3733920"/>
                <a:ext cx="5335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606840" y="35132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4" name=""/>
            <p:cNvSpPr/>
            <p:nvPr/>
          </p:nvSpPr>
          <p:spPr>
            <a:xfrm>
              <a:off x="6553080" y="3124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"/>
          <p:cNvGrpSpPr/>
          <p:nvPr/>
        </p:nvGrpSpPr>
        <p:grpSpPr>
          <a:xfrm>
            <a:off x="5791320" y="4648320"/>
            <a:ext cx="2706480" cy="1008000"/>
            <a:chOff x="5791320" y="4648320"/>
            <a:chExt cx="2706480" cy="1008000"/>
          </a:xfrm>
        </p:grpSpPr>
        <p:sp>
          <p:nvSpPr>
            <p:cNvPr id="2436" name=""/>
            <p:cNvSpPr/>
            <p:nvPr/>
          </p:nvSpPr>
          <p:spPr>
            <a:xfrm>
              <a:off x="5791320" y="4724280"/>
              <a:ext cx="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553080" y="4648320"/>
              <a:ext cx="194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oto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8" name=""/>
          <p:cNvGrpSpPr/>
          <p:nvPr/>
        </p:nvGrpSpPr>
        <p:grpSpPr>
          <a:xfrm>
            <a:off x="5105520" y="4267080"/>
            <a:ext cx="2023920" cy="893880"/>
            <a:chOff x="5105520" y="4267080"/>
            <a:chExt cx="2023920" cy="893880"/>
          </a:xfrm>
        </p:grpSpPr>
        <p:grpSp>
          <p:nvGrpSpPr>
            <p:cNvPr id="2439" name=""/>
            <p:cNvGrpSpPr/>
            <p:nvPr/>
          </p:nvGrpSpPr>
          <p:grpSpPr>
            <a:xfrm>
              <a:off x="5105520" y="4648320"/>
              <a:ext cx="533160" cy="512640"/>
              <a:chOff x="5105520" y="4648320"/>
              <a:chExt cx="533160" cy="512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5105520" y="4800600"/>
                <a:ext cx="5331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334120" y="4648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>
              <a:off x="6553080" y="4267080"/>
              <a:ext cx="57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9933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6629400" y="556272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tru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629400" y="6095880"/>
            <a:ext cx="1447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i="1" lang="en-US" sz="2800" spc="-1" strike="noStrike" baseline="-25000">
                <a:solidFill>
                  <a:srgbClr val="339933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"/>
          <p:cNvSpPr/>
          <p:nvPr/>
        </p:nvSpPr>
        <p:spPr>
          <a:xfrm>
            <a:off x="2362320" y="3429000"/>
            <a:ext cx="48006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505320" y="106668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666880" y="3429000"/>
            <a:ext cx="4572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2330280" y="1539720"/>
            <a:ext cx="1944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flipH="1">
            <a:off x="3193560" y="1539720"/>
            <a:ext cx="10810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275000" y="1539720"/>
            <a:ext cx="1008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275000" y="1539720"/>
            <a:ext cx="25066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14800" y="236232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921360" y="2438280"/>
            <a:ext cx="878040" cy="2692440"/>
          </a:xfrm>
          <a:custGeom>
            <a:avLst/>
            <a:gdLst/>
            <a:ahLst/>
            <a:rect l="l" t="t" r="r" b="b"/>
            <a:pathLst>
              <a:path w="553" h="1696">
                <a:moveTo>
                  <a:pt x="56" y="0"/>
                </a:moveTo>
                <a:cubicBezTo>
                  <a:pt x="137" y="159"/>
                  <a:pt x="553" y="669"/>
                  <a:pt x="544" y="952"/>
                </a:cubicBezTo>
                <a:cubicBezTo>
                  <a:pt x="535" y="1235"/>
                  <a:pt x="113" y="1541"/>
                  <a:pt x="0" y="169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462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: If-Then-E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2362320" y="3429000"/>
            <a:ext cx="4800600" cy="327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50532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if-then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-else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828800" y="1905120"/>
            <a:ext cx="655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666880" y="3429000"/>
            <a:ext cx="45720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2 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2057400" y="1539720"/>
            <a:ext cx="22176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3276360" y="1539720"/>
            <a:ext cx="998280" cy="3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275000" y="1539720"/>
            <a:ext cx="684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75000" y="1539720"/>
            <a:ext cx="9828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3200" y="3505320"/>
            <a:ext cx="114480" cy="647640"/>
          </a:xfrm>
          <a:custGeom>
            <a:avLst/>
            <a:gdLst>
              <a:gd name="textAreaLeft" fmla="*/ 73080 w 114480"/>
              <a:gd name="textAreaRight" fmla="*/ 114840 w 1144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6781680" y="4952880"/>
            <a:ext cx="76320" cy="38124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346720" y="2425680"/>
            <a:ext cx="2071800" cy="2705040"/>
          </a:xfrm>
          <a:custGeom>
            <a:avLst/>
            <a:gdLst/>
            <a:ahLst/>
            <a:rect l="l" t="t" r="r" b="b"/>
            <a:pathLst>
              <a:path w="1305" h="1704">
                <a:moveTo>
                  <a:pt x="0" y="0"/>
                </a:moveTo>
                <a:cubicBezTo>
                  <a:pt x="148" y="40"/>
                  <a:pt x="673" y="111"/>
                  <a:pt x="888" y="248"/>
                </a:cubicBezTo>
                <a:cubicBezTo>
                  <a:pt x="1103" y="385"/>
                  <a:pt x="1271" y="581"/>
                  <a:pt x="1288" y="824"/>
                </a:cubicBezTo>
                <a:cubicBezTo>
                  <a:pt x="1305" y="1067"/>
                  <a:pt x="1054" y="1521"/>
                  <a:pt x="992" y="17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057400" y="2438280"/>
            <a:ext cx="1066680" cy="1371600"/>
          </a:xfrm>
          <a:custGeom>
            <a:avLst/>
            <a:gdLst/>
            <a:ahLst/>
            <a:rect l="l" t="t" r="r" b="b"/>
            <a:pathLst>
              <a:path w="568" h="720">
                <a:moveTo>
                  <a:pt x="568" y="0"/>
                </a:moveTo>
                <a:cubicBezTo>
                  <a:pt x="324" y="132"/>
                  <a:pt x="80" y="264"/>
                  <a:pt x="40" y="384"/>
                </a:cubicBezTo>
                <a:cubicBezTo>
                  <a:pt x="0" y="504"/>
                  <a:pt x="164" y="612"/>
                  <a:pt x="328" y="7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343400" y="1523880"/>
            <a:ext cx="281160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81680" y="59436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946920" y="2413080"/>
            <a:ext cx="1149480" cy="3708360"/>
          </a:xfrm>
          <a:custGeom>
            <a:avLst/>
            <a:gdLst/>
            <a:ahLst/>
            <a:rect l="l" t="t" r="r" b="b"/>
            <a:pathLst>
              <a:path w="724" h="2336">
                <a:moveTo>
                  <a:pt x="120" y="0"/>
                </a:moveTo>
                <a:cubicBezTo>
                  <a:pt x="208" y="97"/>
                  <a:pt x="572" y="374"/>
                  <a:pt x="648" y="592"/>
                </a:cubicBezTo>
                <a:cubicBezTo>
                  <a:pt x="724" y="810"/>
                  <a:pt x="684" y="1021"/>
                  <a:pt x="576" y="1312"/>
                </a:cubicBezTo>
                <a:cubicBezTo>
                  <a:pt x="468" y="1603"/>
                  <a:pt x="120" y="2123"/>
                  <a:pt x="0" y="2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eneration of A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143000"/>
            <a:ext cx="8001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 parser simulates the construction of P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d, simultaneously, calls some semantic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s to create AS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2096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666880"/>
            <a:ext cx="708660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:= MakeTree(‘=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+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MakeTree(‘*’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.a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= MakeLeaf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27432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304812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668840"/>
            <a:ext cx="762012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Tree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taches son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returns a pointer to nod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Leaf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no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ymbol-table address) and returns a pointer to this new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362320" y="3429000"/>
            <a:ext cx="4800600" cy="3048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while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whi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cond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666880" y="342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2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     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 L2  , ,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819520" y="3886200"/>
            <a:ext cx="114120" cy="647640"/>
          </a:xfrm>
          <a:custGeom>
            <a:avLst/>
            <a:gdLst>
              <a:gd name="textAreaLeft" fmla="*/ 73080 w 114120"/>
              <a:gd name="textAreaRight" fmla="*/ 114480 w 1141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 flipH="1">
            <a:off x="6781680" y="5257800"/>
            <a:ext cx="76320" cy="380880"/>
          </a:xfrm>
          <a:custGeom>
            <a:avLst/>
            <a:gdLst>
              <a:gd name="textAreaLeft" fmla="*/ 48960 w 76320"/>
              <a:gd name="textAreaRight" fmla="*/ 7632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426360" y="2425680"/>
            <a:ext cx="1168200" cy="3022560"/>
          </a:xfrm>
          <a:custGeom>
            <a:avLst/>
            <a:gdLst/>
            <a:ahLst/>
            <a:rect l="l" t="t" r="r" b="b"/>
            <a:pathLst>
              <a:path w="736" h="1904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6" y="855"/>
                  <a:pt x="696" y="1120"/>
                </a:cubicBezTo>
                <a:cubicBezTo>
                  <a:pt x="656" y="1385"/>
                  <a:pt x="398" y="1741"/>
                  <a:pt x="320" y="19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035080" y="2400480"/>
            <a:ext cx="1317600" cy="1803240"/>
          </a:xfrm>
          <a:custGeom>
            <a:avLst/>
            <a:gdLst/>
            <a:ahLst/>
            <a:rect l="l" t="t" r="r" b="b"/>
            <a:pathLst>
              <a:path w="830" h="1136">
                <a:moveTo>
                  <a:pt x="830" y="0"/>
                </a:moveTo>
                <a:cubicBezTo>
                  <a:pt x="703" y="81"/>
                  <a:pt x="122" y="296"/>
                  <a:pt x="61" y="485"/>
                </a:cubicBezTo>
                <a:cubicBezTo>
                  <a:pt x="0" y="674"/>
                  <a:pt x="378" y="1000"/>
                  <a:pt x="462" y="11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ea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362320" y="3429000"/>
            <a:ext cx="480060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200400" y="106668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repeat-loop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82880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stat&gt; 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unti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&lt;con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666880" y="3429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lab , L1   , ,      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cod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evalua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 to c.v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not , c.val, , c.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(goto, c.val, , L1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H="1">
            <a:off x="2285640" y="1539720"/>
            <a:ext cx="198900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33560" y="1539720"/>
            <a:ext cx="5410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275000" y="1539720"/>
            <a:ext cx="677880" cy="44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819520" y="38098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H="1">
            <a:off x="6781680" y="45720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14800" y="2438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6426360" y="2425680"/>
            <a:ext cx="1163520" cy="2489400"/>
          </a:xfrm>
          <a:custGeom>
            <a:avLst/>
            <a:gdLst/>
            <a:ahLst/>
            <a:rect l="l" t="t" r="r" b="b"/>
            <a:pathLst>
              <a:path w="733" h="1568">
                <a:moveTo>
                  <a:pt x="0" y="0"/>
                </a:moveTo>
                <a:cubicBezTo>
                  <a:pt x="93" y="52"/>
                  <a:pt x="444" y="125"/>
                  <a:pt x="560" y="312"/>
                </a:cubicBezTo>
                <a:cubicBezTo>
                  <a:pt x="676" y="499"/>
                  <a:pt x="733" y="911"/>
                  <a:pt x="696" y="1120"/>
                </a:cubicBezTo>
                <a:cubicBezTo>
                  <a:pt x="659" y="1329"/>
                  <a:pt x="411" y="1475"/>
                  <a:pt x="336" y="15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86120" y="2362320"/>
            <a:ext cx="1312560" cy="1625400"/>
          </a:xfrm>
          <a:custGeom>
            <a:avLst/>
            <a:gdLst/>
            <a:ahLst/>
            <a:rect l="l" t="t" r="r" b="b"/>
            <a:pathLst>
              <a:path w="827" h="1024">
                <a:moveTo>
                  <a:pt x="827" y="0"/>
                </a:moveTo>
                <a:cubicBezTo>
                  <a:pt x="700" y="81"/>
                  <a:pt x="116" y="314"/>
                  <a:pt x="58" y="485"/>
                </a:cubicBezTo>
                <a:cubicBezTo>
                  <a:pt x="0" y="656"/>
                  <a:pt x="390" y="912"/>
                  <a:pt x="477" y="10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2860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28600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267080" y="1523880"/>
            <a:ext cx="1752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09480" y="1143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construction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il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362320" y="419112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35812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267080" y="5638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62320" y="2971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36232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rs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57200" y="269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ustr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9480" y="2895480"/>
            <a:ext cx="2743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57200" y="1143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R-pars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fro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ing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ranslat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ta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858000" y="1219320"/>
            <a:ext cx="187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ring of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781680" y="4343400"/>
            <a:ext cx="195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se of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ade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scription of Gramma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a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685800" y="1143000"/>
            <a:ext cx="807732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s (=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pro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erminal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harac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 in quotes or declared toke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ule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et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rules {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written a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A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            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tart Nonterminal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left side of the first 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1360" y="2768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62120" y="5702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62120" y="616284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"/>
          <p:cNvSpPr/>
          <p:nvPr/>
        </p:nvSpPr>
        <p:spPr>
          <a:xfrm>
            <a:off x="2286000" y="1523880"/>
            <a:ext cx="472428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685800" y="1066680"/>
            <a:ext cx="7848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claration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%token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TYPE_OF_TOK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pecification of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sociativ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eced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 ambig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38080" y="480060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6" name=""/>
          <p:cNvGrpSpPr/>
          <p:nvPr/>
        </p:nvGrpSpPr>
        <p:grpSpPr>
          <a:xfrm>
            <a:off x="762120" y="4724280"/>
            <a:ext cx="7696080" cy="1973520"/>
            <a:chOff x="762120" y="4724280"/>
            <a:chExt cx="7696080" cy="1973520"/>
          </a:xfrm>
        </p:grpSpPr>
        <p:sp>
          <p:nvSpPr>
            <p:cNvPr id="2567" name=""/>
            <p:cNvSpPr/>
            <p:nvPr/>
          </p:nvSpPr>
          <p:spPr>
            <a:xfrm>
              <a:off x="762120" y="4724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2120" y="5257440"/>
              <a:ext cx="7696080" cy="144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token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+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9933"/>
                  </a:solidFill>
                  <a:latin typeface="Courier New"/>
                </a:rPr>
                <a:t>%left </a:t>
              </a:r>
              <a:r>
                <a:rPr b="1" lang="en-US" sz="2600" spc="-1" strike="noStrike">
                  <a:solidFill>
                    <a:srgbClr val="ff0000"/>
                  </a:solidFill>
                  <a:latin typeface="Courier New"/>
                </a:rPr>
                <a:t>‘*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514600" y="309708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lef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righ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… ,o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809880" y="3173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80988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am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8600" y="3325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igher prece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2210760" y="3249720"/>
            <a:ext cx="608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2208960" y="3935520"/>
            <a:ext cx="6087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369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36971"/>
              </a:path>
            </a:pathLst>
          </a:custGeom>
          <a:noFill/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rot="5400000">
            <a:off x="3085920" y="389736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86000" y="4419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ociativ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follow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85800" y="1143000"/>
            <a:ext cx="7924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Courier New"/>
              </a:rPr>
              <a:t>Semantic_A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program routine that specifies what to do if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ul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us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 symbols for a rule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ttribut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left-hand si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$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= attribute of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 symbols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right-hand s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38080" y="4191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4724280"/>
            <a:ext cx="7696440" cy="1875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6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us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762120" y="2895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838080" y="3429000"/>
            <a:ext cx="7620120" cy="1922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yylex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Get the next toke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yylval = attribu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YPE_OF_TOK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120" y="1752480"/>
            <a:ext cx="784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Yacc-parser do not  cooperate with a scanner (e.g. Lex), then ther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ylex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mplemented in this s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plete Source Program in Yac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09480" y="1219320"/>
            <a:ext cx="76964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toke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%lef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+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+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*’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xpr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1 * $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(’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exp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‘)’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{$$ = $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ylex ()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2666880"/>
            <a:ext cx="4800600" cy="304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219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600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219320"/>
            <a:ext cx="8229600" cy="51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i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+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 MakeLeaf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MakeTree(‘*’,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6   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S.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:= MakeTree(‘=’,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1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9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900" spc="-1" strike="noStrike" baseline="-25000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1523880"/>
                <a:tab algn="l" pos="304812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$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21932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943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2857320" y="3848040"/>
            <a:ext cx="152280" cy="4495680"/>
          </a:xfrm>
          <a:custGeom>
            <a:avLst/>
            <a:gdLst>
              <a:gd name="textAreaLeft" fmla="*/ 0 w 152280"/>
              <a:gd name="textAreaRight" fmla="*/ 55080 w 1522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6781680" y="4419360"/>
            <a:ext cx="152280" cy="3353040"/>
          </a:xfrm>
          <a:custGeom>
            <a:avLst/>
            <a:gdLst>
              <a:gd name="textAreaLeft" fmla="*/ 0 w 152280"/>
              <a:gd name="textAreaRight" fmla="*/ 55080 w 1522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6248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mantic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1523880"/>
            <a:ext cx="5943600" cy="175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Generation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7672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mulat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arse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32767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syntax tre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7400" y="1981080"/>
            <a:ext cx="6019920" cy="4114800"/>
            <a:chOff x="2057400" y="1981080"/>
            <a:chExt cx="6019920" cy="4114800"/>
          </a:xfrm>
        </p:grpSpPr>
        <p:sp>
          <p:nvSpPr>
            <p:cNvPr id="259" name=""/>
            <p:cNvSpPr/>
            <p:nvPr/>
          </p:nvSpPr>
          <p:spPr>
            <a:xfrm>
              <a:off x="2057400" y="19810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+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705720" y="5638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10280" y="563868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81680" y="518148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62320" y="502920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572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472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82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876920" y="4191120"/>
            <a:ext cx="8380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1143000"/>
            <a:ext cx="60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1905120"/>
                <a:tab algn="l" pos="295920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tic 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2193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276720"/>
            <a:ext cx="59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1523880"/>
            <a:ext cx="59436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219320"/>
            <a:ext cx="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96080" y="1219320"/>
            <a:ext cx="180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60199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81080" y="1523880"/>
            <a:ext cx="5181840" cy="4955760"/>
            <a:chOff x="1981080" y="1523880"/>
            <a:chExt cx="5181840" cy="4955760"/>
          </a:xfrm>
        </p:grpSpPr>
        <p:sp>
          <p:nvSpPr>
            <p:cNvPr id="287" name=""/>
            <p:cNvSpPr/>
            <p:nvPr/>
          </p:nvSpPr>
          <p:spPr>
            <a:xfrm>
              <a:off x="1981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1523880"/>
              <a:ext cx="51055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448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86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57400" y="49528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2200" y="5562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057400" y="1676520"/>
            <a:ext cx="5867280" cy="4803120"/>
            <a:chOff x="2057400" y="1676520"/>
            <a:chExt cx="5867280" cy="4803120"/>
          </a:xfrm>
        </p:grpSpPr>
        <p:sp>
          <p:nvSpPr>
            <p:cNvPr id="294" name=""/>
            <p:cNvSpPr/>
            <p:nvPr/>
          </p:nvSpPr>
          <p:spPr>
            <a:xfrm>
              <a:off x="2895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57400" y="1676520"/>
              <a:ext cx="556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8660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004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954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62920" y="55627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57400" y="2438280"/>
            <a:ext cx="6858000" cy="4041360"/>
            <a:chOff x="2057400" y="2438280"/>
            <a:chExt cx="6858000" cy="4041360"/>
          </a:xfrm>
        </p:grpSpPr>
        <p:sp>
          <p:nvSpPr>
            <p:cNvPr id="301" name=""/>
            <p:cNvSpPr/>
            <p:nvPr/>
          </p:nvSpPr>
          <p:spPr>
            <a:xfrm>
              <a:off x="42670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24382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Leaf(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4952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77320" y="556272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2666880"/>
            <a:ext cx="6172200" cy="3477240"/>
            <a:chOff x="2057400" y="2666880"/>
            <a:chExt cx="6172200" cy="3477240"/>
          </a:xfrm>
        </p:grpSpPr>
        <p:sp>
          <p:nvSpPr>
            <p:cNvPr id="308" name=""/>
            <p:cNvSpPr/>
            <p:nvPr/>
          </p:nvSpPr>
          <p:spPr>
            <a:xfrm>
              <a:off x="380988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7400" y="26668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MakeTree(‘*’,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19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19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4267080"/>
              <a:ext cx="12193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9520" y="426708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080" y="4267080"/>
              <a:ext cx="990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62560" y="502920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96080" y="502920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4572000"/>
              <a:ext cx="3812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95480" y="38098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1520" y="4114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9480" y="2895480"/>
            <a:ext cx="7467840" cy="3584160"/>
            <a:chOff x="609480" y="2895480"/>
            <a:chExt cx="7467840" cy="3584160"/>
          </a:xfrm>
        </p:grpSpPr>
        <p:sp>
          <p:nvSpPr>
            <p:cNvPr id="319" name=""/>
            <p:cNvSpPr/>
            <p:nvPr/>
          </p:nvSpPr>
          <p:spPr>
            <a:xfrm>
              <a:off x="1066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2895480"/>
              <a:ext cx="6019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S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= 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6   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cs-CZ" sz="20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S.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MakeTree(‘=’,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)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657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371600" y="4038480"/>
              <a:ext cx="3808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914400" y="4038480"/>
              <a:ext cx="8380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3962520"/>
              <a:ext cx="10666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43600" y="4191120"/>
              <a:ext cx="4572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00800" y="4191120"/>
              <a:ext cx="1066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72200" y="3733920"/>
              <a:ext cx="3808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2720" y="6019920"/>
              <a:ext cx="6858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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38680" y="3733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3880" y="2209680"/>
            <a:ext cx="5943600" cy="3858120"/>
            <a:chOff x="1523880" y="2209680"/>
            <a:chExt cx="5943600" cy="3858120"/>
          </a:xfrm>
        </p:grpSpPr>
        <p:sp>
          <p:nvSpPr>
            <p:cNvPr id="332" name=""/>
            <p:cNvSpPr/>
            <p:nvPr/>
          </p:nvSpPr>
          <p:spPr>
            <a:xfrm>
              <a:off x="15238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5486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2209680"/>
              <a:ext cx="525780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(</a:t>
              </a:r>
              <a:r>
                <a:rPr b="1" i="1" lang="en-US" sz="20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:= 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752120" y="449568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6880" y="4495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95480" y="4495680"/>
              <a:ext cx="685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38280" y="41148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705720" y="4952880"/>
              <a:ext cx="53316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3911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466760" y="3605040"/>
            <a:ext cx="609480" cy="88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16" y="1289"/>
                </a:moveTo>
                <a:arcTo wR="10800" hR="10800" stAng="-3703404" swAng="7381544"/>
                <a:lnTo>
                  <a:pt x="10800" y="10800"/>
                </a:lnTo>
                <a:close/>
              </a:path>
              <a:path fill="none" w="21600" h="21600">
                <a:moveTo>
                  <a:pt x="15916" y="1289"/>
                </a:moveTo>
                <a:arcTo wR="10800" hR="10800" stAng="-3703404" swAng="73815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Direct Acyclic Graph(DAG)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e tre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2590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85800" y="2590920"/>
            <a:ext cx="45720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32767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6765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0574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327672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2590920"/>
            <a:ext cx="1830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4120" y="1143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G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38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0" y="541008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574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505320" y="41148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4114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3657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14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1148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432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26668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867280" y="2971800"/>
            <a:ext cx="99072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91520" y="49528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4952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9718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5146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441972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200400"/>
            <a:ext cx="38088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5410080"/>
            <a:ext cx="6858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943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G has no redundant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5:20Z</dcterms:modified>
  <cp:revision>209</cp:revision>
  <dc:subject/>
  <dc:title>Syntax Directed Translation and Intermediate Code</dc:title>
</cp:coreProperties>
</file>