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037-CBC2-49EE-9AE8-A6B2E29A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095-7A0C-4FE3-B2C6-4DCA8C99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B28-C4D0-478B-9DB9-509604AF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13E-0ECC-45C3-8BFD-C9459646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752-4996-470B-B0C0-BF1D36E3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F2B-646A-462B-BD7A-CAE4AB99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E6E-803B-4BF9-B9DF-22BE77AE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512-BC3D-43B0-95C6-9B312A9C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263-33ED-4DE8-9C1C-3FE7FCA4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C29-1962-4F40-8197-8711773F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21F-5AF6-4AF5-9128-F982AEBF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2C2-9A89-4DC6-861B-E64FF476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BCEE-55BB-4C1B-BC98-64E109B8014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57:10Z</dcterms:modified>
  <cp:revision>125</cp:revision>
  <dc:subject/>
  <dc:title>Introduction to Compilers</dc:title>
</cp:coreProperties>
</file>