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D0F-072F-4D86-AADE-1AFB233A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A36-837F-4D51-A82F-77F5C3F1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55A-96EA-4F78-97C8-07B5613C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C83-8A1A-495E-AB80-23BECD89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2BA-FE15-48D2-B190-0629CFAD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705-3032-45A1-8F4E-5A986D8C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06B-89EF-45C4-90D7-761E17E1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233-09FC-49C4-B924-43111AE3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7B1-5230-4690-AAC7-67251562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B5F-8D9E-4452-A652-F93C86CE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BE1-862E-407C-A666-C0487238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5B3-A64C-4A5E-9065-6F0E4014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7F39-CB34-4929-B35E-4116052A71A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57Z</dcterms:modified>
  <cp:revision>184</cp:revision>
  <dc:subject/>
  <dc:title>Models for Context-Free Languages</dc:title>
</cp:coreProperties>
</file>