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D7D2-DAC1-416F-8871-219D90EE4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0C12-A48A-41F2-B986-585E7849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DCE9-E25C-424E-A66C-D954F8755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BE63-CAFA-43F5-9483-F6701F1CA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EAFD-8420-4ED7-9A27-2014EEEE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A322-E8F3-4D95-892B-5BB11D6B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444A-E103-48C0-BCFD-0F92B724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3A2F-CEDD-4993-B84B-39E14460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6A08-C50D-46C7-AC71-A6E735BC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871E-CBAF-4348-A19D-621360E5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7B02-581A-47CA-B49A-402F7996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BFA5-B477-442A-9DBB-EAC205D2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38120" y="223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0800" y="22392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61960" y="646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32040" y="6462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7600" y="5731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82640" y="1159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63680" y="9064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188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626920" y="6243480"/>
            <a:ext cx="392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6548-C46B-4348-9116-E17AC9019A78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100080" y="2438280"/>
            <a:ext cx="9009000" cy="1052640"/>
            <a:chOff x="10008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390600" y="2546280"/>
              <a:ext cx="711360" cy="474840"/>
              <a:chOff x="39060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39060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7364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514440" y="2968560"/>
              <a:ext cx="737640" cy="474840"/>
              <a:chOff x="51444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51444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8308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10008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3512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1616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560" y="980640"/>
            <a:ext cx="772020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980640"/>
            <a:ext cx="769644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Tahoma"/>
              </a:rPr>
              <a:t>Scattered Context Grammars: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600"/>
            </a:b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Generation of Languages in a Semi-Parallel Way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1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1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2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}.  Assume th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, {a}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s a SCG. In 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.  Thus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.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Consid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lt;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1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—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adi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08CA-C2E1-4739-BE03-E8E19CDBAABA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2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AF18-9C15-408F-9F77-093803CBCEEF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B) reduction of the number of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BC30-B0BB-4AD5-A0C2-69F4AC08B330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1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 product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a non-context-fre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with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language in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generated by a scattered context grammar with only these two context produ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8E0B-1440-41B6-A5BF-E2651F899206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2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Left-Extended Queue Gramm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 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ite set of productions of the form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 Every generat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has this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+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6CFA-C2AE-4764-A4F9-6678AFD84640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3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Sub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inary code of symbol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binary code of state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I. Introduction of SC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F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used to gene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F890-FFAE-4FF5-910C-E530FAF301B0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4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.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used to verif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et 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eac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0,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using ($, 0, 0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a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E8DF-3BA3-4C6E-AE45-0881F8EB2A5C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5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 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wo context productions characteriz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hat is the power of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a single context produc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02E9-8220-4172-A73E-5CE109DE3F96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of SCG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CFD3-7253-4792-A327-F7174E24291A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imultaneous Reduction (A) &amp;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imultaneous Reduction of the Number o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onterminals and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Next two theorems proved in cooperation with H. Fernau (Germany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even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ive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an we improve the above theorem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363E-CCDD-4B49-9CD3-7552F00C1D36}" type="slidenum">
              <a:t>19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ased on these Pape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Coincidental Extention of Scattered Context Language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cta Informatic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9, 307-31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On the Degree of Scattered Context-Sensitivity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eoretical Computer Sci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90, 2121-212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Descriptional Complexity of Scattered Rewriting and Multirewriting: An Overview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ournal of Automata, Languages and Combinator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571-579, 20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A Simultaneous Reduction of Several Measures of Descriptional Complexity in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Processing Lett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214-219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3E29-6196-4E8E-A9B9-E9B8568DFD04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New Operation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: each production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satisfi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ive: Increase of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to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y a simple language operation ove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3492-D92E-4542-B0F2-9F71F2291E1F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1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#-extens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represents a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re are an infinitely many coincidental extensions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e writ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EDE0-4E33-4924-9910-35724CC5B165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2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a#b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olds, bu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hol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i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incidental #-extension of any language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2918-CEC8-4BAE-8CB0-2D3F501B2EB2}" type="slidenum">
              <a:t>22</a:t>
            </a:fld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3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re exists a SCG, G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. Construct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, P, S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#}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so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momorphism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non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0EE0-79CA-4481-97E7-BBE09B115747}" type="slidenum">
              <a:t>23</a:t>
            </a:fld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4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22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onstructed by performing the next six step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$)  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(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§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4288-F7BA-4AD2-BFFD-C674175CDBC8}" type="slidenum">
              <a:t>24</a:t>
            </a:fld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5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dd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) to 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enerates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n this wa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$}. In additio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§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nd only if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08B7-E685-4EC4-9E0D-25866C6A4757}" type="slidenum">
              <a:t>25</a:t>
            </a:fld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6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reater detai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expressed 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1C6C-8DA1-41B0-A33C-3F95F573C4B3}" type="slidenum">
              <a:t>26</a:t>
            </a:fld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Use in Theoretical Computer Scienc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e i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For every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here exists a homomorphis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ch that    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complex way, this result was proved on page 245 in [Greibach, S. A. and Hopcroft, J. E.: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. Comput. Syst. Sc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, 232-247 (1969)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7CE2-6C18-4BA5-88B8-6135F402812E}" type="slidenum">
              <a:t>27</a:t>
            </a:fld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Future Investiga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ture Investig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k-limited 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 a non-negative integ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#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resent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limited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27DC-DCE1-4938-9B2D-55A3952BF872}" type="slidenum">
              <a:t>28</a:t>
            </a:fld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Very Important Open Problem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ortant 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ere exist a non-negative integ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such that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for so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o, I know how to prov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D08F-71D8-4CFC-B7AB-EC445580E26E}" type="slidenum">
              <a:t>29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assification of Parallel Gramma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Tot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stems,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 of the sentential form during a single derivation step (not discussed in this talk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Parti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leaving the other symbols unrewritten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cattered Context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ork in a partiall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llel wa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grammars ar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ntral to this tal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319F-B973-4EA6-B422-9CD465CFB7F4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cattered Context Grammars (SCGs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s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parallel gramma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of several context-free productions during a single derivation step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onger than CF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 Topics under Discu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tion of the grammatical siz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language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C6D7-F676-4119-B70D-AB6B12FBBBDB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ncep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of context-free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ral nonterminals are rewritten in parallel while the rest of the sentential  form remains un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3F17-1F56-4250-B6C7-CAE4D3261E2E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Defini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attered context gramma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s in a CF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finite set of productions of the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with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rect 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060E-D9F3-468B-BD58-5E7B8DF0F798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A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A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AbbAc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b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003F-F61B-4500-AE8C-C45810836D8F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 Famil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tex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itiv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cursivel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erabl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  with no more th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terminals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6E79-99ED-4489-B387-F1A98A9B8ED5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Reduction of SCG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simultaneous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F975-4C1E-4C99-BBD9-D2FDF1ACAD12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9:50:25Z</dcterms:created>
  <dc:creator>Jan Hrouzek</dc:creator>
  <dc:description/>
  <dc:language>en-US</dc:language>
  <cp:lastModifiedBy>CVT</cp:lastModifiedBy>
  <dcterms:modified xsi:type="dcterms:W3CDTF">2006-08-30T14:47:22Z</dcterms:modified>
  <cp:revision>27</cp:revision>
  <dc:subject/>
  <dc:title>Scattered Context Grammars:  Generation of Languages in a Semi-Parallel W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4619893</vt:r8>
  </property>
  <property fmtid="{D5CDD505-2E9C-101B-9397-08002B2CF9AE}" pid="3" name="_AuthorEmail">
    <vt:lpwstr>books@digibooks</vt:lpwstr>
  </property>
  <property fmtid="{D5CDD505-2E9C-101B-9397-08002B2CF9AE}" pid="4" name="_AuthorEmailDisplayName">
    <vt:lpwstr>books</vt:lpwstr>
  </property>
  <property fmtid="{D5CDD505-2E9C-101B-9397-08002B2CF9AE}" pid="5" name="_EmailSubject">
    <vt:lpwstr>Spain</vt:lpwstr>
  </property>
  <property fmtid="{D5CDD505-2E9C-101B-9397-08002B2CF9AE}" pid="6" name="_ReviewingToolsShownOnce">
    <vt:lpwstr/>
  </property>
</Properties>
</file>